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13141-0E1F-4E41-9A52-BB5BDBF2C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ACD0E-8916-4C59-B258-2242D0143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13F773-3541-4977-8328-8B17BCB431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E93C00-F3AF-4AC8-8EE4-99C22C5D86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7971E0-9B9A-442E-A1D0-BD11C91E6D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77866D-B401-4C0F-8567-0BB319032C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250078-57A8-455C-ACB7-576EDEA4B2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65B7D9-DAFB-4578-B314-E095DFAE58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4E11C2-89EE-4938-A679-5009E98C7D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48CF76-D382-4276-A9E1-9A08DCB878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448365-776C-4EDB-A564-B64CF2E92C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7B3D4C7-529E-493D-8971-1392B6676D0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44320-9D95-4385-92CB-548D5E242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1246D4-1276-42AD-9D05-3DDEBE5F4C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6705A0-82DB-49D2-948D-D33359188F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45270D-8F27-4E27-9D64-D9FAA42394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08A843-7679-4C2A-87C8-28DB5E0704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DA2232-7C99-448A-B15F-86EFD5CC03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7C87C5-EF6E-409D-834D-50E276EF9B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5C92B5-1FF1-48FE-A1C1-64928F06C9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F714CE-BC8D-453A-9331-5DB15BCED9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6A837C-F169-4994-92FE-FACE66C2E7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3A9A383-FABD-4619-8FF0-BF7822FDA07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E1AE9-CC8B-4152-9101-ACB66DC9F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FAD5E3-2DB3-47EB-BC0B-78B07112D9D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ADE7F1B-EBA3-4AA2-A6F5-0D8A1B0D749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34BB7D-A4BF-4F2D-AA34-86A46DA6F4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2D1B13-46E4-424A-BE1A-D558BE6C0F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D02A30-E6E2-451C-8A6D-54EAACB6D2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A9961B-15F0-43B9-82F1-AEE2193FE1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723A7A-90B7-4E2B-8526-538159B238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75256C-116F-4A14-97FA-3687E3C549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B8C251-6773-4D65-A304-8992FE6920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AE3C74-4BA6-4C1A-AD1A-3F7229F67E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70FC94-9147-4E32-A545-5414C3EA33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F83C84-2C2F-4E63-B736-2B2135DB44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07B27CD-DBD6-461E-A1AB-A12B8D858D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21C92F2-4245-4537-B667-E7771AC522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6CE14B5-9634-464F-A627-6A190D8CF51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D7DDA1-0B7A-4391-9CD3-407A8B78CF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39CF74-543B-49AB-A618-6C49357A66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940A69-E1A4-4058-AE1E-478E52D780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BEE109-2D4B-4E25-B158-0D8C61CDA7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B8A893-E485-4C60-9DEC-84ED4D04AB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55F451-9D49-42FC-AA85-0DDD862F4F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A9B4F-B28D-4EFF-A20E-6AEC64F89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731152-1763-47D8-B5AD-53A30CA863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E26494-D95F-49BC-A44A-86B3B227CD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C5288F-58B0-47F5-9131-BF40913FC7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29D53CB-B34D-43C7-A105-30FA8311BA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32820AD-7BE0-4B01-B4F5-EA7CE8F229D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18B04-EA17-48C7-89FB-2C9E913A1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341E7-6919-4A01-8463-8C198E043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DFD51-1539-44CD-A563-78F274764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DECB5-C120-4C13-A0A5-F926FECC1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88EF4-7938-4922-8247-821D6572B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97ADC-1C14-4C76-B1D8-5339C1310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2FEAB-6E0B-4880-AE65-C0530CD0F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394F8-4DB9-4F76-91B8-DD6A122A2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AA1C4-5436-4BC0-9BEA-8CED1802D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E13788-4699-475A-ABFD-66A3C2C9B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949A8-B345-424A-A440-1E4A1277A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85E816-9D83-4908-B1C5-227EBBA501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B480B9-7CCC-4DA1-99AA-25AD52C55A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608649-8D3B-42E1-BC64-CE5C4E6076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FB0EE0-5DB5-4F86-AE06-977708F7FD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EC4F56-6F8D-4959-8762-DFC781DC94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8F701-CE18-4E6C-B633-172A04182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414115-F090-432F-BD57-2A2B5450B3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66F2F3-A7D6-47A5-AAEC-5B8C0997BC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BD824-9AF6-4C8F-A395-D7D749942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28CB2D-5F2A-41FA-9503-30BA19C0D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AB5703-F343-4A29-BEC6-98B6E3D3F8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583DFB-9F43-4144-BC48-D63ABC85D2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161C04-7560-45DB-A04A-37B2A5564F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993D42-3371-4CE0-B3CE-B0DCF86EFF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116592-EC62-4333-BEE6-EB457447DB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039DF0-673B-49C3-ABAB-9F7FB1F359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B036D-0A2D-4BE6-9D3A-B094003AB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DC67AE-7931-4C0E-B33B-DACEEB20BA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6F89CA-DD57-4BC5-B9C7-99D54A4B1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1C6E7E-FFFA-4AB7-82AF-4F394FD3FF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349731-1A6D-4369-90AE-E8A010204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9FA20F-96C9-446E-9E30-374A79A1B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859C2-3410-43B8-960C-204F610E67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16FF90-0C2A-4295-B2A7-E21329FFF9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E21FAD-D254-43EF-A486-AE00C46423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D29579-3428-46D5-9E3A-81FAF4416E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6E221A-07D7-4410-A2B7-23036EF9ED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1DD0A-5C83-474C-8147-262AFF4C5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997EC8-55A9-4C8A-B1F7-5936922FD2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133961-0F3C-492D-8F42-34FA87D8D3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BC6A11-9CEE-44D9-A7FC-B8426D160E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F489A7-67A3-4681-A5F4-7DCCDA9FBD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4F8A66-6AD2-4486-9D14-F7B2D297C9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B54366-A993-42DD-A0E9-55533223CA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A1AE7-56C0-49AF-9AAE-716BF1CE0D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B8503C-D632-4B8C-A9C3-9D59843E2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DC6B99-686F-4121-9C9F-CA72464BB2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5FCF73-FB22-47B4-BCB1-909894B602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8E286-7BE9-4330-ADA5-46E841E48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A212B0-EB60-4A5B-9BAC-B9A0030F00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02ECA1-42D4-46A7-8134-5163DB0C59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4FEF9B-C1D9-4A45-954E-8704B2385C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11E5B1-35CD-469A-A18F-6A53DE1B9F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1DBDAA-C973-41EA-B0A9-FF09411EE6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6067FC-15C4-4C67-BE37-E5BD7E99F5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E3AF4E-DC10-46B9-81C4-C0938686E2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039898-4A10-479E-ACC0-2BB360C453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7E0E57-A7CA-462E-B102-7E06381B5A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7D5CC-BED1-475B-A575-347C739F4E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8774A-5F28-4E34-8BBC-598BC5FA9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876F47-4BE0-406C-B13F-FA6DB0B774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7F2933-F080-4FDB-A8FB-981892D70E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D6940B-58DC-46BC-AB5A-8A49F893EB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B2C22C-069D-429C-8423-2C02B7EE74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1F599D-E625-46BA-AB98-176BF9073C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DCDCF1-F389-4A9F-B7D4-F89269B4FD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DB5D5B-B399-4FDE-875C-B39960CF59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3744E8-9B03-4845-A8C4-9F8C7DD87F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9F5ED2-6739-4C78-AB34-B8FA47927D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111270-5AF6-4E35-8E2E-C97E33FDB4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55569-753A-4817-A0AB-FCB7F85B6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C6A601-9309-4A4D-9378-125F25C3E2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CFB60B-3020-417A-8F40-55B281590F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8731AB-60CF-4802-B00C-3487D831CD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727AB3-07CC-4670-BA1A-D58061AB37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97DFEB-48A5-420B-96D9-094DCA3412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7F01D3-77D9-4650-94A1-358D1E541A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CE2784-7DE9-4BA2-A045-096FD37EFA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E33C11-F000-4FDD-8CBE-1480A041BE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8E881E-F991-49D4-A696-29509030AF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797518-0D31-4DDE-9A69-4FF0DFB8A7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6921E-A345-4AFD-8ACE-2E7E7BAA1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702C02-F969-4135-8E92-CD482E24F5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5E2BC-FEB7-41E7-A3C6-1D57275FB4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E544EA-D8A9-4908-BA21-856D324551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915CC1-3F64-400D-9198-5D2837DCBD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A1B488-81B0-45B5-A932-B3AC9EF64B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79BDDD-2F87-45CD-8F3C-9264A78E57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37B4C6-D08D-4733-87A2-85A0FE1B56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F1256F-4BC9-48AA-A50C-958549CD9C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4DA6D6-0A22-4BE7-80C7-249215681C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352C76-5452-470D-8356-9C8EBFF443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C8C9-033B-4CC4-B533-2B8765B813E7}"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3555-F581-4F3C-B6DA-8B5F03584434}"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36CA-38A3-4788-A82A-A98E8F283E80}"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695A-ED11-4A23-8A27-C1A1EBE2DF0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8C70-650B-4FCB-9D92-1D29CF326577}"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0DB3-8039-4ADC-BAF8-9BACAAF1F4F5}"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F8F5-0E3C-455D-9A3B-124812634FAA}"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7AD8-07C4-4F7C-9978-A418C29C7AB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ABDC-9F93-4F53-88D5-84A873FA1B6E}"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92B5-685B-44B1-B267-B9A8A3448370}"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7461-ECF2-4A87-96A7-D2346E14A497}"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EC11-A37C-42EF-A8CD-88CB99A448D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776E-D92E-40A3-9AB4-1F3381C0D41B}"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EC83-3E8A-4FCE-AB73-D826F1669D27}"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75A7-5B15-45ED-BB31-FC7060A75C64}"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D875-8C3E-436A-AF99-164C23CCD55E}"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901A-F613-4F08-A84E-7093E22A4D6D}"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5BB4-BBC2-4D29-B671-3B55A078DC69}"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FE72-5A45-4129-AC87-12A78F4CE323}"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91C2-5A58-44FF-8692-BAE121130F87}"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51F0-4BE3-4072-AAA5-6A224873FB61}"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3D78-F7B9-42BE-AFD1-0AD73A62BCC1}"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A5F4-F2BB-4481-BCFD-0E8244B02621}" type="datetime">
              <a:rPr b="0" lang="ar-SA" sz="1200" spc="-1" strike="noStrike">
                <a:solidFill>
                  <a:srgbClr val="000000"/>
                </a:solidFill>
                <a:latin typeface="Gill Sans MT"/>
              </a:rPr>
              <a:t>١٤٤٨/٠٢/١٦</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9052-F788-495A-8FD9-88FF61D293D9}"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0C69-DB2F-4FE1-95CA-A194E2105A9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7E39A-89FC-4EA4-8F21-A2445CFBDFD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5D9C-BDEE-45E1-98B4-0520F034DD8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A4BD-5F4A-4882-A649-FD9D78A1771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2E503-8BCF-4567-9A8F-D82A23BD8A4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6D42-26EF-4331-A8F1-1DB324C5557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1AAD-7DBA-4A31-8776-B08DC06EADD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B549-2591-4E9D-98A5-528DECB04C0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2909-DE81-435E-A79A-A418F240656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80E5-565A-4719-86D3-66206C5F7F9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298B-45BD-4EF9-AC4B-7EBDB98D7DF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2BF8-D04C-49DE-91BB-332EF9BFC0D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0CD1-B476-473C-BBA9-86EF1A70D98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8B26-0EDB-4016-AC72-ED94785A621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345D-D741-4E06-9B1D-20A686BCD8F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6070-2C1B-46A4-9FA5-2FFFDCA7C89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C7D5-E8F2-434F-BB05-B9084C008B0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A21C-0070-42D0-B607-2956F4421C8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277D-D2BA-44B9-85E9-7E48966C1EB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2839-8848-4EB7-906B-D3B2FF07AE5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B91A-7E77-45D4-A98D-17B5BC0BFB9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