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42B-8152-41EF-B952-1D891612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012B-8CBF-4A0B-AC19-DB6814AB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EF3-0ED6-4F78-983B-A375DF90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7ED-852A-4661-A9EC-5C8BED44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6BDD-EA45-4C30-8855-1145AE82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1D49-C0D7-4386-92A9-BAE113B9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2656-6C1E-4203-9121-592A47A5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081B-2981-4039-9481-85258AAE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E9B3-881F-4A2E-B3EA-18A07713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3D3E-EC5A-4C8A-9478-04569003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96DC-0BA2-425F-9DBD-5D7D1E76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F80-1D7C-46BB-B329-102D07C2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913A-B371-4602-88F2-789312A3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FDEA-9104-41A4-B6A7-E365021E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86B5-465E-4A3F-8FA1-9FDF1D3B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5E17-4C64-4355-A0FD-2D046E58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87C0-7CDE-4702-B00E-22308349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C8D5-6185-4AF0-A4E3-91F80D91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7147-7ECA-4F55-8C91-F9A43F9F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8B4-A453-4589-A570-C28C957F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B1CD-8C94-4C84-ABA5-7AB9E4C5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6770-5253-4C15-B456-E3C638D0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DFB9-B997-4955-AD0C-9BE001E7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90B2-3D79-4F9C-95BE-07DCE493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9298-229A-4AC9-96E6-50C39454EB0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8D88-0346-40B6-BBA6-6D9FC5175A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0080" y="144360"/>
            <a:ext cx="8893080" cy="5904000"/>
          </a:xfrm>
          <a:prstGeom prst="rect">
            <a:avLst/>
          </a:prstGeom>
          <a:solidFill>
            <a:srgbClr val="80808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ial"/>
              </a:rPr>
              <a:t>          التحديات التي تواجهها الثقافة الإسلام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أولاً: الغزو العسكري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* الحــروب الصليــبـــيــــــة الـــشــرســـة (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490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ـ -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69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ـ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* الهجوم التـــتري على العراق والشـــام وإسقاط الخلافة العباس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* ثم الاستعمار الأوروبي للبلدان الإسلامية في القرنين الماضيي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798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 –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زامن ذلك الغزو الشيوعي على البلدان الإسلامية في آسيا الوسط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ونشر الإلحاد ثم غزو أفغــانستان والشــيشان ,وما نشاهده الآن م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جمة صهيونية شـــرسة زرعهــــا الغرب في قلب العــالم الإسلام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شـــرذمة من اليهود,ومـــا جرى من احتلال لأكثر من بلد إســـلام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حجج وه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6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6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6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6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6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1640" y="549360"/>
            <a:ext cx="7632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ثالثاً: آداب الحوار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حسن القصد من الحوا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العلم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الحلم والصبر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العدل والإنصا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التزام القول الحسن، وتجنب منهج التحدي والإفحا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التواضع واللين والرفق من الـمُحَاوِر وحسن الاستماع وعد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لمقاطعة والعناية بما يقوله الـمُحَاو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الحلم والصبر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العدل والإنصاف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2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2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solidFill>
            <a:srgbClr val="99c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ar-SA" sz="3600" spc="-1" strike="noStrike">
                <a:solidFill>
                  <a:srgbClr val="ffff99"/>
                </a:solidFill>
                <a:latin typeface="Arial"/>
                <a:cs typeface="Arabic Transparent"/>
              </a:rPr>
              <a:t>ثانيًا: الغـزو الفكـري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سائل الغزو الفكري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الإعلام    ،   الاستشراق     ،      التنص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أهم وسائل التنصير: التعليم والصحة والإعلام واستغلال الكوارث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والحروب والفق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ــ تشجيع العلمانية في البلاد الإسلامية وذلك بإقصاء الإسلا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ــ التغريب والعولمة الثقا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ــ محاربة الدعوة الإسلام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333360"/>
            <a:ext cx="8785440" cy="6335640"/>
          </a:xfrm>
          <a:prstGeom prst="rect">
            <a:avLst/>
          </a:prstGeom>
          <a:solidFill>
            <a:srgbClr val="0000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آثار التحديات التي تواجه الثقافة الإسلامية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ــ تشويه الإسلام وإثارة الشبهات حول القرآن الكريم والسنة النبو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وعقيدة الإسلام وشريع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ــ تفريق المسلمين وإزالة الوحدة الإسلامية والدعوة إلى القومي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المتنو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ــ الجهل بالإسلام وعقائده وأحكامه في كثير من بلاد الإسلام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وانتشار البدع والخرافات والمذاهب الباط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333360"/>
            <a:ext cx="8785440" cy="6335640"/>
          </a:xfrm>
          <a:prstGeom prst="rect">
            <a:avLst/>
          </a:prstGeom>
          <a:solidFill>
            <a:srgbClr val="0000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Times New Roman"/>
              </a:rPr>
              <a:t>ــ الهزيمة النفسية لدى بعض المسلم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ــ إضعاف اللغة العرب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ــ إقصاء شريعة الإسلام من الحكم وتشجيع العلمانية ف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البلاد الإسلا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ــ إفساد التعليم وإضعاف التعليم الإسلامي ومدارس القرآن الكريم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ــ إفساد المرأ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</a:rPr>
              <a:t>رابعاً : سبل مواجهة التحديات الثقافية  :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تعزيز الهوية بأقوى سلاح , وهو العودة إلى الإسلام 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العناية بثقافتنا الإسلامية وباللغة العربية في وسائل الإعلام ومناهج التعليم 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إبراز خصائص الإسلام وعالميته وعدالته وحضارته وثقافة وتاريخه للمسلمين قبل غيرهم .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العمل على نهوض الأمة في شتى الميادين دينياً وثقافياً وسياسيا و عسكرياً واقتصادياً وتقنيناً 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مواجهة التحديات بالتعليم والتدريب والتثقيف والتحصين 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تقليص الخلافات بين المسلمين حكومات وشعوباً وجماعات بالاعتصام بكتاب الله 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- ضمان الحرية الثقافية وتدعيمها.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- أن تقوم وسائل الإعلام بواجباتها في الحفاظ على الهوية ودعمها .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- أن يقوم التعليم بتعزيز الهوية وكشف سلبيات تاعولمة والتغريب .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 - تنشيط التفاعل والحوار الثقافي والإسلامي مع ثقافات الأمم الأخرى . 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11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- تشجيع المؤسسات الخيرية والدعوية داخل البلاد الإسلامية وخارجها . 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وقف المثقف المسلم من الثقافات الأخرى 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ndalus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ndalus"/>
              </a:rPr>
              <a:t>- الاتجاه السلبي 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يرى أتباعه عدم الأخذ أو الأتصال بأي من الثقافة أو الحضارة الغربية , وعدم الإستفادة من كل ما انبثق عنها في منافع في مختلف المجالات .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ndalu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ndalus"/>
              </a:rPr>
              <a:t>- الاتجاه التغريبي 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يدعو أصحابه إلى الأخذ بكل أسباب الثقافة والحضارة الغربية , خيرها وشرها .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ndalus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ndalus"/>
              </a:rPr>
              <a:t>- الاتجاه التوفيقي 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يرى أتباعه التوفيق بين الثقافتين الإسلامة والغربية.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ndalus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ndalus"/>
              </a:rPr>
              <a:t>- الاتجاه المعتدل  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يرى أتباعه أن يحتفظ المسلمون بإسلامهم وثقافتهم المتمثلة بالكتاب والسنة مع الوقوف عند حدود الفكر الإسلامي الأصيل , مع الإفادة من خير ما أفادت منه المدينه الغربية في شتى المجالات .</a:t>
            </a:r>
            <a:br>
              <a:rPr sz="3200"/>
            </a:b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  <a:cs typeface="Akhbar MT"/>
              </a:rPr>
              <a:t>وهذا الاتجاه الأخير هو الاتجاه الصحيح .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هذه المواقف الأربعة بتوجهاتها المختلفة, أدت إلى اضطرابات , وتصدعات اجتماعية , وصراعات داخلية , أنهكت الأمة , ومزقت شملها , وأحدثت الفرقة بين صفوفها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078840" cy="6858000"/>
          </a:xfrm>
          <a:prstGeom prst="rect">
            <a:avLst/>
          </a:prstGeom>
          <a:solidFill>
            <a:srgbClr val="000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الحوار بين الحضا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الحوار في اللغة من الحور وهو الرجو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الحضارة في اللغة من الحض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وفي العصر الحديث أطلق البعض هذا المصطلح على كل نتاج مادي لأمة م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الأمم من عمران ومخترعات وابتكار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أولاً: الإسلام دين الحوا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ثانيًا: أهم أهداف الحوار في الإسلام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الدعوة إلى الإسلام, وعبادة الله وحده لا شريك ل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تحقيق وظيفة الإنسان في الأرض وهي الخلافة وعمارة الأرض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ـ تبـادل العلـوم النافع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9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9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6-27T19:22:38Z</dcterms:modified>
  <cp:revision>1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