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EA4-6E15-49CC-831A-836E9E96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8BD-9B56-4A8D-BA8D-0DB61E2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8FD-8FB2-4C3B-96A4-265E1D70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D11-9518-467D-96EC-083A4518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25D-30D1-4152-A649-6451FAD1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AE1F-BD11-49C8-A712-F6F96335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71F-2B89-4474-B40C-55E6927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EA7-02C6-4887-A332-32541F3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CACE-2F82-4CAF-B27B-F3D43F4A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5BA3-ED96-4A5C-8E98-15E0D933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8C7-C90E-4FF5-959A-2AD3623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A62-9B6F-4FD5-9495-953A7FB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4B0-798D-42AD-9F2A-6E02A9D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6ECF-FFDF-448D-9B90-810B1635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9C06-9770-408D-BBAA-CEDDE3C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241-412F-4349-9249-DB11C25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E69-8B6B-448F-BDA1-6507FE50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C64-D115-482E-AB90-3C61A8E9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34D-69FE-4385-A6A4-B8005E1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DA6-45E8-4FCA-83AC-71C52582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2D4-81C7-4163-B3FC-0E8CBCFE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563-8E95-4EC5-9A84-1DCFE88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2EE-8AC4-4996-AFE8-53506FA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2DD-F921-4CFE-8913-EE8C0A3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D976-326C-4534-81E8-2F602F156C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DD2E-07C6-4147-BECD-021311483F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0080" y="144360"/>
            <a:ext cx="8893080" cy="59040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ial"/>
              </a:rPr>
              <a:t>          التحديات التي تواجهها الثقافة الإسلا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أولاً: الغزو العسك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حــروب الصليــبـــيــــــة الـــشــرســـة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90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 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الهجوم التـــتري على العراق والشـــام وإسقاط الخلافة العباس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* ثم الاستعمار الأوروبي للبلدان الإسلامية في القرنين الماضي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79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 –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زامن ذلك الغزو الشيوعي على البلدان الإسلامية في آسيا الوس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نشر الإلحاد ثم غزو أفغــانستان والشــيشان ,وما نشاهده الآن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جمة صهيونية شـــرسة زرعهــــا الغرب في قلب العــالم الإسلام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شـــرذمة من اليهود,ومـــا جرى من احتلال لأكثر من بلد إســـلام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حجج وه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6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6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6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549360"/>
            <a:ext cx="7632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ثالثاً: آداب الحوار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حسن القصد من الحو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حلم والصبر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دل والإنصا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تزام القول الحسن، وتجنب منهج التحدي والإفح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تواضع واللين والرفق من الـمُحَاوِر وحسن الاستماع وعد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لمقاطعة والعناية بما يقوله الـمُحَا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حلم والصب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العدل والإنصاف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99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Arial"/>
                <a:cs typeface="Arabic Transparent"/>
              </a:rPr>
              <a:t>ثانيًا: الغـزو الفكـري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سائل الغزو الفكري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علام    ،   الاستشراق     ،      التنص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هم وسائل التنصير: التعليم والصحة والإعلام واستغلال الكوار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والحروب والفق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تشجيع العلمانية في البلاد الإسلامية وذلك بإقصاء الإسل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التغريب والعولمة الثق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ــ محاربة الدعوة الإسلا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33360"/>
            <a:ext cx="8785440" cy="633564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آثار التحديات التي تواجه الثقافة الإسلامية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تشويه الإسلام وإثارة الشبهات حول القرآن الكريم والسنة النبو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وعقيدة الإسلام وشريع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تفريق المسلمين وإزالة الوحدة الإسلامية والدعوة إلى القومي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المتنو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الجهل بالإسلام وعقائده وأحكامه في كثير من بلاد الإسلام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وانتشار البدع والخرافات والمذاهب الباط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633564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Times New Roman"/>
              </a:rPr>
              <a:t>ــ الهزيمة النفسية لدى بعض المسل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ضعاف اللغة العر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قصاء شريعة الإسلام من الحكم وتشجيع العلمانية ف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البلاد الإسلا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فساد التعليم وإضعاف التعليم الإسلامي ومدارس القرآن الكري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ــ إفساد المرأ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رابعاً : سبل مواجهة التحديات الثقافية  :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تعزيز الهوية بأقوى سلاح , وهو العودة إلى الإسلام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العناية بثقافتنا الإسلامية وباللغة العربية في وسائل الإعلام ومناهج التعليم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إبراز خصائص الإسلام وعالميته وعدالته وحضارته وثقافة وتاريخه للمسلمين قبل غيرهم 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العمل على نهوض الأمة في شتى الميادين دينياً وثقافياً وسياسيا و عسكرياً واقتصادياً وتقنيناً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مواجهة التحديات بالتعليم والتدريب والتثقيف والتحصين 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تقليص الخلافات بين المسلمين حكومات وشعوباً وجماعات بالاعتصام بكتاب الله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ضمان الحرية الثقافية وتدعيمها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أن تقوم وسائل الإعلام بواجباتها في الحفاظ على الهوية ودعمها 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أن يقوم التعليم بتعزيز الهوية وكشف سلبيات تاعولمة والتغريب .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- تنشيط التفاعل والحوار الثقافي والإسلامي مع ثقافات الأمم الأخرى .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- تشجيع المؤسسات الخيرية والدعوية داخل البلاد الإسلامية وخارجها .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قف المثقف المسلم من الثقافات الأخرى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سلب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عدم الأخذ أو الأتصال بأي من الثقافة أو الحضارة الغربية , وعدم الإستفادة من كل ما انبثق عنها في منافع في مختلف المجالات .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تغريب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دعو أصحابه إلى الأخذ بكل أسباب الثقافة والحضارة الغربية , خيرها وشرها .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توفيقي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التوفيق بين الثقافتين الإسلامة والغربية.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ndalus"/>
              </a:rPr>
              <a:t>- الاتجاه المعتدل 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رى أتباعه أن يحتفظ المسلمون بإسلامهم وثقافتهم المتمثلة بالكتاب والسنة مع الوقوف عند حدود الفكر الإسلامي الأصيل , مع الإفادة من خير ما أفادت منه المدينه الغربية في شتى المجالات .</a:t>
            </a:r>
            <a:br>
              <a:rPr sz="3200"/>
            </a:b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  <a:cs typeface="Akhbar MT"/>
              </a:rPr>
              <a:t>وهذا الاتجاه الأخير هو الاتجاه الصحيح 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هذه المواقف الأربعة بتوجهاتها المختلفة, أدت إلى اضطرابات , وتصدعات اجتماعية , وصراعات داخلية , أنهكت الأمة , ومزقت شملها , وأحدثت الفرقة بين صفوف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078840" cy="685800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الحوار بين الحض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الحوار في اللغة من الحور وهو الرج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الحضارة في اللغة من الحض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وفي العصر الحديث أطلق البعض هذا المصطلح على كل نتاج مادي لأمة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الأمم من عمران ومخترعات وابتك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أولاً: الإسلام دين الحوا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ثانيًا: أهم أهداف الحوار في الإسلا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دعوة إلى الإسلام, وعبادة الله وحده لا شريك 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تحقيق وظيفة الإنسان في الأرض وهي الخلافة وعمارة الأرض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ـ تبـادل العلـوم النافع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19:22:38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