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FD1-30AD-4CD4-AC0A-B37DB80B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937-42C7-4166-BB7A-5B4C4323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B58-D09C-420D-86BF-F5D7425F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CE2-5C8B-427B-BD17-0963B2ED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DDA-1189-4F92-B03A-7717B8FA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9BB-FB48-4B8B-90CF-CB2574B6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A78-E8B7-450D-905B-4218CD91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D4D-92C7-4E8C-B608-731AE2F8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86F-BD5A-41C9-9D85-2A479BE3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8D4-2989-4A82-A0CC-DAFC6F2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20D-4347-48C4-B7DD-DAE3D4B3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5D3-8699-470D-A7BA-E49B4C2B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4A90-E85E-4814-BF6C-07D01723D5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تحديات التي تواجه التنمية الزراعية المستدامة في العالم النام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فقا لتقديرات الامم المتحدة من المتوقع ان يزداد سكان العالم بحلول عا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نسب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ليصل الى نح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ليون نسمة مما يؤدي الى ازدياد الطلب على الغذاء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ابل ذلك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م استغلال معظم الاراضي الصالحة للزرا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شحة الميا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لوحة التر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رعي الجائ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رية الترب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so6D516"/>
          <p:cNvPicPr/>
          <p:nvPr/>
        </p:nvPicPr>
        <p:blipFill>
          <a:blip r:embed="rId1"/>
          <a:srcRect l="0" t="0" r="0" b="43377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msoA6846"/>
          <p:cNvPicPr/>
          <p:nvPr/>
        </p:nvPicPr>
        <p:blipFill>
          <a:blip r:embed="rId1"/>
          <a:srcRect l="0" t="24097" r="2605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soB5B6D"/>
          <p:cNvPicPr/>
          <p:nvPr/>
        </p:nvPicPr>
        <p:blipFill>
          <a:blip r:embed="rId1"/>
          <a:srcRect l="4578" t="14026" r="30364" b="31098"/>
          <a:stretch/>
        </p:blipFill>
        <p:spPr>
          <a:xfrm>
            <a:off x="568440" y="1219320"/>
            <a:ext cx="381456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mso23F25"/>
          <p:cNvPicPr/>
          <p:nvPr/>
        </p:nvPicPr>
        <p:blipFill>
          <a:blip r:embed="rId2"/>
          <a:srcRect l="4579" t="4331" r="30364" b="1770"/>
          <a:stretch/>
        </p:blipFill>
        <p:spPr>
          <a:xfrm>
            <a:off x="4815000" y="1219320"/>
            <a:ext cx="3703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مواجهة هذه المعضل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ستخدام تقنيات حديثة في الزراعة مع مراعاة الكلفة الما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نمية المهارات البشرية لإكسابها الخبرة في المجالات الزراعية المتطور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ي ظل هذه الظروف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نخفض هجرة المزارع من الريف الى المدين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طوير تقنيات الحفاظ على الموارد الطبيعية الامر الذي يؤدي الى تحقيق عدالة اجتماعية بين الاجيا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هذا ما نطمح في تحقيقه لضمان توفر الغذاء لنا ولذريتنا الاجيال عديدة وهذا ما يسمى بالعدالة الاجتما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0:23:58Z</dcterms:created>
  <dc:creator>administrator</dc:creator>
  <dc:description/>
  <dc:language>en-US</dc:language>
  <cp:lastModifiedBy>Administrator</cp:lastModifiedBy>
  <dcterms:modified xsi:type="dcterms:W3CDTF">2012-11-04T07:53:59Z</dcterms:modified>
  <cp:revision>4</cp:revision>
  <dc:subject/>
  <dc:title>التحديات التي تواجه التنمية الزراعية المستدامة في العالم النامي</dc:title>
</cp:coreProperties>
</file>