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92F9-1E09-40BC-BE29-0C2E86212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DE38-D579-490C-B101-B6FF3797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BB87-8132-492C-BE17-2EB43C22D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39DC-80BF-41B8-BDBC-15D140D50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6AE2-E7EF-4C1D-A4EE-5836EF9E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35A5-B185-429B-BE6C-480EC7A0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0C40-890D-4061-BD3C-E44C7C8D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487D-37C6-40AA-8D2F-70CE0A3C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760E-8A1A-4FE9-BC0A-EDDA62CA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79D0-3C4E-4CF1-B1D8-E9CC0717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1501-F1ED-4873-8126-1D01C2ED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BFEE-94A0-4E8B-AC49-2FFE4463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482A-BA33-44A0-9A7A-3009CF8AC7F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التحديات التي تواجه التنمية الزراعية المستدامة في العالم النام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فقا لتقديرات الامم المتحدة من المتوقع ان يزداد سكان العالم بحلول عام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05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بنسبة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% ليصل الى نحو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بليون نسمة مما يؤدي الى ازدياد الطلب على الغذاء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قابل ذلك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م استغلال معظم الاراضي الصالحة للزراع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شحة الميا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لوحة الترب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رعي الجائ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عرية الترب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mso6D516"/>
          <p:cNvPicPr/>
          <p:nvPr/>
        </p:nvPicPr>
        <p:blipFill>
          <a:blip r:embed="rId1"/>
          <a:srcRect l="0" t="0" r="0" b="43377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msoA6846"/>
          <p:cNvPicPr/>
          <p:nvPr/>
        </p:nvPicPr>
        <p:blipFill>
          <a:blip r:embed="rId1"/>
          <a:srcRect l="0" t="24097" r="2605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msoB5B6D"/>
          <p:cNvPicPr/>
          <p:nvPr/>
        </p:nvPicPr>
        <p:blipFill>
          <a:blip r:embed="rId1"/>
          <a:srcRect l="4578" t="14026" r="30364" b="31098"/>
          <a:stretch/>
        </p:blipFill>
        <p:spPr>
          <a:xfrm>
            <a:off x="568440" y="1219320"/>
            <a:ext cx="381456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mso23F25"/>
          <p:cNvPicPr/>
          <p:nvPr/>
        </p:nvPicPr>
        <p:blipFill>
          <a:blip r:embed="rId2"/>
          <a:srcRect l="4579" t="4331" r="30364" b="1770"/>
          <a:stretch/>
        </p:blipFill>
        <p:spPr>
          <a:xfrm>
            <a:off x="4815000" y="1219320"/>
            <a:ext cx="3703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094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مواجهة هذه المعضل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استخدام تقنيات حديثة في الزراعة مع مراعاة الكلفة المادي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تنمية المهارات البشرية لإكسابها الخبرة في المجالات الزراعية المتطور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في ظل هذه الظروف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تنخفض هجرة المزارع من الريف الى المدين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تطوير تقنيات الحفاظ على الموارد الطبيعية الامر الذي يؤدي الى تحقيق عدالة اجتماعية بين الاجيا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هذا ما نطمح في تحقيقه لضمان توفر الغذاء لنا ولذريتنا الاجيال عديدة وهذا ما يسمى بالعدالة الاجتماع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0T10:23:58Z</dcterms:created>
  <dc:creator>administrator</dc:creator>
  <dc:description/>
  <dc:language>en-US</dc:language>
  <cp:lastModifiedBy>Administrator</cp:lastModifiedBy>
  <dcterms:modified xsi:type="dcterms:W3CDTF">2012-11-04T07:53:59Z</dcterms:modified>
  <cp:revision>4</cp:revision>
  <dc:subject/>
  <dc:title>التحديات التي تواجه التنمية الزراعية المستدامة في العالم النامي</dc:title>
</cp:coreProperties>
</file>