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6FA-9029-44EB-8E55-0150516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ABD-4F87-4B18-8822-43F8E4D3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5F8-B610-41A6-A580-02128A72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829-D29A-47F5-B198-F27A23E5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0204-A894-4F61-8AC7-3C531657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49B-3B72-4A50-AC15-5D88FCF7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0B42-F389-455D-83C0-E7DEB1D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5AA4-5EE6-4B13-9C6D-C8FCFCEA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F3F0-5319-4E99-95D3-C7DEB360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49DE-E00A-4D03-8779-E8A3F822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CABE-3346-4082-A9DB-E39EDF12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086-8F8F-473C-855E-CE185AE0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43D8-AEF5-4BB5-A3BB-ECE799B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A530-642A-4A1E-B310-74760700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58B0-9746-42AF-B2FA-553DF548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E6F4-0535-4A45-8E46-84AB9545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88D4-1881-481D-94E0-1213E3B0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52E-75A7-4827-8A4E-6C482439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113-E515-42F7-B1BD-9578D714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E04-ACFA-41DF-B9AB-B0824148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888-4CFB-4565-94B5-D189036A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F3D-F04A-4E91-9BD6-F57A7B8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106-1E5D-4137-8C95-5D65FAA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C96-6563-4D0D-BBC2-FBB1AF4B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69F7-85CD-46A0-92B5-5655D787B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3552-AB34-4384-B23E-043044D1B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ccecff"/>
                </a:solidFill>
                <a:latin typeface="Arial"/>
              </a:rPr>
              <a:t>أولويات التعزيز التغذوي (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26920" y="2205000"/>
            <a:ext cx="762480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دول المتقدم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صنيع والقيمة التغذوية ( هل هناك حاجة لتغيير الممارسات الحالية ؟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جود مشكلة نقص ( التدعيم التغذوي هو السياسة المتبع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غناء المارجرين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بـ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nt sterol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ol esters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لخفض مستويات كولسترول البلازما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ا يتطلب ذلك تطوير سلالات نبات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ور استرات الستانو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ور السترولات النباتي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متص السترولات بشكل أفضل من السترولات الح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متص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mpesterol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بشكل أفضل م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o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زيت النباتي الغني ب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ostanol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والمؤستر مع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FA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قل قابلية للأكسدة عند القلي مقارنة بـ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ولويات التعزيز التغذوي (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لدول الن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عالجة نقص فيتامين أ الشائع الانتشار عالمياً من خلال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تربية التقليد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تحوير الوراث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أرز المحور وراثياً في الأقطار التي يعتبر فيها سلعة رئي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-- المشكلة تقبل المستهلك لذل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ecff"/>
                </a:solidFill>
                <a:latin typeface="Arial"/>
              </a:rPr>
              <a:t>علاقة التركيب بالجودة التغذوية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 التوافر الحيوي 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حتوى الكلي لعنصر ما في الوجبة ليس على الدوام مؤشر مفيد لقيمته التغذوية ( الامتصاص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جب الاهتمام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الجزء المتوفر من العنص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يصل إلى العضو المستهدف ويكون فع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للوجبة أيضاً دور مهم في الحصول على العنص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cope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     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والوجبة الغنية بالده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بيتاكاروتين في الجزر المطبو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توافر الحيوي للحديد في السبانخ المعل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       - الشكل الكيميائي للكيماويات النبات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التعزيز التغذوي مقابل اغناء الأغذية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همية تعزيز مستويات المكونات الواقية الطبيعية في الأغذية النباتية ( حمض الفوليك كمثال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ate and homocyste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مض الفوليك ليس شكل طبيعي للفوليت في النب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مض الفوليك يستخدم في تدعيم الأغذ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أكثر ثبات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   -- أكثر من ناحية التوافر الحي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زيادة مستوى الفوليت في الوجبة ( 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مثيل الخلوي يختلف لحمض الفوليك والفول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21:05:49Z</dcterms:created>
  <dc:creator>user</dc:creator>
  <dc:description/>
  <dc:language>en-US</dc:language>
  <cp:lastModifiedBy>MyName</cp:lastModifiedBy>
  <dcterms:modified xsi:type="dcterms:W3CDTF">2008-11-18T17:37:33Z</dcterms:modified>
  <cp:revision>8</cp:revision>
  <dc:subject/>
  <dc:title>أولويات التعزيز التغذوي</dc:title>
</cp:coreProperties>
</file>