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D3C-7217-4F9E-91FD-E20591E8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053-318E-4B19-946C-0B333E0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7BB-6E40-4512-999B-90F652BB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37D-AE92-49F2-BC76-A8D5905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4D5-BB4B-41A1-9EC6-A3C4654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3B4E-ABF8-4DCD-818E-DBDD371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E52-D610-4E57-8531-D4C0F9E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0DF1-781A-4C88-8150-571CEF2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9648-8FF8-4647-944E-E7F3F57A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2BC0-86EB-423B-A8B8-F586948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1074-2F55-48BF-AFC5-089A3D7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B52-2131-443D-A62F-315A8AF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C34-A305-42EE-8F45-713FCE5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3EF7-C111-4D29-8099-51A22F1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5DD4-B2A9-4A15-B133-9A6C9F89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F34-9518-4D40-ABCE-CE6E0CAE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1C27-307C-45B5-B8FC-C0F6A61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F0C-7E28-4687-AACB-63872D3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B51-C558-4D84-9E6D-56F2965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2A4-4CA3-4311-96C9-B7BEE15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5EE-2E6B-4246-A7C4-BF65285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F55-01C8-43AC-AE23-36807192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C0A-C48A-47F9-AF68-5766762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17D-235C-4476-8E10-71B0631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EF6-BF7C-4819-A263-D2F9B9EDE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1091-DAD3-4A3F-8394-C590ADA90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ecff"/>
                </a:solidFill>
                <a:latin typeface="Arial"/>
              </a:rPr>
              <a:t>أولويات التعزيز التغذوي (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762480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دول المتقد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صنيع والقيمة التغذوية ( هل هناك حاجة لتغيير الممارسات الحالية ؟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جود مشكلة نقص ( التدعيم التغذوي هو السياسة المتبع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غناء المارجري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ـ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t stero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ol ester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خفض مستويات كولسترول البلازما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ا يتطلب ذلك تطوير سلالات نبات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ور استرات الستان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ور السترولات النباتي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متص السترولات بشكل أفضل من السترولات الح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تص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esterol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شكل أفضل م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o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زيت النباتي الغني ب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ostano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المؤستر مع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FA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قل قابلية للأكسدة عند القلي مقارنة ب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ولويات التعزيز التغذوي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لدول الن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عالجة نقص فيتامين أ الشائع الانتشار عالمياً من خلا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تربية التقليد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تحوير الوراث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أرز المحور وراثياً في الأقطار التي يعتبر فيها سلعة رئي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مشكلة تقبل المستهلك لذل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ecff"/>
                </a:solidFill>
                <a:latin typeface="Arial"/>
              </a:rPr>
              <a:t>علاقة التركيب بالجودة التغذوية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 التوافر الحيوي 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حتوى الكلي لعنصر ما في الوجبة ليس على الدوام مؤشر مفيد لقيمته التغذوية ( الامتصاص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جب الاهتمام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الجزء المتوفر من العنص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يصل إلى العضو المستهدف ويكون فع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للوجبة أيضاً دور مهم في الحصول على العنص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cop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والوجبة الغنية بالده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بيتاكاروتين في الجزر المطبو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توافر الحيوي للحديد في السبانخ المعل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شكل الكيميائي للكيماويات النبات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التعزيز التغذوي مقابل اغناء الأغذ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همية تعزيز مستويات المكونات الواقية الطبيعية في الأغذية النباتية ( حمض الفوليك كمثا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ate and homocyste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مض الفوليك ليس شكل طبيعي للفوليت في النب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مض الفوليك يستخدم في تدعيم الأغذ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أكثر ثبات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أكثر من ناحية التوافر الحي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مستوى الفوليت في الوجبة ( 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مثيل الخلوي يختلف لحمض الفوليك والفول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21:05:49Z</dcterms:created>
  <dc:creator>user</dc:creator>
  <dc:description/>
  <dc:language>en-US</dc:language>
  <cp:lastModifiedBy>MyName</cp:lastModifiedBy>
  <dcterms:modified xsi:type="dcterms:W3CDTF">2008-11-18T17:37:33Z</dcterms:modified>
  <cp:revision>8</cp:revision>
  <dc:subject/>
  <dc:title>أولويات التعزيز التغذوي</dc:title>
</cp:coreProperties>
</file>