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78D9-E0B4-40D3-A65B-870BB922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D91-9DF4-4466-AE17-1FFB3DDF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C5F-48C1-4D83-B978-FBBDC6F8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979-06B2-4F56-8EC2-B9AFC5C2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FD22-659C-46DF-8A51-41D9DF0C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7612-DA9A-4ECA-8741-D40E3C73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3B52-EB80-4930-B06E-8A68A338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85A6-56C0-412B-9545-2AF794CA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3BB1-1695-4C1A-8C85-4798E689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DAFE-9847-4782-BEF4-84A76BB7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D03B-F109-45C6-AF0C-5628FD66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B566-C6FC-468A-AFF7-F28CEAFA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5B49-538B-4253-85C9-DE895C10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F2F4-EDD2-4A51-B2D2-6B3355AE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E462-3B15-48CF-AC82-FBDF2434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3010-9AA1-4489-9C7B-7E1616C5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7D6F-33B9-4A81-8652-B7ACE8A7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17D68-5987-4F3D-829A-6C7E825C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1F68E-197E-4F3A-BB1A-6E00BF5F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9625DA-2D2B-4FB6-AA47-0E49CBC9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F476E-F226-41F1-8368-379D962D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4AC8F-7E12-4839-B6AB-84819408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16B-EF11-4239-AF0B-5745CA54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40C02-51F1-4699-AB64-10997755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89745-DB98-464E-A71B-866D3D86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DF100-F055-478D-9021-12581D26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E0F27-9794-4C1E-84C2-77D8D243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C4BBB-363D-4547-BD7D-231B43C2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B604C-7979-4B7B-8327-AD123F30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AC801-B15D-402D-9F64-6B8D5B96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D7F80-DC6C-4FF1-851A-8B243376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7CABB-8C9F-4571-A0E9-95AC9157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D49F1-76F0-44A8-95BE-66B0ECF9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6BF-010C-4F39-8D5D-D9409486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5C2AC-C0D1-4F0F-A0D7-3780CFD6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72D32-9594-46D6-8115-32CF89FE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ADDD5-C837-42EB-8C3C-253414A1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0DC1C-7381-4B47-9FD3-C05082D4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FA66E-9D9F-4020-8DC9-73BCEE24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B3E23-292A-44FF-87E0-BD2032FC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55192-6E7E-4A02-B4CC-FE112470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2D66C-9605-41DF-9884-379B75B6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CE333-EE3C-443E-B681-BCCC59D6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134A-71EB-45FB-9090-78E555A9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FD4-B29A-46BA-B3E4-FB69C8C9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73E6-4C74-49CA-B6E8-6A7F60AA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3A4-2FD0-4C5F-8EA7-5CA51D14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E39-81CC-4832-9BAC-B599EAE8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101E-6426-4EAE-96A3-A3F384EED8D8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190A-CC7D-4A0A-84B3-7BEB5F17A5DA}" type="slidenum">
              <a:rPr b="0" lang="ar-SA" sz="1200" spc="-1" strike="noStrike">
                <a:solidFill>
                  <a:srgbClr val="94c6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EC91-F28E-4497-A66E-9810EBE62C2E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1DBA-EAF8-404C-9933-1AA8096B762B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إعلام و التنمية</a:t>
            </a:r>
            <a:br>
              <a:rPr sz="3600"/>
            </a:b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لم 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304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16000" y="4436640"/>
            <a:ext cx="33102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24242"/>
                </a:solidFill>
                <a:latin typeface="Century Gothic"/>
                <a:cs typeface="AL-Mohanad Bold"/>
              </a:rPr>
              <a:t>العنصر الأول :التخلف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تخلف بسبب البيئة الاجتماع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547640" y="2997360"/>
            <a:ext cx="3600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ات التخلف بسبب الجنس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33130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استعما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156360" y="2997360"/>
            <a:ext cx="2038320" cy="18190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533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عقيد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8163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حلقات المفرغة و حواجز التقد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042920" y="3716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635280" y="3213000"/>
            <a:ext cx="46818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ات  المفرغة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1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دخل المنخفض، والصحة، و كفاءة العمل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2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تجارة الدولية ، لصنف واحد ، و بلد واحد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3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رأس المال المنخفض، و قلة الإدخار و الاستثمار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4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إنفجار السكاني و الدخل المنخفض، والتنمية البسيطة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5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تعليم المنخفض، والأمية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نقص الثروات الطبي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57150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نخفاض مستوى الفرد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727880" cy="2849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4360" y="62028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ترتيب/الدولة/متوسط دخل الفرد الشهري (بالريال السعودي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قط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امارات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كويت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حري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عودي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1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م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بن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9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يب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ونس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جزائ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ارد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غرب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3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ص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4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ور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لسطي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6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ود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ي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8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ريت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6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9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راق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جيبوتي اقل 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صومال اقل 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920" y="549000"/>
            <a:ext cx="735336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251280" algn="r" rtl="1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ولة/متوسط دخل الفرد الشهري (بالريال السعودي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(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ويسر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مريك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3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نمارك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ياب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ويد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يرلند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ريط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هولند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لجيك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رنس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سترال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يطال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نغافور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سب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رتغال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كوريا الجنوبي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اليز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رك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جنوب افريق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وس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ايلند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0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4" marL="121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خلف طرائق الإنتاج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1050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مفهوم اللغوي ل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35276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إزدواج الثقاف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40323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بعية الاقتصا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763640" y="2816280"/>
            <a:ext cx="4330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التخلف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دم الاستفادة من القدرة الإنتاجية التي يتيحها استخدام الطرق الفنية و التكنولوجية الحديثة، كما يعني ضعف الأداء الاقتصادي لهذه البلدان، و يعني أيضاً عدم قدرتها على ضمان الحد الأدنى من الرفاهية المادية لغالبية السكان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ظاهرة تاريخية نتج عنها وضع اقتصادي واجتماعي متناقض، أفرز نمواً سكانياً سريعاً في ذات الوقت الذي عجز فيه عن تلبية حاجات النمو السكاني المتزايد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وقف الكفاءات عن العمل، ويعود هذه بصورة أساسية إلى الحالة الاقتصادية للدولة، و الدولة المتخلفة هي تلك الدول تعمل اقتصادياتها بشكل تخسر فيه باستمرار فترات طويلة من السنين إضافة إلى الجهود الضائعة و الإمكانيات المفقودة 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تخلف..نظرة لتاريخ المفهوم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570400" cy="3538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2521080" cy="190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3419640" y="2708280"/>
            <a:ext cx="4956120" cy="3613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684360" y="2349360"/>
            <a:ext cx="3036600" cy="255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724360" y="2060640"/>
            <a:ext cx="2857680" cy="2857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صطلحات أخرى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ول النام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دول العالم الثالث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جتمعات التقلي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راحل انتقال المجتمعات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3" name="رابط مستقيم 4"/>
          <p:cNvSpPr/>
          <p:nvPr/>
        </p:nvSpPr>
        <p:spPr>
          <a:xfrm flipH="1" flipV="1">
            <a:off x="1642680" y="2499840"/>
            <a:ext cx="6286680" cy="180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رابط مستقيم 6"/>
          <p:cNvSpPr/>
          <p:nvPr/>
        </p:nvSpPr>
        <p:spPr>
          <a:xfrm flipH="1">
            <a:off x="7929720" y="2500200"/>
            <a:ext cx="1440" cy="57168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رابط مستقيم 8"/>
          <p:cNvSpPr/>
          <p:nvPr/>
        </p:nvSpPr>
        <p:spPr>
          <a:xfrm flipH="1">
            <a:off x="4714920" y="2500200"/>
            <a:ext cx="1440" cy="57168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رابط مستقيم 10"/>
          <p:cNvSpPr/>
          <p:nvPr/>
        </p:nvSpPr>
        <p:spPr>
          <a:xfrm flipH="1">
            <a:off x="1641600" y="2500200"/>
            <a:ext cx="1440" cy="50004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مربع نص 11"/>
          <p:cNvSpPr/>
          <p:nvPr/>
        </p:nvSpPr>
        <p:spPr>
          <a:xfrm>
            <a:off x="7143840" y="307188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تقليد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مربع نص 12"/>
          <p:cNvSpPr/>
          <p:nvPr/>
        </p:nvSpPr>
        <p:spPr>
          <a:xfrm>
            <a:off x="1071720" y="300024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حديث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مربع نص 13"/>
          <p:cNvSpPr/>
          <p:nvPr/>
        </p:nvSpPr>
        <p:spPr>
          <a:xfrm>
            <a:off x="4000680" y="307188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انتقال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3273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فرق بين المجتمع التقليدي و المجتمع الحديث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042920" y="2324160"/>
          <a:ext cx="6777000" cy="3611520"/>
        </p:xfrm>
        <a:graphic>
          <a:graphicData uri="http://schemas.openxmlformats.org/drawingml/2006/table">
            <a:tbl>
              <a:tblPr/>
              <a:tblGrid>
                <a:gridCol w="3387960"/>
                <a:gridCol w="3389040"/>
              </a:tblGrid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AL-Mohanad Bold"/>
                        </a:rPr>
                        <a:t>المجتمع الحدي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AL-Mohanad Bold"/>
                        </a:rPr>
                        <a:t>المجتمع التقلي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منفت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أم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صنا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زرا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حديث أو متمد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بدائ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ديناميك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ثابت بلا تغيير أو تطو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يكافح الفرد للتغلب على المشاكل و يتسم بالطمو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يستسلم الفرد لمصائبه بلا مقاو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الولاء للمجتمع كك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الولاء للجماعة المحل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لأفراده نشاط سيساي واقتصا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لا يساهم أفراده في أوجه النشاط المختل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عام أو الدو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مح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قد لمفهوم ا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556000" y="2565360"/>
            <a:ext cx="35575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تفسير ا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763280" y="206028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تخلف بسبب البيئة الجغراف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9" name="عنصر نائب للمحتوى 2"/>
          <p:cNvSpPr/>
          <p:nvPr/>
        </p:nvSpPr>
        <p:spPr>
          <a:xfrm>
            <a:off x="1547640" y="4005360"/>
            <a:ext cx="677736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3132360" cy="21207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3368880" cy="21333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539640" y="2349360"/>
            <a:ext cx="35546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6:40:27Z</dcterms:created>
  <dc:creator>dell</dc:creator>
  <dc:description/>
  <dc:language>en-US</dc:language>
  <cp:lastModifiedBy>Eyad</cp:lastModifiedBy>
  <dcterms:modified xsi:type="dcterms:W3CDTF">2012-02-11T17:32:00Z</dcterms:modified>
  <cp:revision>18</cp:revision>
  <dc:subject/>
  <dc:title>الإعلام و التنمية علم 304</dc:title>
</cp:coreProperties>
</file>