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D5CD-3D53-4CCF-ADA2-28793690E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43F7-BAE2-4FCC-9420-BFCE0DD2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FEA-6224-49F1-8D57-CC86033A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452-26E9-43D8-A3F7-F3541D7B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AE40-598B-4181-9F5C-1A8E8137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B406-14CB-4088-8435-F148E26F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68DA-2F8E-441C-933C-3C15806F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AE86-A0A6-4CCE-B63D-7D757EBC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546B-0DC9-4D0B-8D34-8AE9C32A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6AEC-91D1-4DED-9ED0-9841983BE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34A1-48AE-4379-A202-E033557E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A14-40B0-440F-AFA9-35E7B0F58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4431D-EED6-4A79-97C0-9BF98829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D63B-1302-46EF-9A81-8840CBA0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B320-C9F8-414D-B062-B1907B53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89CC-2967-478C-B29A-0E19576A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1EFA-2094-4C75-84C3-89983678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32845-1EB6-4173-ADB2-D4A40C8E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C925E-32C6-40A2-9980-B572C081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E91CF-A035-4CC9-A72A-273ACB0B1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9F993-4445-41A4-A109-27DE305E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4E448-E4BD-4F30-BB72-C8A752E9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376A-3142-4108-BACC-6EABC664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9A851-FEA5-4803-B7A3-13FF6FD7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5F0D8-BAEA-481A-BC6D-95A93AFB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90769-40EF-4B4A-92B1-7C6B0EA3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63C27-056B-4D35-AD81-A1DE5B16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C0A84-DB39-430E-9AE8-2879B890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E65F47-0939-4819-9C3F-A444DD36B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B85A7-BC53-4963-B518-E5ACAB62C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543CE-83BD-46F7-8148-99555A3FE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4FB18-6238-4E9C-ACDC-7674764E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E9432-0EB2-45AB-8DCD-126934D4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7C79-E2B6-47AD-A796-AF889CC7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2B646-2EC9-404C-94B1-D7035B1D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F803C-D026-4622-8D96-FFB18368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C974E-4BC7-4605-9215-F8C0B23A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BF001-2A56-4564-9EDA-32666778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CD809-D079-416E-BC08-5018A9F7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74980-18D7-4F80-95A0-F1D637A6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C5D00-E2BD-42CE-91EC-2447BB232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8A2D8-3834-4FD2-8182-10E2C1E5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59692-8EA7-4ABA-8ACB-3CBC33AC1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3E59-3D8E-4F47-8A20-750E680A3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EDEC-048F-4A72-B3F0-85226483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E567-6C5F-46CF-84B2-C8C23377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D45-20E6-420B-8658-C27CF706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AA0D-5FB8-42F6-BD4F-11E695E2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7753-51C5-45BA-B47F-4E454EC5C032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94c6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6E74-FAF6-47A1-9CF3-4620C2C02524}" type="slidenum">
              <a:rPr b="0" lang="ar-SA" sz="1200" spc="-1" strike="noStrike">
                <a:solidFill>
                  <a:srgbClr val="94c6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820B-0D6B-4E3A-ADB4-0A7C6BD05CA9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efefe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BD0A7-2F93-49AB-BAE8-9BA3498203A1}" type="slidenum">
              <a:rPr b="0" lang="ar-SA" sz="1200" spc="-1" strike="noStrike">
                <a:solidFill>
                  <a:srgbClr val="fefefe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إعلام و التنمية</a:t>
            </a:r>
            <a:br>
              <a:rPr sz="3600"/>
            </a:b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علم </a:t>
            </a:r>
            <a:r>
              <a:rPr b="0" lang="ar-SA" sz="36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304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16000" y="4436640"/>
            <a:ext cx="331020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424242"/>
                </a:solidFill>
                <a:latin typeface="Century Gothic"/>
                <a:cs typeface="AL-Mohanad Bold"/>
              </a:rPr>
              <a:t>العنصر الأول :التخلف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اجتماع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547640" y="2997360"/>
            <a:ext cx="36007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ات التخلف بسبب الجنس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1042920" y="2637000"/>
            <a:ext cx="331308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استعمار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2638440" cy="17337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6156360" y="2997360"/>
            <a:ext cx="2038320" cy="18190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3492360" y="4149720"/>
            <a:ext cx="2533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عقيد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816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لحلقات المفرغة و حواجز التقدم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3635280" y="3213000"/>
            <a:ext cx="46818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ات  المفرغ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1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دخل المنخفض، والصحة، و كفاءة العمل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2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جارة الدولية ، لصنف واحد ، و بلد واحد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3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رأس المال المنخفض، و قلة الإدخار و الاستثمار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4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إنفجار السكاني و الدخل المنخفض، والتنمية البسيطة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5.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الحلقة المفرغة للتعليم المنخفض، والأمية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entury Gothic"/>
                <a:ea typeface="AL-Mohanad Bold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نقص الثروات الطبيع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042920" y="2852640"/>
            <a:ext cx="571500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خلف بسبب انخفاض مستوى الفرد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727880" cy="2849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4360" y="62028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ترتيب/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قط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مارا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كويت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حر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عود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م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بن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ليب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نس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جزائ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ارد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غرب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صر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4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ر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لسطي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3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د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7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8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وريت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6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9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عراق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يبوتي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21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صومال اقل م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42920" y="549000"/>
            <a:ext cx="735336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251280" algn="r" rtl="1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ة/متوسط دخل الفرد الشهري (بالريال السعودي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(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ويسر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مر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3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نمارك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يابان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سوي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ر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ريط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هولند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0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بلجيك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6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فرنس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تر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يطال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سنغافور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7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سبان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68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برتغال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كوريا الجنوبية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4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ماليز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5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رك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جنوب افريق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روسيا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100</a:t>
            </a:r>
            <a:br>
              <a:rPr sz="2000"/>
            </a:br>
            <a:r>
              <a:rPr b="0" lang="ar-SA" sz="20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ايلند </a:t>
            </a:r>
            <a:r>
              <a:rPr b="0" lang="ar-SA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800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4" marL="1219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9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خلف طرائق الإنتاج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1050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مفهوم اللغوي ل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5276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0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إزدواج الثقاف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40323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2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تبعية الاقتصا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763640" y="2816280"/>
            <a:ext cx="43308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فهوم التخلف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 </a:t>
            </a:r>
            <a:r>
              <a:rPr b="0" lang="ar-SA" sz="4000" spc="-1" strike="noStrike">
                <a:solidFill>
                  <a:srgbClr val="94c600"/>
                </a:solidFill>
                <a:latin typeface="Century Gothic"/>
                <a:ea typeface="AL-Mohanad Bold"/>
              </a:rPr>
              <a:t>: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عدم الاستفادة من القدرة الإنتاجية التي يتيحها استخدام الطرق الفنية و التكنولوجية الحديثة، كما يعني ضعف الأداء الاقتصادي لهذه البلدان، و يعني أيضاً عدم قدرتها على ضمان الحد الأدنى من الرفاهية المادية لغالبية السكان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ظاهرة تاريخية نتج عنها وضع اقتصادي واجتماعي متناقض، أفرز نمواً سكانياً سريعاً في ذات الوقت الذي عجز فيه عن تلبية حاجات النمو السكاني المتزايد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01680" indent="-240120" algn="r" rtl="1">
              <a:lnSpc>
                <a:spcPct val="8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توقف الكفاءات عن العمل، ويعود هذه بصورة أساسية إلى الحالة الاقتصادية للدولة، و الدولة المتخلفة هي تلك الدول تعمل اقتصادياتها بشكل تخسر فيه باستمرار فترات طويلة من السنين إضافة إلى الجهود الضائعة و الإمكانيات المفقودة 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تخلف..نظرة لتاريخ المفهوم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570400" cy="3538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2521080" cy="190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6" name="" descr=""/>
          <p:cNvPicPr/>
          <p:nvPr/>
        </p:nvPicPr>
        <p:blipFill>
          <a:blip r:embed="rId3"/>
          <a:stretch/>
        </p:blipFill>
        <p:spPr>
          <a:xfrm>
            <a:off x="3419640" y="2708280"/>
            <a:ext cx="4956120" cy="3613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684360" y="2349360"/>
            <a:ext cx="3036600" cy="255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5724360" y="2060640"/>
            <a:ext cx="2857680" cy="2857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صطلحات أخرى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4936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دول النامية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دول العالم الثالث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-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المجتمعات التقليد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مراحل انتقال المجتمعات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3" name="رابط مستقيم 4"/>
          <p:cNvSpPr/>
          <p:nvPr/>
        </p:nvSpPr>
        <p:spPr>
          <a:xfrm flipH="1" flipV="1">
            <a:off x="1642680" y="2499840"/>
            <a:ext cx="6286680" cy="180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رابط مستقيم 6"/>
          <p:cNvSpPr/>
          <p:nvPr/>
        </p:nvSpPr>
        <p:spPr>
          <a:xfrm flipH="1">
            <a:off x="79297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رابط مستقيم 8"/>
          <p:cNvSpPr/>
          <p:nvPr/>
        </p:nvSpPr>
        <p:spPr>
          <a:xfrm flipH="1">
            <a:off x="4714920" y="2500200"/>
            <a:ext cx="1440" cy="57168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رابط مستقيم 10"/>
          <p:cNvSpPr/>
          <p:nvPr/>
        </p:nvSpPr>
        <p:spPr>
          <a:xfrm flipH="1">
            <a:off x="1641600" y="2500200"/>
            <a:ext cx="1440" cy="500040"/>
          </a:xfrm>
          <a:prstGeom prst="line">
            <a:avLst/>
          </a:prstGeom>
          <a:ln w="9360">
            <a:solidFill>
              <a:srgbClr val="94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مربع نص 11"/>
          <p:cNvSpPr/>
          <p:nvPr/>
        </p:nvSpPr>
        <p:spPr>
          <a:xfrm>
            <a:off x="7143840" y="307188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تقليد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مربع نص 12"/>
          <p:cNvSpPr/>
          <p:nvPr/>
        </p:nvSpPr>
        <p:spPr>
          <a:xfrm>
            <a:off x="1071720" y="3000240"/>
            <a:ext cx="142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حديث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9" name="مربع نص 13"/>
          <p:cNvSpPr/>
          <p:nvPr/>
        </p:nvSpPr>
        <p:spPr>
          <a:xfrm>
            <a:off x="4000680" y="3071880"/>
            <a:ext cx="150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entury Gothic"/>
                <a:cs typeface="AL-Mohanad Bold"/>
              </a:rPr>
              <a:t>مجتمع انتقالي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867280" y="400536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3273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الفرق بين المجتمع التقليدي و المجتمع الحديث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042920" y="2324160"/>
          <a:ext cx="6777000" cy="3611520"/>
        </p:xfrm>
        <a:graphic>
          <a:graphicData uri="http://schemas.openxmlformats.org/drawingml/2006/table">
            <a:tbl>
              <a:tblPr/>
              <a:tblGrid>
                <a:gridCol w="3387960"/>
                <a:gridCol w="3389040"/>
              </a:tblGrid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حدي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Century Gothic"/>
                          <a:cs typeface="AL-Mohanad Bold"/>
                        </a:rPr>
                        <a:t>المجتمع التقلي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نفت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أم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صن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زراع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حديث أو متمد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بدائ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ديناميك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ثابت بلا تغيير أو تطوي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كافح الفرد للتغلب على المشاكل و يتسم بالطمو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يستسلم الفرد لمصائبه بلا مقاوم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مجتمع كك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الولاء للجماعة المحلي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4260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أفراده نشاط سيساي واقتصاد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لا يساهم أفراده في أوجه النشاط المختلف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368280"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عام أو الدو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lIns="75240" rIns="7524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Century Gothic"/>
                          <a:cs typeface="AL-Mohanad Bold"/>
                        </a:rPr>
                        <a:t>محل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75240" marR="752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نقد لمفهوم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35575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94c600"/>
                </a:solidFill>
                <a:latin typeface="Century Gothic"/>
                <a:cs typeface="AL-Mohanad Bold"/>
              </a:rPr>
              <a:t>تفسير التخلف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763280" y="206028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e3d2d"/>
                </a:solidFill>
                <a:latin typeface="Century Gothic"/>
                <a:ea typeface="AL-Mohanad Bold"/>
              </a:rPr>
              <a:t>1.</a:t>
            </a:r>
            <a:r>
              <a:rPr b="0" lang="ar-SA" sz="2400" spc="-1" strike="noStrike">
                <a:solidFill>
                  <a:srgbClr val="3e3d2d"/>
                </a:solidFill>
                <a:latin typeface="Century Gothic"/>
                <a:cs typeface="AL-Mohanad Bold"/>
              </a:rPr>
              <a:t>نظرية التخلف بسبب البيئة الجغرافية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عنصر نائب للمحتوى 2"/>
          <p:cNvSpPr/>
          <p:nvPr/>
        </p:nvSpPr>
        <p:spPr>
          <a:xfrm>
            <a:off x="1547640" y="4005360"/>
            <a:ext cx="677736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2732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643280" y="3284640"/>
            <a:ext cx="3132360" cy="21207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539640" y="4365720"/>
            <a:ext cx="3368880" cy="213336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3"/>
          <a:stretch/>
        </p:blipFill>
        <p:spPr>
          <a:xfrm>
            <a:off x="539640" y="2349360"/>
            <a:ext cx="35546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06:40:27Z</dcterms:created>
  <dc:creator>dell</dc:creator>
  <dc:description/>
  <dc:language>en-US</dc:language>
  <cp:lastModifiedBy>Eyad</cp:lastModifiedBy>
  <dcterms:modified xsi:type="dcterms:W3CDTF">2012-02-11T17:32:00Z</dcterms:modified>
  <cp:revision>18</cp:revision>
  <dc:subject/>
  <dc:title>الإعلام و التنمية علم 304</dc:title>
</cp:coreProperties>
</file>