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6.jpeg" ContentType="image/jpeg"/>
  <Override PartName="/ppt/media/image10.png" ContentType="image/png"/>
  <Override PartName="/ppt/media/image5.jpeg" ContentType="image/jpeg"/>
  <Override PartName="/ppt/media/image21.png" ContentType="image/pn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D67F2-854C-4E24-817D-88EE69A8E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4075A-6A8B-4867-A132-5B07B5754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43321-9504-426F-8D55-2EB553C46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97059-5CAC-4F2E-948F-62AFC6D79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C4DA6-4F17-4BA1-B135-39DEED91A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5D990-3793-4E37-8E3D-5E46A9F9B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4B488-A0EF-4AFC-8B53-0DCEBCDDB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2FB6D-A35F-4996-B470-A6FC72AF9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952CE-F336-4E37-AED6-B804B9413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7E103-8282-444F-89E0-A6AC8B199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56E51-7CBA-4AFE-A86F-3A6528D9E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EFE3A-2F06-41D2-82F9-1FE7C4D63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C3C40-582B-4EB1-AA5F-8F43DF448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34DF7-5E52-4BCF-898B-0BB830231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5E197-9D8D-47FE-B689-88848588F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81803-C7ED-4AD6-B8B1-6AE534087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73D78-668F-44FB-B59F-5568B5979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27900FC-5BAB-4F6D-A579-5008F134E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5082559-290C-46DA-80F8-6CC210194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56A5155-8DC5-4563-89D2-24009675C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F8B98CA-1203-4373-9C30-F5B169DB2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0879ECA-D655-41FB-AB6E-DD65C3EE9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B5D4F-0428-4132-9C48-17AF2B05C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7A1CA4E-CB93-4986-8A42-609A0B5D9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9B43D9B-48BB-4930-B790-4BE7C0D29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4E1ECE7-9D3C-4756-9FF5-9F67BDA56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5C29F3A-7FA5-4FAC-B537-8F422D362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B00C727-1836-4CCD-BF41-12D1C6556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54D5081-15EB-474D-9EA7-5F4E4942C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B47BC6D-6B0D-41BD-8130-86EFCD3F3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A7FEFC-131A-4FCB-99F6-9EB7F9E43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EC7B00-A335-47CF-A78F-743234092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74D68D-EFC6-4EBD-BC59-E741304B7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1188E-9D45-45FE-8EB7-FD9877927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8A43AD-CA73-4112-A61B-BE38BC9D5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0ACC32-1EC1-4AA8-B2A3-D10FC2DD5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A34557-858B-46BC-8F86-8FF8FE181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13576A-4C70-4A01-9996-DB786E4EA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B2C024-B766-4CC0-9A6C-093E93E3B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B90EEE-184A-4F31-A745-3223E08F9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FE1263-C87F-4937-8549-EBDFE8049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4D6AE6-E569-42DE-8D64-63BA981DD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D44D55-2E1A-44A5-BF8F-D52B0E4AD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34704-23C7-4A74-92C3-8A6861F29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66A19-4EE8-496E-B32C-E8F6530DC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9A72C-8BCE-4DBC-A5A2-9FC189751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73266-C299-4824-88AB-F7B8F25B5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65A73-559F-408B-B00E-6D13066A0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1"/>
          <p:cNvGrpSpPr/>
          <p:nvPr/>
        </p:nvGrpSpPr>
        <p:grpSpPr>
          <a:xfrm>
            <a:off x="-567360" y="0"/>
            <a:ext cx="10459080" cy="7116840"/>
            <a:chOff x="-567360" y="0"/>
            <a:chExt cx="10459080" cy="7116840"/>
          </a:xfrm>
        </p:grpSpPr>
        <p:grpSp>
          <p:nvGrpSpPr>
            <p:cNvPr id="1" name="Group 44"/>
            <p:cNvGrpSpPr/>
            <p:nvPr/>
          </p:nvGrpSpPr>
          <p:grpSpPr>
            <a:xfrm>
              <a:off x="77400" y="0"/>
              <a:ext cx="9144360" cy="6858000"/>
              <a:chOff x="77400" y="0"/>
              <a:chExt cx="914436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77400" y="0"/>
                <a:ext cx="2514600" cy="6858000"/>
                <a:chOff x="77400" y="0"/>
                <a:chExt cx="2514600" cy="6858000"/>
              </a:xfrm>
            </p:grpSpPr>
            <p:sp>
              <p:nvSpPr>
                <p:cNvPr id="3" name="Rectangle 112"/>
                <p:cNvSpPr/>
                <p:nvPr/>
              </p:nvSpPr>
              <p:spPr>
                <a:xfrm>
                  <a:off x="9918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4" name="Rectangle 2"/>
                <p:cNvSpPr/>
                <p:nvPr/>
              </p:nvSpPr>
              <p:spPr>
                <a:xfrm>
                  <a:off x="7740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5" name="Rectangle 3"/>
                <p:cNvSpPr/>
                <p:nvPr/>
              </p:nvSpPr>
              <p:spPr>
                <a:xfrm>
                  <a:off x="306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6" name="Group 5"/>
              <p:cNvGrpSpPr/>
              <p:nvPr/>
            </p:nvGrpSpPr>
            <p:grpSpPr>
              <a:xfrm>
                <a:off x="500040" y="0"/>
                <a:ext cx="2514600" cy="6858000"/>
                <a:chOff x="500040" y="0"/>
                <a:chExt cx="2514600" cy="6858000"/>
              </a:xfrm>
            </p:grpSpPr>
            <p:sp>
              <p:nvSpPr>
                <p:cNvPr id="7" name="Rectangle 109"/>
                <p:cNvSpPr/>
                <p:nvPr/>
              </p:nvSpPr>
              <p:spPr>
                <a:xfrm>
                  <a:off x="14144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" name="Rectangle 110"/>
                <p:cNvSpPr/>
                <p:nvPr/>
              </p:nvSpPr>
              <p:spPr>
                <a:xfrm>
                  <a:off x="5000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" name="Rectangle 111"/>
                <p:cNvSpPr/>
                <p:nvPr/>
              </p:nvSpPr>
              <p:spPr>
                <a:xfrm>
                  <a:off x="7286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0" name="Group 9"/>
              <p:cNvGrpSpPr/>
              <p:nvPr/>
            </p:nvGrpSpPr>
            <p:grpSpPr>
              <a:xfrm>
                <a:off x="6707160" y="0"/>
                <a:ext cx="2514600" cy="6858000"/>
                <a:chOff x="6707160" y="0"/>
                <a:chExt cx="2514600" cy="6858000"/>
              </a:xfrm>
            </p:grpSpPr>
            <p:sp>
              <p:nvSpPr>
                <p:cNvPr id="11" name="Rectangle 106"/>
                <p:cNvSpPr/>
                <p:nvPr/>
              </p:nvSpPr>
              <p:spPr>
                <a:xfrm rot="10800000">
                  <a:off x="67071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2" name="Rectangle 107"/>
                <p:cNvSpPr/>
                <p:nvPr/>
              </p:nvSpPr>
              <p:spPr>
                <a:xfrm rot="10800000">
                  <a:off x="87645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3" name="Rectangle 108"/>
                <p:cNvSpPr/>
                <p:nvPr/>
              </p:nvSpPr>
              <p:spPr>
                <a:xfrm rot="10800000">
                  <a:off x="82314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14" name="Rectangle 103"/>
              <p:cNvSpPr/>
              <p:nvPr/>
            </p:nvSpPr>
            <p:spPr>
              <a:xfrm>
                <a:off x="38876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5" name="Rectangle 104"/>
              <p:cNvSpPr/>
              <p:nvPr/>
            </p:nvSpPr>
            <p:spPr>
              <a:xfrm>
                <a:off x="29732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6" name="Rectangle 105"/>
              <p:cNvSpPr/>
              <p:nvPr/>
            </p:nvSpPr>
            <p:spPr>
              <a:xfrm>
                <a:off x="32018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7" name="Freeform 43"/>
            <p:cNvSpPr/>
            <p:nvPr/>
          </p:nvSpPr>
          <p:spPr>
            <a:xfrm>
              <a:off x="65520" y="5035320"/>
              <a:ext cx="9144720" cy="117540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" name="Freeform 44"/>
            <p:cNvSpPr/>
            <p:nvPr/>
          </p:nvSpPr>
          <p:spPr>
            <a:xfrm>
              <a:off x="65520" y="3467520"/>
              <a:ext cx="9144720" cy="89064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" name="Freeform 45"/>
            <p:cNvSpPr/>
            <p:nvPr/>
          </p:nvSpPr>
          <p:spPr>
            <a:xfrm>
              <a:off x="53640" y="5640840"/>
              <a:ext cx="300456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" name="Freeform 46"/>
            <p:cNvSpPr/>
            <p:nvPr/>
          </p:nvSpPr>
          <p:spPr>
            <a:xfrm>
              <a:off x="65520" y="5284440"/>
              <a:ext cx="9144720" cy="147852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" name="Freeform 48"/>
            <p:cNvSpPr/>
            <p:nvPr/>
          </p:nvSpPr>
          <p:spPr>
            <a:xfrm>
              <a:off x="2215080" y="5132160"/>
              <a:ext cx="6983280" cy="171972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" name="Hexagon 49"/>
            <p:cNvSpPr/>
            <p:nvPr/>
          </p:nvSpPr>
          <p:spPr>
            <a:xfrm rot="1800000">
              <a:off x="307368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" name="Hexagon 50"/>
            <p:cNvSpPr/>
            <p:nvPr/>
          </p:nvSpPr>
          <p:spPr>
            <a:xfrm rot="1800000">
              <a:off x="379800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4" name="Hexagon 51"/>
            <p:cNvSpPr/>
            <p:nvPr/>
          </p:nvSpPr>
          <p:spPr>
            <a:xfrm rot="1800000">
              <a:off x="3807360" y="15919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5" name="Hexagon 52"/>
            <p:cNvSpPr/>
            <p:nvPr/>
          </p:nvSpPr>
          <p:spPr>
            <a:xfrm rot="1800000">
              <a:off x="3054960" y="325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6" name="Hexagon 53"/>
            <p:cNvSpPr/>
            <p:nvPr/>
          </p:nvSpPr>
          <p:spPr>
            <a:xfrm rot="1800000">
              <a:off x="4541040" y="5383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" name="Freeform 54"/>
            <p:cNvSpPr/>
            <p:nvPr/>
          </p:nvSpPr>
          <p:spPr>
            <a:xfrm rot="1800000">
              <a:off x="-304560" y="4201200"/>
              <a:ext cx="1261440" cy="138816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" name="Hexagon 55"/>
            <p:cNvSpPr/>
            <p:nvPr/>
          </p:nvSpPr>
          <p:spPr>
            <a:xfrm rot="1800000">
              <a:off x="101880" y="54021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" name="Hexagon 56"/>
            <p:cNvSpPr/>
            <p:nvPr/>
          </p:nvSpPr>
          <p:spPr>
            <a:xfrm rot="1800000">
              <a:off x="130320" y="28494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0" name="Hexagon 57"/>
            <p:cNvSpPr/>
            <p:nvPr/>
          </p:nvSpPr>
          <p:spPr>
            <a:xfrm rot="1800000">
              <a:off x="85428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1" name="Hexagon 58"/>
            <p:cNvSpPr/>
            <p:nvPr/>
          </p:nvSpPr>
          <p:spPr>
            <a:xfrm rot="1800000">
              <a:off x="1587960" y="54115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2" name="Hexagon 59"/>
            <p:cNvSpPr/>
            <p:nvPr/>
          </p:nvSpPr>
          <p:spPr>
            <a:xfrm rot="1800000">
              <a:off x="160668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3" name="Hexagon 94"/>
            <p:cNvSpPr/>
            <p:nvPr/>
          </p:nvSpPr>
          <p:spPr>
            <a:xfrm rot="1800000">
              <a:off x="873360" y="1563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" name="Hexagon 95"/>
            <p:cNvSpPr/>
            <p:nvPr/>
          </p:nvSpPr>
          <p:spPr>
            <a:xfrm rot="1800000">
              <a:off x="6884280" y="41446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" name="Hexagon 96"/>
            <p:cNvSpPr/>
            <p:nvPr/>
          </p:nvSpPr>
          <p:spPr>
            <a:xfrm rot="1800000">
              <a:off x="7627320" y="542124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" name="Hexagon 97"/>
            <p:cNvSpPr/>
            <p:nvPr/>
          </p:nvSpPr>
          <p:spPr>
            <a:xfrm rot="1800000">
              <a:off x="7627320" y="2868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7" name="Freeform 98"/>
            <p:cNvSpPr/>
            <p:nvPr/>
          </p:nvSpPr>
          <p:spPr>
            <a:xfrm rot="1800000">
              <a:off x="8384400" y="4055760"/>
              <a:ext cx="1243440" cy="138816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8" name="Freeform 99"/>
            <p:cNvSpPr/>
            <p:nvPr/>
          </p:nvSpPr>
          <p:spPr>
            <a:xfrm rot="1800000">
              <a:off x="8385120" y="1511280"/>
              <a:ext cx="124200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39" name="Rectangle 65"/>
          <p:cNvSpPr/>
          <p:nvPr/>
        </p:nvSpPr>
        <p:spPr>
          <a:xfrm>
            <a:off x="457200" y="333360"/>
            <a:ext cx="8229600" cy="61866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Rectangle 69"/>
          <p:cNvSpPr/>
          <p:nvPr/>
        </p:nvSpPr>
        <p:spPr>
          <a:xfrm>
            <a:off x="4560840" y="-22320"/>
            <a:ext cx="3679920" cy="70020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" name="Rectangle 7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1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efefe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efefe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2"/>
          </p:nvPr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3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efefe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3FB75-7119-4E97-9912-B6365C286803}" type="slidenum">
              <a:rPr b="0" lang="ar-SA" sz="1200" spc="-1" strike="noStrike">
                <a:solidFill>
                  <a:srgbClr val="fefefe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Group 60"/>
          <p:cNvGrpSpPr/>
          <p:nvPr/>
        </p:nvGrpSpPr>
        <p:grpSpPr>
          <a:xfrm>
            <a:off x="-645120" y="0"/>
            <a:ext cx="10459080" cy="7116840"/>
            <a:chOff x="-645120" y="0"/>
            <a:chExt cx="10459080" cy="7116840"/>
          </a:xfrm>
        </p:grpSpPr>
        <p:grpSp>
          <p:nvGrpSpPr>
            <p:cNvPr id="84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85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86" name="Rectangle 120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7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8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89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90" name="Rectangle 117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1" name="Rectangle 118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2" name="Rectangle 119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93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94" name="Rectangle 93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5" name="Rectangle 115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6" name="Rectangle 116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97" name="Rectangle 90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98" name="Rectangle 91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99" name="Rectangle 92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00" name="Freeform 62"/>
            <p:cNvSpPr/>
            <p:nvPr/>
          </p:nvSpPr>
          <p:spPr>
            <a:xfrm>
              <a:off x="-11880" y="5035320"/>
              <a:ext cx="9144720" cy="117540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1" name="Freeform 63"/>
            <p:cNvSpPr/>
            <p:nvPr/>
          </p:nvSpPr>
          <p:spPr>
            <a:xfrm>
              <a:off x="-11880" y="3467520"/>
              <a:ext cx="9144720" cy="89064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2" name="Freeform 64"/>
            <p:cNvSpPr/>
            <p:nvPr/>
          </p:nvSpPr>
          <p:spPr>
            <a:xfrm>
              <a:off x="-23760" y="5640840"/>
              <a:ext cx="300456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3" name="Freeform 66"/>
            <p:cNvSpPr/>
            <p:nvPr/>
          </p:nvSpPr>
          <p:spPr>
            <a:xfrm>
              <a:off x="-11880" y="5284440"/>
              <a:ext cx="9144720" cy="147852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" name="Freeform 67"/>
            <p:cNvSpPr/>
            <p:nvPr/>
          </p:nvSpPr>
          <p:spPr>
            <a:xfrm>
              <a:off x="2137320" y="5132160"/>
              <a:ext cx="6983280" cy="171972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" name="Hexagon 68"/>
            <p:cNvSpPr/>
            <p:nvPr/>
          </p:nvSpPr>
          <p:spPr>
            <a:xfrm rot="1800000">
              <a:off x="299592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" name="Hexagon 71"/>
            <p:cNvSpPr/>
            <p:nvPr/>
          </p:nvSpPr>
          <p:spPr>
            <a:xfrm rot="1800000">
              <a:off x="372024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7" name="Hexagon 72"/>
            <p:cNvSpPr/>
            <p:nvPr/>
          </p:nvSpPr>
          <p:spPr>
            <a:xfrm rot="1800000">
              <a:off x="3729600" y="15919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8" name="Hexagon 73"/>
            <p:cNvSpPr/>
            <p:nvPr/>
          </p:nvSpPr>
          <p:spPr>
            <a:xfrm rot="1800000">
              <a:off x="2977200" y="325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9" name="Hexagon 74"/>
            <p:cNvSpPr/>
            <p:nvPr/>
          </p:nvSpPr>
          <p:spPr>
            <a:xfrm rot="1800000">
              <a:off x="4463280" y="5383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0" name="Freeform 75"/>
            <p:cNvSpPr/>
            <p:nvPr/>
          </p:nvSpPr>
          <p:spPr>
            <a:xfrm rot="1800000">
              <a:off x="-382320" y="4201200"/>
              <a:ext cx="1261440" cy="138816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" name="Hexagon 76"/>
            <p:cNvSpPr/>
            <p:nvPr/>
          </p:nvSpPr>
          <p:spPr>
            <a:xfrm rot="1800000">
              <a:off x="24120" y="54021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" name="Hexagon 77"/>
            <p:cNvSpPr/>
            <p:nvPr/>
          </p:nvSpPr>
          <p:spPr>
            <a:xfrm rot="1800000">
              <a:off x="52560" y="28494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3" name="Hexagon 78"/>
            <p:cNvSpPr/>
            <p:nvPr/>
          </p:nvSpPr>
          <p:spPr>
            <a:xfrm rot="1800000">
              <a:off x="77652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4" name="Hexagon 79"/>
            <p:cNvSpPr/>
            <p:nvPr/>
          </p:nvSpPr>
          <p:spPr>
            <a:xfrm rot="1800000">
              <a:off x="1510200" y="54115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5" name="Hexagon 80"/>
            <p:cNvSpPr/>
            <p:nvPr/>
          </p:nvSpPr>
          <p:spPr>
            <a:xfrm rot="1800000">
              <a:off x="152892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6" name="Hexagon 81"/>
            <p:cNvSpPr/>
            <p:nvPr/>
          </p:nvSpPr>
          <p:spPr>
            <a:xfrm rot="1800000">
              <a:off x="795600" y="1563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7" name="Hexagon 82"/>
            <p:cNvSpPr/>
            <p:nvPr/>
          </p:nvSpPr>
          <p:spPr>
            <a:xfrm rot="1800000">
              <a:off x="6806520" y="41446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8" name="Hexagon 83"/>
            <p:cNvSpPr/>
            <p:nvPr/>
          </p:nvSpPr>
          <p:spPr>
            <a:xfrm rot="1800000">
              <a:off x="7549560" y="542124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9" name="Hexagon 84"/>
            <p:cNvSpPr/>
            <p:nvPr/>
          </p:nvSpPr>
          <p:spPr>
            <a:xfrm rot="1800000">
              <a:off x="7549560" y="2868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0" name="Freeform 85"/>
            <p:cNvSpPr/>
            <p:nvPr/>
          </p:nvSpPr>
          <p:spPr>
            <a:xfrm rot="1800000">
              <a:off x="8306640" y="4055760"/>
              <a:ext cx="1243440" cy="138816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1" name="Freeform 86"/>
            <p:cNvSpPr/>
            <p:nvPr/>
          </p:nvSpPr>
          <p:spPr>
            <a:xfrm rot="1800000">
              <a:off x="8307360" y="1511280"/>
              <a:ext cx="124200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22" name="Rectangle 123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3" name="Rectangle 124"/>
          <p:cNvSpPr/>
          <p:nvPr/>
        </p:nvSpPr>
        <p:spPr>
          <a:xfrm>
            <a:off x="4649760" y="-22320"/>
            <a:ext cx="3505320" cy="231300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4" name="Rectangle 125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5" name="Rectangle 126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738320" y="1515960"/>
            <a:ext cx="213372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fefefe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efefe"/>
                </a:solidFill>
                <a:latin typeface="Times New Roman"/>
                <a:ea typeface="Arial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5303880" y="5719680"/>
            <a:ext cx="2830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4649760" y="5719680"/>
            <a:ext cx="642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94c600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5B992-4BBB-4E4D-A6C0-36D8B7B2BB6E}" type="slidenum">
              <a:rPr b="0" lang="ar-SA" sz="1200" spc="-1" strike="noStrike">
                <a:solidFill>
                  <a:srgbClr val="94c6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Group 60"/>
          <p:cNvGrpSpPr/>
          <p:nvPr/>
        </p:nvGrpSpPr>
        <p:grpSpPr>
          <a:xfrm>
            <a:off x="-645120" y="0"/>
            <a:ext cx="10459080" cy="7116840"/>
            <a:chOff x="-645120" y="0"/>
            <a:chExt cx="10459080" cy="7116840"/>
          </a:xfrm>
        </p:grpSpPr>
        <p:grpSp>
          <p:nvGrpSpPr>
            <p:cNvPr id="168" name="Group 61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169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170" name="Rectangle 120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1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2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73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174" name="Rectangle 117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5" name="Rectangle 118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6" name="Rectangle 119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77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178" name="Rectangle 93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9" name="Rectangle 115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80" name="Rectangle 116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181" name="Rectangle 90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82" name="Rectangle 91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83" name="Rectangle 92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84" name="Freeform 62"/>
            <p:cNvSpPr/>
            <p:nvPr/>
          </p:nvSpPr>
          <p:spPr>
            <a:xfrm>
              <a:off x="-11880" y="5035320"/>
              <a:ext cx="9144720" cy="117540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5" name="Freeform 63"/>
            <p:cNvSpPr/>
            <p:nvPr/>
          </p:nvSpPr>
          <p:spPr>
            <a:xfrm>
              <a:off x="-11880" y="3467520"/>
              <a:ext cx="9144720" cy="89064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6" name="Freeform 64"/>
            <p:cNvSpPr/>
            <p:nvPr/>
          </p:nvSpPr>
          <p:spPr>
            <a:xfrm>
              <a:off x="-23760" y="5640840"/>
              <a:ext cx="300456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7" name="Freeform 66"/>
            <p:cNvSpPr/>
            <p:nvPr/>
          </p:nvSpPr>
          <p:spPr>
            <a:xfrm>
              <a:off x="-11880" y="5284440"/>
              <a:ext cx="9144720" cy="147852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8" name="Freeform 67"/>
            <p:cNvSpPr/>
            <p:nvPr/>
          </p:nvSpPr>
          <p:spPr>
            <a:xfrm>
              <a:off x="2137320" y="5132160"/>
              <a:ext cx="6983280" cy="171972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9" name="Hexagon 68"/>
            <p:cNvSpPr/>
            <p:nvPr/>
          </p:nvSpPr>
          <p:spPr>
            <a:xfrm rot="1800000">
              <a:off x="299592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0" name="Hexagon 71"/>
            <p:cNvSpPr/>
            <p:nvPr/>
          </p:nvSpPr>
          <p:spPr>
            <a:xfrm rot="1800000">
              <a:off x="372024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1" name="Hexagon 72"/>
            <p:cNvSpPr/>
            <p:nvPr/>
          </p:nvSpPr>
          <p:spPr>
            <a:xfrm rot="1800000">
              <a:off x="3729600" y="15919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2" name="Hexagon 73"/>
            <p:cNvSpPr/>
            <p:nvPr/>
          </p:nvSpPr>
          <p:spPr>
            <a:xfrm rot="1800000">
              <a:off x="2977200" y="325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3" name="Hexagon 74"/>
            <p:cNvSpPr/>
            <p:nvPr/>
          </p:nvSpPr>
          <p:spPr>
            <a:xfrm rot="1800000">
              <a:off x="4463280" y="5383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4" name="Freeform 75"/>
            <p:cNvSpPr/>
            <p:nvPr/>
          </p:nvSpPr>
          <p:spPr>
            <a:xfrm rot="1800000">
              <a:off x="-382320" y="4201200"/>
              <a:ext cx="1261440" cy="138816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5" name="Hexagon 76"/>
            <p:cNvSpPr/>
            <p:nvPr/>
          </p:nvSpPr>
          <p:spPr>
            <a:xfrm rot="1800000">
              <a:off x="24120" y="54021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6" name="Hexagon 77"/>
            <p:cNvSpPr/>
            <p:nvPr/>
          </p:nvSpPr>
          <p:spPr>
            <a:xfrm rot="1800000">
              <a:off x="52560" y="28494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7" name="Hexagon 78"/>
            <p:cNvSpPr/>
            <p:nvPr/>
          </p:nvSpPr>
          <p:spPr>
            <a:xfrm rot="1800000">
              <a:off x="77652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8" name="Hexagon 79"/>
            <p:cNvSpPr/>
            <p:nvPr/>
          </p:nvSpPr>
          <p:spPr>
            <a:xfrm rot="1800000">
              <a:off x="1510200" y="54115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9" name="Hexagon 80"/>
            <p:cNvSpPr/>
            <p:nvPr/>
          </p:nvSpPr>
          <p:spPr>
            <a:xfrm rot="1800000">
              <a:off x="152892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0" name="Hexagon 81"/>
            <p:cNvSpPr/>
            <p:nvPr/>
          </p:nvSpPr>
          <p:spPr>
            <a:xfrm rot="1800000">
              <a:off x="795600" y="1563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1" name="Hexagon 82"/>
            <p:cNvSpPr/>
            <p:nvPr/>
          </p:nvSpPr>
          <p:spPr>
            <a:xfrm rot="1800000">
              <a:off x="6806520" y="41446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2" name="Hexagon 83"/>
            <p:cNvSpPr/>
            <p:nvPr/>
          </p:nvSpPr>
          <p:spPr>
            <a:xfrm rot="1800000">
              <a:off x="7549560" y="542124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3" name="Hexagon 84"/>
            <p:cNvSpPr/>
            <p:nvPr/>
          </p:nvSpPr>
          <p:spPr>
            <a:xfrm rot="1800000">
              <a:off x="7549560" y="2868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4" name="Freeform 85"/>
            <p:cNvSpPr/>
            <p:nvPr/>
          </p:nvSpPr>
          <p:spPr>
            <a:xfrm rot="1800000">
              <a:off x="8306640" y="4055760"/>
              <a:ext cx="1243440" cy="138816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5" name="Freeform 86"/>
            <p:cNvSpPr/>
            <p:nvPr/>
          </p:nvSpPr>
          <p:spPr>
            <a:xfrm rot="1800000">
              <a:off x="8307360" y="1511280"/>
              <a:ext cx="124200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06" name="Rectangle 123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7" name="Rectangle 124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8" name="Rectangle 125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9" name="Rectangle 126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7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efefe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efefe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sldNum" idx="8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efefe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66C8A-75E0-4E5E-8CFF-EAF9D84C916A}" type="slidenum">
              <a:rPr b="0" lang="ar-SA" sz="1200" spc="-1" strike="noStrike">
                <a:solidFill>
                  <a:srgbClr val="fefefe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ftr" idx="9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1" name="Group 60"/>
          <p:cNvGrpSpPr/>
          <p:nvPr/>
        </p:nvGrpSpPr>
        <p:grpSpPr>
          <a:xfrm>
            <a:off x="-645120" y="0"/>
            <a:ext cx="10459080" cy="7116840"/>
            <a:chOff x="-645120" y="0"/>
            <a:chExt cx="10459080" cy="7116840"/>
          </a:xfrm>
        </p:grpSpPr>
        <p:grpSp>
          <p:nvGrpSpPr>
            <p:cNvPr id="252" name="Group 61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253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254" name="Rectangle 120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55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56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257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258" name="Rectangle 117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59" name="Rectangle 118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60" name="Rectangle 119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261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262" name="Rectangle 93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63" name="Rectangle 115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64" name="Rectangle 116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265" name="Rectangle 90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266" name="Rectangle 91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267" name="Rectangle 92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268" name="Freeform 62"/>
            <p:cNvSpPr/>
            <p:nvPr/>
          </p:nvSpPr>
          <p:spPr>
            <a:xfrm>
              <a:off x="-11880" y="5035320"/>
              <a:ext cx="9144720" cy="117540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69" name="Freeform 63"/>
            <p:cNvSpPr/>
            <p:nvPr/>
          </p:nvSpPr>
          <p:spPr>
            <a:xfrm>
              <a:off x="-11880" y="3467520"/>
              <a:ext cx="9144720" cy="89064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0" name="Freeform 64"/>
            <p:cNvSpPr/>
            <p:nvPr/>
          </p:nvSpPr>
          <p:spPr>
            <a:xfrm>
              <a:off x="-23760" y="5640840"/>
              <a:ext cx="300456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1" name="Freeform 66"/>
            <p:cNvSpPr/>
            <p:nvPr/>
          </p:nvSpPr>
          <p:spPr>
            <a:xfrm>
              <a:off x="-11880" y="5284440"/>
              <a:ext cx="9144720" cy="147852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2" name="Freeform 67"/>
            <p:cNvSpPr/>
            <p:nvPr/>
          </p:nvSpPr>
          <p:spPr>
            <a:xfrm>
              <a:off x="2137320" y="5132160"/>
              <a:ext cx="6983280" cy="171972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3" name="Hexagon 68"/>
            <p:cNvSpPr/>
            <p:nvPr/>
          </p:nvSpPr>
          <p:spPr>
            <a:xfrm rot="1800000">
              <a:off x="299592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4" name="Hexagon 71"/>
            <p:cNvSpPr/>
            <p:nvPr/>
          </p:nvSpPr>
          <p:spPr>
            <a:xfrm rot="1800000">
              <a:off x="372024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5" name="Hexagon 72"/>
            <p:cNvSpPr/>
            <p:nvPr/>
          </p:nvSpPr>
          <p:spPr>
            <a:xfrm rot="1800000">
              <a:off x="3729600" y="15919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6" name="Hexagon 73"/>
            <p:cNvSpPr/>
            <p:nvPr/>
          </p:nvSpPr>
          <p:spPr>
            <a:xfrm rot="1800000">
              <a:off x="2977200" y="325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7" name="Hexagon 74"/>
            <p:cNvSpPr/>
            <p:nvPr/>
          </p:nvSpPr>
          <p:spPr>
            <a:xfrm rot="1800000">
              <a:off x="4463280" y="5383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8" name="Freeform 75"/>
            <p:cNvSpPr/>
            <p:nvPr/>
          </p:nvSpPr>
          <p:spPr>
            <a:xfrm rot="1800000">
              <a:off x="-382320" y="4201200"/>
              <a:ext cx="1261440" cy="138816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9" name="Hexagon 76"/>
            <p:cNvSpPr/>
            <p:nvPr/>
          </p:nvSpPr>
          <p:spPr>
            <a:xfrm rot="1800000">
              <a:off x="24120" y="54021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0" name="Hexagon 77"/>
            <p:cNvSpPr/>
            <p:nvPr/>
          </p:nvSpPr>
          <p:spPr>
            <a:xfrm rot="1800000">
              <a:off x="52560" y="28494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1" name="Hexagon 78"/>
            <p:cNvSpPr/>
            <p:nvPr/>
          </p:nvSpPr>
          <p:spPr>
            <a:xfrm rot="1800000">
              <a:off x="77652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2" name="Hexagon 79"/>
            <p:cNvSpPr/>
            <p:nvPr/>
          </p:nvSpPr>
          <p:spPr>
            <a:xfrm rot="1800000">
              <a:off x="1510200" y="54115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3" name="Hexagon 80"/>
            <p:cNvSpPr/>
            <p:nvPr/>
          </p:nvSpPr>
          <p:spPr>
            <a:xfrm rot="1800000">
              <a:off x="152892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4" name="Hexagon 81"/>
            <p:cNvSpPr/>
            <p:nvPr/>
          </p:nvSpPr>
          <p:spPr>
            <a:xfrm rot="1800000">
              <a:off x="795600" y="1563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5" name="Hexagon 82"/>
            <p:cNvSpPr/>
            <p:nvPr/>
          </p:nvSpPr>
          <p:spPr>
            <a:xfrm rot="1800000">
              <a:off x="6806520" y="41446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6" name="Hexagon 83"/>
            <p:cNvSpPr/>
            <p:nvPr/>
          </p:nvSpPr>
          <p:spPr>
            <a:xfrm rot="1800000">
              <a:off x="7549560" y="542124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7" name="Hexagon 84"/>
            <p:cNvSpPr/>
            <p:nvPr/>
          </p:nvSpPr>
          <p:spPr>
            <a:xfrm rot="1800000">
              <a:off x="7549560" y="2868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8" name="Freeform 85"/>
            <p:cNvSpPr/>
            <p:nvPr/>
          </p:nvSpPr>
          <p:spPr>
            <a:xfrm rot="1800000">
              <a:off x="8306640" y="4055760"/>
              <a:ext cx="1243440" cy="138816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9" name="Freeform 86"/>
            <p:cNvSpPr/>
            <p:nvPr/>
          </p:nvSpPr>
          <p:spPr>
            <a:xfrm rot="1800000">
              <a:off x="8307360" y="1511280"/>
              <a:ext cx="124200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90" name="Rectangle 123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1" name="Rectangle 124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2" name="Rectangle 125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1f1f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3" name="Rectangle 126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0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efefe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efefe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11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12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efefe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FBE3A-4DB2-4965-836A-3253475131EF}" type="slidenum">
              <a:rPr b="0" lang="ar-SA" sz="1200" spc="-1" strike="noStrike">
                <a:solidFill>
                  <a:srgbClr val="fefefe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733640" y="2707920"/>
            <a:ext cx="3313080" cy="170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94c600"/>
                </a:solidFill>
                <a:latin typeface="Century Gothic"/>
                <a:cs typeface="AL-Mohanad Bold"/>
              </a:rPr>
              <a:t>الإعلام و التنمية</a:t>
            </a:r>
            <a:br>
              <a:rPr sz="3600"/>
            </a:br>
            <a:r>
              <a:rPr b="0" lang="ar-SA" sz="3600" spc="-1" strike="noStrike">
                <a:solidFill>
                  <a:srgbClr val="94c600"/>
                </a:solidFill>
                <a:latin typeface="Century Gothic"/>
                <a:cs typeface="AL-Mohanad Bold"/>
              </a:rPr>
              <a:t>علم </a:t>
            </a:r>
            <a:r>
              <a:rPr b="0" lang="ar-SA" sz="3600" spc="-1" strike="noStrike">
                <a:solidFill>
                  <a:srgbClr val="94c600"/>
                </a:solidFill>
                <a:latin typeface="Century Gothic"/>
                <a:ea typeface="AL-Mohanad Bold"/>
              </a:rPr>
              <a:t>304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4716000" y="4436640"/>
            <a:ext cx="3310200" cy="12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424242"/>
                </a:solidFill>
                <a:latin typeface="Century Gothic"/>
                <a:cs typeface="AL-Mohanad Bold"/>
              </a:rPr>
              <a:t>العنصر الأول :التخلف</a:t>
            </a: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2.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نظرية التخلف بسبب البيئة الاجتماعية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 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: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1"/>
          <a:stretch/>
        </p:blipFill>
        <p:spPr>
          <a:xfrm>
            <a:off x="1547640" y="2997360"/>
            <a:ext cx="3600720" cy="27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1042560" y="2349360"/>
            <a:ext cx="6777000" cy="350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3.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نظريات التخلف بسبب الجنس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378" name="" descr=""/>
          <p:cNvPicPr/>
          <p:nvPr/>
        </p:nvPicPr>
        <p:blipFill>
          <a:blip r:embed="rId1"/>
          <a:stretch/>
        </p:blipFill>
        <p:spPr>
          <a:xfrm>
            <a:off x="1042920" y="2637000"/>
            <a:ext cx="3313080" cy="30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4.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التخلف بسبب الاستعمار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381" name="" descr=""/>
          <p:cNvPicPr/>
          <p:nvPr/>
        </p:nvPicPr>
        <p:blipFill>
          <a:blip r:embed="rId1"/>
          <a:stretch/>
        </p:blipFill>
        <p:spPr>
          <a:xfrm>
            <a:off x="1187280" y="2349360"/>
            <a:ext cx="2638440" cy="1733760"/>
          </a:xfrm>
          <a:prstGeom prst="rect">
            <a:avLst/>
          </a:prstGeom>
          <a:ln w="0">
            <a:noFill/>
          </a:ln>
        </p:spPr>
      </p:pic>
      <p:pic>
        <p:nvPicPr>
          <p:cNvPr id="382" name="" descr=""/>
          <p:cNvPicPr/>
          <p:nvPr/>
        </p:nvPicPr>
        <p:blipFill>
          <a:blip r:embed="rId2"/>
          <a:stretch/>
        </p:blipFill>
        <p:spPr>
          <a:xfrm>
            <a:off x="6156360" y="2997360"/>
            <a:ext cx="2038320" cy="1819080"/>
          </a:xfrm>
          <a:prstGeom prst="rect">
            <a:avLst/>
          </a:prstGeom>
          <a:ln w="0">
            <a:noFill/>
          </a:ln>
        </p:spPr>
      </p:pic>
      <p:pic>
        <p:nvPicPr>
          <p:cNvPr id="383" name="" descr=""/>
          <p:cNvPicPr/>
          <p:nvPr/>
        </p:nvPicPr>
        <p:blipFill>
          <a:blip r:embed="rId3"/>
          <a:stretch/>
        </p:blipFill>
        <p:spPr>
          <a:xfrm>
            <a:off x="3492360" y="4149720"/>
            <a:ext cx="2533680" cy="18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5.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التخلف بسبب العقيدة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1"/>
          <a:stretch/>
        </p:blipFill>
        <p:spPr>
          <a:xfrm>
            <a:off x="2484360" y="3141720"/>
            <a:ext cx="3816360" cy="25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1042560" y="2349360"/>
            <a:ext cx="6777000" cy="350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6.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التخلف بسبب الحلقات المفرغة و حواجز التقدم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389" name="" descr=""/>
          <p:cNvPicPr/>
          <p:nvPr/>
        </p:nvPicPr>
        <p:blipFill>
          <a:blip r:embed="rId1"/>
          <a:stretch/>
        </p:blipFill>
        <p:spPr>
          <a:xfrm>
            <a:off x="1042920" y="3716280"/>
            <a:ext cx="2143080" cy="2143080"/>
          </a:xfrm>
          <a:prstGeom prst="rect">
            <a:avLst/>
          </a:prstGeom>
          <a:ln w="0">
            <a:noFill/>
          </a:ln>
        </p:spPr>
      </p:pic>
      <p:sp>
        <p:nvSpPr>
          <p:cNvPr id="390" name=""/>
          <p:cNvSpPr/>
          <p:nvPr/>
        </p:nvSpPr>
        <p:spPr>
          <a:xfrm>
            <a:off x="3635280" y="3213000"/>
            <a:ext cx="4681800" cy="355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entury Gothic"/>
                <a:cs typeface="AL-Mohanad Bold"/>
              </a:rPr>
              <a:t>الحلقات  المفرغة</a:t>
            </a:r>
            <a:r>
              <a:rPr b="0" lang="ar-SA" sz="1800" spc="-1" strike="noStrike">
                <a:solidFill>
                  <a:srgbClr val="000000"/>
                </a:solidFill>
                <a:latin typeface="Century Gothic"/>
                <a:ea typeface="AL-Mohanad Bold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entury Gothic"/>
                <a:ea typeface="AL-Mohanad Bold"/>
              </a:rPr>
              <a:t>1.</a:t>
            </a:r>
            <a:r>
              <a:rPr b="0" lang="ar-SA" sz="1800" spc="-1" strike="noStrike">
                <a:solidFill>
                  <a:srgbClr val="000000"/>
                </a:solidFill>
                <a:latin typeface="Century Gothic"/>
                <a:cs typeface="AL-Mohanad Bold"/>
              </a:rPr>
              <a:t>الحلقة المفرغة للدخل المنخفض، والصحة، و كفاءة العمل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entury Gothic"/>
                <a:ea typeface="AL-Mohanad Bold"/>
              </a:rPr>
              <a:t>2.</a:t>
            </a:r>
            <a:r>
              <a:rPr b="0" lang="ar-SA" sz="1800" spc="-1" strike="noStrike">
                <a:solidFill>
                  <a:srgbClr val="000000"/>
                </a:solidFill>
                <a:latin typeface="Century Gothic"/>
                <a:cs typeface="AL-Mohanad Bold"/>
              </a:rPr>
              <a:t>الحلقة المفرغة للتجارة الدولية ، لصنف واحد ، و بلد واحد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entury Gothic"/>
                <a:ea typeface="AL-Mohanad Bold"/>
              </a:rPr>
              <a:t>3.</a:t>
            </a:r>
            <a:r>
              <a:rPr b="0" lang="ar-SA" sz="1800" spc="-1" strike="noStrike">
                <a:solidFill>
                  <a:srgbClr val="000000"/>
                </a:solidFill>
                <a:latin typeface="Century Gothic"/>
                <a:cs typeface="AL-Mohanad Bold"/>
              </a:rPr>
              <a:t>الحلقة المفرغة لرأس المال المنخفض، و قلة الإدخار و الاستثمار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entury Gothic"/>
                <a:ea typeface="AL-Mohanad Bold"/>
              </a:rPr>
              <a:t>4.</a:t>
            </a:r>
            <a:r>
              <a:rPr b="0" lang="ar-SA" sz="1800" spc="-1" strike="noStrike">
                <a:solidFill>
                  <a:srgbClr val="000000"/>
                </a:solidFill>
                <a:latin typeface="Century Gothic"/>
                <a:cs typeface="AL-Mohanad Bold"/>
              </a:rPr>
              <a:t>الحلقة المفرغة للإنفجار السكاني و الدخل المنخفض، والتنمية البسيطة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entury Gothic"/>
                <a:ea typeface="AL-Mohanad Bold"/>
              </a:rPr>
              <a:t>5.</a:t>
            </a:r>
            <a:r>
              <a:rPr b="0" lang="ar-SA" sz="1800" spc="-1" strike="noStrike">
                <a:solidFill>
                  <a:srgbClr val="000000"/>
                </a:solidFill>
                <a:latin typeface="Century Gothic"/>
                <a:cs typeface="AL-Mohanad Bold"/>
              </a:rPr>
              <a:t>الحلقة المفرغة للتعليم المنخفض، والأمية</a:t>
            </a:r>
            <a:r>
              <a:rPr b="0" lang="ar-SA" sz="1800" spc="-1" strike="noStrike">
                <a:solidFill>
                  <a:srgbClr val="000000"/>
                </a:solidFill>
                <a:latin typeface="Century Gothic"/>
                <a:ea typeface="AL-Mohanad Bold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Century Gothic"/>
                <a:ea typeface="AL-Mohanad Bold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1042560" y="2349360"/>
            <a:ext cx="6777000" cy="350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7.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التخلف بسبب نقص الثروات الطبيعية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393" name="" descr=""/>
          <p:cNvPicPr/>
          <p:nvPr/>
        </p:nvPicPr>
        <p:blipFill>
          <a:blip r:embed="rId1"/>
          <a:stretch/>
        </p:blipFill>
        <p:spPr>
          <a:xfrm>
            <a:off x="1042920" y="2852640"/>
            <a:ext cx="5715000" cy="35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1042560" y="2349360"/>
            <a:ext cx="6777000" cy="350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8.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التخلف بسبب انخفاض مستوى الفرد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396" name="" descr=""/>
          <p:cNvPicPr/>
          <p:nvPr/>
        </p:nvPicPr>
        <p:blipFill>
          <a:blip r:embed="rId1"/>
          <a:stretch/>
        </p:blipFill>
        <p:spPr>
          <a:xfrm>
            <a:off x="2268360" y="3068640"/>
            <a:ext cx="4727880" cy="28494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4360" y="620280"/>
            <a:ext cx="792000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 algn="r" rtl="1">
              <a:lnSpc>
                <a:spcPct val="80000"/>
              </a:lnSpc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لترتيب/الدولة/متوسط دخل الفرد الشهري (بالريال السعودي</a:t>
            </a:r>
            <a:r>
              <a:rPr b="0" lang="en-US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(</a:t>
            </a:r>
            <a:br>
              <a:rPr sz="2000"/>
            </a:br>
            <a:r>
              <a:rPr b="0" lang="en-US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1</a:t>
            </a:r>
            <a:r>
              <a:rPr b="0" lang="en-US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قطر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9000</a:t>
            </a:r>
            <a:br>
              <a:rPr sz="2000"/>
            </a:b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2</a:t>
            </a:r>
            <a:r>
              <a:rPr b="0" lang="en-US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الامارات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7500</a:t>
            </a:r>
            <a:br>
              <a:rPr sz="2000"/>
            </a:b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3</a:t>
            </a:r>
            <a:r>
              <a:rPr b="0" lang="en-US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الكويت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7000</a:t>
            </a:r>
            <a:br>
              <a:rPr sz="2000"/>
            </a:b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4</a:t>
            </a:r>
            <a:r>
              <a:rPr b="0" lang="en-US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البحرين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4500</a:t>
            </a:r>
            <a:br>
              <a:rPr sz="2000"/>
            </a:b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5</a:t>
            </a:r>
            <a:r>
              <a:rPr b="0" lang="en-US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السعودية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3100</a:t>
            </a:r>
            <a:br>
              <a:rPr sz="2000"/>
            </a:b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6</a:t>
            </a:r>
            <a:r>
              <a:rPr b="0" lang="en-US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عمان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2800</a:t>
            </a:r>
            <a:br>
              <a:rPr sz="2000"/>
            </a:b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7</a:t>
            </a:r>
            <a:r>
              <a:rPr b="0" lang="en-US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لبنان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1900</a:t>
            </a:r>
            <a:br>
              <a:rPr sz="2000"/>
            </a:b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8</a:t>
            </a:r>
            <a:r>
              <a:rPr b="0" lang="en-US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ليبيا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1400</a:t>
            </a:r>
            <a:br>
              <a:rPr sz="2000"/>
            </a:b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9</a:t>
            </a:r>
            <a:r>
              <a:rPr b="0" lang="en-US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تونس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850</a:t>
            </a:r>
            <a:br>
              <a:rPr sz="2000"/>
            </a:b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10</a:t>
            </a:r>
            <a:r>
              <a:rPr b="0" lang="en-US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الجزائر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750</a:t>
            </a:r>
            <a:br>
              <a:rPr sz="2000"/>
            </a:b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11</a:t>
            </a:r>
            <a:r>
              <a:rPr b="0" lang="en-US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الاردن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700</a:t>
            </a:r>
            <a:br>
              <a:rPr sz="2000"/>
            </a:b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12</a:t>
            </a:r>
            <a:r>
              <a:rPr b="0" lang="en-US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المغرب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500</a:t>
            </a:r>
            <a:br>
              <a:rPr sz="2000"/>
            </a:b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13</a:t>
            </a:r>
            <a:r>
              <a:rPr b="0" lang="en-US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مصر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400</a:t>
            </a:r>
            <a:br>
              <a:rPr sz="2000"/>
            </a:b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14</a:t>
            </a:r>
            <a:r>
              <a:rPr b="0" lang="en-US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سوريا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400</a:t>
            </a:r>
            <a:br>
              <a:rPr sz="2000"/>
            </a:b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15</a:t>
            </a:r>
            <a:r>
              <a:rPr b="0" lang="en-US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فلسطين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350</a:t>
            </a:r>
            <a:br>
              <a:rPr sz="2000"/>
            </a:b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16</a:t>
            </a:r>
            <a:r>
              <a:rPr b="0" lang="en-US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السودان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170</a:t>
            </a:r>
            <a:br>
              <a:rPr sz="2000"/>
            </a:b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17</a:t>
            </a:r>
            <a:r>
              <a:rPr b="0" lang="en-US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اليمن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170</a:t>
            </a:r>
            <a:br>
              <a:rPr sz="2000"/>
            </a:b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18</a:t>
            </a:r>
            <a:r>
              <a:rPr b="0" lang="en-US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موريتانيا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160</a:t>
            </a:r>
            <a:br>
              <a:rPr sz="2000"/>
            </a:b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19</a:t>
            </a:r>
            <a:r>
              <a:rPr b="0" lang="en-US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العراق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150</a:t>
            </a:r>
            <a:r>
              <a:rPr b="0" lang="en-US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20</a:t>
            </a:r>
            <a:r>
              <a:rPr b="0" lang="en-US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جيبوتي اقل من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150</a:t>
            </a:r>
            <a:br>
              <a:rPr sz="2000"/>
            </a:b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21</a:t>
            </a:r>
            <a:r>
              <a:rPr b="0" lang="en-US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الصومال اقل من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15</a:t>
            </a:r>
            <a:r>
              <a:rPr b="0" lang="en-US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0</a:t>
            </a:r>
            <a:r>
              <a:rPr b="0" lang="en-US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:</a:t>
            </a:r>
            <a:br>
              <a:rPr sz="2000"/>
            </a:br>
            <a:r>
              <a:rPr b="0" lang="en-U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042920" y="549000"/>
            <a:ext cx="7353360" cy="52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251280" algn="r" rtl="1">
              <a:lnSpc>
                <a:spcPct val="80000"/>
              </a:lnSpc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الدولة/متوسط دخل الفرد الشهري (بالريال السعودي</a:t>
            </a:r>
            <a:r>
              <a:rPr b="0" lang="en-US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(</a:t>
            </a:r>
            <a:br>
              <a:rPr sz="2000"/>
            </a:b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سويسرا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15600</a:t>
            </a:r>
            <a:br>
              <a:rPr sz="2000"/>
            </a:b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امريكا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13000</a:t>
            </a:r>
            <a:br>
              <a:rPr sz="2000"/>
            </a:b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الدنمارك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12800</a:t>
            </a:r>
            <a:br>
              <a:rPr sz="2000"/>
            </a:b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اليابان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11600</a:t>
            </a:r>
            <a:br>
              <a:rPr sz="2000"/>
            </a:b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السويد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11500</a:t>
            </a:r>
            <a:br>
              <a:rPr sz="2000"/>
            </a:b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ايرلندا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11000</a:t>
            </a:r>
            <a:br>
              <a:rPr sz="2000"/>
            </a:b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بريطانيا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10500</a:t>
            </a:r>
            <a:br>
              <a:rPr sz="2000"/>
            </a:b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هولندا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10000</a:t>
            </a:r>
            <a:br>
              <a:rPr sz="2000"/>
            </a:b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بلجيكا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9800</a:t>
            </a:r>
            <a:br>
              <a:rPr sz="2000"/>
            </a:b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المانيا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9600</a:t>
            </a:r>
            <a:br>
              <a:rPr sz="2000"/>
            </a:b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فرنسا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9500</a:t>
            </a:r>
            <a:br>
              <a:rPr sz="2000"/>
            </a:b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استراليا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8500</a:t>
            </a:r>
            <a:br>
              <a:rPr sz="2000"/>
            </a:b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ايطاليا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8200</a:t>
            </a:r>
            <a:br>
              <a:rPr sz="2000"/>
            </a:b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سنغافورة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7800</a:t>
            </a:r>
            <a:br>
              <a:rPr sz="2000"/>
            </a:b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اسبانيا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6800</a:t>
            </a:r>
            <a:br>
              <a:rPr sz="2000"/>
            </a:b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البرتغال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4500</a:t>
            </a:r>
            <a:br>
              <a:rPr sz="2000"/>
            </a:b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كوريا الجنوبية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4500</a:t>
            </a:r>
            <a:br>
              <a:rPr sz="2000"/>
            </a:b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ماليزيا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1500</a:t>
            </a:r>
            <a:br>
              <a:rPr sz="2000"/>
            </a:b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تركيا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1200</a:t>
            </a:r>
            <a:br>
              <a:rPr sz="2000"/>
            </a:b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جنوب افريقيا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1200</a:t>
            </a:r>
            <a:br>
              <a:rPr sz="2000"/>
            </a:b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روسيا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1100</a:t>
            </a:r>
            <a:br>
              <a:rPr sz="2000"/>
            </a:b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تايلند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800</a:t>
            </a:r>
            <a:r>
              <a:rPr b="0" lang="en-US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 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lvl="4" marL="1219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9.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تخلف طرائق الإنتاج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403" name="" descr=""/>
          <p:cNvPicPr/>
          <p:nvPr/>
        </p:nvPicPr>
        <p:blipFill>
          <a:blip r:embed="rId1"/>
          <a:stretch/>
        </p:blipFill>
        <p:spPr>
          <a:xfrm>
            <a:off x="2195640" y="2924280"/>
            <a:ext cx="4105080" cy="24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94c600"/>
                </a:solidFill>
                <a:latin typeface="Century Gothic"/>
                <a:cs typeface="AL-Mohanad Bold"/>
              </a:rPr>
              <a:t>المفهوم اللغوي للتخلف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2484360" y="2997360"/>
            <a:ext cx="3527640" cy="21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10.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الإزدواج الثقافي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406" name="" descr=""/>
          <p:cNvPicPr/>
          <p:nvPr/>
        </p:nvPicPr>
        <p:blipFill>
          <a:blip r:embed="rId1"/>
          <a:stretch/>
        </p:blipFill>
        <p:spPr>
          <a:xfrm>
            <a:off x="2843280" y="3141720"/>
            <a:ext cx="4032360" cy="273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12.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التبعية الاقتصادية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763640" y="2816280"/>
            <a:ext cx="4330800" cy="32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94c600"/>
                </a:solidFill>
                <a:latin typeface="Century Gothic"/>
                <a:cs typeface="AL-Mohanad Bold"/>
              </a:rPr>
              <a:t>مفهوم التخلف</a:t>
            </a:r>
            <a:r>
              <a:rPr b="0" lang="ar-SA" sz="4000" spc="-1" strike="noStrike">
                <a:solidFill>
                  <a:srgbClr val="94c600"/>
                </a:solidFill>
                <a:latin typeface="Century Gothic"/>
                <a:ea typeface="AL-Mohanad Bold"/>
              </a:rPr>
              <a:t> </a:t>
            </a:r>
            <a:r>
              <a:rPr b="0" lang="ar-SA" sz="4000" spc="-1" strike="noStrike">
                <a:solidFill>
                  <a:srgbClr val="94c600"/>
                </a:solidFill>
                <a:latin typeface="Century Gothic"/>
                <a:ea typeface="AL-Mohanad Bold"/>
              </a:rPr>
              <a:t>: 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240120" algn="r" rtl="1">
              <a:lnSpc>
                <a:spcPct val="8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عدم الاستفادة من القدرة الإنتاجية التي يتيحها استخدام الطرق الفنية و التكنولوجية الحديثة، كما يعني ضعف الأداء الاقتصادي لهذه البلدان، و يعني أيضاً عدم قدرتها على ضمان الحد الأدنى من الرفاهية المادية لغالبية السكان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01680" indent="-240120" algn="r" rtl="1">
              <a:lnSpc>
                <a:spcPct val="8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ظاهرة تاريخية نتج عنها وضع اقتصادي واجتماعي متناقض، أفرز نمواً سكانياً سريعاً في ذات الوقت الذي عجز فيه عن تلبية حاجات النمو السكاني المتزايد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01680" indent="-240120" algn="r" rtl="1">
              <a:lnSpc>
                <a:spcPct val="8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توقف الكفاءات عن العمل، ويعود هذه بصورة أساسية إلى الحالة الاقتصادية للدولة، و الدولة المتخلفة هي تلك الدول تعمل اقتصادياتها بشكل تخسر فيه باستمرار فترات طويلة من السنين إضافة إلى الجهود الضائعة و الإمكانيات المفقودة 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042560" y="105228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94c600"/>
                </a:solidFill>
                <a:latin typeface="Century Gothic"/>
                <a:cs typeface="AL-Mohanad Bold"/>
              </a:rPr>
              <a:t>التخلف..نظرة لتاريخ المفهوم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344" name="" descr=""/>
          <p:cNvPicPr/>
          <p:nvPr/>
        </p:nvPicPr>
        <p:blipFill>
          <a:blip r:embed="rId1"/>
          <a:stretch/>
        </p:blipFill>
        <p:spPr>
          <a:xfrm>
            <a:off x="539640" y="404640"/>
            <a:ext cx="2570400" cy="35388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345" name="" descr=""/>
          <p:cNvPicPr/>
          <p:nvPr/>
        </p:nvPicPr>
        <p:blipFill>
          <a:blip r:embed="rId2"/>
          <a:stretch/>
        </p:blipFill>
        <p:spPr>
          <a:xfrm>
            <a:off x="826920" y="4292640"/>
            <a:ext cx="2521080" cy="19000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346" name="" descr=""/>
          <p:cNvPicPr/>
          <p:nvPr/>
        </p:nvPicPr>
        <p:blipFill>
          <a:blip r:embed="rId3"/>
          <a:stretch/>
        </p:blipFill>
        <p:spPr>
          <a:xfrm>
            <a:off x="3419640" y="2708280"/>
            <a:ext cx="4956120" cy="36133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347" name="" descr=""/>
          <p:cNvPicPr/>
          <p:nvPr/>
        </p:nvPicPr>
        <p:blipFill>
          <a:blip r:embed="rId4"/>
          <a:stretch/>
        </p:blipFill>
        <p:spPr>
          <a:xfrm>
            <a:off x="684360" y="2349360"/>
            <a:ext cx="3036600" cy="25574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348" name="" descr=""/>
          <p:cNvPicPr/>
          <p:nvPr/>
        </p:nvPicPr>
        <p:blipFill>
          <a:blip r:embed="rId5"/>
          <a:stretch/>
        </p:blipFill>
        <p:spPr>
          <a:xfrm>
            <a:off x="5724360" y="2060640"/>
            <a:ext cx="2857680" cy="28573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042560" y="105228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94c600"/>
                </a:solidFill>
                <a:latin typeface="Century Gothic"/>
                <a:cs typeface="AL-Mohanad Bold"/>
              </a:rPr>
              <a:t>مصطلحات أخرى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1042560" y="2349360"/>
            <a:ext cx="6777000" cy="350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-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الدول النامية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-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دول العالم الثالث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-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المجتمعات التقليدية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94c600"/>
                </a:solidFill>
                <a:latin typeface="Century Gothic"/>
                <a:cs typeface="AL-Mohanad Bold"/>
              </a:rPr>
              <a:t>مراحل انتقال المجتمعات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53" name="رابط مستقيم 4"/>
          <p:cNvSpPr/>
          <p:nvPr/>
        </p:nvSpPr>
        <p:spPr>
          <a:xfrm flipH="1" flipV="1">
            <a:off x="1642680" y="2499840"/>
            <a:ext cx="6286680" cy="1800"/>
          </a:xfrm>
          <a:prstGeom prst="line">
            <a:avLst/>
          </a:prstGeom>
          <a:ln w="9360">
            <a:solidFill>
              <a:srgbClr val="94c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4" name="رابط مستقيم 6"/>
          <p:cNvSpPr/>
          <p:nvPr/>
        </p:nvSpPr>
        <p:spPr>
          <a:xfrm flipH="1">
            <a:off x="7929720" y="2500200"/>
            <a:ext cx="1440" cy="571680"/>
          </a:xfrm>
          <a:prstGeom prst="line">
            <a:avLst/>
          </a:prstGeom>
          <a:ln w="9360">
            <a:solidFill>
              <a:srgbClr val="94c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5" name="رابط مستقيم 8"/>
          <p:cNvSpPr/>
          <p:nvPr/>
        </p:nvSpPr>
        <p:spPr>
          <a:xfrm flipH="1">
            <a:off x="4714920" y="2500200"/>
            <a:ext cx="1440" cy="571680"/>
          </a:xfrm>
          <a:prstGeom prst="line">
            <a:avLst/>
          </a:prstGeom>
          <a:ln w="9360">
            <a:solidFill>
              <a:srgbClr val="94c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6" name="رابط مستقيم 10"/>
          <p:cNvSpPr/>
          <p:nvPr/>
        </p:nvSpPr>
        <p:spPr>
          <a:xfrm flipH="1">
            <a:off x="1641600" y="2500200"/>
            <a:ext cx="1440" cy="500040"/>
          </a:xfrm>
          <a:prstGeom prst="line">
            <a:avLst/>
          </a:prstGeom>
          <a:ln w="9360">
            <a:solidFill>
              <a:srgbClr val="94c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7" name="مربع نص 11"/>
          <p:cNvSpPr/>
          <p:nvPr/>
        </p:nvSpPr>
        <p:spPr>
          <a:xfrm>
            <a:off x="7143840" y="3071880"/>
            <a:ext cx="1428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entury Gothic"/>
                <a:cs typeface="AL-Mohanad Bold"/>
              </a:rPr>
              <a:t>مجتمع تقليدي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8" name="مربع نص 12"/>
          <p:cNvSpPr/>
          <p:nvPr/>
        </p:nvSpPr>
        <p:spPr>
          <a:xfrm>
            <a:off x="1071720" y="3000240"/>
            <a:ext cx="1428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entury Gothic"/>
                <a:cs typeface="AL-Mohanad Bold"/>
              </a:rPr>
              <a:t>مجتمع حديث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9" name="مربع نص 13"/>
          <p:cNvSpPr/>
          <p:nvPr/>
        </p:nvSpPr>
        <p:spPr>
          <a:xfrm>
            <a:off x="4000680" y="3071880"/>
            <a:ext cx="1500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entury Gothic"/>
                <a:cs typeface="AL-Mohanad Bold"/>
              </a:rPr>
              <a:t>مجتمع انتقالي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867280" y="4005360"/>
            <a:ext cx="2600280" cy="176220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1476360" y="3933720"/>
            <a:ext cx="327348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94c600"/>
                </a:solidFill>
                <a:latin typeface="Century Gothic"/>
                <a:cs typeface="AL-Mohanad Bold"/>
              </a:rPr>
              <a:t>الفرق بين المجتمع التقليدي و المجتمع الحديث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graphicFrame>
        <p:nvGraphicFramePr>
          <p:cNvPr id="363" name=""/>
          <p:cNvGraphicFramePr/>
          <p:nvPr/>
        </p:nvGraphicFramePr>
        <p:xfrm>
          <a:off x="1042920" y="2324160"/>
          <a:ext cx="6777000" cy="3611520"/>
        </p:xfrm>
        <a:graphic>
          <a:graphicData uri="http://schemas.openxmlformats.org/drawingml/2006/table">
            <a:tbl>
              <a:tblPr/>
              <a:tblGrid>
                <a:gridCol w="3387960"/>
                <a:gridCol w="3389040"/>
              </a:tblGrid>
              <a:tr h="368280">
                <a:tc>
                  <a:txBody>
                    <a:bodyPr lIns="75240" rIns="7524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Century Gothic"/>
                          <a:cs typeface="AL-Mohanad Bold"/>
                        </a:rPr>
                        <a:t>المجتمع الحديث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75240" marR="75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c600"/>
                    </a:solidFill>
                  </a:tcPr>
                </a:tc>
                <a:tc>
                  <a:txBody>
                    <a:bodyPr lIns="75240" rIns="7524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Century Gothic"/>
                          <a:cs typeface="AL-Mohanad Bold"/>
                        </a:rPr>
                        <a:t>المجتمع التقليدي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75240" marR="75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c600"/>
                    </a:solidFill>
                  </a:tcPr>
                </a:tc>
              </a:tr>
              <a:tr h="368280">
                <a:tc>
                  <a:txBody>
                    <a:bodyPr lIns="75240" rIns="7524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entury Gothic"/>
                          <a:cs typeface="AL-Mohanad Bold"/>
                        </a:rPr>
                        <a:t>منفت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75240" marR="75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75240" rIns="7524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entury Gothic"/>
                          <a:cs typeface="AL-Mohanad Bold"/>
                        </a:rPr>
                        <a:t>أمي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75240" marR="75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</a:tr>
              <a:tr h="368280">
                <a:tc>
                  <a:txBody>
                    <a:bodyPr lIns="75240" rIns="7524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entury Gothic"/>
                          <a:cs typeface="AL-Mohanad Bold"/>
                        </a:rPr>
                        <a:t>صناعي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75240" marR="75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lIns="75240" rIns="7524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entury Gothic"/>
                          <a:cs typeface="AL-Mohanad Bold"/>
                        </a:rPr>
                        <a:t>زراعي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75240" marR="75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</a:tr>
              <a:tr h="368280">
                <a:tc>
                  <a:txBody>
                    <a:bodyPr lIns="75240" rIns="7524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entury Gothic"/>
                          <a:cs typeface="AL-Mohanad Bold"/>
                        </a:rPr>
                        <a:t>حديث أو متمد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75240" marR="75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75240" rIns="7524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entury Gothic"/>
                          <a:cs typeface="AL-Mohanad Bold"/>
                        </a:rPr>
                        <a:t>بدائي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75240" marR="75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</a:tr>
              <a:tr h="368280">
                <a:tc>
                  <a:txBody>
                    <a:bodyPr lIns="75240" rIns="7524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entury Gothic"/>
                          <a:cs typeface="AL-Mohanad Bold"/>
                        </a:rPr>
                        <a:t>ديناميكي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75240" marR="75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lIns="75240" rIns="7524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entury Gothic"/>
                          <a:cs typeface="AL-Mohanad Bold"/>
                        </a:rPr>
                        <a:t>ثابت بلا تغيير أو تطوي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75240" marR="75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</a:tr>
              <a:tr h="642600">
                <a:tc>
                  <a:txBody>
                    <a:bodyPr lIns="75240" rIns="7524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entury Gothic"/>
                          <a:cs typeface="AL-Mohanad Bold"/>
                        </a:rPr>
                        <a:t>يكافح الفرد للتغلب على المشاكل و يتسم بالطمو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75240" marR="75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75240" rIns="7524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entury Gothic"/>
                          <a:cs typeface="AL-Mohanad Bold"/>
                        </a:rPr>
                        <a:t>يستسلم الفرد لمصائبه بلا مقاوم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75240" marR="75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</a:tr>
              <a:tr h="368280">
                <a:tc>
                  <a:txBody>
                    <a:bodyPr lIns="75240" rIns="7524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entury Gothic"/>
                          <a:cs typeface="AL-Mohanad Bold"/>
                        </a:rPr>
                        <a:t>الولاء للمجتمع كك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75240" marR="75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lIns="75240" rIns="7524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entury Gothic"/>
                          <a:cs typeface="AL-Mohanad Bold"/>
                        </a:rPr>
                        <a:t>الولاء للجماعة المحلي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75240" marR="75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</a:tr>
              <a:tr h="642600">
                <a:tc>
                  <a:txBody>
                    <a:bodyPr lIns="75240" rIns="7524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entury Gothic"/>
                          <a:cs typeface="AL-Mohanad Bold"/>
                        </a:rPr>
                        <a:t>لأفراده نشاط سيساي واقتصادي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75240" marR="75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75240" rIns="7524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entury Gothic"/>
                          <a:cs typeface="AL-Mohanad Bold"/>
                        </a:rPr>
                        <a:t>لا يساهم أفراده في أوجه النشاط المختلف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75240" marR="75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</a:tr>
              <a:tr h="368280">
                <a:tc>
                  <a:txBody>
                    <a:bodyPr lIns="75240" rIns="7524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entury Gothic"/>
                          <a:cs typeface="AL-Mohanad Bold"/>
                        </a:rPr>
                        <a:t>عام أو الدولي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75240" marR="75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lIns="75240" rIns="7524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entury Gothic"/>
                          <a:cs typeface="AL-Mohanad Bold"/>
                        </a:rPr>
                        <a:t>محلي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75240" marR="75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042560" y="105228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94c600"/>
                </a:solidFill>
                <a:latin typeface="Century Gothic"/>
                <a:cs typeface="AL-Mohanad Bold"/>
              </a:rPr>
              <a:t>نقد لمفهوم التخلف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1"/>
          <a:stretch/>
        </p:blipFill>
        <p:spPr>
          <a:xfrm>
            <a:off x="2556000" y="2565360"/>
            <a:ext cx="3557520" cy="29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042560" y="105228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94c600"/>
                </a:solidFill>
                <a:latin typeface="Century Gothic"/>
                <a:cs typeface="AL-Mohanad Bold"/>
              </a:rPr>
              <a:t>تفسير التخلف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1763280" y="206028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1.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نظرية التخلف بسبب البيئة الجغرافية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69" name="عنصر نائب للمحتوى 2"/>
          <p:cNvSpPr/>
          <p:nvPr/>
        </p:nvSpPr>
        <p:spPr>
          <a:xfrm>
            <a:off x="1547640" y="4005360"/>
            <a:ext cx="6777360" cy="35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27324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370" name="" descr=""/>
          <p:cNvPicPr/>
          <p:nvPr/>
        </p:nvPicPr>
        <p:blipFill>
          <a:blip r:embed="rId1"/>
          <a:stretch/>
        </p:blipFill>
        <p:spPr>
          <a:xfrm>
            <a:off x="4643280" y="3284640"/>
            <a:ext cx="3132360" cy="2120760"/>
          </a:xfrm>
          <a:prstGeom prst="rect">
            <a:avLst/>
          </a:prstGeom>
          <a:ln w="0">
            <a:noFill/>
          </a:ln>
        </p:spPr>
      </p:pic>
      <p:pic>
        <p:nvPicPr>
          <p:cNvPr id="371" name="" descr=""/>
          <p:cNvPicPr/>
          <p:nvPr/>
        </p:nvPicPr>
        <p:blipFill>
          <a:blip r:embed="rId2"/>
          <a:stretch/>
        </p:blipFill>
        <p:spPr>
          <a:xfrm>
            <a:off x="539640" y="4365720"/>
            <a:ext cx="3368880" cy="2133360"/>
          </a:xfrm>
          <a:prstGeom prst="rect">
            <a:avLst/>
          </a:prstGeom>
          <a:ln w="0">
            <a:noFill/>
          </a:ln>
        </p:spPr>
      </p:pic>
      <p:pic>
        <p:nvPicPr>
          <p:cNvPr id="372" name="" descr=""/>
          <p:cNvPicPr/>
          <p:nvPr/>
        </p:nvPicPr>
        <p:blipFill>
          <a:blip r:embed="rId3"/>
          <a:stretch/>
        </p:blipFill>
        <p:spPr>
          <a:xfrm>
            <a:off x="539640" y="2349360"/>
            <a:ext cx="3554640" cy="21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1T06:40:27Z</dcterms:created>
  <dc:creator>dell</dc:creator>
  <dc:description/>
  <dc:language>en-US</dc:language>
  <cp:lastModifiedBy>Eyad</cp:lastModifiedBy>
  <dcterms:modified xsi:type="dcterms:W3CDTF">2012-02-11T17:32:00Z</dcterms:modified>
  <cp:revision>18</cp:revision>
  <dc:subject/>
  <dc:title>الإعلام و التنمية علم 304</dc:title>
</cp:coreProperties>
</file>