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A204-2C03-4C26-813B-5DDC525F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2382-88D8-41AA-BDF8-4CB191B8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B10B-B25C-43B7-AE37-3BE358449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794F-A172-4A86-B1DF-483D3D98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6DF0-0A9A-43B2-A47F-A90BC11C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E034-6B5F-4351-BCCA-506E3FF88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D8A4-368A-4800-AF27-6749FDB3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4281-E23B-4AB7-888C-182F238B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2538-66BD-4E55-B7C8-EBDCB0A3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55C5-6C2B-4D29-922A-B4EB959C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376E2-459B-438E-88DE-E421D7C2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0BD-DA81-4FBE-911A-6619AEDBC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8B5F-1F28-4C88-B253-DDA8E3FC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9231-39F3-4A3B-88A0-A3152165A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BCE6-FE2E-4390-B652-BB1FEE15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6AA0-84B1-47CD-B297-AEBBAACDF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3678-A130-4FDA-BCF8-C5290FBE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A557B3-4566-4D06-A7B8-B260682DF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D8D0A4-EBF8-4346-8842-E1DC4DEF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9DF493-095C-41A0-8797-8F4D9EFC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8CE8C-DF0F-439C-ABE2-1ED085DB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F01D1-8B52-4AA1-9BC6-82B72673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C48F-C175-49D3-B126-0A8C9AA6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6DD2A-D898-40B0-91D0-20D06FFC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38963B-2616-43F2-AF80-6EDD102A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17198-F518-405D-A744-645E4357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95FDA-9A44-4CEB-B1A9-5A3D3430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FE1251-738A-4E81-8C43-6B3EDFB9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74A6F-71CC-4599-A8A1-FCC3FB45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94A7C-3F7C-4C07-9385-7C0CAE49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9EC94-5117-4F6A-99CF-E2CFEA88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49B67-B149-46F8-851B-CD8330FC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63A1A-B543-4FF6-87B2-D1E951B1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253F-4AFC-42CF-92DF-7521D413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F7F6E-9488-457C-AEF9-50A32D86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82449-C3D2-4F13-8F1F-DD7BD78D8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8B653-7094-4C56-BAFF-2B9BB247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1E94E-FB87-4EBA-830E-3F8E956F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24F8F-B0C1-4C85-BB7B-F453FF40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36BBC-6D83-44CB-85C9-188256C8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25399-119E-4479-B551-0EAA2CFE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16DA5-8911-4C69-A617-403A765A7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87E7A-AC73-43BF-ADBA-A89E7CD46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CF4B-21E2-412B-927B-AED15CA3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1B6-4264-46AD-B5B4-B19D5833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C0E-C9B2-42BA-BCF9-12F11F98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E795-6882-495C-BDC1-19410F92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4DD3-949A-4626-8118-759F74B4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31DE-2B5C-4986-9C07-F80EB315CE3C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0000-D926-41CB-8A7F-465510B5608A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5CEA-3DF0-448C-B135-485B1DEB963B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713B-83FD-46FC-A615-7979BFB09170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L-Mohanad Bold"/>
              </a:rPr>
              <a:t>العنصر الأول :التخلف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اجتماع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547640" y="2997360"/>
            <a:ext cx="3600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ات التخلف بسبب الجنس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33130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استعما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156360" y="2997360"/>
            <a:ext cx="2038320" cy="18190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533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عقيد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8163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حلقات المفرغة و حواجز التقد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042920" y="3716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635280" y="3213000"/>
            <a:ext cx="46818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ات  المفرغ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1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دخل المنخفض، والصحة، و كفاءة العمل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2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جارة الدولية ، لصنف واحد ، و بلد واحد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3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رأس المال المنخفض، و قلة الإدخار و الاستثمار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4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إنفجار السكاني و الدخل المنخفض، والتنمية البسيطة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5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عليم المنخفض، والأمي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نقص الثروات الطبي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57150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نخفاض مستوى الفر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727880" cy="2849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ترتيب/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قط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مارا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كوي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حر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عود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بن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يب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نس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زائ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رد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غرب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ص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ر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لسط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د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ريت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راق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يبوتي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صومال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920" y="549000"/>
            <a:ext cx="735336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25128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يسر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مر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نمارك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اب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ي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ر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ريط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و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لج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رنس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تر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ط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نغافور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ب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رتغال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وريا الجنوب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اليز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ك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نوب افريق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وس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ايلن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0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4" marL="121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خلف طرائق الإنتاج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1050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مفهوم اللغوي ل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35276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إزدواج الثقاف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40323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بعية الاقتص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763640" y="2816280"/>
            <a:ext cx="4330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التخلف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دم الاستفادة من القدرة الإنتاجية التي يتيحها استخدام الطرق الفنية و التكنولوجية الحديثة، كما يعني ضعف الأداء الاقتصادي لهذه البلدان، و يعني أيضاً عدم قدرتها على ضمان الحد الأدنى من الرفاهية المادية لغالبية السكان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ظاهرة تاريخية نتج عنها وضع اقتصادي واجتماعي متناقض، أفرز نمواً سكانياً سريعاً في ذات الوقت الذي عجز فيه عن تلبية حاجات النمو السكاني المتزايد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قف الكفاءات عن العمل، ويعود هذه بصورة أساسية إلى الحالة الاقتصادية للدولة، و الدولة المتخلفة هي تلك الدول تعمل اقتصادياتها بشكل تخسر فيه باستمرار فترات طويلة من السنين إضافة إلى الجهود الضائعة و الإمكانيات المفقودة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خلف..نظرة لتاريخ المفهوم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570400" cy="3538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521080" cy="190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419640" y="2708280"/>
            <a:ext cx="4956120" cy="3613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684360" y="2349360"/>
            <a:ext cx="3036600" cy="255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724360" y="2060640"/>
            <a:ext cx="2857680" cy="2857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صطلحات أخرى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 النام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دول العالم الثال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جتمعات التقلي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راحل انتقال المجتمعات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رابط مستقيم 4"/>
          <p:cNvSpPr/>
          <p:nvPr/>
        </p:nvSpPr>
        <p:spPr>
          <a:xfrm flipH="1" flipV="1">
            <a:off x="1642680" y="2499840"/>
            <a:ext cx="6286680" cy="180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رابط مستقيم 6"/>
          <p:cNvSpPr/>
          <p:nvPr/>
        </p:nvSpPr>
        <p:spPr>
          <a:xfrm flipH="1">
            <a:off x="79297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رابط مستقيم 8"/>
          <p:cNvSpPr/>
          <p:nvPr/>
        </p:nvSpPr>
        <p:spPr>
          <a:xfrm flipH="1">
            <a:off x="47149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رابط مستقيم 10"/>
          <p:cNvSpPr/>
          <p:nvPr/>
        </p:nvSpPr>
        <p:spPr>
          <a:xfrm flipH="1">
            <a:off x="1641600" y="2500200"/>
            <a:ext cx="1440" cy="50004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مربع نص 11"/>
          <p:cNvSpPr/>
          <p:nvPr/>
        </p:nvSpPr>
        <p:spPr>
          <a:xfrm>
            <a:off x="7143840" y="307188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تقليد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مربع نص 12"/>
          <p:cNvSpPr/>
          <p:nvPr/>
        </p:nvSpPr>
        <p:spPr>
          <a:xfrm>
            <a:off x="1071720" y="300024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حديث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مربع نص 13"/>
          <p:cNvSpPr/>
          <p:nvPr/>
        </p:nvSpPr>
        <p:spPr>
          <a:xfrm>
            <a:off x="4000680" y="307188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انتقال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3273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فرق بين المجتمع التقليدي و المجتمع الحديث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042920" y="2324160"/>
          <a:ext cx="6777000" cy="3611520"/>
        </p:xfrm>
        <a:graphic>
          <a:graphicData uri="http://schemas.openxmlformats.org/drawingml/2006/table">
            <a:tbl>
              <a:tblPr/>
              <a:tblGrid>
                <a:gridCol w="3387960"/>
                <a:gridCol w="3389040"/>
              </a:tblGrid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حدي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تقلي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نفت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أ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صن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زر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حديث أو متمد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بدائ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ديناميك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ثابت بلا تغيير أو تطو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كافح الفرد للتغلب على المشاكل و يتسم بالطمو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ستسلم الفرد لمصائبه بلا مقاو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مجتمع كك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جماعة المح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أفراده نشاط سيساي واقتصا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ا يساهم أفراده في أوجه النشاط المختل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عام أو الدو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ح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قد لمفهوم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3557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فسير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763280" y="206028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جغراف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عنصر نائب للمحتوى 2"/>
          <p:cNvSpPr/>
          <p:nvPr/>
        </p:nvSpPr>
        <p:spPr>
          <a:xfrm>
            <a:off x="1547640" y="4005360"/>
            <a:ext cx="677736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132360" cy="21207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3368880" cy="21333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539640" y="2349360"/>
            <a:ext cx="35546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Eyad</cp:lastModifiedBy>
  <dcterms:modified xsi:type="dcterms:W3CDTF">2012-02-11T17:32:00Z</dcterms:modified>
  <cp:revision>18</cp:revision>
  <dc:subject/>
  <dc:title>الإعلام و التنمية علم 304</dc:title>
</cp:coreProperties>
</file>