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1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92BD-A3AE-49B6-BBDF-71AF6407E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D6E9-A419-4ED9-8591-41D6716A7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B65A-B6BB-4814-B208-D3E5429DF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06A8-5F27-494B-9A50-DB835EAAB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D824C-276E-49AD-BDDB-6BC14886A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9812D-CA2F-4BA5-8AEC-7DA21D93E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28804-CC79-451C-9B8A-5C7C5DAAF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4A2F7-94BD-425A-A8BA-2458B314D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D8B0B-63AD-4854-912C-8E63CBFE7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4C05D-AA16-4EA5-BE97-D91E28D1A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1D4EA-D13F-4165-A67D-239E6FB55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D51A-D821-4DDC-AE56-2D2D2884A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164E8-950D-47E8-85B3-ED7E60F2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B166A-4129-44C1-B848-37FEA852A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7F76E-C970-4966-967B-0CD33A35A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866D8-3DC2-44C8-B762-78544AA1E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46806-91C1-4B19-A429-04C2B44FB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BB72D3-7B99-4D40-9D29-40BB789E0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83AEA5-7FF3-4A9F-9CE0-A73E6E408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246304-3FDD-4BD7-BDAF-2FD3AEEFF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D910BC-F4AF-4A51-BC48-DF84C4603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DE5016-17F8-44A0-9674-50267E182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C92C-036A-4EDF-8BF6-91BBE6FED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5763B7-CD11-4532-B3AD-9EA1ACE9B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5008E4-BE22-45C9-ADAD-09058A4AE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E4A227-ED2D-42D9-A34A-004C74460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46D0DB-9793-4BE1-AFF6-F687DCAD6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B9B043-0CE5-4054-98FA-C262BF1B2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7C5BAF-741C-4231-8545-9959BF515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CC5C8F-4F99-445B-BFE9-7064D2C92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DEA7C-69E5-4669-B131-30AC1E311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68CB8-3D72-4709-A03E-12644C01D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66009-CBC9-47CA-AEF3-82EAE66E7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385C-F830-48E9-803B-84F54C0D2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877C6-BD3F-4063-BA3C-EAB9B58D5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0F928-4134-4EA7-907A-F071ABD2A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94E0B6-3FA9-4B30-A7F5-5EB1C5166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8B826-E615-4F25-B866-E05546F5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E69DF-AD37-4165-B421-E5A6E63E5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BFE5C-1D2A-48BC-B010-543F0A5E4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AF16C-C41C-4A62-9E37-986CC7406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2254D-C4A1-4D36-881F-A4879FD2F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892DD-70D9-4BDD-AB24-55086E0BD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0D4C-8305-4E54-8D9F-45EDF828B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9A22-9D04-4A6F-9822-B43080EA5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F1D0-1F60-4E76-8D5D-49353E035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626A-8751-4D5D-8757-918E09A89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3691-4F61-4AB6-A980-AA059699D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080" cy="7116840"/>
            <a:chOff x="-567360" y="0"/>
            <a:chExt cx="10459080" cy="711684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552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552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552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508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3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800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736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496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4104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56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188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3032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428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796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6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336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28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32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32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440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efefe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1E93E-6302-4661-A9DD-FF56269E6594}" type="slidenum">
              <a:rPr b="0" lang="ar-SA" sz="1200" spc="-1" strike="noStrike">
                <a:solidFill>
                  <a:srgbClr val="fefefe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60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20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117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118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9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115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116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62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63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68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7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72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73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74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75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76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77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78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79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80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81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82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83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84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85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86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12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124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125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126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efefe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94c6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85603-1921-4339-9C3D-BF3FD45EED7E}" type="slidenum">
              <a:rPr b="0" lang="ar-SA" sz="1200" spc="-1" strike="noStrike">
                <a:solidFill>
                  <a:srgbClr val="94c6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60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168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120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117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118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119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115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116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62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63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64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66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67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68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7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72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73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74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75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76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77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78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79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80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81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82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83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84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85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86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12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124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125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126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efefe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1C556-0381-4237-958A-E7601C591AE1}" type="slidenum">
              <a:rPr b="0" lang="ar-SA" sz="1200" spc="-1" strike="noStrike">
                <a:solidFill>
                  <a:srgbClr val="fefefe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60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252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120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117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118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119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115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116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62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63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64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66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67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68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7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72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73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74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75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76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77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78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79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80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81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82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83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84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85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86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12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24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25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26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efefe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4E745-52FB-4291-8164-5355BF6B7250}" type="slidenum">
              <a:rPr b="0" lang="ar-SA" sz="1200" spc="-1" strike="noStrike">
                <a:solidFill>
                  <a:srgbClr val="fefefe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الإعلام و التنمية</a:t>
            </a:r>
            <a:br>
              <a:rPr sz="3600"/>
            </a:br>
            <a:r>
              <a:rPr b="0" lang="ar-SA" sz="36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علم </a:t>
            </a:r>
            <a:r>
              <a:rPr b="0" lang="ar-SA" sz="36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304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716000" y="4436640"/>
            <a:ext cx="331020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424242"/>
                </a:solidFill>
                <a:latin typeface="Century Gothic"/>
                <a:cs typeface="AL-Mohanad Bold"/>
              </a:rPr>
              <a:t>العنصر الأول :التخلف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2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نظرية التخلف بسبب البيئة الاجتماعية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1547640" y="2997360"/>
            <a:ext cx="360072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1042560" y="234936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3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نظريات التخلف بسبب الجنس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1042920" y="2637000"/>
            <a:ext cx="3313080" cy="30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4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خلف بسبب الاستعمار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1187280" y="2349360"/>
            <a:ext cx="2638440" cy="173376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2"/>
          <a:stretch/>
        </p:blipFill>
        <p:spPr>
          <a:xfrm>
            <a:off x="6156360" y="2997360"/>
            <a:ext cx="2038320" cy="181908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3"/>
          <a:stretch/>
        </p:blipFill>
        <p:spPr>
          <a:xfrm>
            <a:off x="3492360" y="4149720"/>
            <a:ext cx="253368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5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خلف بسبب العقيدة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2484360" y="3141720"/>
            <a:ext cx="381636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1042560" y="234936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6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خلف بسبب الحلقات المفرغة و حواجز التقدم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1042920" y="371628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3635280" y="3213000"/>
            <a:ext cx="4681800" cy="35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entury Gothic"/>
                <a:cs typeface="AL-Mohanad Bold"/>
              </a:rPr>
              <a:t>الحلقات  المفرغة</a:t>
            </a:r>
            <a:r>
              <a:rPr b="0" lang="ar-SA" sz="1800" spc="-1" strike="noStrike">
                <a:solidFill>
                  <a:srgbClr val="000000"/>
                </a:solidFill>
                <a:latin typeface="Century Gothic"/>
                <a:ea typeface="AL-Mohanad Bold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entury Gothic"/>
                <a:ea typeface="AL-Mohanad Bold"/>
              </a:rPr>
              <a:t>1.</a:t>
            </a:r>
            <a:r>
              <a:rPr b="0" lang="ar-SA" sz="1800" spc="-1" strike="noStrike">
                <a:solidFill>
                  <a:srgbClr val="000000"/>
                </a:solidFill>
                <a:latin typeface="Century Gothic"/>
                <a:cs typeface="AL-Mohanad Bold"/>
              </a:rPr>
              <a:t>الحلقة المفرغة للدخل المنخفض، والصحة، و كفاءة العمل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entury Gothic"/>
                <a:ea typeface="AL-Mohanad Bold"/>
              </a:rPr>
              <a:t>2.</a:t>
            </a:r>
            <a:r>
              <a:rPr b="0" lang="ar-SA" sz="1800" spc="-1" strike="noStrike">
                <a:solidFill>
                  <a:srgbClr val="000000"/>
                </a:solidFill>
                <a:latin typeface="Century Gothic"/>
                <a:cs typeface="AL-Mohanad Bold"/>
              </a:rPr>
              <a:t>الحلقة المفرغة للتجارة الدولية ، لصنف واحد ، و بلد واحد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entury Gothic"/>
                <a:ea typeface="AL-Mohanad Bold"/>
              </a:rPr>
              <a:t>3.</a:t>
            </a:r>
            <a:r>
              <a:rPr b="0" lang="ar-SA" sz="1800" spc="-1" strike="noStrike">
                <a:solidFill>
                  <a:srgbClr val="000000"/>
                </a:solidFill>
                <a:latin typeface="Century Gothic"/>
                <a:cs typeface="AL-Mohanad Bold"/>
              </a:rPr>
              <a:t>الحلقة المفرغة لرأس المال المنخفض، و قلة الإدخار و الاستثمار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entury Gothic"/>
                <a:ea typeface="AL-Mohanad Bold"/>
              </a:rPr>
              <a:t>4.</a:t>
            </a:r>
            <a:r>
              <a:rPr b="0" lang="ar-SA" sz="1800" spc="-1" strike="noStrike">
                <a:solidFill>
                  <a:srgbClr val="000000"/>
                </a:solidFill>
                <a:latin typeface="Century Gothic"/>
                <a:cs typeface="AL-Mohanad Bold"/>
              </a:rPr>
              <a:t>الحلقة المفرغة للإنفجار السكاني و الدخل المنخفض، والتنمية البسيطة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entury Gothic"/>
                <a:ea typeface="AL-Mohanad Bold"/>
              </a:rPr>
              <a:t>5.</a:t>
            </a:r>
            <a:r>
              <a:rPr b="0" lang="ar-SA" sz="1800" spc="-1" strike="noStrike">
                <a:solidFill>
                  <a:srgbClr val="000000"/>
                </a:solidFill>
                <a:latin typeface="Century Gothic"/>
                <a:cs typeface="AL-Mohanad Bold"/>
              </a:rPr>
              <a:t>الحلقة المفرغة للتعليم المنخفض، والأمية</a:t>
            </a:r>
            <a:r>
              <a:rPr b="0" lang="ar-SA" sz="1800" spc="-1" strike="noStrike">
                <a:solidFill>
                  <a:srgbClr val="000000"/>
                </a:solidFill>
                <a:latin typeface="Century Gothic"/>
                <a:ea typeface="AL-Mohanad Bold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entury Gothic"/>
                <a:ea typeface="AL-Mohanad Bold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1042560" y="234936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7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خلف بسبب نقص الثروات الطبيعية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1042920" y="2852640"/>
            <a:ext cx="571500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1042560" y="234936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8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خلف بسبب انخفاض مستوى الفرد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2268360" y="3068640"/>
            <a:ext cx="4727880" cy="2849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4360" y="620280"/>
            <a:ext cx="79200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 algn="r" rtl="1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لترتيب/الدولة/متوسط دخل الفرد الشهري (بالريال السعودي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(</a:t>
            </a:r>
            <a:br>
              <a:rPr sz="2000"/>
            </a:b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قطر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90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2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امارات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75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3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كويت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70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4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بحرين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45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5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سعودية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31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6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عمان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28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7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لبنان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9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8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ليبي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4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9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ونس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85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0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جزائر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75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1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اردن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7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2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مغرب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5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3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مصر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4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4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سوري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4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5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فلسطين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35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6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سودان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7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7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يمن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7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8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موريتاني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6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9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عراق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50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20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جيبوتي اقل من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5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21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صومال اقل من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5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0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042920" y="549000"/>
            <a:ext cx="735336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251280" algn="r" rtl="1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دولة/متوسط دخل الفرد الشهري (بالريال السعودي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(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سويسر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56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مريك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30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دنمارك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28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يابان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16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سويد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15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يرلند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10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بريطاني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05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هولند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00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بلجيك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98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ماني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96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فرنس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95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سترالي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85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يطالي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82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سنغافورة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78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سباني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68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برتغال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45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كوريا الجنوبية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45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ماليزي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5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ركي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2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جنوب افريقي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2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روسي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1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ايلند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800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4" marL="121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9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خلف طرائق الإنتاج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2195640" y="2924280"/>
            <a:ext cx="410508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المفهوم اللغوي للتخلف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2484360" y="2997360"/>
            <a:ext cx="352764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0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إزدواج الثقافي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2843280" y="3141720"/>
            <a:ext cx="403236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2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بعية الاقتصادية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763640" y="2816280"/>
            <a:ext cx="433080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مفهوم التخلف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 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: 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240120" algn="r" rtl="1">
              <a:lnSpc>
                <a:spcPct val="8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عدم الاستفادة من القدرة الإنتاجية التي يتيحها استخدام الطرق الفنية و التكنولوجية الحديثة، كما يعني ضعف الأداء الاقتصادي لهذه البلدان، و يعني أيضاً عدم قدرتها على ضمان الحد الأدنى من الرفاهية المادية لغالبية السكان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01680" indent="-240120" algn="r" rtl="1">
              <a:lnSpc>
                <a:spcPct val="8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ظاهرة تاريخية نتج عنها وضع اقتصادي واجتماعي متناقض، أفرز نمواً سكانياً سريعاً في ذات الوقت الذي عجز فيه عن تلبية حاجات النمو السكاني المتزايد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01680" indent="-240120" algn="r" rtl="1">
              <a:lnSpc>
                <a:spcPct val="8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وقف الكفاءات عن العمل، ويعود هذه بصورة أساسية إلى الحالة الاقتصادية للدولة، و الدولة المتخلفة هي تلك الدول تعمل اقتصادياتها بشكل تخسر فيه باستمرار فترات طويلة من السنين إضافة إلى الجهود الضائعة و الإمكانيات المفقودة 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42560" y="105228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التخلف..نظرة لتاريخ المفهوم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2570400" cy="3538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826920" y="4292640"/>
            <a:ext cx="2521080" cy="1900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346" name="" descr=""/>
          <p:cNvPicPr/>
          <p:nvPr/>
        </p:nvPicPr>
        <p:blipFill>
          <a:blip r:embed="rId3"/>
          <a:stretch/>
        </p:blipFill>
        <p:spPr>
          <a:xfrm>
            <a:off x="3419640" y="2708280"/>
            <a:ext cx="4956120" cy="3613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347" name="" descr=""/>
          <p:cNvPicPr/>
          <p:nvPr/>
        </p:nvPicPr>
        <p:blipFill>
          <a:blip r:embed="rId4"/>
          <a:stretch/>
        </p:blipFill>
        <p:spPr>
          <a:xfrm>
            <a:off x="684360" y="2349360"/>
            <a:ext cx="3036600" cy="2557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348" name="" descr=""/>
          <p:cNvPicPr/>
          <p:nvPr/>
        </p:nvPicPr>
        <p:blipFill>
          <a:blip r:embed="rId5"/>
          <a:stretch/>
        </p:blipFill>
        <p:spPr>
          <a:xfrm>
            <a:off x="5724360" y="2060640"/>
            <a:ext cx="2857680" cy="2857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42560" y="105228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مصطلحات أخرى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042560" y="234936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دول النامية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دول العالم الثالث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مجتمعات التقليدية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مراحل انتقال المجتمعات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3" name="رابط مستقيم 4"/>
          <p:cNvSpPr/>
          <p:nvPr/>
        </p:nvSpPr>
        <p:spPr>
          <a:xfrm flipH="1" flipV="1">
            <a:off x="1642680" y="2499840"/>
            <a:ext cx="6286680" cy="1800"/>
          </a:xfrm>
          <a:prstGeom prst="line">
            <a:avLst/>
          </a:prstGeom>
          <a:ln w="936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4" name="رابط مستقيم 6"/>
          <p:cNvSpPr/>
          <p:nvPr/>
        </p:nvSpPr>
        <p:spPr>
          <a:xfrm flipH="1">
            <a:off x="7929720" y="2500200"/>
            <a:ext cx="1440" cy="571680"/>
          </a:xfrm>
          <a:prstGeom prst="line">
            <a:avLst/>
          </a:prstGeom>
          <a:ln w="936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5" name="رابط مستقيم 8"/>
          <p:cNvSpPr/>
          <p:nvPr/>
        </p:nvSpPr>
        <p:spPr>
          <a:xfrm flipH="1">
            <a:off x="4714920" y="2500200"/>
            <a:ext cx="1440" cy="571680"/>
          </a:xfrm>
          <a:prstGeom prst="line">
            <a:avLst/>
          </a:prstGeom>
          <a:ln w="936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6" name="رابط مستقيم 10"/>
          <p:cNvSpPr/>
          <p:nvPr/>
        </p:nvSpPr>
        <p:spPr>
          <a:xfrm flipH="1">
            <a:off x="1641600" y="2500200"/>
            <a:ext cx="1440" cy="500040"/>
          </a:xfrm>
          <a:prstGeom prst="line">
            <a:avLst/>
          </a:prstGeom>
          <a:ln w="936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7" name="مربع نص 11"/>
          <p:cNvSpPr/>
          <p:nvPr/>
        </p:nvSpPr>
        <p:spPr>
          <a:xfrm>
            <a:off x="7143840" y="3071880"/>
            <a:ext cx="1428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entury Gothic"/>
                <a:cs typeface="AL-Mohanad Bold"/>
              </a:rPr>
              <a:t>مجتمع تقليدي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8" name="مربع نص 12"/>
          <p:cNvSpPr/>
          <p:nvPr/>
        </p:nvSpPr>
        <p:spPr>
          <a:xfrm>
            <a:off x="1071720" y="3000240"/>
            <a:ext cx="142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entury Gothic"/>
                <a:cs typeface="AL-Mohanad Bold"/>
              </a:rPr>
              <a:t>مجتمع حديث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9" name="مربع نص 13"/>
          <p:cNvSpPr/>
          <p:nvPr/>
        </p:nvSpPr>
        <p:spPr>
          <a:xfrm>
            <a:off x="4000680" y="3071880"/>
            <a:ext cx="150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entury Gothic"/>
                <a:cs typeface="AL-Mohanad Bold"/>
              </a:rPr>
              <a:t>مجتمع انتقالي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867280" y="4005360"/>
            <a:ext cx="2600280" cy="176220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1476360" y="3933720"/>
            <a:ext cx="32734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الفرق بين المجتمع التقليدي و المجتمع الحديث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1042920" y="2324160"/>
          <a:ext cx="6777000" cy="3611520"/>
        </p:xfrm>
        <a:graphic>
          <a:graphicData uri="http://schemas.openxmlformats.org/drawingml/2006/table">
            <a:tbl>
              <a:tblPr/>
              <a:tblGrid>
                <a:gridCol w="3387960"/>
                <a:gridCol w="3389040"/>
              </a:tblGrid>
              <a:tr h="368280"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entury Gothic"/>
                          <a:cs typeface="AL-Mohanad Bold"/>
                        </a:rPr>
                        <a:t>المجتمع الحدي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entury Gothic"/>
                          <a:cs typeface="AL-Mohanad Bold"/>
                        </a:rPr>
                        <a:t>المجتمع التقليد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368280"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منفت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أم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68280"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صناع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زراع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368280"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حديث أو متمد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بدائ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68280"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ديناميك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ثابت بلا تغيير أو تطوي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642600"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يكافح الفرد للتغلب على المشاكل و يتسم بالطمو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يستسلم الفرد لمصائبه بلا مقاوم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68280"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الولاء للمجتمع كك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الولاء للجماعة المحلي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642600"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لأفراده نشاط سيساي واقتصاد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لا يساهم أفراده في أوجه النشاط المختلف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68280"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عام أو الدول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محل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42560" y="105228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نقد لمفهوم التخلف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2556000" y="2565360"/>
            <a:ext cx="355752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042560" y="105228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تفسير التخلف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1763280" y="206028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نظرية التخلف بسبب البيئة الجغرافية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9" name="عنصر نائب للمحتوى 2"/>
          <p:cNvSpPr/>
          <p:nvPr/>
        </p:nvSpPr>
        <p:spPr>
          <a:xfrm>
            <a:off x="1547640" y="4005360"/>
            <a:ext cx="677736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4643280" y="3284640"/>
            <a:ext cx="3132360" cy="212076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539640" y="4365720"/>
            <a:ext cx="3368880" cy="213336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3"/>
          <a:stretch/>
        </p:blipFill>
        <p:spPr>
          <a:xfrm>
            <a:off x="539640" y="2349360"/>
            <a:ext cx="3554640" cy="21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06:40:27Z</dcterms:created>
  <dc:creator>dell</dc:creator>
  <dc:description/>
  <dc:language>en-US</dc:language>
  <cp:lastModifiedBy>Eyad</cp:lastModifiedBy>
  <dcterms:modified xsi:type="dcterms:W3CDTF">2012-02-11T17:32:00Z</dcterms:modified>
  <cp:revision>18</cp:revision>
  <dc:subject/>
  <dc:title>الإعلام و التنمية علم 304</dc:title>
</cp:coreProperties>
</file>