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2FB-2403-4FAD-8FF3-BFE46105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232-BED7-4D59-9924-0A7CCA12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E71-BD26-4D37-96A9-6F95C6DF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6AB-140E-46AC-A0A2-9F29A664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74A-5172-4226-81E5-A30BAAB1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4FA4-9146-4848-9B24-2EBE3F0D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BBFF-6068-48E6-A86F-73D25AD8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4924-505F-45DF-969C-E66E3EF4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9032-7331-4541-9504-C30A7740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DF40-0462-46F9-ABB8-D7ECE474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1137-74C4-4821-BB1A-0A6E07D7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601-86D1-4E04-BA7E-BCB53A15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21D3-075D-44AD-953C-FD827B9E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50B9-FD02-4E5D-8C58-9BE1304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1A9E-19B5-456E-98B8-F82EE4E8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AEB6-CE36-4CC3-A933-D8584253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4D81-75E3-4F77-BF6C-952E44FE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C549D-53DC-43D3-B3C4-19C3C0D8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2CC09-2D07-4B97-9381-688F97D8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E8609-D62A-4DA3-9BB8-AB6BE7CE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AEFCF-327F-469E-AA05-A266EAC8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FE87D-561E-4CC4-9746-EC7EFE63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BBD-0E36-4E26-8772-F381A7CF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01A3B-18C8-4AE1-81F1-39E69DFD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404E5-9390-464C-AD7D-D3195DD4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F32E3-2BFC-4BB9-9FBF-73A3D86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C453A-1EF2-4609-8ED8-B0896331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0164E-389B-4090-9E34-ADF77106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E3749-E229-42E5-8169-139E495E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04E0F-0F90-4D9D-98B7-B08F03EB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18E47-074B-4B48-9577-0F65CA88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4E84-59C7-4BEE-9A35-EAC6688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2CBB5-4891-4A44-AAA0-F00914E3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B93-9884-4308-B06D-B835A55D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E55F4-9E5E-449E-826B-C6275A12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ED72B-FD2B-487C-B1BA-0ACB08EB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3F64-438A-41DE-98AE-CDCCFEFB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2434F-DCC3-4FFC-A80D-3264DF55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4FDA-F8CE-44E0-A850-0A802CD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558BB-489F-455B-A2E8-93B1FE7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155C5-37AB-4F68-9424-0E6C10A2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7C0FC-49E4-47A0-BD6D-31234414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78DF-1AC7-4A1C-B0B1-F1288039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F64-FA10-4FA0-AF41-E28578C3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E1D-3062-4F72-9461-A8DD409D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30F-1D52-4936-9A8A-49D65663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926-0F7B-45AB-9330-1C2A2648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103-FAA4-4AF8-BE03-1E502C54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5FDC-84A8-43C7-A65E-0808BECC4BA2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9344-7B27-4242-87BB-CFEF7C0715FA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C65-94A3-4F65-8BFB-E1FDB8E69659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202B-EC4B-4D11-B4E6-EA7465C18882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L-Mohanad Bold"/>
              </a:rPr>
              <a:t>العنصر الأول :التخلف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اجتماع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ات التخلف بسبب الجنس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3130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استعما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038320" cy="1819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عقيد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حلقات المفرغة و حواجز التقد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35280" y="3213000"/>
            <a:ext cx="46818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ات  المفرغ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1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دخل المنخفض، والصحة، و كفاءة العم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2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جارة الدولية ، لصنف واحد ، و بلد واح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3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رأس المال المنخفض، و قلة الإدخار و الاستثمار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4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إنفجار السكاني و الدخل المنخفض، والتنمية البسيط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5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عليم المنخفض، والأمي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نقص الثروات الطبي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5715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نخفاض مستوى الفر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727880" cy="284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ترتيب/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قط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مارا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كوي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حر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عود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بن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يب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نس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زائ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رد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غرب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ص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ر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لسط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د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ريت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راق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يبوتي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صومال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549000"/>
            <a:ext cx="735336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25128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يسر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مر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نمارك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اب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ي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ر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ريط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و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لج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رنس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تر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ط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نغافور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ب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رتغال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وريا الجنوب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اليز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ك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نوب افريق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وس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ايلن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0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خلف طرائق الإنتاج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105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مفهوم اللغوي ل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527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إزدواج الثقاف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4032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بعية الاقتص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763640" y="281628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التخلف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دم الاستفادة من القدرة الإنتاجية التي يتيحها استخدام الطرق الفنية و التكنولوجية الحديثة، كما يعني ضعف الأداء الاقتصادي لهذه البلدان، و يعني أيضاً عدم قدرتها على ضمان الحد الأدنى من الرفاهية المادية لغالبية السكان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ظاهرة تاريخية نتج عنها وضع اقتصادي واجتماعي متناقض، أفرز نمواً سكانياً سريعاً في ذات الوقت الذي عجز فيه عن تلبية حاجات النمو السكاني المتزايد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قف الكفاءات عن العمل، ويعود هذه بصورة أساسية إلى الحالة الاقتصادية للدولة، و الدولة المتخلفة هي تلك الدول تعمل اقتصادياتها بشكل تخسر فيه باستمرار فترات طويلة من السنين إضافة إلى الجهود الضائعة و الإمكانيات المفقود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خلف..نظرة لتاريخ المفهوم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70400" cy="353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521080" cy="190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4956120" cy="361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0366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724360" y="2060640"/>
            <a:ext cx="2857680" cy="28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صطلحات أخرى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 النام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دول العالم الثال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جتمعات التقلي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راحل انتقال المجتمع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رابط مستقيم 4"/>
          <p:cNvSpPr/>
          <p:nvPr/>
        </p:nvSpPr>
        <p:spPr>
          <a:xfrm flipH="1" flipV="1">
            <a:off x="1642680" y="2499840"/>
            <a:ext cx="6286680" cy="180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رابط مستقيم 6"/>
          <p:cNvSpPr/>
          <p:nvPr/>
        </p:nvSpPr>
        <p:spPr>
          <a:xfrm flipH="1">
            <a:off x="79297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رابط مستقيم 8"/>
          <p:cNvSpPr/>
          <p:nvPr/>
        </p:nvSpPr>
        <p:spPr>
          <a:xfrm flipH="1">
            <a:off x="47149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رابط مستقيم 10"/>
          <p:cNvSpPr/>
          <p:nvPr/>
        </p:nvSpPr>
        <p:spPr>
          <a:xfrm flipH="1">
            <a:off x="1641600" y="2500200"/>
            <a:ext cx="1440" cy="50004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مربع نص 11"/>
          <p:cNvSpPr/>
          <p:nvPr/>
        </p:nvSpPr>
        <p:spPr>
          <a:xfrm>
            <a:off x="7143840" y="307188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تقليد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مربع نص 12"/>
          <p:cNvSpPr/>
          <p:nvPr/>
        </p:nvSpPr>
        <p:spPr>
          <a:xfrm>
            <a:off x="1071720" y="300024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حديث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مربع نص 13"/>
          <p:cNvSpPr/>
          <p:nvPr/>
        </p:nvSpPr>
        <p:spPr>
          <a:xfrm>
            <a:off x="400068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انتقال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27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فرق بين المجتمع التقليدي و المجتمع الحديث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2324160"/>
          <a:ext cx="6777000" cy="3611520"/>
        </p:xfrm>
        <a:graphic>
          <a:graphicData uri="http://schemas.openxmlformats.org/drawingml/2006/table">
            <a:tbl>
              <a:tblPr/>
              <a:tblGrid>
                <a:gridCol w="3387960"/>
                <a:gridCol w="338904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تقلي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نفت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أ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صن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زر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حديث أو متمد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بد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دينامي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ثابت بلا تغيير أو تط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كافح الفرد للتغلب على المشاكل و يتسم بال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ستسلم الفرد لمصائبه بلا مقاو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مجتمع كك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جماعة المح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أفراده نشاط سيساي واقتص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ا يساهم أفراده في أوجه النشاط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عام أو الدو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ح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قد لمفهوم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557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فسير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63280" y="206028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جغراف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عنصر نائب للمحتوى 2"/>
          <p:cNvSpPr/>
          <p:nvPr/>
        </p:nvSpPr>
        <p:spPr>
          <a:xfrm>
            <a:off x="1547640" y="4005360"/>
            <a:ext cx="6777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3368880" cy="2133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3554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Eyad</cp:lastModifiedBy>
  <dcterms:modified xsi:type="dcterms:W3CDTF">2012-02-11T17:32:00Z</dcterms:modified>
  <cp:revision>18</cp:revision>
  <dc:subject/>
  <dc:title>الإعلام و التنمية علم 304</dc:title>
</cp:coreProperties>
</file>