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CFC2-764A-4254-B342-4973DCD1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FF34-47DF-4490-8B7B-75E82F9D6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FE83-1256-449F-8D38-7F3052A6D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4BC1-9457-4123-9103-F14269D4F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3B08-DA34-4808-8EA0-FA4C1A38A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4FDA-5004-4A3A-8F1A-1FD9A706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6ACD-2C97-4BA0-8620-04DF7825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F250-90EA-47C8-B329-F5F78188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3716-BCF7-4F52-A4D8-57457AA3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8263-0215-4612-BFAA-D59D2A12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26CF-4E5A-43CF-A5BE-38D07344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4BCE-37BE-4919-A757-D19625BD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4666-0AC7-4B04-9AC3-EF1AA19B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39E2-2658-4AC8-A70B-92F7F2BB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C4BD2-0F3F-47E1-ABA4-59288D5D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3768-BF5B-43E8-B60B-E7AF804E1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6908-4C58-4FE0-85A9-6B2CE670E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50F5DF-869D-44CB-BBE1-EDF011D4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EC8513-5E4E-4833-8EF7-1A4BE285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E2ECB3-8A3B-48F4-9214-A7092414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467920-4079-499C-AABA-2370E6CF1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693B37-D8D0-4CC8-A0B3-4C1710A5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7BC3-DF8B-4ADA-8246-042720AF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E9768C-D8D9-46AE-BFB5-2710A6BF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13B1DC-7B5A-491B-888B-9C920C65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BD8E66-CB8F-4087-94CE-B31802D6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09D2B1-0F0C-4574-9D76-BD12317A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4E5B54-DFBC-4AC0-975E-4B4F7226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7C295F-4F53-42AF-B056-7311FB13D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A55A05-97BF-4D79-B582-1CDC73F01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F76CE-E947-4E21-BC39-13219237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61395-B1AB-41C1-BDD9-43708A2D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7D3A7-DA83-4C2F-8207-734CFA01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9899-20CC-4AE4-83F2-DD0151CD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54D2D-E684-4AA3-A01C-33D9455B7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F662E-4536-4D90-9B90-A99D1CC9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7BC7E-8252-45C6-91C6-F7C1683BD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4F1EF-6D8C-4B16-A835-273FD8B8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CA3C0-6236-4119-99C1-31B8B75F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61A82-6E11-4DF4-B60F-B8B42EF3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0E164-B443-4B89-98BF-6721654D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9DD63-8BC3-4AE8-94CE-6029F8F83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3C8A7-0066-4A57-8F97-D3498B248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027B-DEB5-4DE2-A03B-BE5F44AA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0043-D68C-451A-A710-D068FF0E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4DF6-DB02-4130-B19A-F747F474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E772-A4FF-4F9E-B5E6-1EDCEF24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275F-0584-4C79-9909-0CE43A72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A6D7-952D-4EC1-B91F-BE4C975065FB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4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5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4c6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59D6-E073-40ED-877B-41D4A1488F2F}" type="slidenum">
              <a:rPr b="0" lang="ar-SA" sz="1200" spc="-1" strike="noStrike">
                <a:solidFill>
                  <a:srgbClr val="94c6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2685C-7744-4905-B0B8-09D9C461FA5A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4DFF-82C2-4EF6-8BB3-6054F543CD30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إعلام و التنمية</a:t>
            </a:r>
            <a:br>
              <a:rPr sz="3600"/>
            </a:b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علم </a:t>
            </a:r>
            <a:r>
              <a:rPr b="0" lang="ar-SA" sz="36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304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16000" y="4436640"/>
            <a:ext cx="331020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24242"/>
                </a:solidFill>
                <a:latin typeface="Century Gothic"/>
                <a:cs typeface="AL-Mohanad Bold"/>
              </a:rPr>
              <a:t>العنصر الأول :التخلف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التخلف بسبب البيئة الاجتماعي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547640" y="2997360"/>
            <a:ext cx="36007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ات التخلف بسبب الجنس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042920" y="2637000"/>
            <a:ext cx="33130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الاستعمار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187280" y="2349360"/>
            <a:ext cx="2638440" cy="173376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6156360" y="2997360"/>
            <a:ext cx="2038320" cy="181908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3492360" y="4149720"/>
            <a:ext cx="25336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العقيد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81636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الحلقات المفرغة و حواجز التقدم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042920" y="37162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3635280" y="3213000"/>
            <a:ext cx="468180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ات  المفرغة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1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لدخل المنخفض، والصحة، و كفاءة العمل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2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لتجارة الدولية ، لصنف واحد ، و بلد واحد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3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رأس المال المنخفض، و قلة الإدخار و الاستثمار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4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لإنفجار السكاني و الدخل المنخفض، والتنمية البسيطة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5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لتعليم المنخفض، والأمية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نقص الثروات الطبيع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57150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انخفاض مستوى الفرد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727880" cy="2849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4360" y="620280"/>
            <a:ext cx="7920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لترتيب/الدولة/متوسط دخل الفرد الشهري (بالريال السعودي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(</a:t>
            </a:r>
            <a:br>
              <a:rPr sz="2000"/>
            </a:b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قطر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امارات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كويت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بحري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سعودية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1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عما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لبنا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9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ليب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4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ونس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5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جزائر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5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ارد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غرب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3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صر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4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ور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فلسطي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5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6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سودا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7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7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يم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7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8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وريتان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6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9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عراق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جيبوتي اقل م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1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صومال اقل م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920" y="549000"/>
            <a:ext cx="735336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251280" algn="r" rtl="1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دولة/متوسط دخل الفرد الشهري (بالريال السعودي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(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ويسر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6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مريك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3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دنمارك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يابا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6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سويد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يرلند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ريطان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هولند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لجيك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ان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6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فرنس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سترال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يطال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2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نغافورة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سبان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برتغال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كوريا الجنوبية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اليز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رك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جنوب افريق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روس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ايلند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0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4" marL="121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خلف طرائق الإنتاج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2195640" y="2924280"/>
            <a:ext cx="410508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مفهوم اللغوي للتخلف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2484360" y="2997360"/>
            <a:ext cx="35276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إزدواج الثقافي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2843280" y="3141720"/>
            <a:ext cx="403236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بعية الاقتصاد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763640" y="2816280"/>
            <a:ext cx="43308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فهوم التخلف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240120" algn="r" rtl="1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عدم الاستفادة من القدرة الإنتاجية التي يتيحها استخدام الطرق الفنية و التكنولوجية الحديثة، كما يعني ضعف الأداء الاقتصادي لهذه البلدان، و يعني أيضاً عدم قدرتها على ضمان الحد الأدنى من الرفاهية المادية لغالبية السكان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01680" indent="-240120" algn="r" rtl="1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ظاهرة تاريخية نتج عنها وضع اقتصادي واجتماعي متناقض، أفرز نمواً سكانياً سريعاً في ذات الوقت الذي عجز فيه عن تلبية حاجات النمو السكاني المتزايد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01680" indent="-240120" algn="r" rtl="1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وقف الكفاءات عن العمل، ويعود هذه بصورة أساسية إلى الحالة الاقتصادية للدولة، و الدولة المتخلفة هي تلك الدول تعمل اقتصادياتها بشكل تخسر فيه باستمرار فترات طويلة من السنين إضافة إلى الجهود الضائعة و الإمكانيات المفقودة 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تخلف..نظرة لتاريخ المفهوم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570400" cy="3538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826920" y="4292640"/>
            <a:ext cx="2521080" cy="1900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3419640" y="2708280"/>
            <a:ext cx="4956120" cy="3613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684360" y="2349360"/>
            <a:ext cx="3036600" cy="2557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5724360" y="2060640"/>
            <a:ext cx="2857680" cy="2857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صطلحات أخرى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دول النامي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دول العالم الثالث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جتمعات التقليد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راحل انتقال المجتمعات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3" name="رابط مستقيم 4"/>
          <p:cNvSpPr/>
          <p:nvPr/>
        </p:nvSpPr>
        <p:spPr>
          <a:xfrm flipH="1" flipV="1">
            <a:off x="1642680" y="2499840"/>
            <a:ext cx="6286680" cy="180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رابط مستقيم 6"/>
          <p:cNvSpPr/>
          <p:nvPr/>
        </p:nvSpPr>
        <p:spPr>
          <a:xfrm flipH="1">
            <a:off x="7929720" y="2500200"/>
            <a:ext cx="1440" cy="57168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رابط مستقيم 8"/>
          <p:cNvSpPr/>
          <p:nvPr/>
        </p:nvSpPr>
        <p:spPr>
          <a:xfrm flipH="1">
            <a:off x="4714920" y="2500200"/>
            <a:ext cx="1440" cy="57168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رابط مستقيم 10"/>
          <p:cNvSpPr/>
          <p:nvPr/>
        </p:nvSpPr>
        <p:spPr>
          <a:xfrm flipH="1">
            <a:off x="1641600" y="2500200"/>
            <a:ext cx="1440" cy="50004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مربع نص 11"/>
          <p:cNvSpPr/>
          <p:nvPr/>
        </p:nvSpPr>
        <p:spPr>
          <a:xfrm>
            <a:off x="7143840" y="3071880"/>
            <a:ext cx="142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مجتمع تقليدي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مربع نص 12"/>
          <p:cNvSpPr/>
          <p:nvPr/>
        </p:nvSpPr>
        <p:spPr>
          <a:xfrm>
            <a:off x="1071720" y="3000240"/>
            <a:ext cx="142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مجتمع حديث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مربع نص 13"/>
          <p:cNvSpPr/>
          <p:nvPr/>
        </p:nvSpPr>
        <p:spPr>
          <a:xfrm>
            <a:off x="4000680" y="307188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مجتمع انتقالي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867280" y="4005360"/>
            <a:ext cx="2600280" cy="17622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1476360" y="3933720"/>
            <a:ext cx="3273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فرق بين المجتمع التقليدي و المجتمع الحديث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042920" y="2324160"/>
          <a:ext cx="6777000" cy="3611520"/>
        </p:xfrm>
        <a:graphic>
          <a:graphicData uri="http://schemas.openxmlformats.org/drawingml/2006/table">
            <a:tbl>
              <a:tblPr/>
              <a:tblGrid>
                <a:gridCol w="3387960"/>
                <a:gridCol w="3389040"/>
              </a:tblGrid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entury Gothic"/>
                          <a:cs typeface="AL-Mohanad Bold"/>
                        </a:rPr>
                        <a:t>المجتمع الحدي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entury Gothic"/>
                          <a:cs typeface="AL-Mohanad Bold"/>
                        </a:rPr>
                        <a:t>المجتمع التقليد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منفت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أم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صناع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زراع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حديث أو متمد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بدائ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ديناميك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ثابت بلا تغيير أو تطوي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4260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يكافح الفرد للتغلب على المشاكل و يتسم بالطمو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يستسلم الفرد لمصائبه بلا مقاوم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الولاء للمجتمع كك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الولاء للجماعة المحل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4260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لأفراده نشاط سيساي واقتصاد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لا يساهم أفراده في أوجه النشاط المختلف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عام أو الدول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محل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نقد لمفهوم التخلف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556000" y="2565360"/>
            <a:ext cx="35575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تفسير التخلف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763280" y="206028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التخلف بسبب البيئة الجغراف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9" name="عنصر نائب للمحتوى 2"/>
          <p:cNvSpPr/>
          <p:nvPr/>
        </p:nvSpPr>
        <p:spPr>
          <a:xfrm>
            <a:off x="1547640" y="4005360"/>
            <a:ext cx="677736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4643280" y="3284640"/>
            <a:ext cx="3132360" cy="212076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539640" y="4365720"/>
            <a:ext cx="3368880" cy="213336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539640" y="2349360"/>
            <a:ext cx="35546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06:40:27Z</dcterms:created>
  <dc:creator>dell</dc:creator>
  <dc:description/>
  <dc:language>en-US</dc:language>
  <cp:lastModifiedBy>Eyad</cp:lastModifiedBy>
  <dcterms:modified xsi:type="dcterms:W3CDTF">2012-02-11T17:32:00Z</dcterms:modified>
  <cp:revision>18</cp:revision>
  <dc:subject/>
  <dc:title>الإعلام و التنمية علم 304</dc:title>
</cp:coreProperties>
</file>