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38.jpeg" ContentType="image/jpeg"/>
  <Override PartName="/ppt/media/image64.jpeg" ContentType="image/jpeg"/>
  <Override PartName="/ppt/media/image29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49.jpeg" ContentType="image/jpeg"/>
  <Override PartName="/ppt/media/image16.png" ContentType="image/png"/>
  <Override PartName="/ppt/media/image20.jpeg" ContentType="image/jpeg"/>
  <Override PartName="/ppt/media/image61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24.wmf" ContentType="image/x-wmf"/>
  <Override PartName="/ppt/media/image22.png" ContentType="image/png"/>
  <Override PartName="/ppt/media/image59.png" ContentType="image/png"/>
  <Override PartName="/ppt/media/image28.png" ContentType="image/png"/>
  <Override PartName="/ppt/media/image43.jpeg" ContentType="image/jpeg"/>
  <Override PartName="/ppt/media/image35.png" ContentType="image/png"/>
  <Override PartName="/ppt/media/image52.jpeg" ContentType="image/jpeg"/>
  <Override PartName="/ppt/media/image1.png" ContentType="image/png"/>
  <Override PartName="/ppt/media/image21.png" ContentType="image/png"/>
  <Override PartName="/ppt/media/image32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55.jpeg" ContentType="image/jpeg"/>
  <Override PartName="/ppt/media/image53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6BA-A2D0-454D-A956-1F85509204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83C-F7DB-4791-AAF1-06DF81D326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134-AC67-48CE-A3EF-1E5F6391E1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7FE-42AF-4871-97A8-670EB64CE2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B54-1010-4884-8C96-2D2FA56183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1A7-F19A-44B3-93A7-F912282C73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B67F-7DBD-40A6-B97B-9761B1FCA3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5C22-4787-4867-9353-4D1B69CC28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3BD-7F48-4142-B75B-34D57E6BDD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683-444B-45DA-A0AB-D272D3B9DC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A1E-ED1D-432D-BEF8-9DF5E0BD1E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EDB7-D93C-4382-B288-3BEE425C4E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5697-ABD4-494F-9461-EB9445F1BE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A64-A937-4DDC-890B-CD4E6DB27F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6C6-BC62-4E98-8558-4061F3E5A2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8A3-9397-4CE2-865D-17F2F741A8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143-07CC-4419-BEFF-654C11EE62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7A6-3D0A-4A87-9D48-FF802F136B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5876-D94A-4501-9B5D-DA27564F61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384E-F508-420B-B33B-86A7BF6C83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29B2-F904-460B-B9DF-1913B445C6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BE3-F49A-4A34-B695-409D32F02F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4CE3-4BA3-4623-AB47-ADC44D8320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9647-74AE-4288-BF81-72C78E8A3A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B96F-28BB-4885-8FFB-5B66F6F581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7A0-A437-4B75-AD3B-57C7EBEF7B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D25-F3C4-46A4-BA6B-514151975C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7EC-2188-4F21-ADF9-F9365A5AD6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E3D-CB5B-4291-B63A-61E41BBE6D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E684-69FA-49A2-821F-A8B80AE4E1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664-F88C-4746-901B-A8F53FB3A1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249-D2E0-466D-B52F-6AB38A4890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FE8-196B-4A09-AE20-03FFE25B5F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278-C58F-4E69-9A76-E7FF96EFAE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CB6-BFE3-4F80-9752-6AEE428701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C680-B182-4474-9FB4-1D6793C575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C15-1C3E-4BA2-896B-DEE1D91DE9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55DD-B28A-44AF-B9AD-83FB66B893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E63-C308-41A7-B143-4DA5C80332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E94-78E7-44AC-8B69-2E63C215AB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00F-F7B0-4504-AB4E-807A297C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E0C-D1A2-44D9-B619-EDAA1F41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082-863B-4274-94BA-4D7A8B39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E55-B1E0-4163-9764-526EC00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6B2A-100C-4ADC-9485-8A1D3D38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00D-5CF1-4E77-ABDB-2F8759C3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10E9-7953-480A-A989-CCFEA02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856-9318-4165-BBA4-13B8D31A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962-7CF5-4AE7-8973-70885E6C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2A5-14C7-4262-BD86-0A998C7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610-60BC-4EC0-AC86-4F1D699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A22-14DB-46BC-AD49-53D7ACA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D16-10D6-40DE-BE52-4723C0F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101-79E4-4646-8566-ACE52188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C89F-E9DF-4B74-BB39-ADB0AE4E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B5DA-1F40-487B-8C86-A525752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6305-109A-4E1D-B51B-E610D77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F9CF-A984-4D8C-8AD1-CDE6724B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7536-FE8D-4E4E-A1D8-32796AEB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BDBA-A971-44EB-B886-E9403571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2B65-A715-450F-A8D4-F14CF81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2432-8AB9-4206-A7A6-E4D60BC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5B5-C9BA-4E44-AF9F-BE7A25A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32F1-03B5-4396-BD78-43EE2447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3E6D-7D95-4B3E-B5D3-09542DD2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9F1F-DC7C-4173-B2BF-F8F5F04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5300-88F2-4D43-9BF4-04A5A70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43FE-04C7-4D23-AEF8-C202F7A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6DB7-96E0-4E10-8144-1E134030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B51C-0131-44A5-AEBB-F1F489CE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DFFA-48AE-4BBB-930E-3EE32B17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7B11-ECF4-4A25-BC8F-D2DDE6F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E4A5-9F48-4791-8D0E-C327031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AD2-3B1A-4A1F-8295-A8B855B4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D715-1BE4-47DA-834F-34F9793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B930-F809-47F9-B91E-55777B8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8B6E-7EE6-48FF-9FDE-185E98F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5F4B-951D-4D54-9F28-F87F647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473B-F472-48C9-8CBF-5789B57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D8AA-3FD8-4ED0-B744-3E865E91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7691-06EC-4915-835B-3AED44D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53AE-5156-4EE1-972B-E2CB0F3E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3D3E-5C56-4B65-BFF0-4916ED8C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7800-C131-4CEF-8332-6EF474B5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73B-4D01-4DEE-BD28-695F9CD4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393BB-51F9-4FAF-90A2-5008FAC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16D8A-FC0F-4F55-B692-76EC58F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4237-C33E-41B0-8CD8-FEADDEF2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CD2B8-1616-4AFB-A239-0AEAA20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23C4-A99B-40B5-8DE3-9CC1896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223F-4095-47BD-911F-FDCAF49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44E0-DBEE-4EF7-9E67-0C30270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7463-2390-4B59-A922-64F0D25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1A23-8FB3-4556-867B-DFC92FBE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9B08-8104-4EF6-89BC-790EC3AC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DBD-6963-4936-85EA-EA9AD3C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12D4-6D92-4DB4-9B54-FDC523E3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C53-866C-4151-AEE6-AC756C6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D1A-B2F3-4F45-8B1E-CE90E8D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89E-7EF2-4ADB-B251-C1CB582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9471-7D4E-487C-B641-C5C0112FF8E1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3BC-9FBC-4BBF-8DDA-9286E9372FFA}" type="slidenum"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733-DF41-4869-B922-16AA0B7FEEFD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4643-1F86-407F-BFDC-FC455CAF196F}" type="slidenum">
              <a:rPr b="0" lang="ar-SA" sz="1100" spc="-1" strike="noStrike">
                <a:solidFill>
                  <a:srgbClr val="f4e7ed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334-4642-40F8-99EE-1AE6D675695D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3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2" descr=""/>
          <p:cNvPicPr/>
          <p:nvPr/>
        </p:nvPicPr>
        <p:blipFill>
          <a:blip r:embed="rId1"/>
          <a:stretch/>
        </p:blipFill>
        <p:spPr>
          <a:xfrm>
            <a:off x="3292560" y="530280"/>
            <a:ext cx="5261040" cy="2878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Placeholder 5" descr="XCACO81IWCAYW0VXNCADU0QJ0CASIABCFCA48ELD2CA9UM7S1CA9O38NOCA8AAQZOCAZ1QNEVCACR8JKRCAFKR6BRCA3BF3AECASGV4S1CAV37TMCCA65NR31CAJ72Q17CAF4KM0LCAPQ664TCAGNDK3U.jpg"/>
          <p:cNvPicPr/>
          <p:nvPr/>
        </p:nvPicPr>
        <p:blipFill>
          <a:blip r:embed="rId2"/>
          <a:srcRect l="8179" t="0" r="8179" b="0"/>
          <a:stretch/>
        </p:blipFill>
        <p:spPr>
          <a:xfrm>
            <a:off x="4500720" y="3857760"/>
            <a:ext cx="242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.bmp"/>
          <p:cNvPicPr/>
          <p:nvPr/>
        </p:nvPicPr>
        <p:blipFill>
          <a:blip r:embed="rId1"/>
          <a:stretch/>
        </p:blipFill>
        <p:spPr>
          <a:xfrm>
            <a:off x="5952960" y="2214720"/>
            <a:ext cx="1783080" cy="1328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fp.bmp"/>
          <p:cNvPicPr/>
          <p:nvPr/>
        </p:nvPicPr>
        <p:blipFill>
          <a:blip r:embed="rId2"/>
          <a:stretch/>
        </p:blipFill>
        <p:spPr>
          <a:xfrm>
            <a:off x="3071880" y="207180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j.bmp"/>
          <p:cNvPicPr/>
          <p:nvPr/>
        </p:nvPicPr>
        <p:blipFill>
          <a:blip r:embed="rId3"/>
          <a:stretch/>
        </p:blipFill>
        <p:spPr>
          <a:xfrm>
            <a:off x="714240" y="2143080"/>
            <a:ext cx="1395720" cy="1395360"/>
          </a:xfrm>
          <a:prstGeom prst="rect">
            <a:avLst/>
          </a:prstGeom>
          <a:ln w="0">
            <a:noFill/>
          </a:ln>
        </p:spPr>
      </p:pic>
      <p:cxnSp>
        <p:nvCxnSpPr>
          <p:cNvPr id="249" name="Straight Arrow Connector 7"/>
          <p:cNvCxnSpPr/>
          <p:nvPr/>
        </p:nvCxnSpPr>
        <p:spPr>
          <a:xfrm flipH="1" flipV="1">
            <a:off x="4642560" y="2999520"/>
            <a:ext cx="1072440" cy="25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50" name="Straight Arrow Connector 8"/>
          <p:cNvCxnSpPr/>
          <p:nvPr/>
        </p:nvCxnSpPr>
        <p:spPr>
          <a:xfrm flipH="1" flipV="1">
            <a:off x="2214360" y="2998440"/>
            <a:ext cx="1072080" cy="21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51" name="TextBox 9"/>
          <p:cNvSpPr/>
          <p:nvPr/>
        </p:nvSpPr>
        <p:spPr>
          <a:xfrm>
            <a:off x="6072120" y="3857760"/>
            <a:ext cx="134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بيا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( نصوص – أرقام –صور –إشارات صوتية – مقاطع فيديو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292560" y="385776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Tahoma"/>
              </a:rPr>
              <a:t>معالج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603360" y="385776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Tahoma"/>
              </a:rPr>
              <a:t>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781200" y="1066680"/>
            <a:ext cx="6296040" cy="11527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1000080" y="2214720"/>
            <a:ext cx="6072120" cy="4143240"/>
          </a:xfrm>
          <a:prstGeom prst="rect">
            <a:avLst/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بيانات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المادة الأولية التي يتم إدخالها للحاسب وقد لا مفهومة للإنسان العادي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معلومات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نتيجة معالجة وتحليل البيانات بحيث يمثل الناتج معنى مفهوما للإنسا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رموز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وسيلة التي نعبر بها عن البيانات والمعلومات ( ! @ $ % #) إضافة إلى الحروف والأرقام وغير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604224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213920"/>
            <a:ext cx="72388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52f74"/>
                </a:solidFill>
                <a:latin typeface="Times New Roman"/>
                <a:cs typeface="Times New Roman"/>
              </a:rPr>
              <a:t>هو آلة كهربائية تستقبل بيانات ثم تقوم بإجراء عملية تحليل ومعالجة عليها و إخراج المعلومات أو تخزينها وتعمل بناء على تعليمات دقيقة تسمى برنامج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Title 1" descr=""/>
          <p:cNvPicPr/>
          <p:nvPr/>
        </p:nvPicPr>
        <p:blipFill>
          <a:blip r:embed="rId2"/>
          <a:stretch/>
        </p:blipFill>
        <p:spPr>
          <a:xfrm>
            <a:off x="993600" y="2639880"/>
            <a:ext cx="62978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00040" y="3643200"/>
            <a:ext cx="73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إدخال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 (ندخل بيانات باستخدام أحد وحدات الإدخال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معالجة أو التحليل 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(هي عملية رياضية ومنطقية تتم في وحدة تسمى المعالج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إخراج 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(تخرج معلومات باستخدام أحد وحدات الإخراج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تخزين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 ( تخزين ناتج التحليل لحين الحاجة له باستخدام وحدات التخزين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0040" y="642600"/>
            <a:ext cx="7238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في المثال التالي حددي البيانات ,المعلومات والمعالجة التي تم إجرائها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imes New Roman"/>
                <a:cs typeface="Times New Roman"/>
              </a:rPr>
              <a:t>أقوم بإدخال صورة غرفتي للحاسب الآلي وأغير في لون الجدران والأرضيات لأحدد اللون المناسب قبل تنفيذه فعليا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: ........................................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: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الجة :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2817360" y="785880"/>
            <a:ext cx="304884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أنواع الحاسب الآ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تصنف الحاسبات الآلية حسب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طريقة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نوع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قدرة الحاسب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1919880" y="357120"/>
            <a:ext cx="499356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تقنية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324000" y="1268280"/>
            <a:ext cx="7692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- حاسبات قياس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تعتمد على الموجات الكهربائية المتصل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بيانات قياسية و هي البيانات التي تأخذ قيماً عديدة مثل (شدة الصوت، درجة الحرار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حساب الخصائص الفيزيائية مثل (الأوزان، الضغوط، الحرار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المراكز العلمية و الطبية  (</a:t>
            </a:r>
            <a:r>
              <a:rPr b="1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جهزة التخطيط الطبية )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راكز الأرصاد الج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 rot="20826600">
            <a:off x="166320" y="611280"/>
            <a:ext cx="1400040" cy="1655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324000" y="3284640"/>
            <a:ext cx="7692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- حاسبات رقم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1253a"/>
                </a:solidFill>
                <a:latin typeface="Times New Roman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تعتمد على الإشارات الكهربائية المتقطعة – تعمل بالنظام الثنائي (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0،1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الج البيانات الرقمية فقط، بقيم محدوده و تستخدم في حل المشاكل الحسابية المعقدة و تنظيم الملفات و قواعد البيانات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 هذه الحاسبات الرقمية هي: التعليم و تنظيم الإدارة و المحاس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تميز بالسرعات العالية و إمكانية إجراء أكثر من عملية حسابية في نفس الوق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868040" y="357120"/>
            <a:ext cx="473904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نوع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450720" y="1214280"/>
            <a:ext cx="7693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حاسبات محدودة الغرض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مبرمجة لأداء عمل معين، في المصان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والمحلات التجارية التي تتطلب نوعية معي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من العمل الخا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071960" y="2571840"/>
            <a:ext cx="38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Trebuchet MS"/>
                <a:cs typeface="Tahoma"/>
              </a:rPr>
              <a:t>مثال :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سيجا أو بلاي ستيشن لها غرض خاص وهو الترفيه و أجهزة خرائط الطرق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PS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وتعمل كمرشد للطري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714840" y="4071960"/>
            <a:ext cx="440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حاسبات متعددة الأغراض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حاسبات آلية رقمية ، يمكن أن تقوم بأي عمل تبرمج له ، من كتابة نصوص أو ترفيه أو عمليات حساب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584320" y="5345280"/>
            <a:ext cx="25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Trebuchet MS"/>
                <a:cs typeface="Tahoma"/>
              </a:rPr>
              <a:t>مثال :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حاسب المكت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rmin-nuvi-gps.jpg"/>
          <p:cNvPicPr/>
          <p:nvPr/>
        </p:nvPicPr>
        <p:blipFill>
          <a:blip r:embed="rId1"/>
          <a:stretch/>
        </p:blipFill>
        <p:spPr>
          <a:xfrm>
            <a:off x="357120" y="1143000"/>
            <a:ext cx="3144960" cy="2786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Comp03B.gif"/>
          <p:cNvPicPr/>
          <p:nvPr/>
        </p:nvPicPr>
        <p:blipFill>
          <a:blip r:embed="rId2"/>
          <a:stretch/>
        </p:blipFill>
        <p:spPr>
          <a:xfrm>
            <a:off x="571680" y="4214880"/>
            <a:ext cx="280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776240" y="357120"/>
            <a:ext cx="535788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القدرة 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0511-0903-2722-5545.jpg"/>
          <p:cNvPicPr/>
          <p:nvPr/>
        </p:nvPicPr>
        <p:blipFill>
          <a:blip r:embed="rId1"/>
          <a:stretch/>
        </p:blipFill>
        <p:spPr>
          <a:xfrm>
            <a:off x="5857920" y="2571840"/>
            <a:ext cx="207000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a.bmp"/>
          <p:cNvPicPr/>
          <p:nvPr/>
        </p:nvPicPr>
        <p:blipFill>
          <a:blip r:embed="rId2"/>
          <a:stretch/>
        </p:blipFill>
        <p:spPr>
          <a:xfrm>
            <a:off x="3643200" y="2489040"/>
            <a:ext cx="1643040" cy="1311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g.bmp"/>
          <p:cNvPicPr/>
          <p:nvPr/>
        </p:nvPicPr>
        <p:blipFill>
          <a:blip r:embed="rId3"/>
          <a:stretch/>
        </p:blipFill>
        <p:spPr>
          <a:xfrm>
            <a:off x="1500120" y="2357280"/>
            <a:ext cx="1889280" cy="1343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ar.bmp"/>
          <p:cNvPicPr/>
          <p:nvPr/>
        </p:nvPicPr>
        <p:blipFill>
          <a:blip r:embed="rId4"/>
          <a:stretch/>
        </p:blipFill>
        <p:spPr>
          <a:xfrm>
            <a:off x="3857760" y="4429080"/>
            <a:ext cx="142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1042920" y="189000"/>
            <a:ext cx="6193080" cy="119124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imes New Roman"/>
                <a:cs typeface="Times New Roman"/>
              </a:rPr>
              <a:t>حاسبات مختلفة في القدرة العملية (الحجم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450720" y="1214280"/>
            <a:ext cx="76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وهي حاسبات </a:t>
            </a:r>
            <a:r>
              <a:rPr b="0" lang="ar-SA" sz="2000" spc="-1" strike="noStrike">
                <a:solidFill>
                  <a:srgbClr val="852f74"/>
                </a:solidFill>
                <a:latin typeface="Times New Roman"/>
                <a:cs typeface="Times New Roman"/>
              </a:rPr>
              <a:t>متعددة  الأغراض </a:t>
            </a: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لكنها تختلف من حيث قدرة الجه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وتصنف كالتا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428760" y="2055960"/>
            <a:ext cx="76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تفوقة(العملاقه )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SuperCompu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428760" y="2462040"/>
            <a:ext cx="7696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سبات لها القدرة على القيام بعمليات حسابية معقدة كالتي يحتاجها العلماء في مراكز الأبحاث، كمراكز الفضاء أو المصانع الحربية لتصنيع أسلحة الكترونية ”الصواريخ الالكترونية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تلف عن غيرها في طريقة تركيبها ، 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cs typeface="Times New Roman"/>
              </a:rPr>
              <a:t>أعطالها قليل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 متفوقة الأداء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طيع معالجة بيان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00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خدم في نفس الوقت وتعتبر ذات تكلفه عاليه قد تصل الى مليون دولار أو أكثر للحاسب الواح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DCARRA612CADUZFPMCAEBL3LBCAWE8WZDCAF8LQQ5CA934UCFCA2FHGT2CAQPKIUECAR1IPG3CA8W2ZJECAOM3S05CAIPTWEYCA1A7BH5CAGKLA1PCAABPIL5CAUXUGRKCAW4VYGDCAM0WLP2CAXS3CTI.jpg"/>
          <p:cNvPicPr/>
          <p:nvPr/>
        </p:nvPicPr>
        <p:blipFill>
          <a:blip r:embed="rId1"/>
          <a:stretch/>
        </p:blipFill>
        <p:spPr>
          <a:xfrm>
            <a:off x="2643120" y="1109520"/>
            <a:ext cx="3500640" cy="2248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LCA4KY9DLCAUTR4H2CARMKQQ4CAM2A7NICAPRM1PZCAMA2O8SCAQGF0QMCAHQ8EG0CA16K7H3CANES7QOCAS1FBMZCAH7MY04CAIA3IZXCAXYWM22CAA8EQAECAEINHWGCA7XUE94CAT60WFQCAH8OQER.jpg"/>
          <p:cNvPicPr/>
          <p:nvPr/>
        </p:nvPicPr>
        <p:blipFill>
          <a:blip r:embed="rId2"/>
          <a:stretch/>
        </p:blipFill>
        <p:spPr>
          <a:xfrm>
            <a:off x="2571840" y="3817800"/>
            <a:ext cx="3500280" cy="23259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2166120" y="50004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تفوقة </a:t>
            </a:r>
            <a:r>
              <a:rPr b="1" lang="en-US" sz="1800" spc="-1" strike="noStrike" u="sng">
                <a:solidFill>
                  <a:srgbClr val="51253a"/>
                </a:solidFill>
                <a:uFillTx/>
                <a:latin typeface="Trebuchet MS"/>
              </a:rPr>
              <a:t>SuperCompu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7" descr=""/>
          <p:cNvPicPr/>
          <p:nvPr/>
        </p:nvPicPr>
        <p:blipFill>
          <a:blip r:embed="rId1"/>
          <a:stretch/>
        </p:blipFill>
        <p:spPr>
          <a:xfrm>
            <a:off x="133200" y="1639800"/>
            <a:ext cx="79441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357120" y="857160"/>
            <a:ext cx="76964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حاسبات ذات معالجات تسمح بتعدد المشاركة في العمل (مئات المستخدمين ) حيث تعتمد على إمكانية المشاركة بمعلومات أو قاعدة بيانات موحدة على جهاز واحد يسمى مضيف أو خادم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Server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يعمل عليها عدد كبير من الأشخاص من خلال وحدات طرفية عبارة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عن شاشة ولوحة مفاتيح أو حاسبات صغيرة متصلة بها بكابل أو اتصال لاسل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710800" y="5716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0" y="3860640"/>
            <a:ext cx="8072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تتأثر في عملها </a:t>
            </a: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Tahoma"/>
              </a:rPr>
              <a:t>بنوع وجودة وحدات الإدخال والإخراج والتخزين من حي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Tahoma"/>
              </a:rPr>
              <a:t>السعة والسرعة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(جداول الطلبة  واشعارات النتائج، اصدار الشيكات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&gt;&gt;</a:t>
            </a:r>
            <a:r>
              <a:rPr b="0" lang="ar-SA" sz="1800" spc="-1" strike="noStrike">
                <a:solidFill>
                  <a:srgbClr val="852f74"/>
                </a:solidFill>
                <a:latin typeface="Trebuchet MS"/>
                <a:cs typeface="Tahoma"/>
              </a:rPr>
              <a:t>مرتفعة التكلفة تستخدم في المؤسسات الكبيرة مثل شركات الطيران، الجامع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images.jpg"/>
          <p:cNvPicPr/>
          <p:nvPr/>
        </p:nvPicPr>
        <p:blipFill>
          <a:blip r:embed="rId1"/>
          <a:stretch/>
        </p:blipFill>
        <p:spPr>
          <a:xfrm>
            <a:off x="2714760" y="2071800"/>
            <a:ext cx="3214440" cy="30747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1467720" y="74304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images.jpg"/>
          <p:cNvPicPr/>
          <p:nvPr/>
        </p:nvPicPr>
        <p:blipFill>
          <a:blip r:embed="rId1"/>
          <a:stretch/>
        </p:blipFill>
        <p:spPr>
          <a:xfrm>
            <a:off x="3071880" y="2571840"/>
            <a:ext cx="2428920" cy="1681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pc.jpg"/>
          <p:cNvPicPr/>
          <p:nvPr/>
        </p:nvPicPr>
        <p:blipFill>
          <a:blip r:embed="rId2"/>
          <a:stretch/>
        </p:blipFill>
        <p:spPr>
          <a:xfrm>
            <a:off x="714240" y="228600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pc.jpg"/>
          <p:cNvPicPr/>
          <p:nvPr/>
        </p:nvPicPr>
        <p:blipFill>
          <a:blip r:embed="rId3"/>
          <a:stretch/>
        </p:blipFill>
        <p:spPr>
          <a:xfrm>
            <a:off x="3500280" y="64296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pc.jpg"/>
          <p:cNvPicPr/>
          <p:nvPr/>
        </p:nvPicPr>
        <p:blipFill>
          <a:blip r:embed="rId4"/>
          <a:stretch/>
        </p:blipFill>
        <p:spPr>
          <a:xfrm>
            <a:off x="5786280" y="257184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pc.jpg"/>
          <p:cNvPicPr/>
          <p:nvPr/>
        </p:nvPicPr>
        <p:blipFill>
          <a:blip r:embed="rId5"/>
          <a:stretch/>
        </p:blipFill>
        <p:spPr>
          <a:xfrm>
            <a:off x="3357720" y="4857840"/>
            <a:ext cx="1857240" cy="1428840"/>
          </a:xfrm>
          <a:prstGeom prst="rect">
            <a:avLst/>
          </a:prstGeom>
          <a:ln w="0">
            <a:noFill/>
          </a:ln>
        </p:spPr>
      </p:pic>
      <p:sp>
        <p:nvSpPr>
          <p:cNvPr id="296" name="Up Arrow 7"/>
          <p:cNvSpPr/>
          <p:nvPr/>
        </p:nvSpPr>
        <p:spPr>
          <a:xfrm>
            <a:off x="4286160" y="2071800"/>
            <a:ext cx="71640" cy="500040"/>
          </a:xfrm>
          <a:prstGeom prst="upArrow">
            <a:avLst>
              <a:gd name="adj1" fmla="val 50000"/>
              <a:gd name="adj2" fmla="val 49861"/>
            </a:avLst>
          </a:prstGeom>
          <a:solidFill>
            <a:srgbClr val="0d0d0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ight Arrow 9"/>
          <p:cNvSpPr/>
          <p:nvPr/>
        </p:nvSpPr>
        <p:spPr>
          <a:xfrm>
            <a:off x="5429160" y="3357720"/>
            <a:ext cx="42876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own Arrow 10"/>
          <p:cNvSpPr/>
          <p:nvPr/>
        </p:nvSpPr>
        <p:spPr>
          <a:xfrm>
            <a:off x="4286160" y="4286160"/>
            <a:ext cx="46080" cy="9288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eft Arrow 11"/>
          <p:cNvSpPr/>
          <p:nvPr/>
        </p:nvSpPr>
        <p:spPr>
          <a:xfrm>
            <a:off x="2428920" y="3429000"/>
            <a:ext cx="642960" cy="71280"/>
          </a:xfrm>
          <a:prstGeom prst="leftArrow">
            <a:avLst>
              <a:gd name="adj1" fmla="val 50000"/>
              <a:gd name="adj2" fmla="val 5011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mainframe1.gif"/>
          <p:cNvPicPr/>
          <p:nvPr/>
        </p:nvPicPr>
        <p:blipFill>
          <a:blip r:embed="rId1"/>
          <a:stretch/>
        </p:blipFill>
        <p:spPr>
          <a:xfrm>
            <a:off x="1000080" y="1857240"/>
            <a:ext cx="6357960" cy="42102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"/>
          <p:cNvSpPr/>
          <p:nvPr/>
        </p:nvSpPr>
        <p:spPr>
          <a:xfrm>
            <a:off x="1643040" y="7732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18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24000" y="1268280"/>
            <a:ext cx="769608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مخدمات صغيرة: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تشبه من حيث الشكل من الحاسب الشخصي لكن تختلف من حيث الأداء والمواصفات الداخلية تعمل كخادم في معمل مدرسة أو مؤسس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3792240" y="571680"/>
            <a:ext cx="45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3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حاسبات مُتوسط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i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المخدمات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2781360"/>
            <a:ext cx="7696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مخدمات الشبكة :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تستخدمها الشركات المزودة لخدمة الإنترنت لتقديم خدمة الاتصال أو ضيافة الصفح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صممة لخدمة عدد من المستخدمين ( العشرات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عتبر قليلة التكلفة الى حد ما تتراوح اسعار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,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لى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50,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ولا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179280" y="4724280"/>
            <a:ext cx="22860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958640" y="6429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دمج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60320" y="1285920"/>
            <a:ext cx="702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شرائح مجهزة تركب في داخل أجهزة مختلفة مثل أدوات المنزل أو السي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تسمى (الحاسب على شريحة)، تختلف عن الحاسبات محدودة الغرض في أنها تعمل دون الحاجة لاستقبال بيانات من الخارج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من الأمثلة عليها: ضابط الحرارة الذي يركب مع المكيفات المنز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build-car-computer-800X800.jpg"/>
          <p:cNvPicPr/>
          <p:nvPr/>
        </p:nvPicPr>
        <p:blipFill>
          <a:blip r:embed="rId1"/>
          <a:stretch/>
        </p:blipFill>
        <p:spPr>
          <a:xfrm>
            <a:off x="214200" y="3286080"/>
            <a:ext cx="3357720" cy="2928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esla_touchscreen.jpg"/>
          <p:cNvPicPr/>
          <p:nvPr/>
        </p:nvPicPr>
        <p:blipFill>
          <a:blip r:embed="rId2"/>
          <a:stretch/>
        </p:blipFill>
        <p:spPr>
          <a:xfrm>
            <a:off x="3714840" y="3286080"/>
            <a:ext cx="4356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982600" y="571680"/>
            <a:ext cx="51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5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00040" y="919080"/>
            <a:ext cx="728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صنف حسب إمكانياتها ونوع العمل الذي تقوم ب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أ. محطات العمل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Work station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شبه شكل الحاسب الشخصي ولكن يتوفر بها أكثر من معالج ، تحتوي على ملحقات إضافية مثل  ”بطاقة الرسوم أسرع“ ، يعمل عليها أكثر من شخص ، للمتخصصين مثل المهند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michael-kane-work-station.jpg"/>
          <p:cNvPicPr/>
          <p:nvPr/>
        </p:nvPicPr>
        <p:blipFill>
          <a:blip r:embed="rId1"/>
          <a:stretch/>
        </p:blipFill>
        <p:spPr>
          <a:xfrm>
            <a:off x="1928880" y="314316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509760" y="928800"/>
            <a:ext cx="7696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ب. الحاسب المكتبي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Desktop computer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للاستخدام الشخصي، محدودة الإمكانات والمزايا مقارنة بمحطة العمل، يقوم المستخدم باختيار المواصفات التي تناسبه وأسعارها مناسبة، سهلة الاقتنا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662040" y="3714840"/>
            <a:ext cx="7696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ج. الحاسب النقال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Portable computer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 شخصي صغير الحجم بإمكانيات عالية يسهل نقله من مكان لآخر، يعمل بالكهرباء أو بالبطارية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يستخدمه المتخصص الذي يحتا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إلى العمل على الحاسب بكثرة د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الارتباط بمكان ثاب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c.jpg"/>
          <p:cNvPicPr/>
          <p:nvPr/>
        </p:nvPicPr>
        <p:blipFill>
          <a:blip r:embed="rId1"/>
          <a:stretch/>
        </p:blipFill>
        <p:spPr>
          <a:xfrm>
            <a:off x="2857680" y="1955880"/>
            <a:ext cx="2286000" cy="1758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xbox-360-laptop-mk2-top.jpg"/>
          <p:cNvPicPr/>
          <p:nvPr/>
        </p:nvPicPr>
        <p:blipFill>
          <a:blip r:embed="rId2"/>
          <a:stretch/>
        </p:blipFill>
        <p:spPr>
          <a:xfrm>
            <a:off x="714240" y="4500720"/>
            <a:ext cx="31435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09760" y="335772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هـ- المحط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Do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هي قاعدة يثبت بها الحاسب الدفتري ليتحول حاسب شخص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00040" y="428760"/>
            <a:ext cx="728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د. الحاسب الدفتري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Notebook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مثل الحاسب الشخصي ولكنه أصغر حجما واخ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وزنا وأقل مقدرة من الحاسب المكتبي غال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نتيجة التقيد بسعة الجه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1"/>
          <a:stretch/>
        </p:blipFill>
        <p:spPr>
          <a:xfrm>
            <a:off x="642960" y="1357200"/>
            <a:ext cx="18572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1071720" y="4286160"/>
            <a:ext cx="6405480" cy="2328840"/>
            <a:chOff x="1071720" y="4286160"/>
            <a:chExt cx="6405480" cy="2328840"/>
          </a:xfrm>
        </p:grpSpPr>
        <p:pic>
          <p:nvPicPr>
            <p:cNvPr id="325" name="Picture 6" descr="embraco%20refrigerated%20docking%20station%203.jpg"/>
            <p:cNvPicPr/>
            <p:nvPr/>
          </p:nvPicPr>
          <p:blipFill>
            <a:blip r:embed="rId2"/>
            <a:stretch/>
          </p:blipFill>
          <p:spPr>
            <a:xfrm>
              <a:off x="1071720" y="4286160"/>
              <a:ext cx="2571840" cy="23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" descr="sale_sony_vaio_vgp-prc1_docking_station_for_c_series_3xusb2_0_dvi-d_vga_port_lan_(rj45)_port_1.jpg"/>
            <p:cNvPicPr/>
            <p:nvPr/>
          </p:nvPicPr>
          <p:blipFill>
            <a:blip r:embed="rId3"/>
            <a:stretch/>
          </p:blipFill>
          <p:spPr>
            <a:xfrm>
              <a:off x="5572440" y="4710240"/>
              <a:ext cx="190476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662040" y="107172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و. حاسب المعصم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Wristwatch P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محدودة الإمكانات ، تلف حول معصم اليد، تستخدم في العمل الميداني لجمع البيانات أو كمفك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814320" y="3500280"/>
            <a:ext cx="7696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ي. حاسبات اللوح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Tablet P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شبه الورقة ، عرضها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سم ، وزنها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كجم، مواصفات متطورة تزيد عن الحاسب الدفتري، ظهر نتيجة لها الشاشة الحساسة في أجهزة الصراف وحاسبات الجيب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XCAOYTODNCAVCY925CABEKDD7CALD77ERCAVA7J4FCA0M0GVHCA2L0YDYCA9FOJ3CCAHOLXL1CA9SRA0GCATK77Y4CAIZ3HBZCAUV0XZUCAJV59R1CAN5SFWXCAVVK001CAJY6TA4CA315VRBCAPUFZN8.jpg"/>
          <p:cNvPicPr/>
          <p:nvPr/>
        </p:nvPicPr>
        <p:blipFill>
          <a:blip r:embed="rId1"/>
          <a:stretch/>
        </p:blipFill>
        <p:spPr>
          <a:xfrm>
            <a:off x="4952880" y="2071800"/>
            <a:ext cx="1476360" cy="125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3CA55J5PWCA4QT0SECA1G3M2XCA925N22CALSOXQYCAPF59DFCALNZ3OACAYDSVMSCA0QJDXDCAYFYD0CCAWLOMPGCA0L9H7NCAWH99MVCASKQVJJCAB1HBATCAQVOK2ACA7BBE4HCAJWVGRACA0K9YR1.jpg"/>
          <p:cNvPicPr/>
          <p:nvPr/>
        </p:nvPicPr>
        <p:blipFill>
          <a:blip r:embed="rId2"/>
          <a:stretch/>
        </p:blipFill>
        <p:spPr>
          <a:xfrm>
            <a:off x="1857240" y="207180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DCAPTG7KDCAAOS3HICA3TMWDVCAPNB5E5CA0VU95ZCASERZYICACL4A6BCA2ZX69FCA6RNOXICA40AEUWCAX6NWUYCAAM5LE4CA4XQTB3CALA8JF4CAF0YEVYCAPG62AXCA2TA9S5CAV4RSP3CA8W1BIF.jpg"/>
          <p:cNvPicPr/>
          <p:nvPr/>
        </p:nvPicPr>
        <p:blipFill>
          <a:blip r:embed="rId3"/>
          <a:stretch/>
        </p:blipFill>
        <p:spPr>
          <a:xfrm>
            <a:off x="4714920" y="4929120"/>
            <a:ext cx="2214360" cy="1571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8CAS2ZN5TCAS6B8DUCAX1K3LVCAMTUMDECA0I62UXCA3H5V9VCARZCBGKCA1K2Q2YCA7AHHFHCAIK045HCA0MGGICCAVAM6D5CASYSWRZCAK1G9FWCANDHEIQCA18IMTFCALY3ZJ1CA9ZRKLSCANNCZAK.jpg"/>
          <p:cNvPicPr/>
          <p:nvPr/>
        </p:nvPicPr>
        <p:blipFill>
          <a:blip r:embed="rId4"/>
          <a:stretch/>
        </p:blipFill>
        <p:spPr>
          <a:xfrm>
            <a:off x="1521000" y="4919760"/>
            <a:ext cx="27651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عنوان 1" descr=""/>
          <p:cNvPicPr/>
          <p:nvPr/>
        </p:nvPicPr>
        <p:blipFill>
          <a:blip r:embed="rId1"/>
          <a:stretch/>
        </p:blipFill>
        <p:spPr>
          <a:xfrm>
            <a:off x="401760" y="2451240"/>
            <a:ext cx="756576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2857680" y="3500280"/>
            <a:ext cx="534816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ل. الأجهزة الرقمية المساعد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PDAs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 بحجم الجيب، شبيه بالمفكرة الالكترونية، محدودة الإمكانيات لصغر حجمها(حاسبات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يب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Pocket Pc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:هي الأجهزة المحملة بنظام تشغيل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ويندوز موبايل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، وحاسبات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كف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Palm top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هي المحملة بنظام تشغيل </a:t>
            </a:r>
            <a:r>
              <a:rPr b="1" i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بالم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57120" y="42876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ك. الحاسبات المفكر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TransNote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ات تسمح بالكتابة على الورقة مع إمكانية تخزينها على الحاسب، تجمع بين تقنيتي الحاسب الدفتري والمفكرة الرقمي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5CAUFCI1OCAO39OGVCAJ15VYZCAEQV32XCA3N5M8RCARTIIFHCAHZ1X2KCA19VPARCAETZ71ACA6V8QDQCAO1SKTYCAHWNB5ACA0MAX2MCA3KYFMFCABL7P2FCAYOD6OTCATFMZ7SCAQU92D9CA9IV381.jpg"/>
          <p:cNvPicPr/>
          <p:nvPr/>
        </p:nvPicPr>
        <p:blipFill>
          <a:blip r:embed="rId1"/>
          <a:stretch/>
        </p:blipFill>
        <p:spPr>
          <a:xfrm>
            <a:off x="4786200" y="2000160"/>
            <a:ext cx="245772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KCAC20249CAGWZDRICAIUVI5ICAEBU77PCAH99LB3CAF09CTLCAK9CAXQCATX0UG1CAEZTVM8CACCUC9VCAE0RKATCAXQP7YBCANZIG3TCA2HOYQ3CAVUIREDCAV239COCA0NLO51CAOWQXDDCAKG947R.jpg"/>
          <p:cNvPicPr/>
          <p:nvPr/>
        </p:nvPicPr>
        <p:blipFill>
          <a:blip r:embed="rId2"/>
          <a:stretch/>
        </p:blipFill>
        <p:spPr>
          <a:xfrm>
            <a:off x="1428840" y="2000160"/>
            <a:ext cx="2687400" cy="1428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h24-fa675a-ca-main.jpg"/>
          <p:cNvPicPr/>
          <p:nvPr/>
        </p:nvPicPr>
        <p:blipFill>
          <a:blip r:embed="rId3"/>
          <a:stretch/>
        </p:blipFill>
        <p:spPr>
          <a:xfrm>
            <a:off x="571680" y="3786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500040" y="1000080"/>
            <a:ext cx="7858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م. الهواتف الذكي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Smart Phones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جمع تقنية الأجهزة الرقمية المساعدة مع الجوال متعدد الوسائط  ، اتصال بالانترنت ومحادثة، لوحة مفاتيح وكامير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يوجد بها معالج وذاكرة وتحمل بنظم تشغيل مختلف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642960" y="321480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ص. الجوال متعدد الوسائط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نتيجة تزاوج تقنية الحاسب بالاتصالات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اتصال بالانترنت، وكامير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garmin-asus_nuvifone_m10_black.jpg"/>
          <p:cNvPicPr/>
          <p:nvPr/>
        </p:nvPicPr>
        <p:blipFill>
          <a:blip r:embed="rId1"/>
          <a:stretch/>
        </p:blipFill>
        <p:spPr>
          <a:xfrm>
            <a:off x="571680" y="2286000"/>
            <a:ext cx="174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313000" y="357120"/>
            <a:ext cx="3687840" cy="17398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سوق الحاسب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للأجهز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428760" y="1285920"/>
            <a:ext cx="76928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253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51253a"/>
                </a:solidFill>
                <a:latin typeface="Trebuchet MS"/>
              </a:rPr>
              <a:t>IBM</a:t>
            </a:r>
            <a:r>
              <a:rPr b="1" lang="ar-SA" sz="28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253a"/>
                </a:solidFill>
                <a:latin typeface="Trebuchet MS"/>
              </a:rPr>
              <a:t>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eft Arrow 10"/>
          <p:cNvSpPr/>
          <p:nvPr/>
        </p:nvSpPr>
        <p:spPr>
          <a:xfrm>
            <a:off x="5643720" y="2000160"/>
            <a:ext cx="142848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1"/>
          <p:cNvSpPr/>
          <p:nvPr/>
        </p:nvSpPr>
        <p:spPr>
          <a:xfrm>
            <a:off x="377640" y="192888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Tahoma"/>
              </a:rPr>
              <a:t>شركة ميكروسوفت (نظام ويندو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eft Arrow 12"/>
          <p:cNvSpPr/>
          <p:nvPr/>
        </p:nvSpPr>
        <p:spPr>
          <a:xfrm>
            <a:off x="5572080" y="3000240"/>
            <a:ext cx="1428840" cy="214560"/>
          </a:xfrm>
          <a:prstGeom prst="leftArrow">
            <a:avLst>
              <a:gd name="adj1" fmla="val 50000"/>
              <a:gd name="adj2" fmla="val 4994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1013760" y="285768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Tahoma"/>
              </a:rPr>
              <a:t>أنتجت نظام تشغيل خاص ب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applemacpro.jpg"/>
          <p:cNvPicPr/>
          <p:nvPr/>
        </p:nvPicPr>
        <p:blipFill>
          <a:blip r:embed="rId1"/>
          <a:stretch/>
        </p:blipFill>
        <p:spPr>
          <a:xfrm>
            <a:off x="428760" y="3429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apple-mbkw-13sd.jpg"/>
          <p:cNvPicPr/>
          <p:nvPr/>
        </p:nvPicPr>
        <p:blipFill>
          <a:blip r:embed="rId2"/>
          <a:stretch/>
        </p:blipFill>
        <p:spPr>
          <a:xfrm>
            <a:off x="357120" y="5214960"/>
            <a:ext cx="1619280" cy="1320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ibm_netvista.jpg"/>
          <p:cNvPicPr/>
          <p:nvPr/>
        </p:nvPicPr>
        <p:blipFill>
          <a:blip r:embed="rId3"/>
          <a:stretch/>
        </p:blipFill>
        <p:spPr>
          <a:xfrm>
            <a:off x="5643720" y="3429000"/>
            <a:ext cx="2477880" cy="216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ibm_thinkpad.jpg"/>
          <p:cNvPicPr/>
          <p:nvPr/>
        </p:nvPicPr>
        <p:blipFill>
          <a:blip r:embed="rId4"/>
          <a:stretch/>
        </p:blipFill>
        <p:spPr>
          <a:xfrm>
            <a:off x="5000760" y="5357880"/>
            <a:ext cx="1342800" cy="133344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15" descr=""/>
          <p:cNvPicPr/>
          <p:nvPr/>
        </p:nvPicPr>
        <p:blipFill>
          <a:blip r:embed="rId5"/>
          <a:stretch/>
        </p:blipFill>
        <p:spPr>
          <a:xfrm>
            <a:off x="1231920" y="5005440"/>
            <a:ext cx="3108240" cy="113976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16" descr=""/>
          <p:cNvPicPr/>
          <p:nvPr/>
        </p:nvPicPr>
        <p:blipFill>
          <a:blip r:embed="rId6"/>
          <a:stretch/>
        </p:blipFill>
        <p:spPr>
          <a:xfrm>
            <a:off x="6188040" y="5467320"/>
            <a:ext cx="194940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2286000" y="357120"/>
            <a:ext cx="374220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سوق الحاسب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428760" y="1285920"/>
            <a:ext cx="76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51253a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سب نظام التشغيل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Operating system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28760" y="192888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بي سي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PC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أبل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Apple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 (تعمل على نظام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OS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357120" y="3078000"/>
            <a:ext cx="76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ب-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	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سب الشركة المنتج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57120" y="367668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الشركات الأس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شركة أب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فئة التجمي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06920" y="1928880"/>
            <a:ext cx="51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ي بي أم والمتوافقة معها وتعمل على نظام ويندو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1038240" y="3701880"/>
            <a:ext cx="41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ي بي أم والمتوافقة معها مثل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Dell, HP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613ScreenShotAll.jpg"/>
          <p:cNvPicPr/>
          <p:nvPr/>
        </p:nvPicPr>
        <p:blipFill>
          <a:blip r:embed="rId1"/>
          <a:stretch/>
        </p:blipFill>
        <p:spPr>
          <a:xfrm>
            <a:off x="928800" y="1285920"/>
            <a:ext cx="6511680" cy="488160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2" descr=""/>
          <p:cNvPicPr/>
          <p:nvPr/>
        </p:nvPicPr>
        <p:blipFill>
          <a:blip r:embed="rId2"/>
          <a:stretch/>
        </p:blipFill>
        <p:spPr>
          <a:xfrm>
            <a:off x="36360" y="-6480"/>
            <a:ext cx="8345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1" descr=""/>
          <p:cNvPicPr/>
          <p:nvPr/>
        </p:nvPicPr>
        <p:blipFill>
          <a:blip r:embed="rId1"/>
          <a:stretch/>
        </p:blipFill>
        <p:spPr>
          <a:xfrm>
            <a:off x="-146160" y="182520"/>
            <a:ext cx="8382240" cy="1133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Windows%20Explorer.png"/>
          <p:cNvPicPr/>
          <p:nvPr/>
        </p:nvPicPr>
        <p:blipFill>
          <a:blip r:embed="rId2"/>
          <a:stretch/>
        </p:blipFill>
        <p:spPr>
          <a:xfrm>
            <a:off x="285840" y="1357200"/>
            <a:ext cx="76658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Diagram 4" descr=""/>
          <p:cNvPicPr/>
          <p:nvPr/>
        </p:nvPicPr>
        <p:blipFill>
          <a:blip r:embed="rId1"/>
          <a:stretch/>
        </p:blipFill>
        <p:spPr>
          <a:xfrm>
            <a:off x="-506520" y="407880"/>
            <a:ext cx="10369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71680" y="9288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في الأمثلة التالية حددي البيانات ,المعلومات والمعالجة التي تم إجرائها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يب يوم بإدخال بعض المعلومات عن المريض مثل درجة الحرارة ونتائج التحاليل ويساعده الحاسب في تحديد المرض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انات : ...........................................   المعلومات :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المعالجة : 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شد يقوم بإدخال صوته للحاسب الآلي ويضيف عليه بعض المؤثرات مثل الصدى وغيره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: ...........................................    المعلومات :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المعالجة : 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713880"/>
            <a:ext cx="72388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حددي نوع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حاسب الآلي الآلي المناسب لكل من الاستخدامات التالية  مع ربطه بالصورة المناسبة له 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ct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سب كبير – محطة عمل – المساعد الشخصي- محمول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جل أعمل كثير السفر يحتاج إلى جهاز يمكنه من حفظ المواعيد إرسال والبريد الإلكتروني ويربطه بالإنترنت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شفى يريد توسيع نشاطاته ويحتاج لجهاز يمكنه من حفظ ومعالجة كميات كبيرة من البيانات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لب جامعي يحتاج لجهاز يمكنه من أداء واجباته ويمكنه من الدخول للإنترنت في البيت والجامعة 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ندس يحتاج إلى جهاز قوي يمكنه من الرسم والتصميم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1" name="Picture 4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1"/>
          <a:stretch/>
        </p:blipFill>
        <p:spPr>
          <a:xfrm>
            <a:off x="6072120" y="1071720"/>
            <a:ext cx="1257480" cy="113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images.jpg"/>
          <p:cNvPicPr/>
          <p:nvPr/>
        </p:nvPicPr>
        <p:blipFill>
          <a:blip r:embed="rId2"/>
          <a:stretch/>
        </p:blipFill>
        <p:spPr>
          <a:xfrm>
            <a:off x="4429080" y="1214280"/>
            <a:ext cx="981000" cy="1038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0CAAHPC4PCADKDA5KCAZ8U5KLCA29JFGLCA4RJX3RCAVIF27SCA0K4LNSCAEBX5Q2CA9DFU0LCA6K6F26CA6XW5K2CABU6VDECAEDHVUOCAM1ROF3CAX51NSCCAEFFIEGCAHQ6ZC1CAFDYEILCAN0TY8S.jpg"/>
          <p:cNvPicPr/>
          <p:nvPr/>
        </p:nvPicPr>
        <p:blipFill>
          <a:blip r:embed="rId3"/>
          <a:stretch/>
        </p:blipFill>
        <p:spPr>
          <a:xfrm>
            <a:off x="2643120" y="1285920"/>
            <a:ext cx="1162080" cy="882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2CA7PSLZDCA1Y24KXCASJ0WCYCATL9ILQCAX7UMVMCAK753P8CA7LPAFSCAQD18R2CA9F7GGGCALA6RC1CA3V2EVJCASBNCVACAS7UFYJCAN2ISA5CACXOOHQCA2ZAPNOCA0DRNP7CAP95H8MCASGMW5D.jpg"/>
          <p:cNvPicPr/>
          <p:nvPr/>
        </p:nvPicPr>
        <p:blipFill>
          <a:blip r:embed="rId4"/>
          <a:stretch/>
        </p:blipFill>
        <p:spPr>
          <a:xfrm>
            <a:off x="1071720" y="1214280"/>
            <a:ext cx="853920" cy="8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3747960" y="107172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الصفحات المقررة من صفحة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26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25360" y="1639800"/>
            <a:ext cx="763920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420840" y="2992320"/>
            <a:ext cx="7643520" cy="244476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3" descr=""/>
          <p:cNvPicPr/>
          <p:nvPr/>
        </p:nvPicPr>
        <p:blipFill>
          <a:blip r:embed="rId3"/>
          <a:stretch/>
        </p:blipFill>
        <p:spPr>
          <a:xfrm>
            <a:off x="1011240" y="1182600"/>
            <a:ext cx="7108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744372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63044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ء الكثير من الأعمال بسرعة هائلة تفوق سرعة الإنسان بملايين الم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د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حيث يعمل بنسبة خطأ بسيطه جدا وتكاد تكون معدو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عتماد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اسب يعمل بإتباع مجموعة من التعليمات الدقيقة تسمى 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خز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ل مساحة التخزين اللاز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فاظ على المعلومات من التل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م طرق مختلفة وسريعة للبحث واسترجاع المعلوما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ل على المؤسسات فرصة تبادل المعل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6CAS3ES4MCAW62UXSCA85WELQCAD4ZZI2CAB54VQDCAY39LCLCA4YH84CCA83CRMCCAIBI2G7CAX22Q1ACA4FJW3YCA1S8BQWCACXMBOHCABN2W70CAFMUNBYCA28XWD6CAM80PAGCA4TN5P8CAFV16FP.jpg"/>
          <p:cNvPicPr/>
          <p:nvPr/>
        </p:nvPicPr>
        <p:blipFill>
          <a:blip r:embed="rId2"/>
          <a:stretch/>
        </p:blipFill>
        <p:spPr>
          <a:xfrm>
            <a:off x="500040" y="714240"/>
            <a:ext cx="1074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دة الإنتاج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عدة في إتخاذ القرا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ليل التكلفة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ح فرص العمل ( تحويل نوعية الوظائف- العمل من المنزل – التعليم عن بعد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غر حجم الحاسب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خص السع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ولة الاستخدام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ثرة الإمكانيات. ( سهل عملية الكتابة – سهل العمليات الحسابية – وسيلة الاتصال 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2" name="Content Placeholder 6" descr=""/>
          <p:cNvPicPr/>
          <p:nvPr/>
        </p:nvPicPr>
        <p:blipFill>
          <a:blip r:embed="rId2"/>
          <a:stretch/>
        </p:blipFill>
        <p:spPr>
          <a:xfrm>
            <a:off x="450720" y="1523880"/>
            <a:ext cx="74008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7"/>
          <p:cNvSpPr/>
          <p:nvPr/>
        </p:nvSpPr>
        <p:spPr>
          <a:xfrm>
            <a:off x="673200" y="642960"/>
            <a:ext cx="711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درجات الطالبات الفصلية والنه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ويخر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مجموع والتقدير ويقوم ب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تخزين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نتائج للرجوع لها عند الحاج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468360" y="2276640"/>
            <a:ext cx="73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 في آلة الصراف البطاقة والرقم السري فيقوم ب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إخرا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مبلغ الموجود في الحساب وآخر العمليات التي قمتي بها و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يخزن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هذه المعلوم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468360" y="37162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صورة ونقوم بتعديل الألوان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فيخر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لنا الحاسب الصورة بعد تعديلها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ويخزنها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UF</cp:lastModifiedBy>
  <dcterms:modified xsi:type="dcterms:W3CDTF">2012-02-05T23:51:59Z</dcterms:modified>
  <cp:revision>193</cp:revision>
  <dc:subject/>
  <dc:title>أهمية الحاسب الآلي وأنواع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