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C61C-EA04-41C7-BC49-35B95415627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2F56-9210-4E5D-A7E7-1BC29C91CD6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06CE4-CB05-4ABF-89A9-0BDDA284D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C4F80-F354-417D-910D-9768C5582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1074C-8BBA-4A12-A931-BB25D805E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85F02-EC3D-48BB-92F7-E1521DEDB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67A60-2627-4259-BC80-806984EA6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2C0D4-91C2-43FF-8BC0-8D0790261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EE0D7-4A40-46C6-8C3D-AD5FBE254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6C79C-0EE2-428C-B3D7-9305432CA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3154E-DAAE-49D2-9039-E3324504F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DD2D6-9915-4782-85BA-B67FEDA70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FB687-59C1-4B7C-861C-833DE8E60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F8AF9-0BA1-4B0B-945B-07EF403E9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B77F9-699E-45CB-8E67-FBA21A184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999A1-067E-4444-9DDE-1C269BF3E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72F9A-DAE4-4678-95BD-158F5211E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8CF07-E60A-4CF8-A34E-36D93359A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B9A67-6674-48A9-9CA2-13BC81DEC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770851-E695-4995-9FFB-A0D772646A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EB8609-13A7-4974-BB49-6F90C326E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55978D-68A4-4752-B8D7-E5F9E14BF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CC5E1B-A96A-42F8-9070-48A8FBA84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48E229-2FD3-4941-A9F7-EFB51402D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4CA46-6600-4973-8B84-1EC3E7B3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C475B0-0A7A-4E6B-89AC-8848A33CF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A04097-3179-4DF6-863A-7BE63AEE2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C29F49-4502-463D-A391-8404031F8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9C220B-E4E8-4B08-ABD8-9EB4C2BE1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F7A75E-7205-4D2F-ABA9-F0A73E317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3F06B3E-0B64-4F6A-B48E-37AD1A33C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8A235E7-5C9A-41D5-A0F5-24A8611E7F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A481E5-8BE9-4592-B20C-FC5497EAF7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97F8B-1DE3-4700-842A-0C30BB032B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67091-31E9-4143-9331-0DA71CC2D2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52D25-5E1D-4FD5-BF6D-67060220D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13CA4-B2BE-40C8-9E10-7592D0CD5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F40310-3B1A-494C-90C8-BD7C68CF0B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A74040-B171-4F3D-8F76-728928B07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F1F16-3BDF-4B59-835A-0C902C1E6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A9A55-0EE7-4DE3-87FB-88D05AAE0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CCD74-BD87-4A82-8CA8-403A5D663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763C3F-7017-4A54-8AB4-60DD6A3E2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64FB08-0C25-47F4-BC4F-88D34F01F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35B711-C528-47B9-A6EE-6046365DB8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ABAFC-C9FD-42BB-B9A2-E4FC60B95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3C8BB-89E6-4391-8E88-5D3E2DCE0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171E-5D00-485E-8F92-47E044CA0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AB2B-4656-4BCF-8943-861866C8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5D555-ACE2-48D2-8AD8-762EC94BD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8783-C90C-444C-AF05-134594D82E7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C0B2-0023-4175-B64A-FB7D80B5D3B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B17B-554B-46A6-86E4-C6071DCAFCF2}"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D5CF-E4FB-4551-B348-738E1E21DAE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دخل في الاستراتيجية والإدارة الاستراتيجية</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143000" y="4142880"/>
            <a:ext cx="6929280" cy="1467000"/>
          </a:xfrm>
          <a:prstGeom prst="rect">
            <a:avLst/>
          </a:prstGeom>
          <a:noFill/>
          <a:ln w="0">
            <a:noFill/>
          </a:ln>
        </p:spPr>
        <p:txBody>
          <a:bodyPr anchor="t">
            <a:noAutofit/>
          </a:bodyPr>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Strategic &amp; Management Strategy Introduction</a:t>
            </a:r>
            <a:endParaRPr b="0" lang="en-US" sz="2400" spc="-1" strike="noStrike">
              <a:solidFill>
                <a:srgbClr val="000000"/>
              </a:solidFill>
              <a:latin typeface="Georgia"/>
            </a:endParaRPr>
          </a:p>
          <a:p>
            <a:pPr marL="63360"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فصل الأول</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هام الإدارة الاستراتيجية</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a:bodyPr>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ماهية الأعمال وتطوير الرؤى والرسالة. </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ديد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براعة الاستراتيجية لتنفيذ وإنجاز الأهداف.</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623880" indent="-514440" algn="r" rtl="1">
              <a:lnSpc>
                <a:spcPct val="16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يم الأداء والرقاب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Content Placeholder 3"/>
          <p:cNvGraphicFramePr/>
          <p:nvPr/>
        </p:nvGraphicFramePr>
        <p:xfrm>
          <a:off x="98280" y="0"/>
          <a:ext cx="9045720" cy="6286680"/>
        </p:xfrm>
        <a:graphic>
          <a:graphicData uri="http://schemas.openxmlformats.org/presentationml/2006/ole">
            <p:oleObj progId="Word.Document.12" r:id="rId1" spid="">
              <p:embed/>
              <p:pic>
                <p:nvPicPr>
                  <p:cNvPr id="250"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C:\Users\Luna\AppData\Local\Microsoft\Windows\Temporary Internet Files\Content.IE5\KP1SDI4E\MCBD04995_0000[1].wmf"/>
          <p:cNvPicPr/>
          <p:nvPr/>
        </p:nvPicPr>
        <p:blipFill>
          <a:blip r:embed="rId1"/>
          <a:stretch/>
        </p:blipFill>
        <p:spPr>
          <a:xfrm>
            <a:off x="0" y="285840"/>
            <a:ext cx="2470320" cy="2027160"/>
          </a:xfrm>
          <a:prstGeom prst="rect">
            <a:avLst/>
          </a:prstGeom>
          <a:ln w="0">
            <a:noFill/>
          </a:ln>
        </p:spPr>
      </p:pic>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24456"/>
                </a:solidFill>
                <a:latin typeface="Trebuchet MS"/>
              </a:rPr>
              <a:t>العلاقة بين الإدارة الاستراتيجية والتسويق</a:t>
            </a:r>
            <a:endParaRPr b="0" lang="en-US" sz="28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86000"/>
          </a:bodyPr>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نظرية النظم: النشاط التسويقي  وما معتمد به من استراتيجية تسويقية، هو جزء من الادارة الاستراتيجية للمنظمة، لأن أهداف التسويق تصب في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ظمة تعمل في بيئة متغيرة (لا تأكد)، والنشاط التسويقي قد يكون الأكثر ارتباطاً مع البيئة، بالتالي يمكن أن يزود الإدارة الاستراتيجية بكل ما يمكن استكشافه للوصول إلى أهداف المنظمة.</a:t>
            </a:r>
            <a:endParaRPr b="0" lang="en-US" sz="2800" spc="-1" strike="noStrike">
              <a:solidFill>
                <a:srgbClr val="000000"/>
              </a:solidFill>
              <a:latin typeface="Georgia"/>
            </a:endParaRPr>
          </a:p>
          <a:p>
            <a:pPr marL="536400" indent="-442080" algn="just" rtl="1">
              <a:lnSpc>
                <a:spcPct val="90000"/>
              </a:lnSpc>
              <a:spcBef>
                <a:spcPts val="601"/>
              </a:spcBef>
              <a:spcAft>
                <a:spcPts val="601"/>
              </a:spcAft>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الاستراتيجي يحدث في كل مستوى من مستويات المنظمة، وللنشاط التسويقي دور مهم في كل مستوى لأنه مسؤول عن إيصال مخرجات المنظمة إلى السوق وتقديم المعلومات المطلوبة. بالتالي نجاح التخطيط يرتبط بنجاح النشاط التسويقي.</a:t>
            </a:r>
            <a:endParaRPr b="0" lang="en-US" sz="2800" spc="-1" strike="noStrike">
              <a:solidFill>
                <a:srgbClr val="000000"/>
              </a:solidFill>
              <a:latin typeface="Georgia"/>
            </a:endParaRPr>
          </a:p>
          <a:p>
            <a:pPr marL="536400" indent="-44208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C:\Users\Luna\AppData\Local\Microsoft\Windows\Temporary Internet Files\Content.IE5\KP1SDI4E\MCj01986090000[1].wmf"/>
          <p:cNvPicPr/>
          <p:nvPr/>
        </p:nvPicPr>
        <p:blipFill>
          <a:blip r:embed="rId1">
            <a:lum bright="70000" contrast="-70000"/>
          </a:blip>
          <a:stretch/>
        </p:blipFill>
        <p:spPr>
          <a:xfrm>
            <a:off x="1857240" y="2000160"/>
            <a:ext cx="5214960" cy="4675320"/>
          </a:xfrm>
          <a:prstGeom prst="rect">
            <a:avLst/>
          </a:prstGeom>
          <a:ln w="0">
            <a:noFill/>
          </a:ln>
        </p:spPr>
      </p:pic>
      <p:sp>
        <p:nvSpPr>
          <p:cNvPr id="255" name="PlaceHolder 1"/>
          <p:cNvSpPr>
            <a:spLocks noGrp="1"/>
          </p:cNvSpPr>
          <p:nvPr>
            <p:ph type="title"/>
          </p:nvPr>
        </p:nvSpPr>
        <p:spPr>
          <a:xfrm>
            <a:off x="642960" y="7855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24456"/>
                </a:solidFill>
                <a:latin typeface="Trebuchet MS"/>
              </a:rPr>
              <a:t>العلاقة بين الإدارة الاستراتيجية والتسويق</a:t>
            </a:r>
            <a:endParaRPr b="0" lang="en-US" sz="3200" spc="-1" strike="noStrike">
              <a:solidFill>
                <a:srgbClr val="424456"/>
              </a:solidFill>
              <a:latin typeface="Trebuchet MS"/>
            </a:endParaRPr>
          </a:p>
        </p:txBody>
      </p:sp>
      <p:pic>
        <p:nvPicPr>
          <p:cNvPr id="256" name="Picture 6" descr="C:\Program Files\Microsoft Office\MEDIA\CAGCAT10\j0297551.wmf"/>
          <p:cNvPicPr/>
          <p:nvPr/>
        </p:nvPicPr>
        <p:blipFill>
          <a:blip r:embed="rId2"/>
          <a:stretch/>
        </p:blipFill>
        <p:spPr>
          <a:xfrm>
            <a:off x="142920" y="357120"/>
            <a:ext cx="1311120" cy="2000160"/>
          </a:xfrm>
          <a:prstGeom prst="rect">
            <a:avLst/>
          </a:prstGeom>
          <a:ln w="0">
            <a:noFill/>
          </a:ln>
        </p:spPr>
      </p:pic>
      <p:sp>
        <p:nvSpPr>
          <p:cNvPr id="257" name=""/>
          <p:cNvSpPr txBox="1"/>
          <p:nvPr/>
        </p:nvSpPr>
        <p:spPr>
          <a:xfrm>
            <a:off x="457200" y="2249640"/>
            <a:ext cx="8229600" cy="4324320"/>
          </a:xfrm>
          <a:prstGeom prst="rect">
            <a:avLst/>
          </a:prstGeom>
          <a:noFill/>
          <a:ln w="0">
            <a:noFill/>
          </a:ln>
        </p:spPr>
        <p:txBody>
          <a:bodyPr anchor="t">
            <a:normAutofit fontScale="88000"/>
          </a:bodyPr>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أصبحت منهجا معتمداً في جميع أنواع المنظمات التي تسعى للاستمرار، والنشاط التسويقي كذلك إذ لم يعد حصرا على المنظمات الربحية، وبالتالي هناك علاقة قوية بين الادارة الاستراتيجية والنشاط التسويقي، فنجاحها من نجاح التسويق.</a:t>
            </a:r>
            <a:endParaRPr b="0" lang="en-US" sz="2600" spc="-1" strike="noStrike">
              <a:solidFill>
                <a:srgbClr val="000000"/>
              </a:solidFill>
              <a:latin typeface="Georgia"/>
            </a:endParaRPr>
          </a:p>
          <a:p>
            <a:pPr marL="549000" indent="-452520" algn="just" rtl="1">
              <a:lnSpc>
                <a:spcPct val="150000"/>
              </a:lnSpc>
              <a:spcBef>
                <a:spcPts val="300"/>
              </a:spcBef>
              <a:buClr>
                <a:srgbClr val="a04da3"/>
              </a:buClr>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كثير من الأهداف (مثل المسؤولية الاجتماعية للتسويق، وأخلاقيات التسويق) كانت في مرحلة سابقة أهدافاً تسويقية، اليوم أصبحت أهدافاً استراتيجية.</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242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كراً</a:t>
            </a:r>
            <a:endParaRPr b="0" lang="en-US" sz="4000" spc="-1" strike="noStrike">
              <a:solidFill>
                <a:srgbClr val="424456"/>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قدمة</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الاستراتيجية ومكوناتها الرئيس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ملية بناء الاستراتيجية في منظمات الأعمال وما يمكن أن تجنيه المنظمة من منافع..</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ريف ومفهوم ومهام الإدارة الاستراتيجي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لاقة بين الإدارة الاستراتيجية والتسويق.</a:t>
            </a:r>
            <a:endParaRPr b="0" lang="en-US" sz="2800" spc="-1" strike="noStrike">
              <a:solidFill>
                <a:srgbClr val="000000"/>
              </a:solidFill>
              <a:latin typeface="Georgia"/>
            </a:endParaRPr>
          </a:p>
        </p:txBody>
      </p:sp>
      <p:pic>
        <p:nvPicPr>
          <p:cNvPr id="225" name="j0074318.mid" descr=""/>
          <p:cNvPicPr/>
          <p:nvPr/>
        </p:nvPicPr>
        <p:blipFill>
          <a:blip r:embed="rId1"/>
          <a:stretch/>
        </p:blipFill>
        <p:spPr>
          <a:xfrm>
            <a:off x="285840" y="6429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25"/>
                    </p:tgtEl>
                  </p:cond>
                </p:stCondLst>
                <p:childTnLst>
                  <p:par>
                    <p:cTn id="3" nodeType="clickEffect" fill="hold">
                      <p:stCondLst>
                        <p:cond evt="onClick">
                          <p:tgtEl>
                            <p:spTgt spid="225"/>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0466"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لغة الاغريقية: عمل القائد، أو فن الجنرال.</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خطيط لتدمير العدو من خلال استخدام الموارد وبكفاءة.</a:t>
            </a:r>
            <a:endParaRPr b="0" lang="en-US" sz="2800" spc="-1" strike="noStrike">
              <a:solidFill>
                <a:srgbClr val="000000"/>
              </a:solidFill>
              <a:latin typeface="Georgia"/>
            </a:endParaRPr>
          </a:p>
          <a:p>
            <a:pPr marL="365040" indent="-255600" algn="r"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يتر دركر: " تحليل للموقف الحالي وتغيره إذا ما تطب الأمر، بما في ذلك تحديد ماهية وكمية الموارد ".</a:t>
            </a:r>
            <a:endParaRPr b="0" lang="en-US" sz="2800" spc="-1" strike="noStrike">
              <a:solidFill>
                <a:srgbClr val="000000"/>
              </a:solidFill>
              <a:latin typeface="Georgia"/>
            </a:endParaRPr>
          </a:p>
        </p:txBody>
      </p:sp>
      <p:pic>
        <p:nvPicPr>
          <p:cNvPr id="228" name="Picture 2" descr="C:\Users\Luna\Pictures\Microsoft Clip Organizer\j0335660.wmf"/>
          <p:cNvPicPr/>
          <p:nvPr/>
        </p:nvPicPr>
        <p:blipFill>
          <a:blip r:embed="rId1"/>
          <a:stretch/>
        </p:blipFill>
        <p:spPr>
          <a:xfrm>
            <a:off x="142920" y="285840"/>
            <a:ext cx="3620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 </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لكر: " النماذج الأساسية لتخطيط الأهداف، الموارد، العاملين، وبما يتوافق مع توجه المنظمة نحو السوق، المنافسون، والعوامل البيئية الأخرى المحيطة بها ”. وهو يفترض وجود ثلاث متغيرات رئيسة: </a:t>
            </a:r>
            <a:r>
              <a:rPr b="0" lang="en-US" sz="2800" spc="-1" strike="noStrike">
                <a:solidFill>
                  <a:srgbClr val="000000"/>
                </a:solidFill>
                <a:latin typeface="Georgia"/>
              </a:rPr>
              <a:t>What, Where, How</a:t>
            </a:r>
            <a:r>
              <a:rPr b="0" lang="ar-SA" sz="2800" spc="-1" strike="noStrike">
                <a:solidFill>
                  <a:srgbClr val="000000"/>
                </a:solidFill>
                <a:latin typeface="Georgia"/>
              </a:rPr>
              <a:t> </a:t>
            </a:r>
            <a:endParaRPr b="0" lang="en-US" sz="2800" spc="-1" strike="noStrike">
              <a:solidFill>
                <a:srgbClr val="000000"/>
              </a:solidFill>
              <a:latin typeface="Georgia"/>
            </a:endParaRPr>
          </a:p>
          <a:p>
            <a:pPr marL="339480" indent="-237600" algn="just" rtl="1">
              <a:lnSpc>
                <a:spcPct val="15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ينتزبرج: تعريف الاستراتيجية " يرتبط إلى حد كبير مع المجال أو النشاط الذي تعمل به المنظمة ".</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1" name="Picture 2" descr="C:\Users\Luna\AppData\Local\Microsoft\Windows\Temporary Internet Files\Content.IE5\3NFDSX60\MCBD05007_0000[1].wmf"/>
          <p:cNvPicPr/>
          <p:nvPr/>
        </p:nvPicPr>
        <p:blipFill>
          <a:blip r:embed="rId1"/>
          <a:stretch/>
        </p:blipFill>
        <p:spPr>
          <a:xfrm>
            <a:off x="214200" y="500040"/>
            <a:ext cx="217332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ستراتيجية - تابع</a:t>
            </a:r>
            <a:endParaRPr b="0" lang="en-US" sz="4000" spc="-1" strike="noStrike">
              <a:solidFill>
                <a:srgbClr val="424456"/>
              </a:solidFill>
              <a:latin typeface="Trebuchet MS"/>
            </a:endParaRPr>
          </a:p>
        </p:txBody>
      </p:sp>
      <p:sp>
        <p:nvSpPr>
          <p:cNvPr id="233" name=""/>
          <p:cNvSpPr txBox="1"/>
          <p:nvPr/>
        </p:nvSpPr>
        <p:spPr>
          <a:xfrm>
            <a:off x="500040" y="2571480"/>
            <a:ext cx="8229600" cy="378756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ي تعريف للاستراتيجية يمكن أن يصبح مقبولاً إن أشار إلى أنها:</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سيلة تعتمدها المنظمة للمواءمة بين مواردها المتاحة والفرص الحاصلة (أو الممكن حصولها) في البيئة الخارج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داة رئيسة لاتخاذ القرارات الهامة والمصيرية في حياة المنظمة وعلى المدى البعيد. </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عظيم مواردها المتاحة عبر الاستخدام الكفء لمواجهة احتياجاتها. (البيئة الداخلية)</a:t>
            </a:r>
            <a:endParaRPr b="0" lang="en-US" sz="2800" spc="-1" strike="noStrike">
              <a:solidFill>
                <a:srgbClr val="000000"/>
              </a:solidFill>
              <a:latin typeface="Georgia"/>
            </a:endParaRPr>
          </a:p>
          <a:p>
            <a:pPr marL="331920" indent="-2325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ستمد الاستراتيجية وجودها من خلال رسالة المنظمة.</a:t>
            </a:r>
            <a:endParaRPr b="0" lang="en-US" sz="2800" spc="-1" strike="noStrike">
              <a:solidFill>
                <a:srgbClr val="000000"/>
              </a:solidFill>
              <a:latin typeface="Georgia"/>
            </a:endParaRPr>
          </a:p>
          <a:p>
            <a:pPr marL="331920" indent="-232560" algn="r" rtl="1">
              <a:spcBef>
                <a:spcPts val="300"/>
              </a:spcBef>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34" name="Picture 3" descr="C:\Program Files\Microsoft Office\MEDIA\CAGCAT10\j0283209.gif"/>
          <p:cNvPicPr/>
          <p:nvPr/>
        </p:nvPicPr>
        <p:blipFill>
          <a:blip r:embed="rId1"/>
          <a:stretch/>
        </p:blipFill>
        <p:spPr>
          <a:xfrm>
            <a:off x="142920" y="571680"/>
            <a:ext cx="1857240" cy="181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مكونات الاستراتيجية</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جال.</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غايات والأهداف.</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ستراتيجية التطوير.</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وارد.</a:t>
            </a:r>
            <a:endParaRPr b="0" lang="en-US" sz="2800" spc="-1" strike="noStrike">
              <a:solidFill>
                <a:srgbClr val="000000"/>
              </a:solidFill>
              <a:latin typeface="Georgia"/>
            </a:endParaRPr>
          </a:p>
          <a:p>
            <a:pPr marL="623880" indent="-514440" algn="r" rtl="1">
              <a:lnSpc>
                <a:spcPct val="15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تعاضد </a:t>
            </a:r>
            <a:r>
              <a:rPr b="0" lang="en-US" sz="2800" spc="-1" strike="noStrike">
                <a:solidFill>
                  <a:srgbClr val="000000"/>
                </a:solidFill>
                <a:latin typeface="Georgia"/>
              </a:rPr>
              <a:t>Synergy</a:t>
            </a:r>
            <a:r>
              <a:rPr b="0" lang="ar-SA" sz="2800" spc="-1" strike="noStrike">
                <a:solidFill>
                  <a:srgbClr val="000000"/>
                </a:solidFill>
                <a:latin typeface="Georgia"/>
              </a:rPr>
              <a:t>: (المبيعات، العمل، الاستثمار، الإداري)</a:t>
            </a:r>
            <a:endParaRPr b="0" lang="en-US" sz="2800" spc="-1" strike="noStrike">
              <a:solidFill>
                <a:srgbClr val="000000"/>
              </a:solidFill>
              <a:latin typeface="Georgia"/>
            </a:endParaRPr>
          </a:p>
        </p:txBody>
      </p:sp>
      <p:pic>
        <p:nvPicPr>
          <p:cNvPr id="237" name="Picture 4" descr="C:\Users\Luna\AppData\Local\Microsoft\Windows\Temporary Internet Files\Content.IE5\8GCTWCCJ\MCj00787490000[1].wmf"/>
          <p:cNvPicPr/>
          <p:nvPr/>
        </p:nvPicPr>
        <p:blipFill>
          <a:blip r:embed="rId1"/>
          <a:stretch/>
        </p:blipFill>
        <p:spPr>
          <a:xfrm>
            <a:off x="714240" y="2857680"/>
            <a:ext cx="4540320" cy="18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عملية بناء الاستراتيجية</a:t>
            </a:r>
            <a:endParaRPr b="0" lang="en-US" sz="4000" spc="-1" strike="noStrike">
              <a:solidFill>
                <a:srgbClr val="424456"/>
              </a:solidFill>
              <a:latin typeface="Trebuchet MS"/>
            </a:endParaRPr>
          </a:p>
        </p:txBody>
      </p:sp>
      <p:sp>
        <p:nvSpPr>
          <p:cNvPr id="239" name=""/>
          <p:cNvSpPr txBox="1"/>
          <p:nvPr/>
        </p:nvSpPr>
        <p:spPr>
          <a:xfrm>
            <a:off x="285840" y="2249640"/>
            <a:ext cx="840096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مزيج متنوع من الخبرات العملية، الثقافة التنظيمية، الأهداف المطلوبة، التنفيذ والرقاب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لاستراتيجية لا يتم من خلال مكونات مادية محددة، بل هي مزيج متنوع ومتعدد الأشكال والتأثير.</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وصيف رؤية ورسالة المنظمة وتحديد الأهدا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حليل عوامل البيئة الداخلية والخار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ناء استراتيجية التسويق.</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نفيذ الاستراتيج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قابة والتقييم.</a:t>
            </a: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Program Files\Microsoft Office\MEDIA\CAGCAT10\j0205462.wmf"/>
          <p:cNvPicPr/>
          <p:nvPr/>
        </p:nvPicPr>
        <p:blipFill>
          <a:blip r:embed="rId1"/>
          <a:stretch/>
        </p:blipFill>
        <p:spPr>
          <a:xfrm>
            <a:off x="142920" y="428760"/>
            <a:ext cx="18190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منافع من اعتماد الاستراتيجية </a:t>
            </a:r>
            <a:endParaRPr b="0" lang="en-US" sz="4000" spc="-1" strike="noStrike">
              <a:solidFill>
                <a:srgbClr val="424456"/>
              </a:solidFill>
              <a:latin typeface="Trebuchet MS"/>
            </a:endParaRPr>
          </a:p>
        </p:txBody>
      </p:sp>
      <p:sp>
        <p:nvSpPr>
          <p:cNvPr id="242" name=""/>
          <p:cNvSpPr txBox="1"/>
          <p:nvPr/>
        </p:nvSpPr>
        <p:spPr>
          <a:xfrm>
            <a:off x="457200" y="2249280"/>
            <a:ext cx="8229600" cy="4608360"/>
          </a:xfrm>
          <a:prstGeom prst="rect">
            <a:avLst/>
          </a:prstGeom>
          <a:noFill/>
          <a:ln w="0">
            <a:noFill/>
          </a:ln>
        </p:spPr>
        <p:txBody>
          <a:bodyPr anchor="t">
            <a:normAutofit fontScale="92000"/>
          </a:bodyPr>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مرشد ودليل واضح العالم لمسار عمل المنظمة، ماهية أعمال المنظمة.</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مكن للمدراء إدراك التغيرات المحتملة في البيئة التسويقية والتعامل معها (فرص + تهديدات).</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كون المدارء أكثر رشدا وعقلانية في تحديد الموازنات المالية، وحجم الموارد البشرية، لتنفيذ الأعمال.</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ساعدة في جعل قرارات المدراء أقرب للدقة عند التنفيذ للوصول إلى الأهداف المطلوبة، وبما يحقق مصالح المساهمين والمالكين.</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ستراتيجية أداة رقابية على مجمل الأعمال المخطط لها، وبالتالي معرفة الخلل وملافاته. </a:t>
            </a:r>
            <a:endParaRPr b="0" lang="en-US" sz="2800" spc="-1" strike="noStrike">
              <a:solidFill>
                <a:srgbClr val="000000"/>
              </a:solidFill>
              <a:latin typeface="Georgia"/>
            </a:endParaRPr>
          </a:p>
          <a:p>
            <a:pPr marL="573840" indent="-47304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2" descr="C:\Users\Luna\Pictures\Microsoft Clip Organizer\j0370564.wmf"/>
          <p:cNvPicPr/>
          <p:nvPr/>
        </p:nvPicPr>
        <p:blipFill>
          <a:blip r:embed="rId1"/>
          <a:stretch/>
        </p:blipFill>
        <p:spPr>
          <a:xfrm>
            <a:off x="220680" y="642960"/>
            <a:ext cx="1147680" cy="15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857160"/>
            <a:ext cx="8229600" cy="106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إدارة الاستراتيجية</a:t>
            </a:r>
            <a:endParaRPr b="0" lang="en-US" sz="4000" spc="-1" strike="noStrike">
              <a:solidFill>
                <a:srgbClr val="424456"/>
              </a:solidFill>
              <a:latin typeface="Trebuchet MS"/>
            </a:endParaRPr>
          </a:p>
        </p:txBody>
      </p:sp>
      <p:sp>
        <p:nvSpPr>
          <p:cNvPr id="245" name=""/>
          <p:cNvSpPr txBox="1"/>
          <p:nvPr/>
        </p:nvSpPr>
        <p:spPr>
          <a:xfrm>
            <a:off x="457200" y="1857240"/>
            <a:ext cx="8229600" cy="4716720"/>
          </a:xfrm>
          <a:prstGeom prst="rect">
            <a:avLst/>
          </a:prstGeom>
          <a:noFill/>
          <a:ln w="0">
            <a:noFill/>
          </a:ln>
        </p:spPr>
        <p:txBody>
          <a:bodyPr anchor="t">
            <a:normAutofit fontScale="89000"/>
          </a:bodyPr>
          <a:p>
            <a:pPr marL="324720" indent="-227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العمليات المتضمنة التحليل، القرارات، الأفعال، والتي تأخذها المنظمة على عاتقها لخلق وإبقاء المزايا التنافسية ". هذا التعريف يتضمن جانبين:</a:t>
            </a:r>
            <a:endParaRPr b="0" lang="en-US" sz="2600" spc="-1" strike="noStrike">
              <a:solidFill>
                <a:srgbClr val="000000"/>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 رة الاستراتيجية تتضمن ثلاث عمليات:</a:t>
            </a:r>
            <a:endParaRPr b="0" lang="en-US" sz="2600" spc="-1" strike="noStrike">
              <a:solidFill>
                <a:srgbClr val="000000"/>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تحليل: لهيكلية الأهداف الاستراتيجية (الرؤى، الرسالة، الأهداف)، ومن خلال التحليل البيئي.</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قرارات: (ماهية الصناعة التي يجب أن تتنافس بها المنظمة، وكيف).</a:t>
            </a:r>
            <a:endParaRPr b="0" lang="en-US" sz="2400" spc="-1" strike="noStrike">
              <a:solidFill>
                <a:srgbClr val="438086"/>
              </a:solidFill>
              <a:latin typeface="Georgia"/>
            </a:endParaRPr>
          </a:p>
          <a:p>
            <a:pPr lvl="1" marL="815040" indent="-457200" algn="just" rtl="1">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8086"/>
                </a:solidFill>
                <a:latin typeface="Georgia"/>
              </a:rPr>
              <a:t>الأفعال: التنفيذ لما تم تحديده في الاستراتيجية.</a:t>
            </a:r>
            <a:endParaRPr b="0" lang="en-US" sz="2400" spc="-1" strike="noStrike">
              <a:solidFill>
                <a:srgbClr val="438086"/>
              </a:solidFill>
              <a:latin typeface="Georgia"/>
            </a:endParaRPr>
          </a:p>
          <a:p>
            <a:pPr marL="324720" indent="-227160" algn="just"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الإدارة الاستراتيجية تدرس كيفية عمل المنظمات المنافسة، وكيف يمكن أن تحقق ميزتها التنافسية، المدى الزمني لتحقيق هذه الميزة، مجال الصناعة الذي تتنافس به، وكيف يمكن جعل الميزة التافسية صعبة وغير ممكنة التقليد.</a:t>
            </a:r>
            <a:endParaRPr b="0" lang="en-US" sz="2600" spc="-1" strike="noStrike">
              <a:solidFill>
                <a:srgbClr val="000000"/>
              </a:solidFill>
              <a:latin typeface="Georgia"/>
            </a:endParaRPr>
          </a:p>
        </p:txBody>
      </p:sp>
      <p:pic>
        <p:nvPicPr>
          <p:cNvPr id="246" name="Picture 3" descr="C:\Program Files\Microsoft Office\MEDIA\CAGCAT10\j0299125.wmf"/>
          <p:cNvPicPr/>
          <p:nvPr/>
        </p:nvPicPr>
        <p:blipFill>
          <a:blip r:embed="rId1"/>
          <a:stretch/>
        </p:blipFill>
        <p:spPr>
          <a:xfrm>
            <a:off x="1429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6T19:46:44Z</dcterms:created>
  <dc:creator>Windows User</dc:creator>
  <dc:description/>
  <dc:language>en-US</dc:language>
  <cp:lastModifiedBy>Luna</cp:lastModifiedBy>
  <dcterms:modified xsi:type="dcterms:W3CDTF">2012-01-31T14:59:20Z</dcterms:modified>
  <cp:revision>26</cp:revision>
  <dc:subject/>
  <dc:title>مدخل في الاستراتيجية والإدارة الاستراتيج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