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F648B-926A-4B3B-A522-25939765A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1D51D-B647-45F1-A81F-AB430F95A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93726-CBE9-4F20-8860-DA096D520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C76E5-9243-46C9-AFFC-4333C264E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BA832-7573-4CA8-9688-2579AA0AA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AFD72-0C08-4674-9420-95817AB78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42E67-812E-4F59-858A-E92244015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E63A9-694C-4E1D-B425-C9AEC6D79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7013D-18CC-4A8C-BF20-AE9E0E783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9053B-967C-40EC-A9CE-C878ACD4C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99A87-E6C5-4D78-B3E9-A33CE31A0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29007-F7F3-43AE-B7EA-4F167ABE9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22F88-BBFC-4F01-A130-0354A9322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59595-48F9-4272-AD0D-A57908507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8DC25-D6C1-4F8D-8905-89511600C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1906F-1A8D-47E8-91B8-C8A659D19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27571-AF72-48B6-81B7-629B19582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8A0912-0762-4873-AA7B-7C547FBB46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183F390-1E47-4D81-BF89-762F49025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CAD374E-BAFD-4276-8CB8-9AB94BB40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643F79-49B9-4F87-AB1B-9F684823BA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59F3FF-3A49-4A7F-A9CF-60A854AE30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7B15A-335D-4A4D-AE72-A5F88A1D1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5886F9-C574-4B50-A695-7240E810D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F32588-B414-4436-8A2E-DDE3D4980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0E1CBF-45E5-4849-9648-29E7A6130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C73529-A482-4F9A-AA49-3BA87E643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B600F1-ED18-4890-9B53-22D8E59A5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FF8AA38-76A2-4823-A8E2-745B57A7A3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7577DFF-0DA8-4C62-B03F-A90844CA0E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AEEC491-5264-404E-9CD7-6E1B58C725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0D9A805-76EC-4AF1-8CA7-5F56F2279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40D60C1-0529-49B0-8FD2-62249E6A1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AC1A7-8C36-4D25-9B05-883CFB0D9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F5A8652-CC1F-4C10-87B3-E2E1EED427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370CBE8-2E71-4FF3-A53F-8E7547E321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BCDF79E-CF96-4828-9BB2-C1BDB27FB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D717DA-1834-4E23-B564-CB74D20B7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D29322-D2EC-4FB6-B928-480072CCF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75582E-2C5F-47ED-B231-A193B05BE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018E12E-5DED-44CA-9C1A-BF45A570D5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C8196A4-7D57-4285-99D4-47687BC7A9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7C64AB0-50E5-422A-83C9-D9D001320E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2C31C0B-EBEA-48B0-AF09-0472AD711E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76E93-0100-4FD7-B4B9-6B10102AC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933EE3-A05B-4CEA-B992-9C50960FB2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2F75AC-6BB7-48F2-B4AB-D579471C4F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2C4F133-4913-416A-ACF6-6F08FAF0D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9EC293-6F79-4EC2-81E4-2D1367DF2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BA46D53-922D-4A26-9ED7-6E228B55FF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4E562E-48FD-48F5-829E-6E4AA940B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79664F-3CCF-452D-9EEB-853CD2B09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B9571B-3B69-4720-BD23-1CE093B860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8500A4C-0EF7-4D04-9F5D-550DF43A5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1EDD809-AC57-4B3A-B414-3167A5507F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E1A68-C566-4557-AC04-A8FBC309A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8F2E671-E21E-4594-AA0A-A08C6B445A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C12C87-406C-49E7-BE23-A0072B3C86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051761-FB40-4A58-9659-2BD59781B6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1F214E-0568-40FF-BB77-90D58C120F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488879-7D42-43F3-B767-FCDF90F8E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9C65D-B9EF-4CC8-B600-571914A9D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036B98-5140-4386-9CAC-6237479E89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C72D1-457E-4FD6-9208-F46505A916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999F4-C662-478F-97EE-FE73CDC762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650FA-19A2-4423-9414-AED6BA4F6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5B07-78A0-42F5-9D9A-E7399A9CF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E5786-1179-4745-807D-468F4D089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30F90E-EA7C-4AF4-8830-D9F1247C49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D529D1-0DEC-4E00-AB53-BD1B354CE1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B9EAF9C-28A2-495E-A9AB-DAFF822C37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DBD1CCA-7BDA-43DD-8222-D74E96C29C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DF17168-C463-45E2-9750-250288368A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80A0937-2C00-4DB5-9639-07C645BBE7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B45A51F-9F09-4070-B5A8-77A2C2421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68FC94C-E30B-4DD6-A2F5-7D00C8CADB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EAA012-2A09-45BB-8893-4AEA75715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140F-B657-461B-8F4D-404E0FCF6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219A39-7277-463F-AA5F-E6849D4228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0E8D12-376E-47B3-B261-F88CA52601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91AE6F4-D256-4430-9CB4-7959AB5F67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CAB5EB4-E40F-4862-90D8-8D20747BC4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BCCA563-9339-4731-B4DB-205C7F5596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26FB7B-1DC0-41CB-9A23-F7EADFCEA9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6691B0-6ABF-4D43-BD3F-FF0023C22E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085745-3739-40AD-A561-70B2DA4972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FE6E82-E397-4571-8FDD-454A18A8FE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C538AE-5BB2-4647-BADD-2D5140218E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7756-2E5A-4534-B957-FFBDDF5E5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E2494D-6C86-4587-9217-741E300A9D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BD66C-2B8A-4F49-9E1B-8D05A11473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2B777-0FFB-44D4-9DC7-25A7E0F22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94D77D-72DA-4024-9B50-2A32A7A87A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86B55A-C790-4980-81DD-8DE7BAA334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2CF9EF-F132-4BA1-8661-0A3CC1AA31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B01D72-4473-4D54-A50F-5EFCABE225C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FA92-8772-418C-B717-8B9C16ABE5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مستطيل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68CD-2F65-41F0-86AD-078780F28335}"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مستطيل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ستطيل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F4BF-56C0-409B-88A5-FF03CE99C94B}"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E1CE-D93F-47F1-97AC-291E5C7E06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F152-F56C-4F4F-98CD-70C81B42A2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3DF7-7C8A-425D-9C5C-FA2EFE077657}"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مستطيل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ستطيل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مستطيل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مستطيل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6289-1FDA-41F7-A302-3F9299B394E4}"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مستطيل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CEBF-8326-4D8E-8E9E-E96385A168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600" spc="-1" strike="noStrike">
                <a:solidFill>
                  <a:srgbClr val="ebddc3"/>
                </a:solidFill>
                <a:latin typeface="Tw Cen MT"/>
                <a:cs typeface="Arial"/>
              </a:rPr>
              <a:t>مفاهيم الاتصال</a:t>
            </a:r>
            <a:endParaRPr b="0" lang="en-US" sz="6600" spc="-1" strike="noStrike">
              <a:solidFill>
                <a:srgbClr val="ebddc3"/>
              </a:solidFill>
              <a:latin typeface="Tw Cen M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609480"/>
            <a:ext cx="8229600" cy="551664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ea typeface="Arial"/>
              </a:rPr>
              <a:t>2</a:t>
            </a:r>
            <a:r>
              <a:rPr b="1" lang="ar-JO" sz="4000" spc="-1" strike="noStrike">
                <a:solidFill>
                  <a:srgbClr val="000000"/>
                </a:solidFill>
                <a:latin typeface="Tw Cen MT"/>
                <a:ea typeface="Arial"/>
              </a:rPr>
              <a:t>. البعد الاجتماعي</a:t>
            </a:r>
            <a:endParaRPr b="0" lang="en-US" sz="40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وسيلة هادفة لضمان التفاعل والتبادل المشترك بي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نمية العلاقات الشخصية بين 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حقيق التفاهم بين القيادة والعاملين، وممارسة العلاقات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إنسانية، وتحقيق الرضا في العمل، ورفع الروح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معنوي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يمثل الاتصال جزءا كبرا من أعمال الأفراد اليومية،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يقدر بعض الخبراء أنها تستهلك ما بين </a:t>
            </a:r>
            <a:r>
              <a:rPr b="0" lang="ar-JO" sz="2900" spc="-1" strike="noStrike">
                <a:solidFill>
                  <a:srgbClr val="000000"/>
                </a:solidFill>
                <a:latin typeface="Tw Cen MT"/>
                <a:ea typeface="Arial"/>
              </a:rPr>
              <a:t>75</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90</a:t>
            </a:r>
            <a:r>
              <a:rPr b="0" lang="ar-JO" sz="2900" spc="-1" strike="noStrike">
                <a:solidFill>
                  <a:srgbClr val="000000"/>
                </a:solidFill>
                <a:latin typeface="Tw Cen MT"/>
                <a:ea typeface="Arial"/>
              </a:rPr>
              <a:t>% م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قت الأشخاص سواء مع ذواتهم أو مع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عناصر عملية الاتصال</a:t>
            </a:r>
            <a:endParaRPr b="0" lang="en-US" sz="48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lIns="90000" rIns="90000" tIns="46800" bIns="46800" anchor="t">
            <a:normAutofit fontScale="87000"/>
          </a:bodyPr>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مرسل</a:t>
            </a:r>
            <a:r>
              <a:rPr b="0" lang="ar-JO" sz="2700" spc="-1" strike="noStrike">
                <a:solidFill>
                  <a:srgbClr val="000000"/>
                </a:solidFill>
                <a:latin typeface="Tw Cen MT"/>
                <a:ea typeface="Arial"/>
              </a:rPr>
              <a:t>: يعد نقطة الانطلاق في عملية الاتصال، وعنه تصدر الرسالة التي تحمل معنى محددا يتفق مع وجهة نظره، ويهدف المرسل من الرسالة الى استثارة استجابة محددة لدى المستقبل.</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رسالة</a:t>
            </a:r>
            <a:r>
              <a:rPr b="0" lang="ar-JO" sz="2700" spc="-1" strike="noStrike">
                <a:solidFill>
                  <a:srgbClr val="000000"/>
                </a:solidFill>
                <a:latin typeface="Tw Cen MT"/>
                <a:ea typeface="Arial"/>
              </a:rPr>
              <a:t>: المادة او المحتوى في عملية الاتصال، وتتكون من مجموعة المعاني التي يضعها القائم بالاتصال في رموز تنقل الى المستقبلين.</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وسيلة (القناة): </a:t>
            </a:r>
            <a:r>
              <a:rPr b="0" lang="ar-JO" sz="2700" spc="-1" strike="noStrike">
                <a:solidFill>
                  <a:srgbClr val="000000"/>
                </a:solidFill>
                <a:latin typeface="Tw Cen MT"/>
                <a:cs typeface="Arial"/>
              </a:rPr>
              <a:t>الاداة او الوساطة التي تنقل بها الرسالة الى اعداد كبيرة من الافراد المنتشرين على مساحات واسعة ومتفرقة. وقد تكون الوسيلة سمعية مثل (الاذاعة)، او بصرية مثل ( الملصقات، واللوحات، والاعلانات)، او سمعية بصرية مثل ( التلفزيون، والسينما، او متعددة القنوات كالفيديو والحاسوب).</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533160"/>
            <a:ext cx="8229600" cy="55926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4</a:t>
            </a:r>
            <a:r>
              <a:rPr b="1" lang="ar-JO" sz="4400" spc="-1" strike="noStrike">
                <a:solidFill>
                  <a:srgbClr val="000000"/>
                </a:solidFill>
                <a:latin typeface="Tw Cen MT"/>
                <a:ea typeface="Arial"/>
              </a:rPr>
              <a:t>. المستقبل</a:t>
            </a:r>
            <a:r>
              <a:rPr b="0" lang="ar-JO" sz="2900" spc="-1" strike="noStrike">
                <a:solidFill>
                  <a:srgbClr val="000000"/>
                </a:solidFill>
                <a:latin typeface="Tw Cen MT"/>
                <a:ea typeface="Arial"/>
              </a:rPr>
              <a:t>: يعد الآخرون هدف الاتصال، فهم المستقبلون، ويجب على المرسل أن يضعهم في حسابه دائما عند النظر في كل عنصر من عناصر الاتصال. فالمستقبل يستقبل الرسالة ويؤول رموزها ويفسرها.</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5</a:t>
            </a:r>
            <a:r>
              <a:rPr b="1" lang="ar-JO" sz="4400" spc="-1" strike="noStrike">
                <a:solidFill>
                  <a:srgbClr val="000000"/>
                </a:solidFill>
                <a:latin typeface="Tw Cen MT"/>
                <a:ea typeface="Arial"/>
              </a:rPr>
              <a:t>. التغذية الراجعة</a:t>
            </a:r>
            <a:r>
              <a:rPr b="0" lang="ar-JO" sz="2900" spc="-1" strike="noStrike">
                <a:solidFill>
                  <a:srgbClr val="000000"/>
                </a:solidFill>
                <a:latin typeface="Tw Cen MT"/>
                <a:ea typeface="Arial"/>
              </a:rPr>
              <a:t>: استجابة المستقبل إلي يستدل بها المرسل عن تأثير رسالته في المستقبل، ووجهة نظر المستقبل بشأنها. تسمى بمصطلح ”رد الفع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خطوات الاتصال</a:t>
            </a:r>
            <a:endParaRPr b="0" lang="en-US" sz="48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كوين الفكرة لدى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حويل الفكرة إلى 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نقل الفكرة خلال قناة 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سليم الرسالة</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فسير ال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صرف</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نواع الاتصال</a:t>
            </a:r>
            <a:endParaRPr b="0" lang="en-US" sz="4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قسم الاتصال إلى قسمين:</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أولا: الاتصال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ثانيا: الاتصال غير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رتبط الاتصال اللفظي بالعملية التي يقوم بها المرسل او المستقبل أثناء نقل الرسالة اللفظية، وينقسم الاتصال اللفظي الى قسمين هما:</a:t>
            </a:r>
            <a:endParaRPr b="0" lang="en-US" sz="29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شفه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كتاب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شفهي</a:t>
            </a:r>
            <a:br>
              <a:rPr sz="4000"/>
            </a:br>
            <a:endParaRPr b="0" lang="en-US" sz="48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تحدث</a:t>
            </a:r>
            <a:r>
              <a:rPr b="0" lang="ar-JO" sz="2900" spc="-1" strike="noStrike">
                <a:solidFill>
                  <a:srgbClr val="000000"/>
                </a:solidFill>
                <a:latin typeface="Tw Cen MT"/>
                <a:ea typeface="Arial"/>
              </a:rPr>
              <a:t>: تتم عن طريق نقل الرسالة بواسطة استخدام الكلمات مشافه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ة الاستماع</a:t>
            </a:r>
            <a:r>
              <a:rPr b="0" lang="ar-JO" sz="2900" spc="-1" strike="noStrike">
                <a:solidFill>
                  <a:srgbClr val="000000"/>
                </a:solidFill>
                <a:latin typeface="Tw Cen MT"/>
                <a:ea typeface="Arial"/>
              </a:rPr>
              <a:t>: تتم عن طريق استقبال الرسالة الكلامية، وفهم معانيها من قبل المستقب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كتابي</a:t>
            </a:r>
            <a:endParaRPr b="0" lang="en-US" sz="48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كتابة</a:t>
            </a:r>
            <a:r>
              <a:rPr b="0" lang="ar-JO" sz="2900" spc="-1" strike="noStrike">
                <a:solidFill>
                  <a:srgbClr val="000000"/>
                </a:solidFill>
                <a:latin typeface="Tw Cen MT"/>
                <a:ea typeface="Arial"/>
              </a:rPr>
              <a:t>: تتم عن طريق نقل الرسالة بواسطة استخدام الكلمات المكتوب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قراءة</a:t>
            </a:r>
            <a:r>
              <a:rPr b="0" lang="ar-JO" sz="2900" spc="-1" strike="noStrike">
                <a:solidFill>
                  <a:srgbClr val="000000"/>
                </a:solidFill>
                <a:latin typeface="Tw Cen MT"/>
                <a:ea typeface="Arial"/>
              </a:rPr>
              <a:t>: تتم عن طريق استقبال الرسالة المكتوبة، وفهم معانيها من قبل المستقبل.</a:t>
            </a:r>
            <a:endParaRPr b="0" lang="en-US" sz="2900" spc="-1" strike="noStrike">
              <a:solidFill>
                <a:srgbClr val="000000"/>
              </a:solidFill>
              <a:latin typeface="Tw Cen MT"/>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72520"/>
            <a:ext cx="815328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85" name=""/>
          <p:cNvSpPr txBox="1"/>
          <p:nvPr/>
        </p:nvSpPr>
        <p:spPr>
          <a:xfrm>
            <a:off x="60912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سهل الرجوع اليه لتحديد المسؤولي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وثق المعلومات للاستفادة منها في المستقبل.</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ضمن نقل بعض المعلومات والأجوبة لعدد كبير من الافراد</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700" spc="-1" strike="noStrike">
                <a:solidFill>
                  <a:srgbClr val="000000"/>
                </a:solidFill>
                <a:latin typeface="Tw Cen MT"/>
                <a:cs typeface="Arial"/>
              </a:rPr>
              <a:t>مثل</a:t>
            </a:r>
            <a:r>
              <a:rPr b="0" lang="ar-JO" sz="2700" spc="-1" strike="noStrike">
                <a:solidFill>
                  <a:srgbClr val="000000"/>
                </a:solidFill>
                <a:latin typeface="Tw Cen MT"/>
                <a:ea typeface="Arial"/>
              </a:rPr>
              <a:t>:</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تقارير، والمذكر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منشورات، والشكاوي.</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لوحات البيانية ووسائل الايضاح البصرية.</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جرائد الحائطية.</a:t>
            </a:r>
            <a:endParaRPr b="0" lang="en-US" sz="2700" spc="-1" strike="noStrike">
              <a:solidFill>
                <a:srgbClr val="000000"/>
              </a:solidFill>
              <a:latin typeface="Tw Cen MT"/>
            </a:endParaRPr>
          </a:p>
        </p:txBody>
      </p:sp>
      <p:sp>
        <p:nvSpPr>
          <p:cNvPr id="386" name=""/>
          <p:cNvSpPr txBox="1"/>
          <p:nvPr/>
        </p:nvSpPr>
        <p:spPr>
          <a:xfrm>
            <a:off x="480024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قوي روح التعاون والصداق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زيل التوتر والضغوط نتيجة اخراج ما في الصدور</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شجع على تبادل الاسئلة ولذلك فهو فعال في تقريب المفاهيم</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سرع عملية تبادل الأفكار والمعلومات والاراء فهو يوفر الوقت والجهد.</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w Cen MT"/>
                <a:cs typeface="Arial"/>
              </a:rPr>
              <a:t>مثل</a:t>
            </a:r>
            <a:r>
              <a:rPr b="0" lang="ar-JO" sz="2500" spc="-1" strike="noStrike">
                <a:solidFill>
                  <a:srgbClr val="000000"/>
                </a:solidFill>
                <a:latin typeface="Tw Cen MT"/>
                <a:ea typeface="Arial"/>
              </a:rPr>
              <a:t>:</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قابلات الشخص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كالمات التلفون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لجان والاجتماعات والمؤتمرات</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حاضرات</a:t>
            </a: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87" name="PlaceHolder 2"/>
          <p:cNvSpPr>
            <a:spLocks noGrp="1"/>
          </p:cNvSpPr>
          <p:nvPr>
            <p:ph/>
          </p:nvPr>
        </p:nvSpPr>
        <p:spPr>
          <a:xfrm>
            <a:off x="609120" y="1752120"/>
            <a:ext cx="3886200" cy="639720"/>
          </a:xfrm>
          <a:prstGeom prst="rect">
            <a:avLst/>
          </a:prstGeom>
          <a:solidFill>
            <a:srgbClr val="dd8047"/>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كتابي</a:t>
            </a:r>
            <a:endParaRPr b="0" lang="en-US" sz="2000" spc="-1" strike="noStrike">
              <a:solidFill>
                <a:srgbClr val="000000"/>
              </a:solidFill>
              <a:latin typeface="Tw Cen MT"/>
            </a:endParaRPr>
          </a:p>
        </p:txBody>
      </p:sp>
      <p:sp>
        <p:nvSpPr>
          <p:cNvPr id="388" name="PlaceHolder 3"/>
          <p:cNvSpPr>
            <a:spLocks noGrp="1"/>
          </p:cNvSpPr>
          <p:nvPr>
            <p:ph/>
          </p:nvPr>
        </p:nvSpPr>
        <p:spPr>
          <a:xfrm>
            <a:off x="4800240" y="1752120"/>
            <a:ext cx="3886200" cy="639720"/>
          </a:xfrm>
          <a:prstGeom prst="rect">
            <a:avLst/>
          </a:prstGeom>
          <a:solidFill>
            <a:srgbClr val="d8b25c"/>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شفهي</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0" name=""/>
          <p:cNvSpPr txBox="1"/>
          <p:nvPr/>
        </p:nvSpPr>
        <p:spPr>
          <a:xfrm>
            <a:off x="457200" y="1599840"/>
            <a:ext cx="8229600" cy="4876920"/>
          </a:xfrm>
          <a:prstGeom prst="rect">
            <a:avLst/>
          </a:prstGeom>
          <a:noFill/>
          <a:ln w="0">
            <a:noFill/>
          </a:ln>
        </p:spPr>
        <p:txBody>
          <a:bodyPr lIns="90000" rIns="90000" tIns="46800" bIns="46800"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رتبط الاتصال غير اللفظي باستخدام الأفراد مجموعة من الإيماءات، وتعابير الوجه، والمظهر العام، والتعبيرات الجسدية أو التغيرات الصوتية، وذلك لنقل رسائلهم.</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نقسم الاتصال غير اللفظي إلى قسمين:</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بصري.</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صوتي. </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تؤدي العينان وظيفتين رئيسيتين في الاتصال غير اللفظي:</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1</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فير التغذية الراجعة</a:t>
            </a:r>
            <a:r>
              <a:rPr b="0" lang="ar-SA" sz="2900" spc="-1" strike="noStrike">
                <a:solidFill>
                  <a:srgbClr val="000000"/>
                </a:solidFill>
                <a:latin typeface="Tw Cen MT"/>
                <a:ea typeface="Arial"/>
              </a:rPr>
              <a:t>. </a:t>
            </a:r>
            <a:r>
              <a:rPr b="1" lang="ar-SA" sz="2900" spc="-1" strike="noStrike">
                <a:solidFill>
                  <a:srgbClr val="000000"/>
                </a:solidFill>
                <a:latin typeface="Tw Cen MT"/>
                <a:ea typeface="Arial"/>
              </a:rPr>
              <a:t>2</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ثيق الاتصال بين أطراف الاتصا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هدف</a:t>
            </a:r>
            <a:endParaRPr b="0" lang="en-US" sz="4800" spc="-1" strike="noStrike">
              <a:solidFill>
                <a:srgbClr val="775f55"/>
              </a:solidFill>
              <a:latin typeface="Tw Cen MT"/>
            </a:endParaRPr>
          </a:p>
        </p:txBody>
      </p:sp>
      <p:sp>
        <p:nvSpPr>
          <p:cNvPr id="35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نقل هادفة للمعلومات، من شخص الى اخر بغرض ايجاد نوع من التفاهم المتبادل بينهما. عملية تبادل الأفكار والمعلومات من اجل ايجاد فهم مشترك وثقة بين العناصر الانسانية في المنظمة.</a:t>
            </a:r>
            <a:endParaRPr b="0" lang="en-US" sz="2900" spc="-1" strike="noStrike">
              <a:solidFill>
                <a:srgbClr val="000000"/>
              </a:solidFill>
              <a:latin typeface="Tw Cen MT"/>
            </a:endParaRPr>
          </a:p>
        </p:txBody>
      </p:sp>
      <p:pic>
        <p:nvPicPr>
          <p:cNvPr id="353" name="~PP124.WAV" descr=""/>
          <p:cNvPicPr/>
          <p:nvPr/>
        </p:nvPicPr>
        <p:blipFill>
          <a:blip r:embed="rId1"/>
          <a:stretch/>
        </p:blipFill>
        <p:spPr>
          <a:xfrm>
            <a:off x="8724960" y="6438960"/>
            <a:ext cx="30492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بصري</a:t>
            </a:r>
            <a:r>
              <a:rPr b="0" lang="ar-SA" sz="2900" spc="-1" strike="noStrike">
                <a:solidFill>
                  <a:srgbClr val="000000"/>
                </a:solidFill>
                <a:latin typeface="Tw Cen MT"/>
                <a:ea typeface="Arial"/>
              </a:rPr>
              <a:t>: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عبيرات الوجه، وحركات العينين والابتسامة، وحركات يديه أو أي جزء من أجزاء جسمه لنقل أفكاره، ورغباته، ومشاعره للآخرين. ويتم الكشف عن هذه المهارات من خلال الملاحظة البصرية من قبل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صوتي</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نوع طبقات صوته لإيصال الرسالة وليس معنى الكلمة، وبهذا فان نبرة الصوت تعطي معنى آخر غير معنى الكلمة الحقيقي، ويلاحظ أن حدة الصوت، ودرجة خشونته، وليونته تنبئ عن طبيعة المتحدث، فضعاف الشخصية عندما يتحدثون مع الغرباء نجدهم يتحدثون بصوت خافت. كما أن الصوت الهادئ يحمل درجة من المودة، في حين أن الصوت الحاد المرتفع يعبر عن العكس تمام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cs typeface="Arial"/>
              </a:rPr>
              <a:t>الاتصال غير اللفظي البصري والصوتي</a:t>
            </a:r>
            <a:endParaRPr b="0" lang="en-US" sz="44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وضح ردود الفعل العكسية.</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ؤثر في الروح المعنوية للأفراد حيث أن الأفعال تتحدث بصوت أعلى من الكلمات.</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له أثره البالغ لدى الأفراد ذوي الكفاءات والثقافة العالية.</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ثل:</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الإيماءات.</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حركات الوجه السكوت، والغضب، والانفعال الابتسامة، ونبرات الصوت.</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r>
              <a:rPr b="0" lang="ar-SA" sz="4400" spc="-1" strike="noStrike">
                <a:solidFill>
                  <a:srgbClr val="775f55"/>
                </a:solidFill>
                <a:latin typeface="Tw Cen MT"/>
                <a:ea typeface="Arial"/>
              </a:rPr>
              <a:t> </a:t>
            </a:r>
            <a:endParaRPr b="0" lang="en-US" sz="4400" spc="-1" strike="noStrike">
              <a:solidFill>
                <a:srgbClr val="775f55"/>
              </a:solidFill>
              <a:latin typeface="Tw Cen MT"/>
            </a:endParaRPr>
          </a:p>
        </p:txBody>
      </p:sp>
      <p:sp>
        <p:nvSpPr>
          <p:cNvPr id="398" name=""/>
          <p:cNvSpPr txBox="1"/>
          <p:nvPr/>
        </p:nvSpPr>
        <p:spPr>
          <a:xfrm>
            <a:off x="457200" y="1599840"/>
            <a:ext cx="8229600" cy="4724280"/>
          </a:xfrm>
          <a:prstGeom prst="rect">
            <a:avLst/>
          </a:prstGeom>
          <a:noFill/>
          <a:ln w="0">
            <a:noFill/>
          </a:ln>
        </p:spPr>
        <p:txBody>
          <a:bodyPr lIns="90000" rIns="90000" tIns="46800" bIns="46800" anchor="t">
            <a:normAutofit fontScale="91000"/>
          </a:bodyPr>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اجتماعية</a:t>
            </a:r>
            <a:r>
              <a:rPr b="0" lang="ar-SA" sz="2900" spc="-1" strike="noStrike">
                <a:solidFill>
                  <a:srgbClr val="000000"/>
                </a:solidFill>
                <a:latin typeface="Tw Cen MT"/>
                <a:ea typeface="Arial"/>
              </a:rPr>
              <a:t>: إن دوام المجتمع واستمراره يتم بنقل الخبرات واتصال الأفراد. فالناس يعيشون جماعة بفضل ما يشتركون فيه من أهداف ومعلومات.</a:t>
            </a: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مهنية</a:t>
            </a:r>
            <a:r>
              <a:rPr b="0" lang="ar-SA" sz="2900" spc="-1" strike="noStrike">
                <a:solidFill>
                  <a:srgbClr val="000000"/>
                </a:solidFill>
                <a:latin typeface="Tw Cen MT"/>
                <a:ea typeface="Arial"/>
              </a:rPr>
              <a:t>: العمل على توفير الحقائق اللازمة وتبادلها لتيسير الاتفاق أو توضيح وجهات النظر حول القضايا العامة، وتوفير الأدلة الملائمة لكل الأمور التي تهم المجتمع محليا، وقوميا، ودولي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0" name=""/>
          <p:cNvSpPr txBox="1"/>
          <p:nvPr/>
        </p:nvSpPr>
        <p:spPr>
          <a:xfrm>
            <a:off x="457200" y="1599840"/>
            <a:ext cx="8229600" cy="52578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3</a:t>
            </a:r>
            <a:r>
              <a:rPr b="1" lang="ar-SA" sz="4800" spc="-1" strike="noStrike">
                <a:solidFill>
                  <a:srgbClr val="000000"/>
                </a:solidFill>
                <a:latin typeface="Tw Cen MT"/>
                <a:ea typeface="Arial"/>
              </a:rPr>
              <a:t>. الوظيفة الأكاديمية</a:t>
            </a:r>
            <a:r>
              <a:rPr b="0" lang="ar-SA" sz="2900" spc="-1" strike="noStrike">
                <a:solidFill>
                  <a:srgbClr val="000000"/>
                </a:solidFill>
                <a:latin typeface="Tw Cen MT"/>
                <a:ea typeface="Arial"/>
              </a:rPr>
              <a:t>: جمع وتخزين ومعالجة ونشر الأنباء والبيانات والصور والحقائق والرسائل والآراء والتعليقات، من اجل فهم الظروف الشخصية والبيئية والتصرف تجاهها من علم ومعرفة، والوصول إلى وضع يمكن من اتخاذ القرارات السليم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4</a:t>
            </a:r>
            <a:r>
              <a:rPr b="1" lang="ar-SA" sz="4800" spc="-1" strike="noStrike">
                <a:solidFill>
                  <a:srgbClr val="000000"/>
                </a:solidFill>
                <a:latin typeface="Tw Cen MT"/>
                <a:ea typeface="Arial"/>
              </a:rPr>
              <a:t>. الوظيفة الثقافية</a:t>
            </a:r>
            <a:r>
              <a:rPr b="0" lang="ar-SA" sz="2900" spc="-1" strike="noStrike">
                <a:solidFill>
                  <a:srgbClr val="000000"/>
                </a:solidFill>
                <a:latin typeface="Tw Cen MT"/>
                <a:ea typeface="Arial"/>
              </a:rPr>
              <a:t>: إن نقل الموروث الثقافي من جيل إلى آخر لخلق التضامن والاستمرارية في المجتمع عبر الأجيال، وذلك عن طريق الاتصال الكتابي.</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5</a:t>
            </a:r>
            <a:r>
              <a:rPr b="1" lang="ar-SA" sz="4800" spc="-1" strike="noStrike">
                <a:solidFill>
                  <a:srgbClr val="000000"/>
                </a:solidFill>
                <a:latin typeface="Tw Cen MT"/>
                <a:ea typeface="Arial"/>
              </a:rPr>
              <a:t>. الوظيفة التراثية</a:t>
            </a:r>
            <a:r>
              <a:rPr b="0" lang="ar-SA" sz="2900" spc="-1" strike="noStrike">
                <a:solidFill>
                  <a:srgbClr val="000000"/>
                </a:solidFill>
                <a:latin typeface="Tw Cen MT"/>
                <a:ea typeface="Arial"/>
              </a:rPr>
              <a:t>: نشر الأعمال الثقافية والفنية بهدف المحافظة على التراث والتطوير الثقافي عن طريق توسيع آفاق الفرد، وإيقاظ خياله وإشباع حاجاته الجمالية وإطلاق قدرته على الإبداع.</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تفاعل</a:t>
            </a:r>
            <a:endParaRPr b="0" lang="en-US" sz="48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تفاعل مشتركة بين طرفين لتبادل فكرة او خبرة معينة عن طريق وسيلة ما.</a:t>
            </a:r>
            <a:endParaRPr b="0" lang="en-US" sz="2900" spc="-1" strike="noStrike">
              <a:solidFill>
                <a:srgbClr val="000000"/>
              </a:solidFill>
              <a:latin typeface="Tw Cen MT"/>
            </a:endParaRPr>
          </a:p>
        </p:txBody>
      </p:sp>
      <p:pic>
        <p:nvPicPr>
          <p:cNvPr id="356" name="~PP998.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شكل</a:t>
            </a:r>
            <a:endParaRPr b="0" lang="en-US" sz="48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اجتماعية يقتضي تحقيقها وجود طرفين (مرسل ومستقبل) ونشوء تفاعل بينهما ينتج عنهما نقل الافكار او المعلومات او المهارات او الاتجاهات او المشاعر او تبادل التأثير ازاء موضوع (محور الاتصال).</a:t>
            </a:r>
            <a:endParaRPr b="0" lang="en-US" sz="2900" spc="-1" strike="noStrike">
              <a:solidFill>
                <a:srgbClr val="000000"/>
              </a:solidFill>
              <a:latin typeface="Tw Cen MT"/>
            </a:endParaRPr>
          </a:p>
        </p:txBody>
      </p:sp>
      <p:pic>
        <p:nvPicPr>
          <p:cNvPr id="359" name="~PP3197.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3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كيفية</a:t>
            </a:r>
            <a:endParaRPr b="0" lang="en-US" sz="48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الطريقة التي يتم من خلالها ايصال المعارف من فرد الى اخر او من فرد الى مجموعة حتى تصبح مشاعا بينهم ثم تؤدي الى التفاهم والتفاعل.</a:t>
            </a:r>
            <a:endParaRPr b="0" lang="en-US" sz="2900" spc="-1" strike="noStrike">
              <a:solidFill>
                <a:srgbClr val="000000"/>
              </a:solidFill>
              <a:latin typeface="Tw Cen MT"/>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مشاركة</a:t>
            </a:r>
            <a:endParaRPr b="0" lang="en-US" sz="48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مشاركة في الخبرة وجعلها مألوفة بين اثنين او اكثر من الأفراد.</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ركان عملية الاتصال</a:t>
            </a:r>
            <a:endParaRPr b="0" lang="en-US" sz="48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معارف أو معلومات لنقلها عبر عملية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فاعل بين عناصر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قبول المستقبل لرسالة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فهم مشترك بين المرسل والمستقب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775f55"/>
                </a:solidFill>
                <a:latin typeface="Tw Cen MT"/>
                <a:cs typeface="Arial"/>
              </a:rPr>
              <a:t>اذن مما سبق يمكن استخلاص مفهوم الاتصال بأنه</a:t>
            </a:r>
            <a:r>
              <a:rPr b="0" lang="ar-JO" sz="4000" spc="-1" strike="noStrike">
                <a:solidFill>
                  <a:srgbClr val="775f55"/>
                </a:solidFill>
                <a:latin typeface="Tw Cen MT"/>
                <a:ea typeface="Arial"/>
              </a:rPr>
              <a:t>:</a:t>
            </a:r>
            <a:endParaRPr b="0" lang="en-US" sz="40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عملية إنتاج، ونقل، وتبادل المعلومات، والأفكار، والآراء، والمشاعر من شخص إلى آخر بقصد التأثير فيه وإحداث الاستجابة المطلوبة.</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همية الاتصال</a:t>
            </a:r>
            <a:endParaRPr b="0" lang="en-US" sz="48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تتمثل اهمية الاتصال في بعدين اساسسين، هما:</a:t>
            </a:r>
            <a:endParaRPr b="0" lang="en-US" sz="2500" spc="-1" strike="noStrike">
              <a:solidFill>
                <a:srgbClr val="000000"/>
              </a:solidFill>
              <a:latin typeface="Tw Cen MT"/>
            </a:endParaRPr>
          </a:p>
          <a:p>
            <a:pPr marL="309240" indent="-30924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بعد الشخصي</a:t>
            </a:r>
            <a:endParaRPr b="0" lang="en-US" sz="40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لقدرة على انجاز الاهداف بالشكل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وجيه السلوك الفردي والجماعي للأفراد وتغيره</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وسيلة للتحفيز للقيام بالأدوار المطلوبة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نمية خبرات الأفراد ومهاراتهم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شباع حاجة الأفراد للانتماء الى الجماعة، فالأتصال بذاته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حاجة يسعى الى اشباعها</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نقل المعلومات، والبيانات، والاحصاءات، والمفاهيم بما يسهم في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اتخاذ القرارات المناسبة، وتتحقيق النجاح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04:45:10Z</dcterms:created>
  <dc:creator>owner</dc:creator>
  <dc:description/>
  <dc:language>en-US</dc:language>
  <cp:lastModifiedBy>admin</cp:lastModifiedBy>
  <dcterms:modified xsi:type="dcterms:W3CDTF">2011-10-10T10:36:40Z</dcterms:modified>
  <cp:revision>84</cp:revision>
  <dc:subject/>
  <dc:title>مفاهيم الاتصال</dc:title>
</cp:coreProperties>
</file>