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E8E55-929D-46FE-A2AB-B84ECB526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8C1A0-F29F-4305-BE37-E0CDE00D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D6C35-9B8E-4AE7-82DB-A7A6AB8B8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37B97-CBC7-4CBC-AE2A-D72486C34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D055F-D6F7-404B-98A7-31EDED35F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C4933-6A6C-4686-8940-269833B93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E46FC-D508-46DC-803A-F0E6CDC05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C2DDA-8168-4D57-BEC2-03352EBF6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A1291-42DE-4255-A937-DA5780A14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AAC2A-7266-40DB-AA90-B837D04BB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70800-59F0-4ED6-B53D-56C8F59F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340A-C8C4-4EE6-B56F-85320D6AB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6099-9741-446A-9E84-6969704ED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2B049-16E9-43FF-BA92-710DB4888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88490-BFEC-46F9-A8FB-1D6F906E3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7AAF8-B6A8-4744-A238-9BC7D1754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4A498-0A85-4BD0-AF52-E736F2532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2BA15DA-4D4B-4E4B-9F51-706E3CE05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226B0C-D0C9-40B1-BEEF-27610EAE2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0876F9-6F76-4A60-9A88-78D467E18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CB0998-4B1E-495B-BF5F-2FBCA567A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663E83-D9F0-4F67-BB16-DE6E43777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C2138-198C-4D9E-BD45-A6E8EE9A2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D8E6DA-5846-4AD5-80E1-A09FD1E8E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3DC529-4C2D-4F9F-B31C-E389EA846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5E0632-784E-40DA-BCE7-8E08BCBCD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4FD903-9970-4AD7-9C9D-A1855882F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49C3D5-223D-4712-9D87-D1793977D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F89C5C8-0622-44C7-B953-C41DE1056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4288984-ECEB-477D-96AF-959EF32E60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3245B09-594B-4C65-B44C-03D82257B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1C8660-8AC0-4B12-8FDA-DDB2D1784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058ECF-E235-4093-9E85-243B1D747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37E7-3D17-4054-B2DA-62036AAA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FECF5F-FF69-49A0-9638-3AF8C3744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4F018C-D5E4-4EDE-910D-9BD553141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63124A-1D6C-4E3C-B0A6-AE01BFD93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63E78B-F5A7-4D7B-832D-DE9FBEC2F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4FFF0F-7CD3-4BD8-B06C-486C4CC70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9FF85A-9654-40B6-AC47-B7F7DB31D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C99140-3355-4186-9074-F36F9854B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808839-0A92-493C-B511-F8E61C6EB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DA09EC5-4260-4661-A7D9-FA0607891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8B4DC5-45D5-4672-9065-332CCD841A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83BD5-219D-48A6-AD65-1C98F808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BF4E63-73DF-4C5C-9267-F5B74464A0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E0046B-A1E6-404F-B0BA-1A33F5704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F0EBDE-EEBA-41F8-8C1F-9526DA9D9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06BC02-C9C0-4CEE-96E8-8CDD29DB7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47E119-9777-4D7E-8DE7-1B6FB6B4C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72279C-2B09-4809-B59B-B21DAACE3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C2A1C6-805B-4657-A6A8-BA93C1A7E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6857E1-6FA1-4D92-9C58-EECB03078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2AD31E-A2AD-439B-B04E-DC0A56E50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69972F-AEA2-44F5-A505-19A1AA2B47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A58A-E8EC-487C-A151-6D979DB67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31FF99-CBAB-413C-9F3B-B0110B36D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798938-62BF-440B-BBCE-B9502B2609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DD11C-245B-460A-ADF4-0D5D5F730D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E53C9-60A9-454D-A000-2E0029B3A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A9EEC-80A8-49FF-A08A-8D3B6492B9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9EF8F4-3249-497D-A55B-E7A4AF0FB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80658-064D-417D-B0A2-FCFAE597D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D4400-3A87-456D-A014-DE62C74D3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032AF-223F-4005-B79B-79C232649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05353-B775-4848-9FEA-5E6C29056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9877-93CA-40D9-A322-2E05ACAD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32C61A-20B4-4DA9-A243-328C94FC6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F28429-863B-48E4-A4AD-63001E7C81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ABBFA5-B848-4753-844D-9F5D7BA7D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04DB058-64F1-42EC-A395-6174BB9B0F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2A47F3-F83B-45DC-BEBE-F829EE80E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B4D996-C994-462E-A64E-31BB475E6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7CBED4B-0675-4616-8817-E22AB2C504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07DA87-4AD3-4E2E-9D85-107511CA2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C65E2D-B286-4F66-86E8-E5B9797B7A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2D2BFC-64DE-480E-8031-DB5970BD6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30D8-B287-4E45-AA40-BA8228BA2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9FB89C-77CB-4C7D-9C74-94C599C30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150CEF-A4D5-4904-9001-086413C05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20700C-5A6F-4541-894E-0375A59379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8F9F54E-BDA0-4021-B682-3D1630477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FF930E8-6CC9-4F4D-ABC5-3862FEA9F6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3E6555-497D-4716-929F-5A9E04EE5E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6AD13C-48FD-4406-B4F9-F1D5208C33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1D2700-2F6D-4478-BC0B-AC02491761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69CD4-3092-4791-A7B5-FF85A7159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0BBD45-3A93-4BFF-BDF7-290504D98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1DCD-90A7-47A2-8234-849A4C812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0AF9E-4AE9-425F-AA42-FD78F839B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1E2A16-E349-4A11-B8FE-DC97BFABE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9B954-12D4-4F1C-8A4A-1CD30B29C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87BFB9-BA99-457A-B8F5-920BA5443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5E88B9-6B19-487F-8E27-00A889FCC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1B39E1-89EA-4CCB-B7F6-99485513F9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929646-E04C-48A0-89C1-6463135545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340B-48E4-4491-81E0-119FDDBBA1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6CED-F683-47AA-A6DA-FD1C1244679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6881-04B0-417F-93E4-F2779926E59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3882-A8EA-4E7E-B5C5-C1F84908A8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7A06-B576-4A39-9204-BF4341BEE7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8DB9-701F-4922-ABE1-0E2C862F50DF}"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9052-6FC0-4A03-8A8E-D00D2029F62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FE71-CBBD-4051-8160-F00306C34AF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ebddc3"/>
                </a:solidFill>
                <a:latin typeface="Tw Cen MT"/>
                <a:cs typeface="Arial"/>
              </a:rPr>
              <a:t>مفاهيم الاتصال</a:t>
            </a:r>
            <a:endParaRPr b="0" lang="en-US" sz="6600" spc="-1" strike="noStrike">
              <a:solidFill>
                <a:srgbClr val="ebddc3"/>
              </a:solidFill>
              <a:latin typeface="Tw Cen M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09480"/>
            <a:ext cx="8229600" cy="551664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ea typeface="Arial"/>
              </a:rPr>
              <a:t>2</a:t>
            </a:r>
            <a:r>
              <a:rPr b="1" lang="ar-JO" sz="4000" spc="-1" strike="noStrike">
                <a:solidFill>
                  <a:srgbClr val="000000"/>
                </a:solidFill>
                <a:latin typeface="Tw Cen MT"/>
                <a:ea typeface="Arial"/>
              </a:rPr>
              <a:t>. البعد الاجتماعي</a:t>
            </a:r>
            <a:endParaRPr b="0" lang="en-US" sz="40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وسيلة هادفة لضمان التفاعل والتبادل المشترك بي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نمية العلاقات الشخصية بين 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حقيق التفاهم بين القيادة والعاملين، وممارسة العلاقات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إنسانية، وتحقيق الرضا في العمل، ورفع الروح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معنوي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يمثل الاتصال جزءا كبرا من أعمال الأفراد اليومية،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يقدر بعض الخبراء أنها تستهلك ما بين </a:t>
            </a:r>
            <a:r>
              <a:rPr b="0" lang="ar-JO" sz="2900" spc="-1" strike="noStrike">
                <a:solidFill>
                  <a:srgbClr val="000000"/>
                </a:solidFill>
                <a:latin typeface="Tw Cen MT"/>
                <a:ea typeface="Arial"/>
              </a:rPr>
              <a:t>75</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90</a:t>
            </a:r>
            <a:r>
              <a:rPr b="0" lang="ar-JO" sz="2900" spc="-1" strike="noStrike">
                <a:solidFill>
                  <a:srgbClr val="000000"/>
                </a:solidFill>
                <a:latin typeface="Tw Cen MT"/>
                <a:ea typeface="Arial"/>
              </a:rPr>
              <a:t>% م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قت الأشخاص سواء مع ذواتهم أو مع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عناصر عملية الاتصال</a:t>
            </a:r>
            <a:endParaRPr b="0" lang="en-US" sz="48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fontScale="87000"/>
          </a:bodyPr>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مرسل</a:t>
            </a:r>
            <a:r>
              <a:rPr b="0" lang="ar-JO" sz="2700" spc="-1" strike="noStrike">
                <a:solidFill>
                  <a:srgbClr val="000000"/>
                </a:solidFill>
                <a:latin typeface="Tw Cen MT"/>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رسالة</a:t>
            </a:r>
            <a:r>
              <a:rPr b="0" lang="ar-JO" sz="2700" spc="-1" strike="noStrike">
                <a:solidFill>
                  <a:srgbClr val="000000"/>
                </a:solidFill>
                <a:latin typeface="Tw Cen MT"/>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وسيلة (القناة): </a:t>
            </a:r>
            <a:r>
              <a:rPr b="0" lang="ar-JO" sz="2700" spc="-1" strike="noStrike">
                <a:solidFill>
                  <a:srgbClr val="000000"/>
                </a:solidFill>
                <a:latin typeface="Tw Cen MT"/>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533160"/>
            <a:ext cx="8229600" cy="55926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4</a:t>
            </a:r>
            <a:r>
              <a:rPr b="1" lang="ar-JO" sz="4400" spc="-1" strike="noStrike">
                <a:solidFill>
                  <a:srgbClr val="000000"/>
                </a:solidFill>
                <a:latin typeface="Tw Cen MT"/>
                <a:ea typeface="Arial"/>
              </a:rPr>
              <a:t>. المستقبل</a:t>
            </a:r>
            <a:r>
              <a:rPr b="0" lang="ar-JO" sz="2900" spc="-1" strike="noStrike">
                <a:solidFill>
                  <a:srgbClr val="000000"/>
                </a:solidFill>
                <a:latin typeface="Tw Cen MT"/>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5</a:t>
            </a:r>
            <a:r>
              <a:rPr b="1" lang="ar-JO" sz="4400" spc="-1" strike="noStrike">
                <a:solidFill>
                  <a:srgbClr val="000000"/>
                </a:solidFill>
                <a:latin typeface="Tw Cen MT"/>
                <a:ea typeface="Arial"/>
              </a:rPr>
              <a:t>. التغذية الراجعة</a:t>
            </a:r>
            <a:r>
              <a:rPr b="0" lang="ar-JO" sz="2900" spc="-1" strike="noStrike">
                <a:solidFill>
                  <a:srgbClr val="000000"/>
                </a:solidFill>
                <a:latin typeface="Tw Cen MT"/>
                <a:ea typeface="Arial"/>
              </a:rPr>
              <a:t>: استجابة المستقبل إلي يستدل بها المرسل عن تأثير رسالته في المستقبل، ووجهة نظر المستقبل بشأنها. تسمى بمصطلح ”رد الفع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خطوات الاتصال</a:t>
            </a:r>
            <a:endParaRPr b="0" lang="en-US" sz="48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كوين الفكرة لدى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حويل الفكرة إلى 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نقل الفكرة خلال قناة 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سليم الرسالة</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فسير ال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صرف</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نواع الاتصال</a:t>
            </a:r>
            <a:endParaRPr b="0" lang="en-US" sz="4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قسم الاتصال إلى قسمين:</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أولا: الاتصال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ثانيا: الاتصال غير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شفه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كتاب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شفهي</a:t>
            </a:r>
            <a:br>
              <a:rPr sz="4000"/>
            </a:br>
            <a:endParaRPr b="0" lang="en-US" sz="48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تحدث</a:t>
            </a:r>
            <a:r>
              <a:rPr b="0" lang="ar-JO" sz="2900" spc="-1" strike="noStrike">
                <a:solidFill>
                  <a:srgbClr val="000000"/>
                </a:solidFill>
                <a:latin typeface="Tw Cen MT"/>
                <a:ea typeface="Arial"/>
              </a:rPr>
              <a:t>: تتم عن طريق نقل الرسالة بواسطة استخدام الكلمات مشافه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ة الاستماع</a:t>
            </a:r>
            <a:r>
              <a:rPr b="0" lang="ar-JO" sz="2900" spc="-1" strike="noStrike">
                <a:solidFill>
                  <a:srgbClr val="000000"/>
                </a:solidFill>
                <a:latin typeface="Tw Cen MT"/>
                <a:ea typeface="Arial"/>
              </a:rPr>
              <a:t>: تتم عن طريق استقبال الرسالة الكلامية، وفهم معانيها من قبل المستقب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كتابي</a:t>
            </a:r>
            <a:endParaRPr b="0" lang="en-US" sz="48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كتابة</a:t>
            </a:r>
            <a:r>
              <a:rPr b="0" lang="ar-JO" sz="2900" spc="-1" strike="noStrike">
                <a:solidFill>
                  <a:srgbClr val="000000"/>
                </a:solidFill>
                <a:latin typeface="Tw Cen MT"/>
                <a:ea typeface="Arial"/>
              </a:rPr>
              <a:t>: تتم عن طريق نقل الرسالة بواسطة استخدام الكلمات المكتوب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قراءة</a:t>
            </a:r>
            <a:r>
              <a:rPr b="0" lang="ar-JO" sz="2900" spc="-1" strike="noStrike">
                <a:solidFill>
                  <a:srgbClr val="000000"/>
                </a:solidFill>
                <a:latin typeface="Tw Cen MT"/>
                <a:ea typeface="Arial"/>
              </a:rPr>
              <a:t>: تتم عن طريق استقبال الرسالة المكتوبة، وفهم معانيها من قبل المستقبل.</a:t>
            </a:r>
            <a:endParaRPr b="0" lang="en-US" sz="2900" spc="-1" strike="noStrike">
              <a:solidFill>
                <a:srgbClr val="000000"/>
              </a:solidFill>
              <a:latin typeface="Tw Cen MT"/>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85" name=""/>
          <p:cNvSpPr txBox="1"/>
          <p:nvPr/>
        </p:nvSpPr>
        <p:spPr>
          <a:xfrm>
            <a:off x="60912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سهل الرجوع اليه لتحديد المسؤولي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وثق المعلومات للاستفادة منها في المستقبل.</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ضمن نقل بعض المعلومات والأجوبة لعدد كبير من الافراد</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700" spc="-1" strike="noStrike">
                <a:solidFill>
                  <a:srgbClr val="000000"/>
                </a:solidFill>
                <a:latin typeface="Tw Cen MT"/>
                <a:cs typeface="Arial"/>
              </a:rPr>
              <a:t>مثل</a:t>
            </a:r>
            <a:r>
              <a:rPr b="0" lang="ar-JO" sz="2700" spc="-1" strike="noStrike">
                <a:solidFill>
                  <a:srgbClr val="000000"/>
                </a:solidFill>
                <a:latin typeface="Tw Cen MT"/>
                <a:ea typeface="Arial"/>
              </a:rPr>
              <a:t>:</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تقارير، والمذكر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منشورات، والشكاوي.</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لوحات البيانية ووسائل الايضاح البصرية.</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جرائد الحائطية.</a:t>
            </a:r>
            <a:endParaRPr b="0" lang="en-US" sz="2700" spc="-1" strike="noStrike">
              <a:solidFill>
                <a:srgbClr val="000000"/>
              </a:solidFill>
              <a:latin typeface="Tw Cen MT"/>
            </a:endParaRPr>
          </a:p>
        </p:txBody>
      </p:sp>
      <p:sp>
        <p:nvSpPr>
          <p:cNvPr id="386" name=""/>
          <p:cNvSpPr txBox="1"/>
          <p:nvPr/>
        </p:nvSpPr>
        <p:spPr>
          <a:xfrm>
            <a:off x="480024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قوي روح التعاون والصداق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زيل التوتر والضغوط نتيجة اخراج ما في الصدور</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شجع على تبادل الاسئلة ولذلك فهو فعال في تقريب المفاهيم</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سرع عملية تبادل الأفكار والمعلومات والاراء فهو يوفر الوقت والجهد.</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w Cen MT"/>
                <a:cs typeface="Arial"/>
              </a:rPr>
              <a:t>مثل</a:t>
            </a:r>
            <a:r>
              <a:rPr b="0" lang="ar-JO" sz="2500" spc="-1" strike="noStrike">
                <a:solidFill>
                  <a:srgbClr val="000000"/>
                </a:solidFill>
                <a:latin typeface="Tw Cen MT"/>
                <a:ea typeface="Arial"/>
              </a:rPr>
              <a:t>:</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قابلات الشخص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كالمات التلفون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لجان والاجتماعات والمؤتمرات</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حاضرات</a:t>
            </a: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7"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كتابي</a:t>
            </a:r>
            <a:endParaRPr b="0" lang="en-US" sz="2000" spc="-1" strike="noStrike">
              <a:solidFill>
                <a:srgbClr val="000000"/>
              </a:solidFill>
              <a:latin typeface="Tw Cen MT"/>
            </a:endParaRPr>
          </a:p>
        </p:txBody>
      </p:sp>
      <p:sp>
        <p:nvSpPr>
          <p:cNvPr id="388"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شفهي</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0" name=""/>
          <p:cNvSpPr txBox="1"/>
          <p:nvPr/>
        </p:nvSpPr>
        <p:spPr>
          <a:xfrm>
            <a:off x="457200" y="1599840"/>
            <a:ext cx="8229600" cy="487692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نقسم الاتصال غير اللفظي إلى قسمين:</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بصري.</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صوتي.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تؤدي العينان وظيفتين رئيسيتين في الاتصال غير اللفظي:</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1</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فير التغذية الراجعة</a:t>
            </a:r>
            <a:r>
              <a:rPr b="0" lang="ar-SA" sz="2900" spc="-1" strike="noStrike">
                <a:solidFill>
                  <a:srgbClr val="000000"/>
                </a:solidFill>
                <a:latin typeface="Tw Cen MT"/>
                <a:ea typeface="Arial"/>
              </a:rPr>
              <a:t>. </a:t>
            </a:r>
            <a:r>
              <a:rPr b="1" lang="ar-SA" sz="2900" spc="-1" strike="noStrike">
                <a:solidFill>
                  <a:srgbClr val="000000"/>
                </a:solidFill>
                <a:latin typeface="Tw Cen MT"/>
                <a:ea typeface="Arial"/>
              </a:rPr>
              <a:t>2</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ثيق الاتصال بين أطراف الاتصا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هدف</a:t>
            </a:r>
            <a:endParaRPr b="0" lang="en-US" sz="4800" spc="-1" strike="noStrike">
              <a:solidFill>
                <a:srgbClr val="775f55"/>
              </a:solidFill>
              <a:latin typeface="Tw Cen MT"/>
            </a:endParaRPr>
          </a:p>
        </p:txBody>
      </p:sp>
      <p:sp>
        <p:nvSpPr>
          <p:cNvPr id="35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2900" spc="-1" strike="noStrike">
              <a:solidFill>
                <a:srgbClr val="000000"/>
              </a:solidFill>
              <a:latin typeface="Tw Cen MT"/>
            </a:endParaRPr>
          </a:p>
        </p:txBody>
      </p:sp>
      <p:pic>
        <p:nvPicPr>
          <p:cNvPr id="353" name="~PP124.WAV" descr=""/>
          <p:cNvPicPr/>
          <p:nvPr/>
        </p:nvPicPr>
        <p:blipFill>
          <a:blip r:embed="rId1"/>
          <a:stretch/>
        </p:blipFill>
        <p:spPr>
          <a:xfrm>
            <a:off x="8724960" y="643896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بصري</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صوت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اتصال غير اللفظي البصري والصوتي</a:t>
            </a: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وضح ردود الفعل العكسية.</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ؤثر في الروح المعنوية للأفراد حيث أن الأفعال تتحدث بصوت أعلى من الكلمات.</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له أثره البالغ لدى الأفراد ذوي الكفاءات والثقافة العالية.</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ثل:</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الإيماءات.</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حركات الوجه السكوت، والغضب، والانفعال الابتسامة، ونبرات الصوت.</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r>
              <a:rPr b="0" lang="ar-SA" sz="4400" spc="-1" strike="noStrike">
                <a:solidFill>
                  <a:srgbClr val="775f55"/>
                </a:solidFill>
                <a:latin typeface="Tw Cen MT"/>
                <a:ea typeface="Arial"/>
              </a:rPr>
              <a:t> </a:t>
            </a:r>
            <a:endParaRPr b="0" lang="en-US" sz="4400" spc="-1" strike="noStrike">
              <a:solidFill>
                <a:srgbClr val="775f55"/>
              </a:solidFill>
              <a:latin typeface="Tw Cen MT"/>
            </a:endParaRPr>
          </a:p>
        </p:txBody>
      </p:sp>
      <p:sp>
        <p:nvSpPr>
          <p:cNvPr id="398" name=""/>
          <p:cNvSpPr txBox="1"/>
          <p:nvPr/>
        </p:nvSpPr>
        <p:spPr>
          <a:xfrm>
            <a:off x="457200" y="1599840"/>
            <a:ext cx="8229600" cy="4724280"/>
          </a:xfrm>
          <a:prstGeom prst="rect">
            <a:avLst/>
          </a:prstGeom>
          <a:noFill/>
          <a:ln w="0">
            <a:noFill/>
          </a:ln>
        </p:spPr>
        <p:txBody>
          <a:bodyPr lIns="90000" rIns="90000" tIns="46800" bIns="46800" anchor="t">
            <a:normAutofit fontScale="91000"/>
          </a:bodyPr>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اجتماعية</a:t>
            </a:r>
            <a:r>
              <a:rPr b="0" lang="ar-SA" sz="2900" spc="-1" strike="noStrike">
                <a:solidFill>
                  <a:srgbClr val="000000"/>
                </a:solidFill>
                <a:latin typeface="Tw Cen MT"/>
                <a:ea typeface="Arial"/>
              </a:rPr>
              <a:t>: إن دوام المجتمع واستمراره يتم بنقل الخبرات واتصال الأفراد. فالناس يعيشون جماعة بفضل ما يشتركون فيه من أهداف ومعلومات.</a:t>
            </a: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مهنية</a:t>
            </a:r>
            <a:r>
              <a:rPr b="0" lang="ar-SA" sz="2900" spc="-1" strike="noStrike">
                <a:solidFill>
                  <a:srgbClr val="000000"/>
                </a:solidFill>
                <a:latin typeface="Tw Cen MT"/>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0" name=""/>
          <p:cNvSpPr txBox="1"/>
          <p:nvPr/>
        </p:nvSpPr>
        <p:spPr>
          <a:xfrm>
            <a:off x="457200" y="1599840"/>
            <a:ext cx="8229600" cy="52578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3</a:t>
            </a:r>
            <a:r>
              <a:rPr b="1" lang="ar-SA" sz="4800" spc="-1" strike="noStrike">
                <a:solidFill>
                  <a:srgbClr val="000000"/>
                </a:solidFill>
                <a:latin typeface="Tw Cen MT"/>
                <a:ea typeface="Arial"/>
              </a:rPr>
              <a:t>. الوظيفة الأكاديمية</a:t>
            </a:r>
            <a:r>
              <a:rPr b="0" lang="ar-SA" sz="2900" spc="-1" strike="noStrike">
                <a:solidFill>
                  <a:srgbClr val="000000"/>
                </a:solidFill>
                <a:latin typeface="Tw Cen MT"/>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4</a:t>
            </a:r>
            <a:r>
              <a:rPr b="1" lang="ar-SA" sz="4800" spc="-1" strike="noStrike">
                <a:solidFill>
                  <a:srgbClr val="000000"/>
                </a:solidFill>
                <a:latin typeface="Tw Cen MT"/>
                <a:ea typeface="Arial"/>
              </a:rPr>
              <a:t>. الوظيفة الثقافية</a:t>
            </a:r>
            <a:r>
              <a:rPr b="0" lang="ar-SA" sz="2900" spc="-1" strike="noStrike">
                <a:solidFill>
                  <a:srgbClr val="000000"/>
                </a:solidFill>
                <a:latin typeface="Tw Cen MT"/>
                <a:ea typeface="Arial"/>
              </a:rPr>
              <a:t>: إن نقل الموروث الثقافي من جيل إلى آخر لخلق التضامن والاستمرارية في المجتمع عبر الأجيال، وذلك عن طريق الاتصال الكتابي.</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5</a:t>
            </a:r>
            <a:r>
              <a:rPr b="1" lang="ar-SA" sz="4800" spc="-1" strike="noStrike">
                <a:solidFill>
                  <a:srgbClr val="000000"/>
                </a:solidFill>
                <a:latin typeface="Tw Cen MT"/>
                <a:ea typeface="Arial"/>
              </a:rPr>
              <a:t>. الوظيفة التراثية</a:t>
            </a:r>
            <a:r>
              <a:rPr b="0" lang="ar-SA" sz="2900" spc="-1" strike="noStrike">
                <a:solidFill>
                  <a:srgbClr val="000000"/>
                </a:solidFill>
                <a:latin typeface="Tw Cen MT"/>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تفاعل</a:t>
            </a:r>
            <a:endParaRPr b="0" lang="en-US" sz="48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تفاعل مشتركة بين طرفين لتبادل فكرة او خبرة معينة عن طريق وسيلة ما.</a:t>
            </a:r>
            <a:endParaRPr b="0" lang="en-US" sz="2900" spc="-1" strike="noStrike">
              <a:solidFill>
                <a:srgbClr val="000000"/>
              </a:solidFill>
              <a:latin typeface="Tw Cen MT"/>
            </a:endParaRPr>
          </a:p>
        </p:txBody>
      </p:sp>
      <p:pic>
        <p:nvPicPr>
          <p:cNvPr id="356" name="~PP998.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شكل</a:t>
            </a:r>
            <a:endParaRPr b="0" lang="en-US" sz="48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2900" spc="-1" strike="noStrike">
              <a:solidFill>
                <a:srgbClr val="000000"/>
              </a:solidFill>
              <a:latin typeface="Tw Cen MT"/>
            </a:endParaRPr>
          </a:p>
        </p:txBody>
      </p:sp>
      <p:pic>
        <p:nvPicPr>
          <p:cNvPr id="359" name="~PP3197.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كيفية</a:t>
            </a:r>
            <a:endParaRPr b="0" lang="en-US" sz="4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2900" spc="-1" strike="noStrike">
              <a:solidFill>
                <a:srgbClr val="000000"/>
              </a:solidFill>
              <a:latin typeface="Tw Cen MT"/>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مشاركة</a:t>
            </a:r>
            <a:endParaRPr b="0" lang="en-US" sz="48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مشاركة في الخبرة وجعلها مألوفة بين اثنين او اكثر من الأفراد.</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ركان عملية الاتصال</a:t>
            </a:r>
            <a:endParaRPr b="0" lang="en-US" sz="48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معارف أو معلومات لنقلها عبر عملية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فاعل بين عناصر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قبول المستقبل لرسالة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فهم مشترك بين المرسل والمستقب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775f55"/>
                </a:solidFill>
                <a:latin typeface="Tw Cen MT"/>
                <a:cs typeface="Arial"/>
              </a:rPr>
              <a:t>اذن مما سبق يمكن استخلاص مفهوم الاتصال بأنه</a:t>
            </a:r>
            <a:r>
              <a:rPr b="0" lang="ar-JO" sz="4000" spc="-1" strike="noStrike">
                <a:solidFill>
                  <a:srgbClr val="775f55"/>
                </a:solidFill>
                <a:latin typeface="Tw Cen MT"/>
                <a:ea typeface="Arial"/>
              </a:rPr>
              <a:t>:</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همية الاتصال</a:t>
            </a:r>
            <a:endParaRPr b="0" lang="en-US" sz="48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تتمثل اهمية الاتصال في بعدين اساسسين، هما:</a:t>
            </a:r>
            <a:endParaRPr b="0" lang="en-US" sz="2500" spc="-1" strike="noStrike">
              <a:solidFill>
                <a:srgbClr val="000000"/>
              </a:solidFill>
              <a:latin typeface="Tw Cen MT"/>
            </a:endParaRPr>
          </a:p>
          <a:p>
            <a:pPr marL="309240" indent="-30924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بعد الشخصي</a:t>
            </a:r>
            <a:endParaRPr b="0" lang="en-US" sz="40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لقدرة على انجاز الاهداف بالشكل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وجيه السلوك الفردي والجماعي للأفراد وتغيره</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وسيلة للتحفيز للقيام بالأدوار المطلوبة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نمية خبرات الأفراد ومهاراتهم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شباع حاجة الأفراد للانتماء الى الجماعة، فالأتصال بذاته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حاجة يسعى الى اشباعها</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نقل المعلومات، والبيانات، والاحصاءات، والمفاهيم بما يسهم في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اتخاذ القرارات المناسبة، وتتحقيق النجاح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10T10:36:40Z</dcterms:modified>
  <cp:revision>84</cp:revision>
  <dc:subject/>
  <dc:title>مفاهيم الاتصال</dc:title>
</cp:coreProperties>
</file>