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DD4-0F41-4EAC-9BF7-0D758E15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84F-2DA3-4441-B7E1-349977C5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1D3-CB3C-4048-8763-61ECCDFB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498-FBE4-494C-90D0-7C3B92E9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AB2-B98A-481E-85E8-9D8BEF1A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943-88E8-4FBA-8A8B-F8E437D9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5A2-8CF4-4C96-B70D-6F6D9E6C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FC1-3F42-4EF9-9CF2-7626F013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C49-C4F3-4FCC-9249-30D70CAD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242-30AB-44FB-9E0E-B72BFF0C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6AB-990C-446E-9453-FF96009E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416-9093-4150-BA5F-5FF1FBCE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A4DD-F89B-44B4-8344-02055C8BB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نواقض الإيم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66"/>
                </a:solidFill>
                <a:latin typeface="Arial"/>
                <a:cs typeface="Monotype Koufi"/>
              </a:rPr>
              <a:t>معنى النواق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في اللغة : النقض في البن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وفي الاصطلاح:  اعتقادات أو أقوال أو أفعال تزيل الإيمان وتقطعه ويدخل ي هذه النواقض ما يخرج من الملكة كالشرك الأكبر والكفر الأكبر والنفاق الأ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ffff66"/>
                </a:solidFill>
                <a:latin typeface="Arial"/>
              </a:rPr>
              <a:t>نواقض الإيمان كثير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أولا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ــ النواقض الإعتق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i-IN" sz="3200" spc="-1" strike="noStrike">
                <a:solidFill>
                  <a:srgbClr val="ffff66"/>
                </a:solidFill>
                <a:latin typeface="Arial"/>
              </a:rPr>
              <a:t>ثانيا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ــ النواقض القو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hi-IN" sz="3200" spc="-1" strike="noStrike">
                <a:solidFill>
                  <a:srgbClr val="ffff66"/>
                </a:solidFill>
                <a:latin typeface="Arial"/>
              </a:rPr>
              <a:t>ثالثا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ــ النواقض العم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66"/>
                </a:solidFill>
                <a:uFillTx/>
                <a:latin typeface="Arial"/>
              </a:rPr>
              <a:t>أولاً: نواقض الإيمان الاعتقاد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ــ الشرك بالله تعالى ( من الناحية العقد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جحود والتكذيب بشيء من الفرائض والواجب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ستحلال أمر معلوم من الدين بالضرورة تحريم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ـ الشك في حكم من أحكام الله عز وجل أو في خبر من أخبار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ـ من لم يكفر المشركين أو شك في كفرهم، أو صحح مذه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عتقاد أن بعض الناس لا يجب عليه اتباع النبي صلى الله عليه وسلم، وأنه يسعه الخروج عن شريعت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إعراض عن دين الله لا يتعلمه ولا يعمل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نفاق الإعتقادي (وهو النفاق الأكب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إباء والاستكبار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4400" spc="-1" strike="noStrike" u="sng">
                <a:solidFill>
                  <a:srgbClr val="ffffff"/>
                </a:solidFill>
                <a:uFillTx/>
                <a:latin typeface="Arial"/>
              </a:rPr>
              <a:t>ثانياً: نواقض الإيمان القول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ـ سب الله تعالى أو رسله أو كتبه أو دين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إستهزاء بالله، أو دينه، أو رسله، أو كتب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إنكار معلوم من الدين بالضر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دعاء النبو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دعاء علم الغيب، كالتنجيم والكهانة والعراف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الثاً: نواقض الإيمان العم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شرك في عبادة الله عز وجل (أي الشرك بالعمل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ــ السحر: هو في اللغة ما خفي ولطف سب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في الشرع هو قسما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القسم الأول: عقد ورقى، أو قراءات وطلاسم يتوصل بها الساحر إلى استخدام الشياطين فيما يريد به ضرر المسح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سم الثاني: أدوية وعقاقير تؤثر على بدن المسحور وعقله وإرادت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الأول شرك يكفر فاعل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الثاني عدوان وفسق لا يكفر فاعله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ــ الاستهانة بالمصح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ــ مظاهرة المشركين ومعاونتهم على المسلم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هل السنة يفرقون بين التكفير باطلاق والتكفير بالتعيي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أن يحكم بالظاهر، فأهل السنة لا تكون أحكامهم مبنية على الظنون والأوه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احتياط في تكفير المع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عدم تكفير المعين إلا بعد قيام الح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عدم التكفير بكل ذن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  <a:cs typeface="Monotype Koufi"/>
              </a:rPr>
              <a:t>موانع التكف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جه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خطأ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الإكرا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تأو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التقل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4:44:56Z</dcterms:created>
  <dc:creator>user</dc:creator>
  <dc:description/>
  <dc:language>en-US</dc:language>
  <cp:lastModifiedBy>user</cp:lastModifiedBy>
  <dcterms:modified xsi:type="dcterms:W3CDTF">2005-06-17T08:30:31Z</dcterms:modified>
  <cp:revision>13</cp:revision>
  <dc:subject/>
  <dc:title>الشريحة 1</dc:title>
</cp:coreProperties>
</file>