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3FF-80DD-4CA0-8A48-A68A049F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96E-F92E-4152-A40C-418FDA7D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178-5AB6-4BCF-9BFE-22ED112D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524-4AE0-4434-857B-600BE20C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8A3-307E-469C-A35B-6283884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DFB-DD3E-4017-B7C7-92680985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BC6-A072-41A8-8978-947F0790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D48-E60F-43FA-9628-2E9061C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E67-396F-4A72-BE0D-9B444FE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691-9FCD-4FD4-86C8-8993DC7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ECA-4BF6-414A-8827-D3F6E9B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E7B-0D29-411A-9417-50C6A6D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93AD-D95F-41CB-B3AD-52826B58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نواقض الإيم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66"/>
                </a:solidFill>
                <a:latin typeface="Arial"/>
                <a:cs typeface="Monotype Koufi"/>
              </a:rPr>
              <a:t>معنى النواق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في اللغة : النقض في الب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وفي الاصطلاح:  اعتقادات أو أقوال أو أفعال تزيل الإيمان وتقطعه ويدخل ي هذه النواقض ما يخرج من الملكة كالشرك الأكبر والكفر الأكبر والنفاق الأ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ffff66"/>
                </a:solidFill>
                <a:latin typeface="Arial"/>
              </a:rPr>
              <a:t>نواقض الإيمان كثير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أول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إعتق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3200" spc="-1" strike="noStrike">
                <a:solidFill>
                  <a:srgbClr val="ffff66"/>
                </a:solidFill>
                <a:latin typeface="Arial"/>
              </a:rPr>
              <a:t>ثاني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ق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3200" spc="-1" strike="noStrike">
                <a:solidFill>
                  <a:srgbClr val="ffff66"/>
                </a:solidFill>
                <a:latin typeface="Arial"/>
              </a:rPr>
              <a:t>ثالث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ع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66"/>
                </a:solidFill>
                <a:uFillTx/>
                <a:latin typeface="Arial"/>
              </a:rPr>
              <a:t>أولاً: نواقض الإيمان الاعتقاد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ــ الشرك بالله تعالى ( من الناحية العقد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جحود والتكذيب بشيء من الفرائض والواجب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ستحلال أمر معلوم من الدين بالضرورة تحريم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الشك في حكم من أحكام الله عز وجل أو في خبر من أخبار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من لم يكفر المشركين أو شك في كفرهم، أو صحح مذه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عتقاد أن بعض الناس لا يجب عليه اتباع النبي صلى الله عليه وسلم، وأنه يسعه الخروج عن شريعت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عراض عن دين الله لا يتعلمه ولا يعمل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نفاق الإعتقادي (وهو النفاق الأكب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باء والاستكبار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4400" spc="-1" strike="noStrike" u="sng">
                <a:solidFill>
                  <a:srgbClr val="ffffff"/>
                </a:solidFill>
                <a:uFillTx/>
                <a:latin typeface="Arial"/>
              </a:rPr>
              <a:t>ثانياً: نواقض الإيمان القول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سب الله تعالى أو رسله أو كتبه أو دين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ستهزاء بالله، أو دينه، أو رسله، أو كت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إنكار معلوم من الدين بالضر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دعاء النبو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دعاء علم الغيب، كالتنجيم والكهانة والعراف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لثاً: نواقض الإيمان الع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شرك في عبادة الله عز وجل (أي الشرك بالعم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ــ السحر: هو في اللغة ما خفي ولطف سب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في الشرع هو قسما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القسم الأول: عقد ورقى، أو قراءات وطلاسم يتوصل بها الساحر إلى استخدام الشياطين فيما يريد به ضرر المسح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سم الثاني: أدوية وعقاقير تؤثر على بدن المسحور وعقله وإرادت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أول شرك يكفر فاعل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ثاني عدوان وفسق لا يكفر فاعله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ــ الاستهانة بالمصح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ــ مظاهرة المشركين ومعاونتهم على المسلم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هل السنة يفرقون بين التكفير باطلاق والتكفير بالتعيي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أن يحكم بالظاهر، فأهل السنة لا تكون أحكامهم مبنية على الظنون والأوه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احتياط في تكفير الم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دم تكفير المعين إلا بعد قيام الح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دم التكفير بكل ذن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  <a:cs typeface="Monotype Koufi"/>
              </a:rPr>
              <a:t>موانع التكف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ه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خطأ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إكرا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أو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تقل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4:44:56Z</dcterms:created>
  <dc:creator>user</dc:creator>
  <dc:description/>
  <dc:language>en-US</dc:language>
  <cp:lastModifiedBy>user</cp:lastModifiedBy>
  <dcterms:modified xsi:type="dcterms:W3CDTF">2005-06-17T08:30:31Z</dcterms:modified>
  <cp:revision>13</cp:revision>
  <dc:subject/>
  <dc:title>الشريحة 1</dc:title>
</cp:coreProperties>
</file>