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4855C-36D8-4809-8847-0FE29956F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79198-B7CA-4054-84FE-41B331EB3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8BDC8-47B0-4593-9573-CFB6F3DE8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2056F-25E8-4CBC-89D3-1A651B4E3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E23C0-6085-4CE2-AB84-76627B1F9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E380A-36A1-4590-9A4B-3A7DD567C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32586-0A61-4FC3-BA5F-C442A99A3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A2F18-804F-4616-9BBC-C31FD7F5F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0AA7B-E645-44E9-9A63-E0365088A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58E42-20DA-4506-841D-9761BCFD7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6E039-43F3-48EE-A3C3-54F5717BB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79AF7-F8DA-4F15-BE6B-ADC070827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24035-6A17-4E10-9A52-0EF3D3B27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582D3-2F09-40FD-9E87-405B2DF14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4E027-A937-4E15-9A42-7AE5406F9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CF1DA-6752-43E5-AD12-B4E906E02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3FBA2-EE94-4D5B-9114-3147F60E7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6868A-67C5-4F6C-86B5-3D1AAA6BE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53A42-D1EC-46FD-A057-AD2997902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6173E-9A2B-4BC9-BEA3-AC32C3C81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1FB55-F58D-4C89-94EB-F599700F9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419E3-6E1A-4CBE-8518-E5BD9E7AC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9D4B1-C207-440B-8B02-2BE1588AB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EACA5-AD70-4B14-9BC5-9703FAAB8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AB09D-B190-4A99-8375-D9F9A72C99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EB8D1-42C7-48EC-A9C7-AFE44CB8E3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79280" y="260280"/>
            <a:ext cx="8785440" cy="6408720"/>
          </a:xfrm>
          <a:prstGeom prst="rect">
            <a:avLst/>
          </a:prstGeom>
          <a:solidFill>
            <a:srgbClr val="339966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أركان الإيمـا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أسس «العقيدة الإسلامية»: الإيمان بالله، وملائكته، وكتبه، ورسله، واليو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الآخر، والقدر خيره وشره.وهـــذه الأمورُ الستــــةُ هي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أصول «العقـــيدة الإسلامية  الصحيحة»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والركن في اللغة: الجانب الأقوى للشيء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وفي الاصطلاح: ما لا وجود لذلك الشّيء إلاّ به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والإيمانُ لغةً: نوعٌ من التصديق مما يؤتمن عليه المُخْبِر لأنَّه مما لا يدركه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               المُخْبَر بحسه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واصطلاحاً: قولٌ باللسان، واعتقادٌ بالجنان، وعملٌ بالأركان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" dur="20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" dur="20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" dur="2000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" dur="2000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" dur="2000"/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" dur="2000"/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84360" y="333360"/>
            <a:ext cx="7846920" cy="619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الركن الأول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: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الإيمان بالله تعال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والإيمان بالله يتضمن أربعة أمور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الأول: الإيمان بوجود الله تعالى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الثاني: الإيمان بربوبيته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الثالث: الإيمان بألوهيته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الرابع: الإيمان بأسمائه وصفاته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فأمَّا الأمرُ الأوَّل وهو: الإيمان بوجود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الله تعالى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فقد دلَّ على وجوده تعالى: الفطرةُ،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والعقلُ،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والشرعُ، والحس</a:t>
            </a: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lu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" dur="2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" dur="20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3" dur="5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6" dur="500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9" dur="500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2" dur="500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79280" y="260280"/>
            <a:ext cx="8785440" cy="6337440"/>
          </a:xfrm>
          <a:prstGeom prst="rect">
            <a:avLst/>
          </a:prstGeom>
          <a:solidFill>
            <a:srgbClr val="3366ff">
              <a:alpha val="4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99"/>
                </a:solidFill>
                <a:latin typeface="Arial"/>
              </a:rPr>
              <a:t>الأمر الثاني-مما يتضمنه الإيمان بالله- الإيمان بربوبيته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وحقيقته إفراد الله سبحانه وتعالى بالخَلْق والرزق، والملك، والحكم والتدبير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ولم يُعْلَم أنَّ أحداً من الأمم أنكر ربوبية الله سبحـــــانه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ولهذا كان المشركون يقــــرون بــــربــــوبية الله تعـــــالى مــــع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إشـــــراكهـــــم بــــه في الألوهي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99"/>
                </a:solidFill>
                <a:latin typeface="Arial"/>
              </a:rPr>
              <a:t>الأمر الثالث - مما يتضمنه الإيمان بالله - الإيمان بألوهيته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وهو اعتقاد أنه الإله الحق الذي لا يستحق العبادة أحدٌ سواه، وأنَّ كل معبو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سـواه باطلٌ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u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77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3" dur="77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5" dur="77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7" dur="77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770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2" dur="77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4" dur="77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6" dur="77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770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1" dur="770" fill="hold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3" dur="770" fill="hold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5" dur="770" fill="hold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770"/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0" dur="770" fill="hold"/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2" dur="770" fill="hold"/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4" dur="770" fill="hold"/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0" dur="2000"/>
                                        <p:tgtEl>
                                          <p:spTgt spid="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79280" y="260280"/>
            <a:ext cx="8785440" cy="6337440"/>
          </a:xfrm>
          <a:prstGeom prst="rect">
            <a:avLst/>
          </a:prstGeom>
          <a:solidFill>
            <a:srgbClr val="3366ff">
              <a:alpha val="4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99"/>
                </a:solidFill>
                <a:latin typeface="Arial"/>
              </a:rPr>
              <a:t>والعبادة: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هي كل ما يحبه الله ويرضاه من الأقوال والأعمال الظاهرة والباطن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-وكل رسول يبــــــدأ دعوته لقومه بالأمر بتوحيد الألوهي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لأنَّ هذا التوحيد هوالذي أنكــــره المشركون من سائــــر الأم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- وهذا التوحيد هو أوَّل واجبٍ على المكلَّف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-وهو الأســــاسُ الذي تنبني عليــــه صحة جميع العبــــادات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-ولا يزال الصـــــراع بين الموحـــــدين-أتبــــــــاع الأنبياء- وأعدائه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من المشركين في توحيـــــد العبــــــــادة قــــــــائمًا حتــــــى الآن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u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395280" y="260280"/>
            <a:ext cx="8265960" cy="6408720"/>
          </a:xfrm>
          <a:prstGeom prst="rect">
            <a:avLst/>
          </a:prstGeom>
          <a:solidFill>
            <a:srgbClr val="bbe0e3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معنى شهادة أن لا إله إلاّ الله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الاعتقاد والإقرار أنه لا يستحق العبادة إلاّ الله والتزام ذلك والعمل به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شروط شهادة أن لا إله إلاّ الله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لابدَّ في (شهادة أن لا إله إلاّ الله) من ثمانية شروط لا تنفع قائلها إلاّ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     باجتماعها، وهي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الأوَّل: العلم بمعناها نفياً وإثباتاً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الثاني: اليقين: هو كمال العلم بها المنافي للشك و الريب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الثالث: الإخلاص المنافي للشرك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الرابع: المحبة المنافية لضدها وهو البغضاء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الخامس: الصدق المنافي للكذب، المانع من النفاق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السادس:الانقياد المنافي للترك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السابع: القبول المنافي للرد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الثامن: الكفر بما يعبد من دون الل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20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8" dur="20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3" dur="20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6" dur="2000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1" dur="5000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0"/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7" dur="5000"/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0" dur="5000"/>
                                        <p:tgtEl>
                                          <p:spTgt spid="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3" dur="5000"/>
                                        <p:tgtEl>
                                          <p:spTgt spid="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6" dur="5000"/>
                                        <p:tgtEl>
                                          <p:spTgt spid="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9" dur="5000"/>
                                        <p:tgtEl>
                                          <p:spTgt spid="8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2" dur="5000"/>
                                        <p:tgtEl>
                                          <p:spTgt spid="8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99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22200" y="0"/>
            <a:ext cx="878544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99"/>
                </a:solidFill>
                <a:latin typeface="Arial"/>
              </a:rPr>
              <a:t>ويتضح مما سبق من النصوص الرد على طائفتين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99"/>
                </a:solidFill>
                <a:latin typeface="Arial"/>
              </a:rPr>
              <a:t>الطائفة الأولى: زعمت أن مجرد معرفة القلب كاف في دخول الجنة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99"/>
                </a:solidFill>
                <a:latin typeface="Arial"/>
              </a:rPr>
              <a:t>الطائفة الثانية: زعمــت أن مــــرتكب الكبيـــــرة مخلد في النـــــــار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99"/>
                </a:solidFill>
                <a:latin typeface="Arial"/>
              </a:rPr>
              <a:t>الأمر الرابع - مما يتضمنه الإيمان بالله - الإيمان بأسمائه وصفاته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99"/>
                </a:solidFill>
                <a:latin typeface="Arial"/>
              </a:rPr>
              <a:t>إثبات ما أثبته الله لنفسه في كتـــابه، أو أثبــــــته له رسوله ﷺمن الأسما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99"/>
                </a:solidFill>
                <a:latin typeface="Arial"/>
              </a:rPr>
              <a:t>والصفات على الوجه اللائق به من غير تحريف، ولا تعطيل، ومن غير تكيي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99"/>
                </a:solidFill>
                <a:latin typeface="Arial"/>
              </a:rPr>
              <a:t> ولا تمثيل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9" dur="2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2" dur="20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5" dur="200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0" dur="80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1" dur="80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2" dur="80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7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8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8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99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2200" y="0"/>
            <a:ext cx="878544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99"/>
                </a:solidFill>
                <a:latin typeface="Arial"/>
              </a:rPr>
              <a:t>والقاعدة في نصوص الأسماء والصفات أنَّ الإثبات يأتي مفصلاً، والنفي مجملاً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99"/>
                </a:solidFill>
                <a:latin typeface="Arial"/>
              </a:rPr>
              <a:t>وللإيمان بالله تعالى ثمار وآثار مباركة كثيرة منها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99"/>
                </a:solidFill>
                <a:latin typeface="Arial"/>
              </a:rPr>
              <a:t>1</a:t>
            </a:r>
            <a:r>
              <a:rPr b="1" lang="ar-SA" sz="2800" spc="-1" strike="noStrike">
                <a:solidFill>
                  <a:srgbClr val="ffff99"/>
                </a:solidFill>
                <a:latin typeface="Arial"/>
              </a:rPr>
              <a:t>/ تحقيق توحيد الله تعالى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99"/>
                </a:solidFill>
                <a:latin typeface="Arial"/>
              </a:rPr>
              <a:t>2</a:t>
            </a:r>
            <a:r>
              <a:rPr b="1" lang="ar-SA" sz="2800" spc="-1" strike="noStrike">
                <a:solidFill>
                  <a:srgbClr val="ffff99"/>
                </a:solidFill>
                <a:latin typeface="Arial"/>
              </a:rPr>
              <a:t>/ تحقيق الأمن والهداية والعزة والرفعة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99"/>
                </a:solidFill>
                <a:latin typeface="Arial"/>
              </a:rPr>
              <a:t>3</a:t>
            </a:r>
            <a:r>
              <a:rPr b="1" lang="ar-SA" sz="2800" spc="-1" strike="noStrike">
                <a:solidFill>
                  <a:srgbClr val="ffff99"/>
                </a:solidFill>
                <a:latin typeface="Arial"/>
              </a:rPr>
              <a:t>/ تحقيق طاعة الله بإتيان أوامره واجتناب نواهيه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99"/>
                </a:solidFill>
                <a:latin typeface="Arial"/>
              </a:rPr>
              <a:t>4</a:t>
            </a:r>
            <a:r>
              <a:rPr b="1" lang="ar-SA" sz="2800" spc="-1" strike="noStrike">
                <a:solidFill>
                  <a:srgbClr val="ffff99"/>
                </a:solidFill>
                <a:latin typeface="Arial"/>
              </a:rPr>
              <a:t>/ الإحسان إلى الخلق, ورحمته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99"/>
                </a:solidFill>
                <a:latin typeface="Arial"/>
              </a:rPr>
              <a:t>5</a:t>
            </a:r>
            <a:r>
              <a:rPr b="1" lang="ar-SA" sz="2800" spc="-1" strike="noStrike">
                <a:solidFill>
                  <a:srgbClr val="ffff99"/>
                </a:solidFill>
                <a:latin typeface="Arial"/>
              </a:rPr>
              <a:t>/ يحقق محبة الله للعبد, ويلقي محبته في قلوب المؤمنين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99"/>
                </a:solidFill>
                <a:latin typeface="Arial"/>
              </a:rPr>
              <a:t>6</a:t>
            </a:r>
            <a:r>
              <a:rPr b="1" lang="ar-SA" sz="2800" spc="-1" strike="noStrike">
                <a:solidFill>
                  <a:srgbClr val="ffff99"/>
                </a:solidFill>
                <a:latin typeface="Arial"/>
              </a:rPr>
              <a:t>/ حفظ الله للعبد المؤمن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9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5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4" dur="200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7" dur="2000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0" dur="2000"/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3" dur="2000"/>
                                        <p:tgtEl>
                                          <p:spTgt spid="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6" dur="2000"/>
                                        <p:tgtEl>
                                          <p:spTgt spid="8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9" dur="2000"/>
                                        <p:tgtEl>
                                          <p:spTgt spid="8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6-27T22:14:40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