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4C0-C57A-4269-952C-26A068D2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8D5-81AF-4B60-B3E1-43D97B57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ACD-2094-4E32-8F69-7A2AA5D8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A92-75F3-4F09-8455-1DBD2DCF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65FD-F2C8-4911-8F26-EAE37E3D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E869-9CE6-4D7C-A2F4-1F06BB0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297-9448-4171-AA20-1561AA1E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325-A578-4181-AE8E-42A967B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D977-41C7-4FB2-BB08-4E59532C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4F02-5912-47D5-9FBE-29AFD7E3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082-FC19-4D04-A210-59442FE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32B-83E2-4D0D-9A5B-B0E3BAA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25BB-A78B-472D-B42A-33835B2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EF94-A801-4D27-B631-960714A2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767E-D6C7-4692-9113-5C84B11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FC5-D304-4B99-A76D-F47B7259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ED0-93BB-4715-A710-9FC3C72A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605-759A-4027-910B-265CBB8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18C-9A0B-4220-A4DA-9F315F2D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B8E-AD00-4AF5-BB14-EB55D50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42D-EDA1-433D-9925-D536D1FF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17A-73C7-4FD4-8FD5-F34AB919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1C2-10FF-40FF-BA1A-5B64A20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B5F-D2BE-4B48-8797-75D1FAC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17AE-1ECD-4787-B972-DBA3A245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7A45-9D4D-494B-BB4F-60672223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339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ركان الإيمـ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سس «العقيدة الإسلامية»: الإيمان بالله، وملائكته، وكتبه، ورسله، و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آخر، والقدر خيره وشره.وهـــذه الأمورُ الستــــةُ ه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صول «العقـــيدة الإسلامية  الصحيحة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ركن في اللغة: الجانب الأقوى للشي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في الاصطلاح: ما لا وجود لذلك الشّيء إلاّ ب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إيمانُ لغةً: نوعٌ من التصديق مما يؤتمن عليه المُخْبِر لأنَّه مما لا يدرك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المُخْبَر بحس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صطلاحاً: قولٌ باللسان، واعتقادٌ بالجنان، وعملٌ بالأرك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33360"/>
            <a:ext cx="78469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كن الأو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: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إيمان بالله تعا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الإيمان بالله يتضمن أربعة أمو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أول: الإيمان بوجود الله تعا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ثاني: الإيمان بربوبي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ثالث: الإيمان بألوهي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رابع: الإيمان بأسمائه وصفا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أمَّا الأمرُ الأوَّل وهو: الإيمان بوجود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تعا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فقد دلَّ على وجوده تعالى: الفطرةُ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عقلُ،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الشرعُ، والحس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3366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أمر الثاني-مما يتضمنه الإيمان بالله- الإيمان بربوبيت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حقيقته إفراد الله سبحانه وتعالى بالخَلْق والرزق، والملك، والحكم والتدبي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لم يُعْلَم أنَّ أحداً من الأمم أنكر ربوبية الله سبحـــــان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لهذا كان المشركون يقــــرون بــــربــــوبية الله تعـــــالى مــــ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شـــــراكهـــــم بــــه في الألوه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أمر الثالث - مما يتضمنه الإيمان بالله - الإيمان بألوهيت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هو اعتقاد أنه الإله الحق الذي لا يستحق العبادة أحدٌ سواه، وأنَّ كل معب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سـواه باطل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3366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العبادة: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ي كل ما يحبه الله ويرضاه من الأقوال والأعمال الظاهرة والباطن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وكل رسول يبــــــدأ دعوته لقومه بالأمر بتوحيد الألوه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أنَّ هذا التوحيد هوالذي أنكــــره المشركون من سائــــر الأم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هذا التوحيد هو أوَّل واجبٍ على المكلَّف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وهو الأســــاسُ الذي تنبني عليــــه صحة جميع العبــــادا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ولا يزال الصـــــراع بين الموحـــــدين-أتبــــــــاع الأنبياء- وأعدائ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من المشركين في توحيـــــد العبــــــــادة قــــــــائمًا حتــــــى الآ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260280"/>
            <a:ext cx="8265960" cy="6408720"/>
          </a:xfrm>
          <a:prstGeom prst="rect">
            <a:avLst/>
          </a:prstGeom>
          <a:solidFill>
            <a:srgbClr val="bbe0e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عنى شهادة أن لا إله إلاّ الل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عتقاد والإقرار أنه لا يستحق العبادة إلاّ الله والتزام ذلك والعمل ب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شروط شهادة أن لا إله إلاّ الل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بدَّ في (شهادة أن لا إله إلاّ الله) من ثمانية شروط لا تنفع قائلها إلا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باجتماعها،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وَّل: العلم بمعناها نفياً وإثبات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ثاني: اليقين: هو كمال العلم بها المنافي للشك و الر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ثالث: الإخلاص المنافي للشر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ابع: المحبة المنافية لضدها وهو البغض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خامس: الصدق المنافي للكذب، المانع من النفا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ادس:الانقياد المنافي للتر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ابع: القبول المنافي للر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ثامن: الكفر بما يعبد من دون ال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2200" y="0"/>
            <a:ext cx="8785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يتضح مما سبق من النصوص الرد على طائفت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الطائفة الأولى: زعمت أن مجرد معرفة القلب كاف في دخول الجن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الطائفة الثانية: زعمــت أن مــــرتكب الكبيـــــرة مخلد في النـــــــ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الأمر الرابع - مما يتضمنه الإيمان بالله - الإيمان بأسمائه وصفاته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إثبات ما أثبته الله لنفسه في كتـــابه، أو أثبــــــته له رسوله ﷺمن الأس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الصفات على الوجه اللائق به من غير تحريف، ولا تعطيل، ومن غير تكيي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ولا تمثي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2200" y="0"/>
            <a:ext cx="8785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القاعدة في نصوص الأسماء والصفات أنَّ الإثبات يأتي مفصلاً، والنفي مجمل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للإيمان بالله تعالى ثمار وآثار مباركة كثيرة منها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تحقيق توحيد الله تعالى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تحقيق الأمن والهداية والعزة والرفع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تحقيق طاعة الله بإتيان أوامره واجتناب نواهي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الإحسان إلى الخلق, ورحمت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يحقق محبة الله للعبد, ويلقي محبته في قلوب المؤمني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حفظ الله للعبد المؤم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2:14:40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