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280-1E8D-4F3D-97BB-86D9D906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8DE-9D19-4533-812B-8E91F74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8C4-D59B-413B-B020-25FD78FD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720-8931-4F2D-BAE2-A9F4C993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8C3F-AF46-480B-883C-6E9D85E2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04F6-DA23-4509-AE47-EB1ED7EF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5DC-8665-4D41-BDD3-13983B73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36CB-C5B7-42B0-9BAA-32FFE75C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8EB5-E262-4846-839A-1DF72F84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44B9-E143-4A58-B5E2-4C07B4D3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FAF4-E5E2-4620-8C48-73615FE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482-24B9-4193-BA7B-1B88C2DB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F986-4BB8-4DC8-8836-3BC8E678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0E86-F801-4647-9A47-A1501AE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EDCB-D219-491A-9FFE-F259317B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6053-F0AD-4388-9A0B-131DAA7E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89F4-8828-413B-BBCF-58330791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BD2-E785-464D-9A12-EDF53E60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455-99CB-4F88-9420-A1FFB3FE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F00-23B9-4297-9E8E-3FFC6D3B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C3D-4645-48DD-BCB7-7C5AD41A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005-2AA7-4581-ABE3-2147725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3D4-3215-4EB0-B279-7BB484FC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A1F-3162-4469-9DE1-1462EC5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31CC-C74E-4B4B-8D6F-1A494CE52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64D7-497A-4190-ACEF-6A6691497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واقض الإيم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عنى النواقض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ي اللغة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لنقضُ في البناء والحبل والعهد وغي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في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اصطلاح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أنها : «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عتقادات ، أو أقوال ، أو أفعال تزيل الإيمان وتقطعه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نواقض الإي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واقض الإيمان كثيرة في تفصيلاتها، لكنها تجتمع في ثلاثة أنواع، ه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ّلاً- النواقض الاعتقاد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نياً- النواقض القو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لثاً- النواقض العملية.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أولاً: نواقض الإيمان الاعتقادية :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شرك بالله تعالى 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جحود والتـــــكذيب بشيء من الفــــرائض والواجبــــــــا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ستحـــــلال أمر معلوم من الديــــــن بالضـــــرورة تحريم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شك في حكم من أحكام الله عز وجل أو في خبر من أخبار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من لم يكفّر المشركين أو شكّ في كفرهم، أو صحّح مذهبه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اعتقـــــاد أن بعض النــــــاس لا يجب عليــــــه اتباع النب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026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إعـــــراض عن ديــــن الله لا يتعلمــــــه ولا يعمــــل بــــه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نفاق الاعتقادي ( وهو النفاق الأكبر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هو أنواع أهم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تكذيب الرسول ﷺ أو بعض ما جاء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بغض الرسول ﷺ أو بغض ما جاء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مسرّة بانخفاض دين الرسولﷺ أوالكراهية لانتصاردين الرسول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إباء والاستك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انياً: نواقض الإيمان القو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سبّ الله تعالى، أو رسله، أو كتبه، أو دينه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استهزاء بالله، أو دينه، أو رسله، أو كت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إنكار معلوم من الدين بالضرو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دّعاء النبو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دعاء علم الغيب؛ كالتنجيم والكهانة والعرا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لثاً: نواقض الإيمان العمل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شرك في عبادة الله عز وجل (أي الشرك بالعمل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سح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سم الأول : عُقد ورقى، أو قـــــراءات وطـــــلاسم يتـــوصل بها الساحر إل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ستخـــدام الشيــــــاطين فيما يريد به ضرر المسحور.وهو شرك يكفر فاعل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سم الثاني : أدوية وعقاقير تؤثر على بدن المسحور وعقله وإرادته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هو عدوان وفسق لا يكفر فاعله , لكنه عاص لله متعد لحدوده , معتد على عباد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ـ مظــــــاهرة المشـــــركيــــ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ـ الاستهانة بالمصح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كم تكفير المعيّ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أصل فيمن ينتسب للإسلام بقاء إسلامه حتى يتحقق من خلاف ذلك عن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بمقتضــــى الدليـــــل الشــــرعــــي، ولا يجـــــوز الإقــــــدام على تكفير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لأن في ذلك محذور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حدهما: افتراء الكذب على الله تعالى في الحكم بالكفــر، وعلى المحكوم عليه برميه بالكف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الثاني: عــــود وصـــــف الكفــــــر عليه إن كـــــان أخــــــوه بريئاً من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ولذلك فـــــإن أهل السنة يفــــرّقون بين التكفير بإطلاق والتكفير بالتعي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7-01T22:45:47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