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1D3-51B3-43AB-93E0-CE53C0FA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10E-6304-402D-A152-15ADF683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912-8E5A-4B7E-8120-F6C2B3BD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615-EDEB-4C99-BEA2-6484090C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916D-3419-46B3-A1BB-D356324D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C303-504E-4E2E-8C99-CB1E9B0D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7AC1-0A51-4E57-97E4-B69ECEED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094F-6982-4AE4-A068-D765CE78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158C-3581-43DA-92BD-1D2BF7C6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23FC-27BA-4714-ACD7-9873F2EC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32FC-8EEF-4CAB-8150-E256669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F8F-FA1B-44D4-B9E4-0E550B9B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486B-A7B6-40E9-8F83-F287977E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BEC1-043F-4326-BA26-44925B8D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FD3D-0746-4226-8CE8-87B87A45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7EDA-DEB5-4428-BB33-C6916CE1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647C-C837-42CA-B97F-4C553B32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C35-DA44-47B2-81EE-BBEE1370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3D3-7AA5-47BA-A45B-7B8D1E97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2BB-8E2E-4687-8715-F2D6952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403-D7D9-49C3-BF04-1537BB87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D0D-3861-481C-8EE1-4439092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D82-E6D1-4F9C-A2EC-0BD0975C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488-6233-4DD0-B3C4-6F6BC7A5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EC99-F927-42A4-BFE7-CC7F80060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9DB6-B0D2-472E-A9C1-A1E8397AB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نواقض الإيم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عنى النواقض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ي اللغة: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لنقضُ في البناء والحبل والعهد وغي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في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اصطلاح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أنها : «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عتقادات ، أو أقوال ، أو أفعال تزيل الإيمان وتقطعه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نواقض الإي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واقض الإيمان كثيرة في تفصيلاتها، لكنها تجتمع في ثلاثة أنواع، ه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وّلاً- النواقض الاعتقاد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نياً- النواقض القو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لثاً- النواقض العملية.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أولاً: نواقض الإيمان الاعتقادية :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لشرك بالله تعالى 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لجحود والتـــــكذيب بشيء من الفــــرائض والواجبــــــــا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ستحـــــلال أمر معلوم من الديــــــن بالضـــــرورة تحريم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الشك في حكم من أحكام الله عز وجل أو في خبر من أخبار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من لم يكفّر المشركين أو شكّ في كفرهم، أو صحّح مذهبه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اعتقـــــاد أن بعض النــــــاس لا يجب عليــــــه اتباع النب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3026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إعـــــراض عن ديــــن الله لا يتعلمــــــه ولا يعمــــل بــــه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نفاق الاعتقادي ( وهو النفاق الأكبر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هو أنواع أهم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تكذيب الرسول ﷺ أو بعض ما جاء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بغض الرسول ﷺ أو بغض ما جاء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مسرّة بانخفاض دين الرسولﷺ أوالكراهية لانتصاردين الرسول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الإباء والاستك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ثانياً: نواقض الإيمان القو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سبّ الله تعالى، أو رسله، أو كتبه، أو دينه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استهزاء بالله، أو دينه، أو رسله، أو كت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إنكار معلوم من الدين بالضرو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دّعاء النبو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دعاء علم الغيب؛ كالتنجيم والكهانة والعرا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لثاً: نواقض الإيمان العمل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شرك في عبادة الله عز وجل (أي الشرك بالعمل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السح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سم الأول : عُقد ورقى، أو قـــــراءات وطـــــلاسم يتـــوصل بها الساحر إل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ستخـــدام الشيــــــاطين فيما يريد به ضرر المسحور.وهو شرك يكفر فاعل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سم الثاني : أدوية وعقاقير تؤثر على بدن المسحور وعقله وإرادته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هو عدوان وفسق لا يكفر فاعله , لكنه عاص لله متعد لحدوده , معتد على عباد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ـ مظــــــاهرة المشـــــركيــــ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ـ الاستهانة بالمصح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كم تكفير المعيّ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أصل فيمن ينتسب للإسلام بقاء إسلامه حتى يتحقق من خلاف ذلك عن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بمقتضــــى الدليـــــل الشــــرعــــي، ولا يجـــــوز الإقــــــدام على تكفير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لأن في ذلك محذوري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حدهما: افتراء الكذب على الله تعالى في الحكم بالكفــر، وعلى المحكوم عليه برميه بالكف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 الثاني: عــــود وصـــــف الكفــــــر عليه إن كـــــان أخــــــوه بريئاً من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ولذلك فـــــإن أهل السنة يفــــرّقون بين التكفير بإطلاق والتكفير بالتعي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7-01T22:45:47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