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DE13-7856-473D-9E7D-C303574A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0ACD5-381E-441F-B1DF-4DBC35D1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4F79A-5776-444F-BA9F-FDFFD20F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30710-760F-4698-A667-6D235DC6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B3E91-1332-446D-A440-BA008A71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81AA5-AB0C-476A-8F1F-F236E2D1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D6C01-8682-4C51-9FF3-5703C4D9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8D876-F21A-4AE6-AAD3-4EB14909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5F852-02C5-4500-86A4-E582E473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29A84-BC11-45ED-952B-AD8198BB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99E69-778B-405E-B440-84BB182F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303C1-0D17-4970-80BC-E1312183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DE5EF-95B4-4D0D-AF3C-3D625C01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33AE9-E53D-448D-AB4C-5CD7F184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A1000-B681-44A4-B75E-D7215DB5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71DBD-C3AB-440F-AD58-0DCEE575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32BFC-DAF2-495E-8A34-07D6B9A3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86637-2E5F-4A93-887C-07E16649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0BCCF-50E4-4647-91DA-2D28F496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9B5EF-2861-4EC6-B4E1-9231E2F6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B6872-09AB-45C3-893F-4B1563F6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9DB52-9F0A-4678-8715-9D3A4732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5E5EF-B3F1-4E0B-936A-91F7AB10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428E-0BAE-45FD-8211-299FA43B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1DEF0-2EF7-4722-B5D6-3633C70C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415E-E3F9-4FCF-AD65-F627DC8E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E44E-68F3-4FC3-8BA8-A87AD4EC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C11C-CF88-4763-B14B-F1BFC3BD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18A5-F58A-4F2D-8EB7-140F7C68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64F5-1E06-4BB9-9369-D1077A3E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11A8-78D8-4B77-8FD0-BFD714A7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2946-987C-49FB-95B1-205D5B9C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0F72D-6F6C-4605-8D48-7B166F63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8BB0-592C-41F4-BFC2-543C6571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0424-C9E4-49A0-AD59-D33ACE7A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D923-9799-460C-AAA7-0224E6F4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4B3A-38D5-45D9-B13F-CED92DE6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E965-B6DF-4926-8055-4FB9D25C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2336C-6CE8-4556-8E36-DACEBFD4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728D0-47C5-410B-AE58-94A0C751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EC0D7-A6BF-4166-A0D2-31A018AF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BC014-6231-4010-9EEB-8B4B26EA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2F064-03FF-4D48-A4F5-682E9376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DFF6A-FE6C-4701-8AED-FF97329A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3B6EF-229D-43AE-959C-87575E1B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E96B6-13FC-48EB-82D0-BE2B4137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C5BB-05B8-4C52-A4B6-DD4A1702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DCFB9-4F35-4009-B378-BD596C42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2A21F-F2B0-4027-9DA8-61716EA8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04395-B007-44E4-B2B9-9F0E0447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6C38-EDE7-4E5E-9FC5-3E7AD843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00346-077F-4DB1-8099-790B63B6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C9A1F-AE8B-4B78-9166-1E6A6A76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392EC-CD22-48BA-9A8D-672792E3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C6CD-4F0F-48BA-B1F9-DE08EF35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6F26E-2765-4593-B19F-69A433E7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BEA08-AF27-4690-A44A-F427DC2E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8986C-4D5F-456E-A919-CDD17EB0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19D57-F89E-4E02-B372-5D360DA2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13C2E-0F28-4ECB-A1F7-34BE8891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1AA4B-C53F-421F-91EA-DCF3CA93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AAFA0-B020-407E-9FA0-6CEEA60A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1E635-1B3E-4124-AA89-A3FE5B66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FA0AD-DCA0-4D9A-9BE0-0CE61ECE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7601E-8067-4796-9D97-B8F3B5EB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8BEA7-FE44-4029-BF0E-0E984289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FF796-F2F5-4D12-B28E-067E6B1A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646A3-7F79-4023-99DF-DD1CBB2D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0DE73-6D99-494C-AE88-196AE381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93916-2DE9-4209-868A-3A32D399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CD3B2-56FC-464D-8ADC-7209FCE4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C9C7C-6660-42DC-8FF4-50A9A24F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44613-D92A-48BE-BA24-DBBB7918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DB2B7-A42C-4C92-9EB3-23098247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43AA2-4209-4C6E-B243-5BEF8862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89D8D-2A03-4942-B215-1761F2E1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FAA0-5B3B-425D-BA8D-008938D0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4FFE3-B638-40FC-837A-D203D5FC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C9106-C806-4437-B551-B6CC1073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6349D-7BA7-4BF7-8413-C11BB4C5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A2CF1-902F-43D8-8F0B-9AAC28F8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8D062-E182-41B9-AC7A-55E0112E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85696-E862-46B4-842F-E1987C68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BBF56-7951-4D1C-AA77-964D7340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F75DC-ECBF-4845-8FA5-ABE87C48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80E1C-259C-4F03-99D1-C4FD969F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4BE87-2360-4C06-B4F1-EFEA6B65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E34AA-B74B-4A60-9EF7-7031443D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0A1BE-159B-44DD-B9F5-00D913CB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FCAC6-5109-4619-9D4F-92FD1533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BE342-8B73-45DA-81AA-3161DA78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A2099-091E-4225-BCFA-A328C9E9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B4DF0-9A38-4096-A52C-0B1E1D3F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C58E9-3595-4298-9165-74DA7F4E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91D45-55E6-4391-A494-280CB8F1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0A6C2-CDDC-4BA7-ABDF-2B5022D6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F6C38-FCFB-4AC2-978B-A2E4FA24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40396-EA43-4470-8054-053610F2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D8007-3489-4651-8E68-971E7612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C38E7-F5DE-46AC-AD34-419F2817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4CECD-A4A5-406A-8343-1618950D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C5A81-F0A2-4BD5-BE2B-78C648B5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BF265-1810-48A1-B98E-4B2B8F2D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7D832-059C-4889-8615-C4E65FB9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2EFBF-F921-46E7-A0C5-B29CF36A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70473-FC08-4C65-B97E-20CBDD2C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305F2-ABFE-481D-ABCC-B4A7CEB9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86169-70EC-4B96-BB95-F5D8A936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6B2A2-3180-4928-944F-867E02B9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EC9A8-2F60-4CC2-82D6-48E08886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597FD-96C3-4595-B1B5-5C10CCA0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6018F-E81D-4F82-A7FA-C7C2E88A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856E5-3428-44C9-ABA6-F9B6347B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76BFC-A24A-4E6B-9CD3-8EA35F41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6DE87-AA22-448A-BDB2-5ADDB843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CA0A7-C79A-4A33-A973-1D46F2F3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7EA2A-267A-4D91-8F31-EA4DD536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54FF9-BF7F-4DCF-8BB1-7BB8FD54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4AA7A-89B4-42A7-B230-F595CC2F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80EF7-CD5B-4C80-BBA3-D1A02589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67AB-8633-4C83-8188-2150EF4DCBCD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2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2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3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3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2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ADE5-B802-431B-8939-CCE8348B9380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B352-A1A7-43A2-B349-3D2B04EFC6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5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7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4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3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515C-83CA-4516-AE7B-15B561E48AF0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2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4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6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7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9044-C14A-40CA-AB93-A2423EA91F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1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32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F113-69C4-4254-A268-8D1797FB4FDA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7CC2-9411-41C0-8C6E-4CC1D7EDC86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5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6351-F4A1-47D4-9B93-89DDDE49BB01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13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15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0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1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2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3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4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5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6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7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1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2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3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4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6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7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8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9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4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4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5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5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5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6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6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69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0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1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F36E-2CF7-4CC6-B1AC-201803D6B37C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19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2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2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3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3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5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6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7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7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17B2-33B4-4CFA-B8F3-636035E97A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2532240"/>
            <a:ext cx="7772400" cy="1396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cc"/>
                </a:solidFill>
                <a:latin typeface="Tahoma"/>
                <a:cs typeface="MCS Hijon S_U normal."/>
              </a:rPr>
              <a:t>مهام مدير المدرسة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6" name="Text Box 6"/>
          <p:cNvSpPr/>
          <p:nvPr/>
        </p:nvSpPr>
        <p:spPr>
          <a:xfrm>
            <a:off x="965160" y="-1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00"/>
                </a:solidFill>
                <a:latin typeface="Arial"/>
                <a:cs typeface="PT Bold Heading"/>
              </a:rPr>
              <a:t>أولاً : المهام الإدارية لمدير المدرسة :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   يقوم مدير المدرسة بأعمال تغلب عليها السمة الإدارية وهذه المهام تقع ضمن المجالات التالية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ar-SA" sz="4000" spc="-1" strike="noStrike">
                <a:solidFill>
                  <a:srgbClr val="ffcc00"/>
                </a:solidFill>
                <a:latin typeface="Arial"/>
              </a:rPr>
              <a:t> التخطيط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ar-SA" sz="4000" spc="-1" strike="noStrike">
                <a:solidFill>
                  <a:srgbClr val="ffcc00"/>
                </a:solidFill>
                <a:latin typeface="Arial"/>
              </a:rPr>
              <a:t> التنفي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ar-SA" sz="4000" spc="-1" strike="noStrike">
                <a:solidFill>
                  <a:srgbClr val="ffcc00"/>
                </a:solidFill>
                <a:latin typeface="Arial"/>
              </a:rPr>
              <a:t> المتابعة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ar-SA" sz="4000" spc="-1" strike="noStrike">
                <a:solidFill>
                  <a:srgbClr val="ffcc00"/>
                </a:solidFill>
                <a:latin typeface="Arial"/>
              </a:rPr>
              <a:t> التقوي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5400" y="473040"/>
            <a:ext cx="8226360" cy="63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</a:rPr>
              <a:t>أ – المهام الإدارية في بداية العام الدراسي :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76716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التأكد من أن حاجة المدرسة من المعلمين في كافة التخصصات قد تحققت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76716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يتأكد مدير المدرسة من أن الإداريين الذين تكون المدرسة بحاجة إليهم متواجدون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76716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يتأكد مدير المدرسة من أن الفنيين متوافرون كفني المختبر وفني الوسائل التعليمية وغيرهم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76716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 – 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يتأكد مدير المدرسة من أن الأجهزة التعليمية والوسائل التعليمية متوافرة وبحالة جيدة وصالحة للعمل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76716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3200" spc="-1" strike="noStrike">
                <a:solidFill>
                  <a:srgbClr val="eaeaea"/>
                </a:solidFill>
                <a:latin typeface="Arial"/>
              </a:rPr>
              <a:t>  يجب أن يتأكد مدير المدرسة من أن الكتب المدرسية المقررة قد وصلت إلى المدرسة وبحسب أعداد التلاميذ المسجلين رسمياً في المدرسة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66"/>
                </a:solidFill>
                <a:latin typeface="Arial"/>
                <a:cs typeface="PT Bold Heading"/>
              </a:rPr>
              <a:t>السجلات المدرسية منها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دوام المعلمين.             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الاجتماعات الإدار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حضور وغياب التلامي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أحوال التلاميذ وتشمل : اسم التلميذ، مكان وتاريخ الولادة، الجنسية وكذلك الحالة الاجتماعية : عمل وثقافة الأب ، ثقافة الأم، عدد الاخوة وترتيبه بينهم، مكان سكن التلميذ، ونوع السكن (ملك-مستأجر) والحالة الصحية، الحالة النفسية، الحالة العلم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أحوال المعلمين وتشمل : اسم المعلم، مكان وتاريخ الولادة، الجنسية، المؤهل العلمي، المؤهل التربوي، عدد سنوات الخبرة في التعليم بوجه عام، عدد سنوات الخبرة في المدرسة الحالية وكذلك الحالة الاجتماعية، الحالة الصحية، الحالة الوظيف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6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السجل المالي.                   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7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الكتب المدرس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8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الأثاث المدرسي.          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9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المختب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10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المكتبة المدرسية.        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11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–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سجل الزيارات الصف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7" dur="2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 rtl="1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66"/>
                </a:solidFill>
                <a:latin typeface="Arial"/>
                <a:cs typeface="PT Bold Heading"/>
              </a:rPr>
              <a:t>ثانياً : المهام الإدارية في أثناء عملية التدريس 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اجتماعات الإدارية.    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راقبة دوام المعلم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راقبة دوام التلامي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4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راقبة دوام الإداريين والفنيين والعما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5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كتابة التقارير.            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6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أمين الإمكانات المال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7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صيانة البناء المدرسي ومرافق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8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واجهة المشكلات الإدارية الطارئ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9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تنظيم العمل التربوي المدرسي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472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Arial"/>
                <a:cs typeface="PT Bold Heading"/>
              </a:rPr>
              <a:t>ثالثاً : المهام الإدارية في نهاية العام الدراسي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47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إعداد للاختبارات وتنفيذ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47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2</a:t>
            </a: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مهام الإدارية الأخرى وتشمل ما يلي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47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أ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ستلام اللوازم والأجهزة من المعلمين والإداري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47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ب –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جرد كتب المكتبة المدرس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47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ج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ستلام السجلات الرسمية التي بحوزة المعلمين والإداري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47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د  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ستلام المبالغ المالية التي تكون بحوزة المحاسب أو المعلمين أو الإداري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47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66"/>
                </a:solidFill>
                <a:latin typeface="Tahoma"/>
              </a:rPr>
              <a:t>هـ 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كتابة تقرير شامل عن العام الدراسي والمقترحات التحسينية للعام الدراسي المقب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0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2:58:36Z</dcterms:created>
  <dc:creator>**</dc:creator>
  <dc:description/>
  <dc:language>en-US</dc:language>
  <cp:lastModifiedBy>user</cp:lastModifiedBy>
  <dcterms:modified xsi:type="dcterms:W3CDTF">2012-03-22T09:18:49Z</dcterms:modified>
  <cp:revision>10</cp:revision>
  <dc:subject/>
  <dc:title>مهام مدير المدرسة</dc:title>
</cp:coreProperties>
</file>