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0446-19CE-47FA-9075-B54126D6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6932-D829-4BB7-9B0F-9BE5560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E4246-0F89-4C63-A088-0444AA34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B3FC5-8414-43B3-8A31-AFD1552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A4BEE-6E57-4964-8BD1-1A803A49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096A9-3646-4FE6-884C-0A5A997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8FFA-6085-46FD-BBA8-6721BD4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28C93-FD1F-45F4-8B37-2582CA6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253B3-C554-4820-BAE4-FCFAA34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6C909-EE76-4440-9037-6D82996C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61C78-DCCA-4813-8CBA-C37619B7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3618C-31CB-41CA-B70A-1A8489A5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26E2-5BA6-4A06-AA16-61643ECD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D60EE-BA43-4A2E-94D3-3D49E82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1FBDF-D89B-4EE9-A5B7-597499E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C71CE-9D39-4978-8932-57AFA6B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D2E75-9C06-4378-BF85-263F9D2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28DEF-030E-4A05-BAEC-FBD3ABEC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8ABD5-6265-4898-BA83-F51789F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17FDF-2382-4508-B230-7040CFF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3F115-9C08-4A92-8CE4-E7E44E10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129E8-F05A-468F-BE9B-DB50020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E201-F1C9-4CA8-ADF2-BD4C1267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BEBE-A2E5-4916-A33F-3BCCAA0D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4126-D65C-4566-8879-6004B4A5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884-27DC-4E57-AF3B-96CE6034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6477-FC97-477F-A8FB-EBB679F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7A44-BB74-410A-AD65-CCCEAA6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AE7-9787-4C87-94F8-2D2F77C2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B47E-C3B2-49DF-82EB-0BEA75C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C2B9-FDE4-44E6-A7D1-EF1C62D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2B6-D5F5-4733-A9CE-DD1BAD9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F92F-03D0-4642-A042-60E6A4B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ACE-0E16-4531-867D-4BDE07D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EA8E-6BF9-4EB0-9924-7303059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5A0-E433-4894-8A53-82B5ABC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7B23-A963-4E7D-8D2A-91C44E15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46C-7CBD-4548-8F5B-16CA495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605D-2BEA-415F-8C96-972FA7A0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4C2C-55DC-4B0C-BCBB-0AA64A6B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2B2C-2A6D-4849-BCA0-92FAE508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AAC1-A6FE-471A-9906-37107CE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4D51-0B6B-495D-828A-3C70AB7C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3859-59A4-4AB7-8F94-6381A22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04B0-5BCE-4612-9E52-3A7E6F8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AF07-9C5D-4D20-8932-E565F618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140E-D5D1-4D64-B9E4-7EAC4EC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6717-E955-4B8A-98CD-AFCBC10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0A85-1FF7-4A59-89C4-953B828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FA47-DB7A-4064-A36C-B403B112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76A8-3362-474E-B14B-9DA1324F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9093-F512-4434-9000-D0E3859A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0095-3A74-448E-81C7-6649632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7078-6634-4C61-8753-CF3FCA7E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1794-BC8E-4538-BE9C-BB8309D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FE8B-2D85-40FD-9766-EA0EDC9C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8AC4-E1E9-4C63-BC35-0587EA16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93B4-91EC-4F86-8446-A75E41C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754F-8817-4890-A02E-96037B6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8CD8-7EB1-4EC6-B8AB-F67D099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8CD4-A2DD-4DBB-9F5A-FEDC385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0C26-0BA4-4A60-8486-FA6C440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D611-ABCD-4800-B8D8-5524AEAC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13CF-5F1B-47E5-BC3F-8FA94751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999B-F01E-43A9-BE09-5AC9C696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41EF-6ABB-4F71-AEBC-6D013771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553D-8CA0-431E-95AF-978FB8A6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A993-0297-4BD8-A473-88567540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3376-7359-4601-8511-14F8272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0FB7-4E96-4015-B24A-8362910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0877-3058-477E-AA08-5575B196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8DF8-407E-425C-897A-1350288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9AF9-E189-4BF4-9C8C-F4CF7537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552B-FC34-436A-A29D-9EBC2FB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5535-8D9E-408F-BEDA-D925C8C3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2B54-9614-4C38-AE54-F3B2A5A4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DF9C-D5A6-4037-B769-87E68EC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55E3-61C5-430D-A2AE-39DD5CFA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1BD1-04C2-4BFC-B970-C33F3E1B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0C455-8213-4136-A88D-430FAA1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F972-2A5C-4707-9331-8C5CC45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AABA-3959-4F68-B155-66E70A9C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E962-2DE1-48DC-9BB3-72573B60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3001-7425-4485-AA42-F681F42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A5887-DB9A-4C72-93F5-D4CBEA1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7789-41B3-441B-AE36-2217471F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AA57-ADE4-4AD4-AFC8-C8C052B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CA59-FAED-4C3E-BCC4-3568957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441C-BE7A-454C-B854-CB7C6065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85A0E-0E79-43ED-A742-69B0BE3E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807B-F105-4C38-94E3-2D9ABF0B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9953-223A-4EBF-A13E-96765F83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9434F-BD38-4369-BE07-4C5948E0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7B3E-A120-40DF-A1A3-08737F83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9227-D8F5-46B3-B103-DF984331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C75F-5076-4C99-A07A-EDEB8AAC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D87C9-E903-4A60-B71F-32B1362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C363-797F-4F76-80C6-D65905A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6935-920C-4509-AEBD-71F46132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15ECD-A06A-418C-889E-E0CD39C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E501-9C58-4E77-B601-3C2687C0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F996-10FC-4FA2-B30C-311C7F7B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7F43-6325-423B-803F-EAA99518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86C6-DB82-4A74-972E-62061E8D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BFC5-2475-44A3-8428-EE0A44C0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BD708-3707-4B0F-A0C3-228C093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61890-AB20-47EF-BD38-9F04819A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63D6-A74E-43E0-9DCC-BDF639F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C1BCC-B84D-4FDA-AB2D-D9324F3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5602-74D3-4C9E-AAAA-3DF9129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5DD7-3B04-447E-AED4-B82AD57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6E52-A1FC-4069-8979-86E9CD0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D525E-94A0-47E1-A1B7-DC75BA9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CC0B6-5530-4B4A-93D9-89CB8B0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037F4-7900-461C-8B8C-ABEBC40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091E-FDCE-4014-A864-453D03EB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38636-E92F-40D1-8C4A-44D3F53B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8A32B-00F5-4C4D-B387-B09512A1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0911B-0A7E-468F-9430-2934FBD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742F4-10B7-49E9-935B-4CEF4D6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BAB8-1168-435E-A628-58AE7A4747E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374-9050-4EF7-9806-32BEDCD259D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5E40-D2C5-4DF3-8C2C-C27EE4E9C2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7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FDC-198B-4A4E-BFDB-BE9971D26F1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7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4B86-EC89-45EE-B6AF-4264C1D853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688A-9459-4809-9C1B-EAEECF6A96B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C9B-6991-4493-8392-637283C97A3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A437-8557-42D1-B307-414DDB194B8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15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9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E7C-F122-4B4A-A8B6-BF17001C9BD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1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119-E3C7-4574-ABDD-EACF04E7BE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53224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cc"/>
                </a:solidFill>
                <a:latin typeface="Tahoma"/>
                <a:cs typeface="MCS Hijon S_U normal."/>
              </a:rPr>
              <a:t>مهام مدير المدرسة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Text Box 6"/>
          <p:cNvSpPr/>
          <p:nvPr/>
        </p:nvSpPr>
        <p:spPr>
          <a:xfrm>
            <a:off x="96516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  <a:cs typeface="PT Bold Heading"/>
              </a:rPr>
              <a:t>أولاً : المهام الإدارية لمدير المدرسة 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   يقوم مدير المدرسة بأعمال تغلب عليها السمة الإدارية وهذه المهام تقع ضمن المجالات التالية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خطيط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نفي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متابعة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قوي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5400" y="47304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</a:rPr>
              <a:t>أ – المهام الإدارية في بداية العام الدراسي :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لتأكد من أن حاجة المدرسة من المعلمين في كافة التخصصات قد تحققت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تأكد مدير المدرسة من أن الإداريين الذين تكون المدرسة بحاجة إليهم متواجدون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تأكد مدير المدرسة من أن الفنيين متوافرون كفني المختبر وفني الوسائل التعليمية وغيره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يتأكد مدير المدرسة من أن الأجهزة التعليمية والوسائل التعليمية متوافرة وبحالة جيدة وصالحة للعمل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جب أن يتأكد مدير المدرسة من أن الكتب المدرسية المقررة قد وصلت إلى المدرسة وبحسب أعداد التلاميذ المسجلين رسمياً في المدرسة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Arial"/>
                <a:cs typeface="PT Bold Heading"/>
              </a:rPr>
              <a:t>السجلات المدرسية منها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دوام المعلمين.   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اجتماعات الإدار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حضور وغياب التلامي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أحوال التلاميذ وتشمل : اسم التلميذ، مكان وتاريخ الولادة، الجنسية وكذلك الحالة الاجتماعية : عمل وثقافة الأب ، ثقافة الأم، عدد الاخوة وترتيبه بينهم، مكان سكن التلميذ، ونوع السكن (ملك-مستأجر) والحالة الصحية، الحالة النفسية، الحالة العلم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أحوال المعلمين وتشمل : اسم المعلم، مكان وتاريخ الولادة، الجنسية، المؤهل العلمي، المؤهل التربوي، عدد سنوات الخبرة في التعليم بوجه عام، عدد سنوات الخبرة في المدرسة الحالية وكذلك الحالة الاجتماعية، الحالة الصحية، الحالة الوظي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سجل المالي.         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كتب المدرس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أثاث المدرسي.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مختب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مكتبة المدرسية.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1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زيارات الص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Arial"/>
                <a:cs typeface="PT Bold Heading"/>
              </a:rPr>
              <a:t>ثانياً : المهام الإدارية في أثناء عملية التدريس 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اجتماعات الإدارية.    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معلم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تلامي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إداريين والفنيين والعم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5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تابة التقارير.            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6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أمين الإمكانات المال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7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صيانة البناء المدرسي ومرافق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8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واجهة المشكلات الإدارية الطارئ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9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ظيم العمل التربوي المدرس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72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  <a:cs typeface="PT Bold Heading"/>
              </a:rPr>
              <a:t>ثالثاً : المهام الإدارية في نهاية العام الدراسي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إعداد للاختبارات و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مهام الإدارية الأخرى وتشمل ما يلي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أ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لوازم والأجهزة من المعلمين و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ب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رد كتب المكتبة المدر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ج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سجلات الرسمية التي بحوزة المعلمين و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د  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مبالغ المالية التي تكون بحوزة المحاسب أو المعلمين أو 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هـ 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تابة تقرير شامل عن العام الدراسي والمقترحات التحسينية للعام الدراسي المقب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58:36Z</dcterms:created>
  <dc:creator>**</dc:creator>
  <dc:description/>
  <dc:language>en-US</dc:language>
  <cp:lastModifiedBy>user</cp:lastModifiedBy>
  <dcterms:modified xsi:type="dcterms:W3CDTF">2012-03-22T09:18:49Z</dcterms:modified>
  <cp:revision>10</cp:revision>
  <dc:subject/>
  <dc:title>مهام مدير المدرسة</dc:title>
</cp:coreProperties>
</file>