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1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E874-E1D3-413E-AB62-4D17D155C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A254-DE75-4CBA-84EA-8741EA39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1742-E24A-4D5A-A94E-8A0482456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41B6-3D4C-4CEA-ABD7-A84C23FF4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5B31-48BE-472B-9142-524BAE597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0FA3-6273-484C-83C9-7AC780AE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31B2-5C3D-4974-8EC4-44C6652A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30A3-BE52-44BE-A662-3D7C3F71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7CBB-10B2-4EE0-B139-0B9CE541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A491-CF17-4773-A3CE-A1DB97C1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3A5F-883C-4B67-9482-5B16613A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963D-1F16-41AC-BB34-A0035C25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A48B-EBCB-4BBB-95EF-23B36CA5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6B8B-12D5-4238-9DEF-DDBFA946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E182-269C-4E49-90EF-434BC7E7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1F0B-08D2-42E7-AD73-C28E8D4C5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B150-9E34-4846-8AE2-8F082FAD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C0F8F-A708-4C26-A3CE-9CD5075C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2CAB5-9650-4ED4-92D8-79A940C0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679F2-95D8-401D-B70C-7F344A57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4FC26-4DB0-45A4-AD4A-76D61285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6E5F4-6BD1-4298-96DA-DF4272AC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9537-9251-4A87-987D-50930621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5353F-6290-4CA6-8DB9-5A69597D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FBF51-889B-44A8-843A-F9749FF9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F605B-C015-4B22-A19D-50094A0C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110CC-122E-4979-A18E-7C5B62FB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52954-E6B0-4EB0-90A4-EA3A31A6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BD310-9055-42BE-85D5-2B1F9B4CE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7D789-4930-4560-A924-EF55A11D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CB2AF-DBF6-45E5-9D5B-6AE92597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A1E70-4550-4E83-899D-EDA8D537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902EF-C9C7-4DAE-8B8F-7347DCF1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15BD-1BC8-4D18-99E4-E3581669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9A84F-D39B-4704-85D4-FEDFD2CB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72657-4D07-4C89-9BA0-F8A20BD7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01D85-9A24-441D-8C74-DC1BCFD6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94C37-7C50-4E80-9D84-7D7D6A5E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DCCD8-38A4-424A-A53D-0DB58F08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FC535-B8FA-4F22-8FFA-E9EADEEA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AF96C-2872-4877-88A1-00721A37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734CD-00F6-4371-9F14-6080456C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9FDC3-F798-4018-84EE-A4A2B27F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59174-ED0F-47DA-A381-42019F31F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E3A6-C0CB-4086-9B77-93B6492F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5871D-03EC-4000-9A30-E56003C3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AA63D-CCDA-4A6F-B5F0-4F1B155A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DEA44-7DD0-409D-86A4-730F9816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A70D9-44B5-4CA6-9585-58E50D45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EA012-6537-4728-B531-8B0CD09F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2EE2F-79C6-4C80-8802-5D8681EC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72F6D-A7FC-4364-AF45-9CDEF271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97B1A-2E15-44BE-94B9-74D645A7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B36A8-A45F-41C1-865A-DF9EAF2E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C4268-4AD6-4B4B-A0CC-51D3DBE3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99BF-7E0D-44C1-9318-DF616022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2F6E2-1994-429C-BE0A-C99495BA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AD784-74C3-490D-A39B-9C992BD5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AC7E8-FADA-49F1-8E05-20D20EB4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0EFBC-C9A7-4AB4-968A-36DD8954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8F669-9EBD-4EAA-BC44-E7BE7A4B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0B543-013B-4F6C-9770-5833DE6E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7AD75-1FA9-4D8A-8507-0BF80EF2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21A29-F21E-4E94-A4D7-A849F93E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5FBD3-5DA9-47F1-A799-4C097912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8B5A0-3645-464C-B340-3EA867E8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21F5-2A7C-475E-8CC2-57AD1819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207B4-A70D-41A9-A13C-229B8AAA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5DFEA-99C8-4FAC-A446-9BEADA893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CBEE2-3F93-4875-901F-238906DA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14319-0642-4D2A-AC8F-9A0A91CA3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9C4D0-46D0-4596-A972-AB3B64D5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2BBC6-3893-485B-A559-722CA745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3A505-7014-4F5E-B71E-FBA9B213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6D194-4B6C-4911-9B1B-2291E63E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6F81B-6B79-443F-86DA-9593B1C0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E9466-7695-42D3-8912-CDAA0ED7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4521-F8FB-4355-B0D6-F9E18E52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20BB9-5524-4A28-9BB8-6A44BA7D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FA9D2-0AA4-4875-B436-AB8C69AF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B86CC-3C49-448A-B96D-994D56BE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4AEDC-14AD-435F-9317-A5B21AF20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42CF0-769E-4845-A361-4855CBE9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D87B-BBF7-4D4C-AF84-B7F3E00A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1E47-8BE2-4E74-B0A9-B97FA22F8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00F7-427D-4C76-93A9-A73BC92B491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D4B9-0D3D-45D8-B824-DB309F941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F966-5867-47F9-9B79-CA96DD4EDF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7D27-BCBF-4B85-A1CC-66B0CC3EB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4855-28AB-4009-9306-55F1BDA238A3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80C0-2998-484A-9265-845D3A453278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ar.wikipedia.org/wiki/&#1603;&#1605;&#1610;&#1577;_&#1575;&#1604;&#1605;&#1575;&#1583;&#1577;" TargetMode="External"/><Relationship Id="rId3" Type="http://schemas.openxmlformats.org/officeDocument/2006/relationships/hyperlink" Target="http://ar.wikipedia.org/wiki/&#1605;&#1578;&#1585;" TargetMode="External"/><Relationship Id="rId4" Type="http://schemas.openxmlformats.org/officeDocument/2006/relationships/hyperlink" Target="http://ar.wikipedia.org/wiki/&#1591;&#1608;&#1604;" TargetMode="External"/><Relationship Id="rId5" Type="http://schemas.openxmlformats.org/officeDocument/2006/relationships/hyperlink" Target="http://ar.wikipedia.org/wiki/&#1603;&#1610;&#1604;&#1608;&#1594;&#1585;&#1575;&#1605;" TargetMode="External"/><Relationship Id="rId6" Type="http://schemas.openxmlformats.org/officeDocument/2006/relationships/hyperlink" Target="http://ar.wikipedia.org/wiki/&#1603;&#1578;&#1604;&#1577;" TargetMode="External"/><Relationship Id="rId7" Type="http://schemas.openxmlformats.org/officeDocument/2006/relationships/hyperlink" Target="http://ar.wikipedia.org/wiki/&#1579;&#1575;&#1606;&#1610;&#1577;" TargetMode="External"/><Relationship Id="rId8" Type="http://schemas.openxmlformats.org/officeDocument/2006/relationships/hyperlink" Target="http://ar.wikipedia.org/wiki/&#1586;&#1605;&#1606;" TargetMode="External"/><Relationship Id="rId9" Type="http://schemas.openxmlformats.org/officeDocument/2006/relationships/hyperlink" Target="http://ar.wikipedia.org/wiki/&#1571;&#1605;&#1576;&#1610;&#1585;" TargetMode="External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542880" y="652320"/>
            <a:ext cx="8259840" cy="1882800"/>
          </a:xfrm>
          <a:prstGeom prst="rect">
            <a:avLst/>
          </a:prstGeom>
          <a:ln w="0">
            <a:noFill/>
          </a:ln>
        </p:spPr>
      </p:pic>
      <p:pic>
        <p:nvPicPr>
          <p:cNvPr id="302" name="Subtitle 2" descr=""/>
          <p:cNvPicPr/>
          <p:nvPr/>
        </p:nvPicPr>
        <p:blipFill>
          <a:blip r:embed="rId2"/>
          <a:stretch/>
        </p:blipFill>
        <p:spPr>
          <a:xfrm>
            <a:off x="536400" y="2743200"/>
            <a:ext cx="80582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467560" cy="13953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r" rtl="1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Century Gothic"/>
                <a:ea typeface="Tahoma"/>
              </a:rPr>
              <a:t> تواجدي قبل موعد اختبارك بمدة كافية و تجنبي الحضور متأخرا حتى لا تتعرضين لمشاكل 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Century Gothic"/>
                <a:cs typeface="Tahoma"/>
              </a:rPr>
              <a:t>تأكدي أن كل أدواتك كاملة قبل دخولك للاختبار 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Century Gothic"/>
                <a:cs typeface="Tahoma"/>
              </a:rPr>
              <a:t>في الاختبار العملي - عملي .. تواجدي في المعمل الذي تتواجد فيه استاذتك أما في الاختبار العملي – نظري تواجدي في القاعة المحددة لشعبتك 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Century Gothic"/>
                <a:cs typeface="Tahoma"/>
              </a:rPr>
              <a:t>عند دخولك لقاعة الاختبار في الاختبار العملي – نظري , إسألي المراقبة عن الجهة المخصصة لشعبتك .. فقد تحتوي القاعة على أكثر من شعبة 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Century Gothic"/>
                <a:cs typeface="Tahoma"/>
              </a:rPr>
              <a:t>لابد أن تعرفي رقم شعبتك و أسم استاذتك لأنه سيطلب منك تعبئة هذه البيانات مع اسمك و رقمك الجامعي على دفتر الإجابة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304920" y="115920"/>
            <a:ext cx="8381880" cy="18097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882800"/>
            <a:ext cx="82296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سيكون هذا الاختبار من سؤال يطلب منك فيه الرسم و ملحقاته مثل ( الميل و نسبة الخطأ ) و سؤال آخر يحتوي على مفاهيم من التجارب الثمانية و غالبا ما تكون على هيئة خيارات 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457200" y="11592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سيتكون من سؤالين 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spcBef>
                <a:spcPts val="60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entury Gothic"/>
                <a:cs typeface="Tahoma"/>
              </a:rPr>
              <a:t>سؤال يحتوي على تجربة من التجارب الثمانية التي درستيها خلال الفصل و لن يطلب منك توصليها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Century Gothic"/>
                <a:ea typeface="Tahoma"/>
              </a:rPr>
              <a:t> كاملة لكن لابد أن تكوني فاهمه طريقة التوصيل عموما .. و سيطلب منك القراءة من الأجهزة و إجراء الحسابات المطلوبة 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spcBef>
                <a:spcPts val="60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entury Gothic"/>
                <a:cs typeface="Tahoma"/>
              </a:rPr>
              <a:t>سؤال يحتوي على دائرة خارجية غير موجودة في الملزمة و سيطلب منك توصيلها ثم قراءة  (الأميتر / الفولتمير / أو الجلفانومتر )  الموجودة فيها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سيتم تصحيح اختبار المعمل ( العملي و النظري ) و رصده في مدة لا تتجاوز أسبوع و سيتم وضع النتائج في لوحة الإعلانات بمبنى </a:t>
            </a: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14</a:t>
            </a: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يمكن التواصل مع استاذتك و الاستفسار عن درجتك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كما ذكرت سابقا ستكون الدرجة النهائية في المعمل من </a:t>
            </a: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25</a:t>
            </a: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 درجة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3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424640" cy="135864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380520" y="1633680"/>
            <a:ext cx="3886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Tahoma"/>
              </a:rPr>
              <a:t>في سطوري القليلة القادمة سأشرح أهم المفاهيم و النقاط في التحويلات و الرسم و استخراج الميل و ايجاد نسبة الخطأ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5-Point Star 5"/>
          <p:cNvSpPr/>
          <p:nvPr/>
        </p:nvSpPr>
        <p:spPr>
          <a:xfrm>
            <a:off x="4343400" y="2286000"/>
            <a:ext cx="4648320" cy="4419720"/>
          </a:xfrm>
          <a:prstGeom prst="pi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Tahoma"/>
              </a:rPr>
              <a:t>سأرسم هنا باستخدام الحاسوب و هذا يقابل رسمك بالورق البياني </a:t>
            </a:r>
            <a:r>
              <a:rPr b="0" lang="ar-SA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4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">
            <a:hlinkClick r:id="rId2"/>
          </p:cNvPr>
          <p:cNvSpPr/>
          <p:nvPr/>
        </p:nvSpPr>
        <p:spPr>
          <a:xfrm>
            <a:off x="457200" y="27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63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1219320" y="2705040"/>
          <a:ext cx="6705360" cy="3463920"/>
        </p:xfrm>
        <a:graphic>
          <a:graphicData uri="http://schemas.openxmlformats.org/drawingml/2006/table">
            <a:tbl>
              <a:tblPr/>
              <a:tblGrid>
                <a:gridCol w="2235240"/>
                <a:gridCol w="2234880"/>
                <a:gridCol w="2235240"/>
              </a:tblGrid>
              <a:tr h="397080"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entury Gothic"/>
                          <a:cs typeface="Tahoma"/>
                        </a:rPr>
                        <a:t>الاس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entury Gothic"/>
                          <a:cs typeface="Tahoma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entury Gothic"/>
                          <a:cs typeface="Tahoma"/>
                        </a:rPr>
                        <a:t>الكمي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 u="sng">
                          <a:solidFill>
                            <a:srgbClr val="17bbfd"/>
                          </a:solidFill>
                          <a:uFillTx/>
                          <a:latin typeface="Century Gothic"/>
                          <a:cs typeface="Tahoma"/>
                          <a:hlinkClick r:id="rId3"/>
                        </a:rPr>
                        <a:t>مت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 u="sng">
                          <a:solidFill>
                            <a:srgbClr val="17bbfd"/>
                          </a:solidFill>
                          <a:uFillTx/>
                          <a:latin typeface="Century Gothic"/>
                          <a:cs typeface="Tahoma"/>
                          <a:hlinkClick r:id="rId4"/>
                        </a:rPr>
                        <a:t>طو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 u="sng">
                          <a:solidFill>
                            <a:srgbClr val="17bbfd"/>
                          </a:solidFill>
                          <a:uFillTx/>
                          <a:latin typeface="Century Gothic"/>
                          <a:cs typeface="Tahoma"/>
                          <a:hlinkClick r:id="rId5"/>
                        </a:rPr>
                        <a:t>كيلوغرا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 u="sng">
                          <a:solidFill>
                            <a:srgbClr val="17bbfd"/>
                          </a:solidFill>
                          <a:uFillTx/>
                          <a:latin typeface="Century Gothic"/>
                          <a:cs typeface="Tahoma"/>
                          <a:hlinkClick r:id="rId6"/>
                        </a:rPr>
                        <a:t>كتل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397080"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 u="sng">
                          <a:solidFill>
                            <a:srgbClr val="17bbfd"/>
                          </a:solidFill>
                          <a:uFillTx/>
                          <a:latin typeface="Century Gothic"/>
                          <a:cs typeface="Tahoma"/>
                          <a:hlinkClick r:id="rId7"/>
                        </a:rPr>
                        <a:t>ثاني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 u="sng">
                          <a:solidFill>
                            <a:srgbClr val="17bbfd"/>
                          </a:solidFill>
                          <a:uFillTx/>
                          <a:latin typeface="Century Gothic"/>
                          <a:cs typeface="Tahoma"/>
                          <a:hlinkClick r:id="rId8"/>
                        </a:rPr>
                        <a:t>زم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 u="sng">
                          <a:solidFill>
                            <a:srgbClr val="17bbfd"/>
                          </a:solidFill>
                          <a:uFillTx/>
                          <a:latin typeface="Century Gothic"/>
                          <a:cs typeface="Tahoma"/>
                          <a:hlinkClick r:id="rId9"/>
                        </a:rPr>
                        <a:t>أمبي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Tahoma"/>
                        </a:rPr>
                        <a:t>تيار كهربائي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685800"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Tahoma"/>
                        </a:rPr>
                        <a:t>كلف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Tahoma"/>
                        </a:rPr>
                        <a:t>درجة الحرارة المطلق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97080"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Tahoma"/>
                        </a:rPr>
                        <a:t>شمع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Tahoma"/>
                        </a:rPr>
                        <a:t>شدة الإضاء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Tahoma"/>
                        </a:rPr>
                        <a:t>مو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Tahoma"/>
                        </a:rPr>
                        <a:t>كمية الماد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  <p:sp>
        <p:nvSpPr>
          <p:cNvPr id="333" name="TextBox 7"/>
          <p:cNvSpPr/>
          <p:nvPr/>
        </p:nvSpPr>
        <p:spPr>
          <a:xfrm>
            <a:off x="748080" y="1973160"/>
            <a:ext cx="759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Century Gothic"/>
                <a:cs typeface="Tahoma"/>
              </a:rPr>
              <a:t>الوحدات الأساسية حسب النظام الدولي للوحدات (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IS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Century Gothic"/>
                <a:ea typeface="Tahoma"/>
              </a:rPr>
              <a:t> ) هي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35" name="Content Placeholder 3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86709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الشكل العام لكتابة أي قراءة هي 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fd1"/>
                </a:solidFill>
                <a:latin typeface="Century Gothic"/>
              </a:rPr>
              <a:t>Number + prefix + uni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5-Point Star 3"/>
          <p:cNvSpPr/>
          <p:nvPr/>
        </p:nvSpPr>
        <p:spPr>
          <a:xfrm>
            <a:off x="190440" y="3276720"/>
            <a:ext cx="5067360" cy="3413160"/>
          </a:xfrm>
          <a:prstGeom prst="pi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Tahoma"/>
              </a:rPr>
              <a:t>لابد من تواجد العدد + الوحدة دائما لكن البادئة لا يشترط تواجدها دائما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TextBox 4"/>
          <p:cNvSpPr/>
          <p:nvPr/>
        </p:nvSpPr>
        <p:spPr>
          <a:xfrm>
            <a:off x="2514600" y="2330280"/>
            <a:ext cx="41148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entury Gothic"/>
                <a:cs typeface="Tahoma"/>
              </a:rPr>
              <a:t>الوحدة   +     البادئة     +       العدد</a:t>
            </a:r>
            <a:r>
              <a:rPr b="1" lang="ar-SA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Content Placeholder 3" descr=""/>
          <p:cNvPicPr/>
          <p:nvPr/>
        </p:nvPicPr>
        <p:blipFill>
          <a:blip r:embed="rId1"/>
          <a:stretch/>
        </p:blipFill>
        <p:spPr>
          <a:xfrm>
            <a:off x="272880" y="1981080"/>
            <a:ext cx="85154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467560" cy="1395360"/>
          </a:xfrm>
          <a:prstGeom prst="rect">
            <a:avLst/>
          </a:prstGeom>
          <a:ln w="0">
            <a:noFill/>
          </a:ln>
        </p:spPr>
      </p:pic>
      <p:pic>
        <p:nvPicPr>
          <p:cNvPr id="342" name="Content Placeholder 2" descr=""/>
          <p:cNvPicPr/>
          <p:nvPr/>
        </p:nvPicPr>
        <p:blipFill>
          <a:blip r:embed="rId2"/>
          <a:stretch/>
        </p:blipFill>
        <p:spPr>
          <a:xfrm>
            <a:off x="457200" y="1884240"/>
            <a:ext cx="8229600" cy="2766960"/>
          </a:xfrm>
          <a:prstGeom prst="rect">
            <a:avLst/>
          </a:prstGeom>
          <a:ln w="0">
            <a:noFill/>
          </a:ln>
        </p:spPr>
      </p:pic>
      <p:pic>
        <p:nvPicPr>
          <p:cNvPr id="343" name="Oval 3" descr=""/>
          <p:cNvPicPr/>
          <p:nvPr/>
        </p:nvPicPr>
        <p:blipFill>
          <a:blip r:embed="rId3"/>
          <a:stretch/>
        </p:blipFill>
        <p:spPr>
          <a:xfrm>
            <a:off x="152280" y="2133720"/>
            <a:ext cx="32799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1142640" y="2437920"/>
            <a:ext cx="7334280" cy="205740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entury Gothic"/>
                <a:cs typeface="Tahoma"/>
              </a:rPr>
              <a:t>في الشرائح القليلة القادمة سأوضح بعض النقاط و التي من المهم أن تعرفيها عن المادة ككل و عن المعمل خصوصا ثم سأعرض شرحا عن أهم المفاهيم في المعمل</a:t>
            </a:r>
            <a:r>
              <a:rPr b="0" lang="ar-SA" sz="2800" spc="-1" strike="noStrike">
                <a:solidFill>
                  <a:srgbClr val="ffffff"/>
                </a:solidFill>
                <a:latin typeface="Century Gothic"/>
                <a:ea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Century Gothic"/>
                <a:ea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2802600" y="914400"/>
            <a:ext cx="376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d519ff"/>
                </a:solidFill>
                <a:latin typeface="Century Gothic"/>
                <a:cs typeface="Tahoma"/>
              </a:rPr>
              <a:t>عزيزتي الطالبة</a:t>
            </a:r>
            <a:r>
              <a:rPr b="1" lang="ar-SA" sz="3600" spc="-1" strike="noStrike">
                <a:solidFill>
                  <a:srgbClr val="d519ff"/>
                </a:solidFill>
                <a:latin typeface="Century Gothic"/>
                <a:ea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Title 1" descr=""/>
          <p:cNvPicPr/>
          <p:nvPr/>
        </p:nvPicPr>
        <p:blipFill>
          <a:blip r:embed="rId1"/>
          <a:stretch/>
        </p:blipFill>
        <p:spPr>
          <a:xfrm>
            <a:off x="219240" y="-49320"/>
            <a:ext cx="1055520" cy="66024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1209240" y="5257800"/>
            <a:ext cx="7334280" cy="137160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anchor="t">
            <a:normAutofit/>
          </a:bodyPr>
          <a:p>
            <a:pPr marL="285840" indent="-285840" algn="r" rtl="1"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Tahoma"/>
              </a:rPr>
              <a:t>الرسم يكون بالقلم الرصاص فقط و يمنع الرسم بالحبر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 algn="r" rtl="1"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Tahoma"/>
              </a:rPr>
              <a:t>توصيل النقاط يكون باليد إذا كانت الرسمة منحنى بينما يكون التوصيل بالمسطرة إذا كانت الرسمة خطا مستقيما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 algn="r" rtl="1"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Tahoma"/>
              </a:rPr>
              <a:t>ضعي دائرة حول كل نقطة ترسميها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6" name="Picture 4" descr="C:\Users\11\Desktop\Scatterplot of C10 vs C11.jpg"/>
          <p:cNvPicPr/>
          <p:nvPr/>
        </p:nvPicPr>
        <p:blipFill>
          <a:blip r:embed="rId2"/>
          <a:stretch/>
        </p:blipFill>
        <p:spPr>
          <a:xfrm>
            <a:off x="1143000" y="279360"/>
            <a:ext cx="746748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4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44756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14440" algn="r" rtl="1">
              <a:spcBef>
                <a:spcPts val="499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Tahoma"/>
              </a:rPr>
              <a:t>استخدمي ورق الرسم البياني للرسم ( في دفتر الإجابة سيكون هناك ورق رسم بياني في نهايته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Content Placeholder 2"/>
          <p:cNvSpPr/>
          <p:nvPr/>
        </p:nvSpPr>
        <p:spPr>
          <a:xfrm>
            <a:off x="533520" y="2209680"/>
            <a:ext cx="822960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7800" indent="-514440" algn="r" rtl="1">
              <a:spcBef>
                <a:spcPts val="499"/>
              </a:spcBef>
              <a:buClr>
                <a:srgbClr val="ff388c"/>
              </a:buClr>
              <a:buSzPct val="80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Tahoma"/>
              </a:rPr>
              <a:t>بالقلم الرصاص و المسطرة ارسمي المحاور و ضعي سهما نهاية كل محور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0" name="Content Placeholder 2" descr=""/>
          <p:cNvPicPr/>
          <p:nvPr/>
        </p:nvPicPr>
        <p:blipFill>
          <a:blip r:embed="rId2"/>
          <a:stretch/>
        </p:blipFill>
        <p:spPr>
          <a:xfrm>
            <a:off x="457200" y="2919240"/>
            <a:ext cx="8229600" cy="1500480"/>
          </a:xfrm>
          <a:prstGeom prst="rect">
            <a:avLst/>
          </a:prstGeom>
          <a:ln w="0">
            <a:noFill/>
          </a:ln>
        </p:spPr>
      </p:pic>
      <p:sp>
        <p:nvSpPr>
          <p:cNvPr id="351" name="Content Placeholder 2"/>
          <p:cNvSpPr/>
          <p:nvPr/>
        </p:nvSpPr>
        <p:spPr>
          <a:xfrm>
            <a:off x="533520" y="4800600"/>
            <a:ext cx="822960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7800" indent="-514440" algn="r" rtl="1">
              <a:spcBef>
                <a:spcPts val="499"/>
              </a:spcBef>
              <a:buClr>
                <a:srgbClr val="ff388c"/>
              </a:buClr>
              <a:buSzPct val="80000"/>
              <a:buFont typeface="Century Gothic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Tahoma"/>
              </a:rPr>
              <a:t>قومي بتقسيم المحاور حسب القراءات التي لديك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 algn="r" rtl="1">
              <a:spcBef>
                <a:spcPts val="499"/>
              </a:spcBef>
              <a:buClr>
                <a:srgbClr val="ff388c"/>
              </a:buClr>
              <a:buSzPct val="80000"/>
              <a:buFont typeface="Century Gothic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Tahoma"/>
              </a:rPr>
              <a:t>إذا احتاج المحور لكسره ,, فضعي علامة الكسر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 algn="r" rtl="1">
              <a:spcBef>
                <a:spcPts val="499"/>
              </a:spcBef>
              <a:buClr>
                <a:srgbClr val="ff388c"/>
              </a:buClr>
              <a:buSzPct val="80000"/>
              <a:buFont typeface="Century Gothic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Tahoma"/>
              </a:rPr>
              <a:t>حددي النقاط بوضع نقطة و حولها دائرة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 algn="r" rtl="1">
              <a:spcBef>
                <a:spcPts val="499"/>
              </a:spcBef>
              <a:buClr>
                <a:srgbClr val="ff388c"/>
              </a:buClr>
              <a:buSzPct val="80000"/>
              <a:buFont typeface="Century Gothic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Tahoma"/>
              </a:rPr>
              <a:t>صلي النقاط بواسطة المسطرة و حاولي أن يكون الخط المستقيم متوسطا بين النقاط إن لم تستطيعي جعلها كلها تمر بالخط المستقيم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للتقريب حالات 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spcBef>
                <a:spcPts val="60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entury Gothic"/>
                <a:cs typeface="Tahoma"/>
              </a:rPr>
              <a:t>أجزاء عشرية ( و هي التي تكون بعد الفاصلة 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spcBef>
                <a:spcPts val="60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entury Gothic"/>
                <a:cs typeface="Tahoma"/>
              </a:rPr>
              <a:t>أجزاء صحيحة ( و هي التي تكون قبل الفاصلة , أي أعداد صحيحة 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عندما يُطلب منك التقريب لــ 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أقرب جزء من عشرة : أي خانة واحدة بعد الفاصلة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أقرب جزء من مائة : أي خانتين بعد الفاصلة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أقرب جزء من ألف : أي ثلاث خانات بعد الفاصلة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أقرب جزء من عشرة آلآف : أي أربع خانات بعد الفاصلة و هكذا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Title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4014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5257440" y="1882800"/>
            <a:ext cx="3429000" cy="34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أقرب آحاد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أقرب عشرة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أقرب مائة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أقرب ألف و هكذا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2"/>
          <a:stretch/>
        </p:blipFill>
        <p:spPr>
          <a:xfrm>
            <a:off x="304920" y="2257560"/>
            <a:ext cx="518148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r" rtl="1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entury Gothic"/>
                <a:cs typeface="Tahoma"/>
              </a:rPr>
              <a:t>لدينا العدد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342.5268</a:t>
            </a:r>
            <a:r>
              <a:rPr b="0" lang="ar-SA" sz="2800" spc="-1" strike="noStrike">
                <a:solidFill>
                  <a:srgbClr val="ffffff"/>
                </a:solidFill>
                <a:latin typeface="Century Gothic"/>
                <a:ea typeface="Tahoma"/>
              </a:rPr>
              <a:t> و نريد تقريبه لأقرب جزء من مائة ؟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entury Gothic"/>
                <a:cs typeface="Tahoma"/>
              </a:rPr>
              <a:t>إذن نحن نريد خانتين بعد الفاصلة ( أي إلى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342.52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Century Gothic"/>
                <a:ea typeface="Tahoma"/>
              </a:rPr>
              <a:t> فقط )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entury Gothic"/>
                <a:cs typeface="Tahoma"/>
              </a:rPr>
              <a:t>أضع عيني على العدد الذي بعد هذين الخانتين و أرى 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entury Gothic"/>
                <a:cs typeface="Tahoma"/>
              </a:rPr>
              <a:t>إذا كان هذا العدد </a:t>
            </a:r>
            <a:r>
              <a:rPr b="0" lang="ar-SA" sz="28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5</a:t>
            </a:r>
            <a:r>
              <a:rPr b="0" lang="ar-SA" sz="28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 أو </a:t>
            </a:r>
            <a:r>
              <a:rPr b="0" lang="ar-SA" sz="28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6</a:t>
            </a:r>
            <a:r>
              <a:rPr b="0" lang="ar-SA" sz="28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 أو </a:t>
            </a:r>
            <a:r>
              <a:rPr b="0" lang="ar-SA" sz="28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7</a:t>
            </a:r>
            <a:r>
              <a:rPr b="0" lang="ar-SA" sz="28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 أو </a:t>
            </a:r>
            <a:r>
              <a:rPr b="0" lang="ar-SA" sz="28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8</a:t>
            </a:r>
            <a:r>
              <a:rPr b="0" lang="ar-SA" sz="28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 أو </a:t>
            </a:r>
            <a:r>
              <a:rPr b="0" lang="ar-SA" sz="28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9</a:t>
            </a:r>
            <a:r>
              <a:rPr b="0" lang="ar-SA" sz="28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Century Gothic"/>
                <a:cs typeface="Tahoma"/>
              </a:rPr>
              <a:t>فأضيف واحد لــ العدد الذي يسبقها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entury Gothic"/>
                <a:cs typeface="Tahoma"/>
              </a:rPr>
              <a:t>أما إذا كان </a:t>
            </a:r>
            <a:r>
              <a:rPr b="0" lang="ar-SA" sz="28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4</a:t>
            </a:r>
            <a:r>
              <a:rPr b="0" lang="ar-SA" sz="28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 أو </a:t>
            </a:r>
            <a:r>
              <a:rPr b="0" lang="ar-SA" sz="28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3</a:t>
            </a:r>
            <a:r>
              <a:rPr b="0" lang="ar-SA" sz="28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 أو </a:t>
            </a:r>
            <a:r>
              <a:rPr b="0" lang="ar-SA" sz="28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2</a:t>
            </a:r>
            <a:r>
              <a:rPr b="0" lang="ar-SA" sz="28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 أو </a:t>
            </a:r>
            <a:r>
              <a:rPr b="0" lang="ar-SA" sz="28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1</a:t>
            </a:r>
            <a:r>
              <a:rPr b="0" lang="ar-SA" sz="28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 أو </a:t>
            </a:r>
            <a:r>
              <a:rPr b="0" lang="ar-SA" sz="28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0</a:t>
            </a:r>
            <a:r>
              <a:rPr b="0" lang="ar-SA" sz="28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Century Gothic"/>
                <a:cs typeface="Tahoma"/>
              </a:rPr>
              <a:t>فلا نضيف شيئا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entury Gothic"/>
                <a:cs typeface="Tahoma"/>
              </a:rPr>
              <a:t>فيصبح تقريب العدد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342.5268</a:t>
            </a:r>
            <a:r>
              <a:rPr b="0" lang="ar-SA" sz="2800" spc="-1" strike="noStrike">
                <a:solidFill>
                  <a:srgbClr val="ffffff"/>
                </a:solidFill>
                <a:latin typeface="Century Gothic"/>
                <a:ea typeface="Tahoma"/>
              </a:rPr>
              <a:t>  لأقرب جزء من مائة هو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342.53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Title 1" descr=""/>
          <p:cNvPicPr/>
          <p:nvPr/>
        </p:nvPicPr>
        <p:blipFill>
          <a:blip r:embed="rId1"/>
          <a:stretch/>
        </p:blipFill>
        <p:spPr>
          <a:xfrm>
            <a:off x="457200" y="-85680"/>
            <a:ext cx="8229600" cy="174924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نريد تقريب هذا العدد لأقرب مائة لذلك أضع عيني على العشرات و أرى 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إذا كان عدد العشرات </a:t>
            </a:r>
            <a:r>
              <a:rPr b="0" lang="ar-SA" sz="30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5</a:t>
            </a:r>
            <a:r>
              <a:rPr b="0" lang="ar-SA" sz="30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 أو </a:t>
            </a:r>
            <a:r>
              <a:rPr b="0" lang="ar-SA" sz="30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6</a:t>
            </a:r>
            <a:r>
              <a:rPr b="0" lang="ar-SA" sz="30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 أو </a:t>
            </a:r>
            <a:r>
              <a:rPr b="0" lang="ar-SA" sz="30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7</a:t>
            </a:r>
            <a:r>
              <a:rPr b="0" lang="ar-SA" sz="30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 أو </a:t>
            </a:r>
            <a:r>
              <a:rPr b="0" lang="ar-SA" sz="30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8</a:t>
            </a:r>
            <a:r>
              <a:rPr b="0" lang="ar-SA" sz="30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 أو </a:t>
            </a:r>
            <a:r>
              <a:rPr b="0" lang="ar-SA" sz="30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9</a:t>
            </a:r>
            <a:r>
              <a:rPr b="0" lang="ar-SA" sz="30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 </a:t>
            </a: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فأضيف واحد لــ عدد المئات مع وضع اصفار مكان الآحاد و العشرات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أما إذا كان </a:t>
            </a:r>
            <a:r>
              <a:rPr b="0" lang="ar-SA" sz="30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4</a:t>
            </a:r>
            <a:r>
              <a:rPr b="0" lang="ar-SA" sz="30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 أو </a:t>
            </a:r>
            <a:r>
              <a:rPr b="0" lang="ar-SA" sz="30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3</a:t>
            </a:r>
            <a:r>
              <a:rPr b="0" lang="ar-SA" sz="30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 أو </a:t>
            </a:r>
            <a:r>
              <a:rPr b="0" lang="ar-SA" sz="30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2</a:t>
            </a:r>
            <a:r>
              <a:rPr b="0" lang="ar-SA" sz="30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 أو </a:t>
            </a:r>
            <a:r>
              <a:rPr b="0" lang="ar-SA" sz="30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1</a:t>
            </a:r>
            <a:r>
              <a:rPr b="0" lang="ar-SA" sz="30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 أو </a:t>
            </a:r>
            <a:r>
              <a:rPr b="0" lang="ar-SA" sz="30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0</a:t>
            </a:r>
            <a:r>
              <a:rPr b="0" lang="ar-SA" sz="3000" spc="-1" strike="noStrike" u="sng">
                <a:solidFill>
                  <a:srgbClr val="ff71e5"/>
                </a:solidFill>
                <a:uFillTx/>
                <a:latin typeface="Century Gothic"/>
                <a:ea typeface="Tahoma"/>
              </a:rPr>
              <a:t> </a:t>
            </a: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فلا نضيف شيئا للمئات مع وضع أصفار مكان الآحاد و العشرات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ليصبح تقريب العدد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342.5268</a:t>
            </a: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 لأقرب مائة هو </a:t>
            </a: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300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371600"/>
            <a:ext cx="82296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r" rtl="1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عزيزتي الطالبة .. تنقسم مادة الفيزياء لطلاب و طالبات كلية الحاسب الآلي و المعلومات (</a:t>
            </a: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104</a:t>
            </a: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 فيز) إلى جزئين : محاضرة و معمل !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سيتم اختبارك في جزء المحاضرات و ذلك في نهاية السنة مع باقي موادك الأخرى و ستكون الدرجة الكلية لهذا الجزء هي : </a:t>
            </a: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75</a:t>
            </a: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 درجة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الجزء الثاني لهذا المقرر و الذي هو المعمل .. سيتم اختبارك فيه على جزئين 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entury Gothic"/>
                <a:cs typeface="Tahoma"/>
              </a:rPr>
              <a:t>جزء عملي – نظري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entury Gothic"/>
                <a:cs typeface="Tahoma"/>
              </a:rPr>
              <a:t>جزء عملي – عملي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و ستكون الدرجة الكلية للمعمل هي : </a:t>
            </a: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25</a:t>
            </a: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 درجة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Diagram 8" descr=""/>
          <p:cNvPicPr/>
          <p:nvPr/>
        </p:nvPicPr>
        <p:blipFill>
          <a:blip r:embed="rId1"/>
          <a:stretch/>
        </p:blipFill>
        <p:spPr>
          <a:xfrm>
            <a:off x="291960" y="426960"/>
            <a:ext cx="8643960" cy="61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437680" cy="13953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5</a:t>
            </a: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 درجات على التقارير التي تؤدينها خلال الفصل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3</a:t>
            </a: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 درجات على نشاطك في المعمل و أدائك للتجربة و مشاركتك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6</a:t>
            </a: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 درجات على اختبار المعمل العملي ( عملي – عملي 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11</a:t>
            </a: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 درجة على اختبار المعمل النظري ( عملي – نظري 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بالنسبة للجزء النظري .. فإنه يحدد مع الجدول العام للاختبارات النهائية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بالنسبة للجزء العملي بقسميه ( عملي – عملي و عملي – نظري ) يحدد من القسم و توضع اعلانات بالمواعيد .. كل ما عليك هو متابعة لوحة الإعلانات في مبنى </a:t>
            </a: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14</a:t>
            </a:r>
            <a:r>
              <a:rPr b="0" lang="ar-SA" sz="3000" spc="-1" strike="noStrike">
                <a:solidFill>
                  <a:srgbClr val="ffffff"/>
                </a:solidFill>
                <a:latin typeface="Century Gothic"/>
                <a:ea typeface="Tahoma"/>
              </a:rPr>
              <a:t> و أيضا تم تعليق صورة من المواعيد على باب كل معمل 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entury Gothic"/>
                <a:cs typeface="Tahoma"/>
              </a:rPr>
              <a:t>في الشريحتين التاليتين صورة من المواعيد للفائدة 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Box 4"/>
          <p:cNvSpPr/>
          <p:nvPr/>
        </p:nvSpPr>
        <p:spPr>
          <a:xfrm>
            <a:off x="-25920" y="228600"/>
            <a:ext cx="92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8eba"/>
                </a:solidFill>
                <a:latin typeface="Century Gothic"/>
                <a:cs typeface="Tahoma"/>
              </a:rPr>
              <a:t>مواعيد الاختبار الــ (عملي – نظري )</a:t>
            </a:r>
            <a:r>
              <a:rPr b="1" lang="ar-SA" sz="2000" spc="-1" strike="noStrike">
                <a:solidFill>
                  <a:srgbClr val="ff8eba"/>
                </a:solidFill>
                <a:latin typeface="Century Gothic"/>
                <a:ea typeface="Tahoma"/>
              </a:rPr>
              <a:t> .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8eba"/>
                </a:solidFill>
                <a:latin typeface="Century Gothic"/>
                <a:cs typeface="Tahoma"/>
              </a:rPr>
              <a:t>المبنى الذي سيعقد فيه الاختبار هو مبنى </a:t>
            </a:r>
            <a:r>
              <a:rPr b="1" lang="ar-SA" sz="2000" spc="-1" strike="noStrike">
                <a:solidFill>
                  <a:srgbClr val="ff8eba"/>
                </a:solidFill>
                <a:latin typeface="Century Gothic"/>
                <a:ea typeface="Tahoma"/>
              </a:rPr>
              <a:t>15</a:t>
            </a:r>
            <a:r>
              <a:rPr b="1" lang="ar-SA" sz="2000" spc="-1" strike="noStrike">
                <a:solidFill>
                  <a:srgbClr val="ff8eba"/>
                </a:solidFill>
                <a:latin typeface="Century Gothic"/>
                <a:ea typeface="Tahoma"/>
              </a:rPr>
              <a:t> و عليك التواجد حسب شعبتك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3" name="Content Placeholder 2" descr=""/>
          <p:cNvPicPr/>
          <p:nvPr/>
        </p:nvPicPr>
        <p:blipFill>
          <a:blip r:embed="rId1"/>
          <a:stretch/>
        </p:blipFill>
        <p:spPr>
          <a:xfrm>
            <a:off x="0" y="936720"/>
            <a:ext cx="914400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4"/>
          <p:cNvSpPr/>
          <p:nvPr/>
        </p:nvSpPr>
        <p:spPr>
          <a:xfrm>
            <a:off x="1055880" y="15840"/>
            <a:ext cx="7116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8eba"/>
                </a:solidFill>
                <a:latin typeface="Century Gothic"/>
                <a:cs typeface="Tahoma"/>
              </a:rPr>
              <a:t>مواعيد الاختبار الــ (عملي – عملي )</a:t>
            </a:r>
            <a:r>
              <a:rPr b="1" lang="ar-SA" sz="2000" spc="-1" strike="noStrike">
                <a:solidFill>
                  <a:srgbClr val="ff8eba"/>
                </a:solidFill>
                <a:latin typeface="Century Gothic"/>
                <a:ea typeface="Tahoma"/>
              </a:rPr>
              <a:t> .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8eba"/>
                </a:solidFill>
                <a:latin typeface="Century Gothic"/>
                <a:cs typeface="Tahoma"/>
              </a:rPr>
              <a:t>المبنى الذي سيعقد فيه الاختبار هو مبنى </a:t>
            </a:r>
            <a:r>
              <a:rPr b="1" lang="ar-SA" sz="2000" spc="-1" strike="noStrike">
                <a:solidFill>
                  <a:srgbClr val="ff8eba"/>
                </a:solidFill>
                <a:latin typeface="Century Gothic"/>
                <a:ea typeface="Tahoma"/>
              </a:rPr>
              <a:t>14</a:t>
            </a:r>
            <a:r>
              <a:rPr b="1" lang="ar-SA" sz="2000" spc="-1" strike="noStrike">
                <a:solidFill>
                  <a:srgbClr val="ff8eba"/>
                </a:solidFill>
                <a:latin typeface="Century Gothic"/>
                <a:ea typeface="Tahoma"/>
              </a:rPr>
              <a:t> .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8eba"/>
                </a:solidFill>
                <a:latin typeface="Century Gothic"/>
                <a:ea typeface="Tahoma"/>
              </a:rPr>
              <a:t> </a:t>
            </a:r>
            <a:r>
              <a:rPr b="1" lang="ar-SA" sz="2000" spc="-1" strike="noStrike">
                <a:solidFill>
                  <a:srgbClr val="ff8eba"/>
                </a:solidFill>
                <a:latin typeface="Century Gothic"/>
                <a:cs typeface="Tahoma"/>
              </a:rPr>
              <a:t>يوم الاختبار تواجدي في المعمل الذي ترين أستاذتك فيه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5" name="Content Placeholder 2" descr=""/>
          <p:cNvPicPr/>
          <p:nvPr/>
        </p:nvPicPr>
        <p:blipFill>
          <a:blip r:embed="rId1"/>
          <a:stretch/>
        </p:blipFill>
        <p:spPr>
          <a:xfrm>
            <a:off x="0" y="1119240"/>
            <a:ext cx="9144000" cy="57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32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882440"/>
            <a:ext cx="8229600" cy="24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r" rtl="1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entury Gothic"/>
                <a:cs typeface="Tahoma"/>
              </a:rPr>
              <a:t>قلم أزرق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entury Gothic"/>
                <a:cs typeface="Tahoma"/>
              </a:rPr>
              <a:t>قلم رصاص و ممحاة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entury Gothic"/>
                <a:cs typeface="Tahoma"/>
              </a:rPr>
              <a:t>مسطرة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entury Gothic"/>
                <a:cs typeface="Tahoma"/>
              </a:rPr>
              <a:t>آله حاسبة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entury Gothic"/>
                <a:cs typeface="Tahoma"/>
              </a:rPr>
              <a:t>بطاقتك الجامعية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5-Point Star 3"/>
          <p:cNvSpPr/>
          <p:nvPr/>
        </p:nvSpPr>
        <p:spPr>
          <a:xfrm>
            <a:off x="130320" y="2438280"/>
            <a:ext cx="4952880" cy="4191120"/>
          </a:xfrm>
          <a:prstGeom prst="pi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Tahoma"/>
              </a:rPr>
              <a:t>لا داعي لإحضار ورق رسم بياني</a:t>
            </a:r>
            <a:r>
              <a:rPr b="0" lang="ar-SA" sz="1800" spc="-1" strike="noStrike">
                <a:solidFill>
                  <a:srgbClr val="ffffff"/>
                </a:solidFill>
                <a:latin typeface="Century Gothic"/>
                <a:ea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Tahoma"/>
              </a:rPr>
              <a:t>سيتم توفير الورق مع دفتر الإجابة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2:53:18Z</dcterms:created>
  <dc:creator>11</dc:creator>
  <dc:description/>
  <dc:language>en-US</dc:language>
  <cp:lastModifiedBy>11</cp:lastModifiedBy>
  <dcterms:modified xsi:type="dcterms:W3CDTF">2013-08-17T17:07:16Z</dcterms:modified>
  <cp:revision>35</cp:revision>
  <dc:subject/>
  <dc:title>104 فيز – لطالبات كلية الحاسب و المعلومات</dc:title>
</cp:coreProperties>
</file>