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D96-39A3-4F64-B0FE-B4FCAC1D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61E-3B81-4BF5-8D62-01C83318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593-D54F-487E-89E2-F6B0CD35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28D-FA73-4188-8AC3-1B96FA35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4F01-9780-41B9-BF19-8D166AD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4C4C-6C82-4543-993E-E64C9B4E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4B8A-1EF5-4E0E-8A7F-05B9D61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B345-E41C-4F48-85E6-7EC04763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247-4016-4728-AA74-4A3BD47A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572C-7966-44C7-BDEC-00CC43B8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58F4-70BD-4F47-AAB4-1766C400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B02-EA70-4298-ABCD-29F72A1D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64E-B897-4386-994B-30DAFB5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CD7D-DC27-44C4-BEE1-0086CFA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3526-BED5-4F64-BC9B-DE90D625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8D4-3EA9-493A-8C47-36E72218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963F-4E87-4EFB-BD1D-C4974E84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4A8D-B458-4314-81A0-FB4CB79D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C87E-C279-432A-AA4D-EE041379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4A69-810C-4879-8CBD-13073F1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426E-A711-4010-854B-36E8028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07CF-8AD4-4BC0-9E61-843214F9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0F9-A4DC-4D7E-8DB8-ACF1ABD2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325A-B292-4CB8-9BB8-1FC8678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1863-66D5-4996-9F46-352B81A7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E06C-364D-480C-8ABD-16ED46D5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BAE2-C594-45C6-8B9C-80BA081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816D-7545-47E0-BE70-B81B00FB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7AA9-E84A-4FD2-84F8-B08174E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AC2A-0B7E-402E-B521-990896C6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B782-9E99-44EA-B728-A5AC0BAE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9172-7A2C-4054-B088-BB330EE6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8634-8655-47A4-ACCE-548055B2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0ED-6127-403B-B6E5-7AD7B82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0276-8507-4273-A7A6-17DD41C9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3F5C-05F9-4F3D-A020-DF71225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2AE1-4AE1-4D02-B660-91B22B9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4045B-E55E-4403-8B13-4D9E8B2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97A0-21CF-47FF-8966-B5B64FD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E47A-C912-433D-B0E3-EEBD6B9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17D7-47D7-4E1E-8DE2-C3445D0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9831-18C0-40C1-BA5D-3A83EEDD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AE14-0101-4694-A602-5EF30DBE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BB28-20BC-4134-A44F-23DEEE0D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F4C-B064-4EA2-ABE8-EF05A738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EBD4-FC88-4BDF-ADB6-0AA8931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8D02-050A-4673-80FA-9C6A6443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1153-30A8-4EF6-9ABE-8CA7C62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170D-9B51-43AE-93AA-FB61D656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CD82-91A5-4C66-A05D-38E0497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8326-913A-467F-939E-7E28810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A64C0-AAB5-4311-9C4A-EB565E9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6789-71AD-42E5-9C1E-C183D44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278D-48A9-4A2D-8E28-9663EF9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1EBA-3202-412D-8C90-9845BE70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A29-08E3-4794-A608-94CD4B2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D2BE-E775-426F-8104-40DA9064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116A-31C6-4F4D-ABE6-D6E45166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95CC-6BCB-4D68-834B-156C15A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6996E-0EAF-4B55-AB72-82795F9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7963-8CBA-49F7-81AA-0559C967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C4BA8-1192-4B27-AE2F-1DA6965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34D4A-1127-445A-BADD-81D6CF2F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E693-C2DC-478D-B77F-C553811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F428E-5876-40FB-9878-D072225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E9331-6A9A-41AE-BF20-E5DE4CA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384-639B-4C93-9107-58FA7F6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D021-0AC0-4D92-A63D-F1C14AE1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67DF-520C-4C55-B9D9-59CE5A5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B4E6-A58D-4417-8FE9-55474EB1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B6D8-768C-4FE5-8726-1835DBBB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1018-1E2B-460C-8DB4-18BBE38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860D-44E9-4F0B-B7B5-6B14A03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86E5-7DA4-49D4-8C73-56C9DC8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4A6E-E32F-463F-B34F-66117F08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B876-BA6F-4741-A8CE-61E2638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F634-F20A-4513-BB37-B9A1A81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788-3000-403A-8AB6-A277F19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6BBF-4E10-417E-8964-0F1DD35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F408-ED8F-451F-A72E-F94DC88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A153-F809-4EE2-BF82-E34E34CD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BF20-51DB-4DF6-A739-A2D55C8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F3CD-28E9-4BA5-86FB-D7CFD36F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D2D-1FD7-48A0-A07C-1DC2F281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D93-3F73-4EA0-8696-E82DBC5FD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47DF-80F3-4994-9C80-125D339C4F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C33E-8B2A-4192-94D6-C10C0339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7AA-C3A7-4344-BF6C-1C23703DD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A853-F9FA-402F-A355-1DF422D6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684-25FD-4FC2-9CAA-3B7D43FC53A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ADA-D82F-4BF7-B35C-AABAD879188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ar.wikipedia.org/wiki/&#1603;&#1605;&#1610;&#1577;_&#1575;&#1604;&#1605;&#1575;&#1583;&#1577;" TargetMode="External"/><Relationship Id="rId3" Type="http://schemas.openxmlformats.org/officeDocument/2006/relationships/hyperlink" Target="http://ar.wikipedia.org/wiki/&#1605;&#1578;&#1585;" TargetMode="External"/><Relationship Id="rId4" Type="http://schemas.openxmlformats.org/officeDocument/2006/relationships/hyperlink" Target="http://ar.wikipedia.org/wiki/&#1591;&#1608;&#1604;" TargetMode="External"/><Relationship Id="rId5" Type="http://schemas.openxmlformats.org/officeDocument/2006/relationships/hyperlink" Target="http://ar.wikipedia.org/wiki/&#1603;&#1610;&#1604;&#1608;&#1594;&#1585;&#1575;&#1605;" TargetMode="External"/><Relationship Id="rId6" Type="http://schemas.openxmlformats.org/officeDocument/2006/relationships/hyperlink" Target="http://ar.wikipedia.org/wiki/&#1603;&#1578;&#1604;&#1577;" TargetMode="External"/><Relationship Id="rId7" Type="http://schemas.openxmlformats.org/officeDocument/2006/relationships/hyperlink" Target="http://ar.wikipedia.org/wiki/&#1579;&#1575;&#1606;&#1610;&#1577;" TargetMode="External"/><Relationship Id="rId8" Type="http://schemas.openxmlformats.org/officeDocument/2006/relationships/hyperlink" Target="http://ar.wikipedia.org/wiki/&#1586;&#1605;&#1606;" TargetMode="External"/><Relationship Id="rId9" Type="http://schemas.openxmlformats.org/officeDocument/2006/relationships/hyperlink" Target="http://ar.wikipedia.org/wiki/&#1571;&#1605;&#1576;&#1610;&#1585;" TargetMode="External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652320"/>
            <a:ext cx="8259840" cy="18828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743200"/>
            <a:ext cx="8058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756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ea typeface="Tahoma"/>
              </a:rPr>
              <a:t> تواجدي قبل موعد اختبارك بمدة كافية و تجنبي الحضور متأخرا حتى لا تتعرضين لمشاكل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تأكدي أن كل أدواتك كاملة قبل دخولك للاختبار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اختبار العملي - عملي .. تواجدي في المعمل الذي تتواجد فيه استاذتك أما في الاختبار العملي – نظري تواجدي في القاعة المحددة لشعبتك 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عند دخولك لقاعة الاختبار في الاختبار العملي – نظري , إسألي المراقبة عن الجهة المخصصة لشعبتك .. فقد تحتوي القاعة على أكثر من شعبة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لابد أن تعرفي رقم شعبتك و أسم استاذتك لأنه سيطلب منك تعبئة هذه البيانات مع اسمك و رقمك الجامعي على دفتر الإجاب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381880" cy="1809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كون هذا الاختبار من سؤال يطلب منك فيه الرسم و ملحقاته مثل ( الميل و نسبة الخطأ ) و سؤال آخر يحتوي على مفاهيم من التجارب الثمانية و غالبا ما تكون على هيئة خيارات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كون من سؤالين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سؤال يحتوي على تجربة من التجارب الثمانية التي درستيها خلال الفصل و لن يطلب منك توصليها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كاملة لكن لابد أن تكوني فاهمه طريقة التوصيل عموما .. و سيطلب منك القراءة من الأجهزة و إجراء الحسابات المطلوبة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سؤال يحتوي على دائرة خارجية غير موجودة في الملزمة و سيطلب منك توصيلها ثم قراءة  (الأميتر / الفولتمير / أو الجلفانومتر )  الموجودة فيها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تصحيح اختبار المعمل ( العملي و النظري ) و رصده في مدة لا تتجاوز أسبوع و سيتم وضع النتائج في لوحة الإعلانات بمبنى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يمكن التواصل مع استاذتك و الاستفسار عن درجتك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كما ذكرت سابقا ستكون الدرجة النهائية في المعمل من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2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24640" cy="13586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سطوري القليلة القادمة سأشرح أهم المفاهيم و النقاط في التحويلات و الرسم و استخراج الميل و ايجاد نسبة الخطأ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5-Point Star 5"/>
          <p:cNvSpPr/>
          <p:nvPr/>
        </p:nvSpPr>
        <p:spPr>
          <a:xfrm>
            <a:off x="4343400" y="2286000"/>
            <a:ext cx="4648320" cy="441972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سأرسم هنا باستخدام الحاسوب و هذا يقابل رسمك بالورق البياني </a:t>
            </a:r>
            <a:r>
              <a:rPr b="0" lang="ar-SA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>
            <a:hlinkClick r:id="rId2"/>
          </p:cNvPr>
          <p:cNvSpPr/>
          <p:nvPr/>
        </p:nvSpPr>
        <p:spPr>
          <a:xfrm>
            <a:off x="457200" y="27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63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219320" y="2705040"/>
          <a:ext cx="6705360" cy="3463920"/>
        </p:xfrm>
        <a:graphic>
          <a:graphicData uri="http://schemas.openxmlformats.org/drawingml/2006/table">
            <a:tbl>
              <a:tblPr/>
              <a:tblGrid>
                <a:gridCol w="2235240"/>
                <a:gridCol w="2234880"/>
                <a:gridCol w="223524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3"/>
                        </a:rPr>
                        <a:t>مت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4"/>
                        </a:rPr>
                        <a:t>طو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5"/>
                        </a:rPr>
                        <a:t>كيلوغرا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6"/>
                        </a:rPr>
                        <a:t>كتل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7"/>
                        </a:rPr>
                        <a:t>ثان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8"/>
                        </a:rPr>
                        <a:t>زم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9"/>
                        </a:rPr>
                        <a:t>أمبي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تيار كهربائ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كلف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درجة الحرارة المطل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شم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شدة الإضاء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مو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كمية الماد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33" name="TextBox 7"/>
          <p:cNvSpPr/>
          <p:nvPr/>
        </p:nvSpPr>
        <p:spPr>
          <a:xfrm>
            <a:off x="748080" y="1973160"/>
            <a:ext cx="75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الوحدات الأساسية حسب النظام الدولي للوحدات (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 ) هي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70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الشكل العام لكتابة أي قراءة هي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d1"/>
                </a:solidFill>
                <a:latin typeface="Century Gothic"/>
              </a:rPr>
              <a:t>Number + prefix + un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5-Point Star 3"/>
          <p:cNvSpPr/>
          <p:nvPr/>
        </p:nvSpPr>
        <p:spPr>
          <a:xfrm>
            <a:off x="190440" y="3276720"/>
            <a:ext cx="5067360" cy="341316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لابد من تواجد العدد + الوحدة دائما لكن البادئة لا يشترط تواجدها دائم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2514600" y="2330280"/>
            <a:ext cx="4114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الوحدة   +     البادئة     +       العدد</a:t>
            </a:r>
            <a:r>
              <a:rPr b="1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272880" y="1981080"/>
            <a:ext cx="8515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7560" cy="139536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2" descr=""/>
          <p:cNvPicPr/>
          <p:nvPr/>
        </p:nvPicPr>
        <p:blipFill>
          <a:blip r:embed="rId2"/>
          <a:stretch/>
        </p:blipFill>
        <p:spPr>
          <a:xfrm>
            <a:off x="457200" y="1884240"/>
            <a:ext cx="8229600" cy="2766960"/>
          </a:xfrm>
          <a:prstGeom prst="rect">
            <a:avLst/>
          </a:prstGeom>
          <a:ln w="0">
            <a:noFill/>
          </a:ln>
        </p:spPr>
      </p:pic>
      <p:pic>
        <p:nvPicPr>
          <p:cNvPr id="343" name="Oval 3" descr=""/>
          <p:cNvPicPr/>
          <p:nvPr/>
        </p:nvPicPr>
        <p:blipFill>
          <a:blip r:embed="rId3"/>
          <a:stretch/>
        </p:blipFill>
        <p:spPr>
          <a:xfrm>
            <a:off x="152280" y="2133720"/>
            <a:ext cx="3279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142640" y="2437920"/>
            <a:ext cx="7334280" cy="20574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شرائح القليلة القادمة سأوضح بعض النقاط و التي من المهم أن تعرفيها عن المادة ككل و عن المعمل خصوصا ثم سأعرض شرحا عن أهم المفاهيم في المعمل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802600" y="914400"/>
            <a:ext cx="37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519ff"/>
                </a:solidFill>
                <a:latin typeface="Century Gothic"/>
                <a:cs typeface="Tahoma"/>
              </a:rPr>
              <a:t>عزيزتي الطالبة</a:t>
            </a:r>
            <a:r>
              <a:rPr b="1" lang="ar-SA" sz="3600" spc="-1" strike="noStrike">
                <a:solidFill>
                  <a:srgbClr val="d519ff"/>
                </a:solidFill>
                <a:latin typeface="Century Gothic"/>
                <a:ea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19240" y="-49320"/>
            <a:ext cx="1055520" cy="6602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209240" y="5257800"/>
            <a:ext cx="7334280" cy="13716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الرسم يكون بالقلم الرصاص فقط و يمنع الرسم بالحبر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توصيل النقاط يكون باليد إذا كانت الرسمة منحنى بينما يكون التوصيل بالمسطرة إذا كانت الرسمة خطا مستقيم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ضعي دائرة حول كل نقطة ترسميه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4" descr="C:\Users\11\Desktop\Scatterplot of C10 vs C11.jpg"/>
          <p:cNvPicPr/>
          <p:nvPr/>
        </p:nvPicPr>
        <p:blipFill>
          <a:blip r:embed="rId2"/>
          <a:stretch/>
        </p:blipFill>
        <p:spPr>
          <a:xfrm>
            <a:off x="1143000" y="27936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4475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استخدمي ورق الرسم البياني للرسم ( في دفتر الإجابة سيكون هناك ورق رسم بياني في نهايته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533520" y="2209680"/>
            <a:ext cx="822960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قلم الرصاص و المسطرة ارسمي المحاور و ضعي سهما نهاية كل محور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Content Placeholder 2" descr=""/>
          <p:cNvPicPr/>
          <p:nvPr/>
        </p:nvPicPr>
        <p:blipFill>
          <a:blip r:embed="rId2"/>
          <a:stretch/>
        </p:blipFill>
        <p:spPr>
          <a:xfrm>
            <a:off x="457200" y="2919240"/>
            <a:ext cx="8229600" cy="1500480"/>
          </a:xfrm>
          <a:prstGeom prst="rect">
            <a:avLst/>
          </a:prstGeom>
          <a:ln w="0">
            <a:noFill/>
          </a:ln>
        </p:spPr>
      </p:pic>
      <p:sp>
        <p:nvSpPr>
          <p:cNvPr id="351" name="Content Placeholder 2"/>
          <p:cNvSpPr/>
          <p:nvPr/>
        </p:nvSpPr>
        <p:spPr>
          <a:xfrm>
            <a:off x="533520" y="480060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قومي بتقسيم المحاور حسب القراءات التي لديك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احتاج المحور لكسره ,, فضعي علامة الكسر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حددي النقاط بوضع نقطة و حولها دائرة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صلي النقاط بواسطة المسطرة و حاولي أن يكون الخط المستقيم متوسطا بين النقاط إن لم تستطيعي جعلها كلها تمر بالخط المستقي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للتقريب حالات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أجزاء عشرية ( و هي التي تكون بعد الفاصلة 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أجزاء صحيحة ( و هي التي تكون قبل الفاصلة , أي أعداد صحيحة 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عندما يُطلب منك التقريب لــ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عشرة : أي خانة واحدة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مائة : أي خانتين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ألف : أي ثلاث خانات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عشرة آلآف : أي أربع خانات بعد الفاصلة و هكذا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257440" y="1882800"/>
            <a:ext cx="34290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آحاد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عشر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مائ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ألف و هكذا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304920" y="2257560"/>
            <a:ext cx="51814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لدينا العدد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و نريد تقريبه لأقرب جزء من مائة ؟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إذن نحن نريد خانتين بعد الفاصلة ( أي إلى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فقط 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أضع عيني على العدد الذي بعد هذين الخانتين و أرى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كان هذا العدد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5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6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7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8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9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أضيف واحد لــ العدد الذي يسبقها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أما إذا كان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4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3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2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1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0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لا نضيف شيئ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يصبح تقريب العدد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 لأقرب جزء من مائة هو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17492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نريد تقريب هذا العدد لأقرب مائة لذلك أضع عيني على العشرات و أرى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كان عدد العشرات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5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6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7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8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9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أضيف واحد لــ عدد المئات مع وضع اصفار مكان الآحاد و العشرات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ما إذا كان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4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3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2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1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0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لا نضيف شيئا للمئات مع وضع أصفار مكان الآحاد و العشرات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ليصبح تقريب العدد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لأقرب مائة هو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عزيزتي الطالبة .. تنقسم مادة الفيزياء لطلاب و طالبات كلية الحاسب الآلي و المعلومات (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0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فيز) إلى جزئين : محاضرة و معمل 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اختبارك في جزء المحاضرات و ذلك في نهاية السنة مع باقي موادك الأخرى و ستكون الدرجة الكلية لهذا الجزء هي :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7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الجزء الثاني لهذا المقرر و الذي هو المعمل .. سيتم اختبارك فيه على جزئين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جزء عملي – نظري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جزء عملي – عملي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و ستكون الدرجة الكلية للمعمل هي :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2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Diagram 8" descr=""/>
          <p:cNvPicPr/>
          <p:nvPr/>
        </p:nvPicPr>
        <p:blipFill>
          <a:blip r:embed="rId1"/>
          <a:stretch/>
        </p:blipFill>
        <p:spPr>
          <a:xfrm>
            <a:off x="291960" y="426960"/>
            <a:ext cx="86439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37680" cy="139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التقارير التي تؤدينها خلال الفص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نشاطك في المعمل و أدائك للتجربة و مشاركت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6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اختبار المعمل العملي ( عملي – عملي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1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 على اختبار المعمل النظري ( عملي – نظري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نسبة للجزء النظري .. فإنه يحدد مع الجدول العام للاختبارات النهائي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نسبة للجزء العملي بقسميه ( عملي – عملي و عملي – نظري ) يحدد من القسم و توضع اعلانات بالمواعيد .. كل ما عليك هو متابعة لوحة الإعلانات في مبنى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و أيضا تم تعليق صورة من المواعيد على باب كل معمل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شريحتين التاليتين صورة من المواعيد للفائد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4"/>
          <p:cNvSpPr/>
          <p:nvPr/>
        </p:nvSpPr>
        <p:spPr>
          <a:xfrm>
            <a:off x="-25920" y="228600"/>
            <a:ext cx="92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مواعيد الاختبار الــ (عملي – نظري )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المبنى الذي سيعقد فيه الاختبار هو مبنى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15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و عليك التواجد حسب شعبتك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Content Placeholder 2" descr="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4"/>
          <p:cNvSpPr/>
          <p:nvPr/>
        </p:nvSpPr>
        <p:spPr>
          <a:xfrm>
            <a:off x="1055880" y="15840"/>
            <a:ext cx="711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مواعيد الاختبار الــ (عملي – عملي )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المبنى الذي سيعقد فيه الاختبار هو مبنى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14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يوم الاختبار تواجدي في المعمل الذي ترين أستاذتك فيه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Content Placeholder 2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3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440"/>
            <a:ext cx="822960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قلم أزر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قلم رصاص و ممحا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مسطر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آله حاسب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بطاقتك الجامعي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5-Point Star 3"/>
          <p:cNvSpPr/>
          <p:nvPr/>
        </p:nvSpPr>
        <p:spPr>
          <a:xfrm>
            <a:off x="130320" y="2438280"/>
            <a:ext cx="4952880" cy="419112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لا داعي لإحضار ورق رسم بياني</a:t>
            </a:r>
            <a:r>
              <a:rPr b="0" lang="ar-SA" sz="18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توفير الورق مع دفتر الإجابة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2:53:18Z</dcterms:created>
  <dc:creator>11</dc:creator>
  <dc:description/>
  <dc:language>en-US</dc:language>
  <cp:lastModifiedBy>11</cp:lastModifiedBy>
  <dcterms:modified xsi:type="dcterms:W3CDTF">2013-08-17T17:07:16Z</dcterms:modified>
  <cp:revision>35</cp:revision>
  <dc:subject/>
  <dc:title>104 فيز – لطالبات كلية الحاسب و المعلومات</dc:title>
</cp:coreProperties>
</file>