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299-5391-4D07-B28E-3B188F98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41D-3D12-4E40-8EAE-AF9A90BC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36C-B12B-4AB4-9467-DA2EF882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D43-D48F-4A24-9DAF-8A7063F0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A24-966C-4741-8258-473B923B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7C7-F07E-4333-99E1-6E62BD02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1B8-6BD4-401E-9916-C4BA969C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59D-3A95-4208-8600-407D7BD0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508-4E5C-4E59-A07B-F085700E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908-8AD3-4AD6-B853-01350811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689-822C-4497-91E9-C1C1778D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2D1-DBFB-4C38-9098-8496DD43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FF49-7F58-4AD7-B2AF-33A0CF65C5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cf3"/>
            </a:gs>
            <a:gs pos="100000">
              <a:srgbClr val="6c757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_11964279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5410080"/>
            <a:ext cx="3886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ff3ed"/>
                </a:solidFill>
                <a:latin typeface="Arial"/>
              </a:rPr>
              <a:t> </a:t>
            </a:r>
            <a:r>
              <a:rPr b="1" i="1" lang="ar-SA" sz="3600" spc="-1" strike="noStrike">
                <a:solidFill>
                  <a:srgbClr val="bff3ed"/>
                </a:solidFill>
                <a:latin typeface="Arial"/>
              </a:rPr>
              <a:t>206- </a:t>
            </a:r>
            <a:r>
              <a:rPr b="1" i="1" lang="ar-SA" sz="3600" spc="-1" strike="noStrike">
                <a:solidFill>
                  <a:srgbClr val="bff3ed"/>
                </a:solidFill>
                <a:latin typeface="Arial"/>
              </a:rPr>
              <a:t>جغر </a:t>
            </a:r>
            <a:br>
              <a:rPr sz="3600"/>
            </a:br>
            <a:r>
              <a:rPr b="1" i="1" lang="ar-SA" sz="3600" spc="-1" strike="noStrike">
                <a:solidFill>
                  <a:srgbClr val="bff3ed"/>
                </a:solidFill>
                <a:latin typeface="Arial"/>
              </a:rPr>
              <a:t> جغرافية العالم الإسلامي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bff3ed"/>
                </a:solidFill>
                <a:latin typeface="Arial"/>
              </a:rPr>
              <a:t>أ/ وفاء بابط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وصف المقرر</a:t>
            </a:r>
            <a:br>
              <a:rPr sz="1800"/>
            </a:br>
            <a:r>
              <a:rPr b="1" lang="ar-SA" sz="1800" spc="-1" strike="noStrike">
                <a:solidFill>
                  <a:srgbClr val="262673"/>
                </a:solidFill>
                <a:latin typeface="Arial"/>
              </a:rPr>
              <a:t>يتناول المقرر أهمية دراسة العالم الإسلامي وأهم الدراسات التي كتبت حولة . ثم يتطرق إلى كيفية تكونه وموقعه وجغرافيته الطبيعية من حيث التضاريس والمناخ ومصادر المياه , وكذا جغرافيته البشريه من حيث حجم السكان وتوزيعهم وبعض خصائصهم مع الإشارة إلى الأقليات المسلمة خارج العالم الإسلامي . كما يدرس المقرر إقتصاديات العالم الإسلامي وثرواته الطبيعية. بالإضافة لدراسة بعض مشكلاته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مفردات المقر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أول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مفهوم الدولة الإسلامية والمعايير المستخدمة لتحديد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لأسبوع الثاني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موقع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ثالث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تضاريس العالم الإسلامي (الجبال –الهضاب - السهو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رابع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تابع تضاريس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خامس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أهم الأقاليم المناخية في العالم الإسلامي</a:t>
            </a: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سادس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المياه في العالم الإسلامي ( المياه السطحية + المياه الجوفي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سابع        :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 أنواع التربة وتوزيعها في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ثامن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النباتات في العالم الإسلامي وتوزيع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تاسع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سكان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عاشر      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تصنيف الدول الإسلامية حسب الكثافة السكانية . والأقليات المسلمة في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حادي عشر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النشاط الاقتصادي في العالم الإسلامي ( 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الرعي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صيد  الأسماك -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قطع الأخشاب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ثاني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تابع النشاط الاقتصادي (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الزراعة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التعدين –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- الصناع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ثالث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دراسة لبعض الدول الإسلامية</a:t>
            </a: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51"/>
              </a:spcBef>
              <a:buClr>
                <a:srgbClr val="990033"/>
              </a:buClr>
              <a:buFont typeface="Arial"/>
              <a:buChar char="•"/>
              <a:tabLst>
                <a:tab algn="l" pos="2157480"/>
                <a:tab algn="l" pos="2514600"/>
                <a:tab algn="l" pos="268596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ar-SA" sz="1800" spc="-1" strike="noStrike">
                <a:solidFill>
                  <a:srgbClr val="990033"/>
                </a:solidFill>
                <a:latin typeface="Arial"/>
              </a:rPr>
              <a:t>الأسبوع الرابع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دراسة لبعض مشكلات العالم الإسلام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6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أهم المراجع :</a:t>
            </a:r>
            <a:r>
              <a:rPr b="0" lang="ar-SA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262673"/>
                </a:solidFill>
                <a:latin typeface="Arial"/>
              </a:rPr>
              <a:t>- فريق من الباحثين  </a:t>
            </a:r>
            <a:r>
              <a:rPr b="0" lang="ar-SA" sz="2400" spc="-1" strike="noStrike">
                <a:solidFill>
                  <a:srgbClr val="990033"/>
                </a:solidFill>
                <a:latin typeface="Arial"/>
              </a:rPr>
              <a:t>, الموسوعة الجغرافية للعالم الإسلامي, </a:t>
            </a:r>
            <a:r>
              <a:rPr b="0" lang="ar-SA" sz="2400" spc="-1" strike="noStrike">
                <a:solidFill>
                  <a:srgbClr val="262673"/>
                </a:solidFill>
                <a:latin typeface="Arial"/>
              </a:rPr>
              <a:t>جامعة الإمام محمد بن سعود الإسلامية , </a:t>
            </a:r>
            <a:r>
              <a:rPr b="0" lang="ar-SA" sz="2400" spc="-1" strike="noStrike">
                <a:solidFill>
                  <a:srgbClr val="262673"/>
                </a:solidFill>
                <a:latin typeface="Arial"/>
              </a:rPr>
              <a:t>1420</a:t>
            </a:r>
            <a:r>
              <a:rPr b="0" lang="ar-SA" sz="2400" spc="-1" strike="noStrike">
                <a:solidFill>
                  <a:srgbClr val="262673"/>
                </a:solidFill>
                <a:latin typeface="Arial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-السرياني , محمد محمود</a:t>
            </a:r>
            <a:r>
              <a:rPr b="0" lang="ar-SA" sz="2000" spc="-1" strike="noStrike">
                <a:solidFill>
                  <a:srgbClr val="990033"/>
                </a:solidFill>
                <a:latin typeface="Arial"/>
              </a:rPr>
              <a:t> , الوجيز في العالم الإسلامي ,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الرياض , دار عالم الكتب ,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997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م -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17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هـ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- الخفاف,عبداللطيف, </a:t>
            </a:r>
            <a:r>
              <a:rPr b="0" lang="ar-SA" sz="2000" spc="-1" strike="noStrike">
                <a:solidFill>
                  <a:srgbClr val="990033"/>
                </a:solidFill>
                <a:latin typeface="Arial"/>
              </a:rPr>
              <a:t>جغرافية العالم الإسلامي أسس عامة في المحيطين الطبيعي والبشري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, عمان, دار الشروق للنشر والتوزيع ,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- المطر , السيد خالد , </a:t>
            </a:r>
            <a:r>
              <a:rPr b="0" lang="ar-SA" sz="2000" spc="-1" strike="noStrike">
                <a:solidFill>
                  <a:srgbClr val="990033"/>
                </a:solidFill>
                <a:latin typeface="Arial"/>
              </a:rPr>
              <a:t>جغرافية العالم الإسلامي المعاصر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, جدة, الدار السعودية للنشر والتوزيع ,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000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م –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20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هـ .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- أبوالعلا ,محمود, </a:t>
            </a:r>
            <a:r>
              <a:rPr b="0" lang="ar-SA" sz="2000" spc="-1" strike="noStrike">
                <a:solidFill>
                  <a:srgbClr val="990033"/>
                </a:solidFill>
                <a:latin typeface="Arial"/>
              </a:rPr>
              <a:t>جغرافية العالم الإسلامي واقتصادياته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, الكويت, مكتبة الفلاح,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991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م –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11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هـ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                       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990033"/>
                </a:solidFill>
                <a:latin typeface="Arial"/>
              </a:rPr>
              <a:t>توزيع الدرجات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6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درجة الاختبار الفصلي الأول بتاريخ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6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درجة الاختبار الفصلي الثاني  بتاريخ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35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درجات إختبارات قصيرة لبعض القراءات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25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35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درجات رسم خريطة للعالم الإسلامي   آخر موعد لتسليمها بتاريخ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60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درجة الاختبار النهائي . ( الثلاثاء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3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1435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فترة أولى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                           ***************************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boy-1.jpg"/>
          <p:cNvPicPr/>
          <p:nvPr/>
        </p:nvPicPr>
        <p:blipFill>
          <a:blip r:embed="rId2"/>
          <a:stretch/>
        </p:blipFill>
        <p:spPr>
          <a:xfrm>
            <a:off x="0" y="4952880"/>
            <a:ext cx="2014560" cy="1905120"/>
          </a:xfrm>
          <a:prstGeom prst="rect">
            <a:avLst/>
          </a:prstGeom>
          <a:ln w="0">
            <a:noFill/>
          </a:ln>
        </p:spPr>
      </p:pic>
    </p:spTree>
  </p:cSld>
  <p:transition spd="med" advTm="46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خريطة العالم الإسلا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43240" y="243792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العالم الاسلامي السنة والشيعة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 spd="med" advTm="45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الدكتورة وفاء</dc:creator>
  <dc:description/>
  <dc:language>en-US</dc:language>
  <cp:lastModifiedBy>Wafa-geo</cp:lastModifiedBy>
  <dcterms:modified xsi:type="dcterms:W3CDTF">2013-09-15T21:46:2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