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9F8-DE9E-43CA-810A-5986E94A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C84-1B72-4974-BCA4-BAF574F5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8E1-151B-4961-8A76-ADE8F21E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0CF-2550-49BC-9931-B4925983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0A0-A08D-41A2-8B12-AACF02CE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0F1-23CB-4F9C-99F2-06042E1A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81B-C98F-4C78-8295-8B789493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7C3-5217-48E7-86F6-7601CD42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B46-41D3-451C-934C-2C5129C5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0DF-9A16-497B-B1F1-5999433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341-7719-46AD-A868-6787587E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690-C507-41AA-B4C2-170BD6F1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6E27-1E45-445F-8D72-76E87A9F47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cf3"/>
            </a:gs>
            <a:gs pos="100000">
              <a:srgbClr val="6c757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_11964279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5410080"/>
            <a:ext cx="3886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ff3ed"/>
                </a:solidFill>
                <a:latin typeface="Arial"/>
              </a:rPr>
              <a:t> </a:t>
            </a:r>
            <a:r>
              <a:rPr b="1" i="1" lang="ar-SA" sz="3600" spc="-1" strike="noStrike">
                <a:solidFill>
                  <a:srgbClr val="bff3ed"/>
                </a:solidFill>
                <a:latin typeface="Arial"/>
              </a:rPr>
              <a:t>206- </a:t>
            </a:r>
            <a:r>
              <a:rPr b="1" i="1" lang="ar-SA" sz="3600" spc="-1" strike="noStrike">
                <a:solidFill>
                  <a:srgbClr val="bff3ed"/>
                </a:solidFill>
                <a:latin typeface="Arial"/>
              </a:rPr>
              <a:t>جغر </a:t>
            </a:r>
            <a:br>
              <a:rPr sz="3600"/>
            </a:br>
            <a:r>
              <a:rPr b="1" i="1" lang="ar-SA" sz="3600" spc="-1" strike="noStrike">
                <a:solidFill>
                  <a:srgbClr val="bff3ed"/>
                </a:solidFill>
                <a:latin typeface="Arial"/>
              </a:rPr>
              <a:t> جغرافية العالم الإسلامي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bff3ed"/>
                </a:solidFill>
                <a:latin typeface="Arial"/>
              </a:rPr>
              <a:t>أ/ وفاء بابط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وصف المقرر</a:t>
            </a:r>
            <a:br>
              <a:rPr sz="1800"/>
            </a:br>
            <a:r>
              <a:rPr b="1" lang="ar-SA" sz="1800" spc="-1" strike="noStrike">
                <a:solidFill>
                  <a:srgbClr val="262673"/>
                </a:solidFill>
                <a:latin typeface="Arial"/>
              </a:rPr>
              <a:t>يتناول المقرر أهمية دراسة العالم الإسلامي وأهم الدراسات التي كتبت حولة . ثم يتطرق إلى كيفية تكونه وموقعه وجغرافيته الطبيعية من حيث التضاريس والمناخ ومصادر المياه , وكذا جغرافيته البشريه من حيث حجم السكان وتوزيعهم وبعض خصائصهم مع الإشارة إلى الأقليات المسلمة خارج العالم الإسلامي . كما يدرس المقرر إقتصاديات العالم الإسلامي وثرواته الطبيعية. بالإضافة لدراسة بعض مشكلاته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مفردات المقر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أول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مفهوم الدولة الإسلامية والمعايير المستخدمة لتحديد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لأسبوع الثاني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موقع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ثالث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تضاريس العالم الإسلامي (الجبال –الهضاب - السهو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رابع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تابع تضاريس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خامس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أهم الأقاليم المناخية في العالم الإسلامي</a:t>
            </a: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سادس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المياه في العالم الإسلامي ( المياه السطحية + المياه الجوفي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سابع        :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 أنواع التربة وتوزيعها في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ثامن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النباتات في العالم الإسلامي وتوزيع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تاسع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سكان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عاشر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تصنيف الدول الإسلامية حسب الكثافة السكانية . والأقليات المسلمة في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حادي عشر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النشاط الاقتصادي في العالم الإسلامي ( 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الرعي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صيد  الأسماك -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قطع الأخشاب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ثاني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تابع النشاط الاقتصادي (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الزراعة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التعدين –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الصناع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ثالث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دراسة لبعض الدول الإسلامية</a:t>
            </a: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رابع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دراسة لبعض مشكلات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6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أهم المراجع :</a:t>
            </a:r>
            <a:r>
              <a:rPr b="0" lang="ar-SA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262673"/>
                </a:solidFill>
                <a:latin typeface="Arial"/>
              </a:rPr>
              <a:t>- فريق من الباحثين  </a:t>
            </a:r>
            <a:r>
              <a:rPr b="0" lang="ar-SA" sz="2400" spc="-1" strike="noStrike">
                <a:solidFill>
                  <a:srgbClr val="990033"/>
                </a:solidFill>
                <a:latin typeface="Arial"/>
              </a:rPr>
              <a:t>, الموسوعة الجغرافية للعالم الإسلامي, </a:t>
            </a:r>
            <a:r>
              <a:rPr b="0" lang="ar-SA" sz="2400" spc="-1" strike="noStrike">
                <a:solidFill>
                  <a:srgbClr val="262673"/>
                </a:solidFill>
                <a:latin typeface="Arial"/>
              </a:rPr>
              <a:t>جامعة الإمام محمد بن سعود الإسلامية , </a:t>
            </a:r>
            <a:r>
              <a:rPr b="0" lang="ar-SA" sz="2400" spc="-1" strike="noStrike">
                <a:solidFill>
                  <a:srgbClr val="262673"/>
                </a:solidFill>
                <a:latin typeface="Arial"/>
              </a:rPr>
              <a:t>1420</a:t>
            </a:r>
            <a:r>
              <a:rPr b="0" lang="ar-SA" sz="2400" spc="-1" strike="noStrike">
                <a:solidFill>
                  <a:srgbClr val="262673"/>
                </a:solidFill>
                <a:latin typeface="Arial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-السرياني , محمد محمود</a:t>
            </a:r>
            <a:r>
              <a:rPr b="0" lang="ar-SA" sz="2000" spc="-1" strike="noStrike">
                <a:solidFill>
                  <a:srgbClr val="990033"/>
                </a:solidFill>
                <a:latin typeface="Arial"/>
              </a:rPr>
              <a:t> , الوجيز في العالم الإسلامي ,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الرياض , دار عالم الكتب ,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997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م -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17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هـ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- الخفاف,عبداللطيف, </a:t>
            </a:r>
            <a:r>
              <a:rPr b="0" lang="ar-SA" sz="2000" spc="-1" strike="noStrike">
                <a:solidFill>
                  <a:srgbClr val="990033"/>
                </a:solidFill>
                <a:latin typeface="Arial"/>
              </a:rPr>
              <a:t>جغرافية العالم الإسلامي أسس عامة في المحيطين الطبيعي والبشري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, عمان, دار الشروق للنشر والتوزيع ,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- المطر , السيد خالد , </a:t>
            </a:r>
            <a:r>
              <a:rPr b="0" lang="ar-SA" sz="2000" spc="-1" strike="noStrike">
                <a:solidFill>
                  <a:srgbClr val="990033"/>
                </a:solidFill>
                <a:latin typeface="Arial"/>
              </a:rPr>
              <a:t>جغرافية العالم الإسلامي المعاصر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, جدة, الدار السعودية للنشر والتوزيع ,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000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م –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20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هـ .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- أبوالعلا ,محمود, </a:t>
            </a:r>
            <a:r>
              <a:rPr b="0" lang="ar-SA" sz="2000" spc="-1" strike="noStrike">
                <a:solidFill>
                  <a:srgbClr val="990033"/>
                </a:solidFill>
                <a:latin typeface="Arial"/>
              </a:rPr>
              <a:t>جغرافية العالم الإسلامي واقتصادياته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, الكويت, مكتبة الفلاح,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991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م –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11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هـ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                       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توزيع الدرجات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6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درجة الاختبار الفصلي الأول بتاريخ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2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6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درجة الاختبار الفصلي الثاني  بتاريخ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35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درجات إختبارات قصيرة لبعض القراءات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5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35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درجات رسم خريطة للعالم الإسلامي   آخر موعد لتسليمها بتاريخ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2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60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درجة الاختبار النهائي . ( الثلاثاء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3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35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فترة أولى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                        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boy-1.jpg"/>
          <p:cNvPicPr/>
          <p:nvPr/>
        </p:nvPicPr>
        <p:blipFill>
          <a:blip r:embed="rId2"/>
          <a:stretch/>
        </p:blipFill>
        <p:spPr>
          <a:xfrm>
            <a:off x="0" y="4952880"/>
            <a:ext cx="2014560" cy="1905120"/>
          </a:xfrm>
          <a:prstGeom prst="rect">
            <a:avLst/>
          </a:prstGeom>
          <a:ln w="0">
            <a:noFill/>
          </a:ln>
        </p:spPr>
      </p:pic>
    </p:spTree>
  </p:cSld>
  <p:transition spd="med" advTm="46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خريطة العالم الإسلا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43240" y="243792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العالم الاسلامي السنة والشيعة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ransition spd="med" advTm="4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الدكتورة وفاء</dc:creator>
  <dc:description/>
  <dc:language>en-US</dc:language>
  <cp:lastModifiedBy>Wafa-geo</cp:lastModifiedBy>
  <dcterms:modified xsi:type="dcterms:W3CDTF">2013-09-15T21:46:2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