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99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99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99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F37C-6007-440B-AE20-00DC538DDF64}" type="slidenum">
              <a:rPr b="0" lang="ar-SA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AEE3-934A-4879-86BC-27461B7A9F4F}" type="slidenum">
              <a:rPr b="0" lang="ar-SA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E584-1523-4EEB-BBEB-A153A472A161}" type="slidenum">
              <a:rPr b="0" lang="ar-SA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3C0-CFA7-46CF-9809-252CCFF8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737-B57F-4DE4-AB45-A62E226D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7B4-4F28-4FAA-81FA-A0E90311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BF2-6101-4660-B834-59980959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989-EEED-4268-B041-45FFC561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5BF-D3A1-44B0-8715-62128228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873-2B76-409E-B854-03E6D77D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D39-8F53-4C3F-AF5F-54A9F7D3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04B-2CFD-4245-9455-5F0A26B5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E28-A3C9-4BC9-A5C8-B7198C72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4EC-28A0-4533-8FF4-66660FB8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176-9F01-4DE3-A2F1-2035686A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5E92-75A7-40CC-A25D-041ABF81FA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EB_lesfleursdeparis_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76920" y="5791320"/>
            <a:ext cx="5486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جغرافية النقل 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                    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436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- جغ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circleflow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ar-SA" sz="2000" spc="-1" strike="noStrike" u="sng">
                <a:solidFill>
                  <a:srgbClr val="a50021"/>
                </a:solidFill>
                <a:uFillTx/>
                <a:latin typeface="Arial"/>
              </a:rPr>
              <a:t>مفردات مقرر جغرافية النق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أول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تطور جغرافية النقل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ثالث         :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العوامل الطبيعية والبشرية المؤثرة في جغرافية النقل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رابع         :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أنماط النقل – أولاً : النقل البر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أ/ النقل بالطرق ال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                                                       ب/ النقل بالسكك الحديد</a:t>
            </a: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خامس       :                        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ج/ النقل بالأنابي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د/ خطوط نقل الكهرباء + النقل المعل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سادس       :               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ثانياً : النقل النه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سابع        :               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ثالثاً : النقل البح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ثامن        :                     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تابع</a:t>
            </a: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النقل البح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تاسع        :                    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تابع</a:t>
            </a: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النقل البح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عاشر       :               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رابعاً : النقل الج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حادي عشر: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شبكات النق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4"/>
          <p:cNvSpPr/>
          <p:nvPr/>
        </p:nvSpPr>
        <p:spPr>
          <a:xfrm>
            <a:off x="5638680" y="144792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28600" y="-193680"/>
            <a:ext cx="89154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L-Mohanad Bold"/>
                <a:cs typeface="Times New Roman"/>
              </a:rPr>
              <a:t>تعريف بالمقرر</a:t>
            </a:r>
            <a:endParaRPr b="0" lang="en-US" sz="2000" spc="-1" strike="noStrike">
              <a:solidFill>
                <a:srgbClr val="0099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80"/>
                </a:solidFill>
                <a:latin typeface="AL-Mohanad Bold"/>
                <a:cs typeface="Times New Roman"/>
              </a:rPr>
              <a:t>يُعرف المقرر بجغرافية النقل والتسويق , ومفهومها وأهميتها ومراحل تطورها .إضافة لذلك سيتم استعراض أهم العوامل الطبيعية والبشرية المؤثرة في جغرافية النقل والتسويق.كما سيدرس المقرر أنواع النقل . ومن ثم سنتطرق لشبكات النقل وأنواعها ودراسة بعض أساليب القياس الكمية المستخدمة في جغرافية النقل. ويختم المقرر بدراسة نماذج من النقل في المملكة العربية السعودية.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circleflow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spcBef>
                <a:spcPts val="499"/>
              </a:spcBef>
              <a:buNone/>
              <a:tabLst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Arial"/>
              </a:rPr>
              <a:t>الأسبوع الثاني عشر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دراسة لبعض أساليب القياس الكمية المستخدمة في جغرافية النق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Arial"/>
              </a:rPr>
              <a:t>الأسبوع الثالث عشر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تابع دراسة لبعض أساليب القياس الكمية المستخدمة في جغرافية النق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Arial"/>
              </a:rPr>
              <a:t>الأسبوع الرابع عشر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النقل في المملكة العربية السعودية + تعريف التسويق ومفهو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المراجع 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- عبده , سعيد, 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</a:rPr>
              <a:t>أسس جغرافية النقل 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, مكتبة الأنجلو المصرية , 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1994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- حبيب رسول, أحمد , دراسات في جغرافية النقل , بيروت, دار النهضة العربية للطباعة والنشر ,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1986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- مشخص, محمد عبدالحميد , الجغرافيا البشرية المعاصرة للملكة العربية السعودية, جدة, دار كنوز المعرفة ,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1425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هـ - 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2004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                       **************************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a50021"/>
                </a:solidFill>
                <a:uFillTx/>
                <a:latin typeface="Arial"/>
              </a:rPr>
              <a:t>توزيع الدرجات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درجة الاختبار الأول  بتاريخ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8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/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2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4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درجة الاختبار الثاني  بتاريخ 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435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درجات اختبار للعوامل الطبيعية المؤثرة في جغرافية النقل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9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1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434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(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</a:rPr>
              <a:t>الفصل 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</a:rPr>
              <a:t> من كتاب عبده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درجات اختبار للعوامل البشرية المؤثرة في جغرافية النقل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26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1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434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</a:rPr>
              <a:t>(الفصل 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</a:rPr>
              <a:t> من كتاب عبده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درجات تمارين لبعض المؤشرات الاحصائ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60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درجة الاختبار النهائي   (الأثنين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435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فترة أول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601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8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601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601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boy-1.jpg"/>
          <p:cNvPicPr/>
          <p:nvPr/>
        </p:nvPicPr>
        <p:blipFill>
          <a:blip r:embed="rId2"/>
          <a:stretch/>
        </p:blipFill>
        <p:spPr>
          <a:xfrm>
            <a:off x="0" y="5334120"/>
            <a:ext cx="297180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الدكتورة وفاء</dc:creator>
  <dc:description/>
  <dc:language>en-US</dc:language>
  <cp:lastModifiedBy>Wafa-geo</cp:lastModifiedBy>
  <dcterms:modified xsi:type="dcterms:W3CDTF">2013-09-15T20:20:4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