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32A-E985-4311-8BAD-FFDD85CF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741-5551-4BFA-A3F6-BB9644A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770-FCD5-44A3-83C8-98416A09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E86-E59A-4989-AB18-867EE14A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D7F-5955-43EF-8BCE-7977D7C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DD9-9ABC-4B63-8FB9-1C36E51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D8A-E87F-4955-A285-B2B1E3F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82F-53F9-4B10-8927-104AAA63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A70-0E70-4D10-A961-98C1D03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4D6-DDF8-4849-8D43-245C399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7C3-DAE2-4B3C-A9FA-8C03D15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A5F-0F03-4824-B54E-EFA0EE1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EEF1-2D55-4943-ACE2-1876F80CD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 rot="1731600">
            <a:off x="4074120" y="327960"/>
            <a:ext cx="29275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الجغرافيا السي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325</a:t>
            </a: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- ج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 rot="1840800">
            <a:off x="4345920" y="21855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660066"/>
                </a:solidFill>
                <a:latin typeface="Arial"/>
              </a:rPr>
              <a:t>أ/ وفاء بابط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مفردات مقرر  </a:t>
            </a: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325</a:t>
            </a: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 جغر  الجغرافيا السي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أول : 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تعريف الجغرافيا السياسية واستعراض تاريخي لنشأتها وتطور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ني : 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أهم مناهج الجغرافيا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لث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علاقة الجغرافيا السياسية بعلم الجغرافيا والعلوم الأخ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راب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مقومات الطبيعية للدولة :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وق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الخامس :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نا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سادس :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سطح الأر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ساب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- المس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من :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- شكل الدو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تاس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أنهار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بحير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ستنقع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ضايق المائ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عاشر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مقومات البشرية للدولة :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سكان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دين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 اللغ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حادي عشر: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سلالة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أقلي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نشاط الاقتص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ني عشر :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دراسة الحدود السياسية ( نشأتها وتطورها , أهميتها ,  تصنيفها ) .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لث عشر :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إستراتيجية ( تعريفها , أهدافها , نظرياتها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w1"/>
          <p:cNvPicPr/>
          <p:nvPr/>
        </p:nvPicPr>
        <p:blipFill>
          <a:blip r:embed="rId1"/>
          <a:stretch/>
        </p:blipFill>
        <p:spPr>
          <a:xfrm>
            <a:off x="0" y="6400800"/>
            <a:ext cx="92962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w1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80880" y="0"/>
            <a:ext cx="83822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262673"/>
                </a:solidFill>
                <a:uFillTx/>
                <a:latin typeface="Arial"/>
              </a:rPr>
              <a:t>تعريف بالمقر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ستأنف المقرر بتدريس الجغرافيا السياسية وتطورها. واستعراض المفاهيم النظرية لها . كما سيتم استعراض نشأة الدولة كونها وحدة سياسية , ودراسة المقومات الجغرافية المؤثرة في ذلك .ويهتم المقرر أيضاً بدراسة الحدود السياسية وتصنيفها. ومن ثم سنتطرق لدراسة الإستراتيجية وأهدافها . ويختم المقرر بدراسة جغرافية لنماذج من المشكلات السياسية في العا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oy-1.jpg"/>
          <p:cNvPicPr/>
          <p:nvPr/>
        </p:nvPicPr>
        <p:blipFill>
          <a:blip r:embed="rId1"/>
          <a:stretch/>
        </p:blipFill>
        <p:spPr>
          <a:xfrm>
            <a:off x="304920" y="3889440"/>
            <a:ext cx="3429000" cy="258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aw1"/>
          <p:cNvPicPr/>
          <p:nvPr/>
        </p:nvPicPr>
        <p:blipFill>
          <a:blip r:embed="rId2"/>
          <a:stretch/>
        </p:blipFill>
        <p:spPr>
          <a:xfrm>
            <a:off x="0" y="6095880"/>
            <a:ext cx="929628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w1"/>
          <p:cNvPicPr/>
          <p:nvPr/>
        </p:nvPicPr>
        <p:blipFill>
          <a:blip r:embed="rId3"/>
          <a:stretch/>
        </p:blipFill>
        <p:spPr>
          <a:xfrm>
            <a:off x="-152280" y="0"/>
            <a:ext cx="990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أسبوع الرابع عشر :</a:t>
            </a: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دراسة نماذج من المشكلات السياسية + التطرق لبعض المصطلحات ف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                    الجغرافيا السياسية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ar-SA" sz="1400" spc="-1" strike="noStrike">
                <a:solidFill>
                  <a:srgbClr val="003300"/>
                </a:solidFill>
                <a:latin typeface="Arial"/>
              </a:rPr>
              <a:t>                              </a:t>
            </a:r>
            <a:r>
              <a:rPr b="0" lang="ar-SA" sz="1400" spc="-1" strike="noStrike">
                <a:solidFill>
                  <a:srgbClr val="000066"/>
                </a:solidFill>
                <a:latin typeface="Arial"/>
              </a:rPr>
              <a:t>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cc0000"/>
                </a:solidFill>
                <a:latin typeface="Arial"/>
              </a:rPr>
              <a:t>أهم المراجع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هارون , علي أحمد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, أسس الجغرافيا السياسي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قاهرة , دار الفكر العربي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 –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ه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صادق,دولت,  صديق,عبد الفتاح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, أسس الجغرافيا السياسية المعاصر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رياض, مكتبة الرشد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4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-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ه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الديب ,محمد محمود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, الجغرافيا السياسية- منظور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عاصر,القاهرة , مكتبة الأنجلو المصري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989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الهيتي , صبري فارس,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جغرافيا السياسية مع تطبيقات جيوبولتيكية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, عمان,دار الصفاء .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-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هـ</a:t>
            </a:r>
            <a:r>
              <a:rPr b="0" lang="ar-SA" sz="16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66"/>
                </a:solidFill>
                <a:latin typeface="Arial"/>
              </a:rPr>
              <a:t>                             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00"/>
                </a:solidFill>
                <a:latin typeface="Arial"/>
              </a:rPr>
              <a:t>توزيع الدرجات</a:t>
            </a:r>
            <a:r>
              <a:rPr b="0" lang="ar-SA" sz="1600" spc="-1" strike="noStrike">
                <a:solidFill>
                  <a:srgbClr val="cc0000"/>
                </a:solidFill>
                <a:latin typeface="Arial"/>
              </a:rPr>
              <a:t> :</a:t>
            </a: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فصلي الأول بتاريخ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9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فصلي الثاني بتاريخ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ات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ختبارات لبعض الق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أ/  الدولة –الفصل الثاني-من كتاب هارون –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ص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57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-ص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85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 بتاريخ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27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4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ب/ القنوات والمضائق المائية – كتاب هارون </a:t>
            </a:r>
            <a:r>
              <a:rPr b="0" lang="ar-SA" sz="14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ص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123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- ص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1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 بتاريخ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4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درجتين : </a:t>
            </a:r>
            <a:r>
              <a:rPr b="0" lang="ar-SA" sz="1800" spc="-1" strike="noStrike">
                <a:solidFill>
                  <a:srgbClr val="262673"/>
                </a:solidFill>
                <a:latin typeface="Arial"/>
              </a:rPr>
              <a:t>تقرير عن بعض المصطلحات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درجتين  :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خريطة سياسية للعالم آخر موعد لتسليمها 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60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نهائي .(الخميس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الفترة الأولى)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09T02:53:3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