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059D-751E-4C1E-A262-997D6F0C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514F-42CA-4923-AF54-3C86D253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1FE-2AD2-4559-A27B-659C30ED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5C5-7075-4F24-B6CC-DC09B932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48B3-B20D-47CC-A6D0-8EBE07DC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318-FDFA-4D18-BAF3-53C51588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879D-E53A-45F0-BB5E-B05A079A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20F-83C1-495E-B882-6E18C298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F31-8ADD-4048-9C81-546ABD70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1F1-9FAF-4D2B-9AC1-D957D04D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D10D-C285-4A27-831F-C9529BB9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0ED-6A86-4605-9598-96E53F64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108B-EE87-4FCB-ADA9-3D4BE0BF21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 rot="1731600">
            <a:off x="4074120" y="327960"/>
            <a:ext cx="2927520" cy="25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660066"/>
                </a:solidFill>
                <a:latin typeface="Arial"/>
              </a:rPr>
              <a:t>الجغرافيا السياس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i="1" lang="ar-SA" sz="2800" spc="-1" strike="noStrike">
                <a:solidFill>
                  <a:srgbClr val="660066"/>
                </a:solidFill>
                <a:latin typeface="Arial"/>
              </a:rPr>
              <a:t>325</a:t>
            </a:r>
            <a:r>
              <a:rPr b="1" i="1" lang="ar-SA" sz="2800" spc="-1" strike="noStrike">
                <a:solidFill>
                  <a:srgbClr val="660066"/>
                </a:solidFill>
                <a:latin typeface="Arial"/>
              </a:rPr>
              <a:t>- ج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 rot="1840800">
            <a:off x="4345920" y="21855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660066"/>
                </a:solidFill>
                <a:latin typeface="Arial"/>
              </a:rPr>
              <a:t>أ/ وفاء بابط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i="1" lang="ar-SA" sz="2000" spc="-1" strike="noStrike" u="sng">
                <a:solidFill>
                  <a:srgbClr val="333399"/>
                </a:solidFill>
                <a:uFillTx/>
                <a:latin typeface="Arial"/>
              </a:rPr>
              <a:t>مفردات مقرر  </a:t>
            </a:r>
            <a:r>
              <a:rPr b="1" i="1" lang="ar-SA" sz="2000" spc="-1" strike="noStrike" u="sng">
                <a:solidFill>
                  <a:srgbClr val="333399"/>
                </a:solidFill>
                <a:uFillTx/>
                <a:latin typeface="Arial"/>
              </a:rPr>
              <a:t>325</a:t>
            </a:r>
            <a:r>
              <a:rPr b="1" i="1" lang="ar-SA" sz="2000" spc="-1" strike="noStrike" u="sng">
                <a:solidFill>
                  <a:srgbClr val="333399"/>
                </a:solidFill>
                <a:uFillTx/>
                <a:latin typeface="Arial"/>
              </a:rPr>
              <a:t> جغر  الجغرافيا السياس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أول :    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تعريف الجغرافيا السياسية واستعراض تاريخي لنشأتها وتطور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ثاني :    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أهم مناهج الجغرافيا السياس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ثالث :   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علاقة الجغرافيا السياسية بعلم الجغرافيا والعلوم الأخر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رابع :   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المقومات الطبيعية للدولة :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موق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الخامس :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منا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سادس :  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سطح الأر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سابع :   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- المساح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ثامن :  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- شكل الدو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تاسع :   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6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أنهار ,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7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بحيرات ,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8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مستنقعات ,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9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مضايق المائ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عاشر :     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المقومات البشرية للدولة :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سكان ,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دين ,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 اللغ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حادي عشر: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سلالة ,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أقليات ,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6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 النشاط الاقتص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ثاني عشر : 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دراسة الحدود السياسية ( نشأتها وتطورها , أهميتها ,  تصنيفها ) .</a:t>
            </a: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ar-SA" sz="1800" spc="-1" strike="noStrike">
                <a:solidFill>
                  <a:srgbClr val="cc0000"/>
                </a:solidFill>
                <a:latin typeface="Arial"/>
              </a:rPr>
              <a:t>الأسبوع الثالث عشر :  </a:t>
            </a: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الإستراتيجية ( تعريفها , أهدافها , نظرياتها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2244600"/>
                <a:tab algn="l" pos="250812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aw1"/>
          <p:cNvPicPr/>
          <p:nvPr/>
        </p:nvPicPr>
        <p:blipFill>
          <a:blip r:embed="rId1"/>
          <a:stretch/>
        </p:blipFill>
        <p:spPr>
          <a:xfrm>
            <a:off x="0" y="6400800"/>
            <a:ext cx="92962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aw1"/>
          <p:cNvPicPr/>
          <p:nvPr/>
        </p:nvPicPr>
        <p:blipFill>
          <a:blip r:embed="rId2"/>
          <a:stretch/>
        </p:blipFill>
        <p:spPr>
          <a:xfrm>
            <a:off x="0" y="0"/>
            <a:ext cx="838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380880" y="0"/>
            <a:ext cx="83822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262673"/>
                </a:solidFill>
                <a:uFillTx/>
                <a:latin typeface="Arial"/>
              </a:rPr>
              <a:t>تعريف بالمقر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ستأنف المقرر بتدريس الجغرافيا السياسية وتطورها. واستعراض المفاهيم النظرية لها . كما سيتم استعراض نشأة الدولة كونها وحدة سياسية , ودراسة المقومات الجغرافية المؤثرة في ذلك .ويهتم المقرر أيضاً بدراسة الحدود السياسية وتصنيفها. ومن ثم سنتطرق لدراسة الإستراتيجية وأهدافها . ويختم المقرر بدراسة جغرافية لنماذج من المشكلات السياسية في العال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oy-1.jpg"/>
          <p:cNvPicPr/>
          <p:nvPr/>
        </p:nvPicPr>
        <p:blipFill>
          <a:blip r:embed="rId1"/>
          <a:stretch/>
        </p:blipFill>
        <p:spPr>
          <a:xfrm>
            <a:off x="304920" y="3889440"/>
            <a:ext cx="3429000" cy="2587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aw1"/>
          <p:cNvPicPr/>
          <p:nvPr/>
        </p:nvPicPr>
        <p:blipFill>
          <a:blip r:embed="rId2"/>
          <a:stretch/>
        </p:blipFill>
        <p:spPr>
          <a:xfrm>
            <a:off x="0" y="6095880"/>
            <a:ext cx="9296280" cy="762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aw1"/>
          <p:cNvPicPr/>
          <p:nvPr/>
        </p:nvPicPr>
        <p:blipFill>
          <a:blip r:embed="rId3"/>
          <a:stretch/>
        </p:blipFill>
        <p:spPr>
          <a:xfrm>
            <a:off x="-152280" y="0"/>
            <a:ext cx="990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5345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r" rtl="1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الأسبوع الرابع عشر :</a:t>
            </a:r>
            <a:r>
              <a:rPr b="0" lang="ar-SA" sz="1800" spc="-1" strike="noStrike">
                <a:solidFill>
                  <a:srgbClr val="003300"/>
                </a:solidFill>
                <a:latin typeface="Arial"/>
              </a:rPr>
              <a:t> دراسة نماذج من المشكلات السياسية + التطرق لبعض المصطلحات في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00"/>
                </a:solidFill>
                <a:latin typeface="Arial"/>
              </a:rPr>
              <a:t>                            الجغرافيا السياسية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ar-SA" sz="1400" spc="-1" strike="noStrike">
                <a:solidFill>
                  <a:srgbClr val="003300"/>
                </a:solidFill>
                <a:latin typeface="Arial"/>
              </a:rPr>
              <a:t>                              </a:t>
            </a:r>
            <a:r>
              <a:rPr b="0" lang="ar-SA" sz="1400" spc="-1" strike="noStrike">
                <a:solidFill>
                  <a:srgbClr val="000066"/>
                </a:solidFill>
                <a:latin typeface="Arial"/>
              </a:rPr>
              <a:t>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cc0000"/>
                </a:solidFill>
                <a:latin typeface="Arial"/>
              </a:rPr>
              <a:t>أهم المراجع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- هارون , علي أحمد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, أسس الجغرافيا السياسية ,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القاهرة , دار الفكر العربي ,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2001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م –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420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 ه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- صادق,دولت,  صديق,عبد الفتاح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, أسس الجغرافيا السياسية المعاصرة ,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الرياض, مكتبة الرشد ,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2004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م-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425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ه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- الديب ,محمد محمود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, الجغرافيا السياسية- منظور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معاصر,القاهرة , مكتبة الأنجلو المصرية ,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989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- الهيتي , صبري فارس,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الجغرافيا السياسية مع تطبيقات جيوبولتيكية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, عمان,دار الصفاء .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2000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م-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420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هـ</a:t>
            </a:r>
            <a:r>
              <a:rPr b="0" lang="ar-SA" sz="16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66"/>
                </a:solidFill>
                <a:latin typeface="Arial"/>
              </a:rPr>
              <a:t>                             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0000"/>
                </a:solidFill>
                <a:latin typeface="Arial"/>
              </a:rPr>
              <a:t>توزيع الدرجات</a:t>
            </a:r>
            <a:r>
              <a:rPr b="0" lang="ar-SA" sz="1600" spc="-1" strike="noStrike">
                <a:solidFill>
                  <a:srgbClr val="cc0000"/>
                </a:solidFill>
                <a:latin typeface="Arial"/>
              </a:rPr>
              <a:t> :</a:t>
            </a:r>
            <a:r>
              <a:rPr b="0" lang="ar-SA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15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درجة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الاختبار الفصلي الأول بتاريخ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9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/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2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 /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4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15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درجة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الاختبار الفصلي الثاني بتاريخ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 /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 /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4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درجات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اختبارات لبعض القراء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3300"/>
                </a:solidFill>
                <a:latin typeface="Arial"/>
              </a:rPr>
              <a:t>أ/  الدولة –الفصل الثاني-من كتاب هارون – 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ص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57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-ص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85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   بتاريخ 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27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/ 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11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 / 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14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00"/>
                </a:solidFill>
                <a:latin typeface="Arial"/>
              </a:rPr>
              <a:t>ب/ القنوات والمضائق المائية – كتاب هارون </a:t>
            </a:r>
            <a:r>
              <a:rPr b="0" lang="ar-SA" sz="14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1" lang="ar-SA" sz="1400" spc="-1" strike="noStrike">
                <a:solidFill>
                  <a:srgbClr val="003300"/>
                </a:solidFill>
                <a:latin typeface="Arial"/>
              </a:rPr>
              <a:t>ص</a:t>
            </a:r>
            <a:r>
              <a:rPr b="1" lang="ar-SA" sz="1400" spc="-1" strike="noStrike">
                <a:solidFill>
                  <a:srgbClr val="003300"/>
                </a:solidFill>
                <a:latin typeface="Arial"/>
              </a:rPr>
              <a:t>123</a:t>
            </a:r>
            <a:r>
              <a:rPr b="1" lang="ar-SA" sz="1400" spc="-1" strike="noStrike">
                <a:solidFill>
                  <a:srgbClr val="003300"/>
                </a:solidFill>
                <a:latin typeface="Arial"/>
              </a:rPr>
              <a:t>- ص</a:t>
            </a:r>
            <a:r>
              <a:rPr b="1" lang="ar-SA" sz="1400" spc="-1" strike="noStrike">
                <a:solidFill>
                  <a:srgbClr val="003300"/>
                </a:solidFill>
                <a:latin typeface="Arial"/>
              </a:rPr>
              <a:t>1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   بتاريخ 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16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 /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 / </a:t>
            </a:r>
            <a:r>
              <a:rPr b="1" lang="ar-SA" sz="1600" spc="-1" strike="noStrike">
                <a:solidFill>
                  <a:srgbClr val="003300"/>
                </a:solidFill>
                <a:latin typeface="Arial"/>
              </a:rPr>
              <a:t>14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  درجتين : </a:t>
            </a:r>
            <a:r>
              <a:rPr b="0" lang="ar-SA" sz="1800" spc="-1" strike="noStrike">
                <a:solidFill>
                  <a:srgbClr val="262673"/>
                </a:solidFill>
                <a:latin typeface="Arial"/>
              </a:rPr>
              <a:t>تقرير عن بعض المصطلحات السياس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  درجتين  :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خريطة سياسية للعالم آخر موعد لتسليمها 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/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2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/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4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60</a:t>
            </a:r>
            <a:r>
              <a:rPr b="0" lang="ar-SA" sz="1800" spc="-1" strike="noStrike">
                <a:solidFill>
                  <a:srgbClr val="cc0000"/>
                </a:solidFill>
                <a:latin typeface="Arial"/>
              </a:rPr>
              <a:t> درجة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الاختبار النهائي .(الخميس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/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 / 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1435</a:t>
            </a:r>
            <a:r>
              <a:rPr b="0" lang="ar-SA" sz="1800" spc="-1" strike="noStrike">
                <a:solidFill>
                  <a:srgbClr val="000066"/>
                </a:solidFill>
                <a:latin typeface="Arial"/>
              </a:rPr>
              <a:t> الفترة الأولى)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الدكتورة وفاء</dc:creator>
  <dc:description/>
  <dc:language>en-US</dc:language>
  <cp:lastModifiedBy>Wafa-geo</cp:lastModifiedBy>
  <dcterms:modified xsi:type="dcterms:W3CDTF">2013-09-09T02:53:3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