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CA4-3A97-4F30-BDF6-68F9EC8C0A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BD6-F9F8-480B-AD8B-69F5818388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40A-9F5D-441E-86FC-A983B51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954-E622-4638-9C49-2BCE42E5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6C0-BAC7-4FE8-BC59-08EE710F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F02-05DF-4C74-A890-2659333B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3E3-2098-4F17-8147-24F5354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0DE-0AAD-40A5-9812-2030D7B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C8C-D031-4318-85ED-10A0C53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E3F-8201-44AB-9ED2-466773D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34A-685C-40DD-B8ED-682EEFA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78C-16A0-412E-BC1F-B9542FA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B89-803F-470D-AE26-3FA1D42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DF4-C373-40A8-8598-2B5A8B7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094-C366-4277-8EE3-B63F3AE935C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orizontal Scroll 16"/>
          <p:cNvSpPr/>
          <p:nvPr/>
        </p:nvSpPr>
        <p:spPr>
          <a:xfrm>
            <a:off x="1447920" y="1828800"/>
            <a:ext cx="5867280" cy="16002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51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  <a:ea typeface="Arial"/>
              </a:rPr>
              <a:t>115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  <a:ea typeface="Arial"/>
              </a:rPr>
              <a:t>- جغر الأقاليم الجغراف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أ/ وفاء بابطي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4f6228"/>
                </a:solidFill>
                <a:latin typeface="Calibri"/>
              </a:rPr>
              <a:t>التعريف بالمقرر</a:t>
            </a:r>
            <a:br>
              <a:rPr sz="24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يهدف المقرر إلى دراسة وتعريف معنى الجغرافيا بوجه عام , ومن ثم التعريف بالجغرافيا الإقليمية والهدف منها ومن ثم التطرق لكيفية تصنيف الأقاليم الجغرافية . بعد ذلك سنتناول العوامل الجغرافية الأساسية المؤثرة في تكوين شخصية الإقليم. كما سيدرس المقرر نماذج من الأقاليم الجغرافية الكبرى في العالم 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Calibri"/>
              </a:rPr>
              <a:t>      توزيع مفردات المقرر على أسابيع الفصل الدراس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أول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الجغرافيا الإقليمية ( تعريفها , مفهومها ,إضافة إلى تصنيف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         الأقاليم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ني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عوامل الجغرافية المؤثرة في شخصية الإقليم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ب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لث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سط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راب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منا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خامس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تابع المنا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سادس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النب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ساب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حيو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من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الإقليم الاستوائ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تاس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تابع الإقليم الاستوائ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عا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إقليم الصحرا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حادي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تابع الإقليم الصحرا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ني عشر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إقليم البحر المتوس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لث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تابع إقليم البحر المتوس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رابع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إقليم مرتفعات العروض الوسطى + الإقليم القطبي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5520" y="-36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Calibri"/>
              </a:rPr>
              <a:t>المراجع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صياد, محمد محمود ,مدخل للجغرافيا الإقليمية , بيروت , دار النهضة للطباعة والنشر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بوالعينين , حسن سيد أحمد, جغرافية الالم الإقليمية , الجزء الأول , بيروت ,دار النهضة العربية للطباعة والنشر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            ****************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توزيع الد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درجة الامتحان الفصلي الأول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درجة الامتحان الفصلي الثاني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درجات اختبارات قصيرة لبعض القراءات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درجات مشروع مشترك بالإتفاق مع الطالبات .يسل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الامتحان النهائي  (</a:t>
            </a:r>
            <a:r>
              <a:rPr b="0" lang="ar-SA" sz="20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فترة أولى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********************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الدكتورة وفاء</cp:lastModifiedBy>
  <dcterms:modified xsi:type="dcterms:W3CDTF">2013-01-26T20:42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