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2FAA-B839-4B48-B755-52D67FB9BC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0FD-1626-49A8-96F8-6AF1D97C98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B94-0C52-431F-8E3E-978AF3DA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8E7-28A0-4724-AD50-EF19414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6AE-7942-4DBC-AB89-5F1866FC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497-1695-43CD-BED6-3C9C090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992-5BBE-4C0C-8012-91291C72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0C2-2B3B-4F26-8433-5B6556C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695-334D-4315-990E-F198A96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D01-66FF-4C40-923F-B50C0DF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433-515C-4700-BCD5-9F0FDB9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6DC-E5E7-4FC8-A22F-AB35847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6D8-2EEB-445D-B8C4-87EA6A3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579-1793-4E3E-815D-7AC2E47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68E-A871-4658-A0B2-567220D2BE5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orizontal Scroll 16"/>
          <p:cNvSpPr/>
          <p:nvPr/>
        </p:nvSpPr>
        <p:spPr>
          <a:xfrm>
            <a:off x="1447920" y="1828800"/>
            <a:ext cx="5867280" cy="16002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51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  <a:ea typeface="Arial"/>
              </a:rPr>
              <a:t>115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  <a:ea typeface="Arial"/>
              </a:rPr>
              <a:t>- جغر الأقاليم الجغراف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أ/ وفاء بابطي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4f6228"/>
                </a:solidFill>
                <a:latin typeface="Calibri"/>
              </a:rPr>
              <a:t>التعريف بالمقرر</a:t>
            </a:r>
            <a:br>
              <a:rPr sz="24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يهدف المقرر إلى دراسة وتعريف معنى الجغرافيا بوجه عام , ومن ثم التعريف بالجغرافيا الإقليمية والهدف منها ومن ثم التطرق لكيفية تصنيف الأقاليم الجغرافية . بعد ذلك سنتناول العوامل الجغرافية الأساسية المؤثرة في تكوين شخصية الإقليم. كما سيدرس المقرر نماذج من الأقاليم الجغرافية الكبرى في العالم 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Calibri"/>
              </a:rPr>
              <a:t>      توزيع مفردات المقرر على أسابيع الفصل الدراس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أول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الجغرافيا الإقليمية ( تعريفها , مفهومها ,إضافة إلى تصنيف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         الأقاليم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ني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عوامل الجغرافية المؤثرة في شخصية الإقليم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ب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لث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سط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راب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- المنا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خامس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تابع المنا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سادس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النب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ساب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حيو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من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الإقليم الاستوائ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تاسع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تابع الإقليم الاستوائ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عا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الإقليم الصحرا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حادي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تابع الإقليم الصحراو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ني عشر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إقليم البحر المتوس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ثالث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تابع إقليم البحر المتوس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a50021"/>
                </a:solidFill>
                <a:latin typeface="Times New Roman"/>
              </a:rPr>
              <a:t>الأسبوع الرابع عشر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إقليم مرتفعات العروض الوسطى + الإقليم القطبي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71720"/>
                <a:tab algn="l" pos="2057400"/>
                <a:tab algn="l" pos="224316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BAC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5520" y="-36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Calibri"/>
              </a:rPr>
              <a:t>المراجع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صياد, محمد محمود ,مدخل للجغرافيا الإقليمية , بيروت , دار النهضة للطباعة والنشر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بوالعينين , حسن سيد أحمد, جغرافية الالم الإقليمية , الجزء الأول , بيروت ,دار النهضة العربية للطباعة والنشر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            ****************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توزيع الد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درجة الامتحان الفصلي الأول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درجة الامتحان الفصلي الثاني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درجات اختبارات قصيرة لبعض القراءات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درجات مشروع مشترك بالإتفاق مع الطالبات .يسل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بتاريخ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الامتحان النهائي  (</a:t>
            </a:r>
            <a:r>
              <a:rPr b="0" lang="ar-SA" sz="20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143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فترة أولى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9840" indent="-36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********************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الدكتورة وفاء</dc:creator>
  <dc:description/>
  <dc:language>en-US</dc:language>
  <cp:lastModifiedBy>الدكتورة وفاء</cp:lastModifiedBy>
  <dcterms:modified xsi:type="dcterms:W3CDTF">2013-01-26T20:42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