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5AEE-E836-4437-A0A3-0706A865208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6F27-8914-4EBA-A7EE-7CCF27F55B6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81C8-7617-4450-938A-6FC6AF89203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D45F-44A7-4932-84E4-F620947701F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E45A-5D5C-4D31-8DF1-A7E65C70FD5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78C7-AA33-4233-8A05-179ADBF352C3}"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3E03-6F8D-4E10-B9CD-9BB0E43A5F14}"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A642-5406-4D11-A117-AB41EBDA327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FE86-743A-41DF-AA20-1597D461C6FD}"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97D6-C312-4E7C-88F2-9E4E2F992C56}"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09C6-088F-4050-8EDC-F3F750676F4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4AAC-F0F8-4790-B42C-DED19A36EFEF}"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7955-358F-4EB8-98F2-4738E281BB20}"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0349-9C86-4F85-B439-B8D25145AE14}"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5DBAD-B14F-4B2D-9D5C-4AD4A782B849}"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41EF-B458-4ED9-A769-58B8445F054E}"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D5B5-B145-4CDD-B309-C8A8BD333328}"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6D7F-F445-4CD8-8E80-235D8BEDE95C}" type="slidenum">
              <a:rPr b="0" lang="ar-S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03384-1414-4D06-B1A9-D75FA1BA1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E3F0-2972-4B09-B84F-10BAAA1C4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F7BA3-4B49-496F-BE9F-C38DCE2A3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6A551-9065-4B23-A70B-174B0943C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50B08-3C81-40E2-9F36-5A32BE3210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8FF7C-28FF-49D3-8F17-47FA336FF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292A4-F74B-4CBB-B363-A025E8E4C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1BE39-B9C8-4FC9-AE1E-4A594B89E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F4C49-A100-4171-BB38-620B8C41A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0F6684-5E99-4413-A8FB-54F0E5655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58C1C-40AA-48ED-9D52-B6421CC66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397BC-8ECB-4EFC-9E69-D99C3DCB5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19E4C-D199-41D2-84A4-CFECFA395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AB6BB-ED82-4FBA-B8CF-9C3A4E82D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2F27E-CAA1-4E0A-B619-EB9533EAE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C50E5-97A7-4C31-8659-364A6F2E7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F9202-BC85-47D3-873C-3168ED0D6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995EB8-167D-4EB7-9483-80D32676E5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7F8708-BF3F-4342-90C5-76912CE077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F70364-AAE6-4D1F-A512-44AB7CC11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C2B8E0-0033-4654-9F92-E43B8D654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500277-B96C-48E7-8696-6DD9A319A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01083-CDF3-4904-A4C0-286E1BA45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CC4640-0966-4D4D-A315-7F06BA82A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434E74-5BC4-45D6-A00B-6B2E062063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887E6-E26C-4FF1-9260-71E5A1E90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CFF35-5040-445A-A6AD-D6753DFAE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57EA80-07F7-467C-AC87-A528A0D49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95520B-8B3F-420A-8D49-DC4BFF46DE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C210F1-0372-4E13-AEC4-021CB08BB1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41563C-859E-4ACE-9A76-EC855250CE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87A04F-CCCF-4BCB-AE26-B58A8410B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4EB663-EB1C-4F19-B076-C1C244244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70616-A15F-4BBD-A3FA-8BC173FB2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7B65C4-8AAE-48DE-8CD0-6119150DDC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EC56F6-0BB1-43F7-8167-7B46C61030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4D79F2-49A4-451E-8F6E-926BBEC7D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BFB572-F5D5-48B2-ADC0-312B3910A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D2CFE8-6D8E-4A0A-88FD-9FFAC17AF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935017-EFF0-42A8-8791-3C362E4CC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3506B2-85A8-46F3-AC87-D141F0971A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7F156D-D506-4EA4-B88F-0F04B2285A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331DBF-792D-42CB-9670-0A30CBBB6B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A92457-FF01-4720-B320-892317B2F7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C871C-922A-4671-8056-F1984858B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2BB1BD-113F-4B7B-B486-AD47D7B2D6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1461E8-F935-4D9E-9FC4-D1AC0C8AF4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33E9F9-7858-4DAA-8A92-4E0AE3CFFC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4F7A33-23F4-44D1-9A1D-26C0AF71FF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DB386F-777C-4077-95B4-9BD8C82EF6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C2F815-9B3B-4135-91E6-9087C7762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60D0F6-D09A-4DA9-82DF-0ADB6E2BB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B6D260-F2E6-4CBB-8F19-C1C85CA99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D54013-8D47-4F23-93DE-C1588A66B9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EB8CCE-4671-4206-8A68-A5A63490FA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6D25E-C7D2-4A9D-A21B-74001D9DA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9060C3-738C-4053-8C25-33C74FF090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BE4942-E42C-4BAC-A8BC-B24FEA6673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4E0CC7-3A84-4109-AB9C-A323A15C9B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E22645-3E5D-4397-9CBD-ACA4FECDCA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28204B-8E92-4425-802A-151AFA4640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AA2D5-D651-4C77-A0C8-968CE54A1D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E38011-3696-491B-84CE-1DA70E9BBE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7487E-B862-4EE2-9ACE-5A240563E4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FEA18E-6D5B-406A-8901-B8A2DA363D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EE9A7C-3647-4A66-A9E4-38AF3B52BF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0DF13-C0E3-4EF2-8CF1-F851BB208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7ED9F0-1B7B-4C05-9805-A8A9C1A379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EC8758-2BB2-4C12-B036-565A916B1F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6232DB-7018-4060-A175-A0871C848D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AA8F23-2E7C-4B93-A044-BFC7481168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EBDDBB-C729-4431-9B04-27C449E8C6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910031-769A-4ECF-9E55-DB3CDD902E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C2ECA6-ADD6-4283-9DE1-E04CDA74AD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296065-0E3D-4DBB-9A96-B8BBEA84A3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1D0BA-C31A-4734-BBD7-9FE356A41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966E9A-218B-4DB2-A77E-3E7BCD81D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552BE-3002-4619-BCD7-FEAB6EC1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00AB20-5623-4F3C-B6F3-9CC5103A92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4E4E73-12E0-478C-B22E-39C22C73B4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0E27E0-236C-4985-AE3F-88FF3BA586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6D312C-816C-43E7-B763-0C23BACE16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AEFD4F-5882-4DEA-AE0C-FD1E4D8B17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6B744-33E4-434E-8DC9-4C9BA6E88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مستطيل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 name="مستطيل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مستطيل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مستطيل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مستطيل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مستطيل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مستطيل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مستطيل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مستطيل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AE12-066F-4FAC-9167-8BE40E4C1FEC}"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مستطيل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مستطيل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مستطيل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مستطيل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مستطيل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مستطيل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مستطيل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مستطيل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مستطيل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8AF9-6170-4704-9D4A-4A149E4F489B}"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مستطيل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مستطيل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مستطيل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مستطيل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مستطيل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مستطيل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مستطيل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مستطيل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مستطيل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شكل حر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شكل حر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شكل حر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شكل حر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شكل حر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شكل حر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شكل حر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شكل حر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شكل حر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شكل حر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شكل حر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شكل حر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شكل حر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شكل حر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شكل حر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مستطيل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مستطيل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مستطيل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مستطيل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مستطيل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مستطيل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C1C6-B07F-43B3-A540-C7A95A4A49F5}"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B414-9F0B-4555-8756-421C6AAD28FF}"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مستطيل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مستطيل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مستطيل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مستطيل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مستطيل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مستطيل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مستطيل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مستطيل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مستطيل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مستطيل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1BE7-E64C-4379-B703-62F5074C2B68}"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5B801-9E9A-4EBD-B563-76DB0E273E65}"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مستطيل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مستطيل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مستطيل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مستطيل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مستطيل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مستطيل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مستطيل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مستطيل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مستطيل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مستطيل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رابط مستقيم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5" name="مجموعة 19"/>
          <p:cNvGrpSpPr/>
          <p:nvPr/>
        </p:nvGrpSpPr>
        <p:grpSpPr>
          <a:xfrm>
            <a:off x="8516520" y="1217520"/>
            <a:ext cx="128520" cy="131400"/>
            <a:chOff x="8516520" y="1217520"/>
            <a:chExt cx="128520" cy="131400"/>
          </a:xfrm>
        </p:grpSpPr>
        <p:sp>
          <p:nvSpPr>
            <p:cNvPr id="316" name="رابط مستقيم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رابط مستقيم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رابط مستقيم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19" name="مجموعة 25"/>
          <p:cNvGrpSpPr/>
          <p:nvPr/>
        </p:nvGrpSpPr>
        <p:grpSpPr>
          <a:xfrm>
            <a:off x="8669520" y="1370160"/>
            <a:ext cx="128520" cy="131400"/>
            <a:chOff x="8669520" y="1370160"/>
            <a:chExt cx="128520" cy="131400"/>
          </a:xfrm>
        </p:grpSpPr>
        <p:sp>
          <p:nvSpPr>
            <p:cNvPr id="320" name="رابط مستقيم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رابط مستقيم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رابط مستقيم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23" name="مجموعة 29"/>
          <p:cNvGrpSpPr/>
          <p:nvPr/>
        </p:nvGrpSpPr>
        <p:grpSpPr>
          <a:xfrm>
            <a:off x="8321400" y="1473120"/>
            <a:ext cx="128520" cy="131400"/>
            <a:chOff x="8321400" y="1473120"/>
            <a:chExt cx="128520" cy="131400"/>
          </a:xfrm>
        </p:grpSpPr>
        <p:sp>
          <p:nvSpPr>
            <p:cNvPr id="324" name="رابط مستقيم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رابط مستقيم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رابط مستقيم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lgn="r" rtl="1">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lgn="r" rtl="1">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lgn="r" rtl="1">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lgn="r" rtl="1">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9F1E-E763-4457-AEEE-3D511E0D8BF8}"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Rectangle 2" descr=""/>
          <p:cNvPicPr/>
          <p:nvPr/>
        </p:nvPicPr>
        <p:blipFill>
          <a:blip r:embed="rId1"/>
          <a:stretch/>
        </p:blipFill>
        <p:spPr>
          <a:xfrm>
            <a:off x="695160" y="4206960"/>
            <a:ext cx="7998120" cy="21207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68360" y="476280"/>
            <a:ext cx="8229600" cy="452592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6</a:t>
            </a:r>
            <a:r>
              <a:rPr b="0" lang="ar-SA" sz="3000" spc="-1" strike="noStrike">
                <a:solidFill>
                  <a:srgbClr val="ffffff"/>
                </a:solidFill>
                <a:latin typeface="Corbel"/>
              </a:rPr>
              <a:t> إذا اختار الباحث السنة كمصدر أساسي أو ثانوي فعليه تحديد ما يلي:</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a:t>
            </a:r>
            <a:r>
              <a:rPr b="0" lang="ar-SA" sz="3000" spc="-1" strike="noStrike">
                <a:solidFill>
                  <a:srgbClr val="ffffff"/>
                </a:solidFill>
                <a:latin typeface="Corbel"/>
              </a:rPr>
              <a:t>2-6-1</a:t>
            </a:r>
            <a:r>
              <a:rPr b="0" lang="ar-SA" sz="3000" spc="-1" strike="noStrike">
                <a:solidFill>
                  <a:srgbClr val="ffffff"/>
                </a:solidFill>
                <a:latin typeface="Corbel"/>
              </a:rPr>
              <a:t> تحديد الدرجة المطلوبة في الأحاديث وهل نقتصر على درجة الصحيح أم نأخذ بالحسن, أم نجمع بين عدة درجات.</a:t>
            </a:r>
            <a:endParaRPr b="0" lang="en-US" sz="3000" spc="-1" strike="noStrike">
              <a:solidFill>
                <a:srgbClr val="ffffff"/>
              </a:solidFill>
              <a:latin typeface="Corbel"/>
            </a:endParaRPr>
          </a:p>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476280"/>
            <a:ext cx="8229600" cy="564984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6-2</a:t>
            </a:r>
            <a:r>
              <a:rPr b="0" lang="ar-SA" sz="3000" spc="-1" strike="noStrike">
                <a:solidFill>
                  <a:srgbClr val="ffffff"/>
                </a:solidFill>
                <a:latin typeface="Corbel"/>
              </a:rPr>
              <a:t> هل يتم الاقتصار على كتاب واحد مثلاً كتاب صحيح البخاري أم يتم التطرق إلى أكثر من كتاب.</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6-3</a:t>
            </a:r>
            <a:r>
              <a:rPr b="0" lang="ar-SA" sz="3000" spc="-1" strike="noStrike">
                <a:solidFill>
                  <a:srgbClr val="ffffff"/>
                </a:solidFill>
                <a:latin typeface="Corbel"/>
              </a:rPr>
              <a:t> تحديد الشروح المطلوبة في السنة مثل صحيح مسلم بشرح النووي, شرح صحيح البخاري.</a:t>
            </a:r>
            <a:endParaRPr b="0" lang="en-US" sz="3000" spc="-1" strike="noStrike">
              <a:solidFill>
                <a:srgbClr val="ffffff"/>
              </a:solidFill>
              <a:latin typeface="Corbe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620280"/>
            <a:ext cx="8229600" cy="550548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بعد أن يقوم الباحث بتحديد المنهجية يتم البحث عنها في الكتب المعتمدة مثل التفاسير والشروح. ويمكن الاستفادة من </a:t>
            </a:r>
            <a:r>
              <a:rPr b="0" lang="en-US" sz="3000" spc="-1" strike="noStrike">
                <a:solidFill>
                  <a:srgbClr val="ffffff"/>
                </a:solidFill>
                <a:latin typeface="Corbel"/>
                <a:ea typeface="Majalla UI"/>
              </a:rPr>
              <a:t>CD</a:t>
            </a:r>
            <a:r>
              <a:rPr b="0" lang="ar-SA" sz="3000" spc="-1" strike="noStrike">
                <a:solidFill>
                  <a:srgbClr val="ffffff"/>
                </a:solidFill>
                <a:latin typeface="Corbel"/>
              </a:rPr>
              <a:t> للموسوعات الحديثة والتفاسير مع الاهتمام بمراجعة النصوص في الكتب كما يمكن الاستفادة من المواقع الإسلامية في الشبكة العالمية مثال ذلك: دليل سلطان للمواقع الإسلامية حيث يتوفر فيه العديد من المواقع المتخصصة بالقرآن وتفاسيره والأحاديث وشروحها.</a:t>
            </a:r>
            <a:endParaRPr b="0" lang="en-US" sz="3000" spc="-1" strike="noStrike">
              <a:solidFill>
                <a:srgbClr val="ffffff"/>
              </a:solidFill>
              <a:latin typeface="Corbel"/>
            </a:endParaRPr>
          </a:p>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549000"/>
            <a:ext cx="8229600" cy="5576760"/>
          </a:xfrm>
          <a:prstGeom prst="rect">
            <a:avLst/>
          </a:prstGeom>
          <a:noFill/>
          <a:ln w="0">
            <a:noFill/>
          </a:ln>
        </p:spPr>
        <p:txBody>
          <a:bodyPr anchor="t">
            <a:normAutofit/>
          </a:bodyPr>
          <a:p>
            <a:pPr marL="411120" indent="-34272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orbel"/>
              </a:rPr>
              <a:t>1</a:t>
            </a:r>
            <a:r>
              <a:rPr b="1" lang="ar-SA" sz="3000" spc="-1" strike="noStrike" u="sng">
                <a:solidFill>
                  <a:srgbClr val="ffffff"/>
                </a:solidFill>
                <a:uFillTx/>
                <a:latin typeface="Corbel"/>
              </a:rPr>
              <a:t>- ومن المواقع ذات العلاقة بالقرآن الكريم</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موقع فهرس الموضوعات القرآنية (موسوعة القرآن الكريم) حيث يمكن تحديد الآية وشروحها من التفاسير.</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تحديد التفاسير التي يرغب الباحث في الاستعانة بها واختيار الشرح المناسب للآية من السياق العام لها.</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ومن أهم التفاسير:</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تفسير ابن كثير, تفسير القرطبي, تفسير ابن جرير, تفسير ابن القيم, تفسير السعدي.</a:t>
            </a:r>
            <a:endParaRPr b="0" lang="en-US" sz="3000" spc="-1" strike="noStrike">
              <a:solidFill>
                <a:srgbClr val="ffffff"/>
              </a:solidFill>
              <a:latin typeface="Corbe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404280"/>
            <a:ext cx="8229600" cy="5721480"/>
          </a:xfrm>
          <a:prstGeom prst="rect">
            <a:avLst/>
          </a:prstGeom>
          <a:noFill/>
          <a:ln w="0">
            <a:noFill/>
          </a:ln>
        </p:spPr>
        <p:txBody>
          <a:bodyPr anchor="t">
            <a:normAutofit fontScale="97000"/>
          </a:bodyPr>
          <a:p>
            <a:pPr marL="398520" indent="-332280" algn="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Corbel"/>
              </a:rPr>
              <a:t>2</a:t>
            </a:r>
            <a:r>
              <a:rPr b="1" lang="ar-SA" sz="3000" spc="-1" strike="noStrike" u="sng">
                <a:solidFill>
                  <a:srgbClr val="ffffff"/>
                </a:solidFill>
                <a:uFillTx/>
                <a:latin typeface="Corbel"/>
              </a:rPr>
              <a:t>- ومن المواقع ذات العلاقة بالسنة النبوية</a:t>
            </a:r>
            <a:endParaRPr b="0" lang="en-US" sz="3000" spc="-1" strike="noStrike">
              <a:solidFill>
                <a:srgbClr val="ffffff"/>
              </a:solidFill>
              <a:latin typeface="Corbel"/>
            </a:endParaRPr>
          </a:p>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درر السنية, جامع الحديث, موسوعة الحديث الشريف, مكتبة الحديث الشريف, أو </a:t>
            </a:r>
            <a:r>
              <a:rPr b="0" lang="en-US" sz="3000" spc="-1" strike="noStrike">
                <a:solidFill>
                  <a:srgbClr val="ffffff"/>
                </a:solidFill>
                <a:latin typeface="Corbel"/>
                <a:ea typeface="Majalla UI"/>
              </a:rPr>
              <a:t>C.D</a:t>
            </a:r>
            <a:r>
              <a:rPr b="0" lang="ar-SA" sz="3000" spc="-1" strike="noStrike">
                <a:solidFill>
                  <a:srgbClr val="ffffff"/>
                </a:solidFill>
                <a:latin typeface="Corbel"/>
              </a:rPr>
              <a:t> المكتبة الشاملة حيث يمكن تحميله من الانترنت.</a:t>
            </a:r>
            <a:endParaRPr b="0" lang="en-US" sz="3000" spc="-1" strike="noStrike">
              <a:solidFill>
                <a:srgbClr val="ffffff"/>
              </a:solidFill>
              <a:latin typeface="Corbel"/>
            </a:endParaRPr>
          </a:p>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1</a:t>
            </a:r>
            <a:r>
              <a:rPr b="0" lang="ar-SA" sz="3000" spc="-1" strike="noStrike" u="sng">
                <a:solidFill>
                  <a:srgbClr val="ffffff"/>
                </a:solidFill>
                <a:uFillTx/>
                <a:latin typeface="Corbel"/>
              </a:rPr>
              <a:t> </a:t>
            </a:r>
            <a:r>
              <a:rPr b="0" lang="ar-SA" sz="3000" spc="-1" strike="noStrike">
                <a:solidFill>
                  <a:srgbClr val="ffffff"/>
                </a:solidFill>
                <a:latin typeface="Corbel"/>
              </a:rPr>
              <a:t>يمكن تحديد الكلمة المفتاحية أو أهم كلمة في الحديث ثم يتم البحث عنها في الأحاديث ودرجاتها بعد تحديد الدرجة التي يريد الاعتماد عليها في البحث.</a:t>
            </a:r>
            <a:endParaRPr b="0" lang="en-US" sz="3000" spc="-1" strike="noStrike">
              <a:solidFill>
                <a:srgbClr val="ffffff"/>
              </a:solidFill>
              <a:latin typeface="Corbel"/>
            </a:endParaRPr>
          </a:p>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2</a:t>
            </a:r>
            <a:r>
              <a:rPr b="0" lang="ar-SA" sz="3000" spc="-1" strike="noStrike">
                <a:solidFill>
                  <a:srgbClr val="ffffff"/>
                </a:solidFill>
                <a:latin typeface="Corbel"/>
              </a:rPr>
              <a:t> أما إذا كان الباحث مهتما بمفهوم الحديث فإنه لابد له من تحليل المحتوى والنص واستقراء الدلالات للنص.</a:t>
            </a:r>
            <a:endParaRPr b="0" lang="en-US" sz="3000" spc="-1" strike="noStrike">
              <a:solidFill>
                <a:srgbClr val="ffffff"/>
              </a:solidFill>
              <a:latin typeface="Corbe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620280"/>
            <a:ext cx="8229600" cy="5505480"/>
          </a:xfrm>
          <a:prstGeom prst="rect">
            <a:avLst/>
          </a:prstGeom>
          <a:noFill/>
          <a:ln w="0">
            <a:noFill/>
          </a:ln>
        </p:spPr>
        <p:txBody>
          <a:bodyPr anchor="t">
            <a:normAutofit fontScale="97000"/>
          </a:bodyPr>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3</a:t>
            </a:r>
            <a:r>
              <a:rPr b="0" lang="ar-SA" sz="3000" spc="-1" strike="noStrike">
                <a:solidFill>
                  <a:srgbClr val="ffffff"/>
                </a:solidFill>
                <a:latin typeface="Corbel"/>
              </a:rPr>
              <a:t> بعد تحديد الحديث وتحديد درجته يتم البحث عنه في الشروح وأسهل المواقع هي موسوعة الحديث الشريف ويتم تحديد أي الكتب المتعلقة بالشرح والبحث عن الحديث بداخله.</a:t>
            </a:r>
            <a:endParaRPr b="0" lang="en-US" sz="3000" spc="-1" strike="noStrike">
              <a:solidFill>
                <a:srgbClr val="ffffff"/>
              </a:solidFill>
              <a:latin typeface="Corbel"/>
            </a:endParaRPr>
          </a:p>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4</a:t>
            </a:r>
            <a:r>
              <a:rPr b="0" lang="ar-SA" sz="3000" spc="-1" strike="noStrike" u="sng">
                <a:solidFill>
                  <a:srgbClr val="ffffff"/>
                </a:solidFill>
                <a:uFillTx/>
                <a:latin typeface="Corbel"/>
              </a:rPr>
              <a:t> </a:t>
            </a:r>
            <a:r>
              <a:rPr b="0" lang="ar-SA" sz="3000" spc="-1" strike="noStrike">
                <a:solidFill>
                  <a:srgbClr val="ffffff"/>
                </a:solidFill>
                <a:latin typeface="Corbel"/>
              </a:rPr>
              <a:t>يتم تحديد المعنى المطلوب من خلال السياق كله وليس بالضرورة أن يكتب شرح الحديث كاملاً وإنما يتم الاستفادة بما له علاقة مباشرة بالأحاديث.</a:t>
            </a:r>
            <a:endParaRPr b="0" lang="en-US" sz="3000" spc="-1" strike="noStrike">
              <a:solidFill>
                <a:srgbClr val="ffffff"/>
              </a:solidFill>
              <a:latin typeface="Corbel"/>
            </a:endParaRPr>
          </a:p>
          <a:p>
            <a:pPr marL="398520" indent="-33228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5</a:t>
            </a:r>
            <a:r>
              <a:rPr b="0" lang="ar-SA" sz="3000" spc="-1" strike="noStrike" u="sng">
                <a:solidFill>
                  <a:srgbClr val="ffffff"/>
                </a:solidFill>
                <a:uFillTx/>
                <a:latin typeface="Corbel"/>
              </a:rPr>
              <a:t> </a:t>
            </a:r>
            <a:r>
              <a:rPr b="0" lang="ar-SA" sz="3000" spc="-1" strike="noStrike">
                <a:solidFill>
                  <a:srgbClr val="ffffff"/>
                </a:solidFill>
                <a:latin typeface="Corbel"/>
              </a:rPr>
              <a:t>يتم تجميع الأحاديث والآيات والتأمل بها ومحاولة استخلاص مفاهيم ونظرة تتعلق بالسلوك الإنساني </a:t>
            </a:r>
            <a:r>
              <a:rPr b="0" lang="ar-SA" sz="3000" spc="-1" strike="noStrike" u="sng">
                <a:solidFill>
                  <a:srgbClr val="ffffff"/>
                </a:solidFill>
                <a:uFillTx/>
                <a:latin typeface="Corbel"/>
              </a:rPr>
              <a:t>بشرط عدم تحميل النص أكثر مما يتحمل وعدم القول على الله ورسوله بغير </a:t>
            </a:r>
            <a:r>
              <a:rPr b="0" lang="ar-SA" sz="3000" spc="-1" strike="noStrike">
                <a:solidFill>
                  <a:srgbClr val="ffffff"/>
                </a:solidFill>
                <a:latin typeface="Corbel"/>
              </a:rPr>
              <a:t>علم.</a:t>
            </a:r>
            <a:endParaRPr b="0" lang="en-US" sz="3000" spc="-1" strike="noStrike">
              <a:solidFill>
                <a:srgbClr val="ffffff"/>
              </a:solidFill>
              <a:latin typeface="Corbe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620280"/>
            <a:ext cx="8229600" cy="5505480"/>
          </a:xfrm>
          <a:prstGeom prst="rect">
            <a:avLst/>
          </a:prstGeom>
          <a:noFill/>
          <a:ln w="0">
            <a:noFill/>
          </a:ln>
        </p:spPr>
        <p:txBody>
          <a:bodyPr anchor="t">
            <a:normAutofit fontScale="95000"/>
          </a:bodyPr>
          <a:p>
            <a:pPr marL="390240" indent="-32544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6</a:t>
            </a:r>
            <a:r>
              <a:rPr b="0" lang="ar-SA" sz="3000" spc="-1" strike="noStrike">
                <a:solidFill>
                  <a:srgbClr val="ffffff"/>
                </a:solidFill>
                <a:latin typeface="Corbel"/>
              </a:rPr>
              <a:t> يجب على الباحث أن يؤكد على أن المفاهيم التي يطرحها والآراء اجتهادية وتحتمل الصواب والخطأ.</a:t>
            </a:r>
            <a:endParaRPr b="0" lang="en-US" sz="3000" spc="-1" strike="noStrike">
              <a:solidFill>
                <a:srgbClr val="ffffff"/>
              </a:solidFill>
              <a:latin typeface="Corbel"/>
            </a:endParaRPr>
          </a:p>
          <a:p>
            <a:pPr marL="390240" indent="-32544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7</a:t>
            </a:r>
            <a:r>
              <a:rPr b="0" lang="ar-SA" sz="3000" spc="-1" strike="noStrike">
                <a:solidFill>
                  <a:srgbClr val="ffffff"/>
                </a:solidFill>
                <a:latin typeface="Corbel"/>
              </a:rPr>
              <a:t> يستعين الباحث بأكثر من كتاب وأكثر من مصدر إذا كان المفهوم محدداً وإذا كان هناك توسع في المفهوم فيقتصر على كتب معينة مما يسهل عليه تحديد الإطار الذي يعمل به.</a:t>
            </a:r>
            <a:endParaRPr b="0" lang="en-US" sz="3000" spc="-1" strike="noStrike">
              <a:solidFill>
                <a:srgbClr val="ffffff"/>
              </a:solidFill>
              <a:latin typeface="Corbel"/>
            </a:endParaRPr>
          </a:p>
          <a:p>
            <a:pPr marL="390240" indent="-32544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8</a:t>
            </a:r>
            <a:r>
              <a:rPr b="0" lang="ar-SA" sz="3000" spc="-1" strike="noStrike" u="sng">
                <a:solidFill>
                  <a:srgbClr val="ffffff"/>
                </a:solidFill>
                <a:uFillTx/>
                <a:latin typeface="Corbel"/>
              </a:rPr>
              <a:t> </a:t>
            </a:r>
            <a:r>
              <a:rPr b="0" lang="ar-SA" sz="3000" spc="-1" strike="noStrike">
                <a:solidFill>
                  <a:srgbClr val="ffffff"/>
                </a:solidFill>
                <a:latin typeface="Corbel"/>
              </a:rPr>
              <a:t>إذا كان الباحث ملماً بآراء علماء التراث سيستفيد منها في عملية الربط بين الأحاديث والآيات والشروح, كما يستفيد من الآراء الموجودة في علم النفس والتي لا تتناقض مع النظرة الشرعية. </a:t>
            </a:r>
            <a:endParaRPr b="0" lang="en-US" sz="3000" spc="-1" strike="noStrike">
              <a:solidFill>
                <a:srgbClr val="ffffff"/>
              </a:solidFill>
              <a:latin typeface="Corbe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914400" y="1784520"/>
            <a:ext cx="7772400" cy="4572000"/>
          </a:xfrm>
          <a:prstGeom prst="rect">
            <a:avLst/>
          </a:prstGeom>
          <a:noFill/>
          <a:ln w="0">
            <a:noFill/>
          </a:ln>
        </p:spPr>
        <p:txBody>
          <a:bodyPr anchor="t">
            <a:normAutofit/>
          </a:bodyPr>
          <a:p>
            <a:pPr marL="411120" indent="-342720" algn="ct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lgn="ctr"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Corbel"/>
              </a:rPr>
              <a:t>وآخر دعوانا الحمد لله رب العالمين</a:t>
            </a:r>
            <a:endParaRPr b="0" lang="en-US" sz="3000" spc="-1" strike="noStrike">
              <a:solidFill>
                <a:srgbClr val="ffffff"/>
              </a:solidFill>
              <a:latin typeface="Corbe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476280"/>
            <a:ext cx="8229600" cy="564984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يقصد بالتأصيل الإسلامي للسلوك "العودة إلى الأصول الإسلامية باعتبارها المنبع الأساسي الذي نتلقى منه العلوم الإنسانية".</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وحتى يقوم الباحث بعملية التأصيل فإنه يحتاج إلى عدة شروط:</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تمكن من علم النفس وأدواته.</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تمكن من التعامل مع أدوات التراث الإسلامي.</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تمكن من التعامل مع النصوص الشرعية.</a:t>
            </a:r>
            <a:endParaRPr b="0" lang="en-US" sz="3000" spc="-1" strike="noStrike">
              <a:solidFill>
                <a:srgbClr val="ffffff"/>
              </a:solidFill>
              <a:latin typeface="Corbe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692280"/>
            <a:ext cx="8229600" cy="543384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إبداع والابتكار.</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إحساس بالمشاكل الهامة في التخصص.</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ومن أهم الشروط النية الخالصة لوجه الله في دعم الحق أينما كان.</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أن يتحرى الباحث الموضوعية والحياد فلا يقوم بافتعال العلاقة بين مفاهيم ليس لها اتصال أصلاً وأن يبتعد عن التوفيق بين مفاهيم علم النفس والنصوص الشرعية توفيقاًَ اعتباطياً يقصد بذلك دعم علم النفس الغربي أو خدمته.</a:t>
            </a:r>
            <a:endParaRPr b="0" lang="en-US" sz="3000" spc="-1" strike="noStrike">
              <a:solidFill>
                <a:srgbClr val="ffffff"/>
              </a:solidFill>
              <a:latin typeface="Corbe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620280"/>
            <a:ext cx="8229600" cy="550548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أن يقوم الباحث بتحديد المنهجية التي يستخدمها في أثناء البحث مع تحديد المصادر التي يرجع إليها في التأصيل الإسلامي للسلوك .</a:t>
            </a:r>
            <a:endParaRPr b="0" lang="en-US" sz="3000" spc="-1" strike="noStrike">
              <a:solidFill>
                <a:srgbClr val="ffffff"/>
              </a:solidFill>
              <a:latin typeface="Corbe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713880"/>
            <a:ext cx="8229600" cy="11430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c1eeff"/>
                </a:solidFill>
                <a:uFillTx/>
                <a:latin typeface="Consolas"/>
              </a:rPr>
              <a:t>المنهجية المستخدمة في البحث:</a:t>
            </a:r>
            <a:endParaRPr b="0" lang="en-US" sz="40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تحديد المصادر الأساسية في التأصيل الإسلامي وهي: </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1</a:t>
            </a:r>
            <a:r>
              <a:rPr b="0" lang="ar-SA" sz="3000" spc="-1" strike="noStrike">
                <a:solidFill>
                  <a:srgbClr val="ffffff"/>
                </a:solidFill>
                <a:latin typeface="Corbel"/>
              </a:rPr>
              <a:t>- القرآن الكريم وتفاسيره، السنة وشروحها أقوال الأثر.</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a:t>
            </a:r>
            <a:r>
              <a:rPr b="0" lang="ar-SA" sz="3000" spc="-1" strike="noStrike">
                <a:solidFill>
                  <a:srgbClr val="ffffff"/>
                </a:solidFill>
                <a:latin typeface="Corbel"/>
              </a:rPr>
              <a:t>- الملاحظة والتأمل واستقراء النصوص.</a:t>
            </a:r>
            <a:endParaRPr b="0" lang="en-US" sz="3000" spc="-1" strike="noStrike">
              <a:solidFill>
                <a:srgbClr val="ffffff"/>
              </a:solidFill>
              <a:latin typeface="Corbe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c1eeff"/>
                </a:solidFill>
                <a:uFillTx/>
                <a:latin typeface="Consolas"/>
              </a:rPr>
              <a:t>وبناء عليه هناك خطوات لابد من القيام بها وهي:</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1</a:t>
            </a:r>
            <a:r>
              <a:rPr b="0" lang="ar-SA" sz="3000" spc="-1" strike="noStrike">
                <a:solidFill>
                  <a:srgbClr val="ffffff"/>
                </a:solidFill>
                <a:latin typeface="Corbel"/>
              </a:rPr>
              <a:t>- تحديد المصطلح هل هو مصطلح نفسي حديث مثل الصحة النفسية ونبحث عما يقابله في النصوص الشرعية أم أن المصطلح متداول في النصوص الشرعية وله دلالة نفسية مثل مصطلح الحزن, الكظم, الحياء, الغضب.</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a:t>
            </a:r>
            <a:r>
              <a:rPr b="0" lang="ar-SA" sz="3000" spc="-1" strike="noStrike">
                <a:solidFill>
                  <a:srgbClr val="ffffff"/>
                </a:solidFill>
                <a:latin typeface="Corbel"/>
              </a:rPr>
              <a:t>- تحديد آلية البحث</a:t>
            </a:r>
            <a:endParaRPr b="0" lang="en-US" sz="3000" spc="-1" strike="noStrike">
              <a:solidFill>
                <a:srgbClr val="ffffff"/>
              </a:solidFill>
              <a:latin typeface="Corbe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549000"/>
            <a:ext cx="8229600" cy="557676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1</a:t>
            </a:r>
            <a:r>
              <a:rPr b="0" lang="ar-SA" sz="3000" spc="-1" strike="noStrike">
                <a:solidFill>
                  <a:srgbClr val="ffffff"/>
                </a:solidFill>
                <a:latin typeface="Corbel"/>
              </a:rPr>
              <a:t> الرجوع إلى المعاجم اللغوية مثل:</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مفردات في غريب القرآن، الراغب الاصفهاني.</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مختار الصحاح، الرازي.</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 المورد، منير بعلبكي.</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أي معاجم موجودة في الانترنت ذات طابع لغوي.</a:t>
            </a:r>
            <a:endParaRPr b="0" lang="en-US" sz="3000" spc="-1" strike="noStrike">
              <a:solidFill>
                <a:srgbClr val="ffffff"/>
              </a:solidFill>
              <a:latin typeface="Corbe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620280"/>
            <a:ext cx="8229600" cy="5505480"/>
          </a:xfrm>
          <a:prstGeom prst="rect">
            <a:avLst/>
          </a:prstGeom>
          <a:noFill/>
          <a:ln w="0">
            <a:noFill/>
          </a:ln>
        </p:spPr>
        <p:txBody>
          <a:bodyPr anchor="t">
            <a:normAutofit fontScale="94000"/>
          </a:bodyPr>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2</a:t>
            </a:r>
            <a:r>
              <a:rPr b="0" lang="ar-SA" sz="3000" spc="-1" strike="noStrike" u="sng">
                <a:solidFill>
                  <a:srgbClr val="ffffff"/>
                </a:solidFill>
                <a:uFillTx/>
                <a:latin typeface="Corbel"/>
              </a:rPr>
              <a:t> </a:t>
            </a:r>
            <a:r>
              <a:rPr b="0" lang="ar-SA" sz="3000" spc="-1" strike="noStrike">
                <a:solidFill>
                  <a:srgbClr val="ffffff"/>
                </a:solidFill>
                <a:latin typeface="Corbel"/>
              </a:rPr>
              <a:t>الرجوع إلى المعاجم الاصطلاحية مثل (المعاجم النفسية, الموسوعات الاجتماعية, المعجم الفلسفي).</a:t>
            </a:r>
            <a:endParaRPr b="0" lang="en-US" sz="3000" spc="-1" strike="noStrike">
              <a:solidFill>
                <a:srgbClr val="ffffff"/>
              </a:solidFill>
              <a:latin typeface="Corbel"/>
            </a:endParaRPr>
          </a:p>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3</a:t>
            </a:r>
            <a:r>
              <a:rPr b="0" lang="ar-SA" sz="3000" spc="-1" strike="noStrike">
                <a:solidFill>
                  <a:srgbClr val="ffffff"/>
                </a:solidFill>
                <a:latin typeface="Corbel"/>
              </a:rPr>
              <a:t> تحديد مصادر البحث (القرآن والسنة معاً) الأثر, القرآن لوحده, السنة لوحدها.</a:t>
            </a:r>
            <a:endParaRPr b="0" lang="en-US" sz="3000" spc="-1" strike="noStrike">
              <a:solidFill>
                <a:srgbClr val="ffffff"/>
              </a:solidFill>
              <a:latin typeface="Corbel"/>
            </a:endParaRPr>
          </a:p>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4</a:t>
            </a:r>
            <a:r>
              <a:rPr b="0" lang="ar-SA" sz="3000" spc="-1" strike="noStrike" u="sng">
                <a:solidFill>
                  <a:srgbClr val="ffffff"/>
                </a:solidFill>
                <a:uFillTx/>
                <a:latin typeface="Corbel"/>
              </a:rPr>
              <a:t> </a:t>
            </a:r>
            <a:r>
              <a:rPr b="0" lang="ar-SA" sz="3000" spc="-1" strike="noStrike">
                <a:solidFill>
                  <a:srgbClr val="ffffff"/>
                </a:solidFill>
                <a:latin typeface="Corbel"/>
              </a:rPr>
              <a:t>تحديد المنهجية والأدوات في تعامله مع النصوص الشرعية.</a:t>
            </a:r>
            <a:endParaRPr b="0" lang="en-US" sz="3000" spc="-1" strike="noStrike">
              <a:solidFill>
                <a:srgbClr val="ffffff"/>
              </a:solidFill>
              <a:latin typeface="Corbel"/>
            </a:endParaRPr>
          </a:p>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1</a:t>
            </a:r>
            <a:r>
              <a:rPr b="0" lang="ar-SA" sz="3000" spc="-1" strike="noStrike">
                <a:solidFill>
                  <a:srgbClr val="ffffff"/>
                </a:solidFill>
                <a:latin typeface="Corbel"/>
              </a:rPr>
              <a:t> هل سيأخذ الباحث في اعتباره الثبوت والدلالة في النص.</a:t>
            </a:r>
            <a:endParaRPr b="0" lang="en-US" sz="3000" spc="-1" strike="noStrike">
              <a:solidFill>
                <a:srgbClr val="ffffff"/>
              </a:solidFill>
              <a:latin typeface="Corbel"/>
            </a:endParaRPr>
          </a:p>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2</a:t>
            </a:r>
            <a:r>
              <a:rPr b="0" lang="ar-SA" sz="3000" spc="-1" strike="noStrike">
                <a:solidFill>
                  <a:srgbClr val="ffffff"/>
                </a:solidFill>
                <a:latin typeface="Corbel"/>
              </a:rPr>
              <a:t> هل سيهتم الباحث بالدلالات اللغوية في النص.</a:t>
            </a:r>
            <a:endParaRPr b="0" lang="en-US" sz="3000" spc="-1" strike="noStrike">
              <a:solidFill>
                <a:srgbClr val="ffffff"/>
              </a:solidFill>
              <a:latin typeface="Corbel"/>
            </a:endParaRPr>
          </a:p>
          <a:p>
            <a:pPr marL="386280" indent="-321840" algn="just" rtl="1">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3</a:t>
            </a:r>
            <a:r>
              <a:rPr b="0" lang="ar-SA" sz="3000" spc="-1" strike="noStrike">
                <a:solidFill>
                  <a:srgbClr val="ffffff"/>
                </a:solidFill>
                <a:latin typeface="Corbel"/>
              </a:rPr>
              <a:t> هل سنقتصر مع النصوص على المنطوق أو المفهوم أو نجمعهما معاً.</a:t>
            </a:r>
            <a:endParaRPr b="0" lang="en-US" sz="3000" spc="-1" strike="noStrike">
              <a:solidFill>
                <a:srgbClr val="ffffff"/>
              </a:solidFill>
              <a:latin typeface="Corbe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620280"/>
            <a:ext cx="8229600" cy="5505480"/>
          </a:xfrm>
          <a:prstGeom prst="rect">
            <a:avLst/>
          </a:prstGeom>
          <a:noFill/>
          <a:ln w="0">
            <a:noFill/>
          </a:ln>
        </p:spPr>
        <p:txBody>
          <a:bodyPr anchor="t">
            <a:normAutofit/>
          </a:bodyPr>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4</a:t>
            </a:r>
            <a:r>
              <a:rPr b="0" lang="ar-SA" sz="3000" spc="-1" strike="noStrike">
                <a:solidFill>
                  <a:srgbClr val="ffffff"/>
                </a:solidFill>
                <a:latin typeface="Corbel"/>
              </a:rPr>
              <a:t> هل سيهتم الباحث بالتحليل السلوكي داخل النصوص.</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5</a:t>
            </a:r>
            <a:r>
              <a:rPr b="0" lang="ar-SA" sz="3000" spc="-1" strike="noStrike">
                <a:solidFill>
                  <a:srgbClr val="ffffff"/>
                </a:solidFill>
                <a:latin typeface="Corbel"/>
              </a:rPr>
              <a:t> هل سيقتصر على عالم الشهادة في داخل النصوص أم سيهتم بالنصوص التي تتحدث عن عالم الغيب.</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4-6</a:t>
            </a:r>
            <a:r>
              <a:rPr b="0" lang="ar-SA" sz="3000" spc="-1" strike="noStrike">
                <a:solidFill>
                  <a:srgbClr val="ffffff"/>
                </a:solidFill>
                <a:latin typeface="Corbel"/>
              </a:rPr>
              <a:t> هل سيهتم الباحث بالحصر أم بضرب المثل.</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ffff"/>
                </a:solidFill>
                <a:uFillTx/>
                <a:latin typeface="Corbel"/>
              </a:rPr>
              <a:t>2-5</a:t>
            </a:r>
            <a:r>
              <a:rPr b="0" lang="ar-SA" sz="3000" spc="-1" strike="noStrike" u="sng">
                <a:solidFill>
                  <a:srgbClr val="ffffff"/>
                </a:solidFill>
                <a:uFillTx/>
                <a:latin typeface="Corbel"/>
              </a:rPr>
              <a:t> </a:t>
            </a:r>
            <a:r>
              <a:rPr b="0" lang="ar-SA" sz="3000" spc="-1" strike="noStrike">
                <a:solidFill>
                  <a:srgbClr val="ffffff"/>
                </a:solidFill>
                <a:latin typeface="Corbel"/>
              </a:rPr>
              <a:t>إذا أختار الباحث القرآن كمصدر من مصادره في البحث يجب عليه:</a:t>
            </a:r>
            <a:endParaRPr b="0" lang="en-US" sz="3000" spc="-1" strike="noStrike">
              <a:solidFill>
                <a:srgbClr val="ffffff"/>
              </a:solidFill>
              <a:latin typeface="Corbel"/>
            </a:endParaRPr>
          </a:p>
          <a:p>
            <a:pPr marL="411120" indent="-342720" algn="just" rtl="1">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Corbel"/>
              </a:rPr>
              <a:t>2-5-1</a:t>
            </a:r>
            <a:r>
              <a:rPr b="0" lang="ar-SA" sz="3000" spc="-1" strike="noStrike">
                <a:solidFill>
                  <a:srgbClr val="ffffff"/>
                </a:solidFill>
                <a:latin typeface="Corbel"/>
              </a:rPr>
              <a:t> تحديد التفاسير التي سيتناولها ،تفاسير عقدية، تفاسير لغوية، تفاسير على منهج السلف.</a:t>
            </a:r>
            <a:endParaRPr b="0" lang="en-US" sz="3000" spc="-1" strike="noStrike">
              <a:solidFill>
                <a:srgbClr val="ffffff"/>
              </a:solidFill>
              <a:latin typeface="Corbe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0T08:27:52Z</dcterms:created>
  <dc:creator>ahmed</dc:creator>
  <dc:description/>
  <dc:language>en-US</dc:language>
  <cp:lastModifiedBy>user</cp:lastModifiedBy>
  <dcterms:modified xsi:type="dcterms:W3CDTF">2012-04-17T06:33:12Z</dcterms:modified>
  <cp:revision>6</cp:revision>
  <dc:subject/>
  <dc:title>كيف نؤصل مفهوماً نفسياً؟</dc:title>
</cp:coreProperties>
</file>