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6D1-A252-4C1E-84F1-F08FF20C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E787-9D3F-457B-A676-D381905D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89D-297D-41F8-9967-99EC1FAB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B27-CB58-4809-AE59-95293A74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1C8E-A20B-4759-B448-11D42C3A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219E-87B8-4A54-86B3-C6CBEB31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EC76-1608-4436-9E7A-6D917A4E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BF55-18A7-441D-8C0F-65451957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84C4-E1D4-44FA-93B6-5AA59D89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4492-7C41-456D-BB2D-E0F775BB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B4F6-8F88-45E0-BCA4-DA4AB620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60A-4C62-4FFE-8274-F1DA5B4C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2EBF-2709-4598-AEF6-F8265A4A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F937-70A9-4A95-A9FF-2F11DE12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9408-6180-4722-A68A-112BD155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E4A2-CAA5-403E-A02B-4F86D8C0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DB4D-38B2-451D-A3D5-EA914B44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1D456-396A-40D9-8259-9577CAEE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AEF92-E25D-466C-A43F-31651D22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96A8A-1596-4766-A9BD-7262FD2E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7DAE3-EA86-4271-8FF9-9ED294AF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DDF06-A2B2-49DA-82E3-C0D72086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717-F708-465F-B4D7-863B34EA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10CD-8FDA-42C6-88AC-2A57CD86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8520A-91D2-4DB1-915B-C8E27518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B088-0021-43A3-A992-0F52753A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45EE2-90A1-45F0-B199-637FF409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4010-8AB5-4DFA-90C4-17ED6AA7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CA677-7F3D-4D16-8A95-32907D2E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CDED0-FE51-4166-8D05-BD7CBDBB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CBADB-F156-4887-A4B6-AA2872B1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96221-CEF1-4EE6-B944-74AF0B25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EE504-90E2-4383-B5C3-B756BC43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9F9-A28C-4725-9CC1-04E7F409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6B219-71CB-462A-B90E-F5699C06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6D44A-8E71-46FD-9C96-6573FFD8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87455-5A16-4266-81AD-3FF15D82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ADCD0-1A7A-404D-8DBC-D5CB9676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1D788-30FF-42C4-AD4C-36AD705F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19446-23C2-49A5-8299-7E6DA9F5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6B8F5-9631-4780-AD2B-E245B45A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DA6DF-EAD6-4D8F-8BEC-B1F589E3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07085-87FA-4F8A-BFDA-CFB39CF8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B8B8A-1E11-463F-9F37-23D78AEF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D0C3-2A9C-4C12-AEC7-1928D7FB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92FAD-10B8-4821-AC71-B5BF2438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0725F-3E6F-406C-B94E-4CA4F278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B66FE-75D1-4BED-A605-C4A8B6B3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2565F-ACA2-4963-ACDC-387631CE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8479D-4E04-4DC6-880A-BF6ADEE8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4668D-BC6C-4591-9147-0EC5841B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76A73-105F-4464-B543-5DE9A121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FA1C4-4899-4F58-89C1-BBE4297E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E66F4-9EE3-4B31-9082-C2F2D361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55A4D-DBC0-4AE2-A51D-9E078933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68A-91AB-4FE3-BD58-F55F458F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27097-4CD7-45BB-B6B7-3160128C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06E27-364B-45B0-B77B-4F50936A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75042-68D4-4AF4-B5F6-850AD9A0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9D0DA-23C5-4CE5-ABE8-9017357C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2F574-A61A-45E7-8557-937A1AEB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EB47C-2AD1-4A1B-88B7-1B2A1EC5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EB468-73B9-4229-8C58-1A88E7BC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93D32-493B-4557-9AE7-6432DFA5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4A85A-6E44-479B-B766-F186C580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1C357-A9EC-430E-B406-9D90F0C4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B2A-9B25-4BF6-8917-0F52BB6C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D4880-CBAF-401D-80E5-8A6EAE3A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4A070-39CD-468E-A954-79A6041F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E17DD-DB3D-4E9D-BC15-A03E0F00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AE018-CAFF-4304-8732-6031196C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1D9C6-FB69-4069-B72E-C18F95D7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A67E0-BEEB-400F-8160-A795E933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E57F9-D051-43E8-8127-5FEF0590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FD7F0-0042-4DAE-A68F-B9B73C40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AB8F6-8D67-4104-8681-17582720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74945-60B2-4D44-AB36-E45606D7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6EB-A666-4A81-9164-E29D1194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93B3F-1170-4082-A165-6A6E8D77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E5898-22F9-4522-ABD5-CC1F8EDE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4D26A-B99B-4F9F-B016-CC3AD81B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198BF-1F63-4A40-9E6D-98AF4E0E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B31C9-5B51-4F26-BA91-BEA05796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5DDF3-14AC-4D87-AC77-D8DB8332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03649-9CBE-477A-A09A-B3936CD1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07F42-614C-4130-B1BD-7CBF0A2E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7973B-3983-428F-A859-CF7687B1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51CCF-819E-4018-9274-C6A3930C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5169-BFA9-4CCB-953E-FD3DD69F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75019-D9A1-40C2-80D2-94884318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4AEBE-3C68-4C0D-A4A7-2457C2F7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964B8-E324-4C0F-BDF9-15A59987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0B5D0-855F-42F3-A017-9C6EAFB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C920F-0C88-425B-A277-5A73833E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D30C3-C6C7-4F7E-ACB1-4ED5576E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3CEA3-E244-4E8E-A4F7-5D16ABB4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ثلث قائم الزاوية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رابط مستقيم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رابط مستقيم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DEFE-B010-4114-A2B7-9441C769AC6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ثلث قائم الزاوية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رابط مستقيم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رابط مستقيم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مثلث متساوي الساقين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F63E-17A3-4AD7-84D3-C0B1B8B82CBB}" type="slidenum">
              <a:rPr b="0" lang="ar-SA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ثلث قائم الزاوية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رابط مستقيم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رابط مستقيم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37FA-921C-4D35-8FCE-49F1BA7BEEC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مثلث قائم الزاوية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مثلث متساوي الساقين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رابط مستقيم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رابط مستقيم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E6E5-93EC-4A13-9D01-1574E719932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مثلث قائم الزاوية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رابط مستقيم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رابط مستقيم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8CEF-142F-4A61-B796-BB5A2BC1C8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2B49-0269-411E-9454-28A241A014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4F16-5EDE-4BED-8C8D-78733F4A825D}" type="slidenum">
              <a:rPr b="0" lang="ar-SA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C4D2-7028-4566-9094-2A544A780811}" type="slidenum"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2548080" y="1695600"/>
            <a:ext cx="3755880" cy="332100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3" descr=""/>
          <p:cNvPicPr/>
          <p:nvPr/>
        </p:nvPicPr>
        <p:blipFill>
          <a:blip r:embed="rId2"/>
          <a:stretch/>
        </p:blipFill>
        <p:spPr>
          <a:xfrm>
            <a:off x="4565520" y="4913280"/>
            <a:ext cx="335304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249120" y="828720"/>
            <a:ext cx="8456760" cy="11588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2014560" y="2205000"/>
            <a:ext cx="712944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344160" algn="r" rtl="1">
              <a:lnSpc>
                <a:spcPct val="100000"/>
              </a:lnSpc>
              <a:spcBef>
                <a:spcPts val="75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عتمد على قيام بعض الطحالب الخضراء المزرقة بعملية تثبيت النيتروجين لاحتوائها على الحويصلات المغايرة التي تتم فيها هذه العملية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 algn="r" rtl="1">
              <a:lnSpc>
                <a:spcPct val="100000"/>
              </a:lnSpc>
              <a:spcBef>
                <a:spcPts val="75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طحلب </a:t>
            </a:r>
            <a:r>
              <a:rPr b="0" i="1" lang="en-US" sz="3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ostoc</a:t>
            </a:r>
            <a:r>
              <a:rPr b="0" lang="ar-SA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(يحتوي على حويصلات مغايرة 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 algn="r" rtl="1">
              <a:lnSpc>
                <a:spcPct val="100000"/>
              </a:lnSpc>
              <a:spcBef>
                <a:spcPts val="75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طحلب </a:t>
            </a:r>
            <a:r>
              <a:rPr b="0" i="1" lang="en-US" sz="3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Chlorella</a:t>
            </a:r>
            <a:r>
              <a:rPr b="0" lang="ar-SA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يستخدم للمقارنة لعدم احتوائه على الحويصلات المغايرة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9" name="Picture 8" descr="n3"/>
          <p:cNvPicPr/>
          <p:nvPr/>
        </p:nvPicPr>
        <p:blipFill>
          <a:blip r:embed="rId2"/>
          <a:stretch/>
        </p:blipFill>
        <p:spPr>
          <a:xfrm>
            <a:off x="0" y="3645000"/>
            <a:ext cx="2484360" cy="2309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249120" y="828720"/>
            <a:ext cx="8456760" cy="11588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-360" y="4436640"/>
            <a:ext cx="3492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بيئة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BM</a:t>
            </a:r>
            <a:r>
              <a:rPr b="0" lang="ar-SA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خالية من النيتروجين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2843280" y="2852640"/>
            <a:ext cx="2376360" cy="1009800"/>
          </a:xfrm>
          <a:prstGeom prst="rightArrow">
            <a:avLst>
              <a:gd name="adj1" fmla="val 50000"/>
              <a:gd name="adj2" fmla="val 58832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5219640" y="2997360"/>
            <a:ext cx="3924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لقح بـ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لم من عينات طحالب معلمة ثم تحضن لمدة أسبوع في درجة حرارة الغرف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9dcf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9" descr="08-11-31 12-01-57 AM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684360" y="2205000"/>
            <a:ext cx="1584000" cy="1776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249120" y="828720"/>
            <a:ext cx="8456760" cy="1158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0" y="4365360"/>
            <a:ext cx="3851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374760"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رج الفلاسكا المحتوية على النمو وتوضع في أنبوبة طرد مركزي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4" descr="91-b"/>
          <p:cNvPicPr/>
          <p:nvPr/>
        </p:nvPicPr>
        <p:blipFill>
          <a:blip r:embed="rId2">
            <a:lum contrast="48000"/>
          </a:blip>
          <a:srcRect l="40559" t="12036" r="40559" b="7328"/>
          <a:stretch/>
        </p:blipFill>
        <p:spPr>
          <a:xfrm>
            <a:off x="971640" y="1916280"/>
            <a:ext cx="863640" cy="244764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5"/>
          <p:cNvSpPr/>
          <p:nvPr/>
        </p:nvSpPr>
        <p:spPr>
          <a:xfrm>
            <a:off x="2627280" y="2565360"/>
            <a:ext cx="3240000" cy="1655640"/>
          </a:xfrm>
          <a:prstGeom prst="rightArrow">
            <a:avLst>
              <a:gd name="adj1" fmla="val 50000"/>
              <a:gd name="adj2" fmla="val 48924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طرد مركزي لمدة ربع ساع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9"/>
          <p:cNvSpPr/>
          <p:nvPr/>
        </p:nvSpPr>
        <p:spPr>
          <a:xfrm rot="389400">
            <a:off x="755280" y="1052280"/>
            <a:ext cx="863640" cy="1009440"/>
          </a:xfrm>
          <a:custGeom>
            <a:avLst/>
            <a:gdLst>
              <a:gd name="textAreaLeft" fmla="*/ 151560 w 863640"/>
              <a:gd name="textAreaRight" fmla="*/ 624240 w 863640"/>
              <a:gd name="textAreaTop" fmla="*/ 135000 h 1009440"/>
              <a:gd name="textAreaBottom" fmla="*/ 8744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80" hR="21600" stAng="10800000" swAng="5400000"/>
                <a:lnTo>
                  <a:pt x="11820" y="0"/>
                </a:lnTo>
                <a:arcTo wR="7580" hR="21600" stAng="-5400000" swAng="2687178"/>
                <a:lnTo>
                  <a:pt x="21166" y="14400"/>
                </a:lnTo>
                <a:lnTo>
                  <a:pt x="17280" y="21600"/>
                </a:lnTo>
                <a:lnTo>
                  <a:pt x="12526" y="14400"/>
                </a:lnTo>
                <a:lnTo>
                  <a:pt x="14726" y="14400"/>
                </a:lnTo>
                <a:arcTo wR="7580" hR="21600" stAng="-2712822" swAng="-2336962"/>
                <a:lnTo>
                  <a:pt x="9700" y="862"/>
                </a:lnTo>
                <a:arcTo wR="7580" hR="21600" stAng="-5750217" swAng="-5049783"/>
                <a:close/>
              </a:path>
              <a:path fill="darkenLess" w="21600" h="21600">
                <a:moveTo>
                  <a:pt x="0" y="21600"/>
                </a:moveTo>
                <a:arcTo wR="7580" hR="21600" stAng="10800000" swAng="5400000"/>
                <a:lnTo>
                  <a:pt x="7580" y="0"/>
                </a:lnTo>
                <a:arcTo wR="7580" hR="21600" stAng="-5400000" swAng="350217"/>
                <a:lnTo>
                  <a:pt x="9700" y="862"/>
                </a:lnTo>
                <a:arcTo wR="7580" hR="21600" stAng="-5750217" swAng="-5049783"/>
                <a:close/>
              </a:path>
            </a:pathLst>
          </a:custGeom>
          <a:solidFill>
            <a:srgbClr val="9dc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5867280" y="2492280"/>
            <a:ext cx="3600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تم التخلص من النسيج حيث تجرى عمليات الكشف عن النيتروجين على الراشح فق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249120" y="828720"/>
            <a:ext cx="8456760" cy="11588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0" y="2349360"/>
            <a:ext cx="28432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ؤخذ نقطتان من الوسط البيئي و نقطتان من الكاشف حيث توضع على قالب مخصص للإختبار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2627280" y="2997360"/>
            <a:ext cx="2374920" cy="1295280"/>
          </a:xfrm>
          <a:prstGeom prst="rightArrow">
            <a:avLst>
              <a:gd name="adj1" fmla="val 50000"/>
              <a:gd name="adj2" fmla="val 45838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تيجة تكون على حسب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لون النات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5076720" y="2276640"/>
            <a:ext cx="40672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ول كاشف نسلرإلى </a:t>
            </a:r>
            <a:r>
              <a:rPr b="1" lang="ar-SA" sz="2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لون البرتقالي المصفر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دلالة على وجود </a:t>
            </a:r>
            <a:r>
              <a:rPr b="0" lang="ar-SA" sz="2800" spc="-1" strike="noStrike" u="sng">
                <a:solidFill>
                  <a:srgbClr val="dddddd"/>
                </a:solidFill>
                <a:uFillTx/>
                <a:latin typeface="Times New Roman"/>
                <a:cs typeface="Times New Roman"/>
              </a:rPr>
              <a:t>الأمونيا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ول كاشف حمض السلفانيك إلى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لون الأحمر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دلالة على وجود </a:t>
            </a:r>
            <a:r>
              <a:rPr b="0" lang="ar-SA" sz="2800" spc="-1" strike="noStrike" u="sng">
                <a:solidFill>
                  <a:srgbClr val="dddddd"/>
                </a:solidFill>
                <a:uFillTx/>
                <a:latin typeface="Times New Roman"/>
                <a:cs typeface="Times New Roman"/>
              </a:rPr>
              <a:t>النيتريت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ول كاشف ثنائي فينيل أمين إلى 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Times New Roman"/>
              </a:rPr>
              <a:t>اللون الأزرق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دلالة على وجود </a:t>
            </a:r>
            <a:r>
              <a:rPr b="0" lang="ar-SA" sz="2800" spc="-1" strike="noStrike" u="sng">
                <a:solidFill>
                  <a:srgbClr val="dddddd"/>
                </a:solidFill>
                <a:uFillTx/>
                <a:latin typeface="Times New Roman"/>
                <a:cs typeface="Times New Roman"/>
              </a:rPr>
              <a:t>النترات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469800" y="1189080"/>
            <a:ext cx="7997760" cy="11574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4"/>
          <p:cNvSpPr/>
          <p:nvPr/>
        </p:nvSpPr>
        <p:spPr>
          <a:xfrm>
            <a:off x="-181080" y="2852640"/>
            <a:ext cx="889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إذا لم يعطي الكاشف لونا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2627280" y="3573360"/>
            <a:ext cx="1079640" cy="1081080"/>
          </a:xfrm>
          <a:prstGeom prst="octagon">
            <a:avLst>
              <a:gd name="adj" fmla="val 29287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زر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4067280" y="3716280"/>
            <a:ext cx="1079280" cy="10810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حم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5508720" y="3573360"/>
            <a:ext cx="1079280" cy="10810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تقال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صف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0" name="AutoShape 9"/>
          <p:cNvCxnSpPr>
            <a:stCxn id="369" idx="3"/>
            <a:endCxn id="368" idx="2"/>
          </p:cNvCxnSpPr>
          <p:nvPr/>
        </p:nvCxnSpPr>
        <p:spPr>
          <a:xfrm flipH="1">
            <a:off x="5146560" y="4114440"/>
            <a:ext cx="362520" cy="143640"/>
          </a:xfrm>
          <a:prstGeom prst="straightConnector1">
            <a:avLst/>
          </a:prstGeom>
          <a:ln w="19080">
            <a:solidFill>
              <a:srgbClr val="dddddd"/>
            </a:solidFill>
            <a:miter/>
          </a:ln>
        </p:spPr>
      </p:cxnSp>
      <p:cxnSp>
        <p:nvCxnSpPr>
          <p:cNvPr id="371" name="AutoShape 10"/>
          <p:cNvCxnSpPr>
            <a:stCxn id="367" idx="2"/>
            <a:endCxn id="368" idx="3"/>
          </p:cNvCxnSpPr>
          <p:nvPr/>
        </p:nvCxnSpPr>
        <p:spPr>
          <a:xfrm>
            <a:off x="3706560" y="4114440"/>
            <a:ext cx="361080" cy="143640"/>
          </a:xfrm>
          <a:prstGeom prst="straightConnector1">
            <a:avLst/>
          </a:prstGeom>
          <a:ln w="19080">
            <a:solidFill>
              <a:srgbClr val="dddddd"/>
            </a:solidFill>
            <a:miter/>
          </a:ln>
        </p:spPr>
      </p:cxnSp>
      <p:sp>
        <p:nvSpPr>
          <p:cNvPr id="372" name="Rectangle 11"/>
          <p:cNvSpPr/>
          <p:nvPr/>
        </p:nvSpPr>
        <p:spPr>
          <a:xfrm>
            <a:off x="250920" y="5157720"/>
            <a:ext cx="88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فهذا يعني أن النتيجة سلبية و أن الطحلب </a:t>
            </a:r>
            <a:r>
              <a:rPr b="0" lang="ar-SA" sz="3200" spc="-1" strike="noStrike" u="sng">
                <a:solidFill>
                  <a:srgbClr val="ffccff"/>
                </a:solidFill>
                <a:uFillTx/>
                <a:latin typeface="Times New Roman"/>
                <a:cs typeface="Times New Roman"/>
              </a:rPr>
              <a:t>غير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ثبت للنيتروج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907640" y="2707920"/>
            <a:ext cx="3598920" cy="2376360"/>
          </a:xfrm>
          <a:prstGeom prst="rect">
            <a:avLst/>
          </a:prstGeom>
          <a:noFill/>
          <a:ln w="0">
            <a:noFill/>
          </a:ln>
          <a:effectLst>
            <a:outerShdw dist="81185" dir="7721969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Century Gothic"/>
                <a:cs typeface="Khalid Art bold"/>
              </a:rPr>
              <a:t>نهاية المعمل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Century Gothic"/>
                <a:ea typeface="Khalid Art bold"/>
              </a:rPr>
              <a:t>	</a:t>
            </a:r>
            <a:r>
              <a:rPr b="0" lang="ar-SA" sz="3000" spc="-1" strike="noStrike">
                <a:solidFill>
                  <a:srgbClr val="dddddd"/>
                </a:solidFill>
                <a:latin typeface="Century Gothic"/>
                <a:cs typeface="Khalid Art bold"/>
              </a:rPr>
              <a:t>التاس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4" name="Picture 5" descr="z1%20(102)"/>
          <p:cNvPicPr/>
          <p:nvPr/>
        </p:nvPicPr>
        <p:blipFill>
          <a:blip r:embed="rId1"/>
          <a:stretch/>
        </p:blipFill>
        <p:spPr>
          <a:xfrm>
            <a:off x="3492360" y="4005360"/>
            <a:ext cx="1059120" cy="515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20:02:37Z</dcterms:created>
  <dc:creator>jbroOot</dc:creator>
  <dc:description/>
  <dc:language>en-US</dc:language>
  <cp:lastModifiedBy>w7</cp:lastModifiedBy>
  <dcterms:modified xsi:type="dcterms:W3CDTF">2011-11-18T22:18:46Z</dcterms:modified>
  <cp:revision>17</cp:revision>
  <dc:subject/>
  <dc:title>ا. الجوهرة العباد alalabbad@ksu.edu.sa</dc:title>
</cp:coreProperties>
</file>