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1CD-9074-458D-A2D5-A03C6AD3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009-453B-41B8-93EA-D465C6DD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209-2C62-4E3C-98FE-CB536CB6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890-6E05-47E8-BA8E-77086A30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9409-54C7-4372-A587-5C5C32C4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8A53-C454-4DDF-9DEE-FE32E345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A848-0749-4235-A8D1-B9A0BF00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4493-E46F-4458-B762-DDEC0D91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2ABF-4C28-4487-9415-6DCF6DD8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D178-16B1-4C59-8C63-909E35E8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3EE-925F-4A1D-B90B-FB64C276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5AF-0F43-434B-A898-148B2A77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BB56-D818-40D9-A856-988D5239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3971-B0E1-4BED-A129-3D01D9C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ABA1-4239-4FC3-9603-06C96E2A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BED4-3015-4303-85F3-AE60EDE8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0A66-EA05-438C-BC85-F2417138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A7E7-8FC7-4C79-A58D-3EE35A58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6220-8169-4CA1-BB9C-1239D827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F47B6-995E-4303-B44E-A1BC91B3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EEB7-1D7E-4A03-921B-D1C88B8C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D582F-0947-403F-BCE1-8C10B941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532-1C2D-4961-A6CE-C3552F53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B220-2CB2-4910-9541-E606AF41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EDBD4-ACBF-42D0-973E-7E7D13E1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581A-81BD-4FE2-9714-8064E8B6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C1DCC-4339-46A4-AB42-52016D9A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F8BD-3A74-428F-A93A-5BE6D413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B44C-F781-4D86-9CC5-F13435A6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895C-F68B-4638-B281-1D5DAE5F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83EC5-07FE-4172-9C67-4E3347E8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DC529-BE5D-49CC-8C22-CB2F5BCD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FF23-44B4-4C02-BB3B-FD2D4A0E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3DB-A904-46E5-BD0B-12C3C732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1400-1101-4E45-9FB5-EDDD8DB4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50F8A-DBC5-4D54-873A-22A606E8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EDA9F-91E0-4A7F-A7B9-B15659A9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48ADD-FB52-4D04-B440-0724964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25AE6-AF38-4340-B620-A18EBBDB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73017-0899-42D2-8CFA-6544061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D0E57-063D-4486-BC81-E10BB868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E25B-AA02-40F8-8452-93D7A9C4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AF5A-03FC-4CE4-B4FE-E093CA9F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A0D2C-75F6-4649-97B2-944198F6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E43-BCDA-43E9-B21E-8D204871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C7FC0-E489-4B87-8F95-D43D69F4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125D8-D751-4287-BEBF-DD8BBEE4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09C2A-8EF8-4780-B339-A7B53EC6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9E936-DEF0-4343-9953-E7CF7245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1E0F3-5FA6-4C0C-BB15-A6BFB26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01B9-303F-4266-9E2A-A16BA640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236A8-9885-4E27-B7FA-719853B6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1EBB8-43EC-4773-936B-4DF20EC5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E32F3-88B9-414A-95E4-C4E5CBE1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D6564-E9AF-4237-9D4D-B87A40E5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F68-3ACA-440E-B0BA-F0AEA25B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62192-EA35-41C2-A483-1DCDAEE3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6B7F0-D067-4152-B949-79217C76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D61D0-A149-40A6-AB42-59A3E983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5F73D-7A14-41D6-9D51-987A2049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E4E8C-F257-42A1-ACF1-6EF1DD3B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398CB-1F75-41F2-ABA3-A2332F4A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736A2-6943-40F0-BD90-537FD5BF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EBD84-2FCB-437D-A3C9-0E6AD72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B4E26-E7CB-4D6A-8B56-E43D5889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7848-D146-4C5A-9D4A-19835905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F84-19AA-4235-8054-88288686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2145F-385C-4303-9610-BCE1B436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BD9E-7506-4409-8DFC-91B9EC18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A7C9C-3B38-44C1-9E1B-D7F2023C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F325C-C81D-4666-BD2F-744AC0C2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E98A8-8417-4719-983E-2E9B4F33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7DE57-B2C4-4B3D-AF5D-B5F3B1B8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27EA3-077E-4245-83A9-45B836D3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E8FF5-EAE9-42BC-8605-CA8F3740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579AF-BF31-4BE8-884E-75A91CD4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A0056-E0AA-4959-B8C0-D109B0DF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EC4-558F-472F-B2F2-72D9512A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C413E-5551-4E7D-B234-B5278474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255B1-15C9-493F-B108-DB1B52C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F696B-74F2-4780-86C9-D0D81CA3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94FD9-4B0F-4FCA-9C59-BD252D83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2A1DD-DE3E-4B44-B925-5EECE89C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24F9D-5982-4436-A69B-14155BD6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03540-A030-4422-BCCE-A753A310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77C06-DAD0-43B5-BEEA-247DA1DC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D052A-E0D1-406F-96F2-D7DDABE8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C3C91-CE64-48F4-992C-44B2D9DE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9F6-AB53-47FB-86B6-7D42DF62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05378-BF25-4FAC-B379-4ADBF922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F1818-8A4F-460D-B265-6486D38E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B1439-F94E-4759-B91D-18360E63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86302-F4B1-4482-84F5-3C39591D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44A49-BA18-476A-B16F-C76B70AC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3E7D9-078B-4BCC-AF29-85CEAD7E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E612A-8168-41D8-B3E2-6641C84F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0C43-FBEF-478C-848A-4FB78AAE60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مثلث متساوي الساقين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7E89-9917-43D9-904D-7404C33F10DD}" type="slidenum">
              <a:rPr b="0" lang="ar-SA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8A87-894D-4545-A29A-C0931C816D1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ثلث قائم الزاوية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مثلث متساوي الساقين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رابط مستقيم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رابط مستقيم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FEA8-9244-4511-B747-572F0C3D919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9D9E-1F26-4613-BF43-096FF573A7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FA5C-371A-4954-9C42-26D23A67D8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251C-5633-48E8-A3EC-01F3AE9EBDB4}" type="slidenum">
              <a:rPr b="0" lang="ar-SA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A1D5-3EBF-4AEB-87F4-584158CE7299}" type="slidenum"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2548080" y="1695600"/>
            <a:ext cx="3755880" cy="332100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3" descr=""/>
          <p:cNvPicPr/>
          <p:nvPr/>
        </p:nvPicPr>
        <p:blipFill>
          <a:blip r:embed="rId2"/>
          <a:stretch/>
        </p:blipFill>
        <p:spPr>
          <a:xfrm>
            <a:off x="4565520" y="4913280"/>
            <a:ext cx="335304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014560" y="2205000"/>
            <a:ext cx="712944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عتمد على قيام بعض الطحالب الخضراء المزرقة بعملية تثبيت النيتروجين لاحتوائها على الحويصلات المغايرة التي تتم فيها هذه العملية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طحلب </a:t>
            </a:r>
            <a:r>
              <a:rPr b="0" i="1" lang="en-US" sz="3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ostoc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يحتوي على حويصلات مغايرة 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طحلب </a:t>
            </a:r>
            <a:r>
              <a:rPr b="0" i="1" lang="en-US" sz="3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Chlorella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يستخدم للمقارنة لعدم احتوائه على الحويصلات المغايرة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Picture 8" descr="n3"/>
          <p:cNvPicPr/>
          <p:nvPr/>
        </p:nvPicPr>
        <p:blipFill>
          <a:blip r:embed="rId2"/>
          <a:stretch/>
        </p:blipFill>
        <p:spPr>
          <a:xfrm>
            <a:off x="0" y="3645000"/>
            <a:ext cx="248436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-360" y="4436640"/>
            <a:ext cx="3492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خالية من النيتروجين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2843280" y="2852640"/>
            <a:ext cx="2376360" cy="1009800"/>
          </a:xfrm>
          <a:prstGeom prst="rightArrow">
            <a:avLst>
              <a:gd name="adj1" fmla="val 50000"/>
              <a:gd name="adj2" fmla="val 58832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5219640" y="2997360"/>
            <a:ext cx="3924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لقح بـ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م من عينات طحالب معلمة ثم تحضن لمدة أسبوع في درجة حرارة الغرف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9" descr="08-11-31 12-01-57 AM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684360" y="2205000"/>
            <a:ext cx="1584000" cy="1776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0" y="4365360"/>
            <a:ext cx="3851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رج الفلاسكا المحتوية على النمو وتوضع في أنبوبة طرد مركزي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4" descr="91-b"/>
          <p:cNvPicPr/>
          <p:nvPr/>
        </p:nvPicPr>
        <p:blipFill>
          <a:blip r:embed="rId2">
            <a:lum contrast="48000"/>
          </a:blip>
          <a:srcRect l="40559" t="12036" r="40559" b="7328"/>
          <a:stretch/>
        </p:blipFill>
        <p:spPr>
          <a:xfrm>
            <a:off x="971640" y="1916280"/>
            <a:ext cx="863640" cy="24476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5"/>
          <p:cNvSpPr/>
          <p:nvPr/>
        </p:nvSpPr>
        <p:spPr>
          <a:xfrm>
            <a:off x="2627280" y="2565360"/>
            <a:ext cx="3240000" cy="1655640"/>
          </a:xfrm>
          <a:prstGeom prst="rightArrow">
            <a:avLst>
              <a:gd name="adj1" fmla="val 50000"/>
              <a:gd name="adj2" fmla="val 48924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طرد مركزي لمدة ربع ساع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 rot="389400">
            <a:off x="755280" y="1052280"/>
            <a:ext cx="863640" cy="1009440"/>
          </a:xfrm>
          <a:custGeom>
            <a:avLst/>
            <a:gdLst>
              <a:gd name="textAreaLeft" fmla="*/ 151560 w 863640"/>
              <a:gd name="textAreaRight" fmla="*/ 624240 w 86364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80" hR="21600" stAng="10800000" swAng="5400000"/>
                <a:lnTo>
                  <a:pt x="11820" y="0"/>
                </a:lnTo>
                <a:arcTo wR="7580" hR="21600" stAng="-5400000" swAng="2687178"/>
                <a:lnTo>
                  <a:pt x="21166" y="14400"/>
                </a:lnTo>
                <a:lnTo>
                  <a:pt x="17280" y="21600"/>
                </a:lnTo>
                <a:lnTo>
                  <a:pt x="12526" y="14400"/>
                </a:lnTo>
                <a:lnTo>
                  <a:pt x="14726" y="14400"/>
                </a:lnTo>
                <a:arcTo wR="7580" hR="21600" stAng="-2712822" swAng="-2336962"/>
                <a:lnTo>
                  <a:pt x="9700" y="862"/>
                </a:lnTo>
                <a:arcTo wR="7580" hR="21600" stAng="-5750217" swAng="-5049783"/>
                <a:close/>
              </a:path>
              <a:path fill="darkenLess" w="21600" h="21600">
                <a:moveTo>
                  <a:pt x="0" y="21600"/>
                </a:moveTo>
                <a:arcTo wR="7580" hR="21600" stAng="10800000" swAng="5400000"/>
                <a:lnTo>
                  <a:pt x="7580" y="0"/>
                </a:lnTo>
                <a:arcTo wR="7580" hR="21600" stAng="-5400000" swAng="350217"/>
                <a:lnTo>
                  <a:pt x="9700" y="862"/>
                </a:lnTo>
                <a:arcTo wR="7580" hR="21600" stAng="-5750217" swAng="-5049783"/>
                <a:close/>
              </a:path>
            </a:pathLst>
          </a:custGeom>
          <a:solidFill>
            <a:srgbClr val="9dc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5867280" y="2492280"/>
            <a:ext cx="360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م التخلص من النسيج حيث تجرى عمليات الكشف عن النيتروجين على الراشح فق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0" y="2349360"/>
            <a:ext cx="28432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ؤخذ نقطتان من الوسط البيئي و نقطتان من الكاشف حيث توضع على قالب مخصص للإختبار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2627280" y="2997360"/>
            <a:ext cx="2374920" cy="129528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تيجة تكون على حسب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لون النات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5076720" y="2276640"/>
            <a:ext cx="40672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نسلرإلى </a:t>
            </a:r>
            <a:r>
              <a:rPr b="1" lang="ar-SA" sz="2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لون البرتقالي المصفر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أمونيا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حمض السلفانيك إلى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لون الأحمر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نيتريت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ثنائي فينيل أمين إلى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Times New Roman"/>
              </a:rPr>
              <a:t>اللون الأزرق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نترات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469800" y="1189080"/>
            <a:ext cx="7997760" cy="11574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-181080" y="2852640"/>
            <a:ext cx="889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 لم يعطي الكاشف لون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2627280" y="3573360"/>
            <a:ext cx="1079640" cy="1081080"/>
          </a:xfrm>
          <a:prstGeom prst="octagon">
            <a:avLst>
              <a:gd name="adj" fmla="val 29287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زر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4067280" y="3716280"/>
            <a:ext cx="1079280" cy="10810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حم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5508720" y="3573360"/>
            <a:ext cx="1079280" cy="10810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تقال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صف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AutoShape 9"/>
          <p:cNvCxnSpPr>
            <a:stCxn id="369" idx="3"/>
            <a:endCxn id="368" idx="2"/>
          </p:cNvCxnSpPr>
          <p:nvPr/>
        </p:nvCxnSpPr>
        <p:spPr>
          <a:xfrm flipH="1">
            <a:off x="5146560" y="4114440"/>
            <a:ext cx="362520" cy="143640"/>
          </a:xfrm>
          <a:prstGeom prst="straightConnector1">
            <a:avLst/>
          </a:prstGeom>
          <a:ln w="19080">
            <a:solidFill>
              <a:srgbClr val="dddddd"/>
            </a:solidFill>
            <a:miter/>
          </a:ln>
        </p:spPr>
      </p:cxnSp>
      <p:cxnSp>
        <p:nvCxnSpPr>
          <p:cNvPr id="371" name="AutoShape 10"/>
          <p:cNvCxnSpPr>
            <a:stCxn id="367" idx="2"/>
            <a:endCxn id="368" idx="3"/>
          </p:cNvCxnSpPr>
          <p:nvPr/>
        </p:nvCxnSpPr>
        <p:spPr>
          <a:xfrm>
            <a:off x="3706560" y="4114440"/>
            <a:ext cx="361080" cy="143640"/>
          </a:xfrm>
          <a:prstGeom prst="straightConnector1">
            <a:avLst/>
          </a:prstGeom>
          <a:ln w="19080">
            <a:solidFill>
              <a:srgbClr val="dddddd"/>
            </a:solidFill>
            <a:miter/>
          </a:ln>
        </p:spPr>
      </p:cxnSp>
      <p:sp>
        <p:nvSpPr>
          <p:cNvPr id="372" name="Rectangle 11"/>
          <p:cNvSpPr/>
          <p:nvPr/>
        </p:nvSpPr>
        <p:spPr>
          <a:xfrm>
            <a:off x="250920" y="5157720"/>
            <a:ext cx="88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هذا يعني أن النتيجة سلبية و أن الطحلب </a:t>
            </a:r>
            <a:r>
              <a:rPr b="0" lang="ar-SA" sz="3200" spc="-1" strike="noStrike" u="sng">
                <a:solidFill>
                  <a:srgbClr val="ffccff"/>
                </a:solidFill>
                <a:uFillTx/>
                <a:latin typeface="Times New Roman"/>
                <a:cs typeface="Times New Roman"/>
              </a:rPr>
              <a:t>غير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ثبت للنيتروج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907640" y="2707920"/>
            <a:ext cx="3598920" cy="2376360"/>
          </a:xfrm>
          <a:prstGeom prst="rect">
            <a:avLst/>
          </a:prstGeom>
          <a:noFill/>
          <a:ln w="0">
            <a:noFill/>
          </a:ln>
          <a:effectLst>
            <a:outerShdw dist="81185" dir="7721969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Century Gothic"/>
                <a:cs typeface="Khalid Art bold"/>
              </a:rPr>
              <a:t>نهاية المعمل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Century Gothic"/>
                <a:ea typeface="Khalid Art bold"/>
              </a:rPr>
              <a:t>	</a:t>
            </a:r>
            <a:r>
              <a:rPr b="0" lang="ar-SA" sz="3000" spc="-1" strike="noStrike">
                <a:solidFill>
                  <a:srgbClr val="dddddd"/>
                </a:solidFill>
                <a:latin typeface="Century Gothic"/>
                <a:cs typeface="Khalid Art bold"/>
              </a:rPr>
              <a:t>التاس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4" name="Picture 5" descr="z1%20(102)"/>
          <p:cNvPicPr/>
          <p:nvPr/>
        </p:nvPicPr>
        <p:blipFill>
          <a:blip r:embed="rId1"/>
          <a:stretch/>
        </p:blipFill>
        <p:spPr>
          <a:xfrm>
            <a:off x="3492360" y="4005360"/>
            <a:ext cx="1059120" cy="51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0:02:37Z</dcterms:created>
  <dc:creator>jbroOot</dc:creator>
  <dc:description/>
  <dc:language>en-US</dc:language>
  <cp:lastModifiedBy>w7</cp:lastModifiedBy>
  <dcterms:modified xsi:type="dcterms:W3CDTF">2011-11-18T22:18:46Z</dcterms:modified>
  <cp:revision>17</cp:revision>
  <dc:subject/>
  <dc:title>ا. الجوهرة العباد alalabbad@ksu.edu.sa</dc:title>
</cp:coreProperties>
</file>