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9A04-89A1-409B-8373-E9390AA0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50F0-C37A-4555-B69C-E38B50F9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ED14-2237-49B6-AAE7-1302B605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4287-9F78-4250-B19E-62BB39B7A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4363-9A61-4465-8F13-4E70B945F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2707-C971-42F1-8BEA-49427652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99C0-7864-48E8-A8FF-ACCC7F58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B7D8-654C-4832-94F7-251E5B9A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6ACE-218A-46D2-B22D-2FFE5B58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B685-B451-4D81-B23B-103F949D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0612-2E04-40F7-A280-DE211BD1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AFEC-BCEC-4EA4-A1A4-2EA1B62C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6BAC-BFCE-4704-BF21-05CC76C0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9C55-57E0-4631-8850-90A2BE18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CB9A-EF5F-47F2-8AB9-CC865BD4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F76E-1364-4DD1-91DC-51493BDD9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77CC-0F09-4DF9-A83C-6DD10EFE3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C01D4-F947-4F4C-96FC-4F08663E2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381A9-EC75-47A8-A776-4B84357D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F242E-5815-4F35-9982-5E510421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9DEBC-5EB2-4EA9-A453-C6374784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C1334-00AC-48FB-932D-316DF202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CD5F-5F11-4E20-B0A7-5308AB9B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0F4B4-72D4-429E-8464-D9114E4B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0BC01-1355-4D67-9F60-5EBF50DD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03AC2-891C-437F-AC9C-2B75531E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54028-0AC1-483F-84EB-1B6BDD33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2B006-85BA-46EE-A726-6FB0A2F7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D3FCB-4C09-4FAE-AB98-5A1D9EDA5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479D5-6FC9-4628-8DF7-0C3F6D2BB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09DC4-CE1E-4FDF-B008-9DE1BE242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C1797-0CB8-4CAF-83E6-88EFE570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CF1DF-5894-4C9E-B3E9-3625F8DF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426B-1E12-4490-B19A-A7B8A6B2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11F2E-EF12-455A-92C0-1750AEDF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75721-B644-43B0-A9AF-082D08C6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C0AE8-4981-42D7-9BB7-67DC6F95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47454-87AB-494F-B811-058D2223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CD592-803F-48EA-AF7E-B8E6E02A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E750C-4D87-4B7F-9EF9-48E83FAC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B441F-B2D1-4FD3-B411-8CB6C56B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FFA00-7215-40A8-890A-1DDC0DCC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1A59A-C2F3-4F82-B50F-2163BBE74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A6EFD-9AB7-4033-B1A4-4691A542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9B7C-B365-4EC5-8FDC-11677F6E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92531-834B-43CE-8022-94348EB6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7211C-0FC9-454F-853D-ACF0D879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AF654-9DC1-45CA-9640-82F5510F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43B72-58EB-40A6-9317-7C3427C8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1A1EA-A9BA-4C8C-BDDE-B5F1E2F2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45F95-A8E4-413D-83D5-01C9C88B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C7548-547E-4DBB-A4BD-006296B6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7D84F-E3F8-4371-BAA4-9873A833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77A37-FFBE-40EF-BA02-46F09BB0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A4B82-8E58-44CA-B064-2DA57959C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D5A8-084C-46E7-B82A-205F1E14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66AA2-AB48-4368-AE06-0CEBCFC48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B123E-12EA-4B73-8953-FBAF6A26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6049C-3786-45B4-8C87-7D755315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441C0-26AD-4193-9D52-994DBED9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4CA78-8A29-4BD2-8531-CFB1DD8D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985C3-D654-46D8-B2CC-7D8F694E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6C0A4-D0BD-4605-8C31-C58CFACB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DAC80-BF52-477A-A649-65B292E3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A1700-E6C1-41E2-B89E-07585CF8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5846F-D658-4B01-BF61-712B3655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F9C9-76E0-4CFB-B429-434D8287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A6697-9DB2-411D-AC1A-14D01A43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8C6B8-427B-4E90-AAAA-8C5D827B2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7F304-CF39-47D1-855A-176A6BB34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D7478-397A-42A0-9206-350A5785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29226-B2AE-4227-8A19-8F8D23E3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0201B-E103-45F5-8971-0ED9800D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19276-CAFF-4F32-BF61-7380E7ED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B83C2-523A-4901-BF03-6E90EDDD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956F7-C0CD-474C-A8D1-A747623E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3DBD1-0A17-4F33-BDDC-3A8D55DC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79E0-7488-4957-9CA4-7F2F3862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59BC4-AB17-4523-8B81-30FC3F6A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0FB28-4355-420D-8917-2BACBCEF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5D901-F8C7-413A-AB84-BE12E462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A6560-4745-4AD6-BE46-974E9494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10BBE-9749-4386-A314-904921793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AA6C2-8A6A-4EC3-BED7-5ABF1F7D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2AE01-30ED-48E6-BCD0-AD87DFB1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BB7B1-1E78-4764-91FB-4FE2936D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871B9-9DBE-4469-AECD-E7341B66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8239F-0AC8-49E3-BD85-A43A81BD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1D40-7FE8-4DCA-ABCF-6C10C3BE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48E67-C774-4EF2-816A-56CD9449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74EAE-C981-4741-85D4-617DF746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C93A3-3A10-4FE8-911C-B6BDA69C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02FA0-8494-4D2C-8C1D-571176FA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E87EE-5D4B-4446-8337-C19C1CDF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BD5B4-C649-437C-9994-A6EE9AFF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31591-03BC-48F4-88DB-D5AC7FE6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ثلث قائم الزاوية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رابط مستقيم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رابط مستقيم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r" rtl="1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 algn="r" rtl="1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D0FE-EC42-4C27-A33B-3BE848917EC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ثلث قائم الزاوية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رابط مستقيم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رابط مستقيم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مثلث متساوي الساقين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r" rtl="1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 algn="r" rtl="1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1C9B-3223-4DAB-BBC6-0619D248235B}" type="slidenum">
              <a:rPr b="0" lang="ar-SA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ثلث قائم الزاوية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رابط مستقيم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رابط مستقيم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r" rtl="1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 algn="r" rtl="1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9ACE-D1B7-4361-BFB7-BA18CE7B0E8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مثلث قائم الزاوية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مثلث متساوي الساقين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رابط مستقيم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رابط مستقيم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r" rtl="1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 algn="r" rtl="1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E4FF-E9C1-490B-AC91-B5AF550AD9C3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مثلث قائم الزاوية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رابط مستقيم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رابط مستقيم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r" rtl="1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 algn="r" rtl="1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A56D-81E5-43C6-8EE1-F9E43DEA7AE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r" rtl="1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 algn="r" rtl="1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53E8-D217-4FEB-9A14-16B35C7FC78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r" rtl="1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 algn="r" rtl="1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CC81-3B84-4BBF-9F7F-637F97A16F1E}" type="slidenum">
              <a:rPr b="0" lang="ar-SA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r" rtl="1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r" rtl="1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 algn="r" rtl="1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 algn="r" rtl="1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 algn="r" rtl="1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9D52-9128-4E11-8A78-07239F008E1E}" type="slidenum">
              <a:rPr b="0" lang="ar-SA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2" descr=""/>
          <p:cNvPicPr/>
          <p:nvPr/>
        </p:nvPicPr>
        <p:blipFill>
          <a:blip r:embed="rId1"/>
          <a:stretch/>
        </p:blipFill>
        <p:spPr>
          <a:xfrm>
            <a:off x="2548080" y="1695600"/>
            <a:ext cx="3755880" cy="3321000"/>
          </a:xfrm>
          <a:prstGeom prst="rect">
            <a:avLst/>
          </a:prstGeom>
          <a:ln w="0">
            <a:noFill/>
          </a:ln>
        </p:spPr>
      </p:pic>
      <p:pic>
        <p:nvPicPr>
          <p:cNvPr id="346" name="Rectangle 3" descr=""/>
          <p:cNvPicPr/>
          <p:nvPr/>
        </p:nvPicPr>
        <p:blipFill>
          <a:blip r:embed="rId2"/>
          <a:stretch/>
        </p:blipFill>
        <p:spPr>
          <a:xfrm>
            <a:off x="4565520" y="4913280"/>
            <a:ext cx="3353040" cy="8049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2" descr=""/>
          <p:cNvPicPr/>
          <p:nvPr/>
        </p:nvPicPr>
        <p:blipFill>
          <a:blip r:embed="rId1"/>
          <a:stretch/>
        </p:blipFill>
        <p:spPr>
          <a:xfrm>
            <a:off x="249120" y="828720"/>
            <a:ext cx="8456760" cy="11588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2014560" y="2205000"/>
            <a:ext cx="7129440" cy="34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02840" indent="-344160" algn="r" rtl="1">
              <a:lnSpc>
                <a:spcPct val="100000"/>
              </a:lnSpc>
              <a:spcBef>
                <a:spcPts val="751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عتمد على قيام بعض الطحالب الخضراء المزرقة بعملية تثبيت النيتروجين لاحتوائها على الحويصلات المغايرة التي تتم فيها هذه العملية 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-344160" algn="r" rtl="1">
              <a:lnSpc>
                <a:spcPct val="100000"/>
              </a:lnSpc>
              <a:spcBef>
                <a:spcPts val="751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طحلب </a:t>
            </a:r>
            <a:r>
              <a:rPr b="0" i="1" lang="en-US" sz="30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Nostoc</a:t>
            </a:r>
            <a:r>
              <a:rPr b="0" lang="ar-SA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(يحتوي على حويصلات مغايرة )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02840" indent="-344160" algn="r" rtl="1">
              <a:lnSpc>
                <a:spcPct val="100000"/>
              </a:lnSpc>
              <a:spcBef>
                <a:spcPts val="751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طحلب </a:t>
            </a:r>
            <a:r>
              <a:rPr b="0" i="1" lang="en-US" sz="30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Chlorella</a:t>
            </a:r>
            <a:r>
              <a:rPr b="0" lang="ar-SA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يستخدم للمقارنة لعدم احتوائه على الحويصلات المغايرة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9" name="Picture 8" descr="n3"/>
          <p:cNvPicPr/>
          <p:nvPr/>
        </p:nvPicPr>
        <p:blipFill>
          <a:blip r:embed="rId2"/>
          <a:stretch/>
        </p:blipFill>
        <p:spPr>
          <a:xfrm>
            <a:off x="0" y="3645000"/>
            <a:ext cx="2484360" cy="2309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249120" y="828720"/>
            <a:ext cx="8456760" cy="11588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-360" y="4436640"/>
            <a:ext cx="3492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بيئة </a:t>
            </a:r>
            <a:r>
              <a:rPr b="0" lang="en-US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BBM</a:t>
            </a:r>
            <a:r>
              <a:rPr b="0" lang="ar-SA" sz="3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خالية من النيتروجين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2843280" y="2852640"/>
            <a:ext cx="2376360" cy="1009800"/>
          </a:xfrm>
          <a:prstGeom prst="rightArrow">
            <a:avLst>
              <a:gd name="adj1" fmla="val 50000"/>
              <a:gd name="adj2" fmla="val 58832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5219640" y="2997360"/>
            <a:ext cx="39243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لقح بـ 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5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ملم من عينات طحالب معلمة ثم تحضن لمدة أسبوع في درجة حرارة الغرف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9dcf99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9" descr="08-11-31 12-01-57 AM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684360" y="2205000"/>
            <a:ext cx="1584000" cy="17766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Rectangle 2" descr=""/>
          <p:cNvPicPr/>
          <p:nvPr/>
        </p:nvPicPr>
        <p:blipFill>
          <a:blip r:embed="rId1"/>
          <a:stretch/>
        </p:blipFill>
        <p:spPr>
          <a:xfrm>
            <a:off x="249120" y="828720"/>
            <a:ext cx="8456760" cy="11588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0" y="4365360"/>
            <a:ext cx="38512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-374760" algn="ctr" rtl="1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رج الفلاسكا المحتوية على النمو وتوضع في أنبوبة طرد مركزي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7" name="Picture 4" descr="91-b"/>
          <p:cNvPicPr/>
          <p:nvPr/>
        </p:nvPicPr>
        <p:blipFill>
          <a:blip r:embed="rId2">
            <a:lum contrast="48000"/>
          </a:blip>
          <a:srcRect l="40559" t="12036" r="40559" b="7328"/>
          <a:stretch/>
        </p:blipFill>
        <p:spPr>
          <a:xfrm>
            <a:off x="971640" y="1916280"/>
            <a:ext cx="863640" cy="2447640"/>
          </a:xfrm>
          <a:prstGeom prst="rect">
            <a:avLst/>
          </a:prstGeom>
          <a:ln w="0">
            <a:noFill/>
          </a:ln>
        </p:spPr>
      </p:pic>
      <p:sp>
        <p:nvSpPr>
          <p:cNvPr id="358" name="AutoShape 5"/>
          <p:cNvSpPr/>
          <p:nvPr/>
        </p:nvSpPr>
        <p:spPr>
          <a:xfrm>
            <a:off x="2627280" y="2565360"/>
            <a:ext cx="3240000" cy="1655640"/>
          </a:xfrm>
          <a:prstGeom prst="rightArrow">
            <a:avLst>
              <a:gd name="adj1" fmla="val 50000"/>
              <a:gd name="adj2" fmla="val 48924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طرد مركزي لمدة ربع ساع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AutoShape 9"/>
          <p:cNvSpPr/>
          <p:nvPr/>
        </p:nvSpPr>
        <p:spPr>
          <a:xfrm rot="389400">
            <a:off x="755280" y="1052280"/>
            <a:ext cx="863640" cy="1009440"/>
          </a:xfrm>
          <a:custGeom>
            <a:avLst/>
            <a:gdLst>
              <a:gd name="textAreaLeft" fmla="*/ 151560 w 863640"/>
              <a:gd name="textAreaRight" fmla="*/ 624240 w 863640"/>
              <a:gd name="textAreaTop" fmla="*/ 135000 h 1009440"/>
              <a:gd name="textAreaBottom" fmla="*/ 874440 h 1009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80" hR="21600" stAng="10800000" swAng="5400000"/>
                <a:lnTo>
                  <a:pt x="11820" y="0"/>
                </a:lnTo>
                <a:arcTo wR="7580" hR="21600" stAng="-5400000" swAng="2687178"/>
                <a:lnTo>
                  <a:pt x="21166" y="14400"/>
                </a:lnTo>
                <a:lnTo>
                  <a:pt x="17280" y="21600"/>
                </a:lnTo>
                <a:lnTo>
                  <a:pt x="12526" y="14400"/>
                </a:lnTo>
                <a:lnTo>
                  <a:pt x="14726" y="14400"/>
                </a:lnTo>
                <a:arcTo wR="7580" hR="21600" stAng="-2712822" swAng="-2336962"/>
                <a:lnTo>
                  <a:pt x="9700" y="862"/>
                </a:lnTo>
                <a:arcTo wR="7580" hR="21600" stAng="-5750217" swAng="-5049783"/>
                <a:close/>
              </a:path>
              <a:path fill="darkenLess" w="21600" h="21600">
                <a:moveTo>
                  <a:pt x="0" y="21600"/>
                </a:moveTo>
                <a:arcTo wR="7580" hR="21600" stAng="10800000" swAng="5400000"/>
                <a:lnTo>
                  <a:pt x="7580" y="0"/>
                </a:lnTo>
                <a:arcTo wR="7580" hR="21600" stAng="-5400000" swAng="350217"/>
                <a:lnTo>
                  <a:pt x="9700" y="862"/>
                </a:lnTo>
                <a:arcTo wR="7580" hR="21600" stAng="-5750217" swAng="-5049783"/>
                <a:close/>
              </a:path>
            </a:pathLst>
          </a:custGeom>
          <a:solidFill>
            <a:srgbClr val="9dc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5867280" y="2492280"/>
            <a:ext cx="360072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يتم التخلص من النسيج حيث تجرى عمليات الكشف عن النيتروجين على الراشح فق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Rectangle 2" descr=""/>
          <p:cNvPicPr/>
          <p:nvPr/>
        </p:nvPicPr>
        <p:blipFill>
          <a:blip r:embed="rId1"/>
          <a:stretch/>
        </p:blipFill>
        <p:spPr>
          <a:xfrm>
            <a:off x="249120" y="828720"/>
            <a:ext cx="8456760" cy="115884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0" y="2349360"/>
            <a:ext cx="28432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 rtl="1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ؤخذ نقطتان من الوسط البيئي و نقطتان من الكاشف حيث توضع على قالب مخصص للإختبار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AutoShape 5"/>
          <p:cNvSpPr/>
          <p:nvPr/>
        </p:nvSpPr>
        <p:spPr>
          <a:xfrm>
            <a:off x="2627280" y="2997360"/>
            <a:ext cx="2374920" cy="1295280"/>
          </a:xfrm>
          <a:prstGeom prst="rightArrow">
            <a:avLst>
              <a:gd name="adj1" fmla="val 50000"/>
              <a:gd name="adj2" fmla="val 45838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نتيجة تكون على حسب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لون النات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5076720" y="2276640"/>
            <a:ext cx="406728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حول كاشف نسلرإلى </a:t>
            </a:r>
            <a:r>
              <a:rPr b="1" lang="ar-SA" sz="28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اللون البرتقالي المصفر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دلالة على وجود </a:t>
            </a:r>
            <a:r>
              <a:rPr b="0" lang="ar-SA" sz="2800" spc="-1" strike="noStrike" u="sng">
                <a:solidFill>
                  <a:srgbClr val="dddddd"/>
                </a:solidFill>
                <a:uFillTx/>
                <a:latin typeface="Times New Roman"/>
                <a:cs typeface="Times New Roman"/>
              </a:rPr>
              <a:t>الأمونيا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حول كاشف حمض السلفانيك إلى 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لون الأحمر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دلالة على وجود </a:t>
            </a:r>
            <a:r>
              <a:rPr b="0" lang="ar-SA" sz="2800" spc="-1" strike="noStrike" u="sng">
                <a:solidFill>
                  <a:srgbClr val="dddddd"/>
                </a:solidFill>
                <a:uFillTx/>
                <a:latin typeface="Times New Roman"/>
                <a:cs typeface="Times New Roman"/>
              </a:rPr>
              <a:t>النيتريت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9dcf99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تحول كاشف ثنائي فينيل أمين إلى </a:t>
            </a:r>
            <a:r>
              <a:rPr b="1" lang="ar-SA" sz="2800" spc="-1" strike="noStrike">
                <a:solidFill>
                  <a:srgbClr val="0033cc"/>
                </a:solidFill>
                <a:latin typeface="Times New Roman"/>
                <a:cs typeface="Times New Roman"/>
              </a:rPr>
              <a:t>اللون الأزرق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دلالة على وجود </a:t>
            </a:r>
            <a:r>
              <a:rPr b="0" lang="ar-SA" sz="2800" spc="-1" strike="noStrike" u="sng">
                <a:solidFill>
                  <a:srgbClr val="dddddd"/>
                </a:solidFill>
                <a:uFillTx/>
                <a:latin typeface="Times New Roman"/>
                <a:cs typeface="Times New Roman"/>
              </a:rPr>
              <a:t>النترات</a:t>
            </a:r>
            <a:r>
              <a:rPr b="0" lang="ar-SA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Rectangle 2" descr=""/>
          <p:cNvPicPr/>
          <p:nvPr/>
        </p:nvPicPr>
        <p:blipFill>
          <a:blip r:embed="rId1"/>
          <a:stretch/>
        </p:blipFill>
        <p:spPr>
          <a:xfrm>
            <a:off x="469800" y="1189080"/>
            <a:ext cx="7997760" cy="115740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4"/>
          <p:cNvSpPr/>
          <p:nvPr/>
        </p:nvSpPr>
        <p:spPr>
          <a:xfrm>
            <a:off x="-181080" y="2852640"/>
            <a:ext cx="889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9dcf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إذا لم يعطي الكاشف لوناً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AutoShape 6"/>
          <p:cNvSpPr/>
          <p:nvPr/>
        </p:nvSpPr>
        <p:spPr>
          <a:xfrm>
            <a:off x="2627280" y="3573360"/>
            <a:ext cx="1079640" cy="1081080"/>
          </a:xfrm>
          <a:prstGeom prst="octagon">
            <a:avLst>
              <a:gd name="adj" fmla="val 29287"/>
            </a:avLst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زر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AutoShape 7"/>
          <p:cNvSpPr/>
          <p:nvPr/>
        </p:nvSpPr>
        <p:spPr>
          <a:xfrm>
            <a:off x="4067280" y="3716280"/>
            <a:ext cx="1079280" cy="10810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حم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AutoShape 8"/>
          <p:cNvSpPr/>
          <p:nvPr/>
        </p:nvSpPr>
        <p:spPr>
          <a:xfrm>
            <a:off x="5508720" y="3573360"/>
            <a:ext cx="1079280" cy="10810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رتقال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صف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0" name="AutoShape 9"/>
          <p:cNvCxnSpPr>
            <a:stCxn id="369" idx="3"/>
            <a:endCxn id="368" idx="2"/>
          </p:cNvCxnSpPr>
          <p:nvPr/>
        </p:nvCxnSpPr>
        <p:spPr>
          <a:xfrm flipH="1">
            <a:off x="5146560" y="4114440"/>
            <a:ext cx="362520" cy="143640"/>
          </a:xfrm>
          <a:prstGeom prst="straightConnector1">
            <a:avLst/>
          </a:prstGeom>
          <a:ln w="19080">
            <a:solidFill>
              <a:srgbClr val="dddddd"/>
            </a:solidFill>
            <a:miter/>
          </a:ln>
        </p:spPr>
      </p:cxnSp>
      <p:cxnSp>
        <p:nvCxnSpPr>
          <p:cNvPr id="371" name="AutoShape 10"/>
          <p:cNvCxnSpPr>
            <a:stCxn id="367" idx="2"/>
            <a:endCxn id="368" idx="3"/>
          </p:cNvCxnSpPr>
          <p:nvPr/>
        </p:nvCxnSpPr>
        <p:spPr>
          <a:xfrm>
            <a:off x="3706560" y="4114440"/>
            <a:ext cx="361080" cy="143640"/>
          </a:xfrm>
          <a:prstGeom prst="straightConnector1">
            <a:avLst/>
          </a:prstGeom>
          <a:ln w="19080">
            <a:solidFill>
              <a:srgbClr val="dddddd"/>
            </a:solidFill>
            <a:miter/>
          </a:ln>
        </p:spPr>
      </p:cxnSp>
      <p:sp>
        <p:nvSpPr>
          <p:cNvPr id="372" name="Rectangle 11"/>
          <p:cNvSpPr/>
          <p:nvPr/>
        </p:nvSpPr>
        <p:spPr>
          <a:xfrm>
            <a:off x="250920" y="5157720"/>
            <a:ext cx="889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ddddd"/>
                </a:solidFill>
                <a:latin typeface="Times New Roman"/>
                <a:cs typeface="Times New Roman"/>
              </a:rPr>
              <a:t>فهذا يعني أن النتيجة سلبية و أن الطحلب </a:t>
            </a:r>
            <a:r>
              <a:rPr b="0" lang="ar-SA" sz="3200" spc="-1" strike="noStrike" u="sng">
                <a:solidFill>
                  <a:srgbClr val="ffccff"/>
                </a:solidFill>
                <a:uFillTx/>
                <a:latin typeface="Times New Roman"/>
                <a:cs typeface="Times New Roman"/>
              </a:rPr>
              <a:t>غير</a:t>
            </a:r>
            <a:r>
              <a:rPr b="0" lang="ar-SA" sz="3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مثبت للنيتروجي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5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1907640" y="2707920"/>
            <a:ext cx="3598920" cy="2376360"/>
          </a:xfrm>
          <a:prstGeom prst="rect">
            <a:avLst/>
          </a:prstGeom>
          <a:noFill/>
          <a:ln w="0">
            <a:noFill/>
          </a:ln>
          <a:effectLst>
            <a:outerShdw dist="81185" dir="7721969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ddddd"/>
                </a:solidFill>
                <a:latin typeface="Century Gothic"/>
                <a:cs typeface="Khalid Art bold"/>
              </a:rPr>
              <a:t>نهاية المعمل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ddddd"/>
                </a:solidFill>
                <a:latin typeface="Century Gothic"/>
                <a:ea typeface="Khalid Art bold"/>
              </a:rPr>
              <a:t>	</a:t>
            </a:r>
            <a:r>
              <a:rPr b="0" lang="ar-SA" sz="3000" spc="-1" strike="noStrike">
                <a:solidFill>
                  <a:srgbClr val="dddddd"/>
                </a:solidFill>
                <a:latin typeface="Century Gothic"/>
                <a:cs typeface="Khalid Art bold"/>
              </a:rPr>
              <a:t>التاسع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4" name="Picture 5" descr="z1%20(102)"/>
          <p:cNvPicPr/>
          <p:nvPr/>
        </p:nvPicPr>
        <p:blipFill>
          <a:blip r:embed="rId1"/>
          <a:stretch/>
        </p:blipFill>
        <p:spPr>
          <a:xfrm>
            <a:off x="3492360" y="4005360"/>
            <a:ext cx="1059120" cy="515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20:02:37Z</dcterms:created>
  <dc:creator>jbroOot</dc:creator>
  <dc:description/>
  <dc:language>en-US</dc:language>
  <cp:lastModifiedBy>w7</cp:lastModifiedBy>
  <dcterms:modified xsi:type="dcterms:W3CDTF">2011-11-18T22:18:46Z</dcterms:modified>
  <cp:revision>17</cp:revision>
  <dc:subject/>
  <dc:title>ا. الجوهرة العباد alalabbad@ksu.edu.sa</dc:title>
</cp:coreProperties>
</file>