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4C3-DBB4-44F5-9794-C258A8BC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BC7-719B-43A4-8071-BA86BDDD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4D8-AA39-4806-BB29-5B7E1B53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E81-68CF-476F-969F-3EBB9518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8DED-EDA6-4D6A-A960-3C9011D6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4661-6587-40AE-AAB1-6945E73D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52CC-F12C-4F4B-9854-ECCE6638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483E-39CA-433A-AA75-C631BDCE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A9A9-5737-43C1-9821-4EF37CD4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7125-6223-4076-A105-76B567C8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7CAE-70C9-4394-8979-40090DA3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A88-F6D5-4615-BF29-AEE4DA41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2B89-50E9-4AEC-A006-90533943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61D8-6816-41B9-A0BC-9F619610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C74B-CF0B-4D44-A9AF-E3F80A07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E577-6768-4C14-9B81-AE60C799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2B40-AE90-4DE0-996C-E1881162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6D6F-EBAD-475B-86BE-5082B9BE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9F97-F937-410F-A124-8BBC9176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114F-E456-413B-B534-5EEA0FE6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0E1B-C8D4-4A20-87D1-37D2583E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8508-D212-4257-8C2C-C8E14722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405-83F4-40A3-BBA1-78A65036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D460-F515-48ED-A44F-E7BDC449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606C-31B6-4730-A046-19609889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71F7-3F43-48DC-ABD2-C573EAD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C8062-A499-4A48-ABDA-56C1BD70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B6C7-8971-4699-BB16-872C4812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772E-8140-4761-876E-C668F06C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4A1D2-56C5-4918-99B5-7889D804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65B01-A278-4C38-9E3A-6C2019AD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CDD4D-7F97-42E3-9BB8-265D1196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D65A5-7035-417E-B1D2-C093F635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AA4-82D3-4BC4-8C6E-10DF4E25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99D4A-5769-44F3-8A16-F3F1307D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FE42D-3005-46B7-81F8-71F09805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72044-9A6A-4BEF-ACD5-3DD73AC8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79F31-9D3F-45D3-83CB-630A29B7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4639B-60DA-4062-B914-C8C19DC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1072B-463C-44A8-AA7A-D2E67B00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BF9FB-33BC-4565-A0CF-04568DA7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7A0F-5E71-4B6D-A498-83BD4FB6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BED7D-95CF-4798-87FF-DD413514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B49C4-CA2D-4385-A0E9-BDDF0CDA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96A-AE93-47E8-BBD6-4B6522BF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BFF62-26FB-497F-B235-730BA903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17AE-31E5-489E-A4D0-F75A2C8A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AAA74-E84B-4CB3-8C99-FF2A52F9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4C732-6D1F-4FDF-8C7C-1389A02D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1C766-0CCB-4E12-B5F6-F55C3E88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BF62B-6B71-4A4E-8581-52083534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D0963-3210-43A5-A1DD-C45B8069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AB39E-B0C2-4C3D-8C03-0E9103A9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78171-01AB-4A79-9644-A83FB8BD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0FCB0-83C1-473F-AC2D-3C69D418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7D0-AF06-4934-9735-E1A4AB6E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CBB4C-C466-467D-952D-73DB35BC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8A1FB-CC65-4FB2-A62F-2A4118CF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4FD34-03D7-45C7-8FDB-4EBE609A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26583-3A60-43E7-A588-734F0010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7C231-ADD7-4FCA-88DB-62349576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9334A-E393-456A-ACED-C47CE22D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BB5E7-B97E-4054-AC29-C1322B57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BDCCE-DCD5-41C8-89B7-863FC91C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72B00-0E4E-41BA-8745-F50BBCD7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2BB62-A8BE-4324-8BE3-5E2A5C70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3AA-67F4-4E66-A9A5-71794374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6C823-5ECC-49F4-88AA-810ADF61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DF1CC-3B5A-49AB-B361-4388ED77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F6B10-C92F-4FA6-822F-9A37395E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11120-2036-413C-8E68-68B180BB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63A90-8E6F-4573-8E90-59E143BF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BE638-7A73-408C-B3E3-23300370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0107A-D0E4-4A1B-BACD-1BB6B8AA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2B4E1-598F-446B-9F7A-0A10F6CF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AAC4A-00CA-47F5-8E6F-1C721FA5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4E07F-3B1C-46A9-8C32-C26BA8C2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67F-6E76-4723-A391-A3F3FCF9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558F9-2CB7-4F1E-9D9E-27C58B3E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ECA00-C958-4B56-8FD9-3369AA2F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706D3-3A9B-4CBA-B170-B1D6F8C5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454F2-D091-4A77-990B-E38C2981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18513-C102-4DC7-8C79-D9E365C3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7DA12-07D3-4920-A2C1-F24136ED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B862B-E659-4321-9AE2-C7157185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8C5CE-896A-439B-B1E5-B931E05B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B70F5-6E67-4F3B-981D-9AE21EC1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365CE-7426-492E-9A74-F8174B5F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E36-CBFD-4B20-844F-AF896171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4B482-1FBA-4FCC-B536-89E8638B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288CD-A41E-4745-A1A6-B3E9F2DC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C9DCC-77DE-48FE-91A2-ED36CA02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B85B7-739B-4A8B-A35B-0A420A95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740B7-4C58-4338-9B6C-1B1FC66D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98A6F-CB71-4DBA-BECE-EE18CA28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5854D-22B4-4C55-A28D-888E14BF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E800-167D-44EA-B4B4-3BFD4BAA8E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مثلث متساوي الساقين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E7B6-C543-4324-A057-E2DC088605FB}" type="slidenum">
              <a:rPr b="0" lang="ar-SA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1E88-F6D9-4767-9B5C-4F2D941B6C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ثلث قائم الزاوية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مثلث متساوي الساقين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رابط مستقيم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رابط مستقيم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668E-9B61-4BB6-924C-CE8D1234DFB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CA2C-C6E8-40E2-BC5E-19EF701467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8BC6-53F7-4C50-8D53-C53A010906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A455-D9F2-491A-8019-DD6841DF05E2}" type="slidenum">
              <a:rPr b="0" lang="ar-SA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A9C7-AEF3-42F8-9B97-756C9ACB8833}" type="slidenum"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2548080" y="1695600"/>
            <a:ext cx="3755880" cy="332100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3" descr=""/>
          <p:cNvPicPr/>
          <p:nvPr/>
        </p:nvPicPr>
        <p:blipFill>
          <a:blip r:embed="rId2"/>
          <a:stretch/>
        </p:blipFill>
        <p:spPr>
          <a:xfrm>
            <a:off x="4565520" y="4913280"/>
            <a:ext cx="335304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014560" y="2205000"/>
            <a:ext cx="712944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344160" algn="r" rtl="1">
              <a:lnSpc>
                <a:spcPct val="100000"/>
              </a:lnSpc>
              <a:spcBef>
                <a:spcPts val="75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عتمد على قيام بعض الطحالب الخضراء المزرقة بعملية تثبيت النيتروجين لاحتوائها على الحويصلات المغايرة التي تتم فيها هذه العملية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r" rtl="1">
              <a:lnSpc>
                <a:spcPct val="100000"/>
              </a:lnSpc>
              <a:spcBef>
                <a:spcPts val="75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طحلب </a:t>
            </a:r>
            <a:r>
              <a:rPr b="0" i="1" lang="en-US" sz="3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ostoc</a:t>
            </a:r>
            <a:r>
              <a:rPr b="0" lang="ar-SA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يحتوي على حويصلات مغايرة 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r" rtl="1">
              <a:lnSpc>
                <a:spcPct val="100000"/>
              </a:lnSpc>
              <a:spcBef>
                <a:spcPts val="75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طحلب </a:t>
            </a:r>
            <a:r>
              <a:rPr b="0" i="1" lang="en-US" sz="3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Chlorella</a:t>
            </a:r>
            <a:r>
              <a:rPr b="0" lang="ar-SA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يستخدم للمقارنة لعدم احتوائه على الحويصلات المغايرة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Picture 8" descr="n3"/>
          <p:cNvPicPr/>
          <p:nvPr/>
        </p:nvPicPr>
        <p:blipFill>
          <a:blip r:embed="rId2"/>
          <a:stretch/>
        </p:blipFill>
        <p:spPr>
          <a:xfrm>
            <a:off x="0" y="3645000"/>
            <a:ext cx="248436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-360" y="4436640"/>
            <a:ext cx="3492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بيئة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خالية من النيتروجين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2843280" y="2852640"/>
            <a:ext cx="2376360" cy="1009800"/>
          </a:xfrm>
          <a:prstGeom prst="rightArrow">
            <a:avLst>
              <a:gd name="adj1" fmla="val 50000"/>
              <a:gd name="adj2" fmla="val 58832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5219640" y="2997360"/>
            <a:ext cx="3924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لقح بـ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لم من عينات طحالب معلمة ثم تحضن لمدة أسبوع في درجة حرارة الغرف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9" descr="08-11-31 12-01-57 AM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684360" y="2205000"/>
            <a:ext cx="1584000" cy="1776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0" y="4365360"/>
            <a:ext cx="3851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رج الفلاسكا المحتوية على النمو وتوضع في أنبوبة طرد مركزي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4" descr="91-b"/>
          <p:cNvPicPr/>
          <p:nvPr/>
        </p:nvPicPr>
        <p:blipFill>
          <a:blip r:embed="rId2">
            <a:lum contrast="48000"/>
          </a:blip>
          <a:srcRect l="40559" t="12036" r="40559" b="7328"/>
          <a:stretch/>
        </p:blipFill>
        <p:spPr>
          <a:xfrm>
            <a:off x="971640" y="1916280"/>
            <a:ext cx="863640" cy="244764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5"/>
          <p:cNvSpPr/>
          <p:nvPr/>
        </p:nvSpPr>
        <p:spPr>
          <a:xfrm>
            <a:off x="2627280" y="2565360"/>
            <a:ext cx="3240000" cy="1655640"/>
          </a:xfrm>
          <a:prstGeom prst="rightArrow">
            <a:avLst>
              <a:gd name="adj1" fmla="val 50000"/>
              <a:gd name="adj2" fmla="val 48924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طرد مركزي لمدة ربع ساع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 rot="389400">
            <a:off x="755280" y="1052280"/>
            <a:ext cx="863640" cy="1009440"/>
          </a:xfrm>
          <a:custGeom>
            <a:avLst/>
            <a:gdLst>
              <a:gd name="textAreaLeft" fmla="*/ 151560 w 863640"/>
              <a:gd name="textAreaRight" fmla="*/ 624240 w 86364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80" hR="21600" stAng="10800000" swAng="5400000"/>
                <a:lnTo>
                  <a:pt x="11820" y="0"/>
                </a:lnTo>
                <a:arcTo wR="7580" hR="21600" stAng="-5400000" swAng="2687178"/>
                <a:lnTo>
                  <a:pt x="21166" y="14400"/>
                </a:lnTo>
                <a:lnTo>
                  <a:pt x="17280" y="21600"/>
                </a:lnTo>
                <a:lnTo>
                  <a:pt x="12526" y="14400"/>
                </a:lnTo>
                <a:lnTo>
                  <a:pt x="14726" y="14400"/>
                </a:lnTo>
                <a:arcTo wR="7580" hR="21600" stAng="-2712822" swAng="-2336962"/>
                <a:lnTo>
                  <a:pt x="9700" y="862"/>
                </a:lnTo>
                <a:arcTo wR="7580" hR="21600" stAng="-5750217" swAng="-5049783"/>
                <a:close/>
              </a:path>
              <a:path fill="darkenLess" w="21600" h="21600">
                <a:moveTo>
                  <a:pt x="0" y="21600"/>
                </a:moveTo>
                <a:arcTo wR="7580" hR="21600" stAng="10800000" swAng="5400000"/>
                <a:lnTo>
                  <a:pt x="7580" y="0"/>
                </a:lnTo>
                <a:arcTo wR="7580" hR="21600" stAng="-5400000" swAng="350217"/>
                <a:lnTo>
                  <a:pt x="9700" y="862"/>
                </a:lnTo>
                <a:arcTo wR="7580" hR="21600" stAng="-5750217" swAng="-5049783"/>
                <a:close/>
              </a:path>
            </a:pathLst>
          </a:custGeom>
          <a:solidFill>
            <a:srgbClr val="9dc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5867280" y="2492280"/>
            <a:ext cx="360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تم التخلص من النسيج حيث تجرى عمليات الكشف عن النيتروجين على الراشح فق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0" y="2349360"/>
            <a:ext cx="28432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ؤخذ نقطتان من الوسط البيئي و نقطتان من الكاشف حيث توضع على قالب مخصص للإختبار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2627280" y="2997360"/>
            <a:ext cx="2374920" cy="1295280"/>
          </a:xfrm>
          <a:prstGeom prst="rightArrow">
            <a:avLst>
              <a:gd name="adj1" fmla="val 50000"/>
              <a:gd name="adj2" fmla="val 45838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تيجة تكون على حسب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لون النات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5076720" y="2276640"/>
            <a:ext cx="40672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ول كاشف نسلرإلى </a:t>
            </a:r>
            <a:r>
              <a:rPr b="1" lang="ar-SA" sz="2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لون البرتقالي المصفر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دلالة على وجود </a:t>
            </a:r>
            <a:r>
              <a:rPr b="0" lang="ar-SA" sz="2800" spc="-1" strike="noStrike" u="sng">
                <a:solidFill>
                  <a:srgbClr val="dddddd"/>
                </a:solidFill>
                <a:uFillTx/>
                <a:latin typeface="Times New Roman"/>
                <a:cs typeface="Times New Roman"/>
              </a:rPr>
              <a:t>الأمونيا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ول كاشف حمض السلفانيك إلى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لون الأحمر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دلالة على وجود </a:t>
            </a:r>
            <a:r>
              <a:rPr b="0" lang="ar-SA" sz="2800" spc="-1" strike="noStrike" u="sng">
                <a:solidFill>
                  <a:srgbClr val="dddddd"/>
                </a:solidFill>
                <a:uFillTx/>
                <a:latin typeface="Times New Roman"/>
                <a:cs typeface="Times New Roman"/>
              </a:rPr>
              <a:t>النيتريت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ول كاشف ثنائي فينيل أمين إلى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Times New Roman"/>
              </a:rPr>
              <a:t>اللون الأزرق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دلالة على وجود </a:t>
            </a:r>
            <a:r>
              <a:rPr b="0" lang="ar-SA" sz="2800" spc="-1" strike="noStrike" u="sng">
                <a:solidFill>
                  <a:srgbClr val="dddddd"/>
                </a:solidFill>
                <a:uFillTx/>
                <a:latin typeface="Times New Roman"/>
                <a:cs typeface="Times New Roman"/>
              </a:rPr>
              <a:t>النترات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469800" y="1189080"/>
            <a:ext cx="7997760" cy="11574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-181080" y="2852640"/>
            <a:ext cx="889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إذا لم يعطي الكاشف لونا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2627280" y="3573360"/>
            <a:ext cx="1079640" cy="1081080"/>
          </a:xfrm>
          <a:prstGeom prst="octagon">
            <a:avLst>
              <a:gd name="adj" fmla="val 29287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زر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4067280" y="3716280"/>
            <a:ext cx="1079280" cy="10810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حم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5508720" y="3573360"/>
            <a:ext cx="1079280" cy="10810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تقال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صف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0" name="AutoShape 9"/>
          <p:cNvCxnSpPr>
            <a:stCxn id="369" idx="3"/>
            <a:endCxn id="368" idx="2"/>
          </p:cNvCxnSpPr>
          <p:nvPr/>
        </p:nvCxnSpPr>
        <p:spPr>
          <a:xfrm flipH="1">
            <a:off x="5146560" y="4114440"/>
            <a:ext cx="362520" cy="143640"/>
          </a:xfrm>
          <a:prstGeom prst="straightConnector1">
            <a:avLst/>
          </a:prstGeom>
          <a:ln w="19080">
            <a:solidFill>
              <a:srgbClr val="dddddd"/>
            </a:solidFill>
            <a:miter/>
          </a:ln>
        </p:spPr>
      </p:cxnSp>
      <p:cxnSp>
        <p:nvCxnSpPr>
          <p:cNvPr id="371" name="AutoShape 10"/>
          <p:cNvCxnSpPr>
            <a:stCxn id="367" idx="2"/>
            <a:endCxn id="368" idx="3"/>
          </p:cNvCxnSpPr>
          <p:nvPr/>
        </p:nvCxnSpPr>
        <p:spPr>
          <a:xfrm>
            <a:off x="3706560" y="4114440"/>
            <a:ext cx="361080" cy="143640"/>
          </a:xfrm>
          <a:prstGeom prst="straightConnector1">
            <a:avLst/>
          </a:prstGeom>
          <a:ln w="19080">
            <a:solidFill>
              <a:srgbClr val="dddddd"/>
            </a:solidFill>
            <a:miter/>
          </a:ln>
        </p:spPr>
      </p:cxnSp>
      <p:sp>
        <p:nvSpPr>
          <p:cNvPr id="372" name="Rectangle 11"/>
          <p:cNvSpPr/>
          <p:nvPr/>
        </p:nvSpPr>
        <p:spPr>
          <a:xfrm>
            <a:off x="250920" y="5157720"/>
            <a:ext cx="88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فهذا يعني أن النتيجة سلبية و أن الطحلب </a:t>
            </a:r>
            <a:r>
              <a:rPr b="0" lang="ar-SA" sz="3200" spc="-1" strike="noStrike" u="sng">
                <a:solidFill>
                  <a:srgbClr val="ffccff"/>
                </a:solidFill>
                <a:uFillTx/>
                <a:latin typeface="Times New Roman"/>
                <a:cs typeface="Times New Roman"/>
              </a:rPr>
              <a:t>غير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ثبت للنيتروج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907640" y="2707920"/>
            <a:ext cx="3598920" cy="2376360"/>
          </a:xfrm>
          <a:prstGeom prst="rect">
            <a:avLst/>
          </a:prstGeom>
          <a:noFill/>
          <a:ln w="0">
            <a:noFill/>
          </a:ln>
          <a:effectLst>
            <a:outerShdw dist="81185" dir="7721969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Century Gothic"/>
                <a:cs typeface="Khalid Art bold"/>
              </a:rPr>
              <a:t>نهاية المعمل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Century Gothic"/>
                <a:ea typeface="Khalid Art bold"/>
              </a:rPr>
              <a:t>	</a:t>
            </a:r>
            <a:r>
              <a:rPr b="0" lang="ar-SA" sz="3000" spc="-1" strike="noStrike">
                <a:solidFill>
                  <a:srgbClr val="dddddd"/>
                </a:solidFill>
                <a:latin typeface="Century Gothic"/>
                <a:cs typeface="Khalid Art bold"/>
              </a:rPr>
              <a:t>التاس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4" name="Picture 5" descr="z1%20(102)"/>
          <p:cNvPicPr/>
          <p:nvPr/>
        </p:nvPicPr>
        <p:blipFill>
          <a:blip r:embed="rId1"/>
          <a:stretch/>
        </p:blipFill>
        <p:spPr>
          <a:xfrm>
            <a:off x="3492360" y="4005360"/>
            <a:ext cx="1059120" cy="51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0:02:37Z</dcterms:created>
  <dc:creator>jbroOot</dc:creator>
  <dc:description/>
  <dc:language>en-US</dc:language>
  <cp:lastModifiedBy>w7</cp:lastModifiedBy>
  <dcterms:modified xsi:type="dcterms:W3CDTF">2011-11-18T22:18:46Z</dcterms:modified>
  <cp:revision>17</cp:revision>
  <dc:subject/>
  <dc:title>ا. الجوهرة العباد alalabbad@ksu.edu.sa</dc:title>
</cp:coreProperties>
</file>