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3969-09D4-4655-8A7D-BA10E75EB494}" type="datetime3">
              <a:rPr b="0" lang="ar-SA" sz="1200" spc="-1" strike="noStrike">
                <a:solidFill>
                  <a:srgbClr val="000000"/>
                </a:solidFill>
                <a:latin typeface="Times New Roman"/>
              </a:rPr>
              <a:t>الأربعاء 29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293A-97A7-41E7-958C-E86836FA1C4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47D1-C7BC-469A-9F36-29E365668C09}"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4"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298C-CFF2-48AE-A3FD-12B9442DB555}"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5" name="PlaceHolder 1"/>
          <p:cNvSpPr>
            <a:spLocks noGrp="1"/>
          </p:cNvSpPr>
          <p:nvPr>
            <p:ph type="sldImg"/>
          </p:nvPr>
        </p:nvSpPr>
        <p:spPr>
          <a:xfrm>
            <a:off x="865080" y="739800"/>
            <a:ext cx="4934160" cy="3700440"/>
          </a:xfrm>
          <a:prstGeom prst="rect">
            <a:avLst/>
          </a:prstGeom>
          <a:ln w="0">
            <a:noFill/>
          </a:ln>
        </p:spPr>
      </p:sp>
      <p:sp>
        <p:nvSpPr>
          <p:cNvPr id="146"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5EE9-AE0A-4DF3-AD1C-75C231BA2F1A}"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BB2D-B099-480D-8233-346CD55C9708}"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AA35A-14A9-4460-9DE5-1DCAA18C0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F97F-7FE3-46C1-B718-D1634E27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9A233-AC04-4AFE-B1C3-73CBDC0F5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39ED-F00E-4E43-8961-01F48B03A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D5086-573B-42D9-BB06-8FEA7546E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16300-D3C8-45DA-9DCD-75B9D1F85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B7B01-2F51-4CFD-AE4D-C0CE0C062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366D9-10AD-4449-A3ED-D2E297FA2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0CF91-FBD6-48CB-8D8F-996686A39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50D96-B2AA-4396-B780-B26C7CA2E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31374-1632-461A-9EAA-778444C3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FB4DE-CA41-4AA5-AD4A-F085244D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DD0E5-95B3-44D6-8C51-1E96846A7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2043D-A3AA-43A9-AFBF-D11C1AB54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59EFD-AD81-4307-B5D4-7FAB6601E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449EE-35A9-42AC-A05C-7FF9CC486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FC712-34B8-43E6-BF6A-125986379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34A6-4E69-4728-BFB7-B072B5F16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A0AF-268C-4120-AA45-C341E3A1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628CA-D7CE-417B-8DDC-3C224350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F097-9A0B-4072-8611-047716377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10E29-807E-4A7E-B404-8ADED1FCD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126A-91AC-4A57-8C7B-AFF1A1AA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E9E2-0F25-467C-8CA6-21DD06774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D4F8-9042-4B31-B623-18009FD6668E}"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1CE6-00DF-4773-9872-D15B70A4DF29}"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81000"/>
            <a:ext cx="8153280" cy="2376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Simplified Arabic"/>
              </a:rPr>
              <a:t>التحكم في بيئة الحيوان والنبات</a:t>
            </a:r>
            <a:br>
              <a:rPr sz="4400"/>
            </a:br>
            <a:r>
              <a:rPr b="1" lang="ar-SA" sz="4400" spc="-1" strike="noStrike">
                <a:solidFill>
                  <a:srgbClr val="336699"/>
                </a:solidFill>
                <a:latin typeface="Times New Roman"/>
                <a:ea typeface="Simplified Arabic"/>
              </a:rPr>
              <a:t>351</a:t>
            </a:r>
            <a:r>
              <a:rPr b="1" lang="ar-SA" sz="4400" spc="-1" strike="noStrike">
                <a:solidFill>
                  <a:srgbClr val="336699"/>
                </a:solidFill>
                <a:latin typeface="Times New Roman"/>
                <a:ea typeface="Simplified Arabic"/>
              </a:rPr>
              <a:t> هزر</a:t>
            </a:r>
            <a:br>
              <a:rPr sz="4400"/>
            </a:br>
            <a:br>
              <a:rPr sz="4400"/>
            </a:br>
            <a:r>
              <a:rPr b="1" lang="ar-SA" sz="3600" spc="-1" strike="noStrike">
                <a:solidFill>
                  <a:srgbClr val="ff0000"/>
                </a:solidFill>
                <a:latin typeface="Times New Roman"/>
                <a:cs typeface="Simplified Arabic"/>
              </a:rPr>
              <a:t>المحاضرة الثانية</a:t>
            </a:r>
            <a:endParaRPr b="1" lang="en-US" sz="3600" spc="-1" strike="noStrike">
              <a:solidFill>
                <a:srgbClr val="336699"/>
              </a:solidFill>
              <a:latin typeface="Times New Roman"/>
            </a:endParaRPr>
          </a:p>
        </p:txBody>
      </p:sp>
      <p:sp>
        <p:nvSpPr>
          <p:cNvPr id="92" name="Text Box 5"/>
          <p:cNvSpPr/>
          <p:nvPr/>
        </p:nvSpPr>
        <p:spPr>
          <a:xfrm>
            <a:off x="0" y="450864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Simplified Arabic"/>
              </a:rPr>
              <a:t>د. مجد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459000"/>
            <a:ext cx="8424720" cy="259236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3</a:t>
            </a:r>
            <a:r>
              <a:rPr b="1" lang="ar-SA" sz="2400" spc="-1" strike="noStrike">
                <a:solidFill>
                  <a:srgbClr val="003399"/>
                </a:solidFill>
                <a:latin typeface="Times New Roman"/>
                <a:ea typeface="Simplified Arabic"/>
              </a:rPr>
              <a:t>- غاز كبريتيد الهيدروجين:</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غاز كبريتيد الهيدروجين اثقل من الهواء ولا لون له، كما أن له رائحة تشبه رائحة البيض الفاسد. وتعتبر الحدود الآمنة التي يوصى بها في الصناعة لكبريتيدات الهيدروجين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جزءًا في المليون. </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4</a:t>
            </a:r>
            <a:r>
              <a:rPr b="1" lang="ar-SA" sz="2400" spc="-1" strike="noStrike">
                <a:solidFill>
                  <a:srgbClr val="003399"/>
                </a:solidFill>
                <a:latin typeface="Times New Roman"/>
                <a:ea typeface="Simplified Arabic"/>
              </a:rPr>
              <a:t>- غاز الأمونيا:</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الأمونيا من الغازات ذات الرائحة النفاذة، كما أن ليس له لون، ويعتبر من الغازات الأخف وزناً من الهواء، كما أنه قابل للذوبان في الماء. وتعتبر الحدود الآمنة التي يوصى بها في الصناعة للأمونيا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جزءًا في المليون . ولا يزيد تركيز الأمونيا في الهواء في معظم مباني الإنتاج الحيواني ذات التهوية الجيدة على </a:t>
            </a:r>
            <a:r>
              <a:rPr b="1" lang="ar-SA" sz="2400" spc="-1" strike="noStrike">
                <a:solidFill>
                  <a:srgbClr val="007373"/>
                </a:solidFill>
                <a:latin typeface="Times New Roman"/>
                <a:ea typeface="Simplified Arabic"/>
              </a:rPr>
              <a:t>14</a:t>
            </a:r>
            <a:r>
              <a:rPr b="1" lang="ar-SA" sz="2400" spc="-1" strike="noStrike">
                <a:solidFill>
                  <a:srgbClr val="007373"/>
                </a:solidFill>
                <a:latin typeface="Times New Roman"/>
                <a:ea typeface="Simplified Arabic"/>
              </a:rPr>
              <a:t> جزءًا في المليون . وقد تسبب كل من الأمونيا وكبريتيدات الهيدروجين فقداناً للشهية للحيوانات، وبالتالي انخفاض الإنتاجية. وقد ارتبطت تأثيرات الأمونيا بخفض النضوج الجنسي، وكبريتيدات الهيدروجين بزيادة معدلات الإجهاض. ويبدأ تأثر العجول الصغيرة بكبريتيدات الهيدروجين عند تراكيز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جزءًا في المليون، والأمونيا عند تركيز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جزءًا في المليون. وتسبب زيادة تركيز الأمونيا عن </a:t>
            </a:r>
            <a:r>
              <a:rPr b="1" lang="ar-SA" sz="2400" spc="-1" strike="noStrike">
                <a:solidFill>
                  <a:srgbClr val="007373"/>
                </a:solidFill>
                <a:latin typeface="Times New Roman"/>
                <a:ea typeface="Simplified Arabic"/>
              </a:rPr>
              <a:t>100</a:t>
            </a:r>
            <a:r>
              <a:rPr b="1" lang="ar-SA" sz="2400" spc="-1" strike="noStrike">
                <a:solidFill>
                  <a:srgbClr val="007373"/>
                </a:solidFill>
                <a:latin typeface="Times New Roman"/>
                <a:ea typeface="Simplified Arabic"/>
              </a:rPr>
              <a:t> جزء في المليون إلى انخفاض في معدل النمو.</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17172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بيوت المحمية هي عبارة عن منشأة لتهيئة البيئة المناسبة لنمو العديد من النباتات خلال أي فصل من فصول السنة وذلك من خلال التحكم في مقدار الإشعاع الشمسي (الضوء) ودرجة الحرارة ومستوى الرطوبة ومعـدل التهوية وتركيز ثاني أكسيد الكربون. </a:t>
            </a:r>
            <a:endParaRPr b="0" lang="en-US" sz="24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 ما يلي:</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1</a:t>
            </a:r>
            <a:r>
              <a:rPr b="1" lang="ar-SA" sz="2400" spc="-1" strike="noStrike">
                <a:solidFill>
                  <a:srgbClr val="ff0000"/>
                </a:solidFill>
                <a:latin typeface="Times New Roman"/>
                <a:ea typeface="Simplified Arabic"/>
              </a:rPr>
              <a:t> - الضوء</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ضوء المرئي (الأحمر والأزرق) هو المصدر الرئيسي للطاقة الأساسية اللازمة لعملية التمثيل الضوئي. ويعتبر غاز ثاني أكسيد الكربون مع الماء هما المتطلبان الرئيسيان لعملية التمثيل الضوئي في وجود أشعة الشمس . محاصيل البيوت المحمية ممكن أن تُصنف على أنها نباتات شمس أو ظل . نباتات الشمس تستطيع النمو في بيئة ذات إشعاع شمسي كامل، بينما نباتات الظل ممكن أن تذبل بسرعة إذا عُرضت لمستويات عالية من الإشعاع الشمسي.</a:t>
            </a:r>
            <a:endParaRPr b="0" lang="en-US" sz="2400" spc="-1" strike="noStrike">
              <a:solidFill>
                <a:srgbClr val="009999"/>
              </a:solidFill>
              <a:latin typeface="Times New Roman"/>
            </a:endParaRPr>
          </a:p>
          <a:p>
            <a:pPr marL="174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2</a:t>
            </a:r>
            <a:r>
              <a:rPr b="1" lang="ar-SA" sz="2400" spc="-1" strike="noStrike">
                <a:solidFill>
                  <a:srgbClr val="ff0000"/>
                </a:solidFill>
                <a:latin typeface="Times New Roman"/>
                <a:ea typeface="Simplified Arabic"/>
              </a:rPr>
              <a:t>- درجة الحرارة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ؤثر درجة الحرارة تأثيراً كبيراً في النباتات، فهي تؤثر على كافة العمليات الفسيولوجية التي تحدث في النبات مثل عمليات الامتصاص والنتح والتنفس والبناء الضوئي.  تؤدي زيادة درجة الحرارة إلى زيادة معدل التنفس، ويؤدي انخفاض درجة الحرارة إلى خفض معدل التنفس حتى يتوقف. وبصورة عامة فإن درجة الحرارة المثلى لعمليات التنفس أعلى منها لعمليات التمثيل الضوئي .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زداد معدل نتح النباتات داخل البيت المحمي مع زيادة درجة حرارة الهواء المحيط بالمجموع الخضري. من جهة أخرى تتأثر درجة حرارة النبات بكل من: طاقة الإشعاع الشمسي، انتقال الحرارة من الهواء المحيط بالنبات والنتح من سطح النبات.  محاصيل البيوت المحمية تنمو عند درجات حرارة في النهار تتراوح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8</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ar-SA" sz="2400" spc="-1" strike="noStrike">
                <a:solidFill>
                  <a:srgbClr val="007373"/>
                </a:solidFill>
                <a:latin typeface="Times New Roman"/>
                <a:cs typeface="Simplified Arabic"/>
              </a:rPr>
              <a:t>م ودرجة الحرارة في الليل تتراوح بين </a:t>
            </a:r>
            <a:r>
              <a:rPr b="1" lang="ar-SA" sz="2400" spc="-1" strike="noStrike">
                <a:solidFill>
                  <a:srgbClr val="007373"/>
                </a:solidFill>
                <a:latin typeface="Times New Roman"/>
                <a:ea typeface="Simplified Arabic"/>
              </a:rPr>
              <a:t>17</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0</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م. </a:t>
            </a:r>
            <a:endParaRPr b="0" lang="en-US" sz="2400" spc="-1" strike="noStrike">
              <a:solidFill>
                <a:srgbClr val="009999"/>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27360"/>
            <a:ext cx="8424720" cy="2592360"/>
          </a:xfrm>
          <a:prstGeom prst="rect">
            <a:avLst/>
          </a:prstGeom>
          <a:noFill/>
          <a:ln w="0">
            <a:noFill/>
          </a:ln>
        </p:spPr>
        <p:txBody>
          <a:bodyPr lIns="92160" rIns="92160" tIns="46080" bIns="46080" anchor="t">
            <a:normAutofit fontScale="47000"/>
          </a:bodyPr>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09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هم غازات الهواء ذات التأثير البيئي على النباتات هما الأكسجين وثاني أكسيد الكربون، فالأكسجين ضروري لعملية التنفس، وثاني أكسيد الكربون مهم لعملية التمثيل الضوئي المنتجة للطاقة اللازمة لنمو النبات. ونظراً لأن كمية الأكسجين في الهواء عالية فإن التغيرات التي يمكن أن تطرأ على كميته في الهواء ليست لها أهمية بيئية كبيرة على النباتات.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ما بالنسبة لغاز ثاني أكسيد الكربون فإن أي تغير في كميته يؤثر تأثيراً بالغاً على معدل التمثيل الضوئي. يبلغ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في الهواء الخارجـي حوالي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غاز ثاني أكسيد الكربون يكون عادة ذو كمية محدودة في بيئة البيوت المحمية المغلقة جيداً، حيث يكون تركيز ثاني أكسيد الكربون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قبل طلوع الشمس. هذا المعدل ينخفض إلى حوالي </a:t>
            </a:r>
            <a:r>
              <a:rPr b="1" lang="ar-SA" sz="2400" spc="-1" strike="noStrike">
                <a:solidFill>
                  <a:srgbClr val="007373"/>
                </a:solidFill>
                <a:latin typeface="Times New Roman"/>
                <a:ea typeface="Simplified Arabic"/>
              </a:rPr>
              <a:t>150</a:t>
            </a:r>
            <a:r>
              <a:rPr b="1" lang="ar-SA" sz="2400" spc="-1" strike="noStrike">
                <a:solidFill>
                  <a:srgbClr val="007373"/>
                </a:solidFill>
                <a:latin typeface="Times New Roman"/>
                <a:ea typeface="Simplified Arabic"/>
              </a:rPr>
              <a:t> جزء في المليون بعد طلوع الشمس بقليل نظرا لاستهلاك جزء كبير منه في عملية التمثيل الضوئي بوجود الضوء. </a:t>
            </a:r>
            <a:endParaRPr b="0" lang="en-US" sz="2400" spc="-1" strike="noStrike">
              <a:solidFill>
                <a:srgbClr val="009999"/>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0000"/>
          </a:bodyPr>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1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تركيز </a:t>
            </a:r>
            <a:r>
              <a:rPr b="1" lang="ar-SA" sz="2400" spc="-1" strike="noStrike">
                <a:solidFill>
                  <a:srgbClr val="007373"/>
                </a:solidFill>
                <a:latin typeface="Times New Roman"/>
                <a:ea typeface="Simplified Arabic"/>
              </a:rPr>
              <a:t>300</a:t>
            </a:r>
            <a:r>
              <a:rPr b="1" lang="ar-SA" sz="2400" spc="-1" strike="noStrike">
                <a:solidFill>
                  <a:srgbClr val="007373"/>
                </a:solidFill>
                <a:latin typeface="Times New Roman"/>
                <a:ea typeface="Simplified Arabic"/>
              </a:rPr>
              <a:t> جزء في المليون من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كافياً لنمو النباتات.  خفض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خلال النهار يرجع إلى استهلاكه بواسطة النباتات. قد تكون هذه مشكلة كبيرة بالنسبة لنباتات البيوت المحمية خلال فصل الشتاء، حيث أن البيوت المحمية تكون مغلقة أو مغلقة جزئياً (مستوى التهوية قليل) مما يعني أن مست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وف ينقص مما يؤثر على نمو النباتات. هذا النقص ممكن أن يلاحظ بشدة داخل غطاء النبات.  خلط الهواء فوق غطاء النبات مع الهواء داخله يُساعد على إحداث حل جزئي لهذه المشكلة. في حالات العجز القص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ممكن أن يتم حقنه داخل البيوت المحمية عن طريق اشتعال البروبين أو الكيروسين بواسطة أجهزة خاصة.  يفضل أن يضاف ثاني أكسيد الكربون قبل شروق الشمس حتى يكون تركيزه جيدا قبل بدء عملية التمثيل الضوئي.</a:t>
            </a:r>
            <a:endParaRPr b="0" lang="en-US" sz="2400" spc="-1" strike="noStrike">
              <a:solidFill>
                <a:srgbClr val="0099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549000"/>
            <a:ext cx="8424720" cy="2592360"/>
          </a:xfrm>
          <a:prstGeom prst="rect">
            <a:avLst/>
          </a:prstGeom>
          <a:noFill/>
          <a:ln w="0">
            <a:noFill/>
          </a:ln>
        </p:spPr>
        <p:txBody>
          <a:bodyPr lIns="92160" rIns="92160" tIns="46080" bIns="46080" anchor="t">
            <a:normAutofit fontScale="61000"/>
          </a:bodyPr>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09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4</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الرطوبة النسبية</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نمو الطبيعي للنبات داخل البيوت المحمية يحدث عند رطوبة نسبية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80</a:t>
            </a:r>
            <a:r>
              <a:rPr b="1" lang="ar-SA" sz="2400" spc="-1" strike="noStrike">
                <a:solidFill>
                  <a:srgbClr val="007373"/>
                </a:solidFill>
                <a:latin typeface="Times New Roman"/>
                <a:ea typeface="Simplified Arabic"/>
              </a:rPr>
              <a:t>%. الانخفاض الحاد في الرطوبة النسبية للهواء المحيط بالنباتات يزيد من البخر بمعدل أكبر من قدرة النبات على استعادة الماء المفقود مما ينتج عنه الذبول، كما أن زيادة الرطوبة النسبية تؤدي إلى زيادة فرصة الإصابة بالأمراض الفطرية. يتكون بخار الماء داخل البيوت المحمية نتيجة لعملية النتح من النباتات والتبخر من سطح التربة.  كما أن أجهزة التبريد التبخري مثل اللباد والرذاذ يعتبران من مصادر إضافة بخار الماء داخل البيوت المحمية. </a:t>
            </a:r>
            <a:endParaRPr b="0" lang="en-US" sz="2400" spc="-1" strike="noStrike">
              <a:solidFill>
                <a:srgbClr val="009999"/>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8864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5</a:t>
            </a:r>
            <a:r>
              <a:rPr b="1" lang="ar-SA" sz="2400" spc="-1" strike="noStrike">
                <a:solidFill>
                  <a:srgbClr val="ff0000"/>
                </a:solidFill>
                <a:latin typeface="Times New Roman"/>
                <a:ea typeface="Simplified Arabic"/>
              </a:rPr>
              <a:t>- سرعة الهواء</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سرعة الهواء داخل البيت المحمي لها تأثير مهم على بعض العوامل المؤثرة على نمو النباتات داخل البيت المحمي مثل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النتح والبخر: حيث أن زيادة سرعة الهواء حول النباتات يزيد من معدل التبخر والنتح من أوراق النباتات.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2</a:t>
            </a:r>
            <a:r>
              <a:rPr b="1" lang="ar-SA" sz="2400" spc="-1" strike="noStrike">
                <a:solidFill>
                  <a:srgbClr val="007373"/>
                </a:solidFill>
                <a:latin typeface="Times New Roman"/>
                <a:ea typeface="Simplified Arabic"/>
              </a:rPr>
              <a:t> -  درجة حرارة الورقة: سرعة الهواء تؤثر على معدل انتقال الحرارة بالحمل بين أوراق النباتات والهواء المحيط.</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3</a:t>
            </a:r>
            <a:r>
              <a:rPr b="1" lang="ar-SA" sz="2400" spc="-1" strike="noStrike">
                <a:solidFill>
                  <a:srgbClr val="007373"/>
                </a:solidFill>
                <a:latin typeface="Times New Roman"/>
                <a:ea typeface="Simplified Arabic"/>
              </a:rPr>
              <a:t> -  وجود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رعة الهواء داخل البيت المحمي لها تأثير مهم على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حيث أن حركة الهواء حول أوراق النباتات بسرع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م/ث تسهل عملية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259920"/>
            <a:ext cx="8424720" cy="2592360"/>
          </a:xfrm>
          <a:prstGeom prst="rect">
            <a:avLst/>
          </a:prstGeom>
          <a:noFill/>
          <a:ln w="0">
            <a:noFill/>
          </a:ln>
        </p:spPr>
        <p:txBody>
          <a:bodyPr lIns="92160" rIns="92160" tIns="46080" bIns="46080" anchor="t">
            <a:normAutofit fontScale="56000"/>
          </a:bodyPr>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ff0000"/>
                </a:solidFill>
                <a:latin typeface="Times New Roman"/>
                <a:ea typeface="Simplified Arabic"/>
              </a:rPr>
              <a:t>6</a:t>
            </a:r>
            <a:r>
              <a:rPr b="1" lang="ar-SA" sz="2400" spc="-1" strike="noStrike">
                <a:solidFill>
                  <a:srgbClr val="ff0000"/>
                </a:solidFill>
                <a:latin typeface="Times New Roman"/>
                <a:ea typeface="Simplified Arabic"/>
              </a:rPr>
              <a:t> -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وجود الملوثات</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من أكثر الملوثات شيوعاً في البيوت المحمية هي الأكاسيد والإيثيلين وأكسيد السلفر والفلورايد والأمونيا والمبيدات الحشرية. أكسيد السلفر ينتج خلال عملية احتراق الوقود المستخدم للسلفر. التعرض لهذا الغاز بمعدلات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لمد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7</a:t>
            </a:r>
            <a:r>
              <a:rPr b="1" lang="ar-SA" sz="2400" spc="-1" strike="noStrike">
                <a:solidFill>
                  <a:srgbClr val="007373"/>
                </a:solidFill>
                <a:latin typeface="Times New Roman"/>
                <a:ea typeface="Simplified Arabic"/>
              </a:rPr>
              <a:t> ساعات يسبب احتراق لمعظم النباتات. كذلك بخار الزئبق ممكن أن يكون حارق للنباتات عند مستويات منخفضة . والايثيلين يحدث مع غازات العادم الناتجة من آلات الإحراق الداخلي وإحراق الفحم. والنباتات حساسة جدا للايثيلين ويظهر ذلك حتى عند تركيزات أقل من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ولذلك فانه من الواجب أن تتم عملية التهوية بسرعة في حالة وجود هذا الغازات.</a:t>
            </a:r>
            <a:endParaRPr b="0" lang="en-US" sz="2400" spc="-1" strike="noStrike">
              <a:solidFill>
                <a:srgbClr val="009999"/>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2" name="Picture 6" descr="Poultry-Evaporative-Cooling-Pad-CCC-Certificate-"/>
          <p:cNvPicPr/>
          <p:nvPr/>
        </p:nvPicPr>
        <p:blipFill>
          <a:blip r:embed="rId1"/>
          <a:stretch/>
        </p:blipFill>
        <p:spPr>
          <a:xfrm>
            <a:off x="4716360" y="1924200"/>
            <a:ext cx="4248360" cy="3136680"/>
          </a:xfrm>
          <a:prstGeom prst="rect">
            <a:avLst/>
          </a:prstGeom>
          <a:ln w="0">
            <a:noFill/>
          </a:ln>
        </p:spPr>
      </p:pic>
      <p:pic>
        <p:nvPicPr>
          <p:cNvPr id="113" name="Picture 7" descr="2"/>
          <p:cNvPicPr/>
          <p:nvPr/>
        </p:nvPicPr>
        <p:blipFill>
          <a:blip r:embed="rId2"/>
          <a:stretch/>
        </p:blipFill>
        <p:spPr>
          <a:xfrm>
            <a:off x="179280" y="1938240"/>
            <a:ext cx="4248360" cy="318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5"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padn"/>
          <p:cNvPicPr/>
          <p:nvPr/>
        </p:nvPicPr>
        <p:blipFill>
          <a:blip r:embed="rId1"/>
          <a:stretch/>
        </p:blipFill>
        <p:spPr>
          <a:xfrm>
            <a:off x="2736720" y="1862280"/>
            <a:ext cx="3670560" cy="3133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7640" y="-36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000"/>
                </a:solidFill>
                <a:latin typeface="Estrangelo Edessa"/>
                <a:cs typeface="Simplified Arabic"/>
              </a:rPr>
              <a:t>تعريف البيئة</a:t>
            </a:r>
            <a:endParaRPr b="1" lang="en-US" sz="32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63000"/>
          </a:bodyPr>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البيئة</a:t>
            </a:r>
            <a:r>
              <a:rPr b="1" lang="ar-SA" sz="2400" spc="-1" strike="noStrike">
                <a:solidFill>
                  <a:srgbClr val="007373"/>
                </a:solidFill>
                <a:latin typeface="Times New Roman"/>
                <a:ea typeface="Simplified Arabic"/>
              </a:rPr>
              <a:t> هي عبارة عن جميع الظروف والعوامل التي تحيط بالكائن الحي وتؤثر فيه. وفي مجال بيئة الحيوان والنبات داخل المباني الزراعية تشتمل هذه العوامل على:</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درجة الحرار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رطوب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مستوى بعض الغازات مثل غاز الأمونيا وغاز ثاني أكسيد الكربون.</a:t>
            </a:r>
            <a:endParaRPr b="0" lang="en-US" sz="2400" spc="-1" strike="noStrike">
              <a:solidFill>
                <a:srgbClr val="009999"/>
              </a:solidFill>
              <a:latin typeface="Times New Roman"/>
            </a:endParaRPr>
          </a:p>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Simplified Arabic"/>
              </a:rPr>
              <a:t>      </a:t>
            </a:r>
            <a:r>
              <a:rPr b="1" lang="ar-SA" sz="2400" spc="-1" strike="noStrike">
                <a:solidFill>
                  <a:srgbClr val="0070c0"/>
                </a:solidFill>
                <a:latin typeface="Times New Roman"/>
                <a:ea typeface="Simplified Arabic"/>
              </a:rPr>
              <a:t>	</a:t>
            </a:r>
            <a:r>
              <a:rPr b="1" lang="ar-SA" sz="2400" spc="-1" strike="noStrike">
                <a:solidFill>
                  <a:srgbClr val="ff0000"/>
                </a:solidFill>
                <a:latin typeface="Times New Roman"/>
                <a:cs typeface="Simplified Arabic"/>
              </a:rPr>
              <a:t>ويتم التحكم في بيئة الحيوان والنبات عن طريق ما يلي:</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هوية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دفئة في الشتاء أو التبريد في الصيف.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400" spc="-1" strike="noStrike">
              <a:solidFill>
                <a:srgbClr val="009999"/>
              </a:solidFill>
              <a:latin typeface="Times New Roman"/>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6" descr="cooling_pad_for_poultry_greenhouse_201111517636713_s"/>
          <p:cNvPicPr/>
          <p:nvPr/>
        </p:nvPicPr>
        <p:blipFill>
          <a:blip r:embed="rId1"/>
          <a:stretch/>
        </p:blipFill>
        <p:spPr>
          <a:xfrm>
            <a:off x="2684520" y="1108080"/>
            <a:ext cx="3616200" cy="3616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pad%20cool%201(1)"/>
          <p:cNvPicPr/>
          <p:nvPr/>
        </p:nvPicPr>
        <p:blipFill>
          <a:blip r:embed="rId1"/>
          <a:stretch/>
        </p:blipFill>
        <p:spPr>
          <a:xfrm>
            <a:off x="1692360" y="1106640"/>
            <a:ext cx="5256000" cy="394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4"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6" descr="DSC01581"/>
          <p:cNvPicPr/>
          <p:nvPr/>
        </p:nvPicPr>
        <p:blipFill>
          <a:blip r:embed="rId1"/>
          <a:stretch/>
        </p:blipFill>
        <p:spPr>
          <a:xfrm>
            <a:off x="1371600" y="380880"/>
            <a:ext cx="6008760" cy="450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7"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DSC00040"/>
          <p:cNvPicPr/>
          <p:nvPr/>
        </p:nvPicPr>
        <p:blipFill>
          <a:blip r:embed="rId1"/>
          <a:stretch/>
        </p:blipFill>
        <p:spPr>
          <a:xfrm>
            <a:off x="900000" y="387360"/>
            <a:ext cx="6696360" cy="502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0"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6" descr="DSC01574"/>
          <p:cNvPicPr/>
          <p:nvPr/>
        </p:nvPicPr>
        <p:blipFill>
          <a:blip r:embed="rId1"/>
          <a:stretch/>
        </p:blipFill>
        <p:spPr>
          <a:xfrm>
            <a:off x="1476360" y="380880"/>
            <a:ext cx="5719680" cy="428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3"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poultry b"/>
          <p:cNvPicPr/>
          <p:nvPr/>
        </p:nvPicPr>
        <p:blipFill>
          <a:blip r:embed="rId1"/>
          <a:stretch/>
        </p:blipFill>
        <p:spPr>
          <a:xfrm>
            <a:off x="1781280" y="1719360"/>
            <a:ext cx="5581440" cy="341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6"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7" name="Picture 6" descr="bannerin"/>
          <p:cNvPicPr/>
          <p:nvPr/>
        </p:nvPicPr>
        <p:blipFill>
          <a:blip r:embed="rId1"/>
          <a:stretch/>
        </p:blipFill>
        <p:spPr>
          <a:xfrm>
            <a:off x="412920" y="1968480"/>
            <a:ext cx="8318160" cy="2921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9" name="Picture 6" descr="untitled"/>
          <p:cNvPicPr/>
          <p:nvPr/>
        </p:nvPicPr>
        <p:blipFill>
          <a:blip r:embed="rId1"/>
          <a:stretch/>
        </p:blipFill>
        <p:spPr>
          <a:xfrm>
            <a:off x="2484360" y="333360"/>
            <a:ext cx="4208400" cy="5616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5084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99"/>
                </a:solidFill>
                <a:latin typeface="Times New Roman"/>
              </a:rPr>
              <a:t>Green house</a:t>
            </a:r>
            <a:br>
              <a:rPr sz="2400"/>
            </a:br>
            <a:r>
              <a:rPr b="1" lang="en-US" sz="2400" spc="-1" strike="noStrike">
                <a:solidFill>
                  <a:srgbClr val="336699"/>
                </a:solidFill>
                <a:latin typeface="Times New Roman"/>
              </a:rPr>
              <a:t>http://www.youtube.com/watch?v=8Fl0RTQinno</a:t>
            </a:r>
            <a:br>
              <a:rPr sz="2400"/>
            </a:br>
            <a:br>
              <a:rPr sz="2400"/>
            </a:br>
            <a:r>
              <a:rPr b="1" lang="en-US" sz="2400" spc="-1" strike="noStrike">
                <a:solidFill>
                  <a:srgbClr val="336699"/>
                </a:solidFill>
                <a:latin typeface="Times New Roman"/>
              </a:rPr>
              <a:t>Almarai factory</a:t>
            </a:r>
            <a:br>
              <a:rPr sz="2400"/>
            </a:br>
            <a:br>
              <a:rPr sz="2400"/>
            </a:br>
            <a:r>
              <a:rPr b="1" lang="en-US" sz="2400" spc="-1" strike="noStrike">
                <a:solidFill>
                  <a:srgbClr val="336699"/>
                </a:solidFill>
                <a:latin typeface="Times New Roman"/>
              </a:rPr>
              <a:t>http://www.youtube.com/watch?v=KB9mhRgshpk</a:t>
            </a:r>
            <a:br>
              <a:rPr sz="2400"/>
            </a:br>
            <a:br>
              <a:rPr sz="2400"/>
            </a:br>
            <a:endParaRPr b="1" lang="en-US" sz="2400" spc="-1" strike="noStrike">
              <a:solidFill>
                <a:srgbClr val="336699"/>
              </a:solidFill>
              <a:latin typeface="Times New Roman"/>
            </a:endParaRPr>
          </a:p>
        </p:txBody>
      </p:sp>
      <p:sp>
        <p:nvSpPr>
          <p:cNvPr id="14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42" name="Picture 5" descr="Poultry-houses-cooling-system"/>
          <p:cNvPicPr/>
          <p:nvPr/>
        </p:nvPicPr>
        <p:blipFill>
          <a:blip r:embed="rId1"/>
          <a:stretch/>
        </p:blipFill>
        <p:spPr>
          <a:xfrm>
            <a:off x="2300400" y="692280"/>
            <a:ext cx="4719600" cy="35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2000"/>
          </a:bodyPr>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لا يعتبر التحكم في درجة حرارة الوسط في المراحل النهائية من التربية على نفس الدرجة من الأهمية كما في مباني الحيوانات حديثة الولادة والتي تعتبر بوجه عام من أكثر الحيوانات تأثراً بدرجة حرارة الوسط.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وجد لدى الماشية والدواجن درجات حرارة حرجة أقل بكثير من الحيوانات حديثة الولادة. فعلى سبيل المثال تعتبر درجة حرارة </a:t>
            </a:r>
            <a:r>
              <a:rPr b="1" lang="ar-SA" sz="2400" spc="-1" strike="noStrike">
                <a:solidFill>
                  <a:srgbClr val="007373"/>
                </a:solidFill>
                <a:latin typeface="Times New Roman"/>
                <a:ea typeface="Simplified Arabic"/>
              </a:rPr>
              <a:t>26</a:t>
            </a:r>
            <a:r>
              <a:rPr b="1" lang="ar-SA" sz="2400" spc="-1" strike="noStrike">
                <a:solidFill>
                  <a:srgbClr val="007373"/>
                </a:solidFill>
                <a:latin typeface="Times New Roman"/>
                <a:ea typeface="Simplified Arabic"/>
              </a:rPr>
              <a:t>°م درجة حرارة حرجة صغرى بالنسبة للأغنام حديثة الولادة. وتنخفض هذه الدرجة إلى </a:t>
            </a:r>
            <a:r>
              <a:rPr b="1" lang="ar-SA" sz="2400" spc="-1" strike="noStrike">
                <a:solidFill>
                  <a:srgbClr val="007373"/>
                </a:solidFill>
                <a:latin typeface="Times New Roman"/>
                <a:ea typeface="Simplified Arabic"/>
              </a:rPr>
              <a:t>16</a:t>
            </a:r>
            <a:r>
              <a:rPr b="1" lang="ar-SA" sz="2400" spc="-1" strike="noStrike">
                <a:solidFill>
                  <a:srgbClr val="007373"/>
                </a:solidFill>
                <a:latin typeface="Times New Roman"/>
                <a:ea typeface="Simplified Arabic"/>
              </a:rPr>
              <a:t>°م في حالة جفاف الجسم الخارجي للغنم.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كون درجة الحرارة الحرجة الصغرى للعجل حديث الولادة والذي لا يتجاوز عمره ثلاثة أيام </a:t>
            </a:r>
            <a:r>
              <a:rPr b="1" lang="ar-SA" sz="2400" spc="-1" strike="noStrike">
                <a:solidFill>
                  <a:srgbClr val="007373"/>
                </a:solidFill>
                <a:latin typeface="Times New Roman"/>
                <a:ea typeface="Simplified Arabic"/>
              </a:rPr>
              <a:t>13</a:t>
            </a:r>
            <a:r>
              <a:rPr b="1" lang="ar-SA" sz="2400" spc="-1" strike="noStrike">
                <a:solidFill>
                  <a:srgbClr val="007373"/>
                </a:solidFill>
                <a:latin typeface="Times New Roman"/>
                <a:ea typeface="Simplified Arabic"/>
              </a:rPr>
              <a:t>°م. وتنخفض هذه الدرجة عن كل يوم زيادة في العمر حتى تصل إلى </a:t>
            </a:r>
            <a:r>
              <a:rPr b="1" lang="ar-SA" sz="2400" spc="-1" strike="noStrike">
                <a:solidFill>
                  <a:srgbClr val="007373"/>
                </a:solidFill>
                <a:latin typeface="Times New Roman"/>
                <a:ea typeface="Simplified Arabic"/>
              </a:rPr>
              <a:t>11</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أيام؛ و </a:t>
            </a:r>
            <a:r>
              <a:rPr b="1" lang="ar-SA" sz="2400" spc="-1" strike="noStrike">
                <a:solidFill>
                  <a:srgbClr val="007373"/>
                </a:solidFill>
                <a:latin typeface="Times New Roman"/>
                <a:ea typeface="Simplified Arabic"/>
              </a:rPr>
              <a:t>8</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أسبوعاً؛ و </a:t>
            </a:r>
            <a:r>
              <a:rPr b="1" lang="ar-SA" sz="2400" spc="-1" strike="noStrike">
                <a:solidFill>
                  <a:srgbClr val="007373"/>
                </a:solidFill>
                <a:latin typeface="Times New Roman"/>
                <a:ea typeface="Simplified Arabic"/>
              </a:rPr>
              <a:t>6</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أسبوعاً.</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الدواجن الصغيرة التي يتم تربيتها عند درجة حرارة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م خلال الثلاث أسابيع الأولى تنمو بكفاءة أعلى عن نظائرها التي يتم تربيتها عند </a:t>
            </a:r>
            <a:r>
              <a:rPr b="1" lang="ar-SA" sz="2400" spc="-1" strike="noStrike">
                <a:solidFill>
                  <a:srgbClr val="007373"/>
                </a:solidFill>
                <a:latin typeface="Times New Roman"/>
                <a:ea typeface="Simplified Arabic"/>
              </a:rPr>
              <a:t>27</a:t>
            </a:r>
            <a:r>
              <a:rPr b="1" lang="ar-SA" sz="2400" spc="-1" strike="noStrike">
                <a:solidFill>
                  <a:srgbClr val="007373"/>
                </a:solidFill>
                <a:latin typeface="Times New Roman"/>
                <a:ea typeface="Simplified Arabic"/>
              </a:rPr>
              <a:t>°م.</a:t>
            </a:r>
            <a:endParaRPr b="0" lang="en-US" sz="24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91920"/>
            <a:ext cx="8424720" cy="2592360"/>
          </a:xfrm>
          <a:prstGeom prst="rect">
            <a:avLst/>
          </a:prstGeom>
          <a:noFill/>
          <a:ln w="0">
            <a:noFill/>
          </a:ln>
        </p:spPr>
        <p:txBody>
          <a:bodyPr lIns="92160" rIns="92160" tIns="46080" bIns="46080" anchor="t">
            <a:normAutofit fontScale="56000"/>
          </a:bodyPr>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91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يتم التحكم في درجات حرارة الوسط المرتفعة باستخدام نظام التهوية والتبريد الذي يعمل على خفض درجة الحرارة داخل المبنى عند درجات أقل من درجة الحرارة الخارجية. ويبدو أن أقصى درجة حرارة مقبولة للإنتاج بالنسبة للحيوانات الناضجة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مكن أن تزداد درجة الحرارة القصوى ع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لفترات قصيرة نظراً لإمكانية حدوث تعويض للنمو بعد تخطي مرحلة الإجهاد الحراري.</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م تقدير مدى درجة الحرارة المقبولة بالنسبة للماشية الحلابة ما بين </a:t>
            </a:r>
            <a:r>
              <a:rPr b="1" lang="ar-SA" sz="2400" spc="-1" strike="noStrike">
                <a:solidFill>
                  <a:srgbClr val="007373"/>
                </a:solidFill>
                <a:latin typeface="Times New Roman"/>
                <a:ea typeface="Simplified Arabic"/>
              </a:rPr>
              <a:t>4</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نخفض معدل الإنتاج اليومي من الحليب إذا ارتفعت درجة حرارة الوسط إلى مستوى أعلى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عتبر درجات حرارة الوسط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م انسب درجات حرارة للحصول على أعلى كفاءة بالنسبة للدواجن المخصصة لإنتاج</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بيض.</a:t>
            </a:r>
            <a:endParaRPr b="0" lang="en-US" sz="24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5000"/>
          </a:bodyPr>
          <a:p>
            <a:pPr marL="188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88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الرطوبة على الحيوان الزراعي</a:t>
            </a:r>
            <a:endParaRPr b="0" lang="en-US" sz="28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عموما يمكن القول بأن التغير في الرطوبة لا يؤثر على نمو الحيوان عند درجات حرارة أقل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كذلك لم تؤثر التغيرات في رطوبة الهواء عند درجات حرارة للوسط أقل من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م على معدلات إنتاج الحليب.</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تم التنبؤ بحدود قصوى من درجة الحرارة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الرطوبة النسبية بحيث يحدث انخفاض في إنتاج البيض إذا تم تجاوز تلك الحدود. وتكون تلك الحدود كالتالي : </a:t>
            </a:r>
            <a:r>
              <a:rPr b="1" lang="ar-SA" sz="2400" spc="-1" strike="noStrike">
                <a:solidFill>
                  <a:srgbClr val="007373"/>
                </a:solidFill>
                <a:latin typeface="Times New Roman"/>
                <a:ea typeface="Simplified Arabic"/>
              </a:rPr>
              <a:t>28</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75</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3</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وقد نتج عن خفض الرطوبة النسبية من </a:t>
            </a:r>
            <a:r>
              <a:rPr b="1" lang="ar-SA" sz="2400" spc="-1" strike="noStrike">
                <a:solidFill>
                  <a:srgbClr val="007373"/>
                </a:solidFill>
                <a:latin typeface="Times New Roman"/>
                <a:ea typeface="Simplified Arabic"/>
              </a:rPr>
              <a:t>95</a:t>
            </a:r>
            <a:r>
              <a:rPr b="1" lang="ar-SA" sz="2400" spc="-1" strike="noStrike">
                <a:solidFill>
                  <a:srgbClr val="007373"/>
                </a:solidFill>
                <a:latin typeface="Times New Roman"/>
                <a:ea typeface="Simplified Arabic"/>
              </a:rPr>
              <a:t> إلى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عند درجة حرارة للوسط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م انخفاض في درجة حرارة جسم الطائر.</a:t>
            </a:r>
            <a:endParaRPr b="0" lang="en-US" sz="2400" spc="-1" strike="noStrike">
              <a:solidFill>
                <a:srgbClr val="009999"/>
              </a:solidFill>
              <a:latin typeface="Times New Roman"/>
            </a:endParaRPr>
          </a:p>
          <a:p>
            <a:pPr marL="18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04640"/>
            <a:ext cx="8424720" cy="2592720"/>
          </a:xfrm>
          <a:prstGeom prst="rect">
            <a:avLst/>
          </a:prstGeom>
          <a:noFill/>
          <a:ln w="0">
            <a:noFill/>
          </a:ln>
        </p:spPr>
        <p:txBody>
          <a:bodyPr lIns="92160" rIns="92160" tIns="46080" bIns="46080" anchor="t">
            <a:normAutofit fontScale="52000"/>
          </a:bodyPr>
          <a:p>
            <a:pPr marL="178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ستخدم بعض المنتجين والمصممين في فصل الشتاء معدلات تهوية اقل من الحد الأدنى، وذلك لتقليل الطاقة الحرارية المفقودة مع هواء التهوية والتوفير في الوقود المستخدم في التدفئة، وبالتالي تقليل تكلفة الإنتاج. ولكن قد يؤدي خفض معدل التهوية عن الحد الأدنى الموصى به إلى الزيادة من تركيز مُلوثات الهواء داخل المبنى.</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حيز عمل الأفراد في بيئة الحيوانات والدواجن يتأثر عكسياً بالملوثات الغازية. ويتأثر عمال النظافة داخل مباني الإنتاج الحيواني بتراكيز تلك الغازات داخل المبنى. وقد تظهر بعض المشاكل الصحية المرتبطة بالجهاز التنفسي للعاملين بعد مرور ثلاث سنوات من العمل داخل هذه المباني. وقد أجريت دراسة على أحد عشر فرداً من العاملين داخل وحدات حيوانية أوضحت أن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قد أصيبوا بالسعال وضيق التنفس والزكام.</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مُلوثات الهوائية داخل مباني الإنتاج الحيواني اما أن تكون ملوثات غازية أو متطايرة (جسيمات).</a:t>
            </a:r>
            <a:endParaRPr b="0" lang="en-US" sz="24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9000"/>
          </a:bodyPr>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7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تكون الملوثات الغازية من ثاني أكسيد الكربون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والميثان والأمونيا وكبريتيد الهيدروجين. ويتولد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من الحيوانات، بينما الميثان وغاز الأمونيا وغاز كبريتيد الهيدروجين من تحلّلات فضلات الحيوان. </a:t>
            </a:r>
            <a:endParaRPr b="0" lang="en-US" sz="2400" spc="-1" strike="noStrike">
              <a:solidFill>
                <a:srgbClr val="009999"/>
              </a:solidFill>
              <a:latin typeface="Times New Roman"/>
            </a:endParaRPr>
          </a:p>
          <a:p>
            <a:pPr marL="167760" indent="-16776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غاز ثاني أكسيد الكربون:</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95280" y="189000"/>
            <a:ext cx="8424720" cy="5400720"/>
          </a:xfrm>
          <a:prstGeom prst="rect">
            <a:avLst/>
          </a:prstGeom>
          <a:noFill/>
          <a:ln w="0">
            <a:noFill/>
          </a:ln>
        </p:spPr>
        <p:txBody>
          <a:bodyPr lIns="92160" rIns="92160" tIns="46080" bIns="46080"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1</a:t>
            </a:r>
            <a:r>
              <a:rPr b="1" lang="ar-SA" sz="2400" spc="-1" strike="noStrike">
                <a:solidFill>
                  <a:srgbClr val="003399"/>
                </a:solidFill>
                <a:latin typeface="Times New Roman"/>
                <a:ea typeface="Simplified Arabic"/>
              </a:rPr>
              <a:t>- غاز ثاني أكسيد الكربون:</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66000"/>
          </a:bodyPr>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26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2</a:t>
            </a:r>
            <a:r>
              <a:rPr b="1" lang="ar-SA" sz="2400" spc="-1" strike="noStrike">
                <a:solidFill>
                  <a:srgbClr val="003399"/>
                </a:solidFill>
                <a:latin typeface="Times New Roman"/>
                <a:ea typeface="Simplified Arabic"/>
              </a:rPr>
              <a:t>- غاز الميثان:</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ويعتبر غاز الميثان من الغازات الأخف وزناً من الهواء وليس له لون أو رائحة. ويتولد غاز الميثان أساساً أثناء التغذية، ويصل إلى أقصى معدل له بعد حوالي ساعة واحدة من التغذية. وتنتج بقرة تزن </a:t>
            </a:r>
            <a:r>
              <a:rPr b="1" lang="ar-SA" sz="2400" spc="-1" strike="noStrike">
                <a:solidFill>
                  <a:srgbClr val="007373"/>
                </a:solidFill>
                <a:latin typeface="Times New Roman"/>
                <a:ea typeface="Simplified Arabic"/>
              </a:rPr>
              <a:t>500</a:t>
            </a:r>
            <a:r>
              <a:rPr b="1" lang="ar-SA" sz="2400" spc="-1" strike="noStrike">
                <a:solidFill>
                  <a:srgbClr val="007373"/>
                </a:solidFill>
                <a:latin typeface="Times New Roman"/>
                <a:ea typeface="Simplified Arabic"/>
              </a:rPr>
              <a:t> كجم حوالي </a:t>
            </a:r>
            <a:r>
              <a:rPr b="1" lang="ar-SA" sz="2400" spc="-1" strike="noStrike">
                <a:solidFill>
                  <a:srgbClr val="007373"/>
                </a:solidFill>
                <a:latin typeface="Times New Roman"/>
                <a:ea typeface="Simplified Arabic"/>
              </a:rPr>
              <a:t>392</a:t>
            </a:r>
            <a:r>
              <a:rPr b="1" lang="ar-SA" sz="2400" spc="-1" strike="noStrike">
                <a:solidFill>
                  <a:srgbClr val="007373"/>
                </a:solidFill>
                <a:latin typeface="Times New Roman"/>
                <a:ea typeface="Simplified Arabic"/>
              </a:rPr>
              <a:t> لتر ميثان/يوم. ويشكل غاز الميثان خطراً ليس فقط على الصحة، ولكن أيضاً من حيث سرعة الاشتعال. وقد يحدث اختناق عند مستويات مرتفعة من الميثان.</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10T09:42:16Z</dcterms:modified>
  <cp:revision>129</cp:revision>
  <dc:subject/>
  <dc:title>المواصفات الحديثة في الانشاء والتحكم البيئي للبيوت المحمية</dc:title>
</cp:coreProperties>
</file>