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29B6-90AB-46B5-9554-DFA05A903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ED09-6EA3-437D-B301-9A44C425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3D48-AE4E-4FD8-A1DB-A4611008B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E494-B076-4D1A-8AE9-2910181C5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8329-E952-45D4-A7A9-EDCD55A5A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D790-DF46-44B6-B6E6-A115AE17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9A1F-73F5-4F60-87D2-7AD18A6D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063F-E0B8-488B-8F88-AB4A659F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2CE1-E1F5-492C-8956-3434C544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5DB7-6FA6-4C9C-B711-30DDAAFB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E1BB-32FF-48CD-B1BD-1E3D01D0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5609-BF55-4813-9978-A1E6E7D8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E402-6A47-4472-812B-10713384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E3FC-9F37-430E-B31C-C03CADC2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BB7D-1DFA-4B02-B7A6-179EAF66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EFB2-2CB2-4325-8EA4-671DA9DE8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A709-2D97-4F70-8332-98A34822D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6B77-A980-4BC7-B4B6-C2A2ED9F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049B-843C-4316-A944-D6617794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E32A-ACFE-42B7-B13D-D29AFE73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0BE1-2A09-459E-94F7-C5845700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9818-BE7D-40F9-A6DA-06E18D35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5540-0A82-4311-AF62-BAE09EBC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10C7-52B3-4ABD-AC6B-467250B0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 algn="r" rtl="1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 algn="r" rtl="1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 algn="r" rtl="1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 algn="r" rtl="1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 algn="r" rtl="1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7A62-66F0-483A-BFD2-C9732503A068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 algn="r" rtl="1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 algn="r" rtl="1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 algn="r" rtl="1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 algn="r" rtl="1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 algn="r" rtl="1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1183-7771-4F95-A93E-8760F7EE2D30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0066"/>
                </a:solidFill>
                <a:latin typeface="Bodoni MT Black"/>
              </a:rPr>
              <a:t>تقدير تركيز إنزيم الفا أميليز في البول.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404040"/>
                </a:solidFill>
                <a:uFillTx/>
                <a:latin typeface="Arial"/>
              </a:rPr>
              <a:t>المواد و</a:t>
            </a:r>
            <a:r>
              <a:rPr b="1" lang="ar-SA" sz="3200" spc="-1" strike="noStrike" u="sng">
                <a:solidFill>
                  <a:srgbClr val="334d4d"/>
                </a:solidFill>
                <a:uFillTx/>
                <a:latin typeface="Arial"/>
              </a:rPr>
              <a:t>طريقة العمل: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باستخدام عدة مواد كيميائيه جاهزه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t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خاصه بهذه التجربه) والتي تحتوي على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محلول كاشف الماده الأساس لإنزيم الأمايليز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المكون من الماده الأساس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PG7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, وكلا من إنزيمي الجلوكوسيديز, والجلوكوأميليز بالإضافه إلى كلوريد الصوديوم, الكالسيوم, ومحلول منظم (وظيفة المحلول المنظم وذلك لتثبيت الأس الهيدروجيني للتجربه والمثالي لعمل الإنزيم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عينة بول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ine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 جمعت خلال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ساعه تم تعديل الأس الهيدروني لها إلى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ثم حفظت في البراد عند درجة حراره بين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مئويه لحين الإستخدا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حضري انبوبة اختبار واحد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بشكل سريع ، أضيفي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مل من محلول الماده الأساس (العلبة البنيه) إلى الانبوبه باستخدام الماص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 وبعد ذلك أضيفي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ميكرولتر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 من عينة البول المخفف باستخدام ماصة المايكرو ، رجي الأنبوبة * ثم اسكبي محتوياتها في ال كيوفت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vet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وضعيها في جهاز  ا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trophotometer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مقابل البلانك (ماء مقطر), بعد ذلك قومي بتصفير الجهاز على البلانك ثم ابدئي بتشغلي ساعة الإيقا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2876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بعد دقيقة ونصف (=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ثانيه) اقرأي الأمتصاص للأنبوبه عند الطول موجي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m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استمري في قراءة الإمتصاص كل دقيقه, لمدة دقيقتان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ثم احسبي قيمة دلتا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لكل دقيقه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/m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 (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الدقه في الوقت جدا مهم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Isosceles Triangle 3"/>
          <p:cNvSpPr/>
          <p:nvPr/>
        </p:nvSpPr>
        <p:spPr>
          <a:xfrm>
            <a:off x="2571840" y="3357720"/>
            <a:ext cx="214200" cy="285480"/>
          </a:xfrm>
          <a:prstGeom prst="triangle">
            <a:avLst>
              <a:gd name="adj" fmla="val 50000"/>
            </a:avLst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900" spc="-1" strike="noStrike">
                <a:solidFill>
                  <a:srgbClr val="330066"/>
                </a:solidFill>
                <a:latin typeface="Arial"/>
              </a:rPr>
              <a:t>النتيجه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2876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500120" y="2428920"/>
          <a:ext cx="6096240" cy="14828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إمتصاص عند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5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m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وقت ( دقيق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3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حسابات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ملاحظه(الرموز بالإنجليزي لكن اتجاه الكتابه من اليمين إلى اليسا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2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3 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2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C =(B1 + B2 )/ 2 =   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حساب نشاط الإنزيم (تركيزه) في العينه (وحدته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/L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نضرب قيمة الدلتا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لكل دقيقه في الرقم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824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Isosceles Triangle 3"/>
          <p:cNvSpPr/>
          <p:nvPr/>
        </p:nvSpPr>
        <p:spPr>
          <a:xfrm>
            <a:off x="7000920" y="4786200"/>
            <a:ext cx="214200" cy="285840"/>
          </a:xfrm>
          <a:prstGeom prst="triangle">
            <a:avLst>
              <a:gd name="adj" fmla="val 50000"/>
            </a:avLst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0004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إذا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نشاط (تركيز)إنزيم الأميليزفي العينه =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A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4824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                             =  </a:t>
            </a:r>
            <a:r>
              <a:rPr b="0" lang="en-US" sz="2800" spc="-1" strike="noStrike">
                <a:solidFill>
                  <a:srgbClr val="999900"/>
                </a:solidFill>
                <a:latin typeface="Arial"/>
              </a:rPr>
              <a:t>U/L (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حجم الكلي للبول بعد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ساعه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مل/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ساع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حتى يمكننا مقارنة النتيجه بالمعدل الطبيعي والذي وحدته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/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ي وحده / ساعه) يلزمنا تحويل الوحده من وحده / ليتر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/L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 إلى وحده لكل ساعه (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/h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لتحويل يلزمنا فقط معرفة حجم البول في الساعه الواحده وضربه في قيمة تركيز الإنزيم السابقه ( </a:t>
            </a:r>
            <a:r>
              <a:rPr b="0" lang="ar-SA" sz="2800" spc="-1" strike="noStrike">
                <a:solidFill>
                  <a:srgbClr val="9999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999900"/>
                </a:solidFill>
                <a:latin typeface="Arial"/>
              </a:rPr>
              <a:t>D</a:t>
            </a:r>
            <a:r>
              <a:rPr b="0" lang="ar-SA" sz="2800" spc="-1" strike="noStrike">
                <a:solidFill>
                  <a:srgbClr val="9999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999900"/>
                </a:solidFill>
                <a:latin typeface="Arial"/>
              </a:rPr>
              <a:t>U/L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معرفة حجم البول المتكون خلال ساعه نقوم بالعمليه الحسابيه التاليه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إذا علمنا أن حجم البول المجمع خلال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ساعه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20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تر  فكم سيكون حجمه بعد ساعه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     لت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20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?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             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1.200 / 24 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,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لت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إذا تركيز الإنزيم في العينه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(D) U/L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(البول/الساع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                          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/h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(وحده /ساعه)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Straight Arrow Connector 4"/>
          <p:cNvCxnSpPr/>
          <p:nvPr/>
        </p:nvCxnSpPr>
        <p:spPr>
          <a:xfrm>
            <a:off x="5072040" y="3499920"/>
            <a:ext cx="1286640" cy="252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arrow" w="med"/>
          </a:ln>
        </p:spPr>
      </p:cxnSp>
      <p:cxnSp>
        <p:nvCxnSpPr>
          <p:cNvPr id="191" name="Straight Arrow Connector 5"/>
          <p:cNvCxnSpPr/>
          <p:nvPr/>
        </p:nvCxnSpPr>
        <p:spPr>
          <a:xfrm>
            <a:off x="5000760" y="4000680"/>
            <a:ext cx="1286640" cy="216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arrow" w="med"/>
          </a:ln>
        </p:spPr>
      </p:cxnSp>
      <p:sp>
        <p:nvSpPr>
          <p:cNvPr id="192" name="Left Arrow 6"/>
          <p:cNvSpPr/>
          <p:nvPr/>
        </p:nvSpPr>
        <p:spPr>
          <a:xfrm>
            <a:off x="7358040" y="4429080"/>
            <a:ext cx="928800" cy="214200"/>
          </a:xfrm>
          <a:prstGeom prst="leftArrow">
            <a:avLst>
              <a:gd name="adj1" fmla="val 50000"/>
              <a:gd name="adj2" fmla="val 50026"/>
            </a:avLst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900" spc="-1" strike="noStrike">
                <a:solidFill>
                  <a:srgbClr val="330066"/>
                </a:solidFill>
                <a:latin typeface="Arial"/>
              </a:rPr>
              <a:t>الهدف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        التقدير الكمي لنشاط إنزيم الأميليز في البول والمستخد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         بشكل شائع في تشخيص أمراض البنكريا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900" spc="-1" strike="noStrike">
                <a:solidFill>
                  <a:srgbClr val="330066"/>
                </a:solidFill>
                <a:latin typeface="Arial"/>
              </a:rPr>
              <a:t>المقدمه ومبدأ العمل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نزيم الألفا أميليزهو الشكل الرئيسي لإنزيم الأميليز الموجود في الإنسا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فرز انزيم الفا اميليز من غدد اللعاب في الفم ويسمى اميليز اللعاب أو بتيالين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yal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، ويفرز ايضاً من البنكرياس و يسمى اميليز البنكرياس  أو اميلوبسين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ylops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يحفز الانزيم تكسير (هضم) النشا عن طريق كسر الرابطة الجلايكوسيدية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4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تتم عملية الهضم بواسطة الانزيم بطريقة عشوائية على سلسلة عديد السكريات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ysacchari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نتجاً سكر المالتوز و الدكستري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Arial"/>
              </a:rPr>
              <a:t>يبدأ هضم الكربوهيدرات في الفم بواسطة إنزيم ألفا اميليز*، يستمر لفتره وجيزه في المعدة حتى تقل قيمة الأس الهيدروجيني (يصبح الوسط حامضي)* ، ثم تكتمل عملية الهضم في الأمعاء بواسطة إنزيم الألفا اميليز المفرز من البنكرياس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Arial"/>
              </a:rPr>
              <a:t>يعتمد نشاط الأنزيم على عدة ظروف مثالية مثل الأس الهيدروجيني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</a:rPr>
              <a:t> ، درجة الحرارة و وجود أيون الكلوريد. الأس الهيدروجيني المثالي لإنزيم الأميليز اللعاب هو :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6.6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6.8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</a:rPr>
              <a:t> , بينما لإنزيم أميليزالبنكرياس =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وجد الألفا اميليز في البلازما بتركيز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وحدة/لتر) . يزيد تركيز الأنزيم في البلازما في عدد من الحالات المرضية ومنها التهاب البنكرياس الشديد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ute pancreatit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r" rtl="1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تم تقدير نشاط إنزيم الأميليز في السيرم والبول بشكل شائع لتشخيص أمراض البنكرياس والتحقق من عمل أو وظيفة البنكريا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r" rtl="1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في حالات الإصابه بالتهاب البنكرياس الشدي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r" rtl="1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ute pancreatit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زيد نشاط الأنزيم في السيرم بشكل مؤقت من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ساعه ابتداءا من ظهوره يصاحبه أقصى ارتفاع بين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إلى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ساعه,ومن ثم يعود إلى مستواه الطبيعي في اليوم الثالث او الرابع.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إنزيم الاميليز البولي كمصاحب لإنزيم أميليز السيرم يظهرارتفاعا أكثر, حيث يصل لأعلى مستوياته, ويستمر ارتفاعه ثابتا لمدة أطو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طريقه المستخدمه حاليا في تجربتنا: تعتمد على استخدام مركب 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-nitrophenyle-D-maltohepatoside (PNPG7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(بارا نيتروفينيل- د – مالتوهيباتوسايت) كماده أساس </a:t>
            </a:r>
            <a:r>
              <a:rPr b="0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لتقدير إنزيم الأميلز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. حيث يعمل الإنزيم أولا على تحليل الماده الأساس إل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-nitrophenyl* maltotriose (PNPG3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totriose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بعد ذلك يعمل إنزيم آخر (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) وهو الجلوكوأمايليز 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ucoamylase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) على تحليل المركب الناتج (*) من التفاعل السابق ليعطي مركب: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-nitrophenil glycoside(PNPG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وجلوكوز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ucose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الذي يعتبر الناتج النهائي من عملية هضم الكربوهيدرات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ثم يعمل إنزيم ثالث (جلوكوسيدي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ucosidase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على تحليل مركب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PG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 إلى جلوكوز و بارا نيتروفينول والذي يعطي اللون اصفر, الذي سنقيس شدته أو تركيز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التفاعلات الحاصلة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NPG7                  PNPG3 + maltotrio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NPG7                  PNPG1 + gluco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NPG1                  p-nitrophenol + gluco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Straight Arrow Connector 12"/>
          <p:cNvCxnSpPr/>
          <p:nvPr/>
        </p:nvCxnSpPr>
        <p:spPr>
          <a:xfrm>
            <a:off x="2356920" y="3142800"/>
            <a:ext cx="1644120" cy="252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arrow" w="med"/>
          </a:ln>
        </p:spPr>
      </p:cxnSp>
      <p:cxnSp>
        <p:nvCxnSpPr>
          <p:cNvPr id="166" name="Straight Arrow Connector 13"/>
          <p:cNvCxnSpPr/>
          <p:nvPr/>
        </p:nvCxnSpPr>
        <p:spPr>
          <a:xfrm>
            <a:off x="2356920" y="4285800"/>
            <a:ext cx="1644120" cy="252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arrow" w="med"/>
          </a:ln>
        </p:spPr>
      </p:cxnSp>
      <p:cxnSp>
        <p:nvCxnSpPr>
          <p:cNvPr id="167" name="Straight Arrow Connector 14"/>
          <p:cNvCxnSpPr/>
          <p:nvPr/>
        </p:nvCxnSpPr>
        <p:spPr>
          <a:xfrm>
            <a:off x="2356920" y="5357880"/>
            <a:ext cx="1644120" cy="216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arrow" w="med"/>
          </a:ln>
        </p:spPr>
      </p:cxnSp>
      <p:sp>
        <p:nvSpPr>
          <p:cNvPr id="168" name="Rectangle 16"/>
          <p:cNvSpPr/>
          <p:nvPr/>
        </p:nvSpPr>
        <p:spPr>
          <a:xfrm>
            <a:off x="2428920" y="2500200"/>
            <a:ext cx="1571760" cy="50004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أميلي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2428920" y="3643200"/>
            <a:ext cx="1571760" cy="50004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جلوكو أميلي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8"/>
          <p:cNvSpPr/>
          <p:nvPr/>
        </p:nvSpPr>
        <p:spPr>
          <a:xfrm>
            <a:off x="2428920" y="4714920"/>
            <a:ext cx="1571760" cy="50004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جلوكوسيدي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يتم بعد ذلك قياس معدل زيادة الامتصاص للون عند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0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m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والتي تتناسب طرديا مع نشاط إنزيم الاميليز في العينه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lang="ar-SA" sz="3000" spc="-1" strike="noStrike">
                <a:solidFill>
                  <a:srgbClr val="ff0000"/>
                </a:solidFill>
                <a:latin typeface="Arial"/>
              </a:rPr>
              <a:t>لماذا نقول معدل زيادة الإمتصاص وليس مباشرة امتصاص ؟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   لأننا من خلال هذه التجربه سوف نقيس درجة امتصاص اللون (شدته) على فترات متتاليه والتي من المفترض خلالها تزيد شدة اللون ( أي تركيزه) وهي نتيجه متوقعه لزيادة الوقت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r" rtl="1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المدى الطبيعي لإنزيم الأميليز في البول =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ar-SA" sz="3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14</a:t>
            </a:r>
            <a:r>
              <a:rPr b="0" lang="ar-SA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U/h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(وحده/ساعه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0-04-25T20:47:13Z</dcterms:modified>
  <cp:revision>4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