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A86-F0FE-4898-A44C-9FB3254A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522-31F0-490B-B9B4-F148343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434-5FC7-4451-A6F6-0AB18AE5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90A-2B03-4BFD-BBC5-1DEFFFAE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E78F-2FC9-48B2-B793-2C1324EB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2AF-5FCF-44D0-BA1F-F47129E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744-FC67-4F97-B485-1ABEEB50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D369-F629-44BE-9844-ADBD5D53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C1ED-349B-410C-88B0-36C0663C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8CD2-369B-49EF-BDCF-EB34948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CAEE-EA88-497A-90D4-32E37FE2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9B5-7D9D-47B2-B366-98526EEA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0E1E-3394-4895-A4AF-85E54AD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C112-3244-412A-B549-988E4C1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E538-1A7B-4FD6-A875-A0423B5A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D59E-B034-48C7-B9F2-5BCC2AE2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9909-4A06-40F8-9C75-128017C4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C6F-F586-4C9D-BD02-CDAA235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78A-948A-48CE-A55B-42DCEBC9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AD0-6C28-481F-904C-F5277A8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D24-5088-412A-9764-41412909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D58-9DE4-4598-AA18-2FE66B1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D83-E79E-4EA5-84FC-745AE71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D3F-5927-4EED-A6A1-2B974BBD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B41-83E0-4EEB-8594-3F5FA43D6DB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E715-AD11-4B37-A845-53F614531EE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Bodoni MT Black"/>
              </a:rPr>
              <a:t>تقدير تركيز إنزيم الفا أميليز في البول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404040"/>
                </a:solidFill>
                <a:uFillTx/>
                <a:latin typeface="Arial"/>
              </a:rPr>
              <a:t>المواد و</a:t>
            </a:r>
            <a:r>
              <a:rPr b="1" lang="ar-SA" sz="3200" spc="-1" strike="noStrike" u="sng">
                <a:solidFill>
                  <a:srgbClr val="334d4d"/>
                </a:solidFill>
                <a:uFillTx/>
                <a:latin typeface="Arial"/>
              </a:rPr>
              <a:t>طريقة العمل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استخدام عدة مواد كيميائيه جاهزه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خاصه بهذه التجربه) والتي تحتوي عل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محلول كاشف الماده الأساس لإنزيم الأمايليز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مكون من الماده الأساس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PG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, وكلا من إنزيمي الجلوكوسيديز, والجلوكوأميليز بالإضافه إلى كلوريد الصوديوم, الكالسيوم, ومحلول منظم (وظيفة المحلول المنظم وذلك لتثبيت الأس الهيدروجيني للتجربه والمثالي لعمل الإنزي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عينة بول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معت خلال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تم تعديل الأس الهيدروني لها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م حفظت في البراد عند درجة حراره 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ئويه لحين الإستخد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حضري انبوبة اختبار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شكل سريع ، أضيف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ل من محلول الماده الأساس (العلبة البنيه) إلى الانبوبه باستخدام الماص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 وبعد ذلك أضيف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يكرولتر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من عينة البول المخفف باستخدام ماصة المايكرو ، رجي الأنبوبة * ثم اسكبي محتوياتها في ال كيوف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vet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ضعيها في جهاز  ا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ophotometer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قابل البلانك (ماء مقطر), بعد ذلك قومي بتصفير الجهاز على البلانك ثم ابدئي بتشغلي ساعة الإيقا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بعد دقيقة ونصف (=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انيه) اقرأي الأمتصاص للأنبوبه عند الطول موجي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استمري في قراءة الإمتصاص كل دقيقه, لمدة دقيقتا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ثم احسبي قيمة دلت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كل دقيقه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/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دقه في الوقت جدا مه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sosceles Triangle 3"/>
          <p:cNvSpPr/>
          <p:nvPr/>
        </p:nvSpPr>
        <p:spPr>
          <a:xfrm>
            <a:off x="2571840" y="3357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نتيجه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00120" y="2428920"/>
          <a:ext cx="6096240" cy="1482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تصاص عند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m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قت ( دقيق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سابات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ملاحظه(الرموز بالإنجليزي لكن اتجاه الكتابه من اليمين إلى اليسا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3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C =(B1 + B2 )/ 2 =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حساب نشاط الإنزيم (تركيزه) في العينه (وحدت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نضرب قيمة الدلت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لكل دقيقه في الرقم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3"/>
          <p:cNvSpPr/>
          <p:nvPr/>
        </p:nvSpPr>
        <p:spPr>
          <a:xfrm>
            <a:off x="7000920" y="478620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إذا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شاط (تركيز)إنزيم الأميليزفي العينه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4824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  =  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U/L 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جم الكلي للبول بع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ل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حتى يمكننا مقارنة النتيجه بالمعدل الطبيعي والذي وحدت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وحده / ساعه) يلزمنا تحويل الوحده من وحده / ليتر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إلى وحده لكل ساعه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تحويل يلزمنا فقط معرفة حجم البول في الساعه الواحده وضربه في قيمة تركيز الإنزيم السابقه ( </a:t>
            </a:r>
            <a:r>
              <a:rPr b="0" lang="ar-SA" sz="2800" spc="-1" strike="noStrike">
                <a:solidFill>
                  <a:srgbClr val="99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D</a:t>
            </a:r>
            <a:r>
              <a:rPr b="0" lang="ar-SA" sz="2800" spc="-1" strike="noStrike">
                <a:solidFill>
                  <a:srgbClr val="9999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999900"/>
                </a:solidFill>
                <a:latin typeface="Arial"/>
              </a:rPr>
              <a:t>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عرفة حجم البول المتكون خلال ساعه نقوم بالعمليه الحسابيه التالي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إذا علمنا أن حجم البول المجمع خلا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تر  فكم سيكون حجمه بعد ساع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لت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?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.200 / 24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ذا تركيز الإنزيم في العين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(D) U/L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البول/الساع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                 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وحده /ساعه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4"/>
          <p:cNvCxnSpPr/>
          <p:nvPr/>
        </p:nvCxnSpPr>
        <p:spPr>
          <a:xfrm>
            <a:off x="5072040" y="3499920"/>
            <a:ext cx="128664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91" name="Straight Arrow Connector 5"/>
          <p:cNvCxnSpPr/>
          <p:nvPr/>
        </p:nvCxnSpPr>
        <p:spPr>
          <a:xfrm>
            <a:off x="5000760" y="4000680"/>
            <a:ext cx="1286640" cy="2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sp>
        <p:nvSpPr>
          <p:cNvPr id="192" name="Left Arrow 6"/>
          <p:cNvSpPr/>
          <p:nvPr/>
        </p:nvSpPr>
        <p:spPr>
          <a:xfrm>
            <a:off x="7358040" y="4429080"/>
            <a:ext cx="928800" cy="21420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هد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التقدير الكمي لنشاط إنزيم الأميليز في البول والمستخد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بشكل شائع في تشخيص أمراض البنكريا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مقدمه ومبدأ العمل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زيم الألفا أميليزهو الشكل الرئيسي لإنزيم الأميليز الموجود في الإنس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ز انزيم الفا اميليز من غدد اللعاب في الفم ويسمى اميليز اللعاب أو بتيالي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ya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، ويفرز ايضاً من البنكرياس و يسمى اميليز البنكرياس  أو اميلوبسين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يحفز الانزيم تكسير (هضم) النشا عن طريق كسر الرابطة الجلايكوسيدي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تتم عملية الهضم بواسطة الانزيم بطريقة عشوائية على سلسلة عديد السكريات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تجاً سكر المالتوز و الدكستر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يبدأ هضم الكربوهيدرات في الفم بواسطة إنزيم ألفا اميليز*، يستمر لفتره وجيزه في المعدة حتى تقل قيمة الأس الهيدروجيني (يصبح الوسط حامضي)* ، ثم تكتمل عملية الهضم في الأمعاء بواسطة إنزيم الألفا اميليز المفرز من البنكرياس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يعتمد نشاط الأنزيم على عدة ظروف مثالية مثل الأس الهيدروجيني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 ، درجة الحرارة و وجود أيون الكلوريد. الأس الهيدروجيني المثالي لإنزيم الأميليز اللعاب هو 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 , بينما لإنزيم أميليزالبنكرياس =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ar-SA" sz="2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وجد الألفا اميليز في البلازما بتركي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حدة/لتر) . يزيد تركيز الأنزيم في البلازما في عدد من الحالات المرضية ومنها التهاب البنكرياس الشد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تقدير نشاط إنزيم الأميليز في السيرم والبول بشكل شائع لتشخيص أمراض البنكرياس والتحقق من عمل أو وظيفة البنكريا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حالات الإصابه بالتهاب البنكرياس الشدي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pancre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زيد نشاط الأنزيم في السيرم بشكل مؤقت م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 ابتداءا من ظهوره يصاحبه أقصى ارتفاع بي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إل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اعه,ومن ثم يعود إلى مستواه الطبيعي في اليوم الثالث او الرابع.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زيم الاميليز البولي كمصاحب لإنزيم أميليز السيرم يظهرارتفاعا أكثر, حيث يصل لأعلى مستوياته, ويستمر ارتفاعه ثابتا لمدة أطو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ه المستخدمه حاليا في تجربتنا: تعتمد على استخدام مركب 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yle-D-maltohepatoside (PNPG7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بارا نيتروفينيل- د – مالتوهيباتوسايت) كماده أساس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تقدير إنزيم الأميل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حيث يعمل الإنزيم أولا على تحليل الماده الأساس إ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yl* maltotriose (PNPG3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otrio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د ذلك يعمل إنزيم آخر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) وهو الجلوكوأمايليز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amylase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) على تحليل المركب الناتج (*) من التفاعل السابق ليعطي مركب: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nitrophenil glycoside(PNPG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وجلوكو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ذي يعتبر الناتج النهائي من عملية هضم الكربوهيدرات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يعمل إنزيم ثالث (جلوكوسيدي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idas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لى تحليل مركب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PG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إلى جلوكوز و بارا نيتروفينول والذي يعطي اللون اصفر, الذي سنقيس شدته أو تركيز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فاعلات الحاصلة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7                  PNPG3 + maltotri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7                  PNPG1 +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NPG1                  p-nitrophenol +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2"/>
          <p:cNvCxnSpPr/>
          <p:nvPr/>
        </p:nvCxnSpPr>
        <p:spPr>
          <a:xfrm>
            <a:off x="2356920" y="3142800"/>
            <a:ext cx="164412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66" name="Straight Arrow Connector 13"/>
          <p:cNvCxnSpPr/>
          <p:nvPr/>
        </p:nvCxnSpPr>
        <p:spPr>
          <a:xfrm>
            <a:off x="2356920" y="4285800"/>
            <a:ext cx="1644120" cy="2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167" name="Straight Arrow Connector 14"/>
          <p:cNvCxnSpPr/>
          <p:nvPr/>
        </p:nvCxnSpPr>
        <p:spPr>
          <a:xfrm>
            <a:off x="2356920" y="5357880"/>
            <a:ext cx="1644120" cy="2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arrow" w="med"/>
          </a:ln>
        </p:spPr>
      </p:cxnSp>
      <p:sp>
        <p:nvSpPr>
          <p:cNvPr id="168" name="Rectangle 16"/>
          <p:cNvSpPr/>
          <p:nvPr/>
        </p:nvSpPr>
        <p:spPr>
          <a:xfrm>
            <a:off x="2428920" y="250020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يلي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2428920" y="364320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جلوكو أميلي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2428920" y="4714920"/>
            <a:ext cx="1571760" cy="50004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جلوكوسيدي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تم بعد ذلك قياس معدل زيادة الامتصاص للون عند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التي تتناسب طرديا مع نشاط إنزيم الاميليز في العينه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لماذا نقول معدل زيادة الإمتصاص وليس مباشرة امتصاص 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  لأننا من خلال هذه التجربه سوف نقيس درجة امتصاص اللون (شدته) على فترات متتاليه والتي من المفترض خلالها تزيد شدة اللون ( أي تركيزه) وهي نتيجه متوقعه لزيادة الوقت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مدى الطبيعي لإنزيم الأميليز في البول =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/h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(وحده/ساعه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04-25T20:47:1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