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8CBC-B57B-4EC7-93A0-324FC04FA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614F-EDB1-44CF-852A-A5EE6B02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652C-CBCE-4B09-AA05-794BEC6E5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68B3-1745-42D1-BFEE-AA8A030E4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D548-B5C1-483F-AED4-FEC5D1CB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AD6C-8138-4BA7-AE73-C28C2F13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01CF-4BB4-4EC0-8DA1-456CA457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34E1-285A-4893-876E-0FDEDBC7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8C12-5F00-41F8-9B58-02EACF2B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55DB-C69E-46F4-B6D3-E9ACAD0C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6865-97FA-435D-8F98-DEAD13BA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7B0C-28B8-4C23-8056-E9972164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3C2D-DD4D-4992-AB3E-9029EBDA7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1589;&#1608;&#1578;%20&#1605;&#1587;&#1580;&#1617;&#1604;" TargetMode="External"/><Relationship Id="rId3" Type="http://schemas.microsoft.com/office/2007/relationships/media" Target="file:///tmp/home/.config/libreoffice/4/user/gallery/&#1589;&#1608;&#1578;%20&#1605;&#1587;&#1580;&#1617;&#1604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98720" y="395640"/>
            <a:ext cx="60786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24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3300"/>
                </a:solidFill>
                <a:latin typeface="Arial"/>
                <a:cs typeface="FrankRuehl"/>
              </a:rPr>
              <a:t>בַּמִּשְׂרָד שֶׁל</a:t>
            </a:r>
            <a:r>
              <a:rPr b="1" lang="ar-SA" sz="2800" spc="-1" strike="noStrike">
                <a:solidFill>
                  <a:srgbClr val="003300"/>
                </a:solidFill>
                <a:latin typeface="Arial"/>
                <a:ea typeface="FrankRuehl"/>
              </a:rPr>
              <a:t>  </a:t>
            </a:r>
            <a:r>
              <a:rPr b="1" lang="he-IL" sz="2800" spc="-1" strike="noStrike">
                <a:solidFill>
                  <a:srgbClr val="003300"/>
                </a:solidFill>
                <a:latin typeface="Arial"/>
                <a:cs typeface="FrankRuehl"/>
              </a:rPr>
              <a:t>הַמְּעוֹנוֹ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24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cc00cc"/>
                </a:solidFill>
                <a:latin typeface="Arial"/>
                <a:cs typeface="FrankRuehl"/>
              </a:rPr>
              <a:t>כֵּן . בְּבַקָּשָׁה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24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666633"/>
                </a:solidFill>
                <a:latin typeface="Arial"/>
                <a:cs typeface="FrankRuehl"/>
              </a:rPr>
              <a:t>שָׁלוֹם , זֶה הַמִּשְׂרָד שֶׁל הַמְּעוֹנוֹת ?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FrankRueh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24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cc"/>
                </a:solidFill>
                <a:latin typeface="Arial"/>
                <a:cs typeface="FrankRuehl"/>
              </a:rPr>
              <a:t>כֵּן ... מִי אַתֶּם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24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0000"/>
                </a:solidFill>
                <a:latin typeface="Arial"/>
                <a:cs typeface="FrankRuehl"/>
              </a:rPr>
              <a:t>אֲנַחְנוּ תַּלְמִידִים חֲדָשִׁים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24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3300"/>
                </a:solidFill>
                <a:latin typeface="Arial"/>
                <a:cs typeface="FrankRuehl"/>
              </a:rPr>
              <a:t>יֵשׁ חֲדָרִים בַּמְּעוֹנוֹת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24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6600cc"/>
                </a:solidFill>
                <a:latin typeface="Arial"/>
                <a:cs typeface="FrankRuehl"/>
              </a:rPr>
              <a:t>כֵּן , יֵשׁ חֲדָרִים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24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a50021"/>
                </a:solidFill>
                <a:latin typeface="Arial"/>
                <a:cs typeface="FrankRuehl"/>
              </a:rPr>
              <a:t>יוֹפִי ! אֲנַחְנוּ רוֹצִים חֶדֶר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24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3366"/>
                </a:solidFill>
                <a:latin typeface="Arial"/>
                <a:cs typeface="FrankRuehl"/>
              </a:rPr>
              <a:t>אֵיפֹה אַתֶּם גָּרִים עַכְשָׁיו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24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a50021"/>
                </a:solidFill>
                <a:latin typeface="Arial"/>
                <a:cs typeface="FrankRuehl"/>
              </a:rPr>
              <a:t>אֲנִי גָּר בִּנְתַנְיָה , וְהִיא גָּרָה בִּירוּשָׁלַיִם</a:t>
            </a:r>
            <a:r>
              <a:rPr b="0" lang="ar-SA" sz="2800" spc="-1" strike="noStrike">
                <a:solidFill>
                  <a:srgbClr val="a50021"/>
                </a:solidFill>
                <a:latin typeface="Arial"/>
                <a:ea typeface="FrankRueh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24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6600"/>
                </a:solidFill>
                <a:latin typeface="Arial"/>
                <a:cs typeface="FrankRuehl"/>
              </a:rPr>
              <a:t>יֵשׁ חֶדֶר בִּשְׁבִיל סְטוּדֶנְט בְּבִּנְיָן ד'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24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FrankRuehl"/>
              </a:rPr>
              <a:t>לֹא , לֹא , זֶה לֹא טוֹב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24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a50021"/>
                </a:solidFill>
                <a:latin typeface="Arial"/>
                <a:cs typeface="FrankRuehl"/>
              </a:rPr>
              <a:t>לָמָּה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24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  <a:cs typeface="FrankRuehl"/>
              </a:rPr>
              <a:t>כִּי אֲנַחְנוּ רוֹצִים לָגוּר בְּיַחַד .</a:t>
            </a:r>
            <a:r>
              <a:rPr b="0" lang="he-IL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9051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0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05120" y="321120"/>
            <a:ext cx="4610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  <a:cs typeface="David"/>
              </a:rPr>
              <a:t>הַמִּלִּים הַחֲדָשׁוֹת</a:t>
            </a:r>
            <a:r>
              <a:rPr b="1" lang="he-IL" sz="2000" spc="-1" strike="noStrike">
                <a:solidFill>
                  <a:srgbClr val="000000"/>
                </a:solidFill>
                <a:latin typeface="Arial"/>
                <a:ea typeface="David"/>
              </a:rPr>
              <a:t> </a:t>
            </a:r>
            <a:r>
              <a:rPr b="1" lang="he-IL" sz="2400" spc="-1" strike="noStrike">
                <a:solidFill>
                  <a:srgbClr val="000000"/>
                </a:solidFill>
                <a:latin typeface="Arial"/>
                <a:ea typeface="David"/>
              </a:rPr>
              <a:t>–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F_Hijaz"/>
              </a:rPr>
              <a:t>الكلمات الجديد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143000" y="1219320"/>
          <a:ext cx="7315200" cy="484488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295280"/>
                <a:gridCol w="2362320"/>
              </a:tblGrid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6600"/>
                          </a:solidFill>
                          <a:latin typeface="Times New Roman"/>
                          <a:cs typeface="Monotype Koufi"/>
                        </a:rPr>
                        <a:t>معنا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6600"/>
                          </a:solidFill>
                          <a:latin typeface="Times New Roman"/>
                          <a:cs typeface="Monotype Koufi"/>
                        </a:rPr>
                        <a:t>الكلم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6600"/>
                          </a:solidFill>
                          <a:latin typeface="Times New Roman"/>
                          <a:cs typeface="Monotype Koufi"/>
                        </a:rPr>
                        <a:t>معنا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6600"/>
                          </a:solidFill>
                          <a:latin typeface="Times New Roman"/>
                          <a:cs typeface="Monotype Koufi"/>
                        </a:rPr>
                        <a:t>الكلم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cc"/>
                          </a:solidFill>
                          <a:latin typeface="Times New Roman"/>
                          <a:cs typeface="AF_Najed"/>
                        </a:rPr>
                        <a:t>مَن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a50021"/>
                          </a:solidFill>
                          <a:latin typeface="Times New Roman"/>
                          <a:cs typeface="FrankRuehl"/>
                        </a:rPr>
                        <a:t>מִ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cc"/>
                          </a:solidFill>
                          <a:latin typeface="Times New Roman"/>
                          <a:cs typeface="AF_Najed"/>
                        </a:rPr>
                        <a:t>مساكن الطلا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a50021"/>
                          </a:solidFill>
                          <a:latin typeface="Times New Roman"/>
                          <a:cs typeface="FrankRuehl"/>
                        </a:rPr>
                        <a:t>הַמְּעוֹנוֹ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cc"/>
                          </a:solidFill>
                          <a:latin typeface="Times New Roman"/>
                          <a:cs typeface="AF_Najed"/>
                        </a:rPr>
                        <a:t>نح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a50021"/>
                          </a:solidFill>
                          <a:latin typeface="Times New Roman"/>
                          <a:cs typeface="FrankRuehl"/>
                        </a:rPr>
                        <a:t>אֲנַחְנו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cc"/>
                          </a:solidFill>
                          <a:latin typeface="Times New Roman"/>
                          <a:cs typeface="AF_Najed"/>
                        </a:rPr>
                        <a:t>أنت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a50021"/>
                          </a:solidFill>
                          <a:latin typeface="Times New Roman"/>
                          <a:cs typeface="FrankRuehl"/>
                        </a:rPr>
                        <a:t>אַתֶּ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cc"/>
                          </a:solidFill>
                          <a:latin typeface="Times New Roman"/>
                          <a:cs typeface="AF_Najed"/>
                        </a:rPr>
                        <a:t>جد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a50021"/>
                          </a:solidFill>
                          <a:latin typeface="Times New Roman"/>
                          <a:cs typeface="FrankRuehl"/>
                        </a:rPr>
                        <a:t>חֲדָשִׁי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cc"/>
                          </a:solidFill>
                          <a:latin typeface="Times New Roman"/>
                          <a:cs typeface="AF_Najed"/>
                        </a:rPr>
                        <a:t>تلامي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a50021"/>
                          </a:solidFill>
                          <a:latin typeface="Times New Roman"/>
                          <a:cs typeface="FrankRuehl"/>
                        </a:rPr>
                        <a:t>תַּלְמִידִי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cc"/>
                          </a:solidFill>
                          <a:latin typeface="Times New Roman"/>
                          <a:cs typeface="AF_Najed"/>
                        </a:rPr>
                        <a:t>رائع </a:t>
                      </a:r>
                      <a:r>
                        <a:rPr b="0" lang="ar-EG" sz="2400" spc="-1" strike="noStrike">
                          <a:solidFill>
                            <a:srgbClr val="0000cc"/>
                          </a:solidFill>
                          <a:latin typeface="Times New Roman"/>
                          <a:cs typeface="AF_Najed"/>
                        </a:rPr>
                        <a:t>،</a:t>
                      </a:r>
                      <a:r>
                        <a:rPr b="0" lang="ar-SA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AF_Najed"/>
                        </a:rPr>
                        <a:t> جـمي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a50021"/>
                          </a:solidFill>
                          <a:latin typeface="Times New Roman"/>
                          <a:cs typeface="FrankRuehl"/>
                        </a:rPr>
                        <a:t>יוֹפִ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cc"/>
                          </a:solidFill>
                          <a:latin typeface="Times New Roman"/>
                          <a:cs typeface="AF_Najed"/>
                        </a:rPr>
                        <a:t>غر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a50021"/>
                          </a:solidFill>
                          <a:latin typeface="Times New Roman"/>
                          <a:cs typeface="FrankRuehl"/>
                        </a:rPr>
                        <a:t>חֲדָרִי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cc"/>
                          </a:solidFill>
                          <a:latin typeface="Times New Roman"/>
                          <a:cs typeface="AF_Najed"/>
                        </a:rPr>
                        <a:t>فى مبنى 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a50021"/>
                          </a:solidFill>
                          <a:latin typeface="Times New Roman"/>
                          <a:cs typeface="FrankRuehl"/>
                        </a:rPr>
                        <a:t>בְּבִּנְיָן ד'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cc"/>
                          </a:solidFill>
                          <a:latin typeface="Times New Roman"/>
                          <a:cs typeface="AF_Najed"/>
                        </a:rPr>
                        <a:t>من أجل الطا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a50021"/>
                          </a:solidFill>
                          <a:latin typeface="Times New Roman"/>
                          <a:cs typeface="FrankRuehl"/>
                        </a:rPr>
                        <a:t>בִּשְׁבִיל סְטוּדֶנְ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cc"/>
                          </a:solidFill>
                          <a:latin typeface="Times New Roman"/>
                          <a:cs typeface="AF_Najed"/>
                        </a:rPr>
                        <a:t>أن نسكن سويا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a50021"/>
                          </a:solidFill>
                          <a:latin typeface="Times New Roman"/>
                          <a:cs typeface="FrankRuehl"/>
                        </a:rPr>
                        <a:t>לָגוּר בְּיַחַ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cc"/>
                          </a:solidFill>
                          <a:latin typeface="Times New Roman"/>
                          <a:cs typeface="AF_Najed"/>
                        </a:rPr>
                        <a:t>هذا ليس حسنا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a50021"/>
                          </a:solidFill>
                          <a:latin typeface="Times New Roman"/>
                          <a:cs typeface="FrankRuehl"/>
                        </a:rPr>
                        <a:t>זֶה לֹא טוֹ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22:41:49Z</dcterms:created>
  <dc:creator>DR.FOUAD</dc:creator>
  <dc:description/>
  <dc:language>en-US</dc:language>
  <cp:lastModifiedBy>DR.FOUAD</cp:lastModifiedBy>
  <dcterms:modified xsi:type="dcterms:W3CDTF">2009-03-23T22:50:41Z</dcterms:modified>
  <cp:revision>2</cp:revision>
  <dc:subject/>
  <dc:title>الشريحة 1</dc:title>
</cp:coreProperties>
</file>