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4FA-1EDC-406D-95AB-208776BC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40C-38A8-42DD-A66F-86505105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0FA-C12D-4E12-9229-C3DC1A6A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703-6845-4F55-813D-DB340297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1DE-E76E-41C4-8FBD-3FFAE425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9F8-8B12-4BD1-83EB-8CA1439F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1B1-203B-424A-92B5-278728E5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3BA-CA0B-405A-8B25-65AB057A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2C9-F4E3-4345-A1B3-DBDF6729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1787-DB8D-4AD8-98CB-7DAC1A5D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E1D-99AD-4D32-9457-6F74C90D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09C-8DD0-4C72-B6D8-E4EF554A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E15F-6A0D-4ED2-BF92-7058FF241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98720" y="395640"/>
            <a:ext cx="6078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3300"/>
                </a:solidFill>
                <a:latin typeface="Arial"/>
                <a:cs typeface="FrankRuehl"/>
              </a:rPr>
              <a:t>בַּמִּשְׂרָד שֶׁל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  <a:ea typeface="FrankRuehl"/>
              </a:rPr>
              <a:t>  </a:t>
            </a:r>
            <a:r>
              <a:rPr b="1" lang="he-IL" sz="2800" spc="-1" strike="noStrike">
                <a:solidFill>
                  <a:srgbClr val="003300"/>
                </a:solidFill>
                <a:latin typeface="Arial"/>
                <a:cs typeface="FrankRuehl"/>
              </a:rPr>
              <a:t>הַמְּעוֹנוֹ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cc00cc"/>
                </a:solidFill>
                <a:latin typeface="Arial"/>
                <a:cs typeface="FrankRuehl"/>
              </a:rPr>
              <a:t>כֵּן . בְּבַקָּשָׁה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666633"/>
                </a:solidFill>
                <a:latin typeface="Arial"/>
                <a:cs typeface="FrankRuehl"/>
              </a:rPr>
              <a:t>שָׁלוֹם , זֶה הַמִּשְׂרָד שֶׁל הַמְּעוֹנוֹת ?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FrankRueh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cc"/>
                </a:solidFill>
                <a:latin typeface="Arial"/>
                <a:cs typeface="FrankRuehl"/>
              </a:rPr>
              <a:t>כֵּן ... מִי אַתֶּם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00"/>
                </a:solidFill>
                <a:latin typeface="Arial"/>
                <a:cs typeface="FrankRuehl"/>
              </a:rPr>
              <a:t>אֲנַחְנוּ תַּלְמִידִים חֲדָשִׁים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3300"/>
                </a:solidFill>
                <a:latin typeface="Arial"/>
                <a:cs typeface="FrankRuehl"/>
              </a:rPr>
              <a:t>יֵשׁ חֲדָרִים בַּמְּעוֹנוֹת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6600cc"/>
                </a:solidFill>
                <a:latin typeface="Arial"/>
                <a:cs typeface="FrankRuehl"/>
              </a:rPr>
              <a:t>כֵּן , יֵשׁ חֲדָרִים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a50021"/>
                </a:solidFill>
                <a:latin typeface="Arial"/>
                <a:cs typeface="FrankRuehl"/>
              </a:rPr>
              <a:t>יוֹפִי ! אֲנַחְנוּ רוֹצִים חֶדֶ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3366"/>
                </a:solidFill>
                <a:latin typeface="Arial"/>
                <a:cs typeface="FrankRuehl"/>
              </a:rPr>
              <a:t>אֵיפֹה אַתֶּם גָּרִים עַכְשָׁיו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a50021"/>
                </a:solidFill>
                <a:latin typeface="Arial"/>
                <a:cs typeface="FrankRuehl"/>
              </a:rPr>
              <a:t>אֲנִי גָּר בִּנְתַנְיָה , וְהִיא גָּרָה בִּירוּשָׁלַיִם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  <a:ea typeface="FrankRueh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6600"/>
                </a:solidFill>
                <a:latin typeface="Arial"/>
                <a:cs typeface="FrankRuehl"/>
              </a:rPr>
              <a:t>יֵשׁ חֶדֶר בִּשְׁבִיל סְטוּדֶנְט בְּבִּנְיָן ד'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FrankRuehl"/>
              </a:rPr>
              <a:t>לֹא , לֹא , זֶה לֹא טוֹב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a50021"/>
                </a:solidFill>
                <a:latin typeface="Arial"/>
                <a:cs typeface="FrankRuehl"/>
              </a:rPr>
              <a:t>לָמָּה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FrankRuehl"/>
              </a:rPr>
              <a:t>כִּי אֲנַחְנוּ רוֹצִים לָגוּר בְּיַחַד .</a:t>
            </a:r>
            <a:r>
              <a:rPr b="0" lang="he-IL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9051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5120" y="321120"/>
            <a:ext cx="4610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הַמִּלִּים הַחֲדָשׁוֹת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  <a:ea typeface="David"/>
              </a:rPr>
              <a:t>–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F_Hijaz"/>
              </a:rPr>
              <a:t>الكلمات الجديد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143000" y="1219320"/>
          <a:ext cx="7315200" cy="48448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295280"/>
                <a:gridCol w="236232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6600"/>
                          </a:solidFill>
                          <a:latin typeface="Times New Roman"/>
                          <a:cs typeface="Monotype Koufi"/>
                        </a:rPr>
                        <a:t>معنا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6600"/>
                          </a:solidFill>
                          <a:latin typeface="Times New Roman"/>
                          <a:cs typeface="Monotype Koufi"/>
                        </a:rPr>
                        <a:t>الكل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6600"/>
                          </a:solidFill>
                          <a:latin typeface="Times New Roman"/>
                          <a:cs typeface="Monotype Koufi"/>
                        </a:rPr>
                        <a:t>معنا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6600"/>
                          </a:solidFill>
                          <a:latin typeface="Times New Roman"/>
                          <a:cs typeface="Monotype Koufi"/>
                        </a:rPr>
                        <a:t>الكل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مَن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מִ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مساكن الطلا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הַמְּעוֹנוֹ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نح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אֲנַחְנו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أنت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אַתֶּ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جد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חֲדָשִׁ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تلامي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תַּלְמִידִ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رائع </a:t>
                      </a:r>
                      <a:r>
                        <a:rPr b="0" lang="ar-EG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،</a:t>
                      </a: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AF_Najed"/>
                        </a:rPr>
                        <a:t> جـمي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יוֹפִ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غر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חֲדָרִ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فى مبنى 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בְּבִּנְיָן ד'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من أجل الطا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בִּשְׁבִיל סְטוּדֶנְ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أن نسكن سويا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לָגוּר בְּיַחַ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هذا ليس حسنا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זֶה לֹא טוֹ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22:41:49Z</dcterms:created>
  <dc:creator>DR.FOUAD</dc:creator>
  <dc:description/>
  <dc:language>en-US</dc:language>
  <cp:lastModifiedBy>DR.FOUAD</cp:lastModifiedBy>
  <dcterms:modified xsi:type="dcterms:W3CDTF">2009-03-23T22:50:41Z</dcterms:modified>
  <cp:revision>2</cp:revision>
  <dc:subject/>
  <dc:title>الشريحة 1</dc:title>
</cp:coreProperties>
</file>