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7982-174D-462B-8E0C-30EFAD9CC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0DA0-47A0-4AD0-9119-435593C6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7FAA-4F88-43C5-8480-417460CA1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1B33-772B-4596-BCEF-D78E7F3F0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EBD0-C7E5-41B5-A75F-6F6A993B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A68F-3054-4EBC-A5A9-8767B9AB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0E4F-9ECB-48E2-88EC-894BD5A2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ECBE-DF56-497C-B4CF-B03C392C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7504-B636-4309-A19E-26BF9890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BE33-886E-42E9-9C6F-6C192E3C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0AA2-7064-4954-84FC-FAEBEA35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3D26-B07D-4875-94A4-8A510DD7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323C-4BF0-48C1-88B0-7A82ED87079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تحليل أثر العمليات المحاسبية على الحسابات المختلف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85840" y="1571760"/>
          <a:ext cx="8501040" cy="4357440"/>
        </p:xfrm>
        <a:graphic>
          <a:graphicData uri="http://schemas.openxmlformats.org/drawingml/2006/table">
            <a:tbl>
              <a:tblPr/>
              <a:tblGrid>
                <a:gridCol w="2125440"/>
                <a:gridCol w="2124360"/>
                <a:gridCol w="2125440"/>
                <a:gridCol w="2125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أثر النقصا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ثر الزياد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طبيعة الحسا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نوع الحسا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دائ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دي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دي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أصو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دي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دائ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دائ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خصو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دي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دائ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دائ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حقوق الملك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دائ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دي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دي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مصروف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دي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دائ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دائ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إيراد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تمرين على قيود اليوم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فيما يلي بعض العمليات التي تمت بمنشأة الدوسري لعام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143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1431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ه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في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بدأت المنشأة نشاطها برأس مال قدره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300000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ريال أودع البن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في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استأجرت مكتباً لمدة سنة بمبلغ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30000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ريال دفعت للمؤجر عن الستة أشهر الأولي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15000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ريال نقدا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في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اشترت أثاث بمبلغ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40000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ريال بشي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في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دفعت مبلغ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45000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ريال رواتب للموظفين نقدا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في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قدمت خدمات استشارية بمبلغ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25000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ريال دفع منها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15000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ريال بشيك والباقي على الحساب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والمطلوب إجراء قيود اليومية لإثبات ما تقد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642960" y="571680"/>
          <a:ext cx="8143920" cy="5929200"/>
        </p:xfrm>
        <a:graphic>
          <a:graphicData uri="http://schemas.openxmlformats.org/drawingml/2006/table">
            <a:tbl>
              <a:tblPr/>
              <a:tblGrid>
                <a:gridCol w="1673280"/>
                <a:gridCol w="3659040"/>
                <a:gridCol w="1452600"/>
                <a:gridCol w="1359000"/>
              </a:tblGrid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اري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بيا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دائ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دين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ن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ـ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بن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إلى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ـ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أس الما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ن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ـ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صروف الإيجا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إلى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ـ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صندو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106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ن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ـ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أثا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إلى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ـ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بن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ن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ـ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صروف الروات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إلى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ـ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صندو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000080" y="1397160"/>
          <a:ext cx="7929720" cy="2963880"/>
        </p:xfrm>
        <a:graphic>
          <a:graphicData uri="http://schemas.openxmlformats.org/drawingml/2006/table">
            <a:tbl>
              <a:tblPr/>
              <a:tblGrid>
                <a:gridCol w="1629000"/>
                <a:gridCol w="3563640"/>
                <a:gridCol w="1413000"/>
                <a:gridCol w="1324080"/>
              </a:tblGrid>
              <a:tr h="88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اري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بيا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دائ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دين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4341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من مذكوري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50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حـ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البن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49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حـ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المدينون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إلى  حـ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إيرادات خدمات استشار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08:35:09Z</dcterms:created>
  <dc:creator>user</dc:creator>
  <dc:description/>
  <dc:language>en-US</dc:language>
  <cp:lastModifiedBy>user</cp:lastModifiedBy>
  <dcterms:modified xsi:type="dcterms:W3CDTF">2010-10-29T21:04:53Z</dcterms:modified>
  <cp:revision>8</cp:revision>
  <dc:subject/>
  <dc:title>تحليل أثر العمليات المحاسبية على الحسابات المختلفة</dc:title>
</cp:coreProperties>
</file>