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119-891B-4709-9C08-946EDC42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A8F-4AAD-44EB-A82C-B009DC2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0AC-0429-4B09-939B-8168838E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71E-806B-4251-B55E-E5E87F37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208-334B-4FFE-B387-6B9C39B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DA8-3951-4CED-8102-CE0D6E8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223-B3DF-40DD-8F23-FD1C080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92D-16B6-49F4-8858-15AA2B8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A57-3C39-4B43-A260-F23E61CE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3F4-3AC7-46E2-BCB7-AF6B908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A40-73C9-410C-B875-F224476C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F03-6925-4225-B610-497FEBD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BE76-7EE7-413B-B102-DD2E6B84D9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تحليل أثر العمليات المحاسبية على الحسابات المختلف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5840" y="1571760"/>
          <a:ext cx="8501040" cy="4357440"/>
        </p:xfrm>
        <a:graphic>
          <a:graphicData uri="http://schemas.openxmlformats.org/drawingml/2006/table">
            <a:tbl>
              <a:tblPr/>
              <a:tblGrid>
                <a:gridCol w="2125440"/>
                <a:gridCol w="2124360"/>
                <a:gridCol w="2125440"/>
                <a:gridCol w="21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ثر النقص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ثر الز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طبيعة الحس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الحس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ص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خصو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قوق الملك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صروف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د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إيراد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مرين على قيود اليوم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ما يلي بعض العمليات التي تمت بمنشأة الدوسري لعام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4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43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بدأت المنشأة نشاطها برأس مال قدر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أودع البن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ستأجرت مكتباً لمدة سنة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دفعت للمؤجر عن الستة أشهر الأول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نق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شترت أثاث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4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بشي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دفعت 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4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رواتب للموظفين نق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مت خدمات استشارية بمبلغ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دفع منها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ريال بشيك والباقي على الحسا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المطلوب إجراء قيود اليومية لإثبات ما تقد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2960" y="571680"/>
          <a:ext cx="8143920" cy="5929200"/>
        </p:xfrm>
        <a:graphic>
          <a:graphicData uri="http://schemas.openxmlformats.org/drawingml/2006/table">
            <a:tbl>
              <a:tblPr/>
              <a:tblGrid>
                <a:gridCol w="1673280"/>
                <a:gridCol w="3659040"/>
                <a:gridCol w="1452600"/>
                <a:gridCol w="135900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أس ال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 الإيج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ثا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 الروات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إلى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ـ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ar-S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00080" y="1397160"/>
          <a:ext cx="7929720" cy="2963880"/>
        </p:xfrm>
        <a:graphic>
          <a:graphicData uri="http://schemas.openxmlformats.org/drawingml/2006/table">
            <a:tbl>
              <a:tblPr/>
              <a:tblGrid>
                <a:gridCol w="1629000"/>
                <a:gridCol w="3563640"/>
                <a:gridCol w="1413000"/>
                <a:gridCol w="1324080"/>
              </a:tblGrid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يا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ائ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3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من مذكو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0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9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لمدينو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إلى  ح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إيرادات خدمات استش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35:09Z</dcterms:created>
  <dc:creator>user</dc:creator>
  <dc:description/>
  <dc:language>en-US</dc:language>
  <cp:lastModifiedBy>user</cp:lastModifiedBy>
  <dcterms:modified xsi:type="dcterms:W3CDTF">2010-10-29T21:04:53Z</dcterms:modified>
  <cp:revision>8</cp:revision>
  <dc:subject/>
  <dc:title>تحليل أثر العمليات المحاسبية على الحسابات المختلفة</dc:title>
</cp:coreProperties>
</file>