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E495D-4467-4D58-ABF9-832B6BDD1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657CA-3207-4FB5-9FD2-409D1D6EF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78099-BBFA-4834-AAD1-CBEEC8A53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F60FE-AFE9-4133-9D8F-12F1A5A9C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D7525-E188-4F21-A6CD-C2961BC5A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3949E-8A64-40AC-B696-5A7E4CAD9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82382-FF80-433C-B884-CE28A869D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F2A03-9755-4884-97C7-138A88BCF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89116-1CEC-4BDC-BC9D-0AE7CFAE5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391D2-D04D-4A68-BED8-3A2A76E1C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E0984-409C-483F-A13C-8D2DC65F6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8B6E4-CDF2-4957-A9D4-D5CD13E31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ECFBA-B830-480B-B8B3-B94A7BF18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934F3-7EAA-4DE2-B69D-3A45AB6AB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6B5BE-2D57-4772-B538-6FD8EF37E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8707A-0E3F-4748-B1D0-A7C8DF2F2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C3FDC-C39D-4D17-AC9B-5FC10C3A9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E5CCA-D961-45D3-B1A0-EF303E8EC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458B6-E465-47E2-9E2F-A4E9227AA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3645B-A1BD-4D26-8E5E-B69F11C69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3D0C0-CB05-4227-9D7B-0607F75F3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EC9AB-1044-4345-81D6-870EC2E6F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1A9CB-BFDF-4793-87DD-0F4AF5D2A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26AB2-D76B-459E-B916-CB7A33064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583D4-6E20-42B3-B7C3-637E3206D3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102FD-E57A-4FD5-A52D-64DDBF0831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419040" y="260280"/>
            <a:ext cx="8496360" cy="61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ar-SA" sz="3600" spc="-1" strike="noStrike" u="sng">
                <a:solidFill>
                  <a:srgbClr val="000000"/>
                </a:solidFill>
                <a:uFillTx/>
                <a:latin typeface="Arial"/>
              </a:rPr>
              <a:t>منهج تلقي العقيدة الإسلامية والاستدلال علي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للعقيدة الإسلامية منهج متميز في تلقّيها وأخذها، وكذلك الاستدلال عليها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وهو منهج السلف من الصحابة والتابعين لهم بإحسان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أوّلاً : منهج تلقي العقيدة عند السلف يقوم على عدة أسس، منها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/ الاقتصار في منهج التلقي على الوحي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/التسليم لما جاء به الوحي، مع إعطاء العقل دوره الحقيقي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/ ترك الابتداع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/ تلقي النصوص دون مقررات سابقة ( عقلية أو عقدية ) 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4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4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79280" y="403200"/>
            <a:ext cx="8713800" cy="64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ثانياً: منهج السلف في الاستدلال على العقيدة يقوم على الأسس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حجية السنة ( المتواترة والآحاد) في العقي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وهذا مبني عندهم على أسس، منها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أ/ أن اتّباع السنة هو من أكبر ما يقتضيه الإيمان برسالة نبينا محمد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ب/ الرسول ﷺ أعلم الخلق بالله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ج/ الرسول ﷺ بلّغ جميع الدين ولم يكتم منه شيئاً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الالتزام بالكتاب والسنة لفظاً ومعنى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ترك التأويل المذموم لنصوص الكتاب والسنة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عدم التفريق بين الكتاب والسنة في الاستدلال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u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8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8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8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8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8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8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8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8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8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8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79280" y="403200"/>
            <a:ext cx="8713800" cy="64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- أن لا تعارض بين قطعيات الشرع مع قطعيات العلم الصحيح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-  صحة فهم النصو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ركائز الفهم الصحيح للنصوص كثيرة منها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أ/ الاعتماد على فهم الصحاب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ب/ معرفة لغة العرب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ج/ جمع النصوص الواردة في المسألة الواحدة , ثم الأخذ بها جميعاً 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د/ معرفة مقاصد التشريع الإسلامي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u"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4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4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6-27T20:17:06Z</dcterms:modified>
  <cp:revision>1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