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46E-9D05-4F8A-9154-640DA103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5D7-DAB8-4977-90B3-DB6ECEED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344-EE53-4B43-BC91-BE2588AD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7AE-7A45-4604-A4BC-6545B411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66D2-0CF7-4627-9D20-48320D23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8EEC-BD3A-48EB-8F9C-B3D6FC0E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0BB-0E76-42D3-ACCA-1FF8CECE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5542-F3AF-4AE8-B46E-D895A971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405A-D199-4526-B3AA-8E1BA2C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6301-EBC1-4B8A-99E6-1EE568AA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6B0A-89ED-4996-8531-C7738E1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E51-A831-42CA-B8A6-8EFC49A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68CC-404D-44FB-8717-812488D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5CBE-784E-44A8-83A1-384D0AE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BBDE-BE44-4C81-9B9F-32813E8E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71ED-A26D-4D8F-96BB-B94DBDE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DA3-1229-41F3-80EE-33A63B9F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D44-5BB5-41C5-8F4A-71E3B04E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EB6-A797-4186-81F1-F22A1A2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4ED-7567-4439-9926-6226794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34F-0181-41AA-84B4-6FB8743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6E1-73AB-455E-A2C6-A44BF96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DC0-46D3-4996-8BE7-CEDE20B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CB7-DA41-4666-AF07-E06B746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094-D4C1-474E-8005-35C2D394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247-59C1-4B83-8E8D-E504BC4D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9040" y="260280"/>
            <a:ext cx="84963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منهج تلقي العقيدة الإسلامية والاستدلال علي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لعقيدة الإسلامية منهج متميز في تلقّيها وأخذها، وكذلك الاستدلال علي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هو منهج السلف من الصحابة والتابعين لهم بإح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وّلاً : منهج تلقي العقيدة عند السلف يقوم على عدة أسس،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الاقتصار في منهج التلقي على الوح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التسليم لما جاء به الوحي، مع إعطاء العقل دوره الحقيق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ترك الابتدا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/ تلقي النصوص دون مقررات سابقة ( عقلية أو عقدية )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4032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انياً: منهج السلف في الاستدلال على العقيدة يقوم على الأسس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جية السنة ( المتواترة والآحاد) في العقي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هذا مبني عندهم على أسس،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/ أن اتّباع السنة هو من أكبر ما يقتضيه الإيمان برسالة نبينا محم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/ الرسول ﷺ أعلم الخلق بال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/ الرسول ﷺ بلّغ جميع الدين ولم يكتم منه شيئ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التزام بالكتاب والسنة لفظاً ومعن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رك التأويل المذموم لنصوص الكتاب والسن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دم التفريق بين الكتاب والسنة في الاستدلال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032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أن لا تعارض بين قطعيات الشرع مع قطعيات العلم الصحيح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 صحة فهم النصو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كائز الفهم الصحيح للنصوص كثيرة منها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/ الاعتماد على فهم الصحا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/ معرفة لغة العر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ج/ جمع النصوص الواردة في المسألة الواحدة , ثم الأخذ بها جميع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/ معرفة مقاصد التشريع الإسلام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0:17:06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