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A0B-2DF0-4B6F-8994-5DC40C09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CF5-92A1-4E7C-8366-B3A7CD9E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2A2-135A-4028-8EA7-15A8673F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065-3D4E-48C2-B1B6-533BB37F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3F29-54AF-4C77-B383-4EED16E7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B4A2-B951-4A46-BC37-3FA14EC8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C783-FAA1-4D7D-85FB-D2DC7C90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3727-278C-4B27-A6A0-1035A84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20E6-E338-4842-924C-28404D6E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D34-3415-4161-AB58-3730F8B6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A5AE-79B1-4F26-8309-C0E5CEE5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5BF-AA3F-4CFE-A50A-A12F35E2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B230-5ABA-4FBA-A9DC-58EA19F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BA05-7598-4B4D-830A-3021F4E8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4BAF-6055-471F-83C8-9BE98400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7F06-78E0-43F8-A972-F6E0D1D0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724E-E4AA-47EB-AD05-67B4D50C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B25-53C3-46F8-8EFC-C614BB41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4B8-57A5-4A17-867D-CD61D09F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974-2835-4E1C-837C-BA89B56D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87A-CDDD-4ACF-A8DF-CF83E3B7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4D0-4A4A-48FC-8E21-A102B320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A98-D0F0-40C2-85C4-A687BF58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91C-008C-45B8-A179-D93F1FDC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65C-B2B9-4E42-9602-1EF42F496A36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6796-2EB2-4ECE-A797-B031831A061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09760" y="1773360"/>
            <a:ext cx="4505400" cy="3463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0" y="4941360"/>
            <a:ext cx="32004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ff"/>
                </a:solidFill>
                <a:latin typeface="Book Antiqua"/>
                <a:cs typeface="Khalid Art bold"/>
              </a:rPr>
              <a:t>المعمل الساد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-181080" y="1197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وزن الذري لنترات الصوديوم يساوي مجموع الأوزان الذرية للعناصر المحتويها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.wt = 23 + 14 + (16 × 3)=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النترات تحتوي ع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3429000"/>
            <a:ext cx="8713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10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المطلوبة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 تحتوي على س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س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</a:t>
            </a: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-252360" y="1197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ي حالة إضافة كلوريد الأمونيو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.wt = 14 + 4 + 35.5 =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53.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كلوريد الأمونيوم تحتوي ع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50920" y="2997360"/>
            <a:ext cx="8642160" cy="41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س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المستبدل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 تحتوي على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</a:t>
            </a: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6.31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547640" y="2204640"/>
            <a:ext cx="6213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لو استبدلنا النترات بمصدر اليوريا فكم جراما سيتم إضافته في الماء المقطر .. علماً بأن الصيغة الكيميائية لليوريا هي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68360" y="2492280"/>
            <a:ext cx="1942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ffccff"/>
                </a:solidFill>
                <a:latin typeface="Arial"/>
                <a:cs typeface="Khalid Art bold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76360" y="4292640"/>
            <a:ext cx="604692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349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سيتم إضافة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5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اليوريا   </a:t>
            </a:r>
            <a:r>
              <a:rPr b="0" lang="en-US" sz="5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07640" y="2707920"/>
            <a:ext cx="3598920" cy="2376360"/>
          </a:xfrm>
          <a:prstGeom prst="rect">
            <a:avLst/>
          </a:prstGeom>
          <a:noFill/>
          <a:ln w="0">
            <a:noFill/>
          </a:ln>
          <a:effectLst>
            <a:outerShdw dist="81185" dir="7721969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Book Antiqua"/>
                <a:cs typeface="Khalid Art bold"/>
              </a:rPr>
              <a:t>نهاية المعم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Book Antiqua"/>
                <a:ea typeface="Khalid Art bold"/>
              </a:rPr>
              <a:t>	</a:t>
            </a:r>
            <a:r>
              <a:rPr b="0" lang="ar-SA" sz="2800" spc="-1" strike="noStrike">
                <a:solidFill>
                  <a:srgbClr val="dddddd"/>
                </a:solidFill>
                <a:latin typeface="Book Antiqua"/>
                <a:cs typeface="Khalid Art bold"/>
              </a:rPr>
              <a:t>الساد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5" descr="z1%20(102)"/>
          <p:cNvPicPr/>
          <p:nvPr/>
        </p:nvPicPr>
        <p:blipFill>
          <a:blip r:embed="rId1"/>
          <a:stretch/>
        </p:blipFill>
        <p:spPr>
          <a:xfrm>
            <a:off x="3492360" y="4005360"/>
            <a:ext cx="1059120" cy="51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763280" y="2133720"/>
            <a:ext cx="738036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عتبر من العناصر الأساسية التي تحتاجها الطحالب و لا يمكن استبدالها و لو جزئياً بعنصر آخر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, H, O, </a:t>
            </a:r>
            <a:r>
              <a:rPr b="1" lang="pt-BR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P, Mg, Fe, Cu, Mn, Zn, M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ستخدم الطحالب أملاح النترات و الأمونيا و كذلك النيتروجين العضوي كمصادر رئيسية ل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ستخدم بعض أنواع الطحالب النيتريت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lens2293814_1227391404spiru"/>
          <p:cNvPicPr/>
          <p:nvPr/>
        </p:nvPicPr>
        <p:blipFill>
          <a:blip r:embed="rId2"/>
          <a:stretch/>
        </p:blipFill>
        <p:spPr>
          <a:xfrm>
            <a:off x="0" y="4149720"/>
            <a:ext cx="2381400" cy="155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763280" y="1988640"/>
            <a:ext cx="7380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هناك مجموعة من الطحالب الخضراء المزرقة تحتوي على إنزيم النيتروجينيز, و منها ما يحتوي على الحويصلات المغاير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قوم بتثبيت النيتروجين الجوي أو الذائب في الماء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وجود عنصر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ضروري لإتمام عملية تثبيت ا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تاج الطحالب الخضراء إلى ما يعاد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6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ن وزنها الجاف عنصر ا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6" descr="cl1"/>
          <p:cNvPicPr/>
          <p:nvPr/>
        </p:nvPicPr>
        <p:blipFill>
          <a:blip r:embed="rId2"/>
          <a:stretch/>
        </p:blipFill>
        <p:spPr>
          <a:xfrm>
            <a:off x="0" y="386064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419640" y="3068640"/>
            <a:ext cx="554328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9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معرفة مصدر النيتروجين الذي يكون فيه النمو المثالي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5" descr="379px-Kelp-forest-Monterey"/>
          <p:cNvPicPr/>
          <p:nvPr/>
        </p:nvPicPr>
        <p:blipFill>
          <a:blip r:embed="rId2"/>
          <a:stretch/>
        </p:blipFill>
        <p:spPr>
          <a:xfrm>
            <a:off x="0" y="2205000"/>
            <a:ext cx="3610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600000" y="2276640"/>
            <a:ext cx="554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أو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hu 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499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وفر النيتروجين في البيئة على هيئة نترات الصوديوم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aNO</a:t>
            </a:r>
            <a:r>
              <a:rPr b="0" lang="en-US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م تبديل المصدر بـمصادر أخرى للنيتروجين مثل الأمونيا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و اليوريا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بنفس نسبة إضافة النترات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379px-Kelp-forest-Monterey"/>
          <p:cNvPicPr/>
          <p:nvPr/>
        </p:nvPicPr>
        <p:blipFill>
          <a:blip r:embed="rId2"/>
          <a:stretch/>
        </p:blipFill>
        <p:spPr>
          <a:xfrm>
            <a:off x="0" y="2205000"/>
            <a:ext cx="3610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-360" y="4149360"/>
            <a:ext cx="388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تحتوي على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على ه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</a:t>
            </a:r>
            <a:r>
              <a:rPr b="0" lang="ar-SA" sz="28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مصدر عضوي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5" descr="08-11-31 12-01-57 AM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116000" y="2205000"/>
            <a:ext cx="1584360" cy="1776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7"/>
          <p:cNvSpPr/>
          <p:nvPr/>
        </p:nvSpPr>
        <p:spPr>
          <a:xfrm>
            <a:off x="3780000" y="3141720"/>
            <a:ext cx="1584000" cy="576360"/>
          </a:xfrm>
          <a:prstGeom prst="rightArrow">
            <a:avLst>
              <a:gd name="adj1" fmla="val 50000"/>
              <a:gd name="adj2" fmla="val 6870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08-11-31 12-01-57 AM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443640" y="2205000"/>
            <a:ext cx="1584360" cy="1776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4284720" y="4005360"/>
            <a:ext cx="4859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نحضر نفس الوسط مع تبديل النترات بـ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وريد الأمونيوم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غير عضوي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يوريا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24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عضوي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لا نضيف أي مصدر للنيتروج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360" y="4723920"/>
            <a:ext cx="388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نضيف مقدار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 من مزرعة طحلبية معلم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059280" y="3429000"/>
            <a:ext cx="1584000" cy="576360"/>
          </a:xfrm>
          <a:prstGeom prst="rightArrow">
            <a:avLst>
              <a:gd name="adj1" fmla="val 50000"/>
              <a:gd name="adj2" fmla="val 6870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284720" y="1989000"/>
            <a:ext cx="4859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ضن لمدة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أيام تحت الإضاءة المستم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مكن معرفة النتائج بمشاهدة تأثير كل مصدر مقارنة بالكنتر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فصل الطحالب لاختبار تأثير اختلاف صور النيتروجين على معايير النمو عن طريق استخدام </a:t>
            </a:r>
            <a:r>
              <a:rPr b="1" lang="ar-SA" sz="28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المحتوى البروتيني كمعيار للنم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08-11-31 08-50-48 PM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042920" y="2060640"/>
            <a:ext cx="12859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547640" y="2205000"/>
            <a:ext cx="6213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جب عند استبدال مصدر نيتروجيني من الوسط بمصدر آخر أن يكون بنفس تركيز النيتروجين الموجود .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42920" y="2565360"/>
            <a:ext cx="194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ffccff"/>
                </a:solidFill>
                <a:latin typeface="Arial"/>
                <a:cs typeface="Khalid Art bold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979640" y="4437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spcBef>
                <a:spcPts val="799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لمراعاة ثبات النسب بين العناصر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مختلفة في الوسط الغذائي الواح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9640" y="5300280"/>
            <a:ext cx="727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37760" indent="-328680" algn="ct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وزن الذري لـ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= 23, N= 14, O= 16, H= 1, Cl= 35.5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042920" y="1557360"/>
            <a:ext cx="705816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ff"/>
                </a:solidFill>
                <a:latin typeface="Arial"/>
                <a:ea typeface="Khalid Art bold"/>
              </a:rPr>
              <a:t> مثـــال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ي الوسط الغذائي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يتم تحضير محلول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بإضافة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النترات إ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00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 ماء مقطر, و لكي نستبدلها بكلوريد الأمونيو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لابد أن تكون الإضافة بنفس تركيز النيتروجين ..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9dcf99"/>
                </a:solidFill>
                <a:latin typeface="Arial"/>
                <a:cs typeface="Khalid Art bold"/>
              </a:rPr>
              <a:t>فكيف يتم ذلك ..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0:02:37Z</dcterms:created>
  <dc:creator>jbroOot</dc:creator>
  <dc:description/>
  <dc:language>en-US</dc:language>
  <cp:lastModifiedBy>w7</cp:lastModifiedBy>
  <dcterms:modified xsi:type="dcterms:W3CDTF">2011-11-18T22:15:24Z</dcterms:modified>
  <cp:revision>10</cp:revision>
  <dc:subject/>
  <dc:title>ا. الجوهرة العباد alalabbad@ksu.edu.sa</dc:title>
</cp:coreProperties>
</file>