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2FD-E7ED-4454-BA29-A81429A7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67B-999B-487D-95B2-FDC2B3F9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A30-D32B-4D83-B771-4AA3487F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66E-7614-439B-A7E9-8D32C01E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4000-1713-4C4A-8903-AD8E8B42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6DB-BD40-44AD-83A2-AA2B4DE9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420-2F3C-458C-8668-9302E320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F7E-03B4-40D9-A0A2-886546B8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3EC1-AD72-4C41-A6C8-E1D51B7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E078-5CF8-4411-AF5E-F9B2E35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EB46-2D9B-4E1F-8458-DE87CC1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69F-5A84-4B06-911A-7DB1DD9C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1249-610A-457E-890A-02924225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F9AE-F2AE-48E2-9E78-8C689DBE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1A67-50D5-409E-8DEE-FE2E22AD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1C40-7491-4721-95FA-4F1239E4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4520-BF92-4B0C-9CD3-54BED0A8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891-97DB-4AEE-BE56-10E89A4C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45C-A7FE-459A-B832-6C100BB0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2FFF-FF37-471C-AB92-5D0C6234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5F3-061D-491D-87BC-8414239E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622-1543-41A7-9EE2-041EFE8D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B89-EAB6-47A0-B2E1-D232C68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356-AF7B-4DAE-8DF6-C711F0A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8C2C-419B-4103-AB3C-77C1403ADFB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 algn="r" rtl="1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 algn="r" rtl="1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 algn="r" rtl="1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D9A0-C1AA-4139-B90C-6BFD43BF562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1"/>
          <a:stretch/>
        </p:blipFill>
        <p:spPr>
          <a:xfrm>
            <a:off x="2309760" y="1773360"/>
            <a:ext cx="4505400" cy="3463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320040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cff"/>
                </a:solidFill>
                <a:latin typeface="Book Antiqua"/>
                <a:cs typeface="Khalid Art bold"/>
              </a:rPr>
              <a:t>المعمل 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-181080" y="119700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نترات الصوديوم يساوي مجموع الأوزان الذرية للعناصر المحتويها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23 + 14 + (16 × 3)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8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3429000"/>
            <a:ext cx="87138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طلوبة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س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س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-252360" y="1197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حالة إضافة 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.wt = 14 + 4 + 35.5 =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53.5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كلوريد الأمونيوم تحتوي ع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2997360"/>
            <a:ext cx="8642160" cy="41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س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3200" spc="-1" strike="noStrike">
                <a:solidFill>
                  <a:srgbClr val="ffccff"/>
                </a:solidFill>
                <a:latin typeface="Times New Roman"/>
                <a:cs typeface="Times New Roman"/>
              </a:rPr>
              <a:t>المستبدل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 تحتوي على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←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.6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×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3.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/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= </a:t>
            </a:r>
            <a:r>
              <a:rPr b="1" lang="ar-SA" sz="32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6.31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547640" y="2204640"/>
            <a:ext cx="6213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و استبدلنا النترات بمصدر اليوريا فكم جراما سيتم إضافته في الماء المقطر .. علماً بأن الصيغة الكيميائية لليوريا ه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68360" y="2492280"/>
            <a:ext cx="1942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76360" y="4292640"/>
            <a:ext cx="604692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34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سيتم إضافة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.54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م من اليوريا   </a:t>
            </a:r>
            <a:r>
              <a:rPr b="0" lang="en-US" sz="54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نهاية المعم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Book Antiqua"/>
                <a:ea typeface="Khalid Art bold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Book Antiqua"/>
                <a:cs typeface="Khalid Art bold"/>
              </a:rPr>
              <a:t>السادس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2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63280" y="2133720"/>
            <a:ext cx="738036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عتبر من العناصر الأساسية التي تحتاجها الطحالب و لا يمكن استبدالها و لو جزئياً بعنصر آخر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, H, O, </a:t>
            </a:r>
            <a:r>
              <a:rPr b="1" lang="pt-BR" sz="36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P, Mg, Fe, Cu, Mn, Zn, M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الطحالب أملاح النترات و الأمونيا و كذلك النيتروجين العضوي كمصادر رئيسية ل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ستخدم بعض أنواع الطحالب النيتري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lens2293814_1227391404spiru"/>
          <p:cNvPicPr/>
          <p:nvPr/>
        </p:nvPicPr>
        <p:blipFill>
          <a:blip r:embed="rId2"/>
          <a:stretch/>
        </p:blipFill>
        <p:spPr>
          <a:xfrm>
            <a:off x="0" y="4149720"/>
            <a:ext cx="2381400" cy="1552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763280" y="1988640"/>
            <a:ext cx="738036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هناك مجموعة من الطحالب الخضراء المزرقة تحتوي على إنزيم النيتروجينيز, و منها ما يحتوي على الحويصلات المغاير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قوم بتثبيت النيتروجين الجوي أو الذائب في الماء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وجود عنصر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ضروري لإتمام عملية تثبيت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تاج الطحالب الخضراء إلى ما يعادل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6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8.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ن وزنها الجاف عنصر النيتروجين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6" descr="cl1"/>
          <p:cNvPicPr/>
          <p:nvPr/>
        </p:nvPicPr>
        <p:blipFill>
          <a:blip r:embed="rId2"/>
          <a:stretch/>
        </p:blipFill>
        <p:spPr>
          <a:xfrm>
            <a:off x="0" y="3860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419640" y="3068640"/>
            <a:ext cx="554328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9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معرفة مصدر النيتروجين الذي يكون فيه النمو المثالي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5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600000" y="2276640"/>
            <a:ext cx="554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و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hu 1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4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وفر النيتروجين في البيئة على هيئة نترات الصوديوم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aNO</a:t>
            </a:r>
            <a:r>
              <a:rPr b="0" lang="en-US" sz="2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تبديل المصدر بـمصادر أخرى للنيتروجين مثل الأمون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و اليوريا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نفس نسبة إضافة النترات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379px-Kelp-forest-Monterey"/>
          <p:cNvPicPr/>
          <p:nvPr/>
        </p:nvPicPr>
        <p:blipFill>
          <a:blip r:embed="rId2"/>
          <a:stretch/>
        </p:blipFill>
        <p:spPr>
          <a:xfrm>
            <a:off x="0" y="2205000"/>
            <a:ext cx="361008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414936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تحتوي على 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على هيئة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 </a:t>
            </a:r>
            <a:r>
              <a:rPr b="0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مصدر عضوي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5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111600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7"/>
          <p:cNvSpPr/>
          <p:nvPr/>
        </p:nvSpPr>
        <p:spPr>
          <a:xfrm>
            <a:off x="3780000" y="314172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8" descr="08-11-31 12-01-57 AM"/>
          <p:cNvPicPr/>
          <p:nvPr/>
        </p:nvPicPr>
        <p:blipFill>
          <a:blip r:embed="rId3">
            <a:lum contrast="42000"/>
          </a:blip>
          <a:stretch/>
        </p:blipFill>
        <p:spPr>
          <a:xfrm>
            <a:off x="6443640" y="2205000"/>
            <a:ext cx="1584360" cy="1776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4284720" y="400536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حضر نفس الوسط مع تبديل النترات بـ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كلوريد الأمونيوم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غير 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يوريا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O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</a:t>
            </a:r>
            <a:r>
              <a:rPr b="0" lang="ar-SA" sz="24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عضوي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لا نضيف أي مصدر للنيتروج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360" y="4723920"/>
            <a:ext cx="3887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نضيف مقدار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ن مزرعة طحلبية معلم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3059280" y="3429000"/>
            <a:ext cx="1584000" cy="576360"/>
          </a:xfrm>
          <a:prstGeom prst="rightArrow">
            <a:avLst>
              <a:gd name="adj1" fmla="val 50000"/>
              <a:gd name="adj2" fmla="val 6870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284720" y="1989000"/>
            <a:ext cx="4859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ضن لمد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أيام تحت الإضاءة المستم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مكن معرفة النتائج بمشاهدة تأثير كل مصدر مقارنة بالكنتر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فصل الطحالب لاختبار تأثير اختلاف صور النيتروجين على معايير النمو عن طريق استخدام </a:t>
            </a:r>
            <a:r>
              <a:rPr b="1" lang="ar-SA" sz="2800" spc="-1" strike="noStrike">
                <a:solidFill>
                  <a:srgbClr val="9dcf99"/>
                </a:solidFill>
                <a:latin typeface="Times New Roman"/>
                <a:cs typeface="Times New Roman"/>
              </a:rPr>
              <a:t>المحتوى البروتيني كمعيار للنمو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8" descr="08-11-31 08-50-48 PM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042920" y="2060640"/>
            <a:ext cx="1285920" cy="266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547640" y="2205000"/>
            <a:ext cx="6213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جب عند استبدال مصدر نيتروجيني من الوسط بمصدر آخر أن يكون بنفس تركيز النيتروجين الموجود .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042920" y="2565360"/>
            <a:ext cx="19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ffccff"/>
                </a:solidFill>
                <a:latin typeface="Arial"/>
                <a:cs typeface="Khalid Art bold"/>
              </a:rPr>
              <a:t>؟</a:t>
            </a:r>
            <a:endParaRPr b="0" lang="en-US" sz="1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979640" y="4437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 rtl="1">
              <a:lnSpc>
                <a:spcPct val="100000"/>
              </a:lnSpc>
              <a:spcBef>
                <a:spcPts val="799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مراعاة ثبات النسب بين العناصر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مختلفة في الوسط الغذائي الواح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99640" y="5300280"/>
            <a:ext cx="7272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37760" indent="-328680" algn="ct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الوزن الذري لـ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= 23, N= 14, O= 16, H= 1, Cl= 35.5</a:t>
            </a:r>
            <a:r>
              <a:rPr b="0" lang="en-US" sz="27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042920" y="1557360"/>
            <a:ext cx="705816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buClr>
                <a:srgbClr val="9dcf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cff"/>
                </a:solidFill>
                <a:latin typeface="Arial"/>
                <a:ea typeface="Khalid Art bold"/>
              </a:rPr>
              <a:t> مثـــال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ي الوسط الغذائي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تم تحضير محلول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aNO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بإضافة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جرام من النترات إلى 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00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 ماء مقطر, و لكي نستبدلها بكلوريد الأمونيوم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لابد أن تكون الإضافة بنفس تركيز النيتروجين ..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ffccff"/>
                </a:solidFill>
                <a:latin typeface="Arial"/>
                <a:ea typeface="Khalid Art bold"/>
              </a:rPr>
              <a:t>	</a:t>
            </a:r>
            <a:r>
              <a:rPr b="0" lang="ar-SA" sz="2000" spc="-1" strike="noStrike">
                <a:solidFill>
                  <a:srgbClr val="9dcf99"/>
                </a:solidFill>
                <a:latin typeface="Arial"/>
                <a:cs typeface="Khalid Art bold"/>
              </a:rPr>
              <a:t>فكيف يتم ذلك ..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5:24Z</dcterms:modified>
  <cp:revision>10</cp:revision>
  <dc:subject/>
  <dc:title>ا. الجوهرة العباد alalabbad@ksu.edu.sa</dc:title>
</cp:coreProperties>
</file>