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type.wav" ContentType="audio/x-wav"/>
  <Override PartName="/ppt/media/hammer.wav" ContentType="audio/x-wav"/>
  <Override PartName="/ppt/media/cashreg.wav" ContentType="audio/x-wav"/>
  <Override PartName="/ppt/media/image13.png" ContentType="image/png"/>
  <Override PartName="/ppt/media/image7.jpeg" ContentType="image/jpeg"/>
  <Override PartName="/ppt/media/image6.png" ContentType="image/png"/>
  <Override PartName="/ppt/media/image8.png" ContentType="image/png"/>
  <Override PartName="/ppt/media/image12.png" ContentType="image/png"/>
  <Override PartName="/ppt/media/camera.wav" ContentType="audio/x-wav"/>
  <Override PartName="/ppt/media/image11.png" ContentType="image/png"/>
  <Override PartName="/ppt/media/explode.wav" ContentType="audio/x-wav"/>
  <Override PartName="/ppt/media/laser.wav" ContentType="audio/x-wav"/>
  <Override PartName="/ppt/media/chimes.wav" ContentType="audio/x-wav"/>
  <Override PartName="/ppt/media/coin.wav" ContentType="audio/x-wav"/>
  <Override PartName="/ppt/media/image1.jpeg" ContentType="image/jpeg"/>
  <Override PartName="/ppt/media/suction.wav" ContentType="audio/x-wav"/>
  <Override PartName="/ppt/media/image4.jpeg" ContentType="image/jpeg"/>
  <Override PartName="/ppt/media/image2.png" ContentType="image/png"/>
  <Override PartName="/ppt/media/image5.png" ContentType="image/png"/>
  <Override PartName="/ppt/media/whoosh.wav" ContentType="audio/x-wav"/>
  <Override PartName="/ppt/media/image10.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A99EF-6A48-49FE-BB12-FA3457FCC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48F6E-3BD5-474C-A227-22113D6E6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EF358-F879-49A4-BB36-5DBB6E619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59B7-7F02-4C02-A10D-AA9479CD7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EE47F-58B7-49B5-AEF5-CD0E70630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2F9AD-8C6A-4252-B23D-9C39D8425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F7F9-2AED-4D19-BED9-52D96FD7C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D88CD-D26D-496C-9926-369128E8C9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A5D8B-E035-4077-B570-1CB43ED49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1ED01-8883-44E6-BA5B-36396C9BA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01584-0ADA-4BB7-8CF4-1749202BD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642B-329A-4AAC-8186-36FBA335A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B768F-2C51-47AC-A8F2-982AD3986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4B641-9C5F-4327-8FBD-209DE9FCB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5B4AA-705A-4AFE-818D-D6E1635B9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45D94-B02B-40A7-964B-8E1C43CE0F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44370-54EE-482B-9E40-FEE2060DA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7864A-DBA5-4556-A041-B9B40D868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F2C1DC-CDF1-4191-9855-3CEEE94DE1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9BB35-3D09-414B-A2A8-C7920B1A9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88A41D-3B3B-497B-A6AC-38D95831F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FB73E-4F88-424E-AE3B-07B4726FC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3A39-D00C-49AA-8697-456BD1ABE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D40A4-6AC8-466D-AA89-E09FC29E8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FF1B7-37FD-4646-A8E8-AFB8A5632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D9C4D-6515-4697-94C2-B5274DBBB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68A63-B78F-4BB4-B8CE-F7C6BBAFA8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0A8D25-FB8E-40E5-B12D-FCCF516AB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549632-AE53-4F39-9E81-662601C524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8D287D-D530-45F7-8213-F3D3FA852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20FFFA-3E72-47BD-AC28-FCAB9A7F4C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6968E-BE24-4A8E-B9C2-15FF04634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1453F9-D460-498E-995C-0FF3FF007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798F7-277F-40DF-B262-EE054D9DF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306876-4E61-41CB-AB43-A0601D882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B2C2F-EE41-49C2-895B-76120F43C6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BAD99-767A-47E5-857D-323B038B70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EBD56-FC82-4D2D-B890-36D61247F7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D9299-BA4C-468B-8330-9AC9ED286C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4BF07-72C1-45F5-A6AF-FFEC1262F2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8967B3-6D53-413C-A4E0-57FC1DBB00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E42D6-E993-4E0B-8DFA-549D26D39A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216A48-D479-40B4-8C4C-EFCB86964D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E126E-BE66-491E-8DAA-F46FD2F73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5896B-940F-44EC-ADE6-7E3E045E8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8951-D45C-4714-BB6A-3A890DD9B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EC80-B4AB-4D1F-A5F5-70BFE9E32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3F3E-F1CE-40BB-BB1B-657841034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294F-D306-4913-815A-AFD98B225E0A}"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B303-7073-491B-A967-7D5C1A196037}"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CBE0-34A3-4B9A-9B6E-77B64F6311DE}" type="slidenum">
              <a:rPr b="0" lang="ar-S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8A63-50EC-4698-BD23-8EAE4602813B}" type="slidenum">
              <a:rPr b="0" lang="ar-SA"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oin.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مستطيل 1"/>
          <p:cNvSpPr/>
          <p:nvPr/>
        </p:nvSpPr>
        <p:spPr>
          <a:xfrm>
            <a:off x="826920" y="0"/>
            <a:ext cx="7058160" cy="6388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300" spc="-1" strike="noStrike">
                <a:solidFill>
                  <a:srgbClr val="7e3f00"/>
                </a:solidFill>
                <a:latin typeface="AGA Arabesque"/>
                <a:ea typeface="AGA Arabesque"/>
              </a:rPr>
              <a:t></a:t>
            </a:r>
            <a:endParaRPr b="0" lang="en-US" sz="41300" spc="-1" strike="noStrike">
              <a:solidFill>
                <a:srgbClr val="000000"/>
              </a:solidFill>
              <a:latin typeface="Arial"/>
            </a:endParaRPr>
          </a:p>
        </p:txBody>
      </p:sp>
    </p:spTree>
  </p:cSld>
  <p:transition spd="slow">
    <p:wedge/>
    <p:sndAc>
      <p:stSnd>
        <p:snd r:embed="rId1" name="suctio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
          <p:cNvSpPr/>
          <p:nvPr/>
        </p:nvSpPr>
        <p:spPr>
          <a:xfrm>
            <a:off x="250920" y="-368280"/>
            <a:ext cx="8713800" cy="746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غرابة القصه؟؟</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يست الغرابة في دعوى صلبه - فقد قتل قبله أنبياء كثيرون - لكن الغرابة في فلسفة تلك الحادثة المخترعة التي تحولت في نظر النصارى من مصدر للألم ، إلى مصدر للفرح والسرور ، إذ يعتقد النصارى أن المسيح - عليه السلام - ابن لله عز وجل وهو في ذات الوقت إله مساو لله أو دونه - على خلاف بينهم في ذلك - وهنا مصدر الإشكال ، إذ كيف لابن الإله أن يصلب،</a:t>
            </a:r>
            <a:endParaRPr b="0" lang="en-US" sz="4400" spc="-1" strike="noStrike">
              <a:solidFill>
                <a:srgbClr val="000000"/>
              </a:solidFill>
              <a:latin typeface="Arial"/>
            </a:endParaRPr>
          </a:p>
        </p:txBody>
      </p:sp>
    </p:spTree>
  </p:cSld>
  <p:transition spd="slow">
    <p:wheel spokes="8"/>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0" y="60120"/>
            <a:ext cx="9144000" cy="66776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يذكر النصارى في أناجيلهم أن المسيح صاح جزعا : "إيلي، إيلي، لَمّا شَبَقتاني؟ " أي : "إلهي، إلهي ، لماذا تركتني؟"( متى الإصحاح (</a:t>
            </a:r>
            <a:r>
              <a:rPr b="0" lang="ar-SA" sz="5400" spc="-1" strike="noStrike">
                <a:solidFill>
                  <a:srgbClr val="000000"/>
                </a:solidFill>
                <a:latin typeface="Arial"/>
              </a:rPr>
              <a:t>27</a:t>
            </a:r>
            <a:r>
              <a:rPr b="0" lang="ar-SA" sz="5400" spc="-1" strike="noStrike">
                <a:solidFill>
                  <a:srgbClr val="000000"/>
                </a:solidFill>
                <a:latin typeface="Arial"/>
              </a:rPr>
              <a:t>) رقم (</a:t>
            </a:r>
            <a:r>
              <a:rPr b="0" lang="ar-SA" sz="5400" spc="-1" strike="noStrike">
                <a:solidFill>
                  <a:srgbClr val="000000"/>
                </a:solidFill>
                <a:latin typeface="Arial"/>
              </a:rPr>
              <a:t>46</a:t>
            </a:r>
            <a:r>
              <a:rPr b="0" lang="ar-SA" sz="5400" spc="-1" strike="noStrike">
                <a:solidFill>
                  <a:srgbClr val="000000"/>
                </a:solidFill>
                <a:latin typeface="Arial"/>
              </a:rPr>
              <a:t>-</a:t>
            </a:r>
            <a:r>
              <a:rPr b="0" lang="ar-SA" sz="5400" spc="-1" strike="noStrike">
                <a:solidFill>
                  <a:srgbClr val="000000"/>
                </a:solidFill>
                <a:latin typeface="Arial"/>
              </a:rPr>
              <a:t>47</a:t>
            </a:r>
            <a:r>
              <a:rPr b="0" lang="ar-SA" sz="5400" spc="-1" strike="noStrike">
                <a:solidFill>
                  <a:srgbClr val="000000"/>
                </a:solidFill>
                <a:latin typeface="Arial"/>
              </a:rPr>
              <a:t>) ، </a:t>
            </a:r>
            <a:endParaRPr b="0" lang="en-US" sz="5400" spc="-1" strike="noStrike">
              <a:solidFill>
                <a:srgbClr val="000000"/>
              </a:solidFill>
              <a:latin typeface="Arial"/>
            </a:endParaRPr>
          </a:p>
          <a:p>
            <a:pPr algn="ct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يجيب النصارى على هذه التساؤلات الجوهرية - التي تبين فساد وبطلان معتقدهم - بقولهم</a:t>
            </a:r>
            <a:endParaRPr b="0" lang="en-US" sz="5400" spc="-1" strike="noStrike">
              <a:solidFill>
                <a:srgbClr val="000000"/>
              </a:solidFill>
              <a:latin typeface="Arial"/>
            </a:endParaRPr>
          </a:p>
        </p:txBody>
      </p:sp>
    </p:spTree>
  </p:cSld>
  <p:transition spd="slow">
    <p:wheel spokes="8"/>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
          <p:cNvSpPr/>
          <p:nvPr/>
        </p:nvSpPr>
        <p:spPr>
          <a:xfrm flipV="1" rot="10800000">
            <a:off x="0" y="-695160"/>
            <a:ext cx="9144000" cy="880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إن الخلق ومنذ أن أكل آدم - عليه السلام - من الشجرة وهم يعيشون تحت وطأة الخطيئة ، فالمولود يولد مخطئاً ويعيش مخطئا بعيدا عن الله عز وجل جراء تلك الخطيئة الأولى ، فلما أراد الله أن يغفر لهم أخرج ابنه وأسكنه في بطن مريم العذراء - عليها السلام - يتغذى مما في بطنها، ثم أخرجه مولوداً ، وترعرع كما يترعرع الصبيان ، حتى إذا شبَّ وكبر ، سلمه لأعدائه ليصلبوه ، فيكون ذلك كفارة عن خطيئة آدم - عليه السلام - التي لحقت سائر الناس</a:t>
            </a:r>
            <a:r>
              <a:rPr b="0" lang="ar-S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07" name="Rectangle 11"/>
          <p:cNvSpPr/>
          <p:nvPr/>
        </p:nvSpPr>
        <p:spPr>
          <a:xfrm>
            <a:off x="0" y="0"/>
            <a:ext cx="3017880" cy="792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179280" y="-1577160"/>
            <a:ext cx="8785440" cy="9969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raditional Arabic"/>
                <a:cs typeface="Traditional Arabic"/>
              </a:rPr>
              <a:t>ويذهب النصارى إلى أبعد من ذلك في تفسير حادثة صلب الإله - في نظرهم - إذ يعتقدون أن المسيح - ويسمونه المخلص - لم يخلصهم من خطيئة آدم الأولى فحسب ، بل خلصهم من جميع الخطايا التي ارتكبوها والتي سيرتكبونها ، إذ يكفي - في نظرهم - أن يؤمن النصراني بالمسيح لينال رضا الله ، وليفعل بعد ذلك ما يشاء .</a:t>
            </a:r>
            <a:endParaRPr b="0" lang="en-US" sz="5400" spc="-1" strike="noStrike">
              <a:solidFill>
                <a:srgbClr val="000000"/>
              </a:solidFill>
              <a:latin typeface="Arial"/>
            </a:endParaRPr>
          </a:p>
        </p:txBody>
      </p:sp>
    </p:spTree>
  </p:cSld>
  <p:transition spd="slow">
    <p:wheel spokes="8"/>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
          <p:cNvSpPr/>
          <p:nvPr/>
        </p:nvSpPr>
        <p:spPr>
          <a:xfrm>
            <a:off x="0" y="-1169640"/>
            <a:ext cx="9144000" cy="9146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aditional Arabic"/>
                <a:ea typeface="Traditional Arabic"/>
              </a:rPr>
              <a:t> </a:t>
            </a:r>
            <a:r>
              <a:rPr b="0" lang="ar-SA" sz="5400" spc="-1" strike="noStrike">
                <a:solidFill>
                  <a:srgbClr val="000000"/>
                </a:solidFill>
                <a:latin typeface="Traditional Arabic"/>
                <a:ea typeface="Traditional Arabic"/>
              </a:rPr>
              <a:t>  أصل عقيدة الصلب</a:t>
            </a:r>
            <a:endParaRPr b="0" lang="en-US" sz="5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raditional Arabic"/>
                <a:ea typeface="Traditional Arabic"/>
              </a:rPr>
              <a:t> هي في أصلها عقيدة وثنية إذ يعترف كثير من النصارى أن عقيدتا الصلب والتثليث لا تعقل  والعمدة عندهم فيها نقلها في كتبهم المقدسة، وعقيدة صلب المسيح مقرونه بفكرة الفداء والخطيئة الأولى وهي عقيدة وثنية محضه تمتد جذورها إلي مئات السنين قبل ميلاد المسيح عليه السلام .</a:t>
            </a:r>
            <a:endParaRPr b="0" lang="en-US" sz="5400" spc="-1" strike="noStrike">
              <a:solidFill>
                <a:srgbClr val="000000"/>
              </a:solidFill>
              <a:latin typeface="Arial"/>
            </a:endParaRPr>
          </a:p>
        </p:txBody>
      </p:sp>
    </p:spTree>
  </p:cSld>
  <p:transition spd="slow">
    <p:randomBar dir="vert"/>
    <p:sndAc>
      <p:stSnd>
        <p:snd r:embed="rId1" name="cashreg.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مستطيل 2"/>
          <p:cNvSpPr/>
          <p:nvPr/>
        </p:nvSpPr>
        <p:spPr>
          <a:xfrm>
            <a:off x="179280" y="404640"/>
            <a:ext cx="878544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أتت فكرة الصلب ، وسفك دم المسيح عليه السلام، عن خطايا البشر من بولس الذي تبنى هذه الفكرة، وجعلها عقيدة من العقائد النصرانية، وقد عزم بولس على أن يجعل من الصلب وسفك الدم هو الأساس في النصرانية، بل عزم على ألا يعرف عن النصرانية شيئا غيره</a:t>
            </a:r>
            <a:endParaRPr b="0" lang="en-US" sz="5400" spc="-1" strike="noStrike">
              <a:solidFill>
                <a:srgbClr val="000000"/>
              </a:solidFill>
              <a:latin typeface="Arial"/>
            </a:endParaRPr>
          </a:p>
        </p:txBody>
      </p:sp>
    </p:spTree>
  </p:cSld>
  <p:transition spd="slow">
    <p:wedge/>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611280" y="-1169640"/>
            <a:ext cx="8137440" cy="90550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raditional Arabic"/>
                <a:cs typeface="Traditional Arabic"/>
              </a:rPr>
              <a:t>مكانة عقيدة الصلب عند النصارى:</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raditional Arabic"/>
                <a:cs typeface="Traditional Arabic"/>
              </a:rPr>
              <a:t>عقيدة صلب المسيح فداء للبشر يجعلها دعاة النصارى قاعدة  دعوتهم وأساسها، فهي عندهم أصل الدين وأساسه والتثليث يليها، لأن أصل الدين يدعى إليه أولا ، ويجعل ما عداه تابعا له</a:t>
            </a:r>
            <a:r>
              <a:rPr b="0" lang="ar-SA" sz="6000" spc="-1" strike="noStrike">
                <a:solidFill>
                  <a:srgbClr val="000000"/>
                </a:solidFill>
                <a:latin typeface="Traditional Arabic"/>
                <a:cs typeface="Traditional Arabic"/>
              </a:rPr>
              <a:t>،</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p:txBody>
      </p:sp>
    </p:spTree>
  </p:cSld>
  <p:transition spd="slow">
    <p:checker dir="vert"/>
    <p:sndAc>
      <p:stSnd>
        <p:snd r:embed="rId1" name="cashreg.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Rectangle 1" descr=""/>
          <p:cNvPicPr/>
          <p:nvPr/>
        </p:nvPicPr>
        <p:blipFill>
          <a:blip r:embed="rId1"/>
          <a:stretch/>
        </p:blipFill>
        <p:spPr>
          <a:xfrm>
            <a:off x="743040" y="615960"/>
            <a:ext cx="7218360" cy="5413320"/>
          </a:xfrm>
          <a:prstGeom prst="rect">
            <a:avLst/>
          </a:prstGeom>
          <a:ln w="0">
            <a:noFill/>
          </a:ln>
        </p:spPr>
      </p:pic>
    </p:spTree>
  </p:cSld>
  <p:transition spd="slow">
    <p:push dir="d"/>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مستطيل 2"/>
          <p:cNvSpPr/>
          <p:nvPr/>
        </p:nvSpPr>
        <p:spPr>
          <a:xfrm>
            <a:off x="0" y="189000"/>
            <a:ext cx="8964720" cy="832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يؤمن المسلمون أن عيسى بن مريم لم يُصلَب بينما صُلب شبيه له لان أحد حواري المسيح اخبر اليهود بموقعه فشبهه الله بصوره المسيح، وأن الله رفع عيسى بن مريم إليه إلى أن يحين الوقت الذي يبعثه الله ثانيةً إلى الأرض ليقتل المسيح الدجال عند قرب يوم القيامة ثم يموت ليبعث حيا يوم القيامة</a:t>
            </a:r>
            <a:endParaRPr b="0" lang="en-US" sz="5400" spc="-1" strike="noStrike">
              <a:solidFill>
                <a:srgbClr val="000000"/>
              </a:solidFill>
              <a:latin typeface="Arial"/>
            </a:endParaRPr>
          </a:p>
        </p:txBody>
      </p:sp>
    </p:spTree>
  </p:cSld>
  <p:transition spd="slow">
    <p:plus/>
    <p:sndAc>
      <p:stSnd>
        <p:snd r:embed="rId1" name="whoosh.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179280" y="-1008000"/>
            <a:ext cx="8856720" cy="9054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وقد ورد ذلك صريحا في القرآن </a:t>
            </a:r>
            <a:r>
              <a:rPr b="0" lang="ar-SA" sz="6000" spc="-1" strike="noStrike">
                <a:solidFill>
                  <a:srgbClr val="000000"/>
                </a:solidFill>
                <a:latin typeface="Arial"/>
              </a:rPr>
              <a:t>﴿ 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بَلْ رَفَعَهُ اللَّهُ إِلَيْهِ وَكَانَ اللَّهُ عَزِيزًا حَكِيمًا﴾</a:t>
            </a:r>
            <a:endParaRPr b="0" lang="en-US" sz="6000" spc="-1" strike="noStrike">
              <a:solidFill>
                <a:srgbClr val="000000"/>
              </a:solidFill>
              <a:latin typeface="Arial"/>
            </a:endParaRPr>
          </a:p>
        </p:txBody>
      </p:sp>
    </p:spTree>
  </p:cSld>
  <p:transition spd="slow">
    <p:comb dir="vert"/>
    <p:sndAc>
      <p:stSnd>
        <p:snd r:embed="rId1" name="hamm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مستطيل 1" descr=""/>
          <p:cNvPicPr/>
          <p:nvPr/>
        </p:nvPicPr>
        <p:blipFill>
          <a:blip r:embed="rId1"/>
          <a:stretch/>
        </p:blipFill>
        <p:spPr>
          <a:xfrm>
            <a:off x="324000" y="963720"/>
            <a:ext cx="8515080" cy="4065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عنوان 1" descr=""/>
          <p:cNvPicPr/>
          <p:nvPr/>
        </p:nvPicPr>
        <p:blipFill>
          <a:blip r:embed="rId1"/>
          <a:stretch/>
        </p:blipFill>
        <p:spPr>
          <a:xfrm>
            <a:off x="347760" y="201600"/>
            <a:ext cx="8205840" cy="3071880"/>
          </a:xfrm>
          <a:prstGeom prst="rect">
            <a:avLst/>
          </a:prstGeom>
          <a:ln w="0">
            <a:noFill/>
          </a:ln>
        </p:spPr>
      </p:pic>
      <p:sp>
        <p:nvSpPr>
          <p:cNvPr id="216" name="PlaceHolder 1"/>
          <p:cNvSpPr>
            <a:spLocks noGrp="1"/>
          </p:cNvSpPr>
          <p:nvPr>
            <p:ph type="subTitle"/>
          </p:nvPr>
        </p:nvSpPr>
        <p:spPr>
          <a:xfrm>
            <a:off x="533160" y="3228840"/>
            <a:ext cx="7854840" cy="2864160"/>
          </a:xfrm>
          <a:prstGeom prst="rect">
            <a:avLst/>
          </a:prstGeom>
          <a:noFill/>
          <a:ln w="0">
            <a:noFill/>
          </a:ln>
        </p:spPr>
        <p:txBody>
          <a:bodyPr lIns="0" rIns="18360" tIns="46800" bIns="46800" anchor="t">
            <a:noAutofit/>
          </a:bodyPr>
          <a:p>
            <a:pPr algn="ctr" rtl="1">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onstantia"/>
              </a:rPr>
              <a:t>اشراف </a:t>
            </a:r>
            <a:endParaRPr b="0" lang="en-US" sz="9600" spc="-1" strike="noStrike">
              <a:solidFill>
                <a:srgbClr val="ffffff"/>
              </a:solidFill>
              <a:latin typeface="Constantia"/>
            </a:endParaRPr>
          </a:p>
          <a:p>
            <a:pPr algn="ctr" rtl="1">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onstantia"/>
              </a:rPr>
              <a:t>أ.د سليمان العيد</a:t>
            </a:r>
            <a:endParaRPr b="0" lang="en-US" sz="9600" spc="-1" strike="noStrike">
              <a:solidFill>
                <a:srgbClr val="ffffff"/>
              </a:solidFill>
              <a:latin typeface="Constantia"/>
            </a:endParaRPr>
          </a:p>
        </p:txBody>
      </p:sp>
    </p:spTree>
  </p:cSld>
  <p:transition spd="slow">
    <p:comb dir="horz"/>
    <p:sndAc>
      <p:stSnd>
        <p:snd r:embed="rId2"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H:\بحوث الماجستير لخميس\ماجستير العقيدة م 2 خميس\الملل والنحل د سليمان العيد\copts-arrivals_93809.jpg"/>
          <p:cNvPicPr/>
          <p:nvPr/>
        </p:nvPicPr>
        <p:blipFill>
          <a:blip r:embed="rId1"/>
          <a:stretch/>
        </p:blipFill>
        <p:spPr>
          <a:xfrm>
            <a:off x="0" y="0"/>
            <a:ext cx="9144000" cy="6858000"/>
          </a:xfrm>
          <a:prstGeom prst="rect">
            <a:avLst/>
          </a:prstGeom>
          <a:ln w="0">
            <a:noFill/>
          </a:ln>
        </p:spPr>
      </p:pic>
    </p:spTree>
  </p:cSld>
  <p:transition spd="slow">
    <p:newsflash/>
    <p:sndAc>
      <p:stSnd>
        <p:snd r:embed="rId2" name="cashreg.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مستطيل 1" descr=""/>
          <p:cNvPicPr/>
          <p:nvPr/>
        </p:nvPicPr>
        <p:blipFill>
          <a:blip r:embed="rId1"/>
          <a:stretch/>
        </p:blipFill>
        <p:spPr>
          <a:xfrm>
            <a:off x="390600" y="244440"/>
            <a:ext cx="8435880" cy="3967200"/>
          </a:xfrm>
          <a:prstGeom prst="rect">
            <a:avLst/>
          </a:prstGeom>
          <a:ln w="0">
            <a:noFill/>
          </a:ln>
        </p:spPr>
      </p:pic>
    </p:spTree>
  </p:cSld>
  <p:transition spd="slow">
    <p:pull dir="ld"/>
    <p:sndAc>
      <p:stSnd>
        <p:snd r:embed="rId2"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مستطيل 1" descr=""/>
          <p:cNvPicPr/>
          <p:nvPr/>
        </p:nvPicPr>
        <p:blipFill>
          <a:blip r:embed="rId1"/>
          <a:stretch/>
        </p:blipFill>
        <p:spPr>
          <a:xfrm>
            <a:off x="573120" y="646200"/>
            <a:ext cx="8107200" cy="5164200"/>
          </a:xfrm>
          <a:prstGeom prst="rect">
            <a:avLst/>
          </a:prstGeom>
          <a:ln w="0">
            <a:noFill/>
          </a:ln>
        </p:spPr>
      </p:pic>
    </p:spTree>
  </p:cSld>
  <p:transition spd="slow">
    <p:wheel spokes="3"/>
    <p:sndAc>
      <p:stSnd>
        <p:snd r:embed="rId2" name="cashreg.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H:\بحوث الماجستير لخميس\ماجستير العقيدة م 2 خميس\الملل والنحل د سليمان العيد\41272_150578594964733_367342_n.jpg"/>
          <p:cNvPicPr/>
          <p:nvPr/>
        </p:nvPicPr>
        <p:blipFill>
          <a:blip r:embed="rId1"/>
          <a:stretch/>
        </p:blipFill>
        <p:spPr>
          <a:xfrm>
            <a:off x="0" y="0"/>
            <a:ext cx="9144000" cy="6858000"/>
          </a:xfrm>
          <a:prstGeom prst="rect">
            <a:avLst/>
          </a:prstGeom>
          <a:ln w="0">
            <a:noFill/>
          </a:ln>
        </p:spPr>
      </p:pic>
    </p:spTree>
  </p:cSld>
  <p:transition spd="slow">
    <p:dissolve/>
    <p:sndAc>
      <p:stSnd>
        <p:snd r:embed="rId2" name="explod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مستطيل 2" descr=""/>
          <p:cNvPicPr/>
          <p:nvPr/>
        </p:nvPicPr>
        <p:blipFill>
          <a:blip r:embed="rId1"/>
          <a:stretch/>
        </p:blipFill>
        <p:spPr>
          <a:xfrm>
            <a:off x="-609480" y="-463680"/>
            <a:ext cx="9759960" cy="7639200"/>
          </a:xfrm>
          <a:prstGeom prst="rect">
            <a:avLst/>
          </a:prstGeom>
          <a:ln w="0">
            <a:noFill/>
          </a:ln>
        </p:spPr>
      </p:pic>
    </p:spTree>
  </p:cSld>
  <p:transition spd="slow">
    <p:cover dir="lu"/>
    <p:sndAc>
      <p:stSnd>
        <p:snd r:embed="rId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0" y="-770760"/>
            <a:ext cx="9144000" cy="8323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تعريف الصل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هو التعليق على خشبة الصليب.</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واليهود ، والنصارى يعتقدون أن المسيح عليه السلام مات مصلوبا.</a:t>
            </a:r>
            <a:endParaRPr b="0" lang="en-US" sz="5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rPr>
              <a:t>     ويزعم اليهود أن المسيح كفر بالله لهذا حملوا عليه وطالبوا بدمه، وزعموا أنه مات مصلوبا والموت على الصليب يستلزم اللعنة عندهم.</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p:transition spd="slow">
    <p:randomBar dir="horz"/>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مستطيل 1"/>
          <p:cNvSpPr/>
          <p:nvPr/>
        </p:nvSpPr>
        <p:spPr>
          <a:xfrm>
            <a:off x="0" y="189000"/>
            <a:ext cx="9144000" cy="667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rPr>
              <a:t>أما النصارى فهم يعتقدون كذلك أن المسيح مات مصلوبا، إلا أنهم يعللون ذلك بأنه: صلب فداء للبشر لتخليصهم من خطيئة أبيهم آدم عليه السلام، وهي أكله من الشجرة التي نهي عنها، فانتقلت الخطيئة إلى أبنائه، وأغضبت الله عليهم أيضا، فكان لابد أن يتحمل هذا الإثم وسيط ذا وضع متميز خال من الإثم والخطأ</a:t>
            </a:r>
            <a:endParaRPr b="0" lang="en-US" sz="4800" spc="-1" strike="noStrike">
              <a:solidFill>
                <a:srgbClr val="000000"/>
              </a:solidFill>
              <a:latin typeface="Arial"/>
            </a:endParaRPr>
          </a:p>
        </p:txBody>
      </p:sp>
    </p:spTree>
  </p:cSld>
  <p:transition spd="slow">
    <p:wheel spokes="8"/>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8:50:21Z</dcterms:created>
  <dc:creator>سليمان</dc:creator>
  <dc:description/>
  <dc:language>en-US</dc:language>
  <cp:lastModifiedBy>Suleman</cp:lastModifiedBy>
  <dcterms:modified xsi:type="dcterms:W3CDTF">2013-05-23T12:05:59Z</dcterms:modified>
  <cp:revision>114</cp:revision>
  <dc:subject/>
  <dc:title>الملل والنحل</dc:title>
</cp:coreProperties>
</file>