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gif" ContentType="image/gif"/>
  <Override PartName="/ppt/media/image1.wmf" ContentType="image/x-wmf"/>
  <Override PartName="/ppt/media/image2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AC7-5D1A-45B8-885B-81F9E53C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9A0-9910-4A72-9DF9-47AA730B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ABA2-716D-4625-901D-0A204D6D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F9F-D1EC-49A6-A6B5-6DC7BDB8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E3D6-AA6E-4B2F-B88D-2AB84EB3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FEBD-67AF-43A2-B1D8-18A4EB27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B93E-5FBC-48F2-8782-18FA9741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DD54-C8BD-4241-BD63-282862D5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FE17-A3CD-4D53-B9FA-B3D500A3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7F39-5939-450A-AD1A-609C0BC4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FE78-FAB0-4E09-922E-589C6517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7C2-54FB-49A5-98E8-46BC750D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F252-1E1C-43E7-9C4E-80754D9F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0F29-D331-4429-9CEF-38C3394E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2B16-3378-4871-8D11-2A5CD95D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C93A-1545-4FA5-A1E0-A6DB5F20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0F37-54C2-4D20-9FB4-61FF7EAD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A40-DDC6-405F-ADB1-7DCDFE3F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208-8051-4366-A7C9-A1DC3D57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AF1-6BD9-4970-B963-ED561309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55F-530F-430F-B51B-6C7D2EBE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EA2B-3F79-4AAC-A4DF-2D4DD420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F07-A148-40AA-8A5B-DF01FAD1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EDB-F821-474F-8C9C-A999FEDB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183D-740D-4CD8-A49D-3B8BD6A230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320"/>
              <a:ext cx="1190520" cy="19389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8960"/>
                <a:gd name="textAreaBottom" fmla="*/ 1939320 h 193896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560"/>
              <a:ext cx="1219320" cy="19990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080"/>
                <a:gd name="textAreaBottom" fmla="*/ 1999440 h 199908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9520"/>
              <a:ext cx="1231920" cy="40348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4880"/>
                <a:gd name="textAreaBottom" fmla="*/ 4035240 h 403488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9880"/>
              <a:ext cx="979560" cy="218340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9840"/>
              <a:ext cx="914400" cy="50457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5760"/>
                <a:gd name="textAreaBottom" fmla="*/ 5046120 h 504576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4960"/>
              <a:ext cx="909720" cy="30697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9720"/>
                <a:gd name="textAreaBottom" fmla="*/ 3070080 h 30697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880"/>
              <a:ext cx="576360" cy="33508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0880"/>
                <a:gd name="textAreaBottom" fmla="*/ 3351240 h 33508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4320"/>
              <a:ext cx="300240" cy="33512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1240"/>
                <a:gd name="textAreaBottom" fmla="*/ 3351600 h 33512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5760" y="3317400"/>
              <a:ext cx="6854760" cy="22536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7289-D308-4D40-BF42-6016834EA9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193" name="Freeform 16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>
                <a:gd name="textAreaLeft" fmla="*/ 0 w 2011680"/>
                <a:gd name="textAreaRight" fmla="*/ 2012040 w 2011680"/>
                <a:gd name="textAreaTop" fmla="*/ 0 h 3076560"/>
                <a:gd name="textAreaBottom" fmla="*/ 3076920 h 307656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7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8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9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20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21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22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23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4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25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26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27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28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29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30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31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32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33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34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35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36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37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38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39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40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41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42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43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44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45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46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47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48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49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50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333360"/>
                <a:gd name="textAreaBottom" fmla="*/ 333360 h 33336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51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52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53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54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55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56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57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58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59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60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61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62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63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64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65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66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67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68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69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70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1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72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73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74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75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76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77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78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79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80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81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82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83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84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85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86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87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88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89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90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91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92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93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94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95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96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97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98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99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100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01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02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103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104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105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106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107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08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09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10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11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12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13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14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15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16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17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18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19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20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21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122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123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>
                <a:gd name="textAreaLeft" fmla="*/ 0 w 3270240"/>
                <a:gd name="textAreaRight" fmla="*/ 3270600 w 3270240"/>
                <a:gd name="textAreaTop" fmla="*/ 0 h 2609640"/>
                <a:gd name="textAreaBottom" fmla="*/ 2610000 h 260964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1" name="Picture 7" descr="artplus_nature_naturalcity42_a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artplus_nature_naturalcity42_f"/>
          <p:cNvPicPr/>
          <p:nvPr/>
        </p:nvPicPr>
        <p:blipFill>
          <a:blip r:embed="rId4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artplus_nature_naturalcity42_b"/>
          <p:cNvPicPr/>
          <p:nvPr/>
        </p:nvPicPr>
        <p:blipFill>
          <a:blip r:embed="rId5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artplus_nature_naturalcity42_e"/>
          <p:cNvPicPr/>
          <p:nvPr/>
        </p:nvPicPr>
        <p:blipFill>
          <a:blip r:embed="rId6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1" descr="artplus_nature_naturalcity42_d"/>
          <p:cNvPicPr/>
          <p:nvPr/>
        </p:nvPicPr>
        <p:blipFill>
          <a:blip r:embed="rId7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C:\Documents and Settings\House\Desktop\الصوره-بعد-التعديل.gif"/>
          <p:cNvPicPr/>
          <p:nvPr/>
        </p:nvPicPr>
        <p:blipFill>
          <a:blip r:embed="rId8"/>
          <a:stretch/>
        </p:blipFill>
        <p:spPr>
          <a:xfrm>
            <a:off x="9501120" y="2643120"/>
            <a:ext cx="125748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C:\Documents and Settings\House\Desktop\خريطة-السعودية1.gif"/>
          <p:cNvPicPr/>
          <p:nvPr/>
        </p:nvPicPr>
        <p:blipFill>
          <a:blip r:embed="rId9"/>
          <a:stretch/>
        </p:blipFill>
        <p:spPr>
          <a:xfrm>
            <a:off x="5425920" y="4065480"/>
            <a:ext cx="2224080" cy="12985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2098440"/>
            <a:ext cx="5214960" cy="25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2060"/>
                </a:solidFill>
                <a:latin typeface="Arial"/>
                <a:cs typeface="PT Bold Heading"/>
              </a:rPr>
              <a:t>الـجــــــــودة لقسم رياض الاطفال</a:t>
            </a:r>
            <a:r>
              <a:rPr b="0" lang="ar-SA" sz="5400" spc="-1" strike="noStrike">
                <a:solidFill>
                  <a:srgbClr val="002060"/>
                </a:solidFill>
                <a:latin typeface="Arial"/>
                <a:ea typeface="PT Bold Heading"/>
              </a:rPr>
              <a:t>           </a:t>
            </a:r>
            <a:endParaRPr b="0" lang="en-US" sz="54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347" name="Picture 3" descr="C:\Documents and Settings\House\My Documents\My Pictures\سعود.gif"/>
          <p:cNvPicPr/>
          <p:nvPr/>
        </p:nvPicPr>
        <p:blipFill>
          <a:blip r:embed="rId1"/>
          <a:stretch/>
        </p:blipFill>
        <p:spPr>
          <a:xfrm>
            <a:off x="7905600" y="493560"/>
            <a:ext cx="903600" cy="21830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" descr=""/>
          <p:cNvPicPr/>
          <p:nvPr/>
        </p:nvPicPr>
        <p:blipFill>
          <a:blip r:embed="rId2"/>
          <a:stretch/>
        </p:blipFill>
        <p:spPr>
          <a:xfrm>
            <a:off x="2011320" y="3895560"/>
            <a:ext cx="1255680" cy="1535400"/>
          </a:xfrm>
          <a:prstGeom prst="rect">
            <a:avLst/>
          </a:prstGeom>
          <a:ln w="0">
            <a:noFill/>
          </a:ln>
        </p:spPr>
      </p:pic>
      <p:grpSp>
        <p:nvGrpSpPr>
          <p:cNvPr id="349" name="مجموعة 198"/>
          <p:cNvGrpSpPr/>
          <p:nvPr/>
        </p:nvGrpSpPr>
        <p:grpSpPr>
          <a:xfrm>
            <a:off x="642960" y="214200"/>
            <a:ext cx="3071520" cy="2786040"/>
            <a:chOff x="642960" y="214200"/>
            <a:chExt cx="3071520" cy="2786040"/>
          </a:xfrm>
        </p:grpSpPr>
        <p:grpSp>
          <p:nvGrpSpPr>
            <p:cNvPr id="350" name="Group 25"/>
            <p:cNvGrpSpPr/>
            <p:nvPr/>
          </p:nvGrpSpPr>
          <p:grpSpPr>
            <a:xfrm>
              <a:off x="642960" y="214200"/>
              <a:ext cx="3071520" cy="2786040"/>
              <a:chOff x="642960" y="214200"/>
              <a:chExt cx="3071520" cy="2786040"/>
            </a:xfrm>
          </p:grpSpPr>
          <p:sp>
            <p:nvSpPr>
              <p:cNvPr id="351" name="Oval 26"/>
              <p:cNvSpPr/>
              <p:nvPr/>
            </p:nvSpPr>
            <p:spPr>
              <a:xfrm flipH="1">
                <a:off x="642960" y="214200"/>
                <a:ext cx="3071520" cy="2786040"/>
              </a:xfrm>
              <a:prstGeom prst="ellipse">
                <a:avLst/>
              </a:prstGeom>
              <a:noFill/>
              <a:ln w="1260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27"/>
              <p:cNvSpPr/>
              <p:nvPr/>
            </p:nvSpPr>
            <p:spPr>
              <a:xfrm flipH="1">
                <a:off x="845640" y="404640"/>
                <a:ext cx="2668320" cy="2420280"/>
              </a:xfrm>
              <a:prstGeom prst="ellipse">
                <a:avLst/>
              </a:prstGeom>
              <a:noFill/>
              <a:ln w="284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28"/>
              <p:cNvSpPr/>
              <p:nvPr/>
            </p:nvSpPr>
            <p:spPr>
              <a:xfrm flipH="1">
                <a:off x="1047600" y="614880"/>
                <a:ext cx="2243880" cy="2035440"/>
              </a:xfrm>
              <a:prstGeom prst="ellipse">
                <a:avLst/>
              </a:prstGeom>
              <a:noFill/>
              <a:ln w="3816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Oval 29"/>
              <p:cNvSpPr/>
              <p:nvPr/>
            </p:nvSpPr>
            <p:spPr>
              <a:xfrm flipH="1">
                <a:off x="1279440" y="824760"/>
                <a:ext cx="1819440" cy="1650600"/>
              </a:xfrm>
              <a:prstGeom prst="ellipse">
                <a:avLst/>
              </a:prstGeom>
              <a:noFill/>
              <a:ln w="572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30"/>
              <p:cNvSpPr/>
              <p:nvPr/>
            </p:nvSpPr>
            <p:spPr>
              <a:xfrm flipH="1">
                <a:off x="1482120" y="1026000"/>
                <a:ext cx="1395360" cy="1265400"/>
              </a:xfrm>
              <a:prstGeom prst="ellipse">
                <a:avLst/>
              </a:prstGeom>
              <a:noFill/>
              <a:ln w="572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31"/>
              <p:cNvSpPr/>
              <p:nvPr/>
            </p:nvSpPr>
            <p:spPr>
              <a:xfrm flipH="1">
                <a:off x="1684800" y="1200960"/>
                <a:ext cx="990000" cy="897840"/>
              </a:xfrm>
              <a:prstGeom prst="ellipse">
                <a:avLst/>
              </a:prstGeom>
              <a:noFill/>
              <a:ln w="7632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32"/>
              <p:cNvSpPr/>
              <p:nvPr/>
            </p:nvSpPr>
            <p:spPr>
              <a:xfrm flipH="1">
                <a:off x="1867680" y="1375920"/>
                <a:ext cx="623520" cy="565560"/>
              </a:xfrm>
              <a:prstGeom prst="ellipse">
                <a:avLst/>
              </a:prstGeom>
              <a:noFill/>
              <a:ln w="936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58" name="Picture 33" descr="worldmap_ani8"/>
            <p:cNvPicPr/>
            <p:nvPr/>
          </p:nvPicPr>
          <p:blipFill>
            <a:blip r:embed="rId3"/>
            <a:stretch/>
          </p:blipFill>
          <p:spPr>
            <a:xfrm>
              <a:off x="1465560" y="1003320"/>
              <a:ext cx="1438200" cy="1310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4bc40"/>
                </a:solidFill>
                <a:latin typeface="Arial"/>
              </a:rPr>
              <a:t>معايير </a:t>
            </a:r>
            <a:r>
              <a:rPr b="1" i="1" lang="en-US" sz="3600" spc="-1" strike="noStrike">
                <a:solidFill>
                  <a:srgbClr val="f4bc40"/>
                </a:solidFill>
                <a:latin typeface="Arial"/>
              </a:rPr>
              <a:t>NAEYC</a:t>
            </a:r>
            <a:r>
              <a:rPr b="1" i="1" lang="en-US" sz="3600" spc="-1" strike="noStrike">
                <a:solidFill>
                  <a:srgbClr val="f4bc40"/>
                </a:solidFill>
                <a:latin typeface="Arial"/>
              </a:rPr>
              <a:t> </a:t>
            </a:r>
            <a:r>
              <a:rPr b="1" i="1" lang="ar-SA" sz="3600" spc="-1" strike="noStrike">
                <a:solidFill>
                  <a:srgbClr val="f4bc40"/>
                </a:solidFill>
                <a:latin typeface="Arial"/>
              </a:rPr>
              <a:t> لبرامج الاعداد المهنى فى مجال الطفولة المبكرة</a:t>
            </a:r>
            <a:r>
              <a:rPr b="0" lang="ar-SA" sz="36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ارتقاء بنمو و تعلم الطفل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 : "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عداد الدارسين يجب ان يرتكز على اساس من المعرفة بنمو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لطفل .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بحيث يستخدمون فهمهم  لخصائص الاطفال و حاجاتهم و للتفاعلات المتعددة المؤثرة على نمو الاطفال و تعلمهم , لايجاد بيئة صحية , ومحترمة , و داعمة , و تحمل قدرا من التحدى الملائم لكل طفل 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f4bc40"/>
                </a:solidFill>
                <a:latin typeface="Arial"/>
              </a:rPr>
              <a:t>و ذلك يشمل المؤشرات التالية</a:t>
            </a:r>
            <a:r>
              <a:rPr b="0" i="1" lang="ar-SA" sz="3600" spc="-1" strike="noStrike">
                <a:solidFill>
                  <a:srgbClr val="f4bc40"/>
                </a:solidFill>
                <a:latin typeface="Arial"/>
              </a:rPr>
              <a:t> </a:t>
            </a:r>
            <a:r>
              <a:rPr b="0" i="1" lang="ar-SA" sz="3600" spc="-1" strike="noStrike">
                <a:solidFill>
                  <a:srgbClr val="f4bc40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معرفة و فهم خصائص الاطفال الصغار و حاجاته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معرفة و فهم التأثيرات المتعددة على النمو و التعل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يستخدم المعرفة النمائية لايجاد بيئة صحية , و محترمة , و داعمة , و مشوقة ( تحمل قدر ملائم من التحدى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 u="sng">
                <a:solidFill>
                  <a:srgbClr val="f4bc40"/>
                </a:solidFill>
                <a:uFillTx/>
                <a:latin typeface="Arial"/>
              </a:rPr>
              <a:t>2</a:t>
            </a:r>
            <a:r>
              <a:rPr b="1" i="1" lang="ar-SA" sz="4000" spc="-1" strike="noStrike" u="sng">
                <a:solidFill>
                  <a:srgbClr val="f4bc40"/>
                </a:solidFill>
                <a:uFillTx/>
                <a:latin typeface="Arial"/>
              </a:rPr>
              <a:t>- بناءعلاقات بكل من الاسرة و المجتمع :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"يفهم الدارسون ان التربية الناجحة فى الطفولة المبكرة تعتمد على الشراكة مع اسر الاطفال و المجتمع . و هم يعرفون عن اهمية اسر الاطفال و المجتمع و الخصائص المعقدة لكل منهم و يفهمون ذلك و يقدرونه . و هم يستخدمون هذا الفهم لتحقيق علاقات احترام متبادلة تدعم و تقوى موقف الاسر و تشرك كل اسر الاطفال  فى نمو و تعلم اطفالهم 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وذلك يشمل المؤشرات التالية</a:t>
            </a: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معرفة و فهم الخصائص المتنوعة للاسرة و المجتم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دعم الاسر و المجتمع و دمجهم من  خلال علاقات من الاحترام المتباد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شراك الاسر و المجتمع فى نمو اطفالهم و تعلمه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 u="sng">
                <a:solidFill>
                  <a:srgbClr val="f4bc40"/>
                </a:solidFill>
                <a:uFillTx/>
                <a:latin typeface="Arial"/>
              </a:rPr>
              <a:t>3-</a:t>
            </a:r>
            <a:r>
              <a:rPr b="1" i="1" lang="ar-SA" sz="3600" spc="-1" strike="noStrike" u="sng">
                <a:solidFill>
                  <a:srgbClr val="f4bc40"/>
                </a:solidFill>
                <a:uFillTx/>
                <a:latin typeface="Arial"/>
              </a:rPr>
              <a:t>الملاحظة , و التوثيق , و القياس لدعم الاطفال الصغار و اسرهم</a:t>
            </a:r>
            <a:r>
              <a:rPr b="0" lang="en-US" sz="36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يفهم الدارسون ان ملاحظة الطفل و التوثيق و الاشكال الاخرى من القياس تعتبر مركزية فى ممارسات كل العاملين فى الطفولة المبكرة . و هم يعرفون عن الاهداف و يفهمون فوائد و استخدامات القياس . و هم يعرفون عن الملاحظة المنظمة و التوثيق و كما يستخدمون استراتيجيات  القياس الفعال و يستخدمونها بصورة مسئولة , بالشراكة مع الاسر و المهنيين الآخرين , لكى يؤثروا فى نمو كل طفل ."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و ذلك يشمل المؤشرات التالية</a:t>
            </a: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فهم اهداف القياس و فوائده و استخدامات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لمعرفة حول الشراكة فى القياس مع الاسر , و مع الزملاء المهنيي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لمعرفة حول الملاحظة والتوثيق و غيرها من ادوات و اتجاهات القياس الملائمة و استخدام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فهم و ممارسة القياس بمسئولية بهدف الارتقاء بالنواتج الايجابية لكل طف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 u="sng">
                <a:solidFill>
                  <a:srgbClr val="f4bc40"/>
                </a:solidFill>
                <a:uFillTx/>
                <a:latin typeface="Arial"/>
              </a:rPr>
              <a:t>4-</a:t>
            </a:r>
            <a:r>
              <a:rPr b="1" i="1" lang="ar-SA" sz="3600" spc="-1" strike="noStrike" u="sng">
                <a:solidFill>
                  <a:srgbClr val="f4bc40"/>
                </a:solidFill>
                <a:uFillTx/>
                <a:latin typeface="Arial"/>
              </a:rPr>
              <a:t>استخدام اتجاهات فعالة نمائيا للاتصال بالاطفال و اسرهم</a:t>
            </a:r>
            <a:r>
              <a:rPr b="0" lang="en-US" sz="36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يفهم الدارسون ان التدريس و التعلم مع الاطفال الصغار هو عمل معقد , و  ان نتائجه تتنوع اعتمادا على عمر الاطفال , و خصائصهم , و السياق الذى يظهر فيه التدريس و التعلم . و يفهمون كذلك العلاقات الايجابية و التفاعلات الداعمة ويستخدمونها باعتبارها الاساس لعملهم مع الاطفال الصغار و اسرهم . و يعرف الدارسين مدى واسع من الاساليب الملائمة نمائيا, و استراتيجيات التدريس , و ادوات للتواصل مع الاطفال و اسرهم , و يفهمونها و يطبقونها , و يؤثرون بصورة ايجابية فى  نمو الطفل و تعلمه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و ذلك يشمل المؤشرات التالية :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فهم العلاقات الايجابية و التفاعلات الداعمة باعتبارها الاساس للعمل مع الاطف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معرفة و فهم الاستراتيجيات و الادوات الفعالة فى التربية المبكر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ستخدام مخزون متسع من اتجاهات التدريس / التعلم الملائمة نمائ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لتأمل فى ممارساتهم الخاصة للارتقاء بالنواتج الايجابية لكل طف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 u="sng">
                <a:solidFill>
                  <a:srgbClr val="f4bc40"/>
                </a:solidFill>
                <a:uFillTx/>
                <a:latin typeface="Arial"/>
              </a:rPr>
              <a:t>5</a:t>
            </a:r>
            <a:r>
              <a:rPr b="1" i="1" lang="ar-SA" sz="3600" spc="-1" strike="noStrike" u="sng">
                <a:solidFill>
                  <a:srgbClr val="f4bc40"/>
                </a:solidFill>
                <a:uFillTx/>
                <a:latin typeface="Arial"/>
              </a:rPr>
              <a:t>-استخدام المحتوى المعرفى لبناء منهج شامل</a:t>
            </a:r>
            <a:r>
              <a:rPr b="0" lang="ar-SA" sz="36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ffffff"/>
                </a:solidFill>
                <a:latin typeface="Arial"/>
              </a:rPr>
              <a:t>" يستخدم الدارسون معرفتهم حول المواد الاكاديمية , لتصميم و تطبيق و تقييم الخبرات التى ترتقى بالنمو الايجابى و التعلم لكل طفل . و يفهم الخريجون اهمية المجالات النمائية و المواد الاكاديمية ( او المحتوى ) فى مناهج الطفولة المبكرة . و يعرفون المفاهيم الاساسية , ادوات البحث, و بناء مجالات المحتوى , بما فيها الموضوعات الاكاديمية , و يمكنهم تحديد المصادر التى تعاونهم على تعميق فهمهم . و يستخدم الخريجون معرفتهم الخاصة اضافة الى مصادر اخرى لتصميم ,  و تطبيق , و تقييم منهج شامل و مشوق يرتقى بنواتج النمو و التعلم لكل طفل "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و ذلك يشمل المؤشرات التالية :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فهم المحتوى المعرفى و المصادر فى العلوم الاكاديم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معرفة المفاهيم المركزية و استخدامها و كذلك ادوات البحث , و بناء العلوم الاكاديمية او المحتو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ستخدام معرفتهم الخاصة , و معايير التعلم المبكر الملائمة , و غيرها من المصادر و ذلك لتصميم , و تطبيق , و تقييم المنهج المشوق الشامل لكل طف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3675240"/>
            <a:ext cx="4834080" cy="25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2060"/>
                </a:solidFill>
                <a:latin typeface="Arial"/>
                <a:cs typeface="PT Bold Heading"/>
              </a:rPr>
              <a:t>الرؤية والرسالة</a:t>
            </a:r>
            <a:r>
              <a:rPr b="0" lang="ar-SA" sz="5400" spc="-1" strike="noStrike">
                <a:solidFill>
                  <a:srgbClr val="002060"/>
                </a:solidFill>
                <a:latin typeface="Arial"/>
                <a:ea typeface="PT Bold Heading"/>
              </a:rPr>
              <a:t>  </a:t>
            </a:r>
            <a:br>
              <a:rPr sz="5400"/>
            </a:br>
            <a:endParaRPr b="0" lang="en-US" sz="54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360" name="Picture 3" descr="C:\Documents and Settings\House\My Documents\My Pictures\سعود.gif"/>
          <p:cNvPicPr/>
          <p:nvPr/>
        </p:nvPicPr>
        <p:blipFill>
          <a:blip r:embed="rId1"/>
          <a:stretch/>
        </p:blipFill>
        <p:spPr>
          <a:xfrm>
            <a:off x="7905600" y="493560"/>
            <a:ext cx="903600" cy="2183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4438800" y="573120"/>
            <a:ext cx="1255680" cy="1536840"/>
          </a:xfrm>
          <a:prstGeom prst="rect">
            <a:avLst/>
          </a:prstGeom>
          <a:ln w="0">
            <a:noFill/>
          </a:ln>
        </p:spPr>
      </p:pic>
      <p:grpSp>
        <p:nvGrpSpPr>
          <p:cNvPr id="362" name="مجموعة 198"/>
          <p:cNvGrpSpPr/>
          <p:nvPr/>
        </p:nvGrpSpPr>
        <p:grpSpPr>
          <a:xfrm>
            <a:off x="642960" y="214200"/>
            <a:ext cx="3071520" cy="2786040"/>
            <a:chOff x="642960" y="214200"/>
            <a:chExt cx="3071520" cy="2786040"/>
          </a:xfrm>
        </p:grpSpPr>
        <p:grpSp>
          <p:nvGrpSpPr>
            <p:cNvPr id="363" name="Group 25"/>
            <p:cNvGrpSpPr/>
            <p:nvPr/>
          </p:nvGrpSpPr>
          <p:grpSpPr>
            <a:xfrm>
              <a:off x="642960" y="214200"/>
              <a:ext cx="3071520" cy="2786040"/>
              <a:chOff x="642960" y="214200"/>
              <a:chExt cx="3071520" cy="2786040"/>
            </a:xfrm>
          </p:grpSpPr>
          <p:sp>
            <p:nvSpPr>
              <p:cNvPr id="364" name="Oval 26"/>
              <p:cNvSpPr/>
              <p:nvPr/>
            </p:nvSpPr>
            <p:spPr>
              <a:xfrm flipH="1">
                <a:off x="642960" y="214200"/>
                <a:ext cx="3071520" cy="2786040"/>
              </a:xfrm>
              <a:prstGeom prst="ellipse">
                <a:avLst/>
              </a:prstGeom>
              <a:noFill/>
              <a:ln w="1260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27"/>
              <p:cNvSpPr/>
              <p:nvPr/>
            </p:nvSpPr>
            <p:spPr>
              <a:xfrm flipH="1">
                <a:off x="845640" y="404640"/>
                <a:ext cx="2668320" cy="2420280"/>
              </a:xfrm>
              <a:prstGeom prst="ellipse">
                <a:avLst/>
              </a:prstGeom>
              <a:noFill/>
              <a:ln w="284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28"/>
              <p:cNvSpPr/>
              <p:nvPr/>
            </p:nvSpPr>
            <p:spPr>
              <a:xfrm flipH="1">
                <a:off x="1047600" y="614880"/>
                <a:ext cx="2243880" cy="2035440"/>
              </a:xfrm>
              <a:prstGeom prst="ellipse">
                <a:avLst/>
              </a:prstGeom>
              <a:noFill/>
              <a:ln w="3816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29"/>
              <p:cNvSpPr/>
              <p:nvPr/>
            </p:nvSpPr>
            <p:spPr>
              <a:xfrm flipH="1">
                <a:off x="1279440" y="824760"/>
                <a:ext cx="1819440" cy="1650600"/>
              </a:xfrm>
              <a:prstGeom prst="ellipse">
                <a:avLst/>
              </a:prstGeom>
              <a:noFill/>
              <a:ln w="572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30"/>
              <p:cNvSpPr/>
              <p:nvPr/>
            </p:nvSpPr>
            <p:spPr>
              <a:xfrm flipH="1">
                <a:off x="1482120" y="1026000"/>
                <a:ext cx="1395360" cy="1265400"/>
              </a:xfrm>
              <a:prstGeom prst="ellipse">
                <a:avLst/>
              </a:prstGeom>
              <a:noFill/>
              <a:ln w="572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31"/>
              <p:cNvSpPr/>
              <p:nvPr/>
            </p:nvSpPr>
            <p:spPr>
              <a:xfrm flipH="1">
                <a:off x="1684800" y="1200960"/>
                <a:ext cx="990000" cy="897840"/>
              </a:xfrm>
              <a:prstGeom prst="ellipse">
                <a:avLst/>
              </a:prstGeom>
              <a:noFill/>
              <a:ln w="7632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32"/>
              <p:cNvSpPr/>
              <p:nvPr/>
            </p:nvSpPr>
            <p:spPr>
              <a:xfrm flipH="1">
                <a:off x="1867680" y="1375920"/>
                <a:ext cx="623520" cy="565560"/>
              </a:xfrm>
              <a:prstGeom prst="ellipse">
                <a:avLst/>
              </a:prstGeom>
              <a:noFill/>
              <a:ln w="936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71" name="Picture 33" descr="worldmap_ani8"/>
            <p:cNvPicPr/>
            <p:nvPr/>
          </p:nvPicPr>
          <p:blipFill>
            <a:blip r:embed="rId3"/>
            <a:stretch/>
          </p:blipFill>
          <p:spPr>
            <a:xfrm>
              <a:off x="1465560" y="1003320"/>
              <a:ext cx="1438200" cy="1310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 u="sng">
                <a:solidFill>
                  <a:srgbClr val="f4bc40"/>
                </a:solidFill>
                <a:uFillTx/>
                <a:latin typeface="Arial"/>
              </a:rPr>
              <a:t>ان يصبح مهنيا</a:t>
            </a: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6</a:t>
            </a: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يعتبر الخريجون انفسهم أعضاء فى مهنة الطفولة المبكرة . و هم يعرفون القواعد الاخلاقية و المعايير المهنية الاخرى المنظمة للعمل فى الطفولة المبكرة . و هم متعلمون مستمرون و متعاونون يظهرون المعرفة , و التأمل , و الرؤية الناقدة فى عملهم , و يتخذون القرارات على بينة استنادا للمعرفة المستقاة من مصادر متنوعة . و يدافعون عن معرفة لتحقيق الممارسات و السياسات  التربوية"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و ذلك يشمل المؤشرات التالية :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يشترك الخريج و ينسب نفسه لمجال الطفولة المبكر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معرفة و احترام المعايير الاخلاقية و غيرها من الاطر المهن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الاشتراك فى التعلم المستمر و التشاركى لتغذية الممارس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Arial"/>
              </a:rPr>
              <a:t>دمج المعرفة , و التأمل , و الرؤية الناقدة فى التربية المبكر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الرؤية             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سعى القسم للوصول الى تحقيق الريادة العلمية الخلاقة المتكاملة فى مجال تربية و تعليم الطفل و البحث العلمى , و خدمة المجتمع , و المساهمة فى تحقيق مجتمع المعرفة على المستوى المحلى و العالم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الرسالة</a:t>
            </a: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عمل القسم على تأهيل الكوادر الوطنية المتخصصة بكفاءة عالية فى مجال تربية و تعليم الطفل , و اكساب الطالبات المهارات الاساسية لمواصلة نموهن العلمى و المهنى و البحثى و الاستشارى بحيث يصبحن قادرات على الاستجابة لمتطلبات مبادين العمل فى مجال الطفولة و المشاركة فى التصدى للقضايا المجتمعية و المعنية بمجال الطفول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3662280"/>
            <a:ext cx="4834080" cy="25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2060"/>
                </a:solidFill>
                <a:latin typeface="Arial"/>
                <a:cs typeface="PT Bold Heading"/>
              </a:rPr>
              <a:t>أهداف قسم رياض الاطفال</a:t>
            </a:r>
            <a:br>
              <a:rPr sz="5400"/>
            </a:br>
            <a:endParaRPr b="0" lang="en-US" sz="54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377" name="Picture 3" descr="C:\Documents and Settings\House\My Documents\My Pictures\سعود.gif"/>
          <p:cNvPicPr/>
          <p:nvPr/>
        </p:nvPicPr>
        <p:blipFill>
          <a:blip r:embed="rId1"/>
          <a:stretch/>
        </p:blipFill>
        <p:spPr>
          <a:xfrm>
            <a:off x="7905600" y="493560"/>
            <a:ext cx="903600" cy="2183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" descr=""/>
          <p:cNvPicPr/>
          <p:nvPr/>
        </p:nvPicPr>
        <p:blipFill>
          <a:blip r:embed="rId2"/>
          <a:stretch/>
        </p:blipFill>
        <p:spPr>
          <a:xfrm>
            <a:off x="4438800" y="573120"/>
            <a:ext cx="1255680" cy="1536840"/>
          </a:xfrm>
          <a:prstGeom prst="rect">
            <a:avLst/>
          </a:prstGeom>
          <a:ln w="0">
            <a:noFill/>
          </a:ln>
        </p:spPr>
      </p:pic>
      <p:grpSp>
        <p:nvGrpSpPr>
          <p:cNvPr id="379" name="مجموعة 198"/>
          <p:cNvGrpSpPr/>
          <p:nvPr/>
        </p:nvGrpSpPr>
        <p:grpSpPr>
          <a:xfrm>
            <a:off x="642960" y="214200"/>
            <a:ext cx="3071520" cy="2786040"/>
            <a:chOff x="642960" y="214200"/>
            <a:chExt cx="3071520" cy="2786040"/>
          </a:xfrm>
        </p:grpSpPr>
        <p:grpSp>
          <p:nvGrpSpPr>
            <p:cNvPr id="380" name="Group 25"/>
            <p:cNvGrpSpPr/>
            <p:nvPr/>
          </p:nvGrpSpPr>
          <p:grpSpPr>
            <a:xfrm>
              <a:off x="642960" y="214200"/>
              <a:ext cx="3071520" cy="2786040"/>
              <a:chOff x="642960" y="214200"/>
              <a:chExt cx="3071520" cy="2786040"/>
            </a:xfrm>
          </p:grpSpPr>
          <p:sp>
            <p:nvSpPr>
              <p:cNvPr id="381" name="Oval 26"/>
              <p:cNvSpPr/>
              <p:nvPr/>
            </p:nvSpPr>
            <p:spPr>
              <a:xfrm flipH="1">
                <a:off x="642960" y="214200"/>
                <a:ext cx="3071520" cy="2786040"/>
              </a:xfrm>
              <a:prstGeom prst="ellipse">
                <a:avLst/>
              </a:prstGeom>
              <a:noFill/>
              <a:ln w="1260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Oval 27"/>
              <p:cNvSpPr/>
              <p:nvPr/>
            </p:nvSpPr>
            <p:spPr>
              <a:xfrm flipH="1">
                <a:off x="845640" y="404640"/>
                <a:ext cx="2668320" cy="2420280"/>
              </a:xfrm>
              <a:prstGeom prst="ellipse">
                <a:avLst/>
              </a:prstGeom>
              <a:noFill/>
              <a:ln w="284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28"/>
              <p:cNvSpPr/>
              <p:nvPr/>
            </p:nvSpPr>
            <p:spPr>
              <a:xfrm flipH="1">
                <a:off x="1047600" y="614880"/>
                <a:ext cx="2243880" cy="2035440"/>
              </a:xfrm>
              <a:prstGeom prst="ellipse">
                <a:avLst/>
              </a:prstGeom>
              <a:noFill/>
              <a:ln w="3816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Oval 29"/>
              <p:cNvSpPr/>
              <p:nvPr/>
            </p:nvSpPr>
            <p:spPr>
              <a:xfrm flipH="1">
                <a:off x="1279440" y="824760"/>
                <a:ext cx="1819440" cy="1650600"/>
              </a:xfrm>
              <a:prstGeom prst="ellipse">
                <a:avLst/>
              </a:prstGeom>
              <a:noFill/>
              <a:ln w="572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Oval 30"/>
              <p:cNvSpPr/>
              <p:nvPr/>
            </p:nvSpPr>
            <p:spPr>
              <a:xfrm flipH="1">
                <a:off x="1482120" y="1026000"/>
                <a:ext cx="1395360" cy="1265400"/>
              </a:xfrm>
              <a:prstGeom prst="ellipse">
                <a:avLst/>
              </a:prstGeom>
              <a:noFill/>
              <a:ln w="572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Oval 31"/>
              <p:cNvSpPr/>
              <p:nvPr/>
            </p:nvSpPr>
            <p:spPr>
              <a:xfrm flipH="1">
                <a:off x="1684800" y="1200960"/>
                <a:ext cx="990000" cy="897840"/>
              </a:xfrm>
              <a:prstGeom prst="ellipse">
                <a:avLst/>
              </a:prstGeom>
              <a:noFill/>
              <a:ln w="7632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Oval 32"/>
              <p:cNvSpPr/>
              <p:nvPr/>
            </p:nvSpPr>
            <p:spPr>
              <a:xfrm flipH="1">
                <a:off x="1867680" y="1375920"/>
                <a:ext cx="623520" cy="565560"/>
              </a:xfrm>
              <a:prstGeom prst="ellipse">
                <a:avLst/>
              </a:prstGeom>
              <a:noFill/>
              <a:ln w="936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88" name="Picture 33" descr="worldmap_ani8"/>
            <p:cNvPicPr/>
            <p:nvPr/>
          </p:nvPicPr>
          <p:blipFill>
            <a:blip r:embed="rId3"/>
            <a:stretch/>
          </p:blipFill>
          <p:spPr>
            <a:xfrm>
              <a:off x="1465560" y="1003320"/>
              <a:ext cx="1438200" cy="1310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اهداف قسم رياض الاطفال</a:t>
            </a: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عداد الكوادر المتخصصة من المعلمات فى مجال التربية و تعليم الطف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ساهمة فى تطوير مهارات الكوادر العاملة فى مجال رياض الاطفال و فى القطاعات المختلفة فى المجتمع المتعلقة بالاسرة و الطف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اهداف قسم رياض الاطفال</a:t>
            </a: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وعية فئات المجتمع المختلفة بأهمية مرحلة رياض الاطفال من خلال تنظيم المؤتمرات و الندوات و لقاءات العمل و اجراء المشروعات المتخصص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سهام فى دفع عجلة التطوير المنهجى و التربوى من خلال التطوير و التقييم المستمر للبرامج الخاصة بالطفولة المبكر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اهداف قسم رياض الاطفال</a:t>
            </a:r>
            <a:r>
              <a:rPr b="0" lang="ar-SA" sz="40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سداء الاستشارات المهنية و العلمية و خدمة المجتمع فى مجال الطفولة و التعليم المبك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قيام بالابحاث النظرية و الدراسات الميدانية فى مجال الطفول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نشاء وحدات علمية متخصصة لخدمة اهداف القس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1617840"/>
            <a:ext cx="4834080" cy="667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4bc40"/>
                </a:solidFill>
                <a:latin typeface="Arial"/>
              </a:rPr>
              <a:t>معايير</a:t>
            </a:r>
            <a:r>
              <a:rPr b="1" i="1" lang="ar-SA" sz="5400" spc="-1" strike="noStrike">
                <a:solidFill>
                  <a:srgbClr val="f4bc4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4bc40"/>
                </a:solidFill>
                <a:latin typeface="Arial"/>
              </a:rPr>
              <a:t>NAEYC </a:t>
            </a:r>
            <a:r>
              <a:rPr b="1" i="1" lang="ar-SA" sz="5400" spc="-1" strike="noStrike">
                <a:solidFill>
                  <a:srgbClr val="f4bc40"/>
                </a:solidFill>
                <a:latin typeface="Arial"/>
              </a:rPr>
              <a:t> </a:t>
            </a:r>
            <a:r>
              <a:rPr b="1" i="1" lang="ar-SA" sz="5400" spc="-1" strike="noStrike">
                <a:solidFill>
                  <a:srgbClr val="f4bc40"/>
                </a:solidFill>
                <a:latin typeface="Arial"/>
              </a:rPr>
              <a:t>لبرامج الاعداد المهنى فى مجال الطفولة المبكرة</a:t>
            </a:r>
            <a:r>
              <a:rPr b="0" lang="ar-SA" sz="5400" spc="-1" strike="noStrike">
                <a:solidFill>
                  <a:srgbClr val="f4bc40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396" name="Picture 3" descr="C:\Documents and Settings\House\My Documents\My Pictures\سعود.gif"/>
          <p:cNvPicPr/>
          <p:nvPr/>
        </p:nvPicPr>
        <p:blipFill>
          <a:blip r:embed="rId1"/>
          <a:stretch/>
        </p:blipFill>
        <p:spPr>
          <a:xfrm>
            <a:off x="7905600" y="493560"/>
            <a:ext cx="903600" cy="21830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" descr=""/>
          <p:cNvPicPr/>
          <p:nvPr/>
        </p:nvPicPr>
        <p:blipFill>
          <a:blip r:embed="rId2"/>
          <a:stretch/>
        </p:blipFill>
        <p:spPr>
          <a:xfrm>
            <a:off x="4438800" y="573120"/>
            <a:ext cx="1255680" cy="1536840"/>
          </a:xfrm>
          <a:prstGeom prst="rect">
            <a:avLst/>
          </a:prstGeom>
          <a:ln w="0">
            <a:noFill/>
          </a:ln>
        </p:spPr>
      </p:pic>
      <p:grpSp>
        <p:nvGrpSpPr>
          <p:cNvPr id="398" name="مجموعة 198"/>
          <p:cNvGrpSpPr/>
          <p:nvPr/>
        </p:nvGrpSpPr>
        <p:grpSpPr>
          <a:xfrm>
            <a:off x="642960" y="214200"/>
            <a:ext cx="3071520" cy="2786040"/>
            <a:chOff x="642960" y="214200"/>
            <a:chExt cx="3071520" cy="2786040"/>
          </a:xfrm>
        </p:grpSpPr>
        <p:grpSp>
          <p:nvGrpSpPr>
            <p:cNvPr id="399" name="Group 25"/>
            <p:cNvGrpSpPr/>
            <p:nvPr/>
          </p:nvGrpSpPr>
          <p:grpSpPr>
            <a:xfrm>
              <a:off x="642960" y="214200"/>
              <a:ext cx="3071520" cy="2786040"/>
              <a:chOff x="642960" y="214200"/>
              <a:chExt cx="3071520" cy="2786040"/>
            </a:xfrm>
          </p:grpSpPr>
          <p:sp>
            <p:nvSpPr>
              <p:cNvPr id="400" name="Oval 26"/>
              <p:cNvSpPr/>
              <p:nvPr/>
            </p:nvSpPr>
            <p:spPr>
              <a:xfrm flipH="1">
                <a:off x="642960" y="214200"/>
                <a:ext cx="3071520" cy="2786040"/>
              </a:xfrm>
              <a:prstGeom prst="ellipse">
                <a:avLst/>
              </a:prstGeom>
              <a:noFill/>
              <a:ln w="1260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27"/>
              <p:cNvSpPr/>
              <p:nvPr/>
            </p:nvSpPr>
            <p:spPr>
              <a:xfrm flipH="1">
                <a:off x="845640" y="404640"/>
                <a:ext cx="2668320" cy="2420280"/>
              </a:xfrm>
              <a:prstGeom prst="ellipse">
                <a:avLst/>
              </a:prstGeom>
              <a:noFill/>
              <a:ln w="284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8"/>
              <p:cNvSpPr/>
              <p:nvPr/>
            </p:nvSpPr>
            <p:spPr>
              <a:xfrm flipH="1">
                <a:off x="1047600" y="614880"/>
                <a:ext cx="2243880" cy="2035440"/>
              </a:xfrm>
              <a:prstGeom prst="ellipse">
                <a:avLst/>
              </a:prstGeom>
              <a:noFill/>
              <a:ln w="3816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9"/>
              <p:cNvSpPr/>
              <p:nvPr/>
            </p:nvSpPr>
            <p:spPr>
              <a:xfrm flipH="1">
                <a:off x="1279440" y="824760"/>
                <a:ext cx="1819440" cy="1650600"/>
              </a:xfrm>
              <a:prstGeom prst="ellipse">
                <a:avLst/>
              </a:prstGeom>
              <a:noFill/>
              <a:ln w="572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30"/>
              <p:cNvSpPr/>
              <p:nvPr/>
            </p:nvSpPr>
            <p:spPr>
              <a:xfrm flipH="1">
                <a:off x="1482120" y="1026000"/>
                <a:ext cx="1395360" cy="1265400"/>
              </a:xfrm>
              <a:prstGeom prst="ellipse">
                <a:avLst/>
              </a:prstGeom>
              <a:noFill/>
              <a:ln w="5724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Oval 31"/>
              <p:cNvSpPr/>
              <p:nvPr/>
            </p:nvSpPr>
            <p:spPr>
              <a:xfrm flipH="1">
                <a:off x="1684800" y="1200960"/>
                <a:ext cx="990000" cy="897840"/>
              </a:xfrm>
              <a:prstGeom prst="ellipse">
                <a:avLst/>
              </a:prstGeom>
              <a:noFill/>
              <a:ln w="7632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Oval 32"/>
              <p:cNvSpPr/>
              <p:nvPr/>
            </p:nvSpPr>
            <p:spPr>
              <a:xfrm flipH="1">
                <a:off x="1867680" y="1375920"/>
                <a:ext cx="623520" cy="565560"/>
              </a:xfrm>
              <a:prstGeom prst="ellipse">
                <a:avLst/>
              </a:prstGeom>
              <a:noFill/>
              <a:ln w="9360">
                <a:solidFill>
                  <a:srgbClr val="a6b0da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407" name="Picture 33" descr="worldmap_ani8"/>
            <p:cNvPicPr/>
            <p:nvPr/>
          </p:nvPicPr>
          <p:blipFill>
            <a:blip r:embed="rId3"/>
            <a:stretch/>
          </p:blipFill>
          <p:spPr>
            <a:xfrm>
              <a:off x="1465560" y="1003320"/>
              <a:ext cx="1438200" cy="1310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3:00:44Z</dcterms:created>
  <dc:creator>user</dc:creator>
  <dc:description/>
  <dc:language>en-US</dc:language>
  <cp:lastModifiedBy>Badawood</cp:lastModifiedBy>
  <dcterms:modified xsi:type="dcterms:W3CDTF">2010-05-11T21:02:02Z</dcterms:modified>
  <cp:revision>38</cp:revision>
  <dc:subject/>
  <dc:title>قسم التربية و رياض الاطفال</dc:title>
</cp:coreProperties>
</file>