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</p:sldIdLst>
  <p:sldSz cx="9144000" cy="6858000"/>
  <p:notesSz cx="678180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859D-2FB0-4DD9-BD42-8B2EF9140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3B85-FADC-4378-836D-B134A8EF963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BAF18-F401-41F4-BF88-A6D6FD55743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627AC-89C4-4E5F-A12E-892260F24DD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3F63D-9FA1-44BD-BEDE-7A525E14ED0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419D3-FB72-48E5-80B0-B5997D13594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09C16-FFD1-4882-BB77-EE259D23FBB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51763-B8EC-49B2-AF8F-F96154FFF5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2D73E-B676-4983-9AA0-59035772F46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F2191-9BB8-4386-947B-8080C80EBE7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730CA-FB56-4768-AB73-6DB263B74F8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8B82D-F2D5-4262-835B-5DC19CB4E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7657-615E-4DC5-AAB4-30BE54BCC7C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816CB-909D-44D5-BAB9-0936DE9196E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34E90-EEBB-4C51-A36E-D159CEF742D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BC4EA-D565-4B3D-B873-BF9C393BC87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4E45A-64A0-42C7-9C6C-5658AA8218D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C78AD-E65B-4F92-A5C2-40EFBC6D0BC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4599F-AE40-4557-83D8-9D855ADD10A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9DDBE-2A99-43D8-A4C2-DA93B49D544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FFC67C-256A-4E44-8B65-E32E960970D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B88E9-20E4-4ECC-8260-A53129BF7B2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049FE-6935-483E-981D-806FD2052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90FA-04B7-4D17-8A51-A07F46B0B15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CFF556-47C0-4A70-8226-0A041DAC230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4FCEFA-130A-4A39-A568-1DAB37FF71B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4DDE6D-F482-4A1D-A0F1-A58F0F7F23E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79FEF4-DDE2-4AE9-954C-77BE797685D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DFECA3-6C11-46E2-9E02-68535BC53CB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020BB5-726B-426C-A1F6-42BA7828236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9EF525-DA70-4F7F-825E-8B98157BE02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57E768-7117-4416-A97C-2C625E3DCED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0CD8D5-BE31-4EBA-A7A1-26238493B29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D54F65-2022-407B-9FF9-0C2FF18F7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5F3F5-9802-4DCD-B2DF-2C778118D3A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56D58A-CF5E-4007-A493-C47A1A00F81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1BFC51-00FD-4DEA-882E-DF0285DC841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4489FC-4529-4712-9677-3AEA6CAC154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EF069-4D2B-4591-B079-B56CCB527A9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2E3E2-D5EE-4CBC-BBF5-2E9077C6FDB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D56AA-343C-4CB6-A80F-FC686684029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078CE-0D87-441A-9344-AD5ECBBD801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8B42F-7ECB-4B44-B03B-31EE022F798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E1196-A86F-4E2A-B948-A53FAC0D213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7021B-ADFF-47DB-9F6E-39E17E41B1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13DEB-1CB1-4713-B788-17067B97409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3ADD8-704A-49B5-9321-EBD60D9E3BF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B1A9F-75DC-499C-A9FD-9C7EB2F8474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70036-F363-48D9-AA15-9CDB8F26576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491F2-EE42-471C-B714-039143C45BA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C2060-BE41-43FB-A581-DBEE4A6336E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039A71-A99F-4C6C-9447-16A8AAAE791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566680-9475-4E28-B38B-C0E3BC0EFC6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C57AD-9242-45D8-9D92-C945CB09459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560EC5-EBBC-4F25-B7F6-53DC4BA452E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9FBEF7-90DD-4448-94B3-FBCD884305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607FF-7378-4922-8DD2-476F57A0549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D22990-9241-42D1-A842-37BA1912F11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6D0D87-DE5B-4ED6-AE32-553883B8CBF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4AB377-9138-41C6-A448-A19B895FBF8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986E5B-E679-4F8C-A2BF-F8CA241D139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23C6B8-0B39-42E8-99D5-4BF89FA4CD4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6BABE1-6ABF-451E-B413-6E9F8A4C1D1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D5066D-FC64-40DA-AB32-321211DBE02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5BCB7-4369-4360-86FD-731FBC1C848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3FE33-BF90-47C0-AA6E-9590D00969F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5D120-0CE4-4FBB-8269-54080FE67F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FA544-7CF3-4C0A-A4A8-D5822A1EFF3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3F865-1178-41C5-9237-9EB3100EB06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16B46-F2F6-43F4-88A6-B196A1F8289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01DA3-B287-4F52-8F11-9C1466030C8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AC97D-23FA-4770-9AD6-D88D9BE71E2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66909-5E62-491B-BC2E-A2D9C2E681E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B049E-07AD-4EFA-921B-C4734C2589A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B6A76-5DA9-4E4F-9437-5B060B80DD2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9D8D0-5CAC-4F06-9E8E-893EBE96E6E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A3BF8-C8EE-4ACE-B051-0A47DB5077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00E87-4E90-4D99-875D-5A4F682573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98BAB-E914-4FEB-A88A-09C103F84F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5D124-FCBA-45EC-B02E-D6F456EBB0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BA6B-7288-4756-99E1-8BB7ECF5B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5C978-C73B-4F45-8E4F-EB3079BE2D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F02B7-1223-4FAD-BF3A-B0B809C94E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5F541-6F36-48DD-989C-A7D1FB144D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0941C-FC44-4B80-B4E0-A76833DAFE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F9BD0-3B38-4D46-8863-DB5B1F499D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08DA-3A6B-4AAB-BBB7-B176AE79D9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416B-7BA0-42DD-9C50-2FA39597F9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89CA-B4D7-4739-A0B1-68587DB885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4C72-3950-447B-A4E2-1744A69086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B561-88B5-4C47-8048-29AD8494A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1844-A361-4B1A-8746-CD744F303B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14FD-FE30-4312-8B04-D26E2583E2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589F-B940-4304-A68B-3D5102C03B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FBD8-3043-4E70-9066-490B7F54C3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67E1-3A56-4353-80D5-D209E00662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7F77-7B00-4F52-B6D3-FCB9AE7EDA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C2D0-13C9-4A28-8BFF-6AC6CFA136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B647-A4C1-41E6-901B-D2B77B7274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B54EE-489A-431B-ADBD-6BA9337E89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172B2-DF52-482C-A64D-DD4EDE3C3D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4C0C7-9A95-4063-BFBB-D3FD7DBAE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80D5-0AC6-48EE-B453-CF0931D235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1A42D-A392-491E-821F-5ED16C1D57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83FC2-43B9-4A46-BEFB-D805CC47C7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94B16-234F-41C3-A1DD-0D12BE67A0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0643F-DB00-4BB5-8E7E-0C7FE89E41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503CE-ED9D-4478-986E-BF03798241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4238B-232E-4EC2-B1FC-69691354B9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1A44B-D3D4-45EF-A51B-ABEA267087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677D0-CC77-4CC0-8BAC-85167A3525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35FEB-0FCA-42E2-A321-0A47C650CEA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FAE539-1934-4E5B-A1CE-9BF4A9BE6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BC57-1F82-4C2F-AEE6-03D240D6683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31A96-D539-47A3-8F25-724246191FA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C1186-CA1E-4669-A2C5-78E8BEE1BE0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AC9779-DB50-48B4-81BF-D58EEFC55B6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D9E71-18AA-4E3C-8E1F-3472BDC2E53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14F3D9-BA7F-41C6-8367-A988A24CAEE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46E683-5493-4164-B96F-7800395E761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FE919C-2068-48A7-A251-B3CC4BB1B3A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764CC5-EC35-4BD8-911C-121737419C1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6CC3E-2FF8-41F9-9404-E336F74482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2CA3CE-6512-486E-923C-E617482AD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C550-1B36-4E4E-B56E-B016233A72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86E8C1-1DE2-4FEB-B521-DC05BC2A1D1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D944B-6AE5-4A2B-B30C-74D4AAEF6F7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11213-16FE-4F5E-BA4B-5DB0DAA4722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13928-F2C8-40CC-BD41-BEC2D94C318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733B7-CEB9-44B5-81DA-B53D631DE56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EDF42-425C-4CA6-8E41-5F3B54BA30F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A33EA-A986-4D88-A9E8-88037704B9B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93CEB-B390-4800-8B28-4AEBB05F15C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E85E6-C0DF-44B1-B431-328AA1B42AE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F9288-AC64-4BC9-AA51-3086D732B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4737-5233-408B-83DC-C81BFAB562B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F2166-B9F7-409A-93CB-89867AD13B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2149A-49BF-4202-B4BE-72262698C5F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3A44-0730-40C5-8094-873D7C369FA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EF80F-EFBF-401D-9BB3-0BE38B74165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4DC53-0234-4EE3-B4F7-CA50997F47F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7ADF8-3D12-44EB-B67C-39BA8002F9A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E7748-D35A-4CC9-8957-DED4E30391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EB3A5-F35F-4377-9A79-8DEA13781DA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ED5A5-E415-4B70-A128-92EC0397B57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8B033-F2E0-4F12-8ECC-B29BA2E09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7D42-F1E9-4F75-A668-A067CA4010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E53EB-FC8C-4FB7-B282-E25D8A7B5E0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FBB43-E458-476B-A3FA-0F7EAE8779A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E236C-2F14-4660-8593-45B7D1D60D6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EAD7E-53C3-4D3E-90F6-4BC4FA8C6C5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D0955-7BAC-4C7E-815F-C4FD34F2C94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8085E9-2912-4E70-86AC-8F903F2A846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9B2403-42AF-453B-941A-B3B2781C5D8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6303B1-1ADB-4DF3-AB7F-D91DB9051AF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142B2C-171E-4E62-A023-43E900AB23B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BB44F9-52A2-40CE-8671-31C90BEF3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CEE4-591B-4DD9-839A-F8410BB1541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AFC2CA-6464-4E7A-8D4C-F3C8A27969B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74F9C1-D8ED-4FD7-A4F9-2FA8C976742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87A10F-3246-42BE-A995-7D14509CC00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D0A094-9378-4270-A144-72A3DDAFCC5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B98C35-E04A-4C43-AFC2-75C01A00161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B40C38-B01C-4F6C-B354-041E7B508E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DE83CD-9F26-46D0-8963-4A16D63CBB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3336B-B5A8-45E8-B115-EC4AEED5239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75F9A-853D-461F-BB2D-99E2D40058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6C584-D373-46DC-96FA-E0E659A64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C51440A-D1B2-4C96-BC93-7222F19450C9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9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0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04C289B-A04A-483E-B65D-705F8F65D30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1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2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F691C61-ED77-4D3B-8B56-D6620D43F0C0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3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4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B66B549-D0FC-4D76-A5BE-608618A344A5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25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6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DC2450D-DF35-482A-9135-32B88CDA4F9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7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28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A260765-6519-46E0-97C4-78A134122F23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hp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581280" y="628344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C77BC27-9A4B-4700-B596-13CDEF4E08B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BD344AA-BC6F-41B8-B3A4-D8024AD51CB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7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8405C5D-D5AC-4CEE-8D38-2F2D4C7228C2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9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0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D650145-81DE-46D3-84AB-4443A78B1AF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1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2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4FCC18D-29CC-4DD8-8ED0-373413F3016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3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4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E39F0A0-B3DA-49A7-A610-C87D838F39A5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5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6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921312B-5AA5-4818-AC03-5B359B92D164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7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8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AFFF4A9-9EE3-4558-9054-F3C00313A0FE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4"/>
          <p:cNvSpPr/>
          <p:nvPr/>
        </p:nvSpPr>
        <p:spPr>
          <a:xfrm>
            <a:off x="3581280" y="628344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352D874-30AE-42CD-9400-DED0399550CE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2600" y="1114200"/>
            <a:ext cx="81198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50527"/>
                </a:solidFill>
                <a:latin typeface="Arial"/>
              </a:rPr>
              <a:t>Lecture 8 </a:t>
            </a:r>
            <a:endParaRPr b="1" lang="en-US" sz="48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837720" y="1981080"/>
            <a:ext cx="708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trointestinal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 Organ Proble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992031"/>
                </a:solidFill>
                <a:latin typeface="Arial"/>
              </a:rPr>
              <a:t>CHS 4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2031"/>
                </a:solidFill>
                <a:latin typeface="Arial"/>
              </a:rPr>
              <a:t>By Dr. Ebtisam Feto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CCD34AB-15A5-4848-955C-FB0D2A6CBE7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/3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. Gastroesophageal reflux disease (GE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constant regurgitation of acid gastric contents into lower 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nancy, obesity, pernicious vomiting, or nasogastric tubes ar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irritation and inflammation (esophagi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nosis most common com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D0A97FF-6996-49C3-8158-CB5C60B37171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/4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2. Hiatal he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of upper stomach protrudes through opening in the diaphragm membrane (hi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common in obese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5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E5323F0-619F-44DB-BF7B-BB95E83F46F6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Hiatal Hernia in Comparison with Normal Stomach Placemen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99104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850527"/>
              </a:buClr>
              <a:buSzPct val="11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Normal stom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omach placement below esophageal hi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8" descr="NDT_18_327_hernia1"/>
          <p:cNvPicPr/>
          <p:nvPr/>
        </p:nvPicPr>
        <p:blipFill>
          <a:blip r:embed="rId1"/>
          <a:stretch/>
        </p:blipFill>
        <p:spPr>
          <a:xfrm>
            <a:off x="914400" y="1398600"/>
            <a:ext cx="3809880" cy="405936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9"/>
          <p:cNvSpPr/>
          <p:nvPr/>
        </p:nvSpPr>
        <p:spPr>
          <a:xfrm>
            <a:off x="1066680" y="5838840"/>
            <a:ext cx="2210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9DB74EF-8526-4A40-99CA-7D388080CEB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80720" y="-8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Hiatal Hernia in Comparison with Normal Stomach Placement/2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B. </a:t>
            </a: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Paraesophageal hern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mall portion of the stomach rises above the hiatu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 in the position of the esophag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032" descr="NDT_18_327hernia2"/>
          <p:cNvPicPr/>
          <p:nvPr/>
        </p:nvPicPr>
        <p:blipFill>
          <a:blip r:embed="rId1"/>
          <a:stretch/>
        </p:blipFill>
        <p:spPr>
          <a:xfrm>
            <a:off x="5257800" y="1371600"/>
            <a:ext cx="3733920" cy="411480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1034"/>
          <p:cNvSpPr/>
          <p:nvPr/>
        </p:nvSpPr>
        <p:spPr>
          <a:xfrm>
            <a:off x="952560" y="1495440"/>
            <a:ext cx="22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499B300-2B3B-4989-B213-809818DD70D9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Hiatal Hernia in Comparison with Normal Stomach Placement/3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4267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C. </a:t>
            </a: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Esophageal hiatal hern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bese persons, excessive fat tissue pushes on the stomach and forces it through the diaphra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952560" y="1219320"/>
            <a:ext cx="22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39F459C-D1FA-4A4C-AFEA-5D1E5C376A80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roblems of the </a:t>
            </a: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Stomach</a:t>
            </a: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eptic Ulcer Disease (PUD)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Helicobacter pylori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bacco smoking linked to P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use of nonsteroidal antiinflammatory (NSAIDs) drugs may contribute to development in some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ion usually occurs in duodenal bulb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نبتة-بداي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F3CA86F-E0CC-42D5-A6D4-810699DF9E9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2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5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during young- and middle- adult years may con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include *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creased gastric muscle t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*painful contractions when stomach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anagemen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, alcohol use should b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, relaxation, and sleep help ease symp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ertain susceptible individuals, NSAIDs should be avo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057040" y="-7920"/>
            <a:ext cx="708660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3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288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How is PUD diagno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firmed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85052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-ray test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85052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sualization by gastrosco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Treatment goals ar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eviate sympto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mote hea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 com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minate the c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08B5367-90C2-4E17-859D-0BC3DE972969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02E34C8-107E-4093-867C-907F4280AAA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4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288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rug therapy can manage peptic ulcer dis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ing agents control acid se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cosal protectors inactivate pepsin and produce gel-like substance to cover 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ibiotics control H. pyl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acids counteract or neutralize ac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731376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5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Treatment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Blocking agen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clude cimetidine (Tagamet), ranitidine (Zantac), and omeprazole (Prilosec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Mucosal protect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ucralfate (Caraf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ntibiotic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enerally used in combination (amoxicillin, proton pump inhibitor, tetracycline, and metronidazo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Antaci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as Mylanta and Maalox (magnesium-aluminum compoun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78487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F8DB419-DDFF-49DC-868C-2535EE9C9991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1"/>
          <p:cNvSpPr/>
          <p:nvPr/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2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2F0CAE2-0066-418F-8B6C-62756A5F1867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912960" y="1069920"/>
            <a:ext cx="8119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915840" y="1219320"/>
            <a:ext cx="70088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ar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with the GI system can have a major impact on a patient’s overall well-be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assessment can identify problems early to prevent more serious com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02D40F8-8DC2-4987-A47E-E5D06EE6C57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6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etar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balanced healthy diet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حمية الصح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acid st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and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رقيق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ets have been proven to be ineffective and lacking in adequate nutr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etary manag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includes adjustments in the following ar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*meal pattern, *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ood qua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milk intake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asonings</a:t>
            </a:r>
            <a:r>
              <a:rPr b="0" lang="ar-SA" sz="2800" spc="-1" strike="noStrike">
                <a:solidFill>
                  <a:srgbClr val="3333cc"/>
                </a:solidFill>
                <a:latin typeface="Arial"/>
                <a:cs typeface="Arial"/>
              </a:rPr>
              <a:t>توابل</a:t>
            </a:r>
            <a:r>
              <a:rPr b="0" lang="ar-SA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dietary fiber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ff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citric acid juices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coh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smoking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o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son can have different triggers to aci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5D9567A-C6E8-4460-9046-CF332E8C8F24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1. Diarrhea: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olerance to specific f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ute food pois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al inf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arrhea: 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loose, watery stools occurring more than three times in on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288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hat is the main complication associated with diarrhea?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hyd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diarrhea can be life-threatening to young children or adults with weak immun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diarrhea subsides, patients should avoi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ilk 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oods that are greasy, </a:t>
            </a: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high-fi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very sweet. These foods tend to aggravate 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professional may recommend the </a:t>
            </a: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BR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t (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na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ce,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p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a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Cont'd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7897680" y="6172200"/>
            <a:ext cx="124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1D520F-BB1E-4B74-80BC-8E42D08D7EB3}" type="slidenum">
              <a:rPr b="1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4696957-5A73-4667-95FB-9DA65AF04E26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2.Mal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diges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stinal mucos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stinal enzyme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 and its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c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use many problems, from diarrhea to malnutr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Celiac sp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ystic fibrosis,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flammatory bowel dis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ree diseases that cause malabsor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E269B05-04BE-4871-AC83-B5C490D09D0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A. Celiac sprue: </a:t>
            </a:r>
            <a:r>
              <a:rPr b="0" lang="ar-SA" sz="3200" spc="-1" strike="noStrike">
                <a:solidFill>
                  <a:srgbClr val="992031"/>
                </a:solidFill>
                <a:latin typeface="Arial"/>
                <a:cs typeface="Arial"/>
              </a:rPr>
              <a:t>اسهال البلاد الحارة نتيجة اضربات الجهاز الهض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sensitivity to the protein gluten in certain g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torrhea and progressive malnutrition are secondary effects to glute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 management controls dietary gluten intake and prevents 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80720" y="-7920"/>
            <a:ext cx="716292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28520" y="1371240"/>
            <a:ext cx="781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iac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992031"/>
                </a:solidFill>
                <a:latin typeface="Arial"/>
                <a:cs typeface="Arial"/>
              </a:rPr>
              <a:t>اضربات الجهاز الهضم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ase damages the small intestine and interferes with absorption of nutrients from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treatment for celiac disease is to follow a gluten-free d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foods that contain gluten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foods prepared with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whe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at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شوفان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barley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شعير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; luncheon mea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fo: http://www.celiac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84582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9BF55E0-DCF2-4F0A-B2A0-13812EBEC28E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19DD474-B491-491A-8DDD-4C2BA725E0B3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B. Cystic fibrosis (C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disease of child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ibits movement of chloride and sodium ions in the body tissue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 mucus in the lungs leads to damaged airways, difficulty breathing, and lung inf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 secretions also obstruct the pancreas, preventing digestive enzymes from reaching the intestines to help break down and absorb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labsorption of undigested fo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iver disease, and </a:t>
            </a: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increased salt concentration in the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C6B80F4-953F-43C8-99C1-13C3253F64FE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886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B. Cystic fibrosis (CF):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pancreatic replacement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with CF require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105% - 150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recommended nutrients for their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ly adequate high-protein, normal-to-high fat die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4"/>
          <p:cNvSpPr/>
          <p:nvPr/>
        </p:nvSpPr>
        <p:spPr>
          <a:xfrm>
            <a:off x="8458200" y="6248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0F06173-ADDD-47EF-9BB7-B2103E6A3A4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C. Inflammatory bowel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both ulcerative colitis and Crohn’s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bowel syndrome results from repeated surgical removal of parts of the small intestine as disease prog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absorption of 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2031"/>
                </a:solidFill>
                <a:latin typeface="Arial"/>
              </a:rPr>
              <a:t>Diet gradually advanced to restore nutrient int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rotein (100 g/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energy (2500-3000 kcal/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itamins and minerals (suppl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05120" y="-82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C. Inflammatory bowel disea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 symptoms of ulcerative colitis are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bdominal p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992031"/>
                </a:solidFill>
                <a:latin typeface="Arial"/>
              </a:rPr>
              <a:t>bloody 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hould avoid foods that upset the intest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ch as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highly seasoned </a:t>
            </a:r>
            <a:r>
              <a:rPr b="0" lang="ar-SA" sz="2800" spc="-1" strike="noStrike">
                <a:solidFill>
                  <a:srgbClr val="992031"/>
                </a:solidFill>
                <a:latin typeface="Arial"/>
                <a:cs typeface="Arial"/>
              </a:rPr>
              <a:t>متبلة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fo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aw fruits and vegetables,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ilk sugar (lactos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ut: http://www.ccfa.org/ (Crohn’s &amp; Colitis Foundation of Amer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7897680" y="6400800"/>
            <a:ext cx="124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95B54C-A271-4253-9508-C7C44FEEA403}" type="slidenum">
              <a:rPr b="1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3079BE3-98FC-4EB5-A0ED-F6BF6363F947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Key Concept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Diseases of the gastrointestinal tract and its accessory organs interrupt the body’s normal cycle of: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3C768BE-456F-4BAE-BE8C-33BD27A521B1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1. Diverticular (blow out </a:t>
            </a:r>
            <a:r>
              <a:rPr b="0" lang="ar-SA" sz="3600" spc="-1" strike="noStrike">
                <a:solidFill>
                  <a:srgbClr val="992031"/>
                </a:solidFill>
                <a:latin typeface="Arial"/>
                <a:cs typeface="Arial"/>
              </a:rPr>
              <a:t>انتفاخ لأنبوبة مسدود أحد طرفيها</a:t>
            </a: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)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Diverti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rmation of many small pouches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جيو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verticula) along muscular mucosal 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ticulitis caused by pockets becoming in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D66D29B-8189-4413-905F-A1A2CE4B324D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980720" y="-7920"/>
            <a:ext cx="716292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Mechanism By Which Low-Fiber, Low-Bulk Diets Might Generate Diverticula</a:t>
            </a:r>
            <a:endParaRPr b="1" lang="en-US" sz="2800" spc="-1" strike="noStrike">
              <a:solidFill>
                <a:srgbClr val="85052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845820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88DCA31-8072-4A0C-89D1-FE25E8B62560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2. Irritable bowel syndrome (I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Multicomponent disord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of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ologic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Emotio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عاطف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Psychologic 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recurrent pain in abd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-volume bowel dys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ss gas 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B949877-733F-40BA-917B-AC678D20D93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0527"/>
                </a:solidFill>
                <a:latin typeface="Arial"/>
              </a:rPr>
              <a:t>Problems of the Mouth</a:t>
            </a:r>
            <a:endParaRPr b="1" lang="en-US" sz="40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nt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-fitting den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soft die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rgic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99"/>
              </a:spcBef>
              <a:buClr>
                <a:srgbClr val="850527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Healing nutrients administered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protei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caloric milk sh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657AB3E-1A75-4E35-A7E8-D2E02AD530ED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Mouth</a:t>
            </a: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/2</a:t>
            </a:r>
            <a:endParaRPr b="1" lang="en-US" sz="28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28520" y="1447920"/>
            <a:ext cx="7886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ral tissue infla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ngiv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il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alivary gl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sal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erostomia (permanent dry mou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CA86EA4-BDF3-4A96-9435-F146987A1262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roblems of the Mouth/3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wallow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ysphagia </a:t>
            </a:r>
            <a:r>
              <a:rPr b="0" lang="ar-SA" sz="2800" spc="-1" strike="noStrike">
                <a:solidFill>
                  <a:srgbClr val="992031"/>
                </a:solidFill>
                <a:latin typeface="Arial"/>
                <a:cs typeface="Arial"/>
              </a:rPr>
              <a:t>صعوبة في البلع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fairly comm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production of sal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y m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peristaltic motility of the 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logic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2152C00-563C-48A6-95ED-9B338D941F5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roblems of the Mouth/4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arning signs of swallow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uctanc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تردد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at certain food consistencies or any food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low chewing or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 from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 throat cle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aints of food “sticking” in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pockets of food in ch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ful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rgitation, coughing, choking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خنق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C31C9AB-3EE0-4D65-98F9-2DAAF44F032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86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entral tube (esophag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spasms or uncoordinated con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ure (narrowing) of the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ower esophageal sphincte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alasia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نقبا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ardiospasm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شن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-muscle hormone control of peristal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AC8CACE-C9B5-4AFC-9B65-2BC19660E82E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/2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ower esophageal sphinct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llow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ness in the c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loss from eating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complications and infections caused by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شف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food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30:18Z</dcterms:created>
  <dc:creator>Trial User</dc:creator>
  <dc:description/>
  <dc:language>en-US</dc:language>
  <cp:lastModifiedBy>ksu</cp:lastModifiedBy>
  <cp:lastPrinted>2005-06-06T20:43:30Z</cp:lastPrinted>
  <dcterms:modified xsi:type="dcterms:W3CDTF">2012-11-19T04:59:45Z</dcterms:modified>
  <cp:revision>2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