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</p:sldIdLst>
  <p:sldSz cx="9144000" cy="6858000"/>
  <p:notesSz cx="678180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4D4F-A085-4309-A122-78E8DF44C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5196C-AA04-4717-A638-04482BE274F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14319-B500-469C-B381-469EBBF54DC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B8B77-5D52-4297-B2C9-48B6D0564F5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FD503-D141-4D0E-9330-99CAF0C4E85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4E303-5354-4EC6-ABAE-3C5E9AB1C4A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F3507-22EE-4591-BACA-E82614A4202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2C6A0-FBAD-4CA8-A387-FC7E99353D7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9F18B-E3AB-4997-A10C-D4C06032CE4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29B49-872C-464F-8CFA-5028B3F391D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DF504-A0A1-4E7A-BC98-3690A4C97AA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C5C0D5-BEEF-4106-B5CA-A2B2656AE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44FCD-3A5E-4D84-960C-13AAE72D061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3571E3-9301-4DEE-B6E0-65AC2E2F8D1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AFA273-4F52-44A7-B103-58CFC3CD6F2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791B78-BDE9-4265-8F8C-6976605B15E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9396F0-4E7D-4D55-B296-7A03B4EB8D7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3B4D93-77B8-4551-A084-002D26A6AE2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9E037E-807B-4432-8120-AB3C4021AE6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426456-BD8B-4E25-905B-4A6E51F78B3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529209-4D39-4276-A046-8C65292ABB9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B93259-529E-495B-AFF0-2C961EE6F3C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E54E25-036D-4FC0-A526-7DAFCF932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B7BC5-F90A-4C98-A936-328FE72C912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CDDD1B-4807-4D0A-94F9-FEFD13D4ADC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255AE7-AD52-45CF-9031-E7DA73BC1E7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C8AEE6-EAAB-4CBB-9268-73793FD30EE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EEEC01-3859-4BAB-BEC7-6CC9D0B4E12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7B4F41-4ED6-467D-AF28-E191A09F0F3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423187-9F5D-40CF-B003-854107BF35F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8A5C5B-9ECA-4FC4-BB9C-D8D92B2405B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D9CD65-04C6-4A83-BB75-A0259684040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0A1046-5091-476E-8DDB-C4157D00BD5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A96BFC-0888-4926-8BAA-0B2531403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72CFA-39CC-4AE3-B1C0-BF187A19E49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886260-521C-4305-AA3D-38298CE275A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C915FE-3D95-46F1-9405-362B9EF12A6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0DA9CD-2586-4911-857F-9795F70483D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D62FD-8B70-4F2B-8511-552F6FBE927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72536-D408-4FB7-A72E-7BF8E05AFF3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7E1FD-365B-4E62-A483-5F7B92EC18C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85A58-8497-4B5A-996B-DD3E5F3D509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8FDBE-7FBC-4028-A9AD-8429DE73F17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FA018-1756-4C52-AA33-1BBDF64F398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29C08-3A9E-413D-915C-269EF6B224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3FBC1-126D-468D-AD7A-C82FB8FA135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3F089-A5A3-4E9E-B94B-C6528F6854C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5F84B-0329-46CC-BD1A-111580A7A64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67A21-E11D-477E-8B6C-5058F186261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DBE89-DDD6-487F-9F02-ACAFBF3E106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BA5E6-DE4A-401B-AB6A-AC3588F1302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44BC35-4B31-4233-868B-56B09B65F2D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E4E794-191E-44AE-AB14-4BCDE7C2C07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1700F0-9FE0-4769-81FD-C8C477BB6CF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1AE42A-1DB6-4F98-A655-E9EAB71D969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3B7A0B-1F1A-48C2-AC63-64EC4D0FAC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C125D-A88D-4F6A-A86A-B04393F2FDD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499AFE-2931-475B-BBF5-2EB66A8572F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1B0595-D7D8-49E5-8C14-CFB745E7C5A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88B1C1-B2FB-4956-9AA6-AC7986B5898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24D3B8-04F0-49AC-9F10-CF29EDB5D68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EEBCA6-789C-44F1-8742-E82ECF525D2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124FF3-34FD-42C3-B80B-740B4A12515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7D9EBD-63C6-4E5A-871B-19B00A70808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823D83-BD6F-4BCC-98D5-1B5D05B80822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27B10-7F36-4118-8D2F-B3684FE9131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679F9-0937-4F6F-8B1C-0062E0B11C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C579B-2719-4F9C-ABE5-59E916BD8EA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A6CFCF-EB63-4414-A6A4-AD61BE17C40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512DA7-D8CF-42F9-A77F-18D0F699F60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C284A-4DFE-40C4-87D1-F49FC81052F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3A3D08-46CC-4547-A4AE-A883AF4B1B8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B5914F-43DA-4957-8A38-085EE771B49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38FA40-C91A-4692-82C2-C87DBF1B81F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5D47AB-98F6-43BA-8CA0-A32B332F5BF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B46649-284B-4E78-907E-6FFF3FEA5D7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F0BD0-28F9-4DF0-869B-C8332B0DEF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9547F-353C-45E5-A585-93C88CC8E0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FF118-5B9F-4B67-AD43-2D9718DC91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482B6-C50F-480A-896A-5ACA5885E6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F5165-FD6A-4C5B-945F-B7D7B174F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B24ED-ECE9-4800-ADC8-B5D019B109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41193-8BCB-4145-8BB3-5485FB2451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88E5C-4385-43A2-9FB9-3CF892D1EB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41D54-B0A1-4BC4-8365-7D74621FBC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C1F12-0B8E-4C5B-928F-FE83069B0A8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BCA4-A70E-4A07-A380-BD3C6943EA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14AB-3977-4124-8493-77645FE0ED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86AA-C321-42DC-8A91-43A585E53A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F947-C509-4770-8E26-3A5C6ED502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0A32-2B13-44A2-B621-A3693B5DDB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AB46A-311C-45CB-AF8E-2A7646B70F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9A1D-1A41-4786-B98B-D1EE50D0E4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5BA1-331F-42B6-8F82-F090720031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2BF7-4787-4508-85EB-FDED68DB4A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6E27-9884-4CD4-BDF7-036A3040CC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39E7-8A78-4CCF-83DA-D7CC2B62AB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9DFBC-1B5A-4C6D-BD3A-02A679B498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1826-BC13-4DBF-A644-353007E39A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892B6-5ED1-465E-9825-13BC9100B8F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59593-9AAE-4835-B265-66D61B00D82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7B8A76-EBF4-4D4B-BFEF-5A0F783385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D3BE-0022-4B45-9F25-6CABE56E91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7D8D8-56F2-480E-8192-4A79107F87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247A4-C333-4DC4-BD18-660004C467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7CC6A-96A1-4CF2-A81A-5CA4BCC3C0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19238-D89E-476A-A899-D905F7EC12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5659B-BAE5-4C35-8946-BCF603E60E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96A20-3DFA-4B6F-A1E6-D9DF16B0C3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B00F2F-6FFD-4059-ACCE-1D5DA27436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2FF7E-E9E8-48F0-8255-287611ECEFD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1CB97-2D59-4372-94F9-EF02256DE84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BDA0B1-BF08-4FB2-BFE6-E4EE95214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DA6C-6C23-4358-BFA3-407B31655B5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D90C21-6947-45EF-9DFA-B9ECBCB3BEE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C1E036-FABA-4721-9C1F-78DA16379E6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07A6E6-67DA-45CC-8167-ED3FFF35C96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AC9E24-0E69-42B2-A4FB-C4CBE8DD0B3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076008-7775-45D7-ADB7-D529023E932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301B3C-0ABA-43E6-A249-5B8F0F04ACA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7C3617-3BCC-4BFC-BCE3-42667302374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171B04-DA3D-4A58-AAA6-B76678BE15A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F7FDD9-25C7-4C13-8D87-3962EF9B3D6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ED42A3-92FE-47CE-AF04-934F23712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94F29-8900-4F68-9193-03CF46475B0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00C2D5-6246-450F-A761-3EFFE89DDFB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DF2E9-7D6A-462A-AF1E-9D6CE477224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5C48E-FC4C-4D75-ACFD-EE02178ED4B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B400D-D1FD-4368-B906-9E234E35A32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734A6-D6CB-49C9-94D5-F74AFCF323F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5F464-FF25-4E99-8C48-386D33DC7FC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CD52E-E95D-4A78-8951-37A4E254FCD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4DF39-276D-4D2B-8BA9-6057474209E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6AADA-0025-4004-850F-BA6AE0FE425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38E8F-3760-4759-AD41-8660C02FB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61801-8B01-4225-BB47-AC0F723B19E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BEEBE-08E4-4BA8-91DE-ADDB8BC54DE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C97D6-97F6-4078-8D82-11084DF9241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C70E4-7DD8-4596-A8D9-8E82F1C07BB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B99F8D-6FB9-4840-A960-5760ED41D55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06D13E-46BE-4F66-AF73-D64C51E2E10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8566BF-220B-49E2-8C9C-A6CC3EFF29E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F88871-3AD6-4D88-8372-7818A82B9B8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C05CA-5F08-4CC4-97CE-9B7F2B38BB2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DED66C-34C0-4643-80DB-B6F885002C3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2A292-80DA-4944-9734-72F87F2DF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6A8CD-20B1-4A46-8C82-743791E3254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6E0C1D-1633-470C-99F4-A5CC4BE065C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6E3344-29D3-401F-884F-59A093960BC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73D696-7795-4CC3-8F05-8D361C32BDE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715795-8E0A-4C01-9B25-012B16F40E5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001610-3A43-468C-A958-5633DCA3A4F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6AFDED-77B9-4B8F-AAF0-CF308BBFBB3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3A49DE-F20E-41A0-B4B5-4F7410213A4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0FF131-67BA-47A8-95A7-69B8B17C60A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DBB77B-0B1A-4ABE-AAE1-D802898865F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C2E2A1-A5F7-4480-B5EE-03402CF5B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D93DF-A688-478C-ADB8-EF8B7919177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0578CC-3243-4701-939C-A0223607C54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EB5680-4B56-48C0-B650-5023631BED6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5A666C-2A0C-43B4-B827-05A8F56B665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7081C2-A930-4D8B-B877-43275EE0133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FEB8AE-3049-4E21-A632-A7F69E759EC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202012-B3D7-4E1B-9616-F77C343550A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4F4B9F-6709-46E7-A6F4-72A43D84A53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15EB1-E84A-4617-9A31-54911683FCB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DD4CB-2113-43A9-A0B1-B4420A132EB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A5812-CF42-4B0C-9A76-CBD28019B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8718409-48D8-4379-881D-34E9BE530F30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9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20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D2AAD60-DB6E-4BD1-AE86-BDBD057244E5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21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2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6E8F2B4-CA46-462B-8FFA-57E8603D871F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3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4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07B6665-4F46-4F9B-925F-B372CBB6551E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ftr" idx="25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26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4FCC140-3FE7-4CE6-9260-B64C5D1B7AE3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27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28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33E5E13-FC8A-48DC-B371-2C1B6E66534B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hp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581280" y="628344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156883D-DC13-47EA-9C08-640ED004789A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36FE8DC-71E0-4753-9D26-BAF5476A3905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7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90C6B82-7380-4227-BD6D-B1C9DA2902F8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9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0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9B986B6-AA1D-4397-9B95-346DC78B3179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1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2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7451544-ADD8-4E49-B8A6-668C883E2CDF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3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4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3335FCF-E13A-447B-B95F-FFD82F40B1D5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5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6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F5C8813-1EA3-4E7F-9612-F3C810480751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7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8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90BCF70-EBE8-44B7-85B6-A55B2EE8514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4"/>
          <p:cNvSpPr/>
          <p:nvPr/>
        </p:nvSpPr>
        <p:spPr>
          <a:xfrm>
            <a:off x="3581280" y="628344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5C114D6-F6BF-42BB-A343-F859BF9BC028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2600" y="1114200"/>
            <a:ext cx="81198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50527"/>
                </a:solidFill>
                <a:latin typeface="Arial"/>
              </a:rPr>
              <a:t>Lecture 8 </a:t>
            </a:r>
            <a:endParaRPr b="1" lang="en-US" sz="48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837720" y="1981080"/>
            <a:ext cx="7085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strointestinal a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ory Organ Problem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992031"/>
                </a:solidFill>
                <a:latin typeface="Arial"/>
              </a:rPr>
              <a:t>CHS 4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2031"/>
                </a:solidFill>
                <a:latin typeface="Arial"/>
              </a:rPr>
              <a:t>By Dr. Ebtisam Feto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50093E9-35DB-4F59-869A-19371254B9B3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roblems of the Esophagus/3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1. Gastroesophageal reflux disease (GE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constant regurgitation of acid gastric contents into lower esopha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nancy, obesity, pernicious vomiting, or nasogastric tubes ar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irritation and inflammation (esophagit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nosis most common com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67403C0-8C11-40AD-86C3-2584E4F7322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roblems of the Esophagus/4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2. Hiatal he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ion of upper stomach protrudes through opening in the diaphragm membrane (hia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common in obese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5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C08F70A-893A-48CE-80C1-5AEF48A8EC62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Hiatal Hernia in Comparison with Normal Stomach Placemen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991040" y="1371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850527"/>
              </a:buClr>
              <a:buSzPct val="11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Normal stom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tomach placement below esophageal hi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8" descr="NDT_18_327_hernia1"/>
          <p:cNvPicPr/>
          <p:nvPr/>
        </p:nvPicPr>
        <p:blipFill>
          <a:blip r:embed="rId1"/>
          <a:stretch/>
        </p:blipFill>
        <p:spPr>
          <a:xfrm>
            <a:off x="914400" y="1398600"/>
            <a:ext cx="3809880" cy="405936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9"/>
          <p:cNvSpPr/>
          <p:nvPr/>
        </p:nvSpPr>
        <p:spPr>
          <a:xfrm>
            <a:off x="1066680" y="5838840"/>
            <a:ext cx="2210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5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AAB0D04-970B-483D-8DE9-A153B55C7D02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80720" y="-8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Hiatal Hernia in Comparison with Normal Stomach Placement/2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B. </a:t>
            </a: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Paraesophageal hern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small portion of the stomach rises above the hiatu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nge in the position of the esophag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1032" descr="NDT_18_327hernia2"/>
          <p:cNvPicPr/>
          <p:nvPr/>
        </p:nvPicPr>
        <p:blipFill>
          <a:blip r:embed="rId1"/>
          <a:stretch/>
        </p:blipFill>
        <p:spPr>
          <a:xfrm>
            <a:off x="5257800" y="1371600"/>
            <a:ext cx="3733920" cy="411480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1034"/>
          <p:cNvSpPr/>
          <p:nvPr/>
        </p:nvSpPr>
        <p:spPr>
          <a:xfrm>
            <a:off x="952560" y="1495440"/>
            <a:ext cx="2209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…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5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67EB233-BAC2-4668-832D-8A0358F273A5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Hiatal Hernia in Comparison with Normal Stomach Placement/3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4267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C. </a:t>
            </a: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Esophageal hiatal hern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bese persons, excessive fat tissue pushes on the stomach and forces it through the diaphra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952560" y="1219320"/>
            <a:ext cx="2209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…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F4E992B-82A4-434D-B3ED-64DC4C851D33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Problems of the </a:t>
            </a:r>
            <a:r>
              <a:rPr b="1" lang="en-US" sz="2800" spc="-1" strike="noStrike">
                <a:solidFill>
                  <a:srgbClr val="850527"/>
                </a:solidFill>
                <a:latin typeface="Arial"/>
              </a:rPr>
              <a:t>Stomach</a:t>
            </a: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Peptic Ulcer Disease (PUD)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Helicobacter pylori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bacco smoking linked to P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ic use of nonsteroidal antiinflammatory (NSAIDs) drugs may contribute to development in some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ion usually occurs in duodenal bulb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نبتة-بداي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8BC9582-7F5F-4CF0-B01C-A32039E2E348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eptic Ulcer Disease (PUD)/2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85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during young- and middle- adult years may con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 include *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ncreased gastric muscle t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*painful contractions when stomach 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anagement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ing, alcohol use should be eli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, relaxation, and sleep help ease symp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ertain susceptible individuals, NSAIDs should be avo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057040" y="-7920"/>
            <a:ext cx="708660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eptic Ulcer Disease (PUD)/3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288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How is PUD diagno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firmed 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00"/>
              </a:spcBef>
              <a:buClr>
                <a:srgbClr val="85052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-ray test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00"/>
              </a:spcBef>
              <a:buClr>
                <a:srgbClr val="85052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sualization by gastrosco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Treatment goals ar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eviate sympto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mote hea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ent com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iminate the ca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A036DA9-77C3-445C-A4B9-DDD1E13938DE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9C53354-2CAB-4360-AB45-C281688A54AB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eptic Ulcer Disease (PUD)/4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288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rug therapy can manage peptic ulcer dise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cking agents control acid secre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cosal protectors inactivate pepsin and produce gel-like substance to cover ul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ibiotics control H. pyl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acids counteract or neutralize ac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731376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eptic Ulcer Disease (PUD)/5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Treatment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Blocking agen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clude cimetidine (Tagamet), ranitidine (Zantac), and omeprazole (Prilosec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2031"/>
                </a:solidFill>
                <a:latin typeface="Arial"/>
              </a:rPr>
              <a:t>Mucosal protect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ucralfate (Caraf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ntibiotic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generally used in combination (amoxicillin, proton pump inhibitor, tetracycline, and metronidazo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2031"/>
                </a:solidFill>
                <a:latin typeface="Arial"/>
              </a:rPr>
              <a:t>Antacid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ch as Mylanta and Maalox (magnesium-aluminum compound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784872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DDCCF78-B6F8-42E5-ADD4-35554EA0E982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1"/>
          <p:cNvSpPr/>
          <p:nvPr/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2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0112540-E6A6-4BFF-9564-52368F8B2555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912960" y="1069920"/>
            <a:ext cx="81198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/>
          <p:cNvSpPr/>
          <p:nvPr/>
        </p:nvSpPr>
        <p:spPr>
          <a:xfrm>
            <a:off x="915840" y="1219320"/>
            <a:ext cx="70088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art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with the GI system can have a major impact on a patient’s overall well-be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ful assessment can identify problems early to prevent more serious com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8EFA55D-711C-4C42-9BC7-289DC32AC5BF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eptic Ulcer Disease (PUD)/6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7720" y="121896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Dietar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balanced healthy diet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حمية الصح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d acid st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and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رقيق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ets have been proven to be ineffective and lacking in adequate nutr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Dietary manag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includes adjustments in the following are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*meal pattern, *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food quant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*milk intake, *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asonings</a:t>
            </a:r>
            <a:r>
              <a:rPr b="0" lang="ar-SA" sz="2800" spc="-1" strike="noStrike">
                <a:solidFill>
                  <a:srgbClr val="3333cc"/>
                </a:solidFill>
                <a:latin typeface="Arial"/>
                <a:cs typeface="Arial"/>
              </a:rPr>
              <a:t>توابل</a:t>
            </a:r>
            <a:r>
              <a:rPr b="0" lang="ar-SA" sz="2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*dietary fiber, *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ff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*citric acid juices, *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lcoh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*smoking, *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od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erson can have different triggers to acid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B7ACB14-C9EE-4880-9615-7796CAD9EAE2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Small Intestine Diseases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1. Diarrhea: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olerance to specific fo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ute food poiso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al inf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Diarrhea: 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loose, watery stools occurring more than three times in on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Small Intestine Diseases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288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What is the main complication associated with diarrhea?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hyd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 diarrhea can be life-threatening to young children or adults with weak immune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diarrhea subsides, patients should avoid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ilk 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oods that are greasy, </a:t>
            </a: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high-fi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very sweet. These foods tend to aggravate diarr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professional may recommend the </a:t>
            </a: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BR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et (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nan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ice,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p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a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Cont'd…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4"/>
          <p:cNvSpPr/>
          <p:nvPr/>
        </p:nvSpPr>
        <p:spPr>
          <a:xfrm>
            <a:off x="7897680" y="6172200"/>
            <a:ext cx="124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1D56878-195E-4E28-BC91-5DB68476FC05}" type="slidenum">
              <a:rPr b="1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9F5C42A-DFBE-4BBC-9B9B-ED98C197754B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2.Mal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digest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stinal mucos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stinal enzyme de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r and its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bolic de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use many problems, from diarrhea to malnutr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Celiac sp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ystic fibrosis,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flammatory bowel dis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hree diseases that cause malabsor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8EF45EF-3ACB-40B4-B478-F5123F1E1A98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A. Celiac sprue: </a:t>
            </a:r>
            <a:r>
              <a:rPr b="0" lang="ar-SA" sz="3200" spc="-1" strike="noStrike">
                <a:solidFill>
                  <a:srgbClr val="992031"/>
                </a:solidFill>
                <a:latin typeface="Arial"/>
                <a:cs typeface="Arial"/>
              </a:rPr>
              <a:t>اسهال البلاد الحارة نتيجة اضربات الجهاز الهض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sensitivity to the protein gluten in certain g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atorrhea and progressive malnutrition are secondary effects to glute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 management controls dietary gluten intake and prevents mal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80720" y="-7920"/>
            <a:ext cx="716292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28520" y="1371240"/>
            <a:ext cx="7810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iac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992031"/>
                </a:solidFill>
                <a:latin typeface="Arial"/>
                <a:cs typeface="Arial"/>
              </a:rPr>
              <a:t>اضربات الجهاز الهضم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ase damages the small intestine and interferes with absorption of nutrients from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ly treatment for celiac disease is to follow a gluten-free di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foods that contain gluten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foods prepared with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whe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at</a:t>
            </a:r>
            <a:r>
              <a:rPr b="0" i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شوفان</a:t>
            </a:r>
            <a:r>
              <a:rPr b="0" i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barley</a:t>
            </a:r>
            <a:r>
              <a:rPr b="0" i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شعير</a:t>
            </a:r>
            <a:r>
              <a:rPr b="0" i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; luncheon mea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nfo: http://www.celiac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4"/>
          <p:cNvSpPr/>
          <p:nvPr/>
        </p:nvSpPr>
        <p:spPr>
          <a:xfrm>
            <a:off x="84582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EC23713-682D-4A94-B527-BDEAD934CC10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47C508B-9ECA-4054-A618-79C73EB21278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br>
              <a:rPr sz="1400"/>
            </a:b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B. Cystic fibrosis (CF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disease of child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ibits movement of chloride and sodium ions in the body tissue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 mucus in the lungs leads to damaged airways, difficulty breathing, and lung inf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 secretions also obstruct the pancreas, preventing digestive enzymes from reaching the intestines to help break down and absorb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labsorption of undigested fo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iver disease, and </a:t>
            </a: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increased salt concentration in the t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A220108-2594-4DD5-BCBF-829DEDE59CC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br>
              <a:rPr sz="1400"/>
            </a:b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886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2031"/>
                </a:solidFill>
                <a:latin typeface="Arial"/>
              </a:rPr>
              <a:t>B. Cystic fibrosis (CF):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pancreatic replacement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with CF require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105% - 150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recommended nutrients for their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ally adequate high-protein, normal-to-high fat diet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4"/>
          <p:cNvSpPr/>
          <p:nvPr/>
        </p:nvSpPr>
        <p:spPr>
          <a:xfrm>
            <a:off x="8458200" y="624852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A2097CD-2C7E-4735-A0DC-3EA3C951CBAD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C. Inflammatory bowel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s to both ulcerative colitis and Crohn’s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-bowel syndrome results from repeated surgical removal of parts of the small intestine as disease prog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absorption of nutr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2031"/>
                </a:solidFill>
                <a:latin typeface="Arial"/>
              </a:rPr>
              <a:t>Diet gradually advanced to restore nutrient int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rotein (100 g/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energy (2500-3000 kcal/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vitamins and minerals (suppl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05120" y="-82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C. Inflammatory bowel diseas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…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common symptoms of ulcerative colitis are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abdominal p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992031"/>
                </a:solidFill>
                <a:latin typeface="Arial"/>
              </a:rPr>
              <a:t>bloody diarrh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hould avoid foods that upset the intest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uch as 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highly seasoned </a:t>
            </a:r>
            <a:r>
              <a:rPr b="0" lang="ar-SA" sz="2800" spc="-1" strike="noStrike">
                <a:solidFill>
                  <a:srgbClr val="992031"/>
                </a:solidFill>
                <a:latin typeface="Arial"/>
                <a:cs typeface="Arial"/>
              </a:rPr>
              <a:t>متبلة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fo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aw fruits and vegetables, or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ilk sugar (lactos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out: http://www.ccfa.org/ (Crohn’s &amp; Colitis Foundation of Amer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7897680" y="6400800"/>
            <a:ext cx="124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D4B4CB5-17BE-43BE-83C0-332C94AA6848}" type="slidenum">
              <a:rPr b="1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68BCE2F-B45E-418F-9065-02C00B64F838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Key Concepts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Diseases of the gastrointestinal tract and its accessory organs interrupt the body’s normal cycle of: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es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2C13A35-2077-4456-BC09-4F93C8E5392A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Large Intestine Diseases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2031"/>
                </a:solidFill>
                <a:latin typeface="Arial"/>
              </a:rPr>
              <a:t>1. Diverticular (blow out </a:t>
            </a:r>
            <a:r>
              <a:rPr b="0" lang="ar-SA" sz="3600" spc="-1" strike="noStrike">
                <a:solidFill>
                  <a:srgbClr val="992031"/>
                </a:solidFill>
                <a:latin typeface="Arial"/>
                <a:cs typeface="Arial"/>
              </a:rPr>
              <a:t>انتفاخ لأنبوبة مسدود أحد طرفيها</a:t>
            </a:r>
            <a:r>
              <a:rPr b="0" lang="en-US" sz="3600" spc="-1" strike="noStrike">
                <a:solidFill>
                  <a:srgbClr val="992031"/>
                </a:solidFill>
                <a:latin typeface="Arial"/>
              </a:rPr>
              <a:t>)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Diverti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ormation of many small pouches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جيو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iverticula) along muscular mucosal l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ticulitis caused by pockets becoming inf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263F4DF-31DC-4440-9555-F23139CC8FC2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980720" y="-7920"/>
            <a:ext cx="716292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0527"/>
                </a:solidFill>
                <a:latin typeface="Arial"/>
              </a:rPr>
              <a:t>Mechanism By Which Low-Fiber, Low-Bulk Diets Might Generate Diverticula</a:t>
            </a:r>
            <a:endParaRPr b="1" lang="en-US" sz="2800" spc="-1" strike="noStrike">
              <a:solidFill>
                <a:srgbClr val="85052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845820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7944E0C-4D73-4F9C-9DF5-88C3D3CF2001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Large Intestine Diseases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br>
              <a:rPr sz="1400"/>
            </a:b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2. Irritable bowel syndrome (I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2031"/>
                </a:solidFill>
                <a:latin typeface="Arial"/>
              </a:rPr>
              <a:t>Multicomponent disord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2031"/>
                </a:solidFill>
                <a:latin typeface="Arial"/>
              </a:rPr>
              <a:t>of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ologic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Emotio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عاطف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al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2031"/>
                </a:solidFill>
                <a:latin typeface="Arial"/>
              </a:rPr>
              <a:t>Psychologic 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recurrent pain in abdo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ll-volume bowel dys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ss gas 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0CBAEA0-3F74-4286-847B-410905344916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0527"/>
                </a:solidFill>
                <a:latin typeface="Arial"/>
              </a:rPr>
              <a:t>Problems of the Mouth</a:t>
            </a:r>
            <a:endParaRPr b="1" lang="en-US" sz="40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ent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th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-fitting den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 soft die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rgica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99"/>
              </a:spcBef>
              <a:buClr>
                <a:srgbClr val="850527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Healing nutrients administered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00"/>
              </a:spcBef>
              <a:buClr>
                <a:srgbClr val="850527"/>
              </a:buClr>
              <a:buSzPct val="9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protei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00"/>
              </a:spcBef>
              <a:buClr>
                <a:srgbClr val="850527"/>
              </a:buClr>
              <a:buSzPct val="9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caloric milk sh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4CAD434-7F2E-4BC7-8B82-47AC0ED76D78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roblems of the Mouth</a:t>
            </a:r>
            <a:r>
              <a:rPr b="1" lang="en-US" sz="2800" spc="-1" strike="noStrike">
                <a:solidFill>
                  <a:srgbClr val="850527"/>
                </a:solidFill>
                <a:latin typeface="Arial"/>
              </a:rPr>
              <a:t>/2</a:t>
            </a:r>
            <a:endParaRPr b="1" lang="en-US" sz="28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28520" y="1447920"/>
            <a:ext cx="7886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Oral tissue infla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ngiv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t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ss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il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alivary gl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 sal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erostomia (permanent dry mou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2CB4D95-84DB-4DEA-9CED-B3228EF027E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Problems of the Mouth/3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wallowing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Dysphagia </a:t>
            </a:r>
            <a:r>
              <a:rPr b="0" lang="ar-SA" sz="2800" spc="-1" strike="noStrike">
                <a:solidFill>
                  <a:srgbClr val="992031"/>
                </a:solidFill>
                <a:latin typeface="Arial"/>
                <a:cs typeface="Arial"/>
              </a:rPr>
              <a:t>صعوبة في البلع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fairly common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production of sal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y m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peristaltic motility of the esopha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cation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logic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29F8AB0-952F-4671-BA12-D595E6274D1E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Problems of the Mouth/4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arning signs of swallowing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uctance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تردد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at certain food consistencies or any food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low chewing or 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igue from 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 throat cle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aints of food “sticking” in thr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ing pockets of food in ch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ful swa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rgitation, coughing, choking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خنق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7B067E6-C1B1-4BD6-ABC5-8F64B012BBBA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roblems of the Esophagus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86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entral tube (esophag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 spasms or uncoordinated con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cture (narrowing) of the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ower esophageal sphincte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alasia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نقبا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cardiospasm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شن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smooth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-muscle hormone control of peristal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8040F2E-7222-4CE4-880F-E89DF29881C6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roblems of the Esophagus/2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ower esophageal sphincte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llow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ness in the c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 loss from eating 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ous mal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monary complications and infections caused by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aspi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شف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food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7:30:18Z</dcterms:created>
  <dc:creator>Trial User</dc:creator>
  <dc:description/>
  <dc:language>en-US</dc:language>
  <cp:lastModifiedBy>ksu</cp:lastModifiedBy>
  <cp:lastPrinted>2005-06-06T20:43:30Z</cp:lastPrinted>
  <dcterms:modified xsi:type="dcterms:W3CDTF">2012-11-19T04:59:45Z</dcterms:modified>
  <cp:revision>2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