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</p:sldIdLst>
  <p:sldSz cx="9144000" cy="6858000"/>
  <p:notesSz cx="678180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782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29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30"/>
          </p:nvPr>
        </p:nvSpPr>
        <p:spPr>
          <a:xfrm>
            <a:off x="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31"/>
          </p:nvPr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63C4-6BB6-458D-AAAE-9F76548A086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B196-1A9F-4806-B9BB-10BBFCB23A7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the GI system can have a major impact on a patient’s overall well-be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 assessment can identify problems early to prevent more serious com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8A6C-EC17-4894-B617-5F32597B5A5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lassic symptom of GERD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frequent and severe heartbur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D is very common, but many people do not seek trea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for controlling GERD include staying upright for two hours after meals and avoiding common irrit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8517-5131-48C0-A5A1-398A6778575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trudes: </a:t>
            </a:r>
            <a:r>
              <a:rPr b="0" lang="ar-SA" sz="13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بر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 of patients achieve improvement of symptoms with weigh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require surgery if hernia is very l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EF41-6120-4472-8104-CAA9369357A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stomach placement below esophageal hi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4989-9F4F-45BB-9ECD-B23DC88EBF4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small portion of the stomach rises above the hiatus; no change in the position of the esophag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0AF8-5FFE-44C4-89C9-4E74FF42C24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bese persons, excessive fat tissue pushes on the stomach and forces it through the diaphra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52D1-85FB-4994-9D84-7C252EBA666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balance between gastric acid and pepsin secretions and degree of tissue resistance to secretions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responsible for 80%-90% of gastric and duodenal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spiraling, rod-shaped bacteria that inhabit the GI area around the pyloric va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carriers of the bacteria develop a peptic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ontribute to higher incidence of gastric cancer and lymph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F179-966D-48AF-AE8A-5CA0B98123B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, relaxation, and sleep help ease symp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ertain susceptible individuals, NSAIDs should be avo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PUD diagnosed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confirmed by x-ray tests and visualization by gastroscop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goals ar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viate symp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ote h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 com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8A95-E914-44FD-A877-7268D102F71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ing agents include cimetidine (Tagamet), ranitidine (Zantac), and omeprazole (Prilose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osal protector: sucralfate (Caraf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iotics: generally used in combination (amoxicillin, proton pump inhibitor, tetracycline, and metronidazo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cids such as Mylanta and Maalox (magnesium-aluminum compou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B983-7848-436D-905E-F7802C08893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574B-CC57-402E-917C-5E558211A80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tary management includes adjustments in the following areas: meal pattern, food quantity, milk intake, seasonings, dietary fiber, coffee, citric acid juices, alcohol, smoking, food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person can have different triggers to acid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6DC2-79A4-48D3-804D-2196617C535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—loose, watery stools occurring more than three times in on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complication associated with diarrhea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dehyd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diarrhea can be life-threatening to young children or adults with weak immun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diarrhea subsides, patients should avoid milk products and foods that are greasy, high-fiber, or very sweet. These foods tend to aggravate diarrh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 professional may recommend the BRAT diet (bananas, rice, apples, toas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A1E5-E001-4E90-BDA6-F30E4906A89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ause many problems, from diarrhea to malnutr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iac sprue, cystic fibrosis, and inflammatory bowel disease are three diseases that cause malabsor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0E37-4921-40B4-9A53-F2B17CC23A5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iac disease damages the small intestine and interferes with absorption of nutrients from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reatment for celiac disease is to follow a gluten-free di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foods that contain gluten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foods prepared with wheat, rye, oat, or barley; luncheon mea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info: http://www.celiac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AAFE-90D9-4CD6-A4DB-2FAD6660BF9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mucus in the lungs leads to damaged airways, difficulty breathing, and lung inf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secretions also obstruct the pancreas, preventing digestive enzymes from reaching the intestines to help break down and absorb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malabsorption of undigested foods, liver disease, and increased salt concentration in th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0D81-7665-403E-BBE7-8049D97553A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90% of CF patients take supplemental pancreatic enzy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ement salt by adding salt and salty sna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ods that are high in calories to promote weight g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nutrition resources at: http://www.cff.org/ho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3DD4-C2FB-47CE-909C-3CAB39E2080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t gradually advanced to restore nutrient intak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tein (100 g/d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energy (2500-3000 kcal/d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vitamins and minerals (suppleme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common symptoms of ulcerative colitis are abdominal pain and bloody diarrh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should avoid foods that upset the intestines, such as highly seasoned foods, raw fruits and vegetables, or milk sugar (lactos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out: http://www.ccfa.org/ (Crohn’s &amp; Colitis Foundation of Amer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BF41-D42E-4A55-AA01-3E01715E4AB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A30D-5E41-4584-988D-77B40690D89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ticulosis is caused by progressive increase in pressure within the bowel; affects About 10% of Americans over the age of 4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dition becomes more common as people age. About half of all people over the age of 60 have diverticul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diverticular disease is managed with increased dietary fi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theory is that a low-fiber diet is the main cause of diverticular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ods should be avoided with diverticular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D9C6-1D89-4ED0-A305-53F6664509D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er keeps stool soft and lowers pressure inside the colon so that bowel contents can move through easi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Dietetic Association recommends 20 to 35 grams of fiber each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83D5-BA18-4E42-BFDF-1F217130776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 five Americans has IBS, making it one of the most common disorders diagnosed by doct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occurs more often in women than in men, and it usually begins around age 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information: http://www.iffgd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7071-1AD1-45D2-A7BA-35C0F8FF9EA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ing a journal of foods that cause symptoms can be help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ls that are low in fat and high in carbohydrates can be helpful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9B63-B661-4D98-A34F-7D450538F18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muscles of the colon, sphincters, and pelvis do not contract in a coordinated way, the contents do not move smoothly, resulting in abdominal pain, cramps, constipation, or diarrh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C0C2-E64F-446B-93D1-593FCFB9E48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tary management call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s that act as a natural lax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quate fluid in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think they are constipated when, in fact, their bowel movements are regu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ipation is one of the most common gastrointestinal complaints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ing in daily exercise is also effective in preventing constip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xatives should be avoided, if possible, to prevent depend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A86C-78A1-4343-9F81-179BAD015C4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4F22-929D-477B-B696-0B3342621FF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029D-E3FE-43A7-897E-03CDC0B7CA2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tal problems are more common in the elderly and those of lower socioeconomic backgr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able 18-1 for information on liquid fee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AD08-E3C5-4D97-950B-8E77C79AEB5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estimate that approximately 11 million Americans suffer from true food allerg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ance is the only way to prevent an allergic re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D1DE-5F93-4563-B27C-6F1FAC2249E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tend to be less allergic as they get older</a:t>
            </a:r>
            <a:r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ommon symptoms of a reaction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hives, nausea, diarrhea, and abdominal p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intolerance is an adverse food-induced reaction that does not involve the immune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information:  http://www.foodallergy.org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A86C-10C1-4995-9AAE-86F43E43E02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rence to the diet is crucial in infancy and childh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t is revised over time as the child's nutritional needs ch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022F-96E5-44C1-81F6-26597455CFD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d in newborn screening progr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should begin immediately and must be followed for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E8B8-5587-4804-A4CF-EDDA15DF515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ose intolerance is the inability to digest significant amounts of lactose, the predominant sugar of mi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ymptoms include nausea, cramps, bloating, gas, and diarrhea, which begin about 30 minutes to two hours after eating or drinking foods containing lact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any as 75% of all African-Americans and American Indians and 90% of Asian Americans are lactose-intoler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need to also avoid hidden lact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examples of food that contain lactose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milk, chee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8242-FC56-4902-B04C-E0B62123B2A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accessory organs: liver, gallbladder, and 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in digestion; diseases affect normal GI function and how the body digests certain fo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F7B7-0C93-4A98-9611-9D811CA4269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 therapy includes these requir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protein, high-carbohydrate, moderate-fat, and high-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s of hepatiti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ctious hepatitis (hepatitis 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um hepatitis, or hepatitis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xic hepatitis (caused by toxins such as alcoh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hepatitis involves bed rest and restriction of activity for about a month, removal of liver toxins, and carefully supervised di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reated hepatitis can lead to extensive liver damage, coma, and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038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038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DCA7-6AE3-4A9A-BA57-4973B4B7867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liver performs so many critical functions, a healthy liver is  critical to good heal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87FB-6ED6-4FC1-93BD-71AEA3D324F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common cause of cirrhosis is alcoh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other cause of cirrhosis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malnutr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involves efforts to stop the progress of the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 therapy focuses on healing suppo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as tolerated; low sodium; soft texture; optimal general nutr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irrhosis is detected early, the individual may be able to live a normal life by avoiding alcohol and participating in healthy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B4F9-A36C-47B7-8E11-776B246BAC1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rhosis is a condition in which liver cells are replaced by fibrous connective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CFD0-90BE-49F1-95AC-A5CA02D4CBA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the oral tissues can be very painful and can cause significant malnutrition if left untr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unteract decreased saliva production, eat more foods that have a higher liquid content. Artificial saliva can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7C6D-BABB-4D52-831E-D0D1EC50B0B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n as hepatic encephalopathy because the ammonia goes to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should have low-protein diets and take a medication such as lactulose, which promotes removal of nitrogen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8C1E-3ABC-430D-B7C0-71F736934E1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ease is seen in about one in 10 people and is more frequent in wo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symptoms of cholecystitis and cholelitha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may lead an essentially normal life without a gall bladder, although a low-fat diet may be advis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1D51-82EC-457D-9F9B-BD67BA140D5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 produces two hormones, insulin and glucagon, which are responsible for the body’s metabolism of carbohydrates, lipids, proteins, and electrolytes (minerals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pancreatitis should avoid alcohol and excess coffee, and follow a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 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ht diet used to reduce stimulation of pancreatic secre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pancreatitis may be brought on by gallbladder disease, overeating, or excessive alcohol consumption. It is most common in persons 40 to 50 years of age and is a serious condi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18F1-350D-4B1F-9F7D-B2F4780ED92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s 40%-60% of nursing home resi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in patients with head trauma, brain tumors, or stro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common in late-stage Alzheimer’s disease and Parkinson’s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4AFF-1BAA-4B64-B546-C489BFF42F3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on symptom of dysphagia is recurrent pneumonia from aspi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 monitoring of patients—especially those in a nursing home setting—can help identify dysphagia e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diagnosed by modified barium swallow study (MBS), a radiological exam that evaluates how patient swallows foods of different textures to detect aspiration or othe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is usually a modification in the texture of the di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AC27-4762-4598-AF97-80CED905D78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ophageal disorders usually require medical intervention such as stretching or surg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ospasm is misleading because it does not affect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BC38-6952-4195-A541-23D993F6CF6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ications can be very serious and usually require surgical inter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720E8-2798-418A-81DC-A8CFB8872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C16B4-7BAC-4B4B-A6EA-EC18D3FDF4F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95C4B-23CC-4290-B62B-1D4CA261C64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DC1AD-8442-489D-8E45-F10FCB165CC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C3939-73D0-46E3-8CA9-8770E78AB9B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74CFA-216F-49D1-BAB1-3DB2EB067B2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33D97-F643-4153-8EED-8772910F007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F2FDF-A951-48AB-BF4C-21195977943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C6A49-4013-461D-A6C7-D5D25AFD138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7F99C-C263-4425-ADC6-23D3EB40A92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25FAA-00CE-4D3B-982B-CC22A3267B9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B2300E-4EB6-4319-945B-6F1D00764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E2DC-2E6B-40A4-A2D0-9497D67386D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942645-888D-4718-8C6C-020AED08721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7BB86E-6837-42D7-8E08-8833780656A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6C703B-EAC5-407A-AEB3-AC88A046707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D26F10-6E3A-406A-8931-EA0CAE5AD6A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8B42B-8A27-428B-9483-107DB5CC965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2B60BC-1C1F-4E96-A098-41EF96265A0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C9988F-A828-418E-9816-2921163731D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FB00F6-B944-40B5-A551-382BCAB675F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9E5003-FAC6-4E97-8175-40882FD6655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1AF3B-E2EF-4BAD-8375-B30083E6B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FC863-EDA5-42AA-B7F7-42219DC02B7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CE8FA-A725-4A4B-BA9E-BE8F6CBA365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AF658B-EF3A-4E1F-967C-97F154D212B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7522D9-C9E6-4160-A029-576CC8046A9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D44BCC-2048-4FDC-B267-E35B250E771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0639EA-3E94-4B3C-90B1-842766A8622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6F5555-8B86-474F-95BA-50B816B3FFE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CCE23B-CCB1-4D79-BC19-0250552ECEA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C22E02-ED39-439A-9A6E-664E9F56EBF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998235-A184-429B-B90A-01A4FC72AD3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769234-EA65-4542-9020-56E09AB1B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126EA-CCAB-453F-9481-4556120795C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3111DC-15A3-43FE-83AD-8F87EDE46CC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BDA6B2-86DF-4D5F-8777-FE10B3F8E8B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2A12D5-2410-476D-BD47-60F0FFCE29C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287FF-5657-487B-B94A-CFB7439A640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04C4A-8468-4300-8A77-6AEE8C7E67F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51136-BFED-4F66-AB11-D85B152FDC2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2CC7C-DCE0-4626-864C-4984D2DF64A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E768C-8A5E-471E-9064-0B1320572EC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81688-BC54-4D1F-B1C7-EFC70CB87E3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5085D-C9D4-4FFC-9434-2EA8A751F3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32FCC-0762-46EB-B73C-F5B3055C86A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F2C00-DA2A-4698-A8CE-7518D86A73B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191AE-4F1C-48AB-8FCE-3EBDCF7BFCB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795F0-57E2-47C0-BE65-531B5FC42F8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ECD8F-5ED8-48FD-8C2A-309710CB8A8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A4067-A09C-4DD4-B5B7-7C73E8475DD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4BF849-8E0A-4CE2-8D63-E36FBC2475A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A65F06-A172-4E0B-B71B-1986BFF6B12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C7CD8F-BF0B-4758-A533-302B26C6D10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9053CF-C62E-421E-B611-98E82ECDFE0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6AE80E-E09C-492A-B087-50A4A1C481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7B3B0-EC19-4FEA-98FF-0F3FEED22A4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97BE85-E178-4A5B-82EB-E8813BB4C41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30BE58-109A-422D-AFD8-8BC61875BFF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4AC0A4-AAF1-40BF-803C-C2D8BAEF5CD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D8B95D-5156-4AB5-871A-254ABF58188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18412A-D39F-4A57-929C-185111A33A7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345D7A-9DE0-4465-B0F3-ED7DBA5A217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92B54E-DB75-4DAD-98D9-BF92F81E41D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A48CC5-2EF9-43A0-9A4F-8A241A55EA7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4499E-132D-40E9-BB83-7A170E8DA52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4FA18-92B0-4ED4-8CA9-7E807985ED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9A84E-F975-4667-9588-C0F8B16FD58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01688-4692-445C-8EF9-73E2794DCD4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25C0C-6C26-41E1-9A8B-EB1A46D119F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E9340-32A9-40EC-A625-A4DF05FBF65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293F9-E0E4-458D-A2DA-D7B04268942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B2ED9-CA08-4E4F-A8C0-A51D00200DF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C0487-F3C3-4859-9998-424969880C4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129B3-7058-4330-949F-58CF212600A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6D8A5-0079-4041-9E86-3CBEE9E87F8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2B9F5-8CB8-429A-A318-9BBDF77A0F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0AC3E-0F12-45ED-B6E7-E25D7C4402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50628-5D0C-4832-94DA-373BBFE256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C5D9B-D15F-404E-9CAF-CB73E2B5CA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A374-DCCC-4D8C-8F25-A281FEB42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359CB-2577-4757-9B67-B1BF232DEA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0F2F6-38AF-4C13-B9F1-ACB3541A5D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940B8-5A05-4957-8CDA-4391A52437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2B188-850C-44DA-9364-F345EB1E41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914A8-34FE-44AD-8E17-2F21E92FEA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1548-CA1D-43A5-B965-8CA41984EE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9FDA-E043-4514-96BC-1B7E6B4E8E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7D28-35BF-420A-A8E8-AF28C29E00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1B88-4828-44A2-A63A-98C5A79AAE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FC35-20CB-41F3-9460-C5D4A20599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942C8-FE9E-4618-BEB3-FC6E3EA329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5812-77C9-48DF-8138-8FD68F7030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228F-4076-4FE5-B266-9C5F687C97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5214-8385-4BE2-982D-549EDAA5F5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3AA1-EEA3-47C2-AF89-C736698E87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6A18-F4AF-40B4-9940-FB4BC0FA2D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B718-0E52-4A4D-869B-D93F081747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B461-EB04-4F36-A4E9-C8818B4426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35511-6087-430E-9247-7D20F07A44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D64CE-E305-49BC-9F6B-16D82E991E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BC72C-1C4A-4DA6-96B2-1166C5A2A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5047B-A9F1-45CF-A9FB-05F0C7E14F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C8226-9527-4051-A88A-D1490FFE69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F5A4D-60F2-4199-9A9D-EF4AB15262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A64E6-D389-4AD4-A4BD-2725B34CB7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C621D-0512-41E9-9570-D4248EE108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085AD-E512-46E8-AA6C-F5103D4549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540EC-1E34-46B7-B718-192F29298A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DADF7-E8E2-4ADC-9D72-7A6B8CFC44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C8969-4275-457E-AF59-F5F54E89C9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E9F5C-9F08-4D8D-95A7-644DF014D4C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38CF08-D056-4B13-B459-BF104A1BB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016E-0C80-41E7-8497-B7839B88441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C7F442-C788-4BFD-A816-43048DD7FE4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8ADB76-1CEF-4749-A74D-613C94141E9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B9DBB-527D-4361-8AC3-0BD4E7D7736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EB5AF5-F806-4A03-80F0-4B530163F37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A4BF8E-F17E-4C47-B3FA-6E55D98095F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50B495-DB55-4022-B13A-7B8CE486456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A4B122-6E8D-41C8-BEBD-8128F90322C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37AEA0-9EE8-480D-B535-5627FABB1DC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C935EC-2B2F-413B-BB96-F15E62EEF5E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9B2218-2DC6-456F-9F35-AE9E7724A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0CBF9-8436-4941-A440-ADF603C5E77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0273D5-72C0-4660-A90B-E85D1E31E04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55C72-467F-4761-A9BC-109190C3D86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AB96F-0317-4E75-8EDB-5391B146EC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2279E-2308-4F62-A01F-20BE9E20E12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686ED-A5C2-4523-AEA6-4E10412CDCF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13271-F657-4AA2-B855-0600911BB2F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E5623-72B0-4913-B735-3BB3E0865AF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294C3-8BB7-4246-84DE-CB6BABF0CD4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DAC30-A94F-4226-8760-A11FE6415B3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7B137-8FAC-49F2-B0D4-125D5938E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496C0-21B9-417A-BDB4-A2242CA69E5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2E7C8-1F99-4663-9F41-5FFCA755413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97110-6B2D-4E19-A3B8-0A8F081060C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DB234-8581-42FD-8185-769CE6EF968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07B4C-ED91-427B-8154-5322027C27A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A080DC-ECF7-45D2-AE9C-5B9E211A093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C366A5-B1BF-4429-B882-F2BD88CA4E5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F239CD-4A88-44C4-976D-FC9886262C8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58D8E5-995A-46DC-9800-9D7986A4A45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F672F-9110-4096-826E-EFF2C4B1CB4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764CEA-D45D-4B96-9868-FA541DE85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768D-E26F-44BA-B7E1-BF2F3EB6EAA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DB9393-B1C7-47AD-A3EF-DB3E269EF5B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A6143-E2EA-4776-8430-13B95CDFC6A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95C522-6956-468D-A4C3-F96E44A2241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4AAE7E-4E21-414C-836E-7CF12F86390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94F3CF-D523-4ABB-AB23-A0C4F336A05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28DD01-B5D7-4652-8230-A9CFC281E8B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AE6700-1FA6-4193-A301-2AF851C6ED4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B1C226-FBB0-44CE-8221-4A429099437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2A91ED-4965-4837-B818-FC66600E59E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80939B-D40B-4D75-9C56-C0CC87830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EDD7-42D5-459E-94D5-7DD5974352E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BE528A-A849-4A0D-99B6-C48CF0D97D9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787CF2-8442-4A34-80B7-8CB065FC73B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39F176-5E38-4710-9EF3-2559F007D56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650114-42AF-4550-B9CD-1863B46E648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822178-EB4D-4853-8453-45DFAEB07F5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0C4B5A-D912-4F60-ADCD-CB054C9A126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BA5F08-B491-48A0-A202-2CC5DFF81D7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3500F-11F5-4D0D-B3C0-CEB47C85152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35EA8-FD7E-42B9-8FB5-E8122F63B71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07F67-3337-4263-8A84-05FC12F29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FFA40DB-C311-44E2-871B-88CC4A4A89CB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9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0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E1662FF-4AA1-42E5-A667-9E3AE6E495C7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1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2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98820E5-0EE8-4D28-9517-2519046F62D8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ftr" idx="23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4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08BE320-9AB5-4970-AF9F-6C8119CD0B54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25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6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250C1E8-49E7-4E31-A2AC-C7C5222066E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27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28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E00E852-7BEF-4CE6-A34E-4D81F3AE4047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hp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581280" y="628344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752C46D-CD88-4B52-84F6-4218AF8B3DDE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F6A4BD4-EB33-4882-8523-F8CDEC78F944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4B742AA-5829-4C6B-B33C-0903E294CC3D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9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6742EF4-ABB5-4891-8E26-9D428E5973A8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1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BE501CD-D8DA-4003-95CC-A25A0A8D086B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13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4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A3F5E15-22CF-485F-B92C-CA0AF073C7C1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5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6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29EF834-F8E7-40DE-AE28-1AA4A920B6B4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E801734-A940-489B-869F-923037E282CF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4"/>
          <p:cNvSpPr/>
          <p:nvPr/>
        </p:nvSpPr>
        <p:spPr>
          <a:xfrm>
            <a:off x="3581280" y="628344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8B6B899-AAED-4745-A600-7A85E591481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2600" y="1114200"/>
            <a:ext cx="81198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50527"/>
                </a:solidFill>
                <a:latin typeface="Arial"/>
              </a:rPr>
              <a:t>Lecture 8 </a:t>
            </a:r>
            <a:endParaRPr b="1" lang="en-US" sz="48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837720" y="1981080"/>
            <a:ext cx="7085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strointestinal 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 Organ Problem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992031"/>
                </a:solidFill>
                <a:latin typeface="Arial"/>
              </a:rPr>
              <a:t>CHS 4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2031"/>
                </a:solidFill>
                <a:latin typeface="Arial"/>
              </a:rPr>
              <a:t>By Dr. Ebtisam Feto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E9512FB-394B-4541-A823-152035BF1C2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Esophagus/3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. Gastroesophageal reflux disease (GE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constant regurgitation of acid gastric contents into lower esoph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nancy, obesity, pernicious vomiting, or nasogastric tubes ar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irritation and inflammation (esophagi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nosis most common com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5289E7A-D879-479E-81AE-DA74479AAFAD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Esophagus/4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2. Hiatal he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 of upper stomach protrudes through opening in the diaphragm membrane (hi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common in obese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5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01541FF-3AA0-496E-8FBC-BA063CB8E345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Hiatal Hernia in Comparison with Normal Stomach Placemen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91040" y="1371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850527"/>
              </a:buClr>
              <a:buSzPct val="11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Normal stom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tomach placement below esophageal hi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8" descr="NDT_18_327_hernia1"/>
          <p:cNvPicPr/>
          <p:nvPr/>
        </p:nvPicPr>
        <p:blipFill>
          <a:blip r:embed="rId1"/>
          <a:stretch/>
        </p:blipFill>
        <p:spPr>
          <a:xfrm>
            <a:off x="914400" y="1398600"/>
            <a:ext cx="3809880" cy="405936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9"/>
          <p:cNvSpPr/>
          <p:nvPr/>
        </p:nvSpPr>
        <p:spPr>
          <a:xfrm>
            <a:off x="1066680" y="5838840"/>
            <a:ext cx="2210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5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258A83B-8A5E-4503-BB99-4BAC16DCCB15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980720" y="-8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Hiatal Hernia in Comparison with Normal Stomach Placement/2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B. </a:t>
            </a: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Paraesophageal hern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small portion of the stomach rises above the hiatu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ge in the position of the esophag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34"/>
          <p:cNvSpPr/>
          <p:nvPr/>
        </p:nvSpPr>
        <p:spPr>
          <a:xfrm>
            <a:off x="952560" y="1495440"/>
            <a:ext cx="2209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…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5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F6737BF-423F-40B2-8FE1-48432451EBC6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Hiatal Hernia in Comparison with Normal Stomach Placement/3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4267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C. </a:t>
            </a: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Esophageal hiatal hern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bese persons, excessive fat tissue pushes on the stomach and forces it through the diaphra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952560" y="1219320"/>
            <a:ext cx="2209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…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4663461-2225-422D-BBF1-D9F999DC327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Problems of the </a:t>
            </a:r>
            <a:r>
              <a:rPr b="1" lang="en-US" sz="2800" spc="-1" strike="noStrike">
                <a:solidFill>
                  <a:srgbClr val="850527"/>
                </a:solidFill>
                <a:latin typeface="Arial"/>
              </a:rPr>
              <a:t>Stomach</a:t>
            </a: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Peptic Ulcer Disease (PUD)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Helicobacter pylori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bacco smoking linked to P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use of nonsteroidal antiinflammatory (NSAIDs) drugs may contribute to development in some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ion usually occurs in duodenal bulb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نبتة-بداي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FEE823B-5249-406D-82BF-7397B9C2EEBF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2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5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during young- and middle- adult years may con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include *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ncreased gastric muscle t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*painful contractions when stomach 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anagement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ing, alcohol use should be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, relaxation, and sleep help ease symp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ertain susceptible individuals, NSAIDs should be avo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057040" y="-7920"/>
            <a:ext cx="708660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3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0288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How is PUD diagno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firmed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00"/>
              </a:spcBef>
              <a:buClr>
                <a:srgbClr val="85052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-ray test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00"/>
              </a:spcBef>
              <a:buClr>
                <a:srgbClr val="85052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sualization by gastrosco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Treatment goals ar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eviate sympto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mote hea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ent com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minate the ca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E3023ED-1A00-4D94-B87E-94D11A45788A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F244DDA-C7F3-455D-AC94-C270EC407FD9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4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288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rug therapy can manage peptic ulcer dise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cking agents control acid secre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cosal protectors inactivate pepsin and produce gel-like substance to cover ul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ibiotics control H. pyl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acids counteract or neutralize ac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731376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5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Treatment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Blocking agen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clude cimetidine (Tagamet), ranitidine (Zantac), and omeprazole (Prilosec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Mucosal protect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ucralfate (Caraf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ntibiotic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generally used in combination (amoxicillin, proton pump inhibitor, tetracycline, and metronidazo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Antacid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as Mylanta and Maalox (magnesium-aluminum compound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78487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03AF88B-EB58-4BB1-A3CC-52482D87B756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1"/>
          <p:cNvSpPr/>
          <p:nvPr/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2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5822653-CDF4-4551-A372-69F3FE6ACD94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912960" y="1069920"/>
            <a:ext cx="81198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915840" y="1219320"/>
            <a:ext cx="70088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art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with the GI system can have a major impact on a patient’s overall well-be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ful assessment can identify problems early to prevent more serious com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56B4513-AE6C-44AD-B53C-54564B3899B1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6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Dietar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balanced healthy diet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حمية الصح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 acid st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and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رقيق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ets have been proven to be ineffective and lacking in adequate nutr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Dietary manag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includes adjustments in the following are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*meal pattern, *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ood qua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*milk intake, *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asonings</a:t>
            </a:r>
            <a:r>
              <a:rPr b="0" lang="ar-SA" sz="2800" spc="-1" strike="noStrike">
                <a:solidFill>
                  <a:srgbClr val="3333cc"/>
                </a:solidFill>
                <a:latin typeface="Arial"/>
                <a:cs typeface="Arial"/>
              </a:rPr>
              <a:t>توابل</a:t>
            </a:r>
            <a:r>
              <a:rPr b="0" lang="ar-SA" sz="2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*dietary fiber, *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ff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*citric acid juices, *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lcoh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*smoking, *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od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erson can have different triggers to acid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F0FEB78-33A0-409E-B0CA-D60D83066DAA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1. Diarrhea: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olerance to specific fo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ute food poiso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al inf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Diarrhea: 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loose, watery stools occurring more than three times in on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Small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288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What is the main complication associated with diarrhea?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hyd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diarrhea can be life-threatening to young children or adults with weak immun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diarrhea subsides, patients should avoi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ilk 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oods that are greasy, </a:t>
            </a: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high-fi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very sweet. These foods tend to aggravate diarr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professional may recommend the </a:t>
            </a: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BR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et (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nan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ice,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p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a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Cont'd…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7897680" y="6172200"/>
            <a:ext cx="124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E7CE1A6-B501-447A-B578-936916059D0C}" type="slidenum">
              <a:rPr b="1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D1FDCD8-1A67-480E-9FD1-48AEB144CF66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2.Mal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diges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stinal mucos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stinal enzyme de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r and its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bolic de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use many problems, from diarrhea to malnutr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Celiac sp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ystic fibrosis,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flammatory bowel dis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hree diseases that cause malabsor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B82740E-C82E-488A-82C3-91E7DFB9FF84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A. Celiac sprue: </a:t>
            </a:r>
            <a:r>
              <a:rPr b="0" lang="ar-SA" sz="3200" spc="-1" strike="noStrike">
                <a:solidFill>
                  <a:srgbClr val="992031"/>
                </a:solidFill>
                <a:latin typeface="Arial"/>
                <a:cs typeface="Arial"/>
              </a:rPr>
              <a:t>اسهال البلاد الحارة نتيجة اضربات الجهاز الهض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sensitivity to the protein gluten in certain g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atorrhea and progressive malnutrition are secondary effects to glute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 management controls dietary gluten intake and prevents mal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80720" y="-7920"/>
            <a:ext cx="716292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28520" y="1371240"/>
            <a:ext cx="7810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iac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992031"/>
                </a:solidFill>
                <a:latin typeface="Arial"/>
                <a:cs typeface="Arial"/>
              </a:rPr>
              <a:t>اضربات الجهاز الهضم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ase damages the small intestine and interferes with absorption of nutrients from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treatment for celiac disease is to follow a gluten-free di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foods that contain gluten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foods prepared with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whe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at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شوفان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barley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شعير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; luncheon mea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fo: http://www.celiac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4"/>
          <p:cNvSpPr/>
          <p:nvPr/>
        </p:nvSpPr>
        <p:spPr>
          <a:xfrm>
            <a:off x="84582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8CFE988-A776-4DA8-9A3A-2B626A20B1B3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749BB58-6C8E-475E-90B1-E2F69E8923B3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br>
              <a:rPr sz="1400"/>
            </a:b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B. Cystic fibrosis (CF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disease of child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ibits movement of chloride and sodium ions in the body tissue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 mucus in the lungs leads to damaged airways, difficulty breathing, and lung inf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 secretions also obstruct the pancreas, preventing digestive enzymes from reaching the intestines to help break down and absorb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labsorption of undigested fo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iver disease, and </a:t>
            </a: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increased salt concentration in the t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DFE685A-5A7C-467C-8213-AB63847BC728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br>
              <a:rPr sz="1400"/>
            </a:b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886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2031"/>
                </a:solidFill>
                <a:latin typeface="Arial"/>
              </a:rPr>
              <a:t>B. Cystic fibrosis (CF):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pancreatic replacement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with CF require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105% - 150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recommended nutrients for their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ally adequate high-protein, normal-to-high fat diet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4"/>
          <p:cNvSpPr/>
          <p:nvPr/>
        </p:nvSpPr>
        <p:spPr>
          <a:xfrm>
            <a:off x="8458200" y="62485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272528A-7688-4EE0-9A06-0341BAB4DC38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C. Inflammatory bowel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s to both ulcerative colitis and Crohn’s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-bowel syndrome results from repeated surgical removal of parts of the small intestine as disease prog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absorption of nutr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2031"/>
                </a:solidFill>
                <a:latin typeface="Arial"/>
              </a:rPr>
              <a:t>Diet gradually advanced to restore nutrient int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rotein (100 g/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energy (2500-3000 kcal/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vitamins and minerals (suppl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05120" y="-82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C. Inflammatory bowel diseas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…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common symptoms of ulcerative colitis are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abdominal p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992031"/>
                </a:solidFill>
                <a:latin typeface="Arial"/>
              </a:rPr>
              <a:t>bloody diarrh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hould avoid foods that upset the intest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ch as 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highly seasoned </a:t>
            </a:r>
            <a:r>
              <a:rPr b="0" lang="ar-SA" sz="2800" spc="-1" strike="noStrike">
                <a:solidFill>
                  <a:srgbClr val="992031"/>
                </a:solidFill>
                <a:latin typeface="Arial"/>
                <a:cs typeface="Arial"/>
              </a:rPr>
              <a:t>متبلة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fo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aw fruits and vegetables, or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ilk sugar (lactos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out: http://www.ccfa.org/ (Crohn’s &amp; Colitis Foundation of Amer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7897680" y="6400800"/>
            <a:ext cx="124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3876804-438E-4128-BA28-35EB630806DD}" type="slidenum">
              <a:rPr b="1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90D36E1-D345-4242-8559-F92CD36A813A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Key Concepts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Diseases of the gastrointestinal tract and its accessory organs interrupt the body’s normal cycle of: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6466519-7912-47E2-8830-491871FEDD31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Large Intestine Diseases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2031"/>
                </a:solidFill>
                <a:latin typeface="Arial"/>
              </a:rPr>
              <a:t>1. Diverticular (blow out </a:t>
            </a:r>
            <a:r>
              <a:rPr b="0" lang="ar-SA" sz="3600" spc="-1" strike="noStrike">
                <a:solidFill>
                  <a:srgbClr val="992031"/>
                </a:solidFill>
                <a:latin typeface="Arial"/>
                <a:cs typeface="Arial"/>
              </a:rPr>
              <a:t>انتفاخ لأنبوبة مسدود أحد طرفيها</a:t>
            </a:r>
            <a:r>
              <a:rPr b="0" lang="en-US" sz="3600" spc="-1" strike="noStrike">
                <a:solidFill>
                  <a:srgbClr val="992031"/>
                </a:solidFill>
                <a:latin typeface="Arial"/>
              </a:rPr>
              <a:t>)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Diverti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rmation of many small pouches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جيو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iverticula) along muscular mucosal l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ticulitis caused by pockets becoming inf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D0AEB64-B90E-41EF-A8ED-09A2724B28A0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80720" y="-7920"/>
            <a:ext cx="716292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0527"/>
                </a:solidFill>
                <a:latin typeface="Arial"/>
              </a:rPr>
              <a:t>Mechanism By Which Low-Fiber, Low-Bulk Diets Might Generate Diverticula</a:t>
            </a:r>
            <a:endParaRPr b="1" lang="en-US" sz="2800" spc="-1" strike="noStrike">
              <a:solidFill>
                <a:srgbClr val="85052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Slide Number Placeholder 4"/>
          <p:cNvSpPr/>
          <p:nvPr/>
        </p:nvSpPr>
        <p:spPr>
          <a:xfrm>
            <a:off x="845820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A33B97A-F20E-41D6-A43F-E8C68863682B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Large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br>
              <a:rPr sz="1400"/>
            </a:b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2. Irritable bowel syndrome (I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Multicomponent disord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of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ologic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Emotio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عاطف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Psychologic 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recurrent pain in abd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-volume bowel dys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ss gas 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980720" y="-8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Large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br>
              <a:rPr sz="1400"/>
            </a:b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6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n five Americans has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B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aking it one of the most common disorders diagnosed by doc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ccurs mor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often in wom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in men, and it usually begins around age 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formation: http://www.iffgd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4"/>
          <p:cNvSpPr/>
          <p:nvPr/>
        </p:nvSpPr>
        <p:spPr>
          <a:xfrm>
            <a:off x="8458200" y="617220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654B5AD-A7C1-4D72-8EF6-D788375F3ED5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CCBCC43-EB86-480F-886C-E84C32DB49C7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Large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8039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2. Irritable bowel syndrome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B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Individual approach to nutrition care ess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dietary f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gas fo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ect food intoler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otal fa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large m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air-swallowing ha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90C276D-DFBE-4AAF-A28D-F6D7508DFBAD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Irritable Bowel Syndrome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pic>
        <p:nvPicPr>
          <p:cNvPr id="689" name="Picture 7" descr="NDT_18_335_IBS"/>
          <p:cNvPicPr/>
          <p:nvPr/>
        </p:nvPicPr>
        <p:blipFill>
          <a:blip r:embed="rId1"/>
          <a:stretch/>
        </p:blipFill>
        <p:spPr>
          <a:xfrm>
            <a:off x="1752480" y="1219320"/>
            <a:ext cx="6172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8E1626E-C42F-4B37-82AC-F10198578D02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Large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2031"/>
                </a:solidFill>
                <a:latin typeface="Arial"/>
              </a:rPr>
              <a:t>3.Constip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Common short-term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 tension and wo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rou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laxativ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fiber di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ary management rather than lax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0527"/>
                </a:solidFill>
                <a:latin typeface="Arial"/>
              </a:rPr>
              <a:t>Large Intestine Diseases </a:t>
            </a:r>
            <a:r>
              <a:rPr b="1" i="1" lang="en-US" sz="1600" spc="-1" strike="noStrike">
                <a:solidFill>
                  <a:srgbClr val="850527"/>
                </a:solidFill>
                <a:latin typeface="Arial"/>
              </a:rPr>
              <a:t>(…Cont’d)</a:t>
            </a:r>
            <a:r>
              <a:rPr b="1" i="1" lang="en-US" sz="2800" spc="-1" strike="noStrike">
                <a:solidFill>
                  <a:srgbClr val="850527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850527"/>
                </a:solidFill>
                <a:latin typeface="Arial"/>
              </a:rPr>
              <a:t>3. Constipation</a:t>
            </a:r>
            <a:endParaRPr b="1" lang="en-US" sz="28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Dietary management call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fi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uits that act as a natural lax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equate fluid inta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ing in daily exercise is also effective in preventing constip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xatives should be avoided, if possible, to prevent depend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Many people think they are constipated when, in fact, their bowel movements are reg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pation is one of the most common gastrointestinal complaints in U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8229600" y="6629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619177-1F06-47A0-8238-4FA3FC4AEDF1}" type="slidenum">
              <a:rPr b="1" lang="ar-SA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2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C8905FF-F1DC-44DD-A73B-25C99FFCA9D2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912960" y="1219320"/>
            <a:ext cx="8231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Times New Roman"/>
              </a:rPr>
              <a:t>Part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3"/>
          <p:cNvSpPr/>
          <p:nvPr/>
        </p:nvSpPr>
        <p:spPr>
          <a:xfrm>
            <a:off x="915840" y="2057400"/>
            <a:ext cx="76946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Times New Roman"/>
              </a:rPr>
              <a:t>Key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99203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rgic conditions produce sensitivity to certain food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99203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lying genetic diseases may cause metabolic defects that block the body’s ability to handle specific food nutr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99203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94B997E-8BCD-42A1-BF2A-2D6610C53DEB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980720" y="-7920"/>
            <a:ext cx="58676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Food Allergies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963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rgic reaction is body’s immune system reacting to a protein as a threatening foreig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phylactic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رط الحساسي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ck is the most severe form of allergic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Common food aller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anuts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فستق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tree nuts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بندق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llfish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أسماك الصدفية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f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k, soy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صويا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gg, wh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22B5DC5-BA52-4D2A-B8FA-89515DF84FE1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0527"/>
                </a:solidFill>
                <a:latin typeface="Arial"/>
              </a:rPr>
              <a:t>Problems of the Mouth</a:t>
            </a:r>
            <a:endParaRPr b="1" lang="en-US" sz="40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ent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-fitting den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 soft die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rgic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99"/>
              </a:spcBef>
              <a:buClr>
                <a:srgbClr val="850527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Healing nutrients administered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protei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caloric milk sh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0D7A53C-D234-4949-A27B-E4479A0A66CA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Food Allergies                </a:t>
            </a:r>
            <a:r>
              <a:rPr b="1" i="1" lang="en-US" sz="12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s estimate that approximately 11 million Americans suffer from true food allerg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ance is the only way to prevent an allergic rea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elimination sometimes used to identify disagreeable 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titian can provide guidance on food substitutions or special foo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es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وصفا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to maintain nutritional needs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8444A1E-2179-4921-A319-16B329F372F9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Food Allergi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963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tend to be less allergic as they get olde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common symptoms of a reactio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992031"/>
                </a:solidFill>
                <a:latin typeface="Arial"/>
              </a:rPr>
              <a:t>hives</a:t>
            </a:r>
            <a:r>
              <a:rPr b="0" i="1" lang="ar-SA" sz="2800" spc="-1" strike="noStrike">
                <a:solidFill>
                  <a:srgbClr val="992031"/>
                </a:solidFill>
                <a:latin typeface="Arial"/>
                <a:cs typeface="Arial"/>
              </a:rPr>
              <a:t>طفح جلدي</a:t>
            </a:r>
            <a:r>
              <a:rPr b="0" i="1" lang="ar-SA" sz="2800" spc="-1" strike="noStrike">
                <a:solidFill>
                  <a:srgbClr val="992031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nausea, </a:t>
            </a:r>
            <a:r>
              <a:rPr b="0" i="1" lang="en-US" sz="2800" spc="-1" strike="noStrike">
                <a:solidFill>
                  <a:srgbClr val="992031"/>
                </a:solidFill>
                <a:latin typeface="Arial"/>
              </a:rPr>
              <a:t>diarrhea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nd abdominal p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od intolerance is an adverse food-induced reaction that doesn't involve the immune syst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formation:  http://www.foodallergy.org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0888011-839F-47E9-BC8F-D88CC5FBB501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0527"/>
                </a:solidFill>
                <a:latin typeface="Arial"/>
              </a:rPr>
              <a:t>Genetic Disease &amp; Food Intolerances</a:t>
            </a:r>
            <a:endParaRPr b="1" lang="en-US" sz="28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1. Phenylketo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enylalanine hydroxylase enzyme not produced in bo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uses profound mental retardation and central nervous system da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ed with low-phenylalanine diet using special formulas and low-protein food produ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rence to the diet is crucial in infancy and childh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t is revised over time as the child's nutritional needs ch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9CDC868-A9EF-4806-98CD-D16A255F294D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0527"/>
                </a:solidFill>
                <a:latin typeface="Arial"/>
              </a:rPr>
              <a:t>Genetic Disease &amp; Food Intolerances </a:t>
            </a:r>
            <a:r>
              <a:rPr b="1" i="1" lang="en-US" sz="1200" spc="-1" strike="noStrike">
                <a:solidFill>
                  <a:srgbClr val="850527"/>
                </a:solidFill>
                <a:latin typeface="Arial"/>
              </a:rPr>
              <a:t>(…Cont’d)</a:t>
            </a:r>
            <a:br>
              <a:rPr sz="2800"/>
            </a:br>
            <a:endParaRPr b="1" lang="en-US" sz="1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2031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99203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2. Galactos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ssing galactosiase (GALT) cell enzyme that converts galactose to gluc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uses liver and brain da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ed by galactose-free diet with special formulas for infants and lactose-free food gu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in newborn screening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should begin immediately and must be followed fo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F15F39A-11DF-47E7-A816-A70ADD0D3A0F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Genetic Disease &amp; Food Intolerances          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028520" y="137160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3. Lactose in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ciency of any of the disaccharidase in small intest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s wide range of GI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k and all lactose products avoi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k treated with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ommercial lacto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roduct or </a:t>
            </a: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soy mil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safe substit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C65E60D-9B0E-48C6-8B43-B784B0FB51A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Biliary System Organs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4790FE6-B966-4FFE-AB97-7917E7F127A3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Liver Disease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pat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lammatory condition caused by virus, alcohol, drugs, tox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based on bed rest and nutrition thera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73B76EE-F0DF-4C57-9F16-5BB3C885AE2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0527"/>
                </a:solidFill>
                <a:latin typeface="Arial"/>
              </a:rPr>
              <a:t>Liver Structure</a:t>
            </a:r>
            <a:endParaRPr b="1" lang="en-US" sz="4000" spc="-1" strike="noStrike">
              <a:solidFill>
                <a:srgbClr val="85052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DC64447-9ABE-4719-A421-ED73367A8CC6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Liver Diseases 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h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tty cirrhosis associated with malnutrition and alcoho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tty infiltration kills liver cells, leaving nonfunctioning scar tissu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04A8C98-14FE-4E56-A3E9-7D7521CBCBAA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905120" y="-82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omparison of Normal Liver and Liver with Cirrhotic Tissue Changes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E40FAAD-D341-4CC0-9BD6-91CE4178F5CF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Mouth</a:t>
            </a:r>
            <a:r>
              <a:rPr b="1" lang="en-US" sz="2800" spc="-1" strike="noStrike">
                <a:solidFill>
                  <a:srgbClr val="850527"/>
                </a:solidFill>
                <a:latin typeface="Arial"/>
              </a:rPr>
              <a:t>/2</a:t>
            </a:r>
            <a:endParaRPr b="1" lang="en-US" sz="28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28520" y="1447920"/>
            <a:ext cx="7886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ral tissue infla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ngiv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il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alivary gl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 sal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erostomia (permanent dry mou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4FAFF05-3405-4466-9142-A13AA6E00AC4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Liver Diseases</a:t>
            </a: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…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epatic c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cirrhosis continues, blood can no longer circulate  normally  through  li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monia and nitrogen cannot be eliminated, which produces ammonia intoxication and co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focuses on removing sources of excess amm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AE931FF-5F5F-431B-8D9D-87C9C3C8C0ED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0527"/>
                </a:solidFill>
                <a:latin typeface="Arial"/>
              </a:rPr>
              <a:t>Gallbladder Disease</a:t>
            </a:r>
            <a:endParaRPr b="1" lang="en-US" sz="40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holecyst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lly results from low-grade chronic inf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d infection alters solubility of bile ingred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holelith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lesterol separates out and causes gallst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et therapy centers on controlling fat inta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1BF8CA9-E43F-45CE-AE31-2B6D0EE90E39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ancreatic Disease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ancreat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truction of common duct causes enzymes and bile to back up into panc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in acute inflammation as enzymes digest organ tiss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aused b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llstones 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ssive alcohol consum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 algn="just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 algn="just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WordArt 7"/>
          <p:cNvSpPr txBox="1"/>
          <p:nvPr/>
        </p:nvSpPr>
        <p:spPr>
          <a:xfrm>
            <a:off x="6400800" y="54864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E7D6FF9-DF51-445E-9C70-D92179DE91C7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Problems of the Mouth/3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wallowing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Dysphagia </a:t>
            </a:r>
            <a:r>
              <a:rPr b="0" lang="ar-SA" sz="2800" spc="-1" strike="noStrike">
                <a:solidFill>
                  <a:srgbClr val="992031"/>
                </a:solidFill>
                <a:latin typeface="Arial"/>
                <a:cs typeface="Arial"/>
              </a:rPr>
              <a:t>صعوبة في البلع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fairly common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production of sal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y m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peristaltic motility of the esoph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c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logic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34970E7-8D8B-4F12-BE6D-DA2C56F2999F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Problems of the Mouth/4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arning signs of swallowing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uctanc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تردد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at certain food consistencies or any food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low chewing or 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igue from 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 throat cle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aints of food “sticking” in thr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ing pockets of food in ch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ful swa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rgitation, coughing, choking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خنق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71E32D2-C08F-4B31-AF8F-3D5B0E2678EB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Esophagus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86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entral tube (esophag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spasms or uncoordinated con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cture (narrowing) of the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ower esophageal sphincte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alasia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نقبا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cardiospasm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شن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smooth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-muscle hormone control of peristal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3DB703A-EFC3-47E9-A275-8A95AEAED1EE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Esophagus/2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ower esophageal sphinct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llow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ness in the c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loss from eating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 mal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monary complications and infections caused by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aspi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شف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food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7:30:18Z</dcterms:created>
  <dc:creator>Trial User</dc:creator>
  <dc:description/>
  <dc:language>en-US</dc:language>
  <cp:lastModifiedBy>ksu</cp:lastModifiedBy>
  <cp:lastPrinted>2005-06-06T20:43:30Z</cp:lastPrinted>
  <dcterms:modified xsi:type="dcterms:W3CDTF">2012-11-19T04:59:45Z</dcterms:modified>
  <cp:revision>2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