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</p:sldIdLst>
  <p:sldSz cx="9144000" cy="6858000"/>
  <p:notesSz cx="678180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6782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29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30"/>
          </p:nvPr>
        </p:nvSpPr>
        <p:spPr>
          <a:xfrm>
            <a:off x="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31"/>
          </p:nvPr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C42F-2786-41D9-AC40-F459831B9A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B39-D704-4346-9218-7C6B39712C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25F-DE70-4900-BCEB-8FBD742521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lassic symptom of GER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requent and severe heartbur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D is very common, but many people do not seek trea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for controlling GERD include staying upright for two hours after meals and avoiding common irrit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D148-E5E8-4417-A3B9-669FB333B6F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trudes: </a:t>
            </a:r>
            <a:r>
              <a:rPr b="0" lang="ar-SA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بر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patients achieve improvement of symptoms with weigh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require surgery if hernia is very l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6ED0-1BA1-4EA2-AFF3-E74C338AF0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stomach placement below esophageal hi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2F1D-56CA-480C-887F-C4D6E74F7B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small portion of the stomach rises above the hiatus; no change in the position of the esophag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DE3A-C1C8-4966-9857-A617468155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bese persons, excessive fat tissue pushes on the stomach and forces it through the diaphra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0857-142E-4384-9049-7508D0F0B4B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balance between gastric acid and pepsin secretions and degree of tissue resistance to secretions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f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responsible for 80%-90% of gastric and duodenal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spiraling, rod-shaped bacteria that inhabit the GI area around the pyloric va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carriers of the bacteria develop a peptic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ontribute to higher incidence of gastric cancer and lymph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9E33-F12D-47DC-B14A-16DCCE9506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, relaxation, and sleep help ease symp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ertain susceptible individuals, NSAIDs should be avo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PUD diagnosed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confirmed by x-ray tests and visualization by gastroscop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goals ar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viate symp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ote h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 com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iminate th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DDDB-66F6-4F64-B4DA-B4118035BB5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agents include cimetidine (Tagamet), ranitidine (Zantac), and omeprazole (Prilose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osal protector: sucralfate (Caraf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biotics: generally used in combination (amoxicillin, proton pump inhibitor, tetracycline, and metronidazo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acids such as Mylanta and Maalox (magnesium-aluminum compou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50D-94DF-4F94-A2EF-F17D4BEC562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2962-5FB2-474B-81B9-897FFE6AC0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ary management includes adjustments in the following areas: meal pattern, food quantity, milk intake, seasonings, dietary fiber, coffee, citric acid juices, alcohol, smoking, foo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erson can have different triggers to acid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68B4-B69D-4401-8EA7-8138B2634F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rrhea—loose, watery stools occurring more than three times in on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ain complication associated with diarrhea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dehydr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arrhea can be life-threatening to young children or adults with weak immun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diarrhea subsides, patients should avoid milk products and foods that are greasy, high-fiber, or very sweet. These foods tend to aggravate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 professional may recommend the BRAT diet (bananas, rice, apples, toas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2028-C5E8-4DD1-A6C7-FD6BCEEADA4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ause many problems, from diarrhea to malnutr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iac sprue, cystic fibrosis, and inflammatory bowel disease are three diseases that cause malabsor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0801-DBEC-489E-911B-114093D70D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iac disease damages the small intestine and interferes with absorption of nutrients from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nly treatment for celiac disease is to follow a gluten-fre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foods that contain glute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foods prepared with wheat, rye, oat, or barley; luncheon mea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: http://www.celiac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A494-7FF8-47B8-8744-6BF40BF6301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mucus in the lungs leads to damaged airways, difficulty breathing, and lung inf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 secretions also obstruct the pancreas, preventing digestive enzymes from reaching the intestines to help break down and absorb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malabsorption of undigested foods, liver disease, and increased salt concentration in th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5D56-3024-4140-815D-0634BDAE893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90% of CF patients take supplemental pancreatic enzy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ement salt by adding salt and salty sna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ods that are high in calories to promote weight g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nutrition resources at: http://www.cff.org/hom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44F2-C2C2-45CD-81BC-C9684B03852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 gradually advanced to restore nutrient intak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protein (100 g/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energy (2500-3000 kcal/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vitamins and minerals (supple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symptoms of ulcerative colitis are abdominal pain and bloody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should avoid foods that upset the intestines, such as highly seasoned foods, raw fruits and vegetables, or milk sugar (lactos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out: http://www.ccfa.org/ (Crohn’s &amp; Colitis Foundation of Americ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438-4015-47DE-B896-6036E51DBC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DCBB-EC4E-4137-9272-093DF8B9F7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ticulosis is caused by progressive increase in pressure within the bowel; affects About 10% of Americans over the age of 4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dition becomes more common as people age. About half of all people over the age of 60 have diverticul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diverticular disease is managed with increased dietary fi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theory is that a low-fiber diet is the main cause of diverticular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ods should be avoided with diverticular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746-6669-454A-8B8E-E05C6D9E711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er keeps stool soft and lowers pressure inside the colon so that bowel contents can move through easi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erican Dietetic Association recommends 20 to 35 grams of fiber each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C9F4-D7C5-46CC-98DA-8D42A42EF10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n five Americans has IBS, making it one of the most common disorders diagnosed by doct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occurs more often in women than in men, and it usually begins around age 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ation: http://www.iffgd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081C-DF8A-4B37-9D12-C9B30C6AED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ing a journal of foods that cause symptoms can be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ls that are low in fat and high in carbohydrates can be helpful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327B-BE80-4948-AF27-0F7C2C3414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muscles of the colon, sphincters, and pelvis do not contract in a coordinated way, the contents do not move smoothly, resulting in abdominal pain, cramps, constipation, or diarrh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5E3B-C043-4578-B878-DC93F89104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ary management call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s that act as a natural lax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quate fluid int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think they are constipated when, in fact, their bowel movements are 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ipation is one of the most common gastrointestinal complaints in the United St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aging in daily exercise is also effective in preventing constip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xatives should be avoided, if possible, to prevent depend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F821-3811-4D49-8CB7-EA756B9F40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87A2-0C09-414C-8EA3-0A987FB42D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F586-1E8C-4370-A5FB-7AC8F7511A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tal problems are more common in the elderly and those of lower socioeconomic back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8-1 for information on liquid fee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B03E-F3BA-4737-AC7C-2433D22F7C5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estimate that approximately 11 million Americans suffer from true food allerg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ance is the only way to prevent an allergic rea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9282-74CF-4F41-B603-B011A6B0553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tend to be less allergic as they get older</a:t>
            </a:r>
            <a:r>
              <a:rPr b="0" lang="en-US" sz="12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ommon symptoms of a reaction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hives, nausea, diarrhea, and abdominal p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intolerance is an adverse food-induced reaction that does not involve the immune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ation:  http://www.foodallergy.org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1DB-E0D5-470E-9C2D-11BC3F8C73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herence to the diet is crucial in infancy and childh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t is revised over time as the child's nutritional needs ch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642B-8023-4914-B969-D4E3D19A1E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in newborn screening progr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should begin immediately and must be followed for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B410-6781-42C4-BC09-3CA6E5C8D5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ose intolerance is the inability to digest significant amounts of lactose, the predominant sugar of mi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symptoms include nausea, cramps, bloating, gas, and diarrhea, which begin about 30 minutes to two hours after eating or drinking foods containing lact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any as 75% of all African-Americans and American Indians and 90% of Asian Americans are lactose-intoler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need to also avoid hidden lact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examples of food that contain lactose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milk, chee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9411-F283-461F-B565-CF927BFD14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accessory organs: liver, gallbladder, and 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in digestion; diseases affect normal GI function and how the body digests certain fo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AF50-E327-4E87-9983-0643091E7EC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 therapy includes these require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protein, high-carbohydrate, moderate-fat, and high-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s of hepatiti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ctious hepatitis (hepatitis 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um hepatitis, or hepatiti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xic hepatitis (caused by toxins such as alcoh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hepatitis involves bed rest and restriction of activity for about a month, removal of liver toxins, and carefully supervised di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reated hepatitis can lead to extensive liver damage, coma, and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03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038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FD5-0126-48D3-BA11-8532D14B15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 liver performs so many critical functions, a healthy liver is  critical to good heal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1704-E4C9-4DA2-8A8A-36A83FB9A6D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cause of cirrhosis is alcoh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other cause of cirrhosis?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malnutr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nvolves efforts to stop the progress of the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rition therapy focuses on healing sup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9200" indent="-123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as tolerated; low sodium; soft texture; optimal general nutr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irrhosis is detected early, the individual may be able to live a normal life by avoiding alcohol and participating in healthy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C275-15D7-47E0-A48A-2CF58708B45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rhosis is a condition in which liver cells are replaced by fibrous connectiv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212-C5C1-4FBB-A874-57BC60BF9A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the oral tissues can be very painful and can cause significant malnutrition if left untre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unteract decreased saliva production, eat more foods that have a higher liquid content. Artificial saliva can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E80A-3119-4670-B18B-CCA3C744FF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n as hepatic encephalopathy because the ammonia goes to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should have low-protein diets and take a medication such as lactulose, which promotes removal of nitrogen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8F6-FE9B-4FF2-83A8-B83AE19A01D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seen in about one in 10 people and is more frequent in wom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symptoms of cholecystitis and cholelitha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may lead an essentially normal life without a gall bladder, although a low-fat diet may be advis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BCF8-422E-415F-B226-722E906AC5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 produces two hormones, insulin and glucagon, which are responsible for the body’s metabolism of carbohydrates, lipids, proteins, and electrolytes (mineral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ith pancreatitis should avoid alcohol and excess coffee, and follow a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 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ht diet used to reduce stimulation of pancreatic secre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 pancreatitis may be brought on by gallbladder disease, overeating, or excessive alcohol consumption. It is most common in persons 40 to 50 years of age and is a serious condi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EA65-348F-4B5B-8FDA-2E5C6C4728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s 40%-60% of nursing home res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n in patients with head trauma, brain tumors, or stro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common in late-stage Alzheimer’s disease and Parkinson’s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D96-C035-4939-B296-A45BF5726B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symptom of dysphagia is recurrent pneumonia from a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ful monitoring of patients—especially those in a nursing home setting—can help identify dysphagia ea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iagnosed by modified barium swallow study (MBS), a radiological exam that evaluates how patient swallows foods of different textures to detect aspiration or othe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is usually a modification in the texture of the di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2DA9-F3C0-4689-9A09-EC99604D84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ophageal disorders usually require medical intervention such as stretching or surg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ospasm is misleading because it does not affect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43360" y="943128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7B12-C497-4F7C-B564-DEFCA8ABF6F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1240" indent="-111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ications can be very serious and usually require surgical interve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4840-82F3-46EF-9DEA-4C99D6D6E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D7B0-335C-460D-9733-CDAC7E373A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49B5-BA3C-40AB-9B8C-DB9F7E6CE78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D68D9-43D1-4F06-993C-5EEFDF5B34F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1AF2-E789-4A80-9DC5-41E611B725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4FDAB-5F25-4CFB-8355-A3F6D12E7E9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01B94-0D26-4002-BD80-31F3C7364F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87359-EC96-48D3-93AF-882A5ED6E0B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D0BF-F0FB-4F70-969B-FE2079E515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35C94-AEC7-47EC-B2FA-A3D80DA6E6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E63E3-7A8B-4993-B840-C86AA8EA2ED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EE069-2BDA-4923-B6B8-FF8FD9629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A46E-1B67-4743-943A-7E113B0427A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84360-E536-4F79-BD0C-BDB43BF7F60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14BF1-D900-4F4D-AA30-22A874ECFA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CAC9B-ED21-4546-BD36-C7DB3CF4AD9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D9300-AEAF-4B5B-A61A-9265A08F8D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D4C40-ED09-4E8E-A1D9-AECED3FB8A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E1294C-3A02-4E5E-8D51-917DD1ACBA3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48934-49DF-4F13-B589-F08E2C3CD35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6FC2F-FFA7-4847-8B84-61571D9CE1C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6DB67-8575-4B5B-9E2A-B23A278C03E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495665-B202-4F9B-AB4E-939CB6B4D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C556-4E6E-43B6-8074-41694118AE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01696-FDD9-43CD-9E24-40DFD139DE3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C328FA-F77E-40A5-8B4F-C23DEF2244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1790C7-89D9-4775-9526-4AA6A5605D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45468-7637-43AD-BE77-2DB9D2F4D57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199BDF-E745-469B-A9A3-B743F4E890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4EBB01-2719-490D-B94E-BE0C65C2F9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206877-7E38-49D0-AD7D-7105DE5AC6E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4B4DAF-E721-4ED2-900C-7C24251C59C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781046-D41D-4BD1-88FC-E67EF3AB3A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4434B2-529D-4CAC-BAD5-EE5BC34CC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BA42A-8688-4FEB-A939-5F7EA7196EF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FBAD55-239D-4DD2-8490-8CD2E56342E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E81FBF-1FE8-44A1-82EE-5ECB2C86B1D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36B42-2538-478A-B162-546ECC7DDBF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D0600-20C6-4CD2-BADD-FD8CB4D95F7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1FD44-252B-4579-A6B8-B259FD5B7CB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5D145-F39C-40DD-BF5E-2A4D7A91071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3A4AC-DC5B-4126-8B07-FE2AA7A1F10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D3A8-6567-471C-AA6D-16E4B9479DF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44533-9003-415D-8FBE-81010596679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6776C-67C0-43D6-B817-A31E471C8C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D8EFC-DA1D-4A0A-806D-866167EC61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6EF7E-B631-4A8F-9C4A-62087DA178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7A429-EE2E-45D2-95A7-E3578EA7F5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1BA2E-D829-49AC-9978-1258DB233F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1E6C3-396B-4B27-BAB1-C14E9E58AEB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3AFF3-66D6-4383-8394-100864EF9E6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CE73CB-8711-408A-9CD5-6CB4FD454AE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CAA732-21F0-4A4D-A648-05AEB00D718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616477-18C7-48CC-A6B1-6BF512D1B41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0FE98-4B76-4CB7-92F2-AE041AC0C6D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C1875-F136-4C69-AE3B-15550D01A0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02586-4523-489C-A1A8-EC9F0371740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60F667-D689-482F-80F1-EE6BED0F2A3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C42BE2-8742-425E-9741-0FB65025A22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F21E7-8D81-412C-A2C0-F543D3FFAFF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8923FC-2D28-44B3-A528-8AB4A163822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1C3CE5-D865-4054-8A60-E897CE10EA8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CD5649-C3CF-4158-8803-0A2A5A9EE0D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F9057E-64A8-4012-BD81-6A0D6BB3170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ACFAC-6295-41B2-A173-0A90B461D20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5D00E1-8281-43B3-AFFE-F47F59DBB7B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8C8DB-7AB8-4FB3-B561-532EB61520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D2D09-13EB-4E2F-98FF-A58846D483D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A1AFB-02B3-4F97-A90C-EB4416F93AF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59A0C-DD89-40DD-8F89-53C4271084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E2684-7DBD-4BFD-85ED-C28FB4ECE3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0F543-FD7B-4B70-B1F3-E34F1B3F481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975AE-CD2E-4FEC-8554-4948779161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D5C02-3CC1-4748-85F9-1D2DC1319B6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A33CF-4DB1-4112-B3BB-229F6CB0135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FB1BF7-6B05-443E-A7E9-78CFA4886A0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26DF3C-73A4-46DD-BF22-59366B9785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2DF33-E29B-49EB-BF48-36803C86E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5304-AD83-4C10-904B-905671BA52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EFB7-6B47-4293-A826-919276CE1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5902A-2CEA-4E02-A30F-4CF7274ED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25474-B800-493F-A127-E263EA4648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DC1BB-7D35-4272-AC24-07D3EDDBEA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572F1-E115-4498-82D3-4688CCEC3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DC41-B17D-4A27-A0A5-B737868839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86DD4-6BF6-43DA-8A2A-05758176FA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32BE-AFFF-40BA-8BE6-7F0C577602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D1DF-578E-46D2-B9D6-F9EA61566C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CB97-6DB2-4BB3-8576-403BE245C6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1087-8648-4E8B-8E61-9A3625342C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A4B-1079-43FB-A838-5C055C2F11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9E35E-1D88-4625-80A1-9A5FB865A6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DF5-D9C0-44DD-8578-3E1A8EA35E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8BA-0015-41CF-84F4-F759701DA9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0EF2-769B-4CE1-B69B-354062D705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03A7-3D73-4941-BE5A-81B0FE2174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2D93-627D-4D99-BA46-AA482C33EA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1401-23F5-4B5C-B656-6FA2B79219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42C8-6A4D-4372-A5B2-95C8417C62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8A9ED-4DD5-4411-9C2A-F753EDCE9B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0FABB-818D-47A1-9F2D-A96E8F22D3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5CC37-B1CA-4BEC-A306-12DD725D0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910DD-F9AF-4CEA-9D9D-8411A11732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5F3CB-A794-4483-BF19-A8BB2353A0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0CADC-823D-486A-BE2A-C522E0CBDC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C599B-C38A-4685-9CD6-B4624F046BC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514AF-607F-4147-9089-0067E48827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325B22-70AC-4FCF-90F2-B9BC690CA8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B9F90-8FF4-4CD5-B210-884FF29C5C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040CDB-2A88-4EC3-B9C1-15DF1BCFA1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44842-0E79-4996-96D2-8356B51E528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E94E6-6165-4E43-B52A-DE0FA5871C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B9464-4057-45A9-A242-6B2BCEE91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0E5C-E1AC-4281-88C8-F41886179D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762C2-6BE1-4297-9594-EB5D35CBB7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B8BD54-F04B-47D5-94E3-A7330ECA51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CAE96-9ADC-4BB0-AFBA-283BC62819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1D535-D473-4BEF-904E-16742F38622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C3E74-5CCE-4C67-B5BA-CD660650293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BCD97-2201-4550-BCC1-C4276B1A8A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920D92-1713-4B93-8FC9-1C25F63CED6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7511B5-17A0-4B65-9126-2BA3CA72E17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2C6AD-33F8-4C07-B24F-FB701526856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5B3438-CE1D-444D-B46C-02CCCC675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6458C-E21A-481A-BDC9-FEA8B14B31F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E910C-7129-4177-8952-B56DEC2A7E6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65EC6-8BDB-4FB7-8438-C8940E7189F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6FB79-DE4A-46C2-B331-1036545430A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F608-2576-4E23-B114-D978405F95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F2F4-8447-4CE4-9268-8A48DF5DF02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A39B8-70B9-472E-BA09-648FFB77F0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5FEF-F87E-4ED4-9191-B694DE8B3BC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06390-8E08-4017-B9DC-54CE8C84E6D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5FFF-9FC4-440F-A578-F0E34518EF4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CAA7-60F6-48C7-A0B1-AD7BFE8C6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1917E-6EC7-4C3E-A6A9-01523008D43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0C98-5BE4-42A0-A34A-FDE8F2CDD0F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6500-DBB0-4467-8CAA-BBDB31E3B4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0EE8-82F3-4CE3-A7F6-BA29C6C9AE1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7B5919-1007-44C7-9C5A-910FDBB5332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484F50-BEC3-4FDC-9365-076DC6779F9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95039-A01C-4CAE-ACB4-EB8BB0CE117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A97A1-12F6-4767-981E-C3C0E8FAFB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0D326-F95E-492F-8468-82EE45EC22A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1C510-0900-4E2D-B4E6-BBDABF18D5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F4BA2-98F3-4226-AE59-107687452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C794-6D1F-4B5C-B107-334D7564243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61A1D-577B-4966-9685-6B5D3ABF58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BA572-8145-4B5E-B73E-BE050215345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AD85D-13E6-4B8B-9039-5EF9C009C66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0B556-8B61-4BE3-916C-43F3F1C1491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0D7A0-6EA6-4F9B-8BA3-4391FF55A0C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9BBB21-1AD8-410E-AABB-790BF572B5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C6E108-D362-40D5-9F72-67B1B472F3A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8867C-FECA-4435-963C-67C83B5197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C12D6-A0FF-4028-9A57-1D09816FC0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71BA2-73E8-4269-A680-F5EF6C6B2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6563-FB1D-41DE-B6D3-A9911CCC0A3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830240" y="-8280"/>
            <a:ext cx="6018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C00C0F-8B43-4C53-9CFB-D253722AE92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6AEB4-158F-4D1B-B254-EBDCA147F5E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7DB627-C789-4EBD-9BFB-4D2B6E721B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D9BBD1-F244-4820-B5D4-47CC0ECA42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02888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1FD26A-54F8-4108-985F-DC9A9CA8554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156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2888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156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6EED5-FC17-413A-A0C6-C436A66854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6568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4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028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6568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84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B38ECB-D3DC-4D5F-9AC0-1D63E899E5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6D07F-58D6-4981-8C08-A9631D0CE6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5787B-6181-48FD-BBE3-82C7B72AB8F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61A36-5DEF-447C-9279-A8121455F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C17E9A0-CE33-4C2E-9C18-3519C491CB7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ftr" idx="1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2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4C685D0-D597-4544-93AA-3C9404CBB4C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319875F-C738-4CE2-BBF5-271FE26AE83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2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2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FC4044A-1A7B-4E62-82E4-5FAD188F980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ftr" idx="2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sldNum" idx="2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2176094-CD56-42C0-B081-A29394F3363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2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2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2CDF7CF-B090-4387-9BDA-44B0F2BA919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hp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9F67FA7-3300-41AC-88F8-F078397B027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8480522-BEC5-4A39-AE8E-AE4AC62D127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FD78075-5F8C-4DDF-8E96-88F3667E36B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9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0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6DC6F25-CD6B-4E86-AACB-D16B96B87FF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1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2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FABB377-9B77-4901-950F-3CF0BDBCBE5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ftr" idx="13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4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E7197196-4632-4100-85F1-0C30D8A58A3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5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6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D8E135D-84F0-40E9-8F12-F450AA12D62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text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5052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ftr" idx="17"/>
          </p:nvPr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sby items and derived items </a:t>
            </a:r>
            <a:r>
              <a:rPr b="0" lang="ar-SA" sz="800" spc="-1" strike="noStrike">
                <a:solidFill>
                  <a:srgbClr val="000000"/>
                </a:solidFill>
                <a:latin typeface="Arial"/>
                <a:ea typeface="MS Gothic"/>
              </a:rPr>
              <a:t>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by Mosby, Inc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18"/>
          </p:nvPr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3F7D516-04E3-4CF0-8048-27A2E132561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4"/>
          <p:cNvSpPr/>
          <p:nvPr/>
        </p:nvSpPr>
        <p:spPr>
          <a:xfrm>
            <a:off x="3581280" y="62834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93553E0-9D58-4618-82B0-7E08A500E92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2600" y="1114200"/>
            <a:ext cx="81198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0527"/>
                </a:solidFill>
                <a:latin typeface="Arial"/>
              </a:rPr>
              <a:t>Lecture 8 </a:t>
            </a:r>
            <a:endParaRPr b="1" lang="en-US" sz="4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085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strointestinal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 Organ Proble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CHS 4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2031"/>
                </a:solidFill>
                <a:latin typeface="Arial"/>
              </a:rPr>
              <a:t>By Dr. Ebtisam Feto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A4901F5-F962-4245-AD4B-CD81302BFF3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1. Gastroesophageal reflux disease (GE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constant regurgitation of acid gastric contents into lower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nancy, obesity, pernicious vomiting, or nasogastric tubes are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irritation and inflammation (esopha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nosis most common com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78B7EE9-47C9-4312-834E-F13F9BE7273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2. Hiatal he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ion of upper stomach protrudes through opening in the diaphragm membrane (hia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common in obese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E6E40FC-F0F2-4C63-AF70-7F875FA1A75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91040" y="13716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Normal stomac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stomach placement below esophageal hi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8" descr="NDT_18_327_hernia1"/>
          <p:cNvPicPr/>
          <p:nvPr/>
        </p:nvPicPr>
        <p:blipFill>
          <a:blip r:embed="rId1"/>
          <a:stretch/>
        </p:blipFill>
        <p:spPr>
          <a:xfrm>
            <a:off x="914400" y="1398600"/>
            <a:ext cx="3809880" cy="405936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9"/>
          <p:cNvSpPr/>
          <p:nvPr/>
        </p:nvSpPr>
        <p:spPr>
          <a:xfrm>
            <a:off x="1066680" y="5838840"/>
            <a:ext cx="2210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43FE23B-0F37-4FBA-957C-1D60F04B195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2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Paraesophage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 small portion of the stomach rises above the hiatu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 in the position of the esophag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034"/>
          <p:cNvSpPr/>
          <p:nvPr/>
        </p:nvSpPr>
        <p:spPr>
          <a:xfrm>
            <a:off x="952560" y="149544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Slide Number Placeholder 5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7625B5-0A3A-4C50-AEA3-C017DC0B117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Hiatal Hernia in Comparison with Normal Stomach Placement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Esophageal hiatal hern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bese persons, excessive fat tissue pushes on the stomach and forces it through the diaphra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9"/>
          <p:cNvSpPr/>
          <p:nvPr/>
        </p:nvSpPr>
        <p:spPr>
          <a:xfrm>
            <a:off x="952560" y="1219320"/>
            <a:ext cx="22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D2581C6-2103-4E8C-B4DE-0B59059297BB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Stomach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eptic Ulcer Disease (PUD)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Helicobacter pylori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bacco smoking linked to P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use of nonsteroidal antiinflammatory (NSAIDs) drugs may contribute to development in some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ion usually occurs in duodenal bulb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نبتة-بدا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9B490A1-85D9-4853-84A4-5F6CFDAEBC2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 during young- and middle- adult years may con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*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ncreased gastric muscle t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*painful contractions when stomach 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Management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king, alcohol use should be eli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, relaxation, and sleep help ease symp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susceptible individuals, NSAIDs should be avo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057040" y="-7920"/>
            <a:ext cx="708660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3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ow is PUD diagnos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firmed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test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00"/>
              </a:spcBef>
              <a:buClr>
                <a:srgbClr val="85052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ualization by gastrosco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 goals ar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viate sympto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mote hea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 com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te the ca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5EEA8B2-0E03-4730-9A4B-E3FB0CCCB07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21F5050-8F15-4558-97BE-A475661E551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4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288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rug therapy can manage peptic ulcer dis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ing agents control acid se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cosal protectors inactivate pepsin and produce gel-like substance to cover ul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ibiotics control H. pyl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acids counteract or neutralize ac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057400" y="0"/>
            <a:ext cx="731376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5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Treatmen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ing ag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clude cimetidine (Tagamet), ranitidine (Zantac), and omeprazole (Prilose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cosal protect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ucralfate (Caraf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ntibiotic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enerally used in combination (amoxicillin, proton pump inhibitor, tetracycline, and metronidazo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Antac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uch as Mylanta and Maalox (magnesium-aluminum compoun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4"/>
          <p:cNvSpPr/>
          <p:nvPr/>
        </p:nvSpPr>
        <p:spPr>
          <a:xfrm>
            <a:off x="78487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E33AA3B-93E9-486B-AC0F-4CD5C6E6E4D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1"/>
          <p:cNvSpPr/>
          <p:nvPr/>
        </p:nvSpPr>
        <p:spPr>
          <a:xfrm>
            <a:off x="925560" y="6248520"/>
            <a:ext cx="303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42E365B-6EE3-43AA-AAA7-A61D698E8AF1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912960" y="1069920"/>
            <a:ext cx="811980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915840" y="1219320"/>
            <a:ext cx="70088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r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s with the GI system can have a major impact on a patient’s overall well-be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ful assessment can identify problems early to prevent more serious complic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2B2F43D-3A83-47CA-AABC-075FA1A9C56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eptic Ulcer Disease (PUD)/6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balanced healthy diet 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حمية الصحي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acid st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and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رقيق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s have been proven to be ineffective and lacking in adequate nutr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includes adjustments in the following 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*meal pattern, *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od qua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milk intake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asonings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cs typeface="Arial"/>
              </a:rPr>
              <a:t>توابل</a:t>
            </a:r>
            <a:r>
              <a:rPr b="0" lang="ar-SA" sz="2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dietary fiber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ff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citric acid juices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lco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*smoking, *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o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erson can have different triggers to aci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3849E77-320A-4606-96A5-9B721076753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Diarrhea: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olerance to specific f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ute food poiso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arrhea: 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loose, watery stools occurring more than three times in on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288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What is the main complication associated with diarrhea?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hyd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diarrhea can be life-threatening to young children or adults with weak immun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diarrhea subsides, patients should avoi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ilk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oods that are greasy,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high-fi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very sweet. These foods tend to aggravate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fessional may recommend the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BR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t (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nan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ice,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p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a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4"/>
          <p:cNvSpPr/>
          <p:nvPr/>
        </p:nvSpPr>
        <p:spPr>
          <a:xfrm>
            <a:off x="7897680" y="61722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439FAE-AFD9-43A5-BE67-59F6ADD6EB9F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B0383A3-2182-45E9-AC68-3AD16D08BD55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2.Mal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digestion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mucos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 enzyme de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cer and its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c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ause many problems, from diarrhea to malnut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Celiac sp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ystic fibrosis, and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flammatory bowe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ree diseases that cause malabsor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F6705CF-7A87-4C3D-A79A-CD6BE4FBCDA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A. Celiac sprue: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سهال البلاد الحارة نتيجة اضربات الجهاز الهض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ersensitivity to the protein gluten in certain g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torrhea and progressive malnutrition are secondary effects to glute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 management controls dietary gluten intake and prevent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28520" y="1371240"/>
            <a:ext cx="7810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ia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3200" spc="-1" strike="noStrike">
                <a:solidFill>
                  <a:srgbClr val="992031"/>
                </a:solidFill>
                <a:latin typeface="Arial"/>
                <a:cs typeface="Arial"/>
              </a:rPr>
              <a:t>اضربات الجهاز الهضم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damages the small intestine and interferes with absorption of nutrients from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nly treatment for celiac disease is to follow a gluten-fre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some foods that contain gluten?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foods prepared with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whe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at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وفان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800" spc="-1" strike="noStrike">
                <a:solidFill>
                  <a:srgbClr val="cc3300"/>
                </a:solidFill>
                <a:latin typeface="Arial"/>
              </a:rPr>
              <a:t>barley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عير</a:t>
            </a:r>
            <a:r>
              <a:rPr b="0" i="1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; luncheon mea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: http://www.celia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8458200" y="6248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60FBB68-5674-4747-888E-3C54CB89B3ED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A919F50-E209-4AB8-AC7C-953E5052B71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B. Cystic fibrosis (C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disease of child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s movement of chloride and sodium ions in the body tissue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mucus in the lungs leads to damaged airways, difficulty breathing, and lung 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 secretions also obstruct the pancreas, preventing digestive enzymes from reaching the intestines to help break down and absorb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labsorption of undigested fo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iver disease, and </a:t>
            </a: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increased salt concentration in th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0356C3F-3A1D-483B-9A96-6F70DD6BC2B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886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B. Cystic fibrosis (CF):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ed with pancreatic replacement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with CF require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105% - 15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recommended nutrients for thei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tionally adequate high-protein, normal-to-high fat diet recomm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4"/>
          <p:cNvSpPr/>
          <p:nvPr/>
        </p:nvSpPr>
        <p:spPr>
          <a:xfrm>
            <a:off x="8458200" y="62485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FAC94F7-1C4C-40F3-9599-3EF14FA7DA70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ulcerative colitis and Crohn’s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bowel syndrome results from repeated surgical removal of parts of the small intestine as disease prog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bsorption of 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2031"/>
                </a:solidFill>
                <a:latin typeface="Arial"/>
              </a:rPr>
              <a:t>Diet gradually advanced to restore nutrient inta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rotein (100 g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energy (2500-3000 kcal/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vitamins and minerals (suppl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Small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. Inflammatory bowel disea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symptoms of ulcerative colitis are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hould avoid foods that upset the intest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highly seasoned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متبلة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aw fruits and vegetables,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ilk sugar (lacto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out: http://www.ccfa.org/ (Crohn’s &amp; Colitis Foundation of Amer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7897680" y="6400800"/>
            <a:ext cx="124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51E683-B3FA-4498-9928-133CDFA7E1D1}" type="slidenum">
              <a:rPr b="1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F767B6C-4977-4500-9FC3-2838E0B5F13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Key Concept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Diseases of the gastrointestinal tract and its accessory organs interrupt the body’s normal cycle of: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es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ption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73DEED4-21A5-4D35-A26D-B923A2EF9BF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1. Diverticular (blow out </a:t>
            </a:r>
            <a:r>
              <a:rPr b="0" lang="ar-SA" sz="3600" spc="-1" strike="noStrike">
                <a:solidFill>
                  <a:srgbClr val="992031"/>
                </a:solidFill>
                <a:latin typeface="Arial"/>
                <a:cs typeface="Arial"/>
              </a:rPr>
              <a:t>انتفاخ لأنبوبة مسدود أحد طرفيها</a:t>
            </a: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) dis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Diverti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mation of many small pouch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جيو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iverticula) along muscular mucosal l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ticulitis caused by pockets becoming inf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FAC2953-3DD6-48D2-B8AC-9B24EE55B22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71629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Mechanism By Which Low-Fiber, Low-Bulk Diets Might Generate Diverticula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4"/>
          <p:cNvSpPr/>
          <p:nvPr/>
        </p:nvSpPr>
        <p:spPr>
          <a:xfrm>
            <a:off x="8458200" y="6400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A484BFD-D963-462B-821A-051F22297B72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I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Multicomponent disor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of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ologic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motion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عاطف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Psychologic 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recurrent pain in abd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all-volume bowel dys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 gas 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980720" y="-8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1400"/>
            </a:b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 five Americans has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B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aking it one of the most common disorders diagnosed by do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ccurs more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often in wo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in men, and it usually begins around age 2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: http://www.iffgd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4"/>
          <p:cNvSpPr/>
          <p:nvPr/>
        </p:nvSpPr>
        <p:spPr>
          <a:xfrm>
            <a:off x="8458200" y="617220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327E0DB-C163-431E-9BFB-E7C4ECC3335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A23C790-35EB-4BE8-BAE9-3840BC79BA0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7720" y="1218960"/>
            <a:ext cx="8039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Irritable bowel syndrome (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IB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ndividual approach to nutrition care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dietary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gas fo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 food intol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total fa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arge m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air-swallowing ha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444BB52-96C9-44DF-9266-26532E682D3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Irritable Bowel Syndrom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pic>
        <p:nvPicPr>
          <p:cNvPr id="689" name="Picture 7" descr="NDT_18_335_IBS"/>
          <p:cNvPicPr/>
          <p:nvPr/>
        </p:nvPicPr>
        <p:blipFill>
          <a:blip r:embed="rId1"/>
          <a:stretch/>
        </p:blipFill>
        <p:spPr>
          <a:xfrm>
            <a:off x="1752480" y="1219320"/>
            <a:ext cx="6172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35D0D580-F0CD-4DFE-B35A-6425544C48B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2031"/>
                </a:solidFill>
                <a:latin typeface="Arial"/>
              </a:rPr>
              <a:t>3.Constip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Common short-term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tension and wo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 laxativ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fiber di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ary management rather than lax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80720" y="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Large Intestine Diseases </a:t>
            </a:r>
            <a:r>
              <a:rPr b="1" i="1" lang="en-US" sz="1600" spc="-1" strike="noStrike">
                <a:solidFill>
                  <a:srgbClr val="850527"/>
                </a:solidFill>
                <a:latin typeface="Arial"/>
              </a:rPr>
              <a:t>(…Cont’d)</a:t>
            </a:r>
            <a:r>
              <a:rPr b="1" i="1" lang="en-US" sz="2800" spc="-1" strike="noStrike">
                <a:solidFill>
                  <a:srgbClr val="850527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850527"/>
                </a:solidFill>
                <a:latin typeface="Arial"/>
              </a:rPr>
              <a:t>3. Constipation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ietary management call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fib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uits that act as a natural lax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equate fluid in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ing in daily exercise is also effective in preventing const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xatives should be avoided, if possible, to prevent depend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2031"/>
                </a:solidFill>
                <a:latin typeface="Arial"/>
              </a:rPr>
              <a:t>Many people think they are constipated when, in fact, their bowel movements are reg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pation is one of the most common gastrointestinal complaints in U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8229600" y="6629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E33818-579F-4B8E-A918-585BAC6CE471}" type="slidenum">
              <a:rPr b="1" lang="ar-SA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2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71686C2-D242-4311-A75A-7B0A29EF712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"/>
          <p:cNvSpPr/>
          <p:nvPr/>
        </p:nvSpPr>
        <p:spPr>
          <a:xfrm>
            <a:off x="912960" y="1219320"/>
            <a:ext cx="8231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Times New Roman"/>
              </a:rPr>
              <a:t>Par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915840" y="2057400"/>
            <a:ext cx="76946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Times New Roman"/>
              </a:rPr>
              <a:t>Key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rgic conditions produce sensitivity to certain food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ying genetic diseases may cause metabolic defects that block the body’s ability to handle specific food nutr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buClr>
                <a:srgbClr val="99203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B64A315-8C95-4085-A308-9D0683FDCE36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80720" y="-7920"/>
            <a:ext cx="58676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Food Allergie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96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c reaction is body’s immune system reacting to a protein as a threatening foreig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phylactic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فرط الحساس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ck is the most severe form of allergic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Common food aller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anut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فستق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tree nuts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بندق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llfish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الأسماك الصدفية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f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, soy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cs typeface="Arial"/>
              </a:rPr>
              <a:t>صويا</a:t>
            </a:r>
            <a:r>
              <a:rPr b="0" lang="ar-SA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gg, whe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639B80A-8FE8-4C6D-B630-E9751E853E9E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nt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-fitting den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cal soft die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urgical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99"/>
              </a:spcBef>
              <a:buClr>
                <a:srgbClr val="850527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2031"/>
                </a:solidFill>
                <a:latin typeface="Arial"/>
              </a:rPr>
              <a:t>Healing nutrients administered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protei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700"/>
              </a:spcBef>
              <a:buClr>
                <a:srgbClr val="850527"/>
              </a:buClr>
              <a:buSzPct val="90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caloric milk sh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8EEA8F9-094C-4EE2-BA11-EF607A3A363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Food Allergies                </a:t>
            </a:r>
            <a:r>
              <a:rPr b="1" i="1" lang="en-US" sz="12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sts estimate that approximately 11 million Americans suffer from true food allerg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is the only way to prevent an allergic re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elimination sometimes used to identify disagreeable 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itian can provide guidance on food substitutions or special foo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وصفا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to maintain nutritional needs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279DA762-BD81-4F88-81AD-DEC711A3840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Food Allergies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963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tend to be less allergic as they get older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common symptoms of a rea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hives</a:t>
            </a:r>
            <a:r>
              <a:rPr b="0" i="1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طفح جلدي</a:t>
            </a:r>
            <a:r>
              <a:rPr b="0" i="1" lang="ar-SA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nausea, </a:t>
            </a:r>
            <a:r>
              <a:rPr b="0" i="1" lang="en-US" sz="2800" spc="-1" strike="noStrike">
                <a:solidFill>
                  <a:srgbClr val="992031"/>
                </a:solidFill>
                <a:latin typeface="Arial"/>
              </a:rPr>
              <a:t>diarrhea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nd abdominal p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ood intolerance is an adverse food-induced reaction that doesn't involve the immun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formation:  http://www.foodallergy.org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6A81A3C-6646-4410-B585-74C381325EC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Genetic Disease &amp; Food Intolerances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1. Phenylketonu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enylalanine hydroxylase enzyme not produced in bo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profound mental retardation and central nervous system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ed with low-phenylalanine diet using special formulas and low-protein food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rence to the diet is crucial in infancy and childh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 is revised over time as the child's nutritional needs chan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220E9C7-9038-46A1-8741-0C80DD6CB84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Genetic Disease &amp; Food Intolerances </a:t>
            </a:r>
            <a:r>
              <a:rPr b="1" i="1" lang="en-US" sz="1200" spc="-1" strike="noStrike">
                <a:solidFill>
                  <a:srgbClr val="850527"/>
                </a:solidFill>
                <a:latin typeface="Arial"/>
              </a:rPr>
              <a:t>(…Cont’d)</a:t>
            </a:r>
            <a:br>
              <a:rPr sz="2800"/>
            </a:br>
            <a:endParaRPr b="1" lang="en-US" sz="1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2031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99203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2. Galactos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ing galactosiase (GALT) cell enzyme that converts galactose to gluc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uses liver and brain da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ed by galactose-free diet with special formulas for infants and lactose-free food gui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d in newborn screen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 should begin immediately and must be followed fo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7EC1A49-D7E7-43FA-A340-BDABB2E6BE9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Genetic Disease &amp; Food Intolerances           </a:t>
            </a:r>
            <a:r>
              <a:rPr b="1" i="1" lang="en-US" sz="1400" spc="-1" strike="noStrike">
                <a:solidFill>
                  <a:srgbClr val="850527"/>
                </a:solidFill>
                <a:latin typeface="Arial"/>
              </a:rPr>
              <a:t>(…Cont’d)</a:t>
            </a:r>
            <a:endParaRPr b="1" lang="en-US" sz="14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28520" y="1371600"/>
            <a:ext cx="7886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3. Lactose in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ciency of any of the disaccharidase in small intest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wide range of GI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 and all lactose products avoid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lk treated with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mmercial lactos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duct or </a:t>
            </a:r>
            <a:r>
              <a:rPr b="0" lang="en-US" sz="2600" spc="-1" strike="noStrike">
                <a:solidFill>
                  <a:srgbClr val="992031"/>
                </a:solidFill>
                <a:latin typeface="Arial"/>
              </a:rPr>
              <a:t>soy mil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safe substit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E42DB6F-52B0-43B4-9703-B0117692550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Biliary System Organ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9AFAF1B-2358-4EDE-871A-94F54B4964D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iver Disease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ammatory condition caused by virus, alcohol, drugs, tox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based on bed rest and nutrition 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0FE0E89-6118-4612-9600-453CA8F5665C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Liver Structure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371FC65-1986-403A-A9E2-01F708BDA78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Liver Diseases 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28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rh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tty cirrhosis associated with malnutrition and alcohol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tty infiltration kills liver cells, leaving nonfunctioning scar tissu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374FED0-8E4D-49F4-8BF3-5392CA544874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905120" y="-828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Comparison of Normal Liver and Liver with Cirrhotic Tissue Changes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59AB978-4A30-45EF-A7AC-7480C8CEF1C3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Mouth</a:t>
            </a:r>
            <a:r>
              <a:rPr b="1" lang="en-US" sz="2800" spc="-1" strike="noStrike">
                <a:solidFill>
                  <a:srgbClr val="850527"/>
                </a:solidFill>
                <a:latin typeface="Arial"/>
              </a:rPr>
              <a:t>/2</a:t>
            </a:r>
            <a:endParaRPr b="1" lang="en-US" sz="28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28520" y="1447920"/>
            <a:ext cx="7886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Oral tissue infla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il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alivary glan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sal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erostomia (permanent dry mo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9538C34-D9CE-4727-9EA7-05B23665F919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Liver Diseases</a:t>
            </a: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…Cont’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epatic 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cirrhosis continues, blood can no longer circulate  normally  through  l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monia and nitrogen cannot be eliminated, which produces ammonia intoxication and co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focuses on removing sources of excess ammo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7E82E53-CC12-418B-B17A-E7DAB6C465C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50527"/>
                </a:solidFill>
                <a:latin typeface="Arial"/>
              </a:rPr>
              <a:t>Gallbladder Disease</a:t>
            </a:r>
            <a:endParaRPr b="1" lang="en-US" sz="40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olecys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results from low-grade chronic inf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d infection alters solubility of bile ingred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olelith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lesterol separates out and causes gallst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et therapy centers on controlling fat intak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000DA52-5F0D-4E9C-8451-97579ABF366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ancreatic Disease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ancrea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truction of common duct causes enzymes and bile to back up into panc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in acute inflammation as enzymes digest organ t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aused by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llstones 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 algn="just">
              <a:spcBef>
                <a:spcPts val="649"/>
              </a:spcBef>
              <a:buClr>
                <a:srgbClr val="850527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ssive alcohol 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WordArt 7"/>
          <p:cNvSpPr txBox="1"/>
          <p:nvPr/>
        </p:nvSpPr>
        <p:spPr>
          <a:xfrm>
            <a:off x="6400800" y="54864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FC0188A-E6C7-47A8-92D2-51AE041E8CE7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3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Dysphagia </a:t>
            </a:r>
            <a:r>
              <a:rPr b="0" lang="ar-SA" sz="2800" spc="-1" strike="noStrike">
                <a:solidFill>
                  <a:srgbClr val="992031"/>
                </a:solidFill>
                <a:latin typeface="Arial"/>
                <a:cs typeface="Arial"/>
              </a:rPr>
              <a:t>صعوبة في البلع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992031"/>
                </a:solidFill>
                <a:latin typeface="Arial"/>
              </a:rPr>
              <a:t>fairly comm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production of 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y m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peristaltic motility of the esopha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 of 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logic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2D48000-01F4-43FD-9A6B-B07B561AEFC8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50527"/>
                </a:solidFill>
                <a:latin typeface="Arial"/>
              </a:rPr>
              <a:t>Problems of the Mouth/4</a:t>
            </a:r>
            <a:endParaRPr b="1" lang="en-US" sz="32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arning signs of swallowing dis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uctance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تردد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at certain food consistencies or any food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slow chewing or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 from 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throat cl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aints of food “sticking” in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ing pockets of food in ch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swa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rgitation, coughing, choking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خنق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07226BE8-B7A9-48CC-B02A-6424FE5BB73A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886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Central tube (esophag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le spasms or uncoordinated con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cture (narrowing) of the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alasia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نقبا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rdiospasm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تشنج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-muscle hormone control of peristal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845820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FBF128E0-12A2-49DE-BF21-1FEA26AAD30F}" type="slidenum">
              <a:rPr b="1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30240" y="-8280"/>
            <a:ext cx="601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50527"/>
                </a:solidFill>
                <a:latin typeface="Arial"/>
              </a:rPr>
              <a:t>Problems of the Esophagus/2</a:t>
            </a:r>
            <a:endParaRPr b="1" lang="en-US" sz="3600" spc="-1" strike="noStrike">
              <a:solidFill>
                <a:srgbClr val="850527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85052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ower esophageal 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allow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 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ness in the c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 from eating 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mal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85052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complications and infections caused by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aspi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ial"/>
              </a:rPr>
              <a:t>الشف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ood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Cont'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7:30:18Z</dcterms:created>
  <dc:creator>Trial User</dc:creator>
  <dc:description/>
  <dc:language>en-US</dc:language>
  <cp:lastModifiedBy>ksu</cp:lastModifiedBy>
  <cp:lastPrinted>2005-06-06T20:43:30Z</cp:lastPrinted>
  <dcterms:modified xsi:type="dcterms:W3CDTF">2012-11-19T04:59:45Z</dcterms:modified>
  <cp:revision>2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