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E41-E12E-4C90-92A0-54027B2E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25A-EB4C-4E82-974A-04AB614F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FEC-E3D4-4C21-8D7D-9319B1B9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847-E2F5-4BFB-9287-D025BBAF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8D45-16A4-45DC-865A-6752B184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32F4-6CB3-416C-B48A-60FF356C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9FED-4037-4255-9184-F1BC8F3D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FB03-306E-411A-884E-04480814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8B1C-7D37-407B-B1B7-2A9EA68C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A34B-D093-4F0F-9A85-32CA0F95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565B-AD55-45AC-9DE7-2CD059A6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EDB4-6494-4B4D-B122-9414F64F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B9D6-8458-4E89-8414-9B46C5B5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FDE9-575B-4CA1-87CD-EBC1D3DC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00A1-9663-4BD7-81E6-399F13A5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F26BA-9D67-495F-983A-B2B70CDD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DC6C-9ABE-4939-80B5-A5CF9BE6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E85-6A22-489A-BAC9-D8840440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173-43CC-4546-969E-8630CD42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789-3A4A-4D3C-BEE1-729AAE41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CB7-18E7-43F1-9E3D-3FBDFEAF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3377-AC30-4E35-94D5-2C447057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212-B5F1-4DFC-8950-7B3DB231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938-4DE8-475F-AF7F-220854BC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10274040" cy="6845400"/>
            <a:chOff x="0" y="1440"/>
            <a:chExt cx="10274040" cy="6845400"/>
          </a:xfrm>
        </p:grpSpPr>
        <p:sp>
          <p:nvSpPr>
            <p:cNvPr id="1" name="Freeform 3"/>
            <p:cNvSpPr/>
            <p:nvPr/>
          </p:nvSpPr>
          <p:spPr>
            <a:xfrm>
              <a:off x="6061320" y="1585800"/>
              <a:ext cx="4212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94618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5311-CB2E-45A4-837A-2766C336E56D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165320" y="1552680"/>
            <a:ext cx="11451960" cy="5305320"/>
            <a:chOff x="-1165320" y="1552680"/>
            <a:chExt cx="11451960" cy="5305320"/>
          </a:xfrm>
        </p:grpSpPr>
        <p:sp>
          <p:nvSpPr>
            <p:cNvPr id="45" name="Freeform 3"/>
            <p:cNvSpPr/>
            <p:nvPr/>
          </p:nvSpPr>
          <p:spPr>
            <a:xfrm>
              <a:off x="3679920" y="2709720"/>
              <a:ext cx="66067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165320" y="1552680"/>
              <a:ext cx="756756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2B6D-F8BB-4483-80C3-C0B895B542B2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.tw/imgres?imgurl=http://www.ualberta.ca/~csps/JPPS5(1)/Y.Krishnaiah/Figure3.gif&amp;imgrefurl=http://www.ualberta.ca/~csps/JPPS5(1)/Y.Krishnaiah/scintigraphy.htm&amp;h=216&amp;w=241&amp;sz=3&amp;tbnid=lP7nV12R92sJ:&amp;tbnh=94&amp;tbnw=104&amp;start=2&amp;prev=/images%3Fq%3Dscintigraph%26hl%3Dzh-TW%26lr%3D%26ie%3DUTF-8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EROSTOMIA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563880" y="4313160"/>
            <a:ext cx="21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: Dr Ebtis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toh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012.11.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tiolog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0600" y="17002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s &amp;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ic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o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jogren’s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salivary gland dis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8960" y="0"/>
            <a:ext cx="8712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iology/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836640"/>
            <a:ext cx="10287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33cc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gin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y mouth: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&gt;50y/o:10%,  &gt;65y/o:40%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ashvash N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75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46%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341 subjects (98M, 243F) had noticed subjective xerostomia, more frequent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wome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T.O. Narhi, 199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75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inar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نقودي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ssue was replaced by fat and connective tissu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Waterhouse, Scott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75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become elder, mucin secretion incr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1120" y="189000"/>
            <a:ext cx="86202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tiology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/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8960" y="134136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ods: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cohol,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ff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coco cola,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smo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rug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-depress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-hista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mitid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-cholinerg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pathomimetic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-inflamma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0600" y="-360"/>
            <a:ext cx="874404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tiology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/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7320" y="1413000"/>
            <a:ext cx="950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ystemic facto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Emoti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nervousness , excitation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depres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stress.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ephalitis, brain tumors, stroke, Parkinson’s d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ehydr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diarrhea, vomiting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polyuria of diabe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emia, nutrition deficienc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1120" y="0"/>
            <a:ext cx="86202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tiology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/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125360"/>
            <a:ext cx="943308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adiotherapy (R/T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ini atrophy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ibrosis or replaced by fatty tiss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ous acini: more sensitive to R/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aliva: thickened, altered electrolytes, pH</a:t>
            </a:r>
            <a:r>
              <a:rPr b="0" lang="en-US" sz="3200" spc="-1" strike="noStrike">
                <a:solidFill>
                  <a:srgbClr val="ff0033"/>
                </a:solidFill>
                <a:latin typeface="PMingLiU"/>
              </a:rPr>
              <a:t>↓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PMingLiU"/>
              </a:rPr>
              <a:t>             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ecretion of immunoglobulins</a:t>
            </a:r>
            <a:r>
              <a:rPr b="0" lang="en-US" sz="3200" spc="-1" strike="noStrike">
                <a:solidFill>
                  <a:srgbClr val="ff0033"/>
                </a:solidFill>
                <a:latin typeface="PMingLiU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gt;1000 rad (2-3wk): felt oral dry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&gt;4000 rad: irreversible 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1880" y="0"/>
            <a:ext cx="864252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tiology/6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1028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5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jogren’s syndrom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ic autoimmune disorder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exocrine invas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mai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0-90% in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ema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middle-a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icca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جاف-الملتحمة الجاف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85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erostomia (82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85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ratoconjunctivitis sicca (K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icca syndrom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-196560">
              <a:lnSpc>
                <a:spcPct val="85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cca syndrome + other autoimmune C.T. diseas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heumatoid arthritis&gt; SLE&gt; scleroderma, polymyositis…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828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1480" y="-360"/>
            <a:ext cx="8693280" cy="14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iology/7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78960" y="1341000"/>
            <a:ext cx="8744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ther salivary gland disease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truction or infection of g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rcoidosis, amyloid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nign or malignant tum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ision of gland or congenital mis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1120" y="-360"/>
            <a:ext cx="8744040" cy="14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tiology/8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0600" y="17002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oods &amp; dru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ystemic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adiotherapy (&gt;4000ra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jogren’s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salivary gland dise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359320" y="3500280"/>
            <a:ext cx="49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irreversible cha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700800" y="2301840"/>
            <a:ext cx="399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reversible </a:t>
            </a:r>
            <a:r>
              <a:rPr b="0" lang="en-US" sz="4000" spc="-1" strike="noStrike">
                <a:solidFill>
                  <a:srgbClr val="00ffff"/>
                </a:solidFill>
                <a:latin typeface="Times New Roman"/>
              </a:rPr>
              <a:t>cha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8743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mptoms &amp; sig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tiolog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0600" y="-360"/>
            <a:ext cx="8744040" cy="121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8960" y="1213920"/>
            <a:ext cx="9577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y ta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ymptoms &amp; clinical exa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cial investig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ivary flow rate, SF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ivary scintisc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alochemical analysis &amp; laboratory valu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ial biop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alograp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8743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mptoms &amp; sig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tiolog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8600" y="0"/>
            <a:ext cx="874404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alivary Flow Rate (Sialometry)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8960" y="1125360"/>
            <a:ext cx="87440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nson’s du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thod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ing flow, 10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d flow, 10min: citric ac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ult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ing flow &lt;0.1ml/min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erosto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d flow&lt;0.5ml/min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responsive xerosto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sic, sensitive, time-consum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0240" y="-360"/>
            <a:ext cx="874404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alivary Scintiscanning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4600" y="1268280"/>
            <a:ext cx="583236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odium pertechneta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ty: 10.20.30.40.50.80 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take of T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y salivary gland: functional acinar tissue is pres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sensitivity, non-inva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8" descr="Figure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48400" y="1125360"/>
            <a:ext cx="251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00" y="-360"/>
            <a:ext cx="957744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ialochemical Analy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18600" y="1125360"/>
            <a:ext cx="9649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IgA, amylase, albumin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specif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jogren’s syndrome (SS): have diagnostic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boratory Valu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jogren’s syndr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vated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ESR, IgG, R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auto-antibodies: anti-nuclear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nti-SS-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ti-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nti-SS-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nti-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Labial Biopsy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1480" y="1981080"/>
            <a:ext cx="876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isolm &amp; Mason, 1968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or salivary gland &amp; major gland: high rel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0 lymphocytes &amp; plasma c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focus/4 m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SS is diagnos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1" name="Picture 9" descr="無標題-掃瞄影像-03"/>
          <p:cNvPicPr/>
          <p:nvPr/>
        </p:nvPicPr>
        <p:blipFill>
          <a:blip r:embed="rId1"/>
          <a:srcRect l="8038" t="3590" r="48825" b="76597"/>
          <a:stretch/>
        </p:blipFill>
        <p:spPr>
          <a:xfrm>
            <a:off x="679320" y="907920"/>
            <a:ext cx="4391280" cy="2773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0"/>
          <p:cNvSpPr/>
          <p:nvPr/>
        </p:nvSpPr>
        <p:spPr>
          <a:xfrm>
            <a:off x="750960" y="4005360"/>
            <a:ext cx="44006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otid glan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ight acinar de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ense lymphocytic infilt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arly proliferation of ductal c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34600" y="2349000"/>
            <a:ext cx="482436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874404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alography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3320" y="1052280"/>
            <a:ext cx="928836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tillation of radiopaque fluid into gla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tion of non-calcified sialoliths &amp; tum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suitable for diagnosis of xerosto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4" descr="無標題-掃瞄影像-4"/>
          <p:cNvPicPr/>
          <p:nvPr/>
        </p:nvPicPr>
        <p:blipFill>
          <a:blip r:embed="rId1"/>
          <a:srcRect l="8024" t="9302" r="9377" b="32751"/>
          <a:stretch/>
        </p:blipFill>
        <p:spPr>
          <a:xfrm>
            <a:off x="2479680" y="3284640"/>
            <a:ext cx="388764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0600" y="0"/>
            <a:ext cx="874404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0600" y="1052280"/>
            <a:ext cx="9104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story tak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ymptoms &amp; clinical exa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cial investig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Wingdings 2"/>
                <a:ea typeface="Wingdings 2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ivary flow rate, SF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te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Wingdings 2"/>
                <a:ea typeface="Wingdings 2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iv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ntisc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alochemical analysis &amp; laboratory valu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Wingdings 2"/>
                <a:ea typeface="Wingdings 2"/>
              </a:rPr>
              <a:t>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b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op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alogra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8743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mptoms &amp; sig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tiolog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7320" y="188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Management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0960" y="1523520"/>
            <a:ext cx="8991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etary &amp; environmental consider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ventive Dental Care Measur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liva stimulata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liva substitu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287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etary &amp; Environmental Consider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10287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etary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drugs that may produce xerosto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dry &amp; bulky f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fluid intake &amp; rinsing with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alcohol, smoking and su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protein and vitamin suppl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nvironmen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optimal air humidity in the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Vaseline to protect the l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erostomia (dry mouth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d by Dr. Huchinson,1898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not a disease but a symptom caused by many factors.                                                  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Dr. Rona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ll people who complains of xerostomia actually has salivary gland dysfun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94960" y="-360"/>
            <a:ext cx="874404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eventive Dental Care Measur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691920"/>
            <a:ext cx="10287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mooth sharp cusps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قمم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 occlusal grooves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خاديد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 fissures, irregular filling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eck and adjust the dent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OH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Topical fluoride with carrier us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luoride rinses &amp; chlorhexidine rins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fungal medications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nture: Miconazole gel, amphotericin or nystatin oin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al: Nystatin, amphotercin suspension or fluconazole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7320" y="-360"/>
            <a:ext cx="8744040" cy="14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liva Stimulatan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3320" y="1413000"/>
            <a:ext cx="9359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wing gu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abetic swee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alagogues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ilocarp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~10 mg, t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Bradycardia, swea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flushing, urgency of urination, GI upset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94360" indent="-2286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yridostigmi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1120" y="404640"/>
            <a:ext cx="87440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livary Substitut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1120" y="1484280"/>
            <a:ext cx="87440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alivary Substitu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xy-methyl-cellulose or muc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ffff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liva Orthana: contains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fluori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xture of glycerin &amp; citric ac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oral antimicrobial contents: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70280" y="1915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ank you for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your attention !!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rcRect l="0" t="12515" r="0" b="8689"/>
          <a:stretch/>
        </p:blipFill>
        <p:spPr>
          <a:xfrm>
            <a:off x="662040" y="404640"/>
            <a:ext cx="448164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1120" y="476280"/>
            <a:ext cx="874404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alivary Gla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4600" y="1844640"/>
            <a:ext cx="532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otid g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 source when e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ero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cini only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bmandibular g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responsible when no stimu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Sero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primarily) + mucous aci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503680" y="177336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blingual g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ly 2-3% of sal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uco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primarily) + sero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inor saliv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mucou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rimari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0600" y="2599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unction of Saliv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6240" y="1484280"/>
            <a:ext cx="903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brication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شحيم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digestion of foo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Modulate</a:t>
            </a:r>
            <a:r>
              <a:rPr b="0" lang="ar-SA" sz="3200" spc="-1" strike="noStrike">
                <a:solidFill>
                  <a:srgbClr val="00ffff"/>
                </a:solidFill>
                <a:latin typeface="Times New Roman"/>
                <a:cs typeface="Times New Roman"/>
              </a:rPr>
              <a:t>تنظم</a:t>
            </a:r>
            <a:r>
              <a:rPr b="0" lang="ar-SA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he oral fl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mune mechanism: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immunoglobuli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IgA, IgG, IgM. Anti-microbial:  lysozyme, peroxidase, lactoferrin, agglutin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Buffering a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ooth reminer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ention of removable den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8743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ymptoms &amp; sig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tiolog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8600" y="188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ymptoms &amp; Signs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8960" y="11970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ymptom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al dryness (most comm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itosis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ائحة الفم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ning sens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s of sense of taste or bizarre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غريب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y in swallowing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ngue tends to stick to the pala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ed retention of den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6600" y="0"/>
            <a:ext cx="874368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ymptoms &amp; Sig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76644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aliva pool disapp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cosa: dry or glossy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ع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ct orifices: viscous and opaque sal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ngu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ssiti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issure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d with papilla atro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ular cheil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mpant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نتشر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ies: cervical or cusp tip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رأس القمة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iodont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didiasis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اء الفطر المبيض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4" descr="無標題-掃瞄影像-02"/>
          <p:cNvPicPr/>
          <p:nvPr/>
        </p:nvPicPr>
        <p:blipFill>
          <a:blip r:embed="rId1"/>
          <a:srcRect l="21260" t="15204" r="9370" b="14749"/>
          <a:stretch/>
        </p:blipFill>
        <p:spPr>
          <a:xfrm>
            <a:off x="8572680" y="428760"/>
            <a:ext cx="1579320" cy="2349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無標題-掃瞄影像-07"/>
          <p:cNvPicPr/>
          <p:nvPr/>
        </p:nvPicPr>
        <p:blipFill>
          <a:blip r:embed="rId2"/>
          <a:srcRect l="9132" t="19676" r="24118" b="19387"/>
          <a:stretch/>
        </p:blipFill>
        <p:spPr>
          <a:xfrm>
            <a:off x="7572240" y="4292640"/>
            <a:ext cx="27147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8743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ymptoms &amp; sig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tiolog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mmar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2T03:12:45Z</dcterms:created>
  <dc:creator>Guest</dc:creator>
  <dc:description/>
  <dc:language>en-US</dc:language>
  <cp:lastModifiedBy>ksu</cp:lastModifiedBy>
  <dcterms:modified xsi:type="dcterms:W3CDTF">2012-11-20T04:56:23Z</dcterms:modified>
  <cp:revision>121</cp:revision>
  <dc:subject/>
  <dc:title>XEROSTOMIA</dc:title>
</cp:coreProperties>
</file>