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06A-F053-407D-91F4-E1A68722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84D-2648-4F5D-A1D7-2EC6A019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C94-C8B2-417A-B69C-A0E2E94A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B6F-EAE8-4E4A-ABDB-9E552C37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F203-DF4E-4F44-922E-2AFE22BE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1CE7-FEBB-4706-898C-A63EC327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DE00-869F-4F21-A630-46E9AA82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6F1F-83CF-4F1B-81FB-BCCA0A51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41A8-2692-4414-974B-E0296883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9708-8C6E-47C3-B2F5-D016F6C2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6693-5962-4F1B-AC6F-44D38A5F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7EC-9CCF-4C4D-88A6-6F5CA031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933B-5E73-4FE0-900D-F2874003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45BA-E46E-4F3F-9FC5-2F799098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D853-92B2-4154-9EAC-8CB6A4F2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39AB-57CB-4587-B60A-A418B417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95A5-4DC2-4504-8BF4-BE6184AE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265-0F50-47A5-8E00-528736F5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1A7-26D6-486E-8F44-4F07655F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675-7829-42BE-8885-D8A6FF2F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093-5424-4EBA-B2FB-F1F98CE6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8C1-0A6C-4E3B-B799-7DE6574C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DC9-DA8C-405B-9ED9-B8C5FC89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78D4-5266-42AE-8C8E-12B4845D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10274040" cy="6845400"/>
            <a:chOff x="0" y="1440"/>
            <a:chExt cx="10274040" cy="6845400"/>
          </a:xfrm>
        </p:grpSpPr>
        <p:sp>
          <p:nvSpPr>
            <p:cNvPr id="1" name="Freeform 3"/>
            <p:cNvSpPr/>
            <p:nvPr/>
          </p:nvSpPr>
          <p:spPr>
            <a:xfrm>
              <a:off x="6061320" y="1585800"/>
              <a:ext cx="4212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94618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274E-B23C-4108-990C-62D93F84370E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165320" y="1552680"/>
            <a:ext cx="11451960" cy="5305320"/>
            <a:chOff x="-1165320" y="1552680"/>
            <a:chExt cx="11451960" cy="5305320"/>
          </a:xfrm>
        </p:grpSpPr>
        <p:sp>
          <p:nvSpPr>
            <p:cNvPr id="45" name="Freeform 3"/>
            <p:cNvSpPr/>
            <p:nvPr/>
          </p:nvSpPr>
          <p:spPr>
            <a:xfrm>
              <a:off x="3679920" y="2709720"/>
              <a:ext cx="66067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165320" y="1552680"/>
              <a:ext cx="756756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C916-EF73-41E0-9330-18630640E52A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.tw/imgres?imgurl=http://www.ualberta.ca/~csps/JPPS5(1)/Y.Krishnaiah/Figure3.gif&amp;imgrefurl=http://www.ualberta.ca/~csps/JPPS5(1)/Y.Krishnaiah/scintigraphy.htm&amp;h=216&amp;w=241&amp;sz=3&amp;tbnid=lP7nV12R92sJ:&amp;tbnh=94&amp;tbnw=104&amp;start=2&amp;prev=/images%3Fq%3Dscintigraph%26hl%3Dzh-TW%26lr%3D%26ie%3DUTF-8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EROSTOMIA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563880" y="4313160"/>
            <a:ext cx="21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: Dr Ebtis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toh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12.11.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tiolog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0600" y="17002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s &amp;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ic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o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jogren’s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salivary gland dis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8960" y="0"/>
            <a:ext cx="8712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iology/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10287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33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gin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mouth: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50y/o:10%,  &gt;65y/o:40%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shvash 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75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6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341 subjects (98M, 243F) had noticed subjective xerostomia, more frequen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om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.O. Narhi, 19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75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inar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نقودي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ssue was replaced by fat and connective tiss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aterhouse, Scott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75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become elder, mucin secretion incr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1120" y="189000"/>
            <a:ext cx="86202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tiology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8960" y="134136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ods: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cohol,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ff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coco cola,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smo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rug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-depress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-hista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mitid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-cholinerg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pathomimetic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-inflamma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0600" y="-360"/>
            <a:ext cx="874404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tiology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/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7320" y="1413000"/>
            <a:ext cx="950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ystemic facto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mo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nervousness , excitation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pres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stress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ephalitis, brain tumors, stroke, Parkinson’s d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ehydr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diarrhea, vomiting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olyuria of diabe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emia, nutrition deficienc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1120" y="0"/>
            <a:ext cx="86202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tiology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/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125360"/>
            <a:ext cx="943308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adiotherapy (R/T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ini atrophy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ibrosis or replaced by fatty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ous acini: more sensitive to R/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aliva: thickened, altered electrolytes, pH</a:t>
            </a:r>
            <a:r>
              <a:rPr b="0" lang="en-US" sz="3200" spc="-1" strike="noStrike">
                <a:solidFill>
                  <a:srgbClr val="ff0033"/>
                </a:solidFill>
                <a:latin typeface="PMingLiU"/>
              </a:rPr>
              <a:t>↓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PMingLiU"/>
              </a:rPr>
              <a:t>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ecretion of immunoglobulins</a:t>
            </a:r>
            <a:r>
              <a:rPr b="0" lang="en-US" sz="3200" spc="-1" strike="noStrike">
                <a:solidFill>
                  <a:srgbClr val="ff0033"/>
                </a:solidFill>
                <a:latin typeface="PMingLiU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1000 rad (2-3wk): felt oral dry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&gt;4000 rad: irreversible 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1880" y="0"/>
            <a:ext cx="86425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tiology/6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5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jogren’s syndrom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ic autoimmune disorder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xocrine inva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mai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-90%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ema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ddle-a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icca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جاف-الملتحمة الجاف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85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erostomia (82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85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ratoconjunctivitis sicca (K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icca syndr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85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cca syndrome + other autoimmune C.T. disea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heumatoid arthritis&gt; SLE&gt; scleroderma, polymyositis…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1480" y="-360"/>
            <a:ext cx="8693280" cy="14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iology/7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8960" y="1341000"/>
            <a:ext cx="8744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ther salivary gland diseas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truction or infection of g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rcoidosis, amyloid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or malignant tu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ision of gland or congenital mis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14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tiology/8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0600" y="17002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oods &amp;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ystemic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diotherapy (&gt;4000ra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jogren’s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salivary gland dis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359320" y="3500280"/>
            <a:ext cx="49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irreversible cha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700800" y="2301840"/>
            <a:ext cx="399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reversible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cha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8743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mptoms &amp; sig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tiolog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0600" y="-360"/>
            <a:ext cx="8744040" cy="121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8960" y="1213920"/>
            <a:ext cx="9577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y ta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ymptoms &amp; clinical exa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cial investig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ivary flow rate, SF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ivary scintisc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alochemical analysis &amp; laboratory valu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ial biop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alogra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8743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mptoms &amp; sig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tiolog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8600" y="0"/>
            <a:ext cx="874404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alivary Flow Rate (Sialometry)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8960" y="1125360"/>
            <a:ext cx="87440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nson’s du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ing flow, 10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d flow, 10min: citric ac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ing flow &lt;0.1ml/min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erosto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d flow&lt;0.5ml/min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responsive xerosto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sic, sensitive, time-consum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0240" y="-360"/>
            <a:ext cx="874404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alivary Scintiscanning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4600" y="1268280"/>
            <a:ext cx="583236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odium pertechneta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ty: 10.20.30.40.50.80 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take of T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y salivary gland: functional acinar tissue is pres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sensitivity, non-inva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8" descr="Figure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48400" y="1125360"/>
            <a:ext cx="251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00" y="-360"/>
            <a:ext cx="957744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alochemical Ana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18600" y="1125360"/>
            <a:ext cx="9649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gA, amylase, albumin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specif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jogren’s syndrome (SS): have diagnostic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boratory Valu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jogren’s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vat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SR, IgG, 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auto-antibodies: anti-nuclear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nti-SS-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ti-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nti-SS-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ti-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Labial Biopsy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876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isolm &amp; Mason, 1968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or salivary gland &amp; major gland: high rel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lymphocytes &amp; plasma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focus/4 m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SS is diagnos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1" name="Picture 9" descr="無標題-掃瞄影像-03"/>
          <p:cNvPicPr/>
          <p:nvPr/>
        </p:nvPicPr>
        <p:blipFill>
          <a:blip r:embed="rId1"/>
          <a:srcRect l="8038" t="3590" r="48825" b="76597"/>
          <a:stretch/>
        </p:blipFill>
        <p:spPr>
          <a:xfrm>
            <a:off x="679320" y="907920"/>
            <a:ext cx="4391280" cy="2773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750960" y="4005360"/>
            <a:ext cx="44006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otid glan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ight acinar de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ense lymphocytic infilt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arly proliferation of ductal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34600" y="2349000"/>
            <a:ext cx="482436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874404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alograph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3320" y="1052280"/>
            <a:ext cx="928836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tillation of radiopaque fluid into gla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tion of non-calcified sialoliths &amp; tum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suitable for diagnosis of xerosto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無標題-掃瞄影像-4"/>
          <p:cNvPicPr/>
          <p:nvPr/>
        </p:nvPicPr>
        <p:blipFill>
          <a:blip r:embed="rId1"/>
          <a:srcRect l="8024" t="9302" r="9377" b="32751"/>
          <a:stretch/>
        </p:blipFill>
        <p:spPr>
          <a:xfrm>
            <a:off x="2479680" y="3284640"/>
            <a:ext cx="3887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874404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0600" y="1052280"/>
            <a:ext cx="9104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y ta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ymptoms &amp; clinical exa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cial investig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Wingdings 2"/>
                <a:ea typeface="Wingdings 2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ivary flow rate, SF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Wingdings 2"/>
                <a:ea typeface="Wingdings 2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iv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ntisc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alochemical analysis &amp; laboratory valu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Wingdings 2"/>
                <a:ea typeface="Wingdings 2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op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alogra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8743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mptoms &amp; sig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tiolog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7320" y="188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Management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0960" y="1523520"/>
            <a:ext cx="8991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etary &amp; environmental consid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ventive Dental Care Measur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liva stimulat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liva substitu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etary &amp; Environmental Consider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10287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etary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drugs that may produce xerosto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dry &amp; bulky f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fluid intake &amp; rinsing with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alcohol, smoking and su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protein and vitamin supp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optimal air humidity in the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Vaseline to protect the l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erostomia (dry mouth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d by Dr. Huchinson,1898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not a disease but a symptom caused by many factors.                                               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r. Rona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people who complains of xerostomia actually has salivary gland dysfun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94960" y="-360"/>
            <a:ext cx="874404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eventive Dental Care Measur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691920"/>
            <a:ext cx="10287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mooth sharp cusps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مم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occlusal grooves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خاديد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 fissures, irregular filling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eck and adjust the dent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OH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Topical fluoride with carrier u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luoride rinses &amp; chlorhexidine rins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fungal medication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ure: Miconazole gel, amphotericin or nystatin oin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al: Nystatin, amphotercin suspension or fluconazole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7320" y="-360"/>
            <a:ext cx="8744040" cy="14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liva Stimulatan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3320" y="1413000"/>
            <a:ext cx="9359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wing gu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abetic swee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alagogues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ilocarp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~10 mg, t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radycardia, swea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flushing, urgency of urination, GI upset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yridostigm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1120" y="404640"/>
            <a:ext cx="87440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livary Substitut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1120" y="1484280"/>
            <a:ext cx="87440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alivary Substitu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xy-methyl-cellulose or muc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iva Orthana: contain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luori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xture of glycerin &amp; citric ac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oral antimicrobial contents: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70280" y="1915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ank you for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your attention !!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rcRect l="0" t="12515" r="0" b="8689"/>
          <a:stretch/>
        </p:blipFill>
        <p:spPr>
          <a:xfrm>
            <a:off x="662040" y="404640"/>
            <a:ext cx="4481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1120" y="476280"/>
            <a:ext cx="87440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alivary Gla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4600" y="1844640"/>
            <a:ext cx="532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otid g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 source when e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ero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cini only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bmandibular g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responsible when no stimu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ero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primarily) + mucous aci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503680" y="177336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blingual g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ly 2-3% of sal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uco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primarily) + ser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nor saliv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ucou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rimari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0600" y="259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unction of Saliv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6240" y="1484280"/>
            <a:ext cx="903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brication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شحيم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digestion of fo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odulate</a:t>
            </a:r>
            <a:r>
              <a:rPr b="0" lang="ar-SA" sz="3200" spc="-1" strike="noStrike">
                <a:solidFill>
                  <a:srgbClr val="00ffff"/>
                </a:solidFill>
                <a:latin typeface="Times New Roman"/>
                <a:cs typeface="Times New Roman"/>
              </a:rPr>
              <a:t>تنظم</a:t>
            </a:r>
            <a:r>
              <a:rPr b="0" lang="ar-SA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ral fl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mune mechanism: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mmunoglobuli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IgA, IgG, IgM. Anti-microbial:  lysozyme, peroxidase, lactoferrin, agglutin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uffering a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ooth reminer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ention of removable den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8743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ymptoms &amp; sig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tiolog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8600" y="188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ymptoms &amp; Sig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8960" y="11970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ymptom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al dryness (most comm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itosis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ائحة الفم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ning sens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s of sense of taste or bizarr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ريب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y in swallowing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ngue tends to stick to the pala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ed retention of den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6600" y="0"/>
            <a:ext cx="874368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ymptoms &amp; Sig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76644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aliva pool disapp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cosa: dry or glossy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ع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ct orifices: viscous and opaque sal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ngu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ssiti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issure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d with papilla atro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ular cheil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mpan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نتشر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ies: cervical or cusp tip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أس القمة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ont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didiasi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اء الفطر المبيض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無標題-掃瞄影像-02"/>
          <p:cNvPicPr/>
          <p:nvPr/>
        </p:nvPicPr>
        <p:blipFill>
          <a:blip r:embed="rId1"/>
          <a:srcRect l="21260" t="15204" r="9370" b="14749"/>
          <a:stretch/>
        </p:blipFill>
        <p:spPr>
          <a:xfrm>
            <a:off x="8572680" y="428760"/>
            <a:ext cx="1579320" cy="2349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無標題-掃瞄影像-07"/>
          <p:cNvPicPr/>
          <p:nvPr/>
        </p:nvPicPr>
        <p:blipFill>
          <a:blip r:embed="rId2"/>
          <a:srcRect l="9132" t="19676" r="24118" b="19387"/>
          <a:stretch/>
        </p:blipFill>
        <p:spPr>
          <a:xfrm>
            <a:off x="7572240" y="4292640"/>
            <a:ext cx="27147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8743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mptoms &amp; sig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tiolog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2T03:12:45Z</dcterms:created>
  <dc:creator>Guest</dc:creator>
  <dc:description/>
  <dc:language>en-US</dc:language>
  <cp:lastModifiedBy>ksu</cp:lastModifiedBy>
  <dcterms:modified xsi:type="dcterms:W3CDTF">2012-11-20T04:56:23Z</dcterms:modified>
  <cp:revision>121</cp:revision>
  <dc:subject/>
  <dc:title>XEROSTOMIA</dc:title>
</cp:coreProperties>
</file>