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13.wmf" ContentType="image/x-wmf"/>
  <Override PartName="/ppt/media/image27.png" ContentType="image/png"/>
  <Override PartName="/ppt/media/image4.png" ContentType="image/png"/>
  <Override PartName="/ppt/media/image12.jpeg" ContentType="image/jpeg"/>
  <Override PartName="/ppt/media/image8.wmf" ContentType="image/x-wmf"/>
  <Override PartName="/ppt/media/image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1.jpeg" ContentType="image/jpeg"/>
  <Override PartName="/ppt/media/image25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19.wmf" ContentType="image/x-wmf"/>
  <Override PartName="/ppt/media/image21.png" ContentType="image/png"/>
  <Override PartName="/ppt/media/image23.png" ContentType="image/png"/>
  <Override PartName="/ppt/media/image11.jpeg" ContentType="image/jpe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3B6C-B269-4F46-97C2-C12E2F0B2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9DE3-D07A-47C7-941D-B1E12B76C1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2343-E62F-42C0-A0D6-FE77B19F6D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EB24-7BF0-4E44-979C-B516E64F85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B924-B594-4A6C-A355-BA442FFDB2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95A6-3564-4D07-9A17-EF04045FC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9C06-1FA3-4AED-9D0C-4AAA4F72E9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13BE-F051-4532-BC5E-66EF19AB52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F161-6439-48BA-A6E3-5DBA5BF60A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9A39-719C-4F6C-9D6E-48BB8B3E8F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D89B-586F-4227-A4B3-9F30E6F5B0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19CF-ABEE-4E9F-8DBB-88474BCFAC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60CA-7217-46C8-8831-940F591A8B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BACB-0E56-4EA3-8CFB-6B01AA145E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3EAE-968B-4605-8A90-A9839C3AA7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55A5-2642-4094-A757-386BD5C200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D51F-22D9-4EB5-83B8-26B7300DC6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674D-D37E-4C1A-B9DE-ACE905F65C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91C2-7DC2-4845-9548-E444B6B1A7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F32C-00F7-49C1-843A-EC04599716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A2AB-B2FF-4C2F-992F-88FA3C5D96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17FF-1F81-4A2F-B759-26AECB36DD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E42A-27AE-423B-87E2-DD7AB7B066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FCFF-EC30-495F-A841-68DAC26285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969E-0033-44B7-A298-F2D6C05173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9B33-591E-486E-B2E7-658A5E219B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FDE3-251D-4AAE-870F-272E4618E2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BCCD-7283-407A-AF60-3A0E48DA1F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FB81-2167-4C24-A59E-E2FA72B3F2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A283-2DBC-4BA7-8847-376197EA68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E116-373F-4612-B720-75B4B01D21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1CD1-DA37-461C-9BE1-CB6858BE11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98D1-7191-4C7F-A598-70B6596DE2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95C6-EF19-4557-8187-F2000CF6C2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7770-D701-4990-92E6-18D8D15F3B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B00A-0294-49B4-9F4A-267A7FF501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3785-3EB6-4824-9311-B06D11CFEE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A6E7-135E-4E4B-A38A-8AD1DD0D2B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B80A-D5ED-49D2-A375-9A3DF23B68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7025-3DAC-4A29-A041-FDFAD3429E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D2D2-CAAD-44DA-804A-9D372F6B5A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04AE-C95B-4047-9382-D1B562A2E2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BB1A-3408-4B78-92B6-D4DBFC3D2E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5D59-C0EE-41BA-9DEB-D7F83620E6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0379-8F73-4036-BC74-6C365FF9CB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4B6-94D4-4097-9E14-88E4D869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AD7-2D3A-4DA5-AFC3-35442722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02FD-3F10-4C4C-851F-26B1A43E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059-4BEE-4DD3-80C2-1845A0A1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2B6-12D8-4010-9C0C-7E487F14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941-53E8-433B-9FCF-1E91091D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EDD-E00A-496A-9FFD-709C24DD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ACD9-7CC9-44D4-84C5-64B97189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03F-89BA-4116-9D5A-7EDE1ECD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36F-7017-4E77-8635-22915264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720-C4EF-4184-9966-7A51524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A9E0-E153-4166-B225-54F74B25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BB29-5985-45CF-BC41-C3FC4E2D01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5320" y="990360"/>
            <a:ext cx="4952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ccretion and Differentiation of Eart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657240"/>
            <a:ext cx="4724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Steve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314"/>
                </a:solidFill>
                <a:latin typeface="Arial"/>
              </a:rPr>
              <a:t>Calt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utrino Sciences 2007 Deep Ocean Anti-Neutrino Observatory Workshop Honolulu, Hawaii March 23-25,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19920" y="4572000"/>
            <a:ext cx="2895480" cy="2011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31255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rrestrial Planet form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collapse from ISM;  recondensation of dust; high energy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all (km) bodies form quickly (&lt;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r)[observation]. Some of these bodies differentiate  (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heat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on &amp; Mars sized bodie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lso form as quickly[theory] -will also therefore differentiate (perhaps imperfect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bit crossing limits growth of big bodies: Time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t stages i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bs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solar nebula [astronomical obs.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ing across ~1AU likely (chemical disequilibrium?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4343400" y="2362320"/>
          <a:ext cx="4343400" cy="31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362320"/>
                    <a:ext cx="4343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4953240" cy="3794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380880"/>
            <a:ext cx="35816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urrent terrestrial accretion models, the material that goes into making Earth comes from many different 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atile depletion in the terrestrial planet forming materials (affects potassium; not U &amp; 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nation of composition in terrestrial zone is unlik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800600" y="5181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Results from Chambers, 2003 (Similar results from Morbidel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3581280" y="2133720"/>
            <a:ext cx="2743200" cy="2666880"/>
          </a:xfrm>
          <a:prstGeom prst="ellips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2895480" y="1523880"/>
            <a:ext cx="4114800" cy="3962520"/>
          </a:xfrm>
          <a:prstGeom prst="ellipse">
            <a:avLst/>
          </a:prstGeom>
          <a:solidFill>
            <a:srgbClr val="969696">
              <a:alpha val="11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 flipV="1">
            <a:off x="2895480" y="3885840"/>
            <a:ext cx="15242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90720" y="4952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s mass embryo -hot  &amp; differenti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5800" y="914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057400" y="28954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57200" y="2438280"/>
            <a:ext cx="2133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density enhan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exp[GM/R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886200" y="55627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is predicts only modest ingassing (even assuming the embryo has an accessible magma oce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Importance of Giant Impa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ations indicate that Mars-sized bodies probably impacted Earth during it’s accum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vents are extraordinary… for a thousand years after one, Earth will radiate like a low-mass sta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rge oblique impact places material in Earth orbit: Origin of the Mo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648320" y="2152800"/>
            <a:ext cx="38098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33560" y="609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rmation of the Mo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“splashes” material into Earth orb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on forms from a disk in perhaps a few 10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Moon, nearly equatorial orbit, near Roche limit- tidally evolves outw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94336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4190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me Important Numb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/R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~ 4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M is Earth mass, R is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Earth radius, C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s specific he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/RL ~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L is the latent heat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porization of r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librium temp. to eliminate accretional heat ~400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but misleading because of infrequent larg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impacts and steam atmospher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gra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~10 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rad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here E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grav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s the energy released by  Earth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formation and E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radi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s the total radioactiv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eat release over geologic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Memory does Earth have of Accre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composition (almost a closed sys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k chemistry (partitioning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ded reservoirs are not fully equilibra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f lay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648320" y="1992240"/>
            <a:ext cx="38098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 Formation require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iscible components (iron &amp; silic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rosegregation of components: At least one was mostly mol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stantial Difference in den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ther kinds of differentiation (ocean &amp; atmosphere formation, continental crust) are not conceptually that different although the details differ a l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 Form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809880" cy="3846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4440240" y="533520"/>
            <a:ext cx="4703760" cy="6184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457200" y="4648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evenson,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419720" y="533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ood et al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 Formation with Giant Impa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fect equilibratio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 simple connection between the timing of core formation and the timing of last equilib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mple connection between composition and a particular T and 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4"/>
          <p:cNvSpPr/>
          <p:nvPr/>
        </p:nvSpPr>
        <p:spPr>
          <a:xfrm>
            <a:off x="5867280" y="4838760"/>
            <a:ext cx="2819520" cy="3427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776" h="216">
                <a:moveTo>
                  <a:pt x="0" y="216"/>
                </a:moveTo>
                <a:cubicBezTo>
                  <a:pt x="108" y="160"/>
                  <a:pt x="216" y="104"/>
                  <a:pt x="384" y="72"/>
                </a:cubicBezTo>
                <a:cubicBezTo>
                  <a:pt x="552" y="40"/>
                  <a:pt x="776" y="0"/>
                  <a:pt x="1008" y="24"/>
                </a:cubicBezTo>
                <a:cubicBezTo>
                  <a:pt x="1240" y="48"/>
                  <a:pt x="1648" y="184"/>
                  <a:pt x="1776" y="2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5"/>
          <p:cNvSpPr/>
          <p:nvPr/>
        </p:nvSpPr>
        <p:spPr>
          <a:xfrm>
            <a:off x="5943600" y="2514600"/>
            <a:ext cx="2819520" cy="34308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776" h="216">
                <a:moveTo>
                  <a:pt x="0" y="216"/>
                </a:moveTo>
                <a:cubicBezTo>
                  <a:pt x="108" y="160"/>
                  <a:pt x="216" y="104"/>
                  <a:pt x="384" y="72"/>
                </a:cubicBezTo>
                <a:cubicBezTo>
                  <a:pt x="552" y="40"/>
                  <a:pt x="776" y="0"/>
                  <a:pt x="1008" y="24"/>
                </a:cubicBezTo>
                <a:cubicBezTo>
                  <a:pt x="1240" y="48"/>
                  <a:pt x="1648" y="184"/>
                  <a:pt x="1776" y="21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6"/>
          <p:cNvSpPr/>
          <p:nvPr/>
        </p:nvSpPr>
        <p:spPr>
          <a:xfrm>
            <a:off x="7331040" y="3341520"/>
            <a:ext cx="685800" cy="882720"/>
          </a:xfrm>
          <a:custGeom>
            <a:avLst/>
            <a:gdLst>
              <a:gd name="textAreaLeft" fmla="*/ 0 w 685800"/>
              <a:gd name="textAreaRight" fmla="*/ 686160 w 685800"/>
              <a:gd name="textAreaTop" fmla="*/ 0 h 882720"/>
              <a:gd name="textAreaBottom" fmla="*/ 883080 h 882720"/>
            </a:gdLst>
            <a:ahLst/>
            <a:rect l="textAreaLeft" t="textAreaTop" r="textAreaRight" b="textAreaBottom"/>
            <a:pathLst>
              <a:path w="432" h="556">
                <a:moveTo>
                  <a:pt x="164" y="28"/>
                </a:moveTo>
                <a:cubicBezTo>
                  <a:pt x="144" y="91"/>
                  <a:pt x="174" y="0"/>
                  <a:pt x="146" y="65"/>
                </a:cubicBezTo>
                <a:cubicBezTo>
                  <a:pt x="120" y="121"/>
                  <a:pt x="110" y="179"/>
                  <a:pt x="55" y="216"/>
                </a:cubicBezTo>
                <a:cubicBezTo>
                  <a:pt x="26" y="257"/>
                  <a:pt x="11" y="289"/>
                  <a:pt x="0" y="338"/>
                </a:cubicBezTo>
                <a:cubicBezTo>
                  <a:pt x="4" y="380"/>
                  <a:pt x="4" y="423"/>
                  <a:pt x="12" y="465"/>
                </a:cubicBezTo>
                <a:cubicBezTo>
                  <a:pt x="12" y="470"/>
                  <a:pt x="65" y="494"/>
                  <a:pt x="79" y="501"/>
                </a:cubicBezTo>
                <a:cubicBezTo>
                  <a:pt x="90" y="506"/>
                  <a:pt x="115" y="513"/>
                  <a:pt x="115" y="513"/>
                </a:cubicBezTo>
                <a:cubicBezTo>
                  <a:pt x="138" y="534"/>
                  <a:pt x="166" y="542"/>
                  <a:pt x="194" y="556"/>
                </a:cubicBezTo>
                <a:cubicBezTo>
                  <a:pt x="261" y="552"/>
                  <a:pt x="296" y="556"/>
                  <a:pt x="352" y="538"/>
                </a:cubicBezTo>
                <a:cubicBezTo>
                  <a:pt x="373" y="522"/>
                  <a:pt x="375" y="507"/>
                  <a:pt x="394" y="489"/>
                </a:cubicBezTo>
                <a:cubicBezTo>
                  <a:pt x="432" y="392"/>
                  <a:pt x="354" y="294"/>
                  <a:pt x="261" y="271"/>
                </a:cubicBezTo>
                <a:cubicBezTo>
                  <a:pt x="234" y="244"/>
                  <a:pt x="213" y="217"/>
                  <a:pt x="188" y="192"/>
                </a:cubicBezTo>
                <a:cubicBezTo>
                  <a:pt x="174" y="152"/>
                  <a:pt x="136" y="83"/>
                  <a:pt x="146" y="41"/>
                </a:cubicBezTo>
                <a:cubicBezTo>
                  <a:pt x="147" y="33"/>
                  <a:pt x="158" y="32"/>
                  <a:pt x="164" y="2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e823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7"/>
          <p:cNvSpPr/>
          <p:nvPr/>
        </p:nvSpPr>
        <p:spPr>
          <a:xfrm>
            <a:off x="5942160" y="3753000"/>
            <a:ext cx="680760" cy="576000"/>
          </a:xfrm>
          <a:custGeom>
            <a:avLst/>
            <a:gdLst>
              <a:gd name="textAreaLeft" fmla="*/ 0 w 680760"/>
              <a:gd name="textAreaRight" fmla="*/ 681120 w 68076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29" h="363">
                <a:moveTo>
                  <a:pt x="409" y="0"/>
                </a:moveTo>
                <a:cubicBezTo>
                  <a:pt x="382" y="42"/>
                  <a:pt x="371" y="73"/>
                  <a:pt x="336" y="103"/>
                </a:cubicBezTo>
                <a:cubicBezTo>
                  <a:pt x="284" y="145"/>
                  <a:pt x="222" y="173"/>
                  <a:pt x="160" y="194"/>
                </a:cubicBezTo>
                <a:cubicBezTo>
                  <a:pt x="115" y="208"/>
                  <a:pt x="68" y="215"/>
                  <a:pt x="27" y="236"/>
                </a:cubicBezTo>
                <a:cubicBezTo>
                  <a:pt x="19" y="248"/>
                  <a:pt x="0" y="258"/>
                  <a:pt x="3" y="273"/>
                </a:cubicBezTo>
                <a:cubicBezTo>
                  <a:pt x="5" y="287"/>
                  <a:pt x="5" y="301"/>
                  <a:pt x="9" y="315"/>
                </a:cubicBezTo>
                <a:cubicBezTo>
                  <a:pt x="22" y="363"/>
                  <a:pt x="78" y="358"/>
                  <a:pt x="118" y="363"/>
                </a:cubicBezTo>
                <a:cubicBezTo>
                  <a:pt x="148" y="361"/>
                  <a:pt x="179" y="361"/>
                  <a:pt x="209" y="357"/>
                </a:cubicBezTo>
                <a:cubicBezTo>
                  <a:pt x="236" y="352"/>
                  <a:pt x="227" y="314"/>
                  <a:pt x="263" y="303"/>
                </a:cubicBezTo>
                <a:cubicBezTo>
                  <a:pt x="273" y="271"/>
                  <a:pt x="271" y="246"/>
                  <a:pt x="306" y="236"/>
                </a:cubicBezTo>
                <a:cubicBezTo>
                  <a:pt x="319" y="215"/>
                  <a:pt x="334" y="196"/>
                  <a:pt x="348" y="176"/>
                </a:cubicBezTo>
                <a:cubicBezTo>
                  <a:pt x="354" y="155"/>
                  <a:pt x="365" y="140"/>
                  <a:pt x="372" y="121"/>
                </a:cubicBezTo>
                <a:cubicBezTo>
                  <a:pt x="374" y="96"/>
                  <a:pt x="375" y="72"/>
                  <a:pt x="378" y="48"/>
                </a:cubicBezTo>
                <a:cubicBezTo>
                  <a:pt x="379" y="37"/>
                  <a:pt x="376" y="25"/>
                  <a:pt x="384" y="18"/>
                </a:cubicBezTo>
                <a:cubicBezTo>
                  <a:pt x="388" y="13"/>
                  <a:pt x="392" y="26"/>
                  <a:pt x="397" y="30"/>
                </a:cubicBezTo>
                <a:cubicBezTo>
                  <a:pt x="423" y="23"/>
                  <a:pt x="429" y="20"/>
                  <a:pt x="409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8"/>
          <p:cNvSpPr/>
          <p:nvPr/>
        </p:nvSpPr>
        <p:spPr>
          <a:xfrm>
            <a:off x="8310600" y="3040200"/>
            <a:ext cx="266760" cy="279360"/>
          </a:xfrm>
          <a:custGeom>
            <a:avLst/>
            <a:gdLst>
              <a:gd name="textAreaLeft" fmla="*/ 0 w 266760"/>
              <a:gd name="textAreaRight" fmla="*/ 267120 w 2667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68" h="176">
                <a:moveTo>
                  <a:pt x="14" y="0"/>
                </a:moveTo>
                <a:cubicBezTo>
                  <a:pt x="11" y="32"/>
                  <a:pt x="0" y="108"/>
                  <a:pt x="14" y="140"/>
                </a:cubicBezTo>
                <a:cubicBezTo>
                  <a:pt x="19" y="153"/>
                  <a:pt x="36" y="159"/>
                  <a:pt x="50" y="164"/>
                </a:cubicBezTo>
                <a:cubicBezTo>
                  <a:pt x="62" y="168"/>
                  <a:pt x="86" y="176"/>
                  <a:pt x="86" y="176"/>
                </a:cubicBezTo>
                <a:cubicBezTo>
                  <a:pt x="104" y="174"/>
                  <a:pt x="123" y="176"/>
                  <a:pt x="141" y="170"/>
                </a:cubicBezTo>
                <a:cubicBezTo>
                  <a:pt x="168" y="159"/>
                  <a:pt x="128" y="125"/>
                  <a:pt x="123" y="122"/>
                </a:cubicBezTo>
                <a:cubicBezTo>
                  <a:pt x="111" y="85"/>
                  <a:pt x="126" y="118"/>
                  <a:pt x="98" y="91"/>
                </a:cubicBezTo>
                <a:cubicBezTo>
                  <a:pt x="75" y="68"/>
                  <a:pt x="63" y="41"/>
                  <a:pt x="32" y="31"/>
                </a:cubicBezTo>
                <a:cubicBezTo>
                  <a:pt x="15" y="13"/>
                  <a:pt x="21" y="23"/>
                  <a:pt x="14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715000" y="28954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lten man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8580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5715000" y="43434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7242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equilibrated bl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19"/>
                </a:solidFill>
                <a:latin typeface="Arial"/>
              </a:rPr>
              <a:t>Accre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s the assembly of Earth from smaller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3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19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ans the separation of components within Earth during or after assembly - in this talk it will be primarily the “initial” differentiation (~4.4Ga or earlier)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Oval 2"/>
          <p:cNvSpPr/>
          <p:nvPr/>
        </p:nvSpPr>
        <p:spPr>
          <a:xfrm>
            <a:off x="6019920" y="3429000"/>
            <a:ext cx="99036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Importance of Hf-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371600" y="1981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8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f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8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   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~ 9 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743200" y="2500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ore-lo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1219320" y="2971800"/>
            <a:ext cx="1523880" cy="1371600"/>
          </a:xfrm>
          <a:prstGeom prst="ellipse">
            <a:avLst/>
          </a:prstGeom>
          <a:solidFill>
            <a:srgbClr val="ff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886200" y="36576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5791320" y="3200400"/>
            <a:ext cx="1447560" cy="1371600"/>
          </a:xfrm>
          <a:custGeom>
            <a:avLst/>
            <a:gdLst>
              <a:gd name="textAreaLeft" fmla="*/ 211680 w 1447560"/>
              <a:gd name="textAreaRight" fmla="*/ 1235880 w 1447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8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1219320" y="4724280"/>
            <a:ext cx="1523880" cy="1371600"/>
          </a:xfrm>
          <a:prstGeom prst="ellipse">
            <a:avLst/>
          </a:prstGeom>
          <a:solidFill>
            <a:srgbClr val="ff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6019920" y="4876920"/>
            <a:ext cx="1218960" cy="10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3924360" y="5105520"/>
            <a:ext cx="1143000" cy="304560"/>
          </a:xfrm>
          <a:prstGeom prst="rightArrow">
            <a:avLst>
              <a:gd name="adj1" fmla="val 50000"/>
              <a:gd name="adj2" fmla="val 93824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5791320" y="4724280"/>
            <a:ext cx="1447560" cy="1371600"/>
          </a:xfrm>
          <a:custGeom>
            <a:avLst/>
            <a:gdLst>
              <a:gd name="textAreaLeft" fmla="*/ 211680 w 1447560"/>
              <a:gd name="textAreaRight" fmla="*/ 1235880 w 1447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8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3657600" y="3962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rl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657600" y="55627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7543800" y="3657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8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7543800" y="510552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ex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 2"/>
          <p:cNvSpPr/>
          <p:nvPr/>
        </p:nvSpPr>
        <p:spPr>
          <a:xfrm>
            <a:off x="380880" y="1295280"/>
            <a:ext cx="121932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990720" y="14479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4"/>
          <p:cNvSpPr/>
          <p:nvPr/>
        </p:nvSpPr>
        <p:spPr>
          <a:xfrm>
            <a:off x="1219320" y="1828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reeform 5"/>
          <p:cNvSpPr/>
          <p:nvPr/>
        </p:nvSpPr>
        <p:spPr>
          <a:xfrm>
            <a:off x="609480" y="1600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6"/>
          <p:cNvSpPr/>
          <p:nvPr/>
        </p:nvSpPr>
        <p:spPr>
          <a:xfrm>
            <a:off x="914400" y="19810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609480" y="19051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2057400" y="1523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3733920" y="1295280"/>
            <a:ext cx="121896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4038480" y="1600200"/>
            <a:ext cx="609840" cy="6094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2209680" y="25146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arly differentiation event in Moon sized bo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12"/>
          <p:cNvSpPr/>
          <p:nvPr/>
        </p:nvSpPr>
        <p:spPr>
          <a:xfrm>
            <a:off x="3657600" y="3962520"/>
            <a:ext cx="1219320" cy="1218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3962520" y="4267080"/>
            <a:ext cx="609480" cy="6098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 rot="1479600">
            <a:off x="5181120" y="1981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 rot="20090400">
            <a:off x="525780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5257800" y="3124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l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Oval 17"/>
          <p:cNvSpPr/>
          <p:nvPr/>
        </p:nvSpPr>
        <p:spPr>
          <a:xfrm>
            <a:off x="6477120" y="2057400"/>
            <a:ext cx="1676160" cy="1676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8"/>
          <p:cNvSpPr/>
          <p:nvPr/>
        </p:nvSpPr>
        <p:spPr>
          <a:xfrm>
            <a:off x="6781680" y="2514600"/>
            <a:ext cx="1081080" cy="68112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681" h="429">
                <a:moveTo>
                  <a:pt x="210" y="54"/>
                </a:moveTo>
                <a:cubicBezTo>
                  <a:pt x="151" y="58"/>
                  <a:pt x="77" y="45"/>
                  <a:pt x="41" y="98"/>
                </a:cubicBezTo>
                <a:cubicBezTo>
                  <a:pt x="12" y="182"/>
                  <a:pt x="0" y="289"/>
                  <a:pt x="67" y="356"/>
                </a:cubicBezTo>
                <a:cubicBezTo>
                  <a:pt x="105" y="353"/>
                  <a:pt x="145" y="356"/>
                  <a:pt x="183" y="347"/>
                </a:cubicBezTo>
                <a:cubicBezTo>
                  <a:pt x="193" y="344"/>
                  <a:pt x="192" y="326"/>
                  <a:pt x="201" y="321"/>
                </a:cubicBezTo>
                <a:cubicBezTo>
                  <a:pt x="216" y="311"/>
                  <a:pt x="254" y="303"/>
                  <a:pt x="254" y="303"/>
                </a:cubicBezTo>
                <a:cubicBezTo>
                  <a:pt x="295" y="306"/>
                  <a:pt x="337" y="304"/>
                  <a:pt x="379" y="312"/>
                </a:cubicBezTo>
                <a:cubicBezTo>
                  <a:pt x="412" y="317"/>
                  <a:pt x="432" y="353"/>
                  <a:pt x="459" y="374"/>
                </a:cubicBezTo>
                <a:cubicBezTo>
                  <a:pt x="523" y="423"/>
                  <a:pt x="499" y="412"/>
                  <a:pt x="556" y="427"/>
                </a:cubicBezTo>
                <a:cubicBezTo>
                  <a:pt x="577" y="424"/>
                  <a:pt x="601" y="429"/>
                  <a:pt x="619" y="418"/>
                </a:cubicBezTo>
                <a:cubicBezTo>
                  <a:pt x="636" y="406"/>
                  <a:pt x="654" y="365"/>
                  <a:pt x="654" y="365"/>
                </a:cubicBezTo>
                <a:cubicBezTo>
                  <a:pt x="661" y="325"/>
                  <a:pt x="673" y="289"/>
                  <a:pt x="681" y="250"/>
                </a:cubicBezTo>
                <a:cubicBezTo>
                  <a:pt x="665" y="156"/>
                  <a:pt x="677" y="52"/>
                  <a:pt x="574" y="18"/>
                </a:cubicBezTo>
                <a:cubicBezTo>
                  <a:pt x="517" y="21"/>
                  <a:pt x="449" y="0"/>
                  <a:pt x="405" y="36"/>
                </a:cubicBezTo>
                <a:cubicBezTo>
                  <a:pt x="396" y="42"/>
                  <a:pt x="393" y="54"/>
                  <a:pt x="387" y="63"/>
                </a:cubicBezTo>
                <a:cubicBezTo>
                  <a:pt x="363" y="91"/>
                  <a:pt x="341" y="104"/>
                  <a:pt x="307" y="116"/>
                </a:cubicBezTo>
                <a:cubicBezTo>
                  <a:pt x="280" y="113"/>
                  <a:pt x="253" y="111"/>
                  <a:pt x="227" y="107"/>
                </a:cubicBezTo>
                <a:cubicBezTo>
                  <a:pt x="215" y="104"/>
                  <a:pt x="178" y="93"/>
                  <a:pt x="183" y="72"/>
                </a:cubicBezTo>
                <a:cubicBezTo>
                  <a:pt x="185" y="61"/>
                  <a:pt x="201" y="60"/>
                  <a:pt x="210" y="5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2286000" y="55627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  MERGING  EVENT (Hf-W timescal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lanet formation timesc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20"/>
          <p:cNvSpPr/>
          <p:nvPr/>
        </p:nvSpPr>
        <p:spPr>
          <a:xfrm>
            <a:off x="457200" y="3809880"/>
            <a:ext cx="121932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Freeform 21"/>
          <p:cNvSpPr/>
          <p:nvPr/>
        </p:nvSpPr>
        <p:spPr>
          <a:xfrm>
            <a:off x="1066680" y="39625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22"/>
          <p:cNvSpPr/>
          <p:nvPr/>
        </p:nvSpPr>
        <p:spPr>
          <a:xfrm>
            <a:off x="1295280" y="43434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23"/>
          <p:cNvSpPr/>
          <p:nvPr/>
        </p:nvSpPr>
        <p:spPr>
          <a:xfrm>
            <a:off x="685800" y="4114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Freeform 24"/>
          <p:cNvSpPr/>
          <p:nvPr/>
        </p:nvSpPr>
        <p:spPr>
          <a:xfrm>
            <a:off x="990720" y="44956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25"/>
          <p:cNvSpPr/>
          <p:nvPr/>
        </p:nvSpPr>
        <p:spPr>
          <a:xfrm>
            <a:off x="685800" y="44197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6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Oval 2"/>
          <p:cNvSpPr/>
          <p:nvPr/>
        </p:nvSpPr>
        <p:spPr>
          <a:xfrm>
            <a:off x="380880" y="1295280"/>
            <a:ext cx="121932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990720" y="14479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>
            <a:off x="1219320" y="1828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>
            <a:off x="609480" y="1600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>
            <a:off x="914400" y="19810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7"/>
          <p:cNvSpPr/>
          <p:nvPr/>
        </p:nvSpPr>
        <p:spPr>
          <a:xfrm>
            <a:off x="609480" y="19051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2057400" y="1523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3733920" y="1295280"/>
            <a:ext cx="121896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4038480" y="1600200"/>
            <a:ext cx="609840" cy="6094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2209680" y="251460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arly differentiation event in Moon sized bo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3657600" y="3962520"/>
            <a:ext cx="1219320" cy="1218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3962520" y="4267080"/>
            <a:ext cx="609480" cy="6098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4"/>
          <p:cNvSpPr/>
          <p:nvPr/>
        </p:nvSpPr>
        <p:spPr>
          <a:xfrm rot="1479600">
            <a:off x="5181120" y="1981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 rot="20090400">
            <a:off x="5257800" y="3809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257800" y="31240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ll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477120" y="2057400"/>
            <a:ext cx="1676160" cy="1676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600200" y="55627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ULSIFICATION DURING IMPACT (Hf-W timescal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lanet formation timescale provided emulsification is sufficiently small sc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19"/>
          <p:cNvSpPr/>
          <p:nvPr/>
        </p:nvSpPr>
        <p:spPr>
          <a:xfrm>
            <a:off x="6934320" y="23623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20"/>
          <p:cNvSpPr/>
          <p:nvPr/>
        </p:nvSpPr>
        <p:spPr>
          <a:xfrm>
            <a:off x="7238880" y="23623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21"/>
          <p:cNvSpPr/>
          <p:nvPr/>
        </p:nvSpPr>
        <p:spPr>
          <a:xfrm>
            <a:off x="7315200" y="2743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22"/>
          <p:cNvSpPr/>
          <p:nvPr/>
        </p:nvSpPr>
        <p:spPr>
          <a:xfrm>
            <a:off x="6705720" y="27432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23"/>
          <p:cNvSpPr/>
          <p:nvPr/>
        </p:nvSpPr>
        <p:spPr>
          <a:xfrm>
            <a:off x="7086600" y="29718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24"/>
          <p:cNvSpPr/>
          <p:nvPr/>
        </p:nvSpPr>
        <p:spPr>
          <a:xfrm>
            <a:off x="7620120" y="25146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25"/>
          <p:cNvSpPr/>
          <p:nvPr/>
        </p:nvSpPr>
        <p:spPr>
          <a:xfrm>
            <a:off x="7620120" y="31240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26"/>
          <p:cNvSpPr/>
          <p:nvPr/>
        </p:nvSpPr>
        <p:spPr>
          <a:xfrm>
            <a:off x="7467480" y="28954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27"/>
          <p:cNvSpPr/>
          <p:nvPr/>
        </p:nvSpPr>
        <p:spPr>
          <a:xfrm>
            <a:off x="7315200" y="32767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28"/>
          <p:cNvSpPr/>
          <p:nvPr/>
        </p:nvSpPr>
        <p:spPr>
          <a:xfrm>
            <a:off x="533520" y="3886200"/>
            <a:ext cx="1218960" cy="1219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29"/>
          <p:cNvSpPr/>
          <p:nvPr/>
        </p:nvSpPr>
        <p:spPr>
          <a:xfrm>
            <a:off x="1143000" y="40384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30"/>
          <p:cNvSpPr/>
          <p:nvPr/>
        </p:nvSpPr>
        <p:spPr>
          <a:xfrm>
            <a:off x="1371600" y="44197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reeform 31"/>
          <p:cNvSpPr/>
          <p:nvPr/>
        </p:nvSpPr>
        <p:spPr>
          <a:xfrm>
            <a:off x="762120" y="419112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Freeform 32"/>
          <p:cNvSpPr/>
          <p:nvPr/>
        </p:nvSpPr>
        <p:spPr>
          <a:xfrm>
            <a:off x="1066680" y="457200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Freeform 33"/>
          <p:cNvSpPr/>
          <p:nvPr/>
        </p:nvSpPr>
        <p:spPr>
          <a:xfrm>
            <a:off x="762120" y="4495680"/>
            <a:ext cx="177840" cy="266760"/>
          </a:xfrm>
          <a:custGeom>
            <a:avLst/>
            <a:gdLst>
              <a:gd name="textAreaLeft" fmla="*/ 0 w 177840"/>
              <a:gd name="textAreaRight" fmla="*/ 177840 w 177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2" h="168">
                <a:moveTo>
                  <a:pt x="56" y="0"/>
                </a:moveTo>
                <a:cubicBezTo>
                  <a:pt x="40" y="0"/>
                  <a:pt x="0" y="120"/>
                  <a:pt x="8" y="144"/>
                </a:cubicBezTo>
                <a:cubicBezTo>
                  <a:pt x="16" y="168"/>
                  <a:pt x="96" y="168"/>
                  <a:pt x="104" y="144"/>
                </a:cubicBezTo>
                <a:cubicBezTo>
                  <a:pt x="112" y="120"/>
                  <a:pt x="72" y="0"/>
                  <a:pt x="56" y="0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34"/>
          <p:cNvSpPr/>
          <p:nvPr/>
        </p:nvSpPr>
        <p:spPr>
          <a:xfrm>
            <a:off x="205740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Quantitative Interpretation of </a:t>
            </a:r>
            <a:r>
              <a:rPr b="0" lang="en-US" sz="4400" spc="-1" strike="noStrike">
                <a:solidFill>
                  <a:srgbClr val="ffff99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533520" y="29718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dritic referenc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Early core formati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&gt;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 core formati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7c0c"/>
                </a:solidFill>
                <a:latin typeface="Times New Roman"/>
              </a:rPr>
              <a:t>Earth observation is  </a:t>
            </a:r>
            <a:r>
              <a:rPr b="1" lang="en-US" sz="2400" spc="-1" strike="noStrike">
                <a:solidFill>
                  <a:srgbClr val="e87c0c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e87c0c"/>
                </a:solidFill>
                <a:latin typeface="Times New Roman"/>
              </a:rPr>
              <a:t>=1.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combinations of events can give this value.. but the likely inference is that the last major core forming events occurred ~50 Ma (last giant impact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682800" cy="8510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4386240" y="2286000"/>
            <a:ext cx="685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HU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Superhe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excess entropy of the core relative to the entropy of the same liquid material at melting point &amp; and 1 b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s to about 1000K for present Earth, may have been as much as 2000K for early Ear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diagnostic of core formation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it argues against percolation and small diapi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 flipV="1">
            <a:off x="472428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4724280" y="53341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47242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7696080" y="5562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Freeform 8"/>
          <p:cNvSpPr/>
          <p:nvPr/>
        </p:nvSpPr>
        <p:spPr>
          <a:xfrm>
            <a:off x="4724280" y="2666880"/>
            <a:ext cx="2819520" cy="20574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776" h="1304">
                <a:moveTo>
                  <a:pt x="0" y="1304"/>
                </a:moveTo>
                <a:cubicBezTo>
                  <a:pt x="24" y="1048"/>
                  <a:pt x="48" y="792"/>
                  <a:pt x="288" y="632"/>
                </a:cubicBezTo>
                <a:cubicBezTo>
                  <a:pt x="528" y="472"/>
                  <a:pt x="1200" y="440"/>
                  <a:pt x="1440" y="344"/>
                </a:cubicBezTo>
                <a:cubicBezTo>
                  <a:pt x="1680" y="248"/>
                  <a:pt x="1680" y="112"/>
                  <a:pt x="1728" y="56"/>
                </a:cubicBezTo>
                <a:cubicBezTo>
                  <a:pt x="1776" y="0"/>
                  <a:pt x="1728" y="16"/>
                  <a:pt x="17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 flipV="1">
            <a:off x="7467480" y="2514240"/>
            <a:ext cx="12193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 flipV="1">
            <a:off x="5257800" y="2971800"/>
            <a:ext cx="3352680" cy="45720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1"/>
          <p:cNvSpPr/>
          <p:nvPr/>
        </p:nvSpPr>
        <p:spPr>
          <a:xfrm flipV="1">
            <a:off x="7391520" y="1981080"/>
            <a:ext cx="1295280" cy="152640"/>
          </a:xfrm>
          <a:prstGeom prst="line">
            <a:avLst/>
          </a:prstGeom>
          <a:ln w="38160">
            <a:solidFill>
              <a:srgbClr val="8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7696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13"/>
          <p:cNvSpPr/>
          <p:nvPr/>
        </p:nvSpPr>
        <p:spPr>
          <a:xfrm>
            <a:off x="6629400" y="213372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5638680" y="17524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re Superhe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>
            <a:off x="7848720" y="16765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7010280" y="1371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arly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 flipH="1" flipV="1">
            <a:off x="6019560" y="342864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6629400" y="39625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sent mantle and c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19"/>
          <p:cNvSpPr/>
          <p:nvPr/>
        </p:nvSpPr>
        <p:spPr>
          <a:xfrm flipH="1" flipV="1">
            <a:off x="8001000" y="3048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6934320" y="35053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diabat of core allo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5486400" y="3124080"/>
            <a:ext cx="1371600" cy="68580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“Inevitability” of a Magma Ocea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accretional energy prevents immediate re-radiation - a chill crust can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esence of sufficient atmosphere (e.g., steam), the magma ocean is protec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mantle can easily freeze because of pressure - this limits magma ocean dep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5029200" y="2666880"/>
            <a:ext cx="2743200" cy="177840"/>
          </a:xfrm>
          <a:custGeom>
            <a:avLst/>
            <a:gdLst/>
            <a:ahLst/>
            <a:rect l="l" t="t" r="r" b="b"/>
            <a:pathLst>
              <a:path w="1728" h="112">
                <a:moveTo>
                  <a:pt x="0" y="64"/>
                </a:moveTo>
                <a:cubicBezTo>
                  <a:pt x="124" y="44"/>
                  <a:pt x="248" y="24"/>
                  <a:pt x="384" y="16"/>
                </a:cubicBezTo>
                <a:cubicBezTo>
                  <a:pt x="520" y="8"/>
                  <a:pt x="688" y="16"/>
                  <a:pt x="816" y="16"/>
                </a:cubicBezTo>
                <a:cubicBezTo>
                  <a:pt x="944" y="16"/>
                  <a:pt x="1000" y="0"/>
                  <a:pt x="1152" y="16"/>
                </a:cubicBezTo>
                <a:cubicBezTo>
                  <a:pt x="1304" y="32"/>
                  <a:pt x="1632" y="96"/>
                  <a:pt x="1728" y="1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6"/>
          <p:cNvSpPr/>
          <p:nvPr/>
        </p:nvSpPr>
        <p:spPr>
          <a:xfrm>
            <a:off x="5029200" y="3962520"/>
            <a:ext cx="2743200" cy="177840"/>
          </a:xfrm>
          <a:custGeom>
            <a:avLst/>
            <a:gdLst/>
            <a:ahLst/>
            <a:rect l="l" t="t" r="r" b="b"/>
            <a:pathLst>
              <a:path w="1728" h="112">
                <a:moveTo>
                  <a:pt x="0" y="64"/>
                </a:moveTo>
                <a:cubicBezTo>
                  <a:pt x="124" y="44"/>
                  <a:pt x="248" y="24"/>
                  <a:pt x="384" y="16"/>
                </a:cubicBezTo>
                <a:cubicBezTo>
                  <a:pt x="520" y="8"/>
                  <a:pt x="688" y="16"/>
                  <a:pt x="816" y="16"/>
                </a:cubicBezTo>
                <a:cubicBezTo>
                  <a:pt x="944" y="16"/>
                  <a:pt x="1000" y="0"/>
                  <a:pt x="1152" y="16"/>
                </a:cubicBezTo>
                <a:cubicBezTo>
                  <a:pt x="1304" y="32"/>
                  <a:pt x="1632" y="96"/>
                  <a:pt x="1728" y="1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7238880" y="2666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5181480" y="3276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ma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5029200" y="4267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zen (but very hot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739152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7391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500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2"/>
          <p:cNvSpPr/>
          <p:nvPr/>
        </p:nvSpPr>
        <p:spPr>
          <a:xfrm>
            <a:off x="5029200" y="2209680"/>
            <a:ext cx="2743200" cy="177840"/>
          </a:xfrm>
          <a:custGeom>
            <a:avLst/>
            <a:gdLst/>
            <a:ahLst/>
            <a:rect l="l" t="t" r="r" b="b"/>
            <a:pathLst>
              <a:path w="1728" h="112">
                <a:moveTo>
                  <a:pt x="0" y="64"/>
                </a:moveTo>
                <a:cubicBezTo>
                  <a:pt x="124" y="44"/>
                  <a:pt x="248" y="24"/>
                  <a:pt x="384" y="16"/>
                </a:cubicBezTo>
                <a:cubicBezTo>
                  <a:pt x="520" y="8"/>
                  <a:pt x="688" y="16"/>
                  <a:pt x="816" y="16"/>
                </a:cubicBezTo>
                <a:cubicBezTo>
                  <a:pt x="944" y="16"/>
                  <a:pt x="1000" y="0"/>
                  <a:pt x="1152" y="16"/>
                </a:cubicBezTo>
                <a:cubicBezTo>
                  <a:pt x="1304" y="32"/>
                  <a:pt x="1632" y="96"/>
                  <a:pt x="1728" y="112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4952880" y="1752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am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in the Mant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4800600" y="2057400"/>
            <a:ext cx="99072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"/>
          <p:cNvSpPr/>
          <p:nvPr/>
        </p:nvSpPr>
        <p:spPr>
          <a:xfrm flipH="1">
            <a:off x="7391160" y="1981080"/>
            <a:ext cx="11430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Freeform 5"/>
          <p:cNvSpPr/>
          <p:nvPr/>
        </p:nvSpPr>
        <p:spPr>
          <a:xfrm>
            <a:off x="5334120" y="3809880"/>
            <a:ext cx="2590560" cy="2286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536" h="104">
                <a:moveTo>
                  <a:pt x="0" y="104"/>
                </a:moveTo>
                <a:cubicBezTo>
                  <a:pt x="68" y="88"/>
                  <a:pt x="136" y="72"/>
                  <a:pt x="240" y="56"/>
                </a:cubicBezTo>
                <a:cubicBezTo>
                  <a:pt x="344" y="40"/>
                  <a:pt x="512" y="16"/>
                  <a:pt x="624" y="8"/>
                </a:cubicBezTo>
                <a:cubicBezTo>
                  <a:pt x="736" y="0"/>
                  <a:pt x="800" y="0"/>
                  <a:pt x="912" y="8"/>
                </a:cubicBezTo>
                <a:cubicBezTo>
                  <a:pt x="1024" y="16"/>
                  <a:pt x="1192" y="40"/>
                  <a:pt x="1296" y="56"/>
                </a:cubicBezTo>
                <a:cubicBezTo>
                  <a:pt x="1400" y="72"/>
                  <a:pt x="1496" y="96"/>
                  <a:pt x="1536" y="1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6781680" y="2286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6934320" y="31240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7086600" y="3276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7238880" y="3429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7391520" y="3581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5562720" y="30481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5410080" y="2286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6095880" y="3124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4"/>
          <p:cNvSpPr/>
          <p:nvPr/>
        </p:nvSpPr>
        <p:spPr>
          <a:xfrm>
            <a:off x="6248520" y="32767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5"/>
          <p:cNvSpPr/>
          <p:nvPr/>
        </p:nvSpPr>
        <p:spPr>
          <a:xfrm>
            <a:off x="6400800" y="3429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6553080" y="3581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7315200" y="3733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18"/>
          <p:cNvSpPr/>
          <p:nvPr/>
        </p:nvSpPr>
        <p:spPr>
          <a:xfrm>
            <a:off x="6629400" y="2666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19"/>
          <p:cNvSpPr/>
          <p:nvPr/>
        </p:nvSpPr>
        <p:spPr>
          <a:xfrm>
            <a:off x="6553080" y="3200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0"/>
          <p:cNvSpPr/>
          <p:nvPr/>
        </p:nvSpPr>
        <p:spPr>
          <a:xfrm>
            <a:off x="6705720" y="33526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21"/>
          <p:cNvSpPr/>
          <p:nvPr/>
        </p:nvSpPr>
        <p:spPr>
          <a:xfrm>
            <a:off x="6858000" y="3505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22"/>
          <p:cNvSpPr/>
          <p:nvPr/>
        </p:nvSpPr>
        <p:spPr>
          <a:xfrm>
            <a:off x="701028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6386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24"/>
          <p:cNvSpPr/>
          <p:nvPr/>
        </p:nvSpPr>
        <p:spPr>
          <a:xfrm>
            <a:off x="5715000" y="3200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25"/>
          <p:cNvSpPr/>
          <p:nvPr/>
        </p:nvSpPr>
        <p:spPr>
          <a:xfrm>
            <a:off x="5867280" y="3352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26"/>
          <p:cNvSpPr/>
          <p:nvPr/>
        </p:nvSpPr>
        <p:spPr>
          <a:xfrm>
            <a:off x="6019920" y="35053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27"/>
          <p:cNvSpPr/>
          <p:nvPr/>
        </p:nvSpPr>
        <p:spPr>
          <a:xfrm>
            <a:off x="617220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28"/>
          <p:cNvSpPr/>
          <p:nvPr/>
        </p:nvSpPr>
        <p:spPr>
          <a:xfrm>
            <a:off x="640080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29"/>
          <p:cNvSpPr/>
          <p:nvPr/>
        </p:nvSpPr>
        <p:spPr>
          <a:xfrm>
            <a:off x="5791320" y="3581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30"/>
          <p:cNvSpPr/>
          <p:nvPr/>
        </p:nvSpPr>
        <p:spPr>
          <a:xfrm>
            <a:off x="5943600" y="3733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31"/>
          <p:cNvSpPr/>
          <p:nvPr/>
        </p:nvSpPr>
        <p:spPr>
          <a:xfrm>
            <a:off x="6172200" y="3505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32"/>
          <p:cNvSpPr/>
          <p:nvPr/>
        </p:nvSpPr>
        <p:spPr>
          <a:xfrm>
            <a:off x="5562720" y="2438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33"/>
          <p:cNvSpPr/>
          <p:nvPr/>
        </p:nvSpPr>
        <p:spPr>
          <a:xfrm>
            <a:off x="5715000" y="2590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34"/>
          <p:cNvSpPr/>
          <p:nvPr/>
        </p:nvSpPr>
        <p:spPr>
          <a:xfrm>
            <a:off x="5867280" y="2743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35"/>
          <p:cNvSpPr/>
          <p:nvPr/>
        </p:nvSpPr>
        <p:spPr>
          <a:xfrm>
            <a:off x="6019920" y="2895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36"/>
          <p:cNvSpPr/>
          <p:nvPr/>
        </p:nvSpPr>
        <p:spPr>
          <a:xfrm>
            <a:off x="5410080" y="2666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37"/>
          <p:cNvSpPr/>
          <p:nvPr/>
        </p:nvSpPr>
        <p:spPr>
          <a:xfrm>
            <a:off x="5257800" y="3200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38"/>
          <p:cNvSpPr/>
          <p:nvPr/>
        </p:nvSpPr>
        <p:spPr>
          <a:xfrm>
            <a:off x="5334120" y="34290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39"/>
          <p:cNvSpPr/>
          <p:nvPr/>
        </p:nvSpPr>
        <p:spPr>
          <a:xfrm>
            <a:off x="5410080" y="3657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40"/>
          <p:cNvSpPr/>
          <p:nvPr/>
        </p:nvSpPr>
        <p:spPr>
          <a:xfrm>
            <a:off x="5257800" y="2819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41"/>
          <p:cNvSpPr/>
          <p:nvPr/>
        </p:nvSpPr>
        <p:spPr>
          <a:xfrm>
            <a:off x="640080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42"/>
          <p:cNvSpPr/>
          <p:nvPr/>
        </p:nvSpPr>
        <p:spPr>
          <a:xfrm>
            <a:off x="75438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43"/>
          <p:cNvSpPr/>
          <p:nvPr/>
        </p:nvSpPr>
        <p:spPr>
          <a:xfrm>
            <a:off x="64008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44"/>
          <p:cNvSpPr/>
          <p:nvPr/>
        </p:nvSpPr>
        <p:spPr>
          <a:xfrm>
            <a:off x="701028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45"/>
          <p:cNvSpPr/>
          <p:nvPr/>
        </p:nvSpPr>
        <p:spPr>
          <a:xfrm>
            <a:off x="632448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46"/>
          <p:cNvSpPr/>
          <p:nvPr/>
        </p:nvSpPr>
        <p:spPr>
          <a:xfrm>
            <a:off x="6019920" y="41911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73152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48"/>
          <p:cNvSpPr/>
          <p:nvPr/>
        </p:nvSpPr>
        <p:spPr>
          <a:xfrm>
            <a:off x="6248520" y="44197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49"/>
          <p:cNvSpPr/>
          <p:nvPr/>
        </p:nvSpPr>
        <p:spPr>
          <a:xfrm>
            <a:off x="678168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50"/>
          <p:cNvSpPr/>
          <p:nvPr/>
        </p:nvSpPr>
        <p:spPr>
          <a:xfrm>
            <a:off x="609588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51"/>
          <p:cNvSpPr/>
          <p:nvPr/>
        </p:nvSpPr>
        <p:spPr>
          <a:xfrm>
            <a:off x="6477120" y="46483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52"/>
          <p:cNvSpPr/>
          <p:nvPr/>
        </p:nvSpPr>
        <p:spPr>
          <a:xfrm>
            <a:off x="5791320" y="41911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53"/>
          <p:cNvSpPr/>
          <p:nvPr/>
        </p:nvSpPr>
        <p:spPr>
          <a:xfrm>
            <a:off x="586728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54"/>
          <p:cNvSpPr/>
          <p:nvPr/>
        </p:nvSpPr>
        <p:spPr>
          <a:xfrm>
            <a:off x="59436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55"/>
          <p:cNvSpPr/>
          <p:nvPr/>
        </p:nvSpPr>
        <p:spPr>
          <a:xfrm>
            <a:off x="655308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56"/>
          <p:cNvSpPr/>
          <p:nvPr/>
        </p:nvSpPr>
        <p:spPr>
          <a:xfrm>
            <a:off x="7162920" y="44956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57"/>
          <p:cNvSpPr/>
          <p:nvPr/>
        </p:nvSpPr>
        <p:spPr>
          <a:xfrm>
            <a:off x="7391520" y="45720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58"/>
          <p:cNvSpPr/>
          <p:nvPr/>
        </p:nvSpPr>
        <p:spPr>
          <a:xfrm>
            <a:off x="594360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59"/>
          <p:cNvSpPr/>
          <p:nvPr/>
        </p:nvSpPr>
        <p:spPr>
          <a:xfrm>
            <a:off x="617220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60"/>
          <p:cNvSpPr/>
          <p:nvPr/>
        </p:nvSpPr>
        <p:spPr>
          <a:xfrm>
            <a:off x="64771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61"/>
          <p:cNvSpPr/>
          <p:nvPr/>
        </p:nvSpPr>
        <p:spPr>
          <a:xfrm>
            <a:off x="63244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62"/>
          <p:cNvSpPr/>
          <p:nvPr/>
        </p:nvSpPr>
        <p:spPr>
          <a:xfrm>
            <a:off x="65530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63"/>
          <p:cNvSpPr/>
          <p:nvPr/>
        </p:nvSpPr>
        <p:spPr>
          <a:xfrm>
            <a:off x="72388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4"/>
          <p:cNvSpPr/>
          <p:nvPr/>
        </p:nvSpPr>
        <p:spPr>
          <a:xfrm>
            <a:off x="7543800" y="41148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65"/>
          <p:cNvSpPr/>
          <p:nvPr/>
        </p:nvSpPr>
        <p:spPr>
          <a:xfrm>
            <a:off x="53341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66"/>
          <p:cNvSpPr/>
          <p:nvPr/>
        </p:nvSpPr>
        <p:spPr>
          <a:xfrm>
            <a:off x="746748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67"/>
          <p:cNvSpPr/>
          <p:nvPr/>
        </p:nvSpPr>
        <p:spPr>
          <a:xfrm>
            <a:off x="5715000" y="42670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68"/>
          <p:cNvSpPr/>
          <p:nvPr/>
        </p:nvSpPr>
        <p:spPr>
          <a:xfrm>
            <a:off x="5715000" y="44197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69"/>
          <p:cNvSpPr/>
          <p:nvPr/>
        </p:nvSpPr>
        <p:spPr>
          <a:xfrm>
            <a:off x="571500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70"/>
          <p:cNvSpPr/>
          <p:nvPr/>
        </p:nvSpPr>
        <p:spPr>
          <a:xfrm>
            <a:off x="594360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71"/>
          <p:cNvSpPr/>
          <p:nvPr/>
        </p:nvSpPr>
        <p:spPr>
          <a:xfrm>
            <a:off x="685800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72"/>
          <p:cNvSpPr/>
          <p:nvPr/>
        </p:nvSpPr>
        <p:spPr>
          <a:xfrm>
            <a:off x="7391520" y="39625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73"/>
          <p:cNvSpPr/>
          <p:nvPr/>
        </p:nvSpPr>
        <p:spPr>
          <a:xfrm>
            <a:off x="67816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74"/>
          <p:cNvSpPr/>
          <p:nvPr/>
        </p:nvSpPr>
        <p:spPr>
          <a:xfrm>
            <a:off x="65530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75"/>
          <p:cNvSpPr/>
          <p:nvPr/>
        </p:nvSpPr>
        <p:spPr>
          <a:xfrm>
            <a:off x="548640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76"/>
          <p:cNvSpPr/>
          <p:nvPr/>
        </p:nvSpPr>
        <p:spPr>
          <a:xfrm>
            <a:off x="5486400" y="44956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77"/>
          <p:cNvSpPr/>
          <p:nvPr/>
        </p:nvSpPr>
        <p:spPr>
          <a:xfrm>
            <a:off x="548640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78"/>
          <p:cNvSpPr/>
          <p:nvPr/>
        </p:nvSpPr>
        <p:spPr>
          <a:xfrm>
            <a:off x="662940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79"/>
          <p:cNvSpPr/>
          <p:nvPr/>
        </p:nvSpPr>
        <p:spPr>
          <a:xfrm>
            <a:off x="7010280" y="45720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80"/>
          <p:cNvSpPr/>
          <p:nvPr/>
        </p:nvSpPr>
        <p:spPr>
          <a:xfrm>
            <a:off x="7620120" y="39625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81"/>
          <p:cNvSpPr/>
          <p:nvPr/>
        </p:nvSpPr>
        <p:spPr>
          <a:xfrm>
            <a:off x="723888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82"/>
          <p:cNvSpPr/>
          <p:nvPr/>
        </p:nvSpPr>
        <p:spPr>
          <a:xfrm>
            <a:off x="548640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83"/>
          <p:cNvSpPr/>
          <p:nvPr/>
        </p:nvSpPr>
        <p:spPr>
          <a:xfrm>
            <a:off x="60199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84"/>
          <p:cNvSpPr/>
          <p:nvPr/>
        </p:nvSpPr>
        <p:spPr>
          <a:xfrm>
            <a:off x="6248520" y="41148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85"/>
          <p:cNvSpPr/>
          <p:nvPr/>
        </p:nvSpPr>
        <p:spPr>
          <a:xfrm>
            <a:off x="609588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86"/>
          <p:cNvSpPr/>
          <p:nvPr/>
        </p:nvSpPr>
        <p:spPr>
          <a:xfrm>
            <a:off x="6705720" y="43434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87"/>
          <p:cNvSpPr/>
          <p:nvPr/>
        </p:nvSpPr>
        <p:spPr>
          <a:xfrm>
            <a:off x="685800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88"/>
          <p:cNvSpPr/>
          <p:nvPr/>
        </p:nvSpPr>
        <p:spPr>
          <a:xfrm>
            <a:off x="7086600" y="43434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89"/>
          <p:cNvSpPr/>
          <p:nvPr/>
        </p:nvSpPr>
        <p:spPr>
          <a:xfrm>
            <a:off x="701028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90"/>
          <p:cNvSpPr/>
          <p:nvPr/>
        </p:nvSpPr>
        <p:spPr>
          <a:xfrm>
            <a:off x="640080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91"/>
          <p:cNvSpPr/>
          <p:nvPr/>
        </p:nvSpPr>
        <p:spPr>
          <a:xfrm>
            <a:off x="6553080" y="39625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92"/>
          <p:cNvSpPr/>
          <p:nvPr/>
        </p:nvSpPr>
        <p:spPr>
          <a:xfrm>
            <a:off x="6629400" y="41148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93"/>
          <p:cNvSpPr/>
          <p:nvPr/>
        </p:nvSpPr>
        <p:spPr>
          <a:xfrm>
            <a:off x="67816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94"/>
          <p:cNvSpPr/>
          <p:nvPr/>
        </p:nvSpPr>
        <p:spPr>
          <a:xfrm>
            <a:off x="70102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95"/>
          <p:cNvSpPr/>
          <p:nvPr/>
        </p:nvSpPr>
        <p:spPr>
          <a:xfrm>
            <a:off x="7315200" y="41148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96"/>
          <p:cNvSpPr/>
          <p:nvPr/>
        </p:nvSpPr>
        <p:spPr>
          <a:xfrm>
            <a:off x="60958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97"/>
          <p:cNvSpPr/>
          <p:nvPr/>
        </p:nvSpPr>
        <p:spPr>
          <a:xfrm>
            <a:off x="6324480" y="3809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98"/>
          <p:cNvSpPr/>
          <p:nvPr/>
        </p:nvSpPr>
        <p:spPr>
          <a:xfrm>
            <a:off x="6781680" y="40384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99"/>
          <p:cNvSpPr/>
          <p:nvPr/>
        </p:nvSpPr>
        <p:spPr>
          <a:xfrm>
            <a:off x="69343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100"/>
          <p:cNvSpPr/>
          <p:nvPr/>
        </p:nvSpPr>
        <p:spPr>
          <a:xfrm>
            <a:off x="71629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101"/>
          <p:cNvSpPr/>
          <p:nvPr/>
        </p:nvSpPr>
        <p:spPr>
          <a:xfrm>
            <a:off x="5410080" y="41911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102"/>
          <p:cNvSpPr/>
          <p:nvPr/>
        </p:nvSpPr>
        <p:spPr>
          <a:xfrm>
            <a:off x="55627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103"/>
          <p:cNvSpPr/>
          <p:nvPr/>
        </p:nvSpPr>
        <p:spPr>
          <a:xfrm>
            <a:off x="5715000" y="3886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04"/>
          <p:cNvSpPr/>
          <p:nvPr/>
        </p:nvSpPr>
        <p:spPr>
          <a:xfrm>
            <a:off x="5791320" y="40384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05"/>
          <p:cNvSpPr/>
          <p:nvPr/>
        </p:nvSpPr>
        <p:spPr>
          <a:xfrm>
            <a:off x="563868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106"/>
          <p:cNvSpPr/>
          <p:nvPr/>
        </p:nvSpPr>
        <p:spPr>
          <a:xfrm>
            <a:off x="55627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07"/>
          <p:cNvSpPr/>
          <p:nvPr/>
        </p:nvSpPr>
        <p:spPr>
          <a:xfrm>
            <a:off x="571500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108"/>
          <p:cNvSpPr/>
          <p:nvPr/>
        </p:nvSpPr>
        <p:spPr>
          <a:xfrm>
            <a:off x="5791320" y="48006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109"/>
          <p:cNvSpPr/>
          <p:nvPr/>
        </p:nvSpPr>
        <p:spPr>
          <a:xfrm>
            <a:off x="6019920" y="48006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110"/>
          <p:cNvSpPr/>
          <p:nvPr/>
        </p:nvSpPr>
        <p:spPr>
          <a:xfrm>
            <a:off x="60199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111"/>
          <p:cNvSpPr/>
          <p:nvPr/>
        </p:nvSpPr>
        <p:spPr>
          <a:xfrm>
            <a:off x="5791320" y="46483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112"/>
          <p:cNvSpPr/>
          <p:nvPr/>
        </p:nvSpPr>
        <p:spPr>
          <a:xfrm>
            <a:off x="594360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113"/>
          <p:cNvSpPr/>
          <p:nvPr/>
        </p:nvSpPr>
        <p:spPr>
          <a:xfrm>
            <a:off x="6400800" y="4800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114"/>
          <p:cNvSpPr/>
          <p:nvPr/>
        </p:nvSpPr>
        <p:spPr>
          <a:xfrm>
            <a:off x="5715000" y="4952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15"/>
          <p:cNvSpPr/>
          <p:nvPr/>
        </p:nvSpPr>
        <p:spPr>
          <a:xfrm>
            <a:off x="586728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16"/>
          <p:cNvSpPr/>
          <p:nvPr/>
        </p:nvSpPr>
        <p:spPr>
          <a:xfrm>
            <a:off x="62485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17"/>
          <p:cNvSpPr/>
          <p:nvPr/>
        </p:nvSpPr>
        <p:spPr>
          <a:xfrm>
            <a:off x="609588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18"/>
          <p:cNvSpPr/>
          <p:nvPr/>
        </p:nvSpPr>
        <p:spPr>
          <a:xfrm>
            <a:off x="5562720" y="48769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119"/>
          <p:cNvSpPr/>
          <p:nvPr/>
        </p:nvSpPr>
        <p:spPr>
          <a:xfrm>
            <a:off x="61722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20"/>
          <p:cNvSpPr/>
          <p:nvPr/>
        </p:nvSpPr>
        <p:spPr>
          <a:xfrm>
            <a:off x="6781680" y="4952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21"/>
          <p:cNvSpPr/>
          <p:nvPr/>
        </p:nvSpPr>
        <p:spPr>
          <a:xfrm>
            <a:off x="56386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22"/>
          <p:cNvSpPr/>
          <p:nvPr/>
        </p:nvSpPr>
        <p:spPr>
          <a:xfrm>
            <a:off x="72388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123"/>
          <p:cNvSpPr/>
          <p:nvPr/>
        </p:nvSpPr>
        <p:spPr>
          <a:xfrm>
            <a:off x="62485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124"/>
          <p:cNvSpPr/>
          <p:nvPr/>
        </p:nvSpPr>
        <p:spPr>
          <a:xfrm>
            <a:off x="64008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25"/>
          <p:cNvSpPr/>
          <p:nvPr/>
        </p:nvSpPr>
        <p:spPr>
          <a:xfrm>
            <a:off x="66294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126"/>
          <p:cNvSpPr/>
          <p:nvPr/>
        </p:nvSpPr>
        <p:spPr>
          <a:xfrm>
            <a:off x="64771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27"/>
          <p:cNvSpPr/>
          <p:nvPr/>
        </p:nvSpPr>
        <p:spPr>
          <a:xfrm>
            <a:off x="7391520" y="510552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28"/>
          <p:cNvSpPr/>
          <p:nvPr/>
        </p:nvSpPr>
        <p:spPr>
          <a:xfrm>
            <a:off x="685800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129"/>
          <p:cNvSpPr/>
          <p:nvPr/>
        </p:nvSpPr>
        <p:spPr>
          <a:xfrm>
            <a:off x="662940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130"/>
          <p:cNvSpPr/>
          <p:nvPr/>
        </p:nvSpPr>
        <p:spPr>
          <a:xfrm>
            <a:off x="6629400" y="4800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131"/>
          <p:cNvSpPr/>
          <p:nvPr/>
        </p:nvSpPr>
        <p:spPr>
          <a:xfrm>
            <a:off x="6858000" y="48006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132"/>
          <p:cNvSpPr/>
          <p:nvPr/>
        </p:nvSpPr>
        <p:spPr>
          <a:xfrm>
            <a:off x="73152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133"/>
          <p:cNvSpPr/>
          <p:nvPr/>
        </p:nvSpPr>
        <p:spPr>
          <a:xfrm>
            <a:off x="746748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134"/>
          <p:cNvSpPr/>
          <p:nvPr/>
        </p:nvSpPr>
        <p:spPr>
          <a:xfrm>
            <a:off x="708660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135"/>
          <p:cNvSpPr/>
          <p:nvPr/>
        </p:nvSpPr>
        <p:spPr>
          <a:xfrm>
            <a:off x="678168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136"/>
          <p:cNvSpPr/>
          <p:nvPr/>
        </p:nvSpPr>
        <p:spPr>
          <a:xfrm>
            <a:off x="69343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137"/>
          <p:cNvSpPr/>
          <p:nvPr/>
        </p:nvSpPr>
        <p:spPr>
          <a:xfrm>
            <a:off x="7086600" y="48769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38"/>
          <p:cNvSpPr/>
          <p:nvPr/>
        </p:nvSpPr>
        <p:spPr>
          <a:xfrm>
            <a:off x="7238880" y="49528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39"/>
          <p:cNvSpPr/>
          <p:nvPr/>
        </p:nvSpPr>
        <p:spPr>
          <a:xfrm>
            <a:off x="7391520" y="49528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40"/>
          <p:cNvSpPr/>
          <p:nvPr/>
        </p:nvSpPr>
        <p:spPr>
          <a:xfrm>
            <a:off x="63244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41"/>
          <p:cNvSpPr/>
          <p:nvPr/>
        </p:nvSpPr>
        <p:spPr>
          <a:xfrm>
            <a:off x="5867280" y="502920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42"/>
          <p:cNvSpPr/>
          <p:nvPr/>
        </p:nvSpPr>
        <p:spPr>
          <a:xfrm>
            <a:off x="7010280" y="4724280"/>
            <a:ext cx="22392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43"/>
          <p:cNvSpPr/>
          <p:nvPr/>
        </p:nvSpPr>
        <p:spPr>
          <a:xfrm>
            <a:off x="71629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44"/>
          <p:cNvSpPr/>
          <p:nvPr/>
        </p:nvSpPr>
        <p:spPr>
          <a:xfrm>
            <a:off x="7391520" y="4724280"/>
            <a:ext cx="223560" cy="15264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145"/>
          <p:cNvSpPr/>
          <p:nvPr/>
        </p:nvSpPr>
        <p:spPr>
          <a:xfrm>
            <a:off x="7162920" y="4572000"/>
            <a:ext cx="22356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146"/>
          <p:cNvSpPr/>
          <p:nvPr/>
        </p:nvSpPr>
        <p:spPr>
          <a:xfrm>
            <a:off x="723888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147"/>
          <p:cNvSpPr/>
          <p:nvPr/>
        </p:nvSpPr>
        <p:spPr>
          <a:xfrm>
            <a:off x="7543800" y="4648320"/>
            <a:ext cx="223920" cy="15228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148"/>
          <p:cNvSpPr/>
          <p:nvPr/>
        </p:nvSpPr>
        <p:spPr>
          <a:xfrm>
            <a:off x="5638680" y="5168880"/>
            <a:ext cx="1981440" cy="889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248" h="56">
                <a:moveTo>
                  <a:pt x="0" y="56"/>
                </a:moveTo>
                <a:cubicBezTo>
                  <a:pt x="100" y="36"/>
                  <a:pt x="200" y="16"/>
                  <a:pt x="288" y="8"/>
                </a:cubicBezTo>
                <a:cubicBezTo>
                  <a:pt x="376" y="0"/>
                  <a:pt x="448" y="8"/>
                  <a:pt x="528" y="8"/>
                </a:cubicBezTo>
                <a:cubicBezTo>
                  <a:pt x="608" y="8"/>
                  <a:pt x="696" y="8"/>
                  <a:pt x="768" y="8"/>
                </a:cubicBezTo>
                <a:cubicBezTo>
                  <a:pt x="840" y="8"/>
                  <a:pt x="880" y="0"/>
                  <a:pt x="960" y="8"/>
                </a:cubicBezTo>
                <a:cubicBezTo>
                  <a:pt x="1040" y="16"/>
                  <a:pt x="1200" y="48"/>
                  <a:pt x="124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49"/>
          <p:cNvSpPr/>
          <p:nvPr/>
        </p:nvSpPr>
        <p:spPr>
          <a:xfrm>
            <a:off x="6019920" y="5486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150"/>
          <p:cNvSpPr/>
          <p:nvPr/>
        </p:nvSpPr>
        <p:spPr>
          <a:xfrm>
            <a:off x="5562720" y="2895480"/>
            <a:ext cx="761760" cy="533520"/>
          </a:xfrm>
          <a:custGeom>
            <a:avLst/>
            <a:gdLst>
              <a:gd name="textAreaLeft" fmla="*/ 133200 w 761760"/>
              <a:gd name="textAreaRight" fmla="*/ 552240 w 7617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51"/>
          <p:cNvSpPr/>
          <p:nvPr/>
        </p:nvSpPr>
        <p:spPr>
          <a:xfrm>
            <a:off x="7086600" y="2895480"/>
            <a:ext cx="685800" cy="533520"/>
          </a:xfrm>
          <a:custGeom>
            <a:avLst/>
            <a:gdLst>
              <a:gd name="textAreaLeft" fmla="*/ 119880 w 685800"/>
              <a:gd name="textAreaRight" fmla="*/ 497160 w 685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152"/>
          <p:cNvSpPr/>
          <p:nvPr/>
        </p:nvSpPr>
        <p:spPr>
          <a:xfrm>
            <a:off x="3657600" y="2895480"/>
            <a:ext cx="1676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53"/>
          <p:cNvSpPr/>
          <p:nvPr/>
        </p:nvSpPr>
        <p:spPr>
          <a:xfrm>
            <a:off x="838080" y="2057400"/>
            <a:ext cx="3048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se suspension, vigorously convecting. May be well mixed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Solomatov &amp; Stevenson(199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154"/>
          <p:cNvSpPr/>
          <p:nvPr/>
        </p:nvSpPr>
        <p:spPr>
          <a:xfrm flipV="1">
            <a:off x="4114800" y="457200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55"/>
          <p:cNvSpPr/>
          <p:nvPr/>
        </p:nvSpPr>
        <p:spPr>
          <a:xfrm>
            <a:off x="1066680" y="3809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ch higher viscosity, melt percolative regime. Melt/solid differenti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reeform 156"/>
          <p:cNvSpPr/>
          <p:nvPr/>
        </p:nvSpPr>
        <p:spPr>
          <a:xfrm>
            <a:off x="6180120" y="4175280"/>
            <a:ext cx="222120" cy="728640"/>
          </a:xfrm>
          <a:custGeom>
            <a:avLst/>
            <a:gdLst>
              <a:gd name="textAreaLeft" fmla="*/ 0 w 222120"/>
              <a:gd name="textAreaRight" fmla="*/ 222480 w 2221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40" h="459">
                <a:moveTo>
                  <a:pt x="55" y="0"/>
                </a:moveTo>
                <a:cubicBezTo>
                  <a:pt x="52" y="6"/>
                  <a:pt x="53" y="15"/>
                  <a:pt x="48" y="19"/>
                </a:cubicBezTo>
                <a:cubicBezTo>
                  <a:pt x="36" y="26"/>
                  <a:pt x="9" y="32"/>
                  <a:pt x="9" y="32"/>
                </a:cubicBezTo>
                <a:cubicBezTo>
                  <a:pt x="6" y="38"/>
                  <a:pt x="0" y="45"/>
                  <a:pt x="2" y="52"/>
                </a:cubicBezTo>
                <a:cubicBezTo>
                  <a:pt x="4" y="67"/>
                  <a:pt x="55" y="105"/>
                  <a:pt x="68" y="124"/>
                </a:cubicBezTo>
                <a:cubicBezTo>
                  <a:pt x="22" y="154"/>
                  <a:pt x="43" y="146"/>
                  <a:pt x="9" y="157"/>
                </a:cubicBezTo>
                <a:cubicBezTo>
                  <a:pt x="29" y="178"/>
                  <a:pt x="45" y="178"/>
                  <a:pt x="61" y="203"/>
                </a:cubicBezTo>
                <a:cubicBezTo>
                  <a:pt x="57" y="204"/>
                  <a:pt x="20" y="216"/>
                  <a:pt x="22" y="223"/>
                </a:cubicBezTo>
                <a:cubicBezTo>
                  <a:pt x="23" y="235"/>
                  <a:pt x="38" y="240"/>
                  <a:pt x="48" y="249"/>
                </a:cubicBezTo>
                <a:cubicBezTo>
                  <a:pt x="78" y="275"/>
                  <a:pt x="111" y="299"/>
                  <a:pt x="140" y="328"/>
                </a:cubicBezTo>
                <a:cubicBezTo>
                  <a:pt x="131" y="332"/>
                  <a:pt x="123" y="339"/>
                  <a:pt x="114" y="341"/>
                </a:cubicBezTo>
                <a:cubicBezTo>
                  <a:pt x="88" y="345"/>
                  <a:pt x="59" y="338"/>
                  <a:pt x="35" y="347"/>
                </a:cubicBezTo>
                <a:cubicBezTo>
                  <a:pt x="28" y="349"/>
                  <a:pt x="37" y="361"/>
                  <a:pt x="42" y="367"/>
                </a:cubicBezTo>
                <a:cubicBezTo>
                  <a:pt x="56" y="381"/>
                  <a:pt x="94" y="380"/>
                  <a:pt x="114" y="387"/>
                </a:cubicBezTo>
                <a:cubicBezTo>
                  <a:pt x="94" y="399"/>
                  <a:pt x="74" y="405"/>
                  <a:pt x="55" y="419"/>
                </a:cubicBezTo>
                <a:cubicBezTo>
                  <a:pt x="45" y="445"/>
                  <a:pt x="48" y="431"/>
                  <a:pt x="48" y="45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reeform 157"/>
          <p:cNvSpPr/>
          <p:nvPr/>
        </p:nvSpPr>
        <p:spPr>
          <a:xfrm>
            <a:off x="6715080" y="3987720"/>
            <a:ext cx="260280" cy="884160"/>
          </a:xfrm>
          <a:custGeom>
            <a:avLst/>
            <a:gdLst>
              <a:gd name="textAreaLeft" fmla="*/ 0 w 260280"/>
              <a:gd name="textAreaRight" fmla="*/ 260640 w 26028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64" h="557">
                <a:moveTo>
                  <a:pt x="65" y="0"/>
                </a:moveTo>
                <a:cubicBezTo>
                  <a:pt x="3" y="42"/>
                  <a:pt x="57" y="86"/>
                  <a:pt x="98" y="118"/>
                </a:cubicBezTo>
                <a:cubicBezTo>
                  <a:pt x="100" y="124"/>
                  <a:pt x="108" y="130"/>
                  <a:pt x="105" y="137"/>
                </a:cubicBezTo>
                <a:cubicBezTo>
                  <a:pt x="101" y="143"/>
                  <a:pt x="91" y="140"/>
                  <a:pt x="85" y="144"/>
                </a:cubicBezTo>
                <a:cubicBezTo>
                  <a:pt x="69" y="151"/>
                  <a:pt x="54" y="162"/>
                  <a:pt x="39" y="170"/>
                </a:cubicBezTo>
                <a:cubicBezTo>
                  <a:pt x="25" y="207"/>
                  <a:pt x="52" y="192"/>
                  <a:pt x="39" y="229"/>
                </a:cubicBezTo>
                <a:cubicBezTo>
                  <a:pt x="51" y="236"/>
                  <a:pt x="66" y="239"/>
                  <a:pt x="78" y="249"/>
                </a:cubicBezTo>
                <a:cubicBezTo>
                  <a:pt x="84" y="254"/>
                  <a:pt x="85" y="263"/>
                  <a:pt x="91" y="269"/>
                </a:cubicBezTo>
                <a:cubicBezTo>
                  <a:pt x="112" y="290"/>
                  <a:pt x="136" y="292"/>
                  <a:pt x="164" y="301"/>
                </a:cubicBezTo>
                <a:cubicBezTo>
                  <a:pt x="130" y="331"/>
                  <a:pt x="52" y="325"/>
                  <a:pt x="6" y="334"/>
                </a:cubicBezTo>
                <a:cubicBezTo>
                  <a:pt x="8" y="340"/>
                  <a:pt x="7" y="350"/>
                  <a:pt x="13" y="354"/>
                </a:cubicBezTo>
                <a:cubicBezTo>
                  <a:pt x="22" y="360"/>
                  <a:pt x="35" y="357"/>
                  <a:pt x="46" y="360"/>
                </a:cubicBezTo>
                <a:cubicBezTo>
                  <a:pt x="67" y="364"/>
                  <a:pt x="89" y="368"/>
                  <a:pt x="111" y="373"/>
                </a:cubicBezTo>
                <a:cubicBezTo>
                  <a:pt x="126" y="413"/>
                  <a:pt x="129" y="451"/>
                  <a:pt x="144" y="492"/>
                </a:cubicBezTo>
                <a:cubicBezTo>
                  <a:pt x="95" y="506"/>
                  <a:pt x="82" y="506"/>
                  <a:pt x="19" y="511"/>
                </a:cubicBezTo>
                <a:cubicBezTo>
                  <a:pt x="0" y="539"/>
                  <a:pt x="13" y="528"/>
                  <a:pt x="13" y="5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Freeform 158"/>
          <p:cNvSpPr/>
          <p:nvPr/>
        </p:nvSpPr>
        <p:spPr>
          <a:xfrm>
            <a:off x="7259760" y="4257720"/>
            <a:ext cx="339480" cy="792000"/>
          </a:xfrm>
          <a:custGeom>
            <a:avLst/>
            <a:gdLst>
              <a:gd name="textAreaLeft" fmla="*/ 0 w 339480"/>
              <a:gd name="textAreaRight" fmla="*/ 339480 w 3394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4" h="499">
                <a:moveTo>
                  <a:pt x="201" y="0"/>
                </a:moveTo>
                <a:cubicBezTo>
                  <a:pt x="183" y="2"/>
                  <a:pt x="165" y="2"/>
                  <a:pt x="148" y="7"/>
                </a:cubicBezTo>
                <a:cubicBezTo>
                  <a:pt x="123" y="13"/>
                  <a:pt x="119" y="35"/>
                  <a:pt x="135" y="59"/>
                </a:cubicBezTo>
                <a:cubicBezTo>
                  <a:pt x="142" y="69"/>
                  <a:pt x="157" y="71"/>
                  <a:pt x="168" y="79"/>
                </a:cubicBezTo>
                <a:cubicBezTo>
                  <a:pt x="193" y="96"/>
                  <a:pt x="203" y="109"/>
                  <a:pt x="214" y="138"/>
                </a:cubicBezTo>
                <a:cubicBezTo>
                  <a:pt x="191" y="144"/>
                  <a:pt x="169" y="150"/>
                  <a:pt x="148" y="158"/>
                </a:cubicBezTo>
                <a:cubicBezTo>
                  <a:pt x="132" y="207"/>
                  <a:pt x="156" y="149"/>
                  <a:pt x="122" y="184"/>
                </a:cubicBezTo>
                <a:cubicBezTo>
                  <a:pt x="110" y="195"/>
                  <a:pt x="104" y="209"/>
                  <a:pt x="96" y="223"/>
                </a:cubicBezTo>
                <a:cubicBezTo>
                  <a:pt x="91" y="229"/>
                  <a:pt x="83" y="243"/>
                  <a:pt x="83" y="243"/>
                </a:cubicBezTo>
                <a:cubicBezTo>
                  <a:pt x="102" y="255"/>
                  <a:pt x="119" y="261"/>
                  <a:pt x="142" y="269"/>
                </a:cubicBezTo>
                <a:cubicBezTo>
                  <a:pt x="129" y="304"/>
                  <a:pt x="105" y="302"/>
                  <a:pt x="70" y="308"/>
                </a:cubicBezTo>
                <a:cubicBezTo>
                  <a:pt x="51" y="327"/>
                  <a:pt x="47" y="335"/>
                  <a:pt x="57" y="361"/>
                </a:cubicBezTo>
                <a:cubicBezTo>
                  <a:pt x="31" y="400"/>
                  <a:pt x="23" y="365"/>
                  <a:pt x="11" y="407"/>
                </a:cubicBezTo>
                <a:cubicBezTo>
                  <a:pt x="21" y="441"/>
                  <a:pt x="44" y="430"/>
                  <a:pt x="11" y="453"/>
                </a:cubicBezTo>
                <a:cubicBezTo>
                  <a:pt x="0" y="480"/>
                  <a:pt x="4" y="465"/>
                  <a:pt x="4" y="49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Freeform 159"/>
          <p:cNvSpPr/>
          <p:nvPr/>
        </p:nvSpPr>
        <p:spPr>
          <a:xfrm>
            <a:off x="5589720" y="4143240"/>
            <a:ext cx="390240" cy="957240"/>
          </a:xfrm>
          <a:custGeom>
            <a:avLst/>
            <a:gdLst>
              <a:gd name="textAreaLeft" fmla="*/ 0 w 390240"/>
              <a:gd name="textAreaRight" fmla="*/ 390600 w 39024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46" h="603">
                <a:moveTo>
                  <a:pt x="0" y="0"/>
                </a:moveTo>
                <a:cubicBezTo>
                  <a:pt x="10" y="80"/>
                  <a:pt x="55" y="140"/>
                  <a:pt x="112" y="197"/>
                </a:cubicBezTo>
                <a:cubicBezTo>
                  <a:pt x="73" y="208"/>
                  <a:pt x="84" y="237"/>
                  <a:pt x="46" y="249"/>
                </a:cubicBezTo>
                <a:cubicBezTo>
                  <a:pt x="50" y="262"/>
                  <a:pt x="47" y="281"/>
                  <a:pt x="59" y="289"/>
                </a:cubicBezTo>
                <a:cubicBezTo>
                  <a:pt x="86" y="307"/>
                  <a:pt x="124" y="298"/>
                  <a:pt x="158" y="302"/>
                </a:cubicBezTo>
                <a:cubicBezTo>
                  <a:pt x="205" y="293"/>
                  <a:pt x="213" y="283"/>
                  <a:pt x="236" y="328"/>
                </a:cubicBezTo>
                <a:cubicBezTo>
                  <a:pt x="238" y="341"/>
                  <a:pt x="246" y="354"/>
                  <a:pt x="243" y="367"/>
                </a:cubicBezTo>
                <a:cubicBezTo>
                  <a:pt x="238" y="385"/>
                  <a:pt x="145" y="397"/>
                  <a:pt x="132" y="400"/>
                </a:cubicBezTo>
                <a:cubicBezTo>
                  <a:pt x="105" y="409"/>
                  <a:pt x="85" y="419"/>
                  <a:pt x="125" y="433"/>
                </a:cubicBezTo>
                <a:cubicBezTo>
                  <a:pt x="122" y="450"/>
                  <a:pt x="118" y="467"/>
                  <a:pt x="118" y="485"/>
                </a:cubicBezTo>
                <a:cubicBezTo>
                  <a:pt x="118" y="538"/>
                  <a:pt x="166" y="550"/>
                  <a:pt x="210" y="557"/>
                </a:cubicBezTo>
                <a:cubicBezTo>
                  <a:pt x="222" y="591"/>
                  <a:pt x="207" y="579"/>
                  <a:pt x="184" y="60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160"/>
          <p:cNvSpPr/>
          <p:nvPr/>
        </p:nvSpPr>
        <p:spPr>
          <a:xfrm flipV="1">
            <a:off x="4495680" y="5105160"/>
            <a:ext cx="1752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61"/>
          <p:cNvSpPr/>
          <p:nvPr/>
        </p:nvSpPr>
        <p:spPr>
          <a:xfrm>
            <a:off x="1371600" y="525780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density material may accumulate at the base.Iron-rich melt may desce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 Layered Mantle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kely to arise in the magma ocean (suspended crystal 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arise from percolative redistribution (melt migration near the solidus)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 magma ocean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ght (or might not) be eliminated by RT instabilities &amp; thermal conv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ld be relevant to D”, or to a thicker lay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wing evidence for its ex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343400" cy="298116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5"/>
          <p:cNvSpPr/>
          <p:nvPr/>
        </p:nvSpPr>
        <p:spPr>
          <a:xfrm>
            <a:off x="5638680" y="5029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llog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oling times …to decrease mean T by ~1000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 silicate vapor atmosphere: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 deep magma ocean/steam atmosphere: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ped magma ocean: Up to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 [cold surface!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subsolidus convection : Few 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current rate: &gt;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arly Earth* Environmen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and atmosphere in pl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may not have been very different in volume from now. Might be ice-cap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mosphere was surely very different… driven to higher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volcanism, but the recycling is poorly known. When did plate tectonics beg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 impact flux but consequences of impacts are short li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685800" y="2287440"/>
            <a:ext cx="3809880" cy="35006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5"/>
          <p:cNvSpPr/>
          <p:nvPr/>
        </p:nvSpPr>
        <p:spPr>
          <a:xfrm>
            <a:off x="1219320" y="1752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4.4 to 3.8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314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9314"/>
                </a:solidFill>
                <a:latin typeface="Arial"/>
              </a:rPr>
              <a:t>The Big Question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adiogenic heat production inside Earth both now and in the p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is related to other reservoirs we know about (Sun &amp; meteorites)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that heat production distributed spatially now and in the p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heat production related to heat output  now and in the p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re any important unconventional heat sources (radiogenic or otherwise)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initial condition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ing of Earth formation still uncertain but compatible with a few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r duration. Hf-W constrains but does not clearly provide this tim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energy origin of Earth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ve melting and magma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acy expressed in core superheat &amp; composition (siderophiles in the mantle, light elements in the core) 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ut not yet understood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be also in primordial mantle differenti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cooling at surface but a “Hadean” world. Impacts may affect onset time of sustained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314"/>
                </a:solidFill>
                <a:latin typeface="Arial"/>
              </a:rPr>
              <a:t>Responses to the Big Questions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adiogenic heat production inside Earth both now and in the past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termined by U, Th and K in the source material… maybe some K is l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this related to other reservoirs we know about (Sun &amp; meteorites)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osely related (U, Th) ; K depleted; but some uncerta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that heat production distributed spatially now and in the past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re formation: Any U, Th or K in the core? Primordial mantle differenti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heat production related to heat output  now and in the past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ater speak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there any important unconventional heat sources (radiogenic or otherwise)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 compelling evidence or good candi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s the initial condition?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Very ho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781280" y="609480"/>
            <a:ext cx="5580000" cy="54864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3"/>
          <p:cNvSpPr/>
          <p:nvPr/>
        </p:nvSpPr>
        <p:spPr>
          <a:xfrm>
            <a:off x="533520" y="152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nd….of the begi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3886200" y="6172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Times New Roman"/>
              </a:rPr>
              <a:t>(but not the beginning of the 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685800" y="1268280"/>
            <a:ext cx="7772400" cy="416736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"/>
          <p:cNvSpPr/>
          <p:nvPr/>
        </p:nvSpPr>
        <p:spPr>
          <a:xfrm>
            <a:off x="5791320" y="60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Geology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2297160" y="609480"/>
            <a:ext cx="4549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380880" y="609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initial conditions don’t matter much….e.g., heat flow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n &gt; 2 or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533520" y="373392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initial conditions matter a lot; e.g., layered system with compositional differences comparable or larger th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495288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49528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624852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7"/>
          <p:cNvSpPr/>
          <p:nvPr/>
        </p:nvSpPr>
        <p:spPr>
          <a:xfrm>
            <a:off x="4952880" y="114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5257800" y="160020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9"/>
          <p:cNvSpPr/>
          <p:nvPr/>
        </p:nvSpPr>
        <p:spPr>
          <a:xfrm>
            <a:off x="716292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10"/>
          <p:cNvSpPr/>
          <p:nvPr/>
        </p:nvSpPr>
        <p:spPr>
          <a:xfrm>
            <a:off x="71629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 flipV="1">
            <a:off x="8458200" y="762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7162920" y="114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3"/>
          <p:cNvSpPr/>
          <p:nvPr/>
        </p:nvSpPr>
        <p:spPr>
          <a:xfrm>
            <a:off x="7467480" y="1600200"/>
            <a:ext cx="838440" cy="457200"/>
          </a:xfrm>
          <a:custGeom>
            <a:avLst/>
            <a:gdLst>
              <a:gd name="textAreaLeft" fmla="*/ 146520 w 838440"/>
              <a:gd name="textAreaRight" fmla="*/ 608040 w 8384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Freeform 14"/>
          <p:cNvSpPr/>
          <p:nvPr/>
        </p:nvSpPr>
        <p:spPr>
          <a:xfrm>
            <a:off x="5562720" y="609480"/>
            <a:ext cx="75960" cy="457200"/>
          </a:xfrm>
          <a:custGeom>
            <a:avLst/>
            <a:gdLst>
              <a:gd name="textAreaLeft" fmla="*/ 0 w 75960"/>
              <a:gd name="textAreaRight" fmla="*/ 76320 w 759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288">
                <a:moveTo>
                  <a:pt x="0" y="288"/>
                </a:moveTo>
                <a:cubicBezTo>
                  <a:pt x="24" y="272"/>
                  <a:pt x="48" y="256"/>
                  <a:pt x="48" y="240"/>
                </a:cubicBezTo>
                <a:cubicBezTo>
                  <a:pt x="48" y="224"/>
                  <a:pt x="0" y="208"/>
                  <a:pt x="0" y="192"/>
                </a:cubicBezTo>
                <a:cubicBezTo>
                  <a:pt x="0" y="176"/>
                  <a:pt x="48" y="160"/>
                  <a:pt x="48" y="144"/>
                </a:cubicBezTo>
                <a:cubicBezTo>
                  <a:pt x="48" y="128"/>
                  <a:pt x="0" y="120"/>
                  <a:pt x="0" y="96"/>
                </a:cubicBezTo>
                <a:cubicBezTo>
                  <a:pt x="0" y="72"/>
                  <a:pt x="40" y="16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5"/>
          <p:cNvSpPr/>
          <p:nvPr/>
        </p:nvSpPr>
        <p:spPr>
          <a:xfrm flipV="1">
            <a:off x="5638680" y="533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Freeform 16"/>
          <p:cNvSpPr/>
          <p:nvPr/>
        </p:nvSpPr>
        <p:spPr>
          <a:xfrm>
            <a:off x="7772400" y="609480"/>
            <a:ext cx="76320" cy="457200"/>
          </a:xfrm>
          <a:custGeom>
            <a:avLst/>
            <a:gdLst>
              <a:gd name="textAreaLeft" fmla="*/ 0 w 76320"/>
              <a:gd name="textAreaRight" fmla="*/ 7668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288">
                <a:moveTo>
                  <a:pt x="0" y="288"/>
                </a:moveTo>
                <a:cubicBezTo>
                  <a:pt x="24" y="272"/>
                  <a:pt x="48" y="256"/>
                  <a:pt x="48" y="240"/>
                </a:cubicBezTo>
                <a:cubicBezTo>
                  <a:pt x="48" y="224"/>
                  <a:pt x="0" y="208"/>
                  <a:pt x="0" y="192"/>
                </a:cubicBezTo>
                <a:cubicBezTo>
                  <a:pt x="0" y="176"/>
                  <a:pt x="48" y="160"/>
                  <a:pt x="48" y="144"/>
                </a:cubicBezTo>
                <a:cubicBezTo>
                  <a:pt x="48" y="128"/>
                  <a:pt x="0" y="120"/>
                  <a:pt x="0" y="96"/>
                </a:cubicBezTo>
                <a:cubicBezTo>
                  <a:pt x="0" y="72"/>
                  <a:pt x="40" y="16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 flipV="1">
            <a:off x="7848720" y="5331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724280" y="26668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(t=0)=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7010280" y="2743200"/>
            <a:ext cx="19051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(t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depends only weakly on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f T,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iffer significant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0"/>
          <p:cNvSpPr/>
          <p:nvPr/>
        </p:nvSpPr>
        <p:spPr>
          <a:xfrm>
            <a:off x="4800600" y="3962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21"/>
          <p:cNvSpPr/>
          <p:nvPr/>
        </p:nvSpPr>
        <p:spPr>
          <a:xfrm>
            <a:off x="4800600" y="6172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22"/>
          <p:cNvSpPr/>
          <p:nvPr/>
        </p:nvSpPr>
        <p:spPr>
          <a:xfrm flipV="1">
            <a:off x="6095880" y="38862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3"/>
          <p:cNvSpPr/>
          <p:nvPr/>
        </p:nvSpPr>
        <p:spPr>
          <a:xfrm>
            <a:off x="48006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24"/>
          <p:cNvSpPr/>
          <p:nvPr/>
        </p:nvSpPr>
        <p:spPr>
          <a:xfrm>
            <a:off x="5105520" y="533412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25"/>
          <p:cNvSpPr/>
          <p:nvPr/>
        </p:nvSpPr>
        <p:spPr>
          <a:xfrm>
            <a:off x="4800600" y="5181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26"/>
          <p:cNvSpPr/>
          <p:nvPr/>
        </p:nvSpPr>
        <p:spPr>
          <a:xfrm>
            <a:off x="5105520" y="4572000"/>
            <a:ext cx="838080" cy="457200"/>
          </a:xfrm>
          <a:custGeom>
            <a:avLst/>
            <a:gdLst>
              <a:gd name="textAreaLeft" fmla="*/ 146520 w 838080"/>
              <a:gd name="textAreaRight" fmla="*/ 607680 w 8380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27"/>
          <p:cNvSpPr/>
          <p:nvPr/>
        </p:nvSpPr>
        <p:spPr>
          <a:xfrm flipH="1">
            <a:off x="617184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6934320" y="4191120"/>
            <a:ext cx="198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me history is preserved in the compositional layering (through imperfect mixing or through heat stora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Freeform 29"/>
          <p:cNvSpPr/>
          <p:nvPr/>
        </p:nvSpPr>
        <p:spPr>
          <a:xfrm>
            <a:off x="5486400" y="3809880"/>
            <a:ext cx="76320" cy="457200"/>
          </a:xfrm>
          <a:custGeom>
            <a:avLst/>
            <a:gdLst>
              <a:gd name="textAreaLeft" fmla="*/ 0 w 76320"/>
              <a:gd name="textAreaRight" fmla="*/ 76680 w 76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48" h="288">
                <a:moveTo>
                  <a:pt x="0" y="288"/>
                </a:moveTo>
                <a:cubicBezTo>
                  <a:pt x="24" y="272"/>
                  <a:pt x="48" y="256"/>
                  <a:pt x="48" y="240"/>
                </a:cubicBezTo>
                <a:cubicBezTo>
                  <a:pt x="48" y="224"/>
                  <a:pt x="0" y="208"/>
                  <a:pt x="0" y="192"/>
                </a:cubicBezTo>
                <a:cubicBezTo>
                  <a:pt x="0" y="176"/>
                  <a:pt x="48" y="160"/>
                  <a:pt x="48" y="144"/>
                </a:cubicBezTo>
                <a:cubicBezTo>
                  <a:pt x="48" y="128"/>
                  <a:pt x="0" y="120"/>
                  <a:pt x="0" y="96"/>
                </a:cubicBezTo>
                <a:cubicBezTo>
                  <a:pt x="0" y="72"/>
                  <a:pt x="40" y="16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30"/>
          <p:cNvSpPr/>
          <p:nvPr/>
        </p:nvSpPr>
        <p:spPr>
          <a:xfrm flipV="1">
            <a:off x="5562720" y="37335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Some Specific issues with Earth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hot was it? (And does any of that “signature” remain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  How is the starting state expressed in the mantle and core composition and layer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this depend on our (imperfect) understanding of planetary accumu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 we learn from the Moon, &amp; from  other plan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ere conditions like on early Earth? What is the origin of atmosphere and oce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bout lif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38098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yleigh-Taylor Instabilities &amp; Convective Stirring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0" name="Line 3"/>
          <p:cNvSpPr/>
          <p:nvPr/>
        </p:nvSpPr>
        <p:spPr>
          <a:xfrm flipV="1">
            <a:off x="1143000" y="2133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1143000" y="4343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981080" y="46483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compressed D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45720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7"/>
          <p:cNvSpPr/>
          <p:nvPr/>
        </p:nvSpPr>
        <p:spPr>
          <a:xfrm flipV="1">
            <a:off x="541008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8"/>
          <p:cNvSpPr/>
          <p:nvPr/>
        </p:nvSpPr>
        <p:spPr>
          <a:xfrm>
            <a:off x="54100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6248520" y="45720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compressed D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4724280" y="1676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11"/>
          <p:cNvSpPr/>
          <p:nvPr/>
        </p:nvSpPr>
        <p:spPr>
          <a:xfrm>
            <a:off x="3657600" y="30481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2197080" y="2209680"/>
            <a:ext cx="355680" cy="2133720"/>
          </a:xfrm>
          <a:custGeom>
            <a:avLst/>
            <a:gdLst>
              <a:gd name="textAreaLeft" fmla="*/ 0 w 355680"/>
              <a:gd name="textAreaRight" fmla="*/ 356040 w 35568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24" h="1344">
                <a:moveTo>
                  <a:pt x="56" y="0"/>
                </a:moveTo>
                <a:cubicBezTo>
                  <a:pt x="68" y="92"/>
                  <a:pt x="80" y="184"/>
                  <a:pt x="104" y="240"/>
                </a:cubicBezTo>
                <a:cubicBezTo>
                  <a:pt x="128" y="296"/>
                  <a:pt x="184" y="288"/>
                  <a:pt x="200" y="336"/>
                </a:cubicBezTo>
                <a:cubicBezTo>
                  <a:pt x="216" y="384"/>
                  <a:pt x="224" y="472"/>
                  <a:pt x="200" y="528"/>
                </a:cubicBezTo>
                <a:cubicBezTo>
                  <a:pt x="176" y="584"/>
                  <a:pt x="88" y="624"/>
                  <a:pt x="56" y="672"/>
                </a:cubicBezTo>
                <a:cubicBezTo>
                  <a:pt x="24" y="720"/>
                  <a:pt x="16" y="760"/>
                  <a:pt x="8" y="816"/>
                </a:cubicBezTo>
                <a:cubicBezTo>
                  <a:pt x="0" y="872"/>
                  <a:pt x="0" y="952"/>
                  <a:pt x="8" y="1008"/>
                </a:cubicBezTo>
                <a:cubicBezTo>
                  <a:pt x="16" y="1064"/>
                  <a:pt x="32" y="1096"/>
                  <a:pt x="56" y="1152"/>
                </a:cubicBezTo>
                <a:cubicBezTo>
                  <a:pt x="80" y="1208"/>
                  <a:pt x="136" y="1312"/>
                  <a:pt x="152" y="1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13"/>
          <p:cNvSpPr/>
          <p:nvPr/>
        </p:nvSpPr>
        <p:spPr>
          <a:xfrm>
            <a:off x="1981080" y="2895480"/>
            <a:ext cx="838440" cy="457200"/>
          </a:xfrm>
          <a:custGeom>
            <a:avLst/>
            <a:gdLst>
              <a:gd name="textAreaLeft" fmla="*/ 146520 w 838440"/>
              <a:gd name="textAreaRight" fmla="*/ 608040 w 8384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Line 14"/>
          <p:cNvSpPr/>
          <p:nvPr/>
        </p:nvSpPr>
        <p:spPr>
          <a:xfrm flipV="1">
            <a:off x="6781680" y="2057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7162920" y="2590920"/>
            <a:ext cx="1295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May (or may not) become well mixed after freezing &amp; RT instabiliti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438280" y="24382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7"/>
          <p:cNvSpPr/>
          <p:nvPr/>
        </p:nvSpPr>
        <p:spPr>
          <a:xfrm>
            <a:off x="2743200" y="182880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Bulge could arise from melt migration in transition z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1143000" y="5867280"/>
            <a:ext cx="6934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ut this all depends on the (as yet unknown) phase diagram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"/>
              </a:rPr>
              <a:t>Core-Mantle Equilibr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3733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ificant (perhaps unexpected) success in explaining mantle siderophiles through equilibrium at a particular P,T representative of the base of the magma oc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: Lack of knowledge at higher P,T.. Could still fit the data with a mixing line that includes higher P,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4292640" y="1828800"/>
            <a:ext cx="48513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undamental Principles of Magma Ocean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ting curve steeper than the adiabat (at most depth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eeper part of the ocean is fast (~1000yrs). Processes deep down involve solid silic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zing of shallow part can be slow (up to 100M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vs. P in a pl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5"/>
          <p:cNvSpPr/>
          <p:nvPr/>
        </p:nvSpPr>
        <p:spPr>
          <a:xfrm>
            <a:off x="5181480" y="2514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5181480" y="51814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V="1">
            <a:off x="5715000" y="2666520"/>
            <a:ext cx="19051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 flipV="1">
            <a:off x="5638680" y="312408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7086600" y="3124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iabat (conv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17220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lting cu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48769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7467480" y="5181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13"/>
          <p:cNvSpPr/>
          <p:nvPr/>
        </p:nvSpPr>
        <p:spPr>
          <a:xfrm>
            <a:off x="662940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5334120" y="41148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quid (magma oce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69343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6"/>
          <p:cNvSpPr/>
          <p:nvPr/>
        </p:nvSpPr>
        <p:spPr>
          <a:xfrm flipV="1">
            <a:off x="662940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5867280" y="56386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heological bound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2"/>
          <p:cNvSpPr/>
          <p:nvPr/>
        </p:nvSpPr>
        <p:spPr>
          <a:xfrm flipV="1">
            <a:off x="1905120" y="91440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1905120" y="5410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2971800" y="1981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Freeform 6"/>
          <p:cNvSpPr/>
          <p:nvPr/>
        </p:nvSpPr>
        <p:spPr>
          <a:xfrm>
            <a:off x="3137040" y="2209680"/>
            <a:ext cx="3720960" cy="1752840"/>
          </a:xfrm>
          <a:custGeom>
            <a:avLst/>
            <a:gdLst>
              <a:gd name="textAreaLeft" fmla="*/ 0 w 3720960"/>
              <a:gd name="textAreaRight" fmla="*/ 3721320 w 372096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344" h="1104">
                <a:moveTo>
                  <a:pt x="40" y="0"/>
                </a:moveTo>
                <a:cubicBezTo>
                  <a:pt x="20" y="120"/>
                  <a:pt x="0" y="240"/>
                  <a:pt x="136" y="336"/>
                </a:cubicBezTo>
                <a:cubicBezTo>
                  <a:pt x="272" y="432"/>
                  <a:pt x="704" y="488"/>
                  <a:pt x="856" y="576"/>
                </a:cubicBezTo>
                <a:cubicBezTo>
                  <a:pt x="1008" y="664"/>
                  <a:pt x="976" y="808"/>
                  <a:pt x="1048" y="864"/>
                </a:cubicBezTo>
                <a:cubicBezTo>
                  <a:pt x="1120" y="920"/>
                  <a:pt x="1160" y="960"/>
                  <a:pt x="1288" y="912"/>
                </a:cubicBezTo>
                <a:cubicBezTo>
                  <a:pt x="1416" y="864"/>
                  <a:pt x="1640" y="544"/>
                  <a:pt x="1816" y="576"/>
                </a:cubicBezTo>
                <a:cubicBezTo>
                  <a:pt x="1992" y="608"/>
                  <a:pt x="2256" y="1016"/>
                  <a:pt x="2344" y="1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38080" y="914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9343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638680" y="10666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me multidimensional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286000" y="1219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l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400800" y="41911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4038480" y="2971800"/>
            <a:ext cx="4572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276720" y="3124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olutionary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191120" y="380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RTH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Line 2"/>
          <p:cNvSpPr/>
          <p:nvPr/>
        </p:nvSpPr>
        <p:spPr>
          <a:xfrm flipV="1">
            <a:off x="1371600" y="762120"/>
            <a:ext cx="0" cy="495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Line 3"/>
          <p:cNvSpPr/>
          <p:nvPr/>
        </p:nvSpPr>
        <p:spPr>
          <a:xfrm>
            <a:off x="1371600" y="5715000"/>
            <a:ext cx="6095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685800" y="380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731520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(Mb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 flipV="1">
            <a:off x="175248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 flipV="1">
            <a:off x="388620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8"/>
          <p:cNvSpPr/>
          <p:nvPr/>
        </p:nvSpPr>
        <p:spPr>
          <a:xfrm flipV="1">
            <a:off x="5867280" y="556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1447920" y="5867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358128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5715000" y="5867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13716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3"/>
          <p:cNvSpPr/>
          <p:nvPr/>
        </p:nvSpPr>
        <p:spPr>
          <a:xfrm>
            <a:off x="13716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4"/>
          <p:cNvSpPr/>
          <p:nvPr/>
        </p:nvSpPr>
        <p:spPr>
          <a:xfrm>
            <a:off x="1371600" y="1600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5335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6"/>
          <p:cNvSpPr/>
          <p:nvPr/>
        </p:nvSpPr>
        <p:spPr>
          <a:xfrm>
            <a:off x="533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533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Freeform 18"/>
          <p:cNvSpPr/>
          <p:nvPr/>
        </p:nvSpPr>
        <p:spPr>
          <a:xfrm>
            <a:off x="1676520" y="1828800"/>
            <a:ext cx="5333760" cy="299736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997360"/>
              <a:gd name="textAreaBottom" fmla="*/ 2997720 h 2997360"/>
            </a:gdLst>
            <a:ahLst/>
            <a:rect l="textAreaLeft" t="textAreaTop" r="textAreaRight" b="textAreaBottom"/>
            <a:pathLst>
              <a:path w="3360" h="1888">
                <a:moveTo>
                  <a:pt x="0" y="1872"/>
                </a:moveTo>
                <a:cubicBezTo>
                  <a:pt x="156" y="1880"/>
                  <a:pt x="312" y="1888"/>
                  <a:pt x="576" y="1824"/>
                </a:cubicBezTo>
                <a:cubicBezTo>
                  <a:pt x="840" y="1760"/>
                  <a:pt x="1288" y="1624"/>
                  <a:pt x="1584" y="1488"/>
                </a:cubicBezTo>
                <a:cubicBezTo>
                  <a:pt x="1880" y="1352"/>
                  <a:pt x="2056" y="1256"/>
                  <a:pt x="2352" y="1008"/>
                </a:cubicBezTo>
                <a:cubicBezTo>
                  <a:pt x="2648" y="760"/>
                  <a:pt x="3192" y="168"/>
                  <a:pt x="3360" y="0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6324480" y="2819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pproximate conditions in present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20"/>
          <p:cNvSpPr/>
          <p:nvPr/>
        </p:nvSpPr>
        <p:spPr>
          <a:xfrm>
            <a:off x="3733920" y="3276720"/>
            <a:ext cx="990360" cy="761760"/>
          </a:xfrm>
          <a:prstGeom prst="ellipse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1"/>
          <p:cNvSpPr/>
          <p:nvPr/>
        </p:nvSpPr>
        <p:spPr>
          <a:xfrm>
            <a:off x="2743200" y="2743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gma ocean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22"/>
          <p:cNvSpPr/>
          <p:nvPr/>
        </p:nvSpPr>
        <p:spPr>
          <a:xfrm>
            <a:off x="2133720" y="4267080"/>
            <a:ext cx="990360" cy="457200"/>
          </a:xfrm>
          <a:prstGeom prst="ellipse">
            <a:avLst/>
          </a:prstGeom>
          <a:solidFill>
            <a:srgbClr val="ff80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1752480" y="35812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imes New Roman"/>
              </a:rPr>
              <a:t>Precursor bo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24"/>
          <p:cNvSpPr/>
          <p:nvPr/>
        </p:nvSpPr>
        <p:spPr>
          <a:xfrm flipH="1" flipV="1">
            <a:off x="6019920" y="2895120"/>
            <a:ext cx="380880" cy="304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Line 25"/>
          <p:cNvSpPr/>
          <p:nvPr/>
        </p:nvSpPr>
        <p:spPr>
          <a:xfrm>
            <a:off x="6629400" y="11430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26"/>
          <p:cNvSpPr/>
          <p:nvPr/>
        </p:nvSpPr>
        <p:spPr>
          <a:xfrm>
            <a:off x="6934320" y="114300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st of Earth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27"/>
          <p:cNvSpPr/>
          <p:nvPr/>
        </p:nvSpPr>
        <p:spPr>
          <a:xfrm>
            <a:off x="1523880" y="76212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istic Con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28"/>
          <p:cNvSpPr/>
          <p:nvPr/>
        </p:nvSpPr>
        <p:spPr>
          <a:xfrm rot="18996600">
            <a:off x="1294920" y="2057400"/>
            <a:ext cx="5965920" cy="1447920"/>
          </a:xfrm>
          <a:prstGeom prst="ellipse">
            <a:avLst/>
          </a:pr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9"/>
          <p:cNvSpPr/>
          <p:nvPr/>
        </p:nvSpPr>
        <p:spPr>
          <a:xfrm>
            <a:off x="2743200" y="144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ibuting regions of last equilib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4735440" cy="51814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6095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Halliday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412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re Formation; Mantle Oxidation Stat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486040" y="228564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dea may still work even with giant imp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665600" cy="54100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297180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 et al,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438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re-Forming Process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2971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nfall &amp; po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o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pirism (Rayleigh-Taylor)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cludes l=1 and self-heating as  special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r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0734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arth’s Engi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 tectonics is not at all obvious! But once in motion, it is a heat eng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why do plates happen? Mantle convection does not require pla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4648320" y="2941560"/>
            <a:ext cx="3809880" cy="2193840"/>
          </a:xfrm>
          <a:prstGeom prst="rect">
            <a:avLst/>
          </a:prstGeom>
          <a:ln w="0">
            <a:noFill/>
          </a:ln>
        </p:spPr>
      </p:pic>
      <p:sp>
        <p:nvSpPr>
          <p:cNvPr id="565" name="Line 5"/>
          <p:cNvSpPr/>
          <p:nvPr/>
        </p:nvSpPr>
        <p:spPr>
          <a:xfrm flipV="1">
            <a:off x="4952880" y="47242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200400" y="5257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d slab sinks under the action of gra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late Tectonics &amp; the Role of Wate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lubricates the asthen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fi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pl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of water in the mantle depends on subduction; this may not have been possible except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tretch/>
        </p:blipFill>
        <p:spPr>
          <a:xfrm>
            <a:off x="4648320" y="2577960"/>
            <a:ext cx="3809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What Happens During a Giant Impact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05160" y="14475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of the material is melted; part is vaporiz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ch of the Core of projectile is often intact and crashes into Earth, plunging to the core on a free fall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e distortion (sheets, plumes; not spheres). But SPH does not indicate much direct mix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"/>
          <p:cNvPicPr/>
          <p:nvPr/>
        </p:nvPicPr>
        <p:blipFill>
          <a:blip r:embed="rId1"/>
          <a:stretch/>
        </p:blipFill>
        <p:spPr>
          <a:xfrm>
            <a:off x="254160" y="1219320"/>
            <a:ext cx="4546440" cy="54864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5"/>
          <p:cNvSpPr/>
          <p:nvPr/>
        </p:nvSpPr>
        <p:spPr>
          <a:xfrm>
            <a:off x="5334120" y="6095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up &amp; Aspha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 flipH="1" flipV="1">
            <a:off x="4876920" y="601956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xygen Isotop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amental origin of the differences between Earth, Mars and meteorites i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t underst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, the “identity” of Earth &amp; Moon is often taken to imply same “sourc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4648320" y="2195640"/>
            <a:ext cx="38098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Oval 2"/>
          <p:cNvSpPr/>
          <p:nvPr/>
        </p:nvSpPr>
        <p:spPr>
          <a:xfrm>
            <a:off x="990720" y="914400"/>
            <a:ext cx="1676160" cy="1447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Freeform 3"/>
          <p:cNvSpPr/>
          <p:nvPr/>
        </p:nvSpPr>
        <p:spPr>
          <a:xfrm>
            <a:off x="1752480" y="507960"/>
            <a:ext cx="4648320" cy="495360"/>
          </a:xfrm>
          <a:custGeom>
            <a:avLst/>
            <a:gdLst>
              <a:gd name="textAreaLeft" fmla="*/ 0 w 4648320"/>
              <a:gd name="textAreaRight" fmla="*/ 4648680 w 464832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928" h="312">
                <a:moveTo>
                  <a:pt x="0" y="16"/>
                </a:moveTo>
                <a:cubicBezTo>
                  <a:pt x="20" y="8"/>
                  <a:pt x="40" y="0"/>
                  <a:pt x="96" y="16"/>
                </a:cubicBezTo>
                <a:cubicBezTo>
                  <a:pt x="152" y="32"/>
                  <a:pt x="256" y="72"/>
                  <a:pt x="336" y="112"/>
                </a:cubicBezTo>
                <a:cubicBezTo>
                  <a:pt x="416" y="152"/>
                  <a:pt x="496" y="224"/>
                  <a:pt x="576" y="256"/>
                </a:cubicBezTo>
                <a:cubicBezTo>
                  <a:pt x="656" y="288"/>
                  <a:pt x="648" y="296"/>
                  <a:pt x="816" y="304"/>
                </a:cubicBezTo>
                <a:cubicBezTo>
                  <a:pt x="984" y="312"/>
                  <a:pt x="1368" y="312"/>
                  <a:pt x="1584" y="304"/>
                </a:cubicBezTo>
                <a:cubicBezTo>
                  <a:pt x="1800" y="296"/>
                  <a:pt x="1888" y="280"/>
                  <a:pt x="2112" y="256"/>
                </a:cubicBezTo>
                <a:cubicBezTo>
                  <a:pt x="2336" y="232"/>
                  <a:pt x="2792" y="176"/>
                  <a:pt x="2928" y="160"/>
                </a:cubicBezTo>
              </a:path>
            </a:pathLst>
          </a:custGeom>
          <a:noFill/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4"/>
          <p:cNvSpPr/>
          <p:nvPr/>
        </p:nvSpPr>
        <p:spPr>
          <a:xfrm flipV="1">
            <a:off x="2895480" y="1142640"/>
            <a:ext cx="3429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5"/>
          <p:cNvSpPr/>
          <p:nvPr/>
        </p:nvSpPr>
        <p:spPr>
          <a:xfrm>
            <a:off x="2819520" y="19810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Freeform 6"/>
          <p:cNvSpPr/>
          <p:nvPr/>
        </p:nvSpPr>
        <p:spPr>
          <a:xfrm>
            <a:off x="1676520" y="2324160"/>
            <a:ext cx="4572000" cy="46980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2880" h="296">
                <a:moveTo>
                  <a:pt x="0" y="264"/>
                </a:moveTo>
                <a:cubicBezTo>
                  <a:pt x="60" y="280"/>
                  <a:pt x="120" y="296"/>
                  <a:pt x="240" y="264"/>
                </a:cubicBezTo>
                <a:cubicBezTo>
                  <a:pt x="360" y="232"/>
                  <a:pt x="544" y="112"/>
                  <a:pt x="720" y="72"/>
                </a:cubicBezTo>
                <a:cubicBezTo>
                  <a:pt x="896" y="32"/>
                  <a:pt x="936" y="0"/>
                  <a:pt x="1296" y="24"/>
                </a:cubicBezTo>
                <a:cubicBezTo>
                  <a:pt x="1656" y="48"/>
                  <a:pt x="2616" y="184"/>
                  <a:pt x="2880" y="21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3352680" y="1371600"/>
            <a:ext cx="457200" cy="53352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3733920" y="1447920"/>
            <a:ext cx="457200" cy="53316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9"/>
          <p:cNvSpPr/>
          <p:nvPr/>
        </p:nvSpPr>
        <p:spPr>
          <a:xfrm>
            <a:off x="4114800" y="1371600"/>
            <a:ext cx="457200" cy="53352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0"/>
          <p:cNvSpPr/>
          <p:nvPr/>
        </p:nvSpPr>
        <p:spPr>
          <a:xfrm>
            <a:off x="3048120" y="1447920"/>
            <a:ext cx="457200" cy="53316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1"/>
          <p:cNvSpPr/>
          <p:nvPr/>
        </p:nvSpPr>
        <p:spPr>
          <a:xfrm>
            <a:off x="4343400" y="1371600"/>
            <a:ext cx="533520" cy="60948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4648320" y="1295280"/>
            <a:ext cx="53316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4952880" y="1371600"/>
            <a:ext cx="53352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14"/>
          <p:cNvSpPr/>
          <p:nvPr/>
        </p:nvSpPr>
        <p:spPr>
          <a:xfrm>
            <a:off x="5181480" y="1295280"/>
            <a:ext cx="53352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5"/>
          <p:cNvSpPr/>
          <p:nvPr/>
        </p:nvSpPr>
        <p:spPr>
          <a:xfrm>
            <a:off x="5562720" y="1371600"/>
            <a:ext cx="533160" cy="685800"/>
          </a:xfrm>
          <a:prstGeom prst="line">
            <a:avLst/>
          </a:prstGeom>
          <a:ln w="349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3124080" y="1523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 silicate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3657600" y="22096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licate vapor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8"/>
          <p:cNvSpPr/>
          <p:nvPr/>
        </p:nvSpPr>
        <p:spPr>
          <a:xfrm>
            <a:off x="403848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9"/>
          <p:cNvSpPr/>
          <p:nvPr/>
        </p:nvSpPr>
        <p:spPr>
          <a:xfrm flipV="1">
            <a:off x="2133720" y="9140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20"/>
          <p:cNvSpPr/>
          <p:nvPr/>
        </p:nvSpPr>
        <p:spPr>
          <a:xfrm>
            <a:off x="2666880" y="1066680"/>
            <a:ext cx="381240" cy="152640"/>
          </a:xfrm>
          <a:custGeom>
            <a:avLst/>
            <a:gdLst>
              <a:gd name="textAreaLeft" fmla="*/ 66600 w 381240"/>
              <a:gd name="textAreaRight" fmla="*/ 276480 w 38124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21"/>
          <p:cNvSpPr/>
          <p:nvPr/>
        </p:nvSpPr>
        <p:spPr>
          <a:xfrm>
            <a:off x="3352680" y="1066680"/>
            <a:ext cx="304920" cy="152640"/>
          </a:xfrm>
          <a:custGeom>
            <a:avLst/>
            <a:gdLst>
              <a:gd name="textAreaLeft" fmla="*/ 53280 w 304920"/>
              <a:gd name="textAreaRight" fmla="*/ 221040 w 30492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AutoShape 22"/>
          <p:cNvSpPr/>
          <p:nvPr/>
        </p:nvSpPr>
        <p:spPr>
          <a:xfrm>
            <a:off x="2057400" y="1219320"/>
            <a:ext cx="380880" cy="152280"/>
          </a:xfrm>
          <a:custGeom>
            <a:avLst/>
            <a:gdLst>
              <a:gd name="textAreaLeft" fmla="*/ 66600 w 380880"/>
              <a:gd name="textAreaRight" fmla="*/ 276120 w 3808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23"/>
          <p:cNvSpPr/>
          <p:nvPr/>
        </p:nvSpPr>
        <p:spPr>
          <a:xfrm>
            <a:off x="4191120" y="1371600"/>
            <a:ext cx="380880" cy="152280"/>
          </a:xfrm>
          <a:custGeom>
            <a:avLst/>
            <a:gdLst>
              <a:gd name="textAreaLeft" fmla="*/ 66600 w 380880"/>
              <a:gd name="textAreaRight" fmla="*/ 276120 w 38088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24"/>
          <p:cNvSpPr/>
          <p:nvPr/>
        </p:nvSpPr>
        <p:spPr>
          <a:xfrm>
            <a:off x="1066680" y="3048120"/>
            <a:ext cx="7239240" cy="41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IN BETWE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exists for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ears. Radiates at ~2500K. Vapor pressure ~10 to 100 b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cale for exchange between vapor &amp; atmosphere ~10c/(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~ week. Aided by “foam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ve timescale in disk or Earth mantle ~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ve timescale in atmosphere ~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25"/>
          <p:cNvSpPr/>
          <p:nvPr/>
        </p:nvSpPr>
        <p:spPr>
          <a:xfrm flipH="1">
            <a:off x="5257800" y="106668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26"/>
          <p:cNvSpPr/>
          <p:nvPr/>
        </p:nvSpPr>
        <p:spPr>
          <a:xfrm>
            <a:off x="7086600" y="533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 ~0.8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27"/>
          <p:cNvSpPr/>
          <p:nvPr/>
        </p:nvSpPr>
        <p:spPr>
          <a:xfrm>
            <a:off x="304920" y="2209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re is iso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Oval 28"/>
          <p:cNvSpPr/>
          <p:nvPr/>
        </p:nvSpPr>
        <p:spPr>
          <a:xfrm>
            <a:off x="1447920" y="1295280"/>
            <a:ext cx="761760" cy="6858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29"/>
          <p:cNvSpPr/>
          <p:nvPr/>
        </p:nvSpPr>
        <p:spPr>
          <a:xfrm flipV="1">
            <a:off x="914400" y="16761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30"/>
          <p:cNvSpPr/>
          <p:nvPr/>
        </p:nvSpPr>
        <p:spPr>
          <a:xfrm>
            <a:off x="1143000" y="762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31"/>
          <p:cNvSpPr/>
          <p:nvPr/>
        </p:nvSpPr>
        <p:spPr>
          <a:xfrm>
            <a:off x="457200" y="457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olcanism &amp; Volatile Rele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atmosphere &amp; ocean came in part through outga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volatiles are recycled on Earth- the inside of Earth is “we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4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2995560" cy="22100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3352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Line 2"/>
          <p:cNvSpPr/>
          <p:nvPr/>
        </p:nvSpPr>
        <p:spPr>
          <a:xfrm flipV="1">
            <a:off x="1905120" y="914400"/>
            <a:ext cx="0" cy="4495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1905120" y="541008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971800" y="1981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6"/>
          <p:cNvSpPr/>
          <p:nvPr/>
        </p:nvSpPr>
        <p:spPr>
          <a:xfrm>
            <a:off x="3137040" y="2209680"/>
            <a:ext cx="3720960" cy="1752840"/>
          </a:xfrm>
          <a:custGeom>
            <a:avLst/>
            <a:gdLst>
              <a:gd name="textAreaLeft" fmla="*/ 0 w 3720960"/>
              <a:gd name="textAreaRight" fmla="*/ 3721320 w 372096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344" h="1104">
                <a:moveTo>
                  <a:pt x="40" y="0"/>
                </a:moveTo>
                <a:cubicBezTo>
                  <a:pt x="20" y="120"/>
                  <a:pt x="0" y="240"/>
                  <a:pt x="136" y="336"/>
                </a:cubicBezTo>
                <a:cubicBezTo>
                  <a:pt x="272" y="432"/>
                  <a:pt x="704" y="488"/>
                  <a:pt x="856" y="576"/>
                </a:cubicBezTo>
                <a:cubicBezTo>
                  <a:pt x="1008" y="664"/>
                  <a:pt x="976" y="808"/>
                  <a:pt x="1048" y="864"/>
                </a:cubicBezTo>
                <a:cubicBezTo>
                  <a:pt x="1120" y="920"/>
                  <a:pt x="1160" y="960"/>
                  <a:pt x="1288" y="912"/>
                </a:cubicBezTo>
                <a:cubicBezTo>
                  <a:pt x="1416" y="864"/>
                  <a:pt x="1640" y="544"/>
                  <a:pt x="1816" y="576"/>
                </a:cubicBezTo>
                <a:cubicBezTo>
                  <a:pt x="1992" y="608"/>
                  <a:pt x="2256" y="1016"/>
                  <a:pt x="2344" y="1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838080" y="914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9343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5638680" y="106668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ome multidimensional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286000" y="1219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tial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6400800" y="41911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038480" y="2971800"/>
            <a:ext cx="457200" cy="152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76720" y="3124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olutionary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191120" y="380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ARTH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647712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Geo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 flipH="1">
            <a:off x="6933960" y="3352680"/>
            <a:ext cx="75960" cy="38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2057400" y="1143000"/>
            <a:ext cx="1828800" cy="1219320"/>
          </a:xfrm>
          <a:prstGeom prst="ellipse">
            <a:avLst/>
          </a:prstGeom>
          <a:solidFill>
            <a:srgbClr val="ff0000">
              <a:alpha val="13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 flipV="1">
            <a:off x="1676520" y="2209320"/>
            <a:ext cx="4572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609480" y="2514600"/>
            <a:ext cx="1981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7c0c"/>
                </a:solidFill>
                <a:latin typeface="Times New Roman"/>
              </a:rPr>
              <a:t>Focus of this t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stronomy, geochemistry, physical mo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3200400" y="3886200"/>
            <a:ext cx="213372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Geochemistry, geology, geo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me Conclu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H or other large scale cod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o not tell y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extent of mix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ossibil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incomplete mixing (i.e., preservation of Hf-W from an earlier core separation event). But the importance of this is not deterministic. Most likely when the iron is in large quasi-spherical blob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ghly speaking, this applies to planet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dependent of si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except that small bodies may suffer higher energy impacts whe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mpa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&gt;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sca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which enhances mix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traightforward connection between the measured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timing of Earth core 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ow to think about a Planet (e.g., Earth)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discuss provenance- the properties of an apple depend on the environment in which the tree gr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could discuss it as a machine (cf. Hero[n], 1st century 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ed to do b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095880" y="533520"/>
            <a:ext cx="225432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3124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3520" y="1295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(logarithmic) way one should think about time if you want to understand processes and their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09480" y="419112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12193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27432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44197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62485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81532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9480" y="4191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y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438280" y="4267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1148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9436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762012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75438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72388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 flipH="1">
            <a:off x="7391160" y="30481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68580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hanerozo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3276720" y="43434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228600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rth ac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676520" y="4572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osynthesis in massive stars (supernovae for the heaviest elemen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3505320" y="152388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895480" y="2209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stellar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505320" y="30481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505320" y="480060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124080" y="38098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743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 &amp; pl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ppt01_11"/>
          <p:cNvPicPr/>
          <p:nvPr/>
        </p:nvPicPr>
        <p:blipFill>
          <a:blip r:embed="rId1"/>
          <a:stretch/>
        </p:blipFill>
        <p:spPr>
          <a:xfrm>
            <a:off x="4800600" y="1295280"/>
            <a:ext cx="43434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2362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3733560"/>
            <a:ext cx="2133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038480" y="76212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tellar medium contains gas &amp; dust that undergoes gravitational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800600" y="3733920"/>
            <a:ext cx="365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“solar nebula” forms: A disk of gas and dust from which solid material can aggre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3505320" cy="2819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Bassam  Abuamara</dc:creator>
  <dc:description/>
  <dc:language>en-US</dc:language>
  <cp:lastModifiedBy>ksu</cp:lastModifiedBy>
  <dcterms:modified xsi:type="dcterms:W3CDTF">2011-07-23T06:29:15Z</dcterms:modified>
  <cp:revision>2</cp:revision>
  <dc:subject/>
  <dc:title>Accretion and Differentiation of Earth</dc:title>
</cp:coreProperties>
</file>