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6.wmf" ContentType="image/x-wmf"/>
  <Override PartName="/ppt/media/image4.png" ContentType="image/png"/>
  <Override PartName="/ppt/media/image1.gif" ContentType="image/gif"/>
  <Override PartName="/ppt/media/image3.wmf" ContentType="image/x-wmf"/>
  <Override PartName="/ppt/media/image22.wmf" ContentType="image/x-wmf"/>
  <Override PartName="/ppt/media/image2.gif" ContentType="image/gif"/>
  <Override PartName="/ppt/media/image5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8CF8-69D8-4E2F-A2C1-FF39585862E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E91C-F711-43BC-92D6-016ED931BD2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DFC7-2288-48BA-92BD-DFF6BE039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4A6E-128D-4C57-9F8E-6A591FEF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4D41-3C07-4E46-A0FF-61FBB4688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61F0-42BE-4F18-8295-C1DEB78EF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976C-0727-43E8-AB86-2578539E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D153-29CE-4DEA-BDF6-67519198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86CC-18D1-4058-827E-F289304E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D0C3-D994-4A4E-B51D-A63B61BB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512A-8ED4-433B-92A1-0D8E7EF4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EF42-A4F0-4978-8DD7-C89834D7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4947-86FC-4C81-A722-695D401C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5448-71D1-4336-94EE-F6DAB3AA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8FE7-FE19-423A-A580-DE234B88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148E-ABA1-4681-BE5C-53E5FD18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3C40-817A-45F6-B1FD-9C9AFE3A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21A2-C564-4956-8665-A7F015C7F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0CB2-DCB0-4C81-883F-2C91B1240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4941-6380-4004-86B3-11774AC6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560F-4590-4642-900A-E815F587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B993-645B-4D63-B8F0-4D38D816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6548-AC6E-4378-97D8-4FBD162A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9FE5-276C-41A8-948B-413AAAD6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7AF5-0FD6-444B-BFA8-158DA58D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19CA-0997-4A37-A0A3-C19A5E69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BFE2-D7D4-49B6-9776-7128261B871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9ED9-743A-43FA-8C98-BCC40B43123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ute Coronary 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1214280" y="2071800"/>
            <a:ext cx="6875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Zohair Alaseri, 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RCPc, Emergency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RCPc, Critical Care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ntensivist and Emergency Medicine Consultant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Director, Department of Emergency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King Khalid University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iyadh, KSA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عنصر نائب لرقم الشريحة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479D-D5E8-41A8-AD83-CF6E92E1781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Patient less than 40 years and some cardiac risk factors has low probability of A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7866000" y="4589640"/>
            <a:ext cx="935280" cy="11509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1447920" y="3809880"/>
            <a:ext cx="401004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hest Pain 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عنصر نائب لرقم الشريحة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A875-BEBC-49BE-988A-30D55630495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4287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Patient more than 65 years and no cardiac risk factors has low probability of A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7866000" y="5321160"/>
            <a:ext cx="935280" cy="11509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1447920" y="4541760"/>
            <a:ext cx="401004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hest Pain 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عنصر نائب لرقم الشريحة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A086-960B-4C2A-9EC6-601830738D9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5440" y="19807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s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befo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ysician sees the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s on the actions of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riage staff and other non-physici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sonn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2520" y="0"/>
            <a:ext cx="36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est Pain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6CD2-6564-412F-9B73-4D037B6C8F3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06668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atients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will not admit hav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est “pain,” but will acknowledge the presence of chest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“discomfor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7162920" y="51055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"/>
          <p:cNvSpPr/>
          <p:nvPr/>
        </p:nvSpPr>
        <p:spPr>
          <a:xfrm>
            <a:off x="2057400" y="3962520"/>
            <a:ext cx="276228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Pain in Arab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og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aghe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hest Pain 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393F-ADDC-4644-93EC-4CDAA24E824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2"/>
          <p:cNvGraphicFramePr/>
          <p:nvPr/>
        </p:nvGraphicFramePr>
        <p:xfrm>
          <a:off x="990720" y="1143000"/>
          <a:ext cx="7516800" cy="435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43000"/>
                    <a:ext cx="751680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Rectangle 5"/>
          <p:cNvSpPr/>
          <p:nvPr/>
        </p:nvSpPr>
        <p:spPr>
          <a:xfrm>
            <a:off x="1983600" y="12952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.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2746080" y="16002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660480" y="2209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.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4422600" y="2971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.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5181480" y="2286000"/>
            <a:ext cx="7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.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4698000" y="249228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P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0" y="6219000"/>
            <a:ext cx="9144000" cy="642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Goodacre S, Locker T, Morris F, Campbell S. How useful are clinical features in the diagnosis of acute, undifferentiated chest pain? </a:t>
            </a:r>
            <a:r>
              <a:rPr b="0" i="1" lang="en-US" sz="1800" spc="-1" strike="noStrike">
                <a:solidFill>
                  <a:srgbClr val="800000"/>
                </a:solidFill>
                <a:latin typeface="Tahoma"/>
              </a:rPr>
              <a:t>Acad Emerg Med.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 2002;9:203-2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1497240" y="5589000"/>
            <a:ext cx="71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variate Analysis of Predictors of Acute Myocardial Infarction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3537360" y="1341360"/>
            <a:ext cx="1765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Tahoma"/>
              </a:rPr>
              <a:t>CHEST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6098760" y="3429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.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8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hest Pain 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A98F-FF0D-43F6-A6C1-52529EEF1AD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0" y="5705640"/>
            <a:ext cx="914400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Lee TH, Cook EF, Weisberg M, Sargent RK, Wilson C, Goldman L. Acute chest pain in the emergency room. Identification and examination of low-risk patients. Arch Intern Med 1985;145:65–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990720" y="1219320"/>
            <a:ext cx="754380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ypical symptoms do not necessarily rule out acute coronary syndro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2 percent of 596 patients who presented to ED with sharp or stabbing pain had A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6"/>
          <p:cNvSpPr txBox="1"/>
          <p:nvPr/>
        </p:nvSpPr>
        <p:spPr>
          <a:xfrm>
            <a:off x="533520" y="3352680"/>
            <a:ext cx="1224000" cy="3812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ut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Rectangle 7"/>
          <p:cNvSpPr/>
          <p:nvPr/>
        </p:nvSpPr>
        <p:spPr>
          <a:xfrm flipV="1" rot="10800000">
            <a:off x="1600200" y="4113720"/>
            <a:ext cx="6556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A combination of atypical symptoms improves identification of low-risk patients</a:t>
            </a:r>
            <a:r>
              <a:rPr b="0" lang="en-US" sz="24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.</a:t>
            </a:r>
            <a:r>
              <a:rPr b="0" lang="en-US" sz="24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hest Pain 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5F03-39EE-4693-80AA-7E7C9DB4907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4820760"/>
            <a:ext cx="9144000" cy="20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Goldman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L.,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Cook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E.,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Brand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D.,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  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et al.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  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 A computer protocol to predict myocardial infarction in emergency department patients with chest pain</a:t>
            </a:r>
            <a:r>
              <a:rPr b="0" lang="ar-SA" sz="1800" spc="-1" strike="noStrike">
                <a:solidFill>
                  <a:srgbClr val="800000"/>
                </a:solidFill>
                <a:latin typeface="Arial"/>
              </a:rPr>
              <a:t>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N Engl J Med</a:t>
            </a:r>
            <a:r>
              <a:rPr b="0" lang="ar-SA" sz="1800" spc="-1" strike="noStrike">
                <a:solidFill>
                  <a:srgbClr val="800000"/>
                </a:solidFill>
                <a:latin typeface="Tahoma"/>
              </a:rPr>
              <a:t> (1988) 318 : 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pp 707-8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Goldman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L.,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Cook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E.,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Johnson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P.,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  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et al.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  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 Prediction of the need for intensive care in patients who come to the emergency department with acute chest pain.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  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 N Engl J Med (1996) 334 : pp 1498-150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1219320" y="2292480"/>
            <a:ext cx="7391160" cy="165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886" y="22594"/>
                </a:moveTo>
                <a:lnTo>
                  <a:pt x="21266" y="22594"/>
                </a:lnTo>
              </a:path>
            </a:pathLst>
          </a:custGeom>
          <a:solidFill>
            <a:srgbClr val="ffff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ients who describe their discomfort as </a:t>
            </a:r>
            <a:r>
              <a:rPr b="0" lang="en-US" sz="2800" spc="-1" strike="noStrike" u="sng">
                <a:solidFill>
                  <a:srgbClr val="800000"/>
                </a:solidFill>
                <a:uFillTx/>
                <a:latin typeface="Tahoma"/>
              </a:rPr>
              <a:t>Simila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previous episodes of cardiac ischemia are more likely to have AC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hest Pain 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6249-BA94-4C08-8619-20261FE0952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027080" y="21286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rtl="1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asy-to-remember for possible precipitating factors is the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3 </a:t>
            </a: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uritic,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itional, or re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ducible chest pa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ikely represents a non-ACS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hest Pain 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2160" y="990720"/>
            <a:ext cx="62186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ecipitating and Aggravating Factors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4CB5-3D92-461C-8C94-830F7D40C5E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2"/>
          <p:cNvGraphicFramePr/>
          <p:nvPr/>
        </p:nvGraphicFramePr>
        <p:xfrm>
          <a:off x="900000" y="2421000"/>
          <a:ext cx="7956720" cy="352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421000"/>
                    <a:ext cx="7956720" cy="35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Rectangle 7"/>
          <p:cNvSpPr/>
          <p:nvPr/>
        </p:nvSpPr>
        <p:spPr>
          <a:xfrm>
            <a:off x="1327320" y="4290840"/>
            <a:ext cx="37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atients had no change in 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1313280" y="3498840"/>
            <a:ext cx="38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atients had minimal 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1317600" y="2778120"/>
            <a:ext cx="39830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atients had moderate 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1322640" y="5154480"/>
            <a:ext cx="6479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atients had significant or complete reduction in pain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684360" y="1844640"/>
            <a:ext cx="3354120" cy="435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6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4724280" y="1523880"/>
            <a:ext cx="4419720" cy="776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diac-related in 122 patients (18%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-3240" y="1052640"/>
            <a:ext cx="420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Response to Nitroglyce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5"/>
          <p:cNvSpPr/>
          <p:nvPr/>
        </p:nvSpPr>
        <p:spPr>
          <a:xfrm>
            <a:off x="0" y="5759280"/>
            <a:ext cx="914400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Diercks DB, Boghos E, Guzman H, et al.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hanges in the numeric descriptive scale for pain after sublingual nitroglycerin do not predict cardiac etiology of chest pain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. </a:t>
            </a:r>
            <a:r>
              <a:rPr b="0" i="1" lang="en-US" sz="1800" spc="-1" strike="noStrike">
                <a:solidFill>
                  <a:srgbClr val="800000"/>
                </a:solidFill>
                <a:latin typeface="Arial"/>
              </a:rPr>
              <a:t>Ann Emerg Med.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2005;45:581-585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9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hest Pain 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AB57-3DE1-44B1-89B7-8DBB9526C82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0" y="5857920"/>
            <a:ext cx="9144000" cy="100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Servi RJ, Skiendzielewski JJ.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Relief of myocardial ischemia pain with a GI cocktail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. </a:t>
            </a:r>
            <a:r>
              <a:rPr b="0" i="1" lang="en-US" sz="1600" spc="-1" strike="noStrike">
                <a:solidFill>
                  <a:srgbClr val="800000"/>
                </a:solidFill>
                <a:latin typeface="Arial"/>
              </a:rPr>
              <a:t>Am J Emerg Med.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 1985;3:208-2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106668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't help to different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hest Pain 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-41400" y="1166760"/>
            <a:ext cx="19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I Cock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صر نائب لرقم الشريحة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38C3-C4A0-41D3-B3A5-A27730932CC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2960" y="171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st Pain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rdiac risk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rdiac bioma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CG in 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w imaging mod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S OF QUALITY AND QUALITY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ute Coronary 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عنصر نائب لرقم الشريحة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D772-7EFE-48D3-ADC1-A5EE4355857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8686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CC/AHA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uidelines list the following as pain descriptions that ar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characteristic of 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1440" y="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typical Chest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80880" y="2514600"/>
            <a:ext cx="845820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leuritic p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.e., sharp or knife-like pain brought on by respiratory movements or cough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iddle or lower abdomi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ized at the tip of one finger, particularly over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LV) ape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produced with movement or palp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chest wall or a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stant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ry br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adiates into the lower extrem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94A2-2F8B-41C7-9120-B036DF4182D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6124680" y="6153120"/>
            <a:ext cx="3019320" cy="704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873000" y="1865160"/>
            <a:ext cx="6613560" cy="38642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4"/>
          <p:cNvSpPr/>
          <p:nvPr/>
        </p:nvSpPr>
        <p:spPr>
          <a:xfrm>
            <a:off x="1219320" y="5827680"/>
            <a:ext cx="7369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r" rtl="1"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Brieger, D. et al. Chest 2004;126:461-46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0" y="1219680"/>
            <a:ext cx="8817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 rtl="1"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Dominant presenting symptoms in patients without chest pain (total exceeds 100% as patients may have presented with more than one dominant sympt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720" y="0"/>
            <a:ext cx="451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CS without Chest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6E8C-86E0-4018-9648-6E3C6BB0E59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228600" y="0"/>
            <a:ext cx="50468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oft Clinical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106668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-called “soft clinical features,” such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i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a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zz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uding of the mind,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ring in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11% to 40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patients who have AM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0530-238F-4D79-81C8-077CE02C16C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Pope J., 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Clinical features of emergency department patients presenting with symptoms of acute cardiac ischemia: a multicenter study</a:t>
            </a:r>
            <a:br>
              <a:rPr sz="1600"/>
            </a:br>
            <a:r>
              <a:rPr b="0" i="1" lang="en-US" sz="1600" spc="-1" strike="noStrike">
                <a:solidFill>
                  <a:srgbClr val="993300"/>
                </a:solidFill>
                <a:latin typeface="Arial"/>
              </a:rPr>
              <a:t>J Thromb Thrombolysis</a:t>
            </a:r>
            <a:r>
              <a:rPr b="0" i="1" lang="ar-SA" sz="1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6 (1998)</a:t>
            </a:r>
            <a:r>
              <a:rPr b="0" lang="ar-SA" sz="1600" spc="-1" strike="noStrike">
                <a:solidFill>
                  <a:srgbClr val="993300"/>
                </a:solidFill>
                <a:latin typeface="Arial"/>
              </a:rPr>
              <a:t> : </a:t>
            </a: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pp 63-74</a:t>
            </a:r>
            <a:r>
              <a:rPr b="0" lang="ar-SA" sz="1600" spc="-1" strike="noStrike">
                <a:solidFill>
                  <a:srgbClr val="9933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106668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diac ischemia can present with abdominal p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3240" y="1565280"/>
            <a:ext cx="2771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bdominal P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3881-1E12-4324-8C47-923159879F8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06668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Cloud"/>
          <p:cNvSpPr/>
          <p:nvPr/>
        </p:nvSpPr>
        <p:spPr>
          <a:xfrm>
            <a:off x="0" y="1828800"/>
            <a:ext cx="9144000" cy="3962520"/>
          </a:xfrm>
          <a:custGeom>
            <a:avLst/>
            <a:gdLst>
              <a:gd name="textAreaLeft" fmla="*/ 1260000 w 9144000"/>
              <a:gd name="textAreaRight" fmla="*/ 7233480 w 9144000"/>
              <a:gd name="textAreaTop" fmla="*/ 598320 h 3962520"/>
              <a:gd name="textAreaBottom" fmla="*/ 3180600 h 39625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1371600" y="2362320"/>
            <a:ext cx="691344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ngsana New"/>
              </a:rPr>
              <a:t>If a patient already carries a known diagnosis of IHD, a risk factor analysis is unnecessary because the risk is known to be 100%</a:t>
            </a:r>
            <a:r>
              <a:rPr b="0" lang="ar-SA" sz="4400" spc="-1" strike="noStrike">
                <a:solidFill>
                  <a:srgbClr val="ffff00"/>
                </a:solidFill>
                <a:latin typeface="Angsana New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2520" y="0"/>
            <a:ext cx="36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est Pain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عنصر نائب لرقم الشريحة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4F46-B040-4812-91BA-859B944CA8E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09480" y="23320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clu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ac risk factor burden has </a:t>
            </a: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limit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value in diagno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ED setting, especially in patients older than 40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57240" y="6033240"/>
            <a:ext cx="9086760" cy="8240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Jin H. Han, </a:t>
            </a:r>
            <a:r>
              <a:rPr b="1" i="1" lang="en-US" sz="1600" spc="-1" strike="noStrike">
                <a:solidFill>
                  <a:srgbClr val="800000"/>
                </a:solidFill>
                <a:latin typeface="Arial"/>
              </a:rPr>
              <a:t>The Role of Cardiac Risk Factor Burden in Diagnosing Acute Coronary Syndromes in the Emergency Department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Annals of Emergency Medicine</a:t>
            </a:r>
            <a:r>
              <a:rPr b="0" lang="syr-TR" sz="1600" spc="-1" strike="noStrike">
                <a:solidFill>
                  <a:srgbClr val="800000"/>
                </a:solidFill>
                <a:latin typeface="Arial"/>
                <a:ea typeface="Estrangelo Edessa"/>
              </a:rPr>
              <a:t> 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Volume 49 • Number 2 • February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2520" y="0"/>
            <a:ext cx="36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est Pain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0" y="45720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ardiac Risk Factor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2520" y="0"/>
            <a:ext cx="36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est Pain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9515-A7CF-4348-A6C1-EA0BD319804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image?id=5790&amp;rendTypeId=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D14D-8B73-4BF6-AB87-4381582CDF2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1258920" y="2205000"/>
            <a:ext cx="7543800" cy="38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hysical examination in patients with ACS frequently is nor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inous find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mitral regurgitation murm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ypo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lmonary ra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3 gall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V disten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chycard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adycard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716400" y="6165720"/>
            <a:ext cx="84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ahoma"/>
              </a:rPr>
              <a:t>portends a patient at high risk for ischemic complication</a:t>
            </a:r>
            <a:r>
              <a:rPr b="0" lang="en-US" sz="2400" spc="-1" strike="noStrike">
                <a:solidFill>
                  <a:srgbClr val="9933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6" descr="j0292570[1]"/>
          <p:cNvPicPr/>
          <p:nvPr/>
        </p:nvPicPr>
        <p:blipFill>
          <a:blip r:embed="rId1"/>
          <a:stretch/>
        </p:blipFill>
        <p:spPr>
          <a:xfrm>
            <a:off x="6948360" y="4365720"/>
            <a:ext cx="1739880" cy="135720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7"/>
          <p:cNvSpPr/>
          <p:nvPr/>
        </p:nvSpPr>
        <p:spPr>
          <a:xfrm>
            <a:off x="3276720" y="189000"/>
            <a:ext cx="3456000" cy="431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ahoma"/>
              </a:rPr>
              <a:t>Physical Exa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250920" y="189000"/>
            <a:ext cx="2520720" cy="576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ACS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9"/>
          <p:cNvSpPr/>
          <p:nvPr/>
        </p:nvSpPr>
        <p:spPr>
          <a:xfrm>
            <a:off x="3995640" y="1413000"/>
            <a:ext cx="1600200" cy="533160"/>
          </a:xfrm>
          <a:prstGeom prst="flowChartTerminator">
            <a:avLst/>
          </a:prstGeom>
          <a:noFill/>
          <a:ln w="5724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00"/>
                </a:solidFill>
                <a:latin typeface="Tahoma"/>
              </a:rPr>
              <a:t>I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0"/>
          <p:cNvSpPr/>
          <p:nvPr/>
        </p:nvSpPr>
        <p:spPr>
          <a:xfrm>
            <a:off x="0" y="1413000"/>
            <a:ext cx="1600200" cy="533160"/>
          </a:xfrm>
          <a:prstGeom prst="flowChartTerminator">
            <a:avLst/>
          </a:prstGeom>
          <a:noFill/>
          <a:ln w="5724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00"/>
                </a:solidFill>
                <a:latin typeface="Tahoma"/>
              </a:rPr>
              <a:t>Ex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1"/>
          <p:cNvSpPr/>
          <p:nvPr/>
        </p:nvSpPr>
        <p:spPr>
          <a:xfrm>
            <a:off x="7308720" y="1484280"/>
            <a:ext cx="1835280" cy="533520"/>
          </a:xfrm>
          <a:prstGeom prst="flowChartTerminator">
            <a:avLst/>
          </a:prstGeom>
          <a:noFill/>
          <a:ln w="5724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00"/>
                </a:solidFill>
                <a:latin typeface="Tahoma"/>
              </a:rPr>
              <a:t>Com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2"/>
          <p:cNvSpPr/>
          <p:nvPr/>
        </p:nvSpPr>
        <p:spPr>
          <a:xfrm rot="9162600">
            <a:off x="1579320" y="820440"/>
            <a:ext cx="1884240" cy="257040"/>
          </a:xfrm>
          <a:prstGeom prst="rightArrow">
            <a:avLst>
              <a:gd name="adj1" fmla="val 50000"/>
              <a:gd name="adj2" fmla="val 18326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3"/>
          <p:cNvSpPr/>
          <p:nvPr/>
        </p:nvSpPr>
        <p:spPr>
          <a:xfrm rot="1688400">
            <a:off x="6443280" y="836280"/>
            <a:ext cx="1657440" cy="287280"/>
          </a:xfrm>
          <a:prstGeom prst="rightArrow">
            <a:avLst>
              <a:gd name="adj1" fmla="val 50000"/>
              <a:gd name="adj2" fmla="val 14423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4"/>
          <p:cNvSpPr/>
          <p:nvPr/>
        </p:nvSpPr>
        <p:spPr>
          <a:xfrm rot="5400000">
            <a:off x="4284000" y="90900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1277-41BD-4FD3-8576-99B94784C57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PBFig3_img"/>
          <p:cNvPicPr/>
          <p:nvPr/>
        </p:nvPicPr>
        <p:blipFill>
          <a:blip r:embed="rId1"/>
          <a:stretch/>
        </p:blipFill>
        <p:spPr>
          <a:xfrm>
            <a:off x="1828800" y="1600200"/>
            <a:ext cx="6105600" cy="403848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3"/>
          <p:cNvSpPr/>
          <p:nvPr/>
        </p:nvSpPr>
        <p:spPr>
          <a:xfrm>
            <a:off x="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hest Pain &amp; Bio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ADD6-5268-412E-8D87-FECC44B71E0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0" y="607680"/>
            <a:ext cx="63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yocardial perfusion imaging and multidetector CT accuracy (n=85)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28600" y="1905120"/>
          <a:ext cx="8686800" cy="3276360"/>
        </p:xfrm>
        <a:graphic>
          <a:graphicData uri="http://schemas.openxmlformats.org/drawingml/2006/table">
            <a:tbl>
              <a:tblPr/>
              <a:tblGrid>
                <a:gridCol w="2523960"/>
                <a:gridCol w="1783080"/>
                <a:gridCol w="1769760"/>
                <a:gridCol w="1271880"/>
                <a:gridCol w="1338120"/>
              </a:tblGrid>
              <a:tr h="52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aging Meth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efefef"/>
                      </a:solidFill>
                    </a:lnL>
                    <a:lnR w="4320">
                      <a:solidFill>
                        <a:srgbClr val="efefef"/>
                      </a:solidFill>
                    </a:lnR>
                    <a:lnT w="4320">
                      <a:solidFill>
                        <a:srgbClr val="efefef"/>
                      </a:solidFill>
                    </a:lnT>
                    <a:lnB w="4320">
                      <a:solidFill>
                        <a:srgbClr val="efefe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itiv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efefef"/>
                      </a:solidFill>
                    </a:lnL>
                    <a:lnR w="4320">
                      <a:solidFill>
                        <a:srgbClr val="efefef"/>
                      </a:solidFill>
                    </a:lnR>
                    <a:lnT w="4320">
                      <a:solidFill>
                        <a:srgbClr val="efefef"/>
                      </a:solidFill>
                    </a:lnT>
                    <a:lnB w="4320">
                      <a:solidFill>
                        <a:srgbClr val="efefe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efefef"/>
                      </a:solidFill>
                    </a:lnL>
                    <a:lnR w="4320">
                      <a:solidFill>
                        <a:srgbClr val="efefef"/>
                      </a:solidFill>
                    </a:lnR>
                    <a:lnT w="4320">
                      <a:solidFill>
                        <a:srgbClr val="efefef"/>
                      </a:solidFill>
                    </a:lnT>
                    <a:lnB w="4320">
                      <a:solidFill>
                        <a:srgbClr val="efefe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V (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efefef"/>
                      </a:solidFill>
                    </a:lnL>
                    <a:lnR w="4320">
                      <a:solidFill>
                        <a:srgbClr val="efefef"/>
                      </a:solidFill>
                    </a:lnR>
                    <a:lnT w="4320">
                      <a:solidFill>
                        <a:srgbClr val="efefef"/>
                      </a:solidFill>
                    </a:lnT>
                    <a:lnB w="4320">
                      <a:solidFill>
                        <a:srgbClr val="efefe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V (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efefef"/>
                      </a:solidFill>
                    </a:lnL>
                    <a:lnR w="4320">
                      <a:solidFill>
                        <a:srgbClr val="efefef"/>
                      </a:solidFill>
                    </a:lnR>
                    <a:lnT w="4320">
                      <a:solidFill>
                        <a:srgbClr val="efefef"/>
                      </a:solidFill>
                    </a:lnT>
                    <a:lnB w="4320">
                      <a:solidFill>
                        <a:srgbClr val="efefef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ss nuclear imaging (95% CI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efefef"/>
                      </a:solidFill>
                    </a:lnL>
                    <a:lnR w="4320">
                      <a:solidFill>
                        <a:srgbClr val="efefef"/>
                      </a:solidFill>
                    </a:lnR>
                    <a:lnT w="4320">
                      <a:solidFill>
                        <a:srgbClr val="efefef"/>
                      </a:solidFill>
                    </a:lnT>
                    <a:lnB w="4320">
                      <a:solidFill>
                        <a:srgbClr val="efefe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% (5/7)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6%–92%)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efefef"/>
                      </a:solidFill>
                    </a:lnL>
                    <a:lnR w="4320">
                      <a:solidFill>
                        <a:srgbClr val="efefef"/>
                      </a:solidFill>
                    </a:lnR>
                    <a:lnT w="4320">
                      <a:solidFill>
                        <a:srgbClr val="efefef"/>
                      </a:solidFill>
                    </a:lnT>
                    <a:lnB w="4320">
                      <a:solidFill>
                        <a:srgbClr val="efefe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 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efefef"/>
                      </a:solidFill>
                    </a:lnL>
                    <a:lnR w="4320">
                      <a:solidFill>
                        <a:srgbClr val="efefef"/>
                      </a:solidFill>
                    </a:lnR>
                    <a:lnT w="4320">
                      <a:solidFill>
                        <a:srgbClr val="efefef"/>
                      </a:solidFill>
                    </a:lnT>
                    <a:lnB w="4320">
                      <a:solidFill>
                        <a:srgbClr val="efefe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efefef"/>
                      </a:solidFill>
                    </a:lnL>
                    <a:lnR w="4320">
                      <a:solidFill>
                        <a:srgbClr val="efefef"/>
                      </a:solidFill>
                    </a:lnR>
                    <a:lnT w="4320">
                      <a:solidFill>
                        <a:srgbClr val="efefef"/>
                      </a:solidFill>
                    </a:lnT>
                    <a:lnB w="4320">
                      <a:solidFill>
                        <a:srgbClr val="efefe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 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efefef"/>
                      </a:solidFill>
                    </a:lnL>
                    <a:lnR w="4320">
                      <a:solidFill>
                        <a:srgbClr val="efefef"/>
                      </a:solidFill>
                    </a:lnR>
                    <a:lnT w="4320">
                      <a:solidFill>
                        <a:srgbClr val="efefef"/>
                      </a:solidFill>
                    </a:lnT>
                    <a:lnB w="4320">
                      <a:solidFill>
                        <a:srgbClr val="efefe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detector CT (95% CI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efefef"/>
                      </a:solidFill>
                    </a:lnL>
                    <a:lnR w="4320">
                      <a:solidFill>
                        <a:srgbClr val="efefef"/>
                      </a:solidFill>
                    </a:lnR>
                    <a:lnT w="4320">
                      <a:solidFill>
                        <a:srgbClr val="efefef"/>
                      </a:solidFill>
                    </a:lnT>
                    <a:lnB w="4320">
                      <a:solidFill>
                        <a:srgbClr val="efefe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 (6/7)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efefef"/>
                      </a:solidFill>
                    </a:lnL>
                    <a:lnR w="4320">
                      <a:solidFill>
                        <a:srgbClr val="efefef"/>
                      </a:solidFill>
                    </a:lnR>
                    <a:lnT w="4320">
                      <a:solidFill>
                        <a:srgbClr val="efefef"/>
                      </a:solidFill>
                    </a:lnT>
                    <a:lnB w="4320">
                      <a:solidFill>
                        <a:srgbClr val="efefe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% 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efefef"/>
                      </a:solidFill>
                    </a:lnL>
                    <a:lnR w="4320">
                      <a:solidFill>
                        <a:srgbClr val="efefef"/>
                      </a:solidFill>
                    </a:lnR>
                    <a:lnT w="4320">
                      <a:solidFill>
                        <a:srgbClr val="efefef"/>
                      </a:solidFill>
                    </a:lnT>
                    <a:lnB w="4320">
                      <a:solidFill>
                        <a:srgbClr val="efefe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efefef"/>
                      </a:solidFill>
                    </a:lnL>
                    <a:lnR w="4320">
                      <a:solidFill>
                        <a:srgbClr val="efefef"/>
                      </a:solidFill>
                    </a:lnR>
                    <a:lnT w="4320">
                      <a:solidFill>
                        <a:srgbClr val="efefef"/>
                      </a:solidFill>
                    </a:lnT>
                    <a:lnB w="4320">
                      <a:solidFill>
                        <a:srgbClr val="efefe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efefef"/>
                      </a:solidFill>
                    </a:lnL>
                    <a:lnR w="4320">
                      <a:solidFill>
                        <a:srgbClr val="efefef"/>
                      </a:solidFill>
                    </a:lnR>
                    <a:lnT w="4320">
                      <a:solidFill>
                        <a:srgbClr val="efefef"/>
                      </a:solidFill>
                    </a:lnT>
                    <a:lnB w="4320">
                      <a:solidFill>
                        <a:srgbClr val="efefe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Rectangle 29"/>
          <p:cNvSpPr/>
          <p:nvPr/>
        </p:nvSpPr>
        <p:spPr>
          <a:xfrm>
            <a:off x="1689120" y="2001960"/>
            <a:ext cx="792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0"/>
          <p:cNvSpPr/>
          <p:nvPr/>
        </p:nvSpPr>
        <p:spPr>
          <a:xfrm>
            <a:off x="1690560" y="41767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1"/>
          <p:cNvSpPr/>
          <p:nvPr/>
        </p:nvSpPr>
        <p:spPr>
          <a:xfrm>
            <a:off x="0" y="5784480"/>
            <a:ext cx="8915400" cy="10674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Michael J. Gallagher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The Diagnostic Accuracy of 64-Slice Computed Tomography Coronary Angiography Compared With Stress Nuclear Imaging in Emergency Department Low-Risk Chest Pain Patients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 Annals of Emergency Medicine</a:t>
            </a:r>
            <a:br>
              <a:rPr sz="1600"/>
            </a:b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Volume 49 • Number 2 • February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CAEF-1C99-42A7-AF94-B8A92405ABC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404640"/>
            <a:ext cx="934920" cy="11512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97164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tient with DM,HTN and FH of heart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tient with typical chest pain and ECG f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0 year old diabetic &amp; hypertensive male Patient with typical chest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0 year old female with typical chest pain &amp; PMH of 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04920" y="1752480"/>
            <a:ext cx="86104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Among the following patients who has the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highest risk for ACS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hest Pain 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FD50-91DE-40E4-BA73-32CAC8A2716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1066680" y="2895480"/>
            <a:ext cx="7543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initial 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early management of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unstable angina, STEMI, and NSTEM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equently are simil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-121680" y="1752480"/>
            <a:ext cx="529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Why the term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C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is useful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hest Pain 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E37E-633C-43E7-808C-AFC5E56F5B9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6659640" y="6021360"/>
            <a:ext cx="1982880" cy="703800"/>
          </a:xfrm>
          <a:prstGeom prst="rect">
            <a:avLst/>
          </a:prstGeom>
          <a:solidFill>
            <a:srgbClr val="ffffff"/>
          </a:solidFill>
          <a:ln w="7632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stable ang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884160" y="2276640"/>
            <a:ext cx="930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3998160" y="2155680"/>
            <a:ext cx="4734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st pain or angina equiva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843840" y="2924280"/>
            <a:ext cx="15508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gn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5590800" y="3068640"/>
            <a:ext cx="7354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893520" y="4076640"/>
            <a:ext cx="764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3395520" y="4100400"/>
            <a:ext cx="1905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 Ele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1"/>
          <p:cNvSpPr/>
          <p:nvPr/>
        </p:nvSpPr>
        <p:spPr>
          <a:xfrm>
            <a:off x="6469560" y="4100400"/>
            <a:ext cx="2404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T ele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2"/>
          <p:cNvSpPr/>
          <p:nvPr/>
        </p:nvSpPr>
        <p:spPr>
          <a:xfrm>
            <a:off x="829800" y="4941720"/>
            <a:ext cx="1832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oma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3"/>
          <p:cNvSpPr/>
          <p:nvPr/>
        </p:nvSpPr>
        <p:spPr>
          <a:xfrm>
            <a:off x="3818520" y="4964040"/>
            <a:ext cx="1035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K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4"/>
          <p:cNvSpPr/>
          <p:nvPr/>
        </p:nvSpPr>
        <p:spPr>
          <a:xfrm>
            <a:off x="5219640" y="4869000"/>
            <a:ext cx="136836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oponin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5"/>
          <p:cNvSpPr/>
          <p:nvPr/>
        </p:nvSpPr>
        <p:spPr>
          <a:xfrm>
            <a:off x="7020000" y="4869000"/>
            <a:ext cx="12240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oponin neg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6"/>
          <p:cNvSpPr/>
          <p:nvPr/>
        </p:nvSpPr>
        <p:spPr>
          <a:xfrm>
            <a:off x="855000" y="5877000"/>
            <a:ext cx="13525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agn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7"/>
          <p:cNvSpPr/>
          <p:nvPr/>
        </p:nvSpPr>
        <p:spPr>
          <a:xfrm>
            <a:off x="3839040" y="5950080"/>
            <a:ext cx="9277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u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8"/>
          <p:cNvSpPr/>
          <p:nvPr/>
        </p:nvSpPr>
        <p:spPr>
          <a:xfrm>
            <a:off x="2556000" y="2349360"/>
            <a:ext cx="718920" cy="216000"/>
          </a:xfrm>
          <a:prstGeom prst="rightArrow">
            <a:avLst>
              <a:gd name="adj1" fmla="val 50000"/>
              <a:gd name="adj2" fmla="val 83208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9"/>
          <p:cNvSpPr/>
          <p:nvPr/>
        </p:nvSpPr>
        <p:spPr>
          <a:xfrm>
            <a:off x="1835280" y="4149720"/>
            <a:ext cx="1439640" cy="216000"/>
          </a:xfrm>
          <a:prstGeom prst="rightArrow">
            <a:avLst>
              <a:gd name="adj1" fmla="val 50000"/>
              <a:gd name="adj2" fmla="val 166625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0"/>
          <p:cNvSpPr/>
          <p:nvPr/>
        </p:nvSpPr>
        <p:spPr>
          <a:xfrm>
            <a:off x="2627280" y="5013360"/>
            <a:ext cx="719280" cy="288720"/>
          </a:xfrm>
          <a:prstGeom prst="rightArrow">
            <a:avLst>
              <a:gd name="adj1" fmla="val 50000"/>
              <a:gd name="adj2" fmla="val 62282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1"/>
          <p:cNvSpPr/>
          <p:nvPr/>
        </p:nvSpPr>
        <p:spPr>
          <a:xfrm>
            <a:off x="2556000" y="5877000"/>
            <a:ext cx="718920" cy="288720"/>
          </a:xfrm>
          <a:prstGeom prst="rightArrow">
            <a:avLst>
              <a:gd name="adj1" fmla="val 50000"/>
              <a:gd name="adj2" fmla="val 62251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22"/>
          <p:cNvSpPr/>
          <p:nvPr/>
        </p:nvSpPr>
        <p:spPr>
          <a:xfrm rot="5400000">
            <a:off x="4104720" y="4690800"/>
            <a:ext cx="358560" cy="142920"/>
          </a:xfrm>
          <a:prstGeom prst="rightArrow">
            <a:avLst>
              <a:gd name="adj1" fmla="val 50000"/>
              <a:gd name="adj2" fmla="val 62720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3"/>
          <p:cNvSpPr/>
          <p:nvPr/>
        </p:nvSpPr>
        <p:spPr>
          <a:xfrm rot="5400000">
            <a:off x="4103280" y="5624280"/>
            <a:ext cx="358560" cy="142920"/>
          </a:xfrm>
          <a:prstGeom prst="rightArrow">
            <a:avLst>
              <a:gd name="adj1" fmla="val 50000"/>
              <a:gd name="adj2" fmla="val 62720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4"/>
          <p:cNvSpPr/>
          <p:nvPr/>
        </p:nvSpPr>
        <p:spPr>
          <a:xfrm rot="5400000">
            <a:off x="7343280" y="5769000"/>
            <a:ext cx="358920" cy="142920"/>
          </a:xfrm>
          <a:prstGeom prst="rightArrow">
            <a:avLst>
              <a:gd name="adj1" fmla="val 50000"/>
              <a:gd name="adj2" fmla="val 62783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25"/>
          <p:cNvSpPr/>
          <p:nvPr/>
        </p:nvSpPr>
        <p:spPr>
          <a:xfrm rot="5400000">
            <a:off x="7414560" y="4617720"/>
            <a:ext cx="216000" cy="142920"/>
          </a:xfrm>
          <a:prstGeom prst="rightArrow">
            <a:avLst>
              <a:gd name="adj1" fmla="val 50000"/>
              <a:gd name="adj2" fmla="val 37783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6"/>
          <p:cNvSpPr/>
          <p:nvPr/>
        </p:nvSpPr>
        <p:spPr>
          <a:xfrm>
            <a:off x="4284720" y="3789360"/>
            <a:ext cx="3240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7"/>
          <p:cNvSpPr/>
          <p:nvPr/>
        </p:nvSpPr>
        <p:spPr>
          <a:xfrm>
            <a:off x="5940360" y="3573360"/>
            <a:ext cx="0" cy="216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8"/>
          <p:cNvSpPr/>
          <p:nvPr/>
        </p:nvSpPr>
        <p:spPr>
          <a:xfrm>
            <a:off x="4284720" y="3789360"/>
            <a:ext cx="0" cy="287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9"/>
          <p:cNvSpPr/>
          <p:nvPr/>
        </p:nvSpPr>
        <p:spPr>
          <a:xfrm>
            <a:off x="7524720" y="3789360"/>
            <a:ext cx="0" cy="287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30"/>
          <p:cNvSpPr/>
          <p:nvPr/>
        </p:nvSpPr>
        <p:spPr>
          <a:xfrm>
            <a:off x="2411280" y="3284640"/>
            <a:ext cx="2592360" cy="144360"/>
          </a:xfrm>
          <a:prstGeom prst="rightArrow">
            <a:avLst>
              <a:gd name="adj1" fmla="val 50000"/>
              <a:gd name="adj2" fmla="val 448940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2"/>
          <p:cNvSpPr/>
          <p:nvPr/>
        </p:nvSpPr>
        <p:spPr>
          <a:xfrm>
            <a:off x="884520" y="1484280"/>
            <a:ext cx="1245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ri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33"/>
          <p:cNvSpPr/>
          <p:nvPr/>
        </p:nvSpPr>
        <p:spPr>
          <a:xfrm>
            <a:off x="6732720" y="3068640"/>
            <a:ext cx="216036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onitored b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34"/>
          <p:cNvSpPr/>
          <p:nvPr/>
        </p:nvSpPr>
        <p:spPr>
          <a:xfrm>
            <a:off x="6372360" y="3284640"/>
            <a:ext cx="3603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35"/>
          <p:cNvSpPr/>
          <p:nvPr/>
        </p:nvSpPr>
        <p:spPr>
          <a:xfrm rot="8520600">
            <a:off x="4767120" y="5705640"/>
            <a:ext cx="470160" cy="123840"/>
          </a:xfrm>
          <a:prstGeom prst="rightArrow">
            <a:avLst>
              <a:gd name="adj1" fmla="val 50000"/>
              <a:gd name="adj2" fmla="val 94913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36"/>
          <p:cNvSpPr/>
          <p:nvPr/>
        </p:nvSpPr>
        <p:spPr>
          <a:xfrm rot="10800000">
            <a:off x="6011640" y="4436640"/>
            <a:ext cx="433080" cy="360360"/>
          </a:xfrm>
          <a:custGeom>
            <a:avLst/>
            <a:gdLst>
              <a:gd name="textAreaLeft" fmla="*/ 0 w 433080"/>
              <a:gd name="textAreaRight" fmla="*/ 371160 w 433080"/>
              <a:gd name="textAreaTop" fmla="*/ 24048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7"/>
          <p:cNvSpPr/>
          <p:nvPr/>
        </p:nvSpPr>
        <p:spPr>
          <a:xfrm flipV="1" rot="152400">
            <a:off x="5292720" y="4436280"/>
            <a:ext cx="433440" cy="358920"/>
          </a:xfrm>
          <a:custGeom>
            <a:avLst/>
            <a:gdLst>
              <a:gd name="textAreaLeft" fmla="*/ 0 w 433440"/>
              <a:gd name="textAreaRight" fmla="*/ 371520 w 433440"/>
              <a:gd name="textAreaTop" fmla="*/ 23940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9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hest Pain 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BF7E-4770-418A-AB54-3235638A896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3203640" y="907920"/>
            <a:ext cx="2160360" cy="533520"/>
          </a:xfrm>
          <a:prstGeom prst="flowChartTerminator">
            <a:avLst/>
          </a:prstGeom>
          <a:solidFill>
            <a:srgbClr val="ffffff"/>
          </a:solidFill>
          <a:ln w="5724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hest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509760" y="4017960"/>
            <a:ext cx="3352680" cy="533520"/>
          </a:xfrm>
          <a:prstGeom prst="flowChartTerminator">
            <a:avLst/>
          </a:prstGeom>
          <a:solidFill>
            <a:srgbClr val="ffffff"/>
          </a:solidFill>
          <a:ln w="5724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sophageal perf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6"/>
          <p:cNvSpPr/>
          <p:nvPr/>
        </p:nvSpPr>
        <p:spPr>
          <a:xfrm>
            <a:off x="1619280" y="6066000"/>
            <a:ext cx="1295280" cy="533160"/>
          </a:xfrm>
          <a:prstGeom prst="flowChartTerminator">
            <a:avLst/>
          </a:prstGeom>
          <a:solidFill>
            <a:srgbClr val="ffffff"/>
          </a:solidFill>
          <a:ln w="5724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7"/>
          <p:cNvSpPr/>
          <p:nvPr/>
        </p:nvSpPr>
        <p:spPr>
          <a:xfrm>
            <a:off x="4643280" y="3500280"/>
            <a:ext cx="1600200" cy="533520"/>
          </a:xfrm>
          <a:prstGeom prst="flowChartTerminator">
            <a:avLst/>
          </a:prstGeom>
          <a:solidFill>
            <a:srgbClr val="ffffff"/>
          </a:solidFill>
          <a:ln w="5724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gno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8"/>
          <p:cNvSpPr/>
          <p:nvPr/>
        </p:nvSpPr>
        <p:spPr>
          <a:xfrm>
            <a:off x="6372360" y="1916280"/>
            <a:ext cx="1600200" cy="533160"/>
          </a:xfrm>
          <a:prstGeom prst="flowChartTerminator">
            <a:avLst/>
          </a:prstGeom>
          <a:solidFill>
            <a:srgbClr val="ffffff"/>
          </a:solidFill>
          <a:ln w="5724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9"/>
          <p:cNvSpPr/>
          <p:nvPr/>
        </p:nvSpPr>
        <p:spPr>
          <a:xfrm>
            <a:off x="1258920" y="2060640"/>
            <a:ext cx="1600200" cy="533160"/>
          </a:xfrm>
          <a:prstGeom prst="flowChartTerminator">
            <a:avLst/>
          </a:prstGeom>
          <a:solidFill>
            <a:srgbClr val="ffffff"/>
          </a:solidFill>
          <a:ln w="5724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0"/>
          <p:cNvSpPr/>
          <p:nvPr/>
        </p:nvSpPr>
        <p:spPr>
          <a:xfrm>
            <a:off x="1119240" y="4627440"/>
            <a:ext cx="2209680" cy="533520"/>
          </a:xfrm>
          <a:prstGeom prst="flowChartTerminator">
            <a:avLst/>
          </a:prstGeom>
          <a:solidFill>
            <a:srgbClr val="ffffff"/>
          </a:solidFill>
          <a:ln w="5724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neumothor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1"/>
          <p:cNvSpPr/>
          <p:nvPr/>
        </p:nvSpPr>
        <p:spPr>
          <a:xfrm>
            <a:off x="1424160" y="5389560"/>
            <a:ext cx="1600200" cy="533520"/>
          </a:xfrm>
          <a:prstGeom prst="flowChartTerminator">
            <a:avLst/>
          </a:prstGeom>
          <a:solidFill>
            <a:srgbClr val="ffffff"/>
          </a:solidFill>
          <a:ln w="5724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 Dis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2"/>
          <p:cNvSpPr/>
          <p:nvPr/>
        </p:nvSpPr>
        <p:spPr>
          <a:xfrm>
            <a:off x="5867280" y="5084640"/>
            <a:ext cx="2819520" cy="912960"/>
          </a:xfrm>
          <a:prstGeom prst="flowChartTerminator">
            <a:avLst/>
          </a:prstGeom>
          <a:solidFill>
            <a:srgbClr val="ffffff"/>
          </a:solidFill>
          <a:ln w="5724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nti ischemic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traind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3"/>
          <p:cNvSpPr/>
          <p:nvPr/>
        </p:nvSpPr>
        <p:spPr>
          <a:xfrm>
            <a:off x="7543800" y="3645000"/>
            <a:ext cx="1600200" cy="533160"/>
          </a:xfrm>
          <a:prstGeom prst="flowChartTerminator">
            <a:avLst/>
          </a:prstGeom>
          <a:solidFill>
            <a:srgbClr val="ffffff"/>
          </a:solidFill>
          <a:ln w="5724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4"/>
          <p:cNvSpPr/>
          <p:nvPr/>
        </p:nvSpPr>
        <p:spPr>
          <a:xfrm rot="1306200">
            <a:off x="4944960" y="1630440"/>
            <a:ext cx="1295640" cy="21600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5"/>
          <p:cNvSpPr/>
          <p:nvPr/>
        </p:nvSpPr>
        <p:spPr>
          <a:xfrm rot="9024000">
            <a:off x="2731680" y="1709280"/>
            <a:ext cx="1244520" cy="216000"/>
          </a:xfrm>
          <a:custGeom>
            <a:avLst/>
            <a:gdLst>
              <a:gd name="textAreaLeft" fmla="*/ 194400 w 1244520"/>
              <a:gd name="textAreaRight" fmla="*/ 1089000 w 12445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6"/>
          <p:cNvSpPr/>
          <p:nvPr/>
        </p:nvSpPr>
        <p:spPr>
          <a:xfrm rot="7890600">
            <a:off x="5471640" y="2817360"/>
            <a:ext cx="1043280" cy="106560"/>
          </a:xfrm>
          <a:custGeom>
            <a:avLst/>
            <a:gdLst>
              <a:gd name="textAreaLeft" fmla="*/ 162720 w 1043280"/>
              <a:gd name="textAreaRight" fmla="*/ 912960 w 1043280"/>
              <a:gd name="textAreaTop" fmla="*/ 26640 h 106560"/>
              <a:gd name="textAreaBottom" fmla="*/ 79920 h 106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17"/>
          <p:cNvSpPr/>
          <p:nvPr/>
        </p:nvSpPr>
        <p:spPr>
          <a:xfrm rot="2877000">
            <a:off x="7488000" y="2889000"/>
            <a:ext cx="1042920" cy="106200"/>
          </a:xfrm>
          <a:custGeom>
            <a:avLst/>
            <a:gdLst>
              <a:gd name="textAreaLeft" fmla="*/ 162720 w 1042920"/>
              <a:gd name="textAreaRight" fmla="*/ 912600 w 1042920"/>
              <a:gd name="textAreaTop" fmla="*/ 26640 h 106200"/>
              <a:gd name="textAreaBottom" fmla="*/ 79920 h 106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8"/>
          <p:cNvSpPr/>
          <p:nvPr/>
        </p:nvSpPr>
        <p:spPr>
          <a:xfrm rot="5400000">
            <a:off x="5760720" y="3537000"/>
            <a:ext cx="2158920" cy="215640"/>
          </a:xfrm>
          <a:custGeom>
            <a:avLst/>
            <a:gdLst>
              <a:gd name="textAreaLeft" fmla="*/ 337320 w 2158920"/>
              <a:gd name="textAreaRight" fmla="*/ 1889280 w 215892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9"/>
          <p:cNvSpPr/>
          <p:nvPr/>
        </p:nvSpPr>
        <p:spPr>
          <a:xfrm>
            <a:off x="971640" y="2781360"/>
            <a:ext cx="23050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Life Threat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20"/>
          <p:cNvSpPr/>
          <p:nvPr/>
        </p:nvSpPr>
        <p:spPr>
          <a:xfrm>
            <a:off x="3708360" y="2133720"/>
            <a:ext cx="2160720" cy="217440"/>
          </a:xfrm>
          <a:custGeom>
            <a:avLst/>
            <a:gdLst>
              <a:gd name="textAreaLeft" fmla="*/ 337320 w 2160720"/>
              <a:gd name="textAreaRight" fmla="*/ 1890720 w 21607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21"/>
          <p:cNvSpPr/>
          <p:nvPr/>
        </p:nvSpPr>
        <p:spPr>
          <a:xfrm>
            <a:off x="2914560" y="5214960"/>
            <a:ext cx="2014560" cy="928800"/>
          </a:xfrm>
          <a:prstGeom prst="diamond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XR, Bil 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2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hest Pain 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Oval 3"/>
          <p:cNvSpPr/>
          <p:nvPr/>
        </p:nvSpPr>
        <p:spPr>
          <a:xfrm>
            <a:off x="685800" y="914400"/>
            <a:ext cx="4032360" cy="2016000"/>
          </a:xfrm>
          <a:prstGeom prst="ellipse">
            <a:avLst/>
          </a:prstGeom>
          <a:solidFill>
            <a:srgbClr val="ffffff"/>
          </a:solidFill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w Ris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in that is pleurit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itional, 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producible with palpa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cribed as stabb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sts only second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4"/>
          <p:cNvSpPr/>
          <p:nvPr/>
        </p:nvSpPr>
        <p:spPr>
          <a:xfrm>
            <a:off x="4724280" y="1066680"/>
            <a:ext cx="4105440" cy="1873440"/>
          </a:xfrm>
          <a:prstGeom prst="ellipse">
            <a:avLst/>
          </a:prstGeom>
          <a:solidFill>
            <a:srgbClr val="ffffd9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obable Low Ris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in not related to exertion or tha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ccurs in a small inframammar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ea of the chest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1371600" y="53352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Risk Stratification </a:t>
            </a:r>
            <a:r>
              <a:rPr b="1" lang="en-GB" sz="1800" spc="-1" strike="noStrike">
                <a:solidFill>
                  <a:srgbClr val="333399"/>
                </a:solidFill>
                <a:latin typeface="Tahoma"/>
                <a:ea typeface="Estrangelo Edessa"/>
              </a:rPr>
              <a:t>&amp;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 Chest Pain History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6"/>
          <p:cNvSpPr/>
          <p:nvPr/>
        </p:nvSpPr>
        <p:spPr>
          <a:xfrm>
            <a:off x="1476360" y="2924280"/>
            <a:ext cx="6408720" cy="172692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obable High Ris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in described as pressur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similar to that of prior myocardial infarction 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se than prior anginal pain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accompanied by nausea, vomiting, or diaphor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7"/>
          <p:cNvSpPr/>
          <p:nvPr/>
        </p:nvSpPr>
        <p:spPr>
          <a:xfrm>
            <a:off x="685800" y="4800600"/>
            <a:ext cx="8137440" cy="180036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igh Risk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ain that radiates to one or both shoulders or arms or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s related to exertio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milar to previous cardiac ische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adiated to 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HD          DM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1"/>
          <p:cNvSpPr/>
          <p:nvPr/>
        </p:nvSpPr>
        <p:spPr>
          <a:xfrm>
            <a:off x="1676520" y="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hest Pain 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3"/>
          <p:cNvSpPr/>
          <p:nvPr/>
        </p:nvSpPr>
        <p:spPr>
          <a:xfrm>
            <a:off x="6227640" y="360"/>
            <a:ext cx="291636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 rtl="1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D ACS  Management and Algorith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عنصر نائب لرقم الشريحة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4A6A-A648-4760-BDFB-BAD64250B1E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357120" y="1571760"/>
            <a:ext cx="8786880" cy="45259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t">
            <a:normAutofit fontScale="98000"/>
          </a:bodyPr>
          <a:p>
            <a:pPr marL="3358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agnosis: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door-to-EC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referably less than 10 minutes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The decision to treat: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door-to-catheterization team activ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referably within 15–25 minutes 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nsition in care: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door-to-ED depar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referably within 45–60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hest Pain &amp; Tim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04D0-577D-4A3A-BEDA-C561F66F0EA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"/>
          <p:cNvSpPr/>
          <p:nvPr/>
        </p:nvSpPr>
        <p:spPr>
          <a:xfrm>
            <a:off x="1692360" y="0"/>
            <a:ext cx="5616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st Pain &amp; normal ECG &amp; CE in 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548280" y="685800"/>
            <a:ext cx="75114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serve for 6 hours with continuous 12 lead ECG monitor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1652760" y="1447920"/>
            <a:ext cx="51656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peate CK, troponin &amp; ECG in 6 to 8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611280" y="2349360"/>
            <a:ext cx="360036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y one of the foll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urent 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CG changes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 depression 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evation or t inversion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yth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itive Enzy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5148360" y="2349360"/>
            <a:ext cx="3529080" cy="1983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the foll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further 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ECG changes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 depression 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evation or t inversion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arryth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gative Enzy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5992920" y="5084640"/>
            <a:ext cx="14684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ess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6956640" y="5661000"/>
            <a:ext cx="6091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9"/>
          <p:cNvSpPr/>
          <p:nvPr/>
        </p:nvSpPr>
        <p:spPr>
          <a:xfrm>
            <a:off x="5165640" y="4941720"/>
            <a:ext cx="6030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0"/>
          <p:cNvSpPr/>
          <p:nvPr/>
        </p:nvSpPr>
        <p:spPr>
          <a:xfrm>
            <a:off x="1452960" y="5229360"/>
            <a:ext cx="13665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Ris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1"/>
          <p:cNvSpPr/>
          <p:nvPr/>
        </p:nvSpPr>
        <p:spPr>
          <a:xfrm>
            <a:off x="1116000" y="6138720"/>
            <a:ext cx="2376360" cy="719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CU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12"/>
          <p:cNvSpPr/>
          <p:nvPr/>
        </p:nvSpPr>
        <p:spPr>
          <a:xfrm rot="9072000">
            <a:off x="3051000" y="4679640"/>
            <a:ext cx="2027520" cy="235080"/>
          </a:xfrm>
          <a:prstGeom prst="rightArrow">
            <a:avLst>
              <a:gd name="adj1" fmla="val 50000"/>
              <a:gd name="adj2" fmla="val 215620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3"/>
          <p:cNvSpPr/>
          <p:nvPr/>
        </p:nvSpPr>
        <p:spPr>
          <a:xfrm rot="5400000">
            <a:off x="6337080" y="4545000"/>
            <a:ext cx="934920" cy="144360"/>
          </a:xfrm>
          <a:prstGeom prst="rightArrow">
            <a:avLst>
              <a:gd name="adj1" fmla="val 50000"/>
              <a:gd name="adj2" fmla="val 161908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4"/>
          <p:cNvSpPr/>
          <p:nvPr/>
        </p:nvSpPr>
        <p:spPr>
          <a:xfrm rot="10800000">
            <a:off x="3059280" y="5300280"/>
            <a:ext cx="2736720" cy="144360"/>
          </a:xfrm>
          <a:prstGeom prst="rightArrow">
            <a:avLst>
              <a:gd name="adj1" fmla="val 50000"/>
              <a:gd name="adj2" fmla="val 473940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5"/>
          <p:cNvSpPr/>
          <p:nvPr/>
        </p:nvSpPr>
        <p:spPr>
          <a:xfrm rot="5400000">
            <a:off x="6411600" y="5837400"/>
            <a:ext cx="787320" cy="145800"/>
          </a:xfrm>
          <a:prstGeom prst="rightArrow">
            <a:avLst>
              <a:gd name="adj1" fmla="val 50000"/>
              <a:gd name="adj2" fmla="val 135000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 anchorCtr="1" vert="eaVert" rot="10800000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6"/>
          <p:cNvSpPr/>
          <p:nvPr/>
        </p:nvSpPr>
        <p:spPr>
          <a:xfrm rot="5243400">
            <a:off x="1852200" y="5856120"/>
            <a:ext cx="395280" cy="144360"/>
          </a:xfrm>
          <a:prstGeom prst="rightArrow">
            <a:avLst>
              <a:gd name="adj1" fmla="val 50000"/>
              <a:gd name="adj2" fmla="val 68454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7"/>
          <p:cNvSpPr/>
          <p:nvPr/>
        </p:nvSpPr>
        <p:spPr>
          <a:xfrm rot="5400000">
            <a:off x="1548360" y="4509000"/>
            <a:ext cx="934920" cy="216000"/>
          </a:xfrm>
          <a:prstGeom prst="rightArrow">
            <a:avLst>
              <a:gd name="adj1" fmla="val 50000"/>
              <a:gd name="adj2" fmla="val 108208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8"/>
          <p:cNvSpPr/>
          <p:nvPr/>
        </p:nvSpPr>
        <p:spPr>
          <a:xfrm>
            <a:off x="4198320" y="4292640"/>
            <a:ext cx="5281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9"/>
          <p:cNvSpPr/>
          <p:nvPr/>
        </p:nvSpPr>
        <p:spPr>
          <a:xfrm>
            <a:off x="6585840" y="4365720"/>
            <a:ext cx="5907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0"/>
          <p:cNvSpPr/>
          <p:nvPr/>
        </p:nvSpPr>
        <p:spPr>
          <a:xfrm>
            <a:off x="6127560" y="6381720"/>
            <a:ext cx="138168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21"/>
          <p:cNvSpPr/>
          <p:nvPr/>
        </p:nvSpPr>
        <p:spPr>
          <a:xfrm rot="5243400">
            <a:off x="3994560" y="1197360"/>
            <a:ext cx="289080" cy="144360"/>
          </a:xfrm>
          <a:prstGeom prst="rightArrow">
            <a:avLst>
              <a:gd name="adj1" fmla="val 50000"/>
              <a:gd name="adj2" fmla="val 50062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22"/>
          <p:cNvSpPr/>
          <p:nvPr/>
        </p:nvSpPr>
        <p:spPr>
          <a:xfrm rot="5400000">
            <a:off x="1789560" y="2018520"/>
            <a:ext cx="459000" cy="228600"/>
          </a:xfrm>
          <a:prstGeom prst="rightArrow">
            <a:avLst>
              <a:gd name="adj1" fmla="val 50000"/>
              <a:gd name="adj2" fmla="val 50197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23"/>
          <p:cNvSpPr/>
          <p:nvPr/>
        </p:nvSpPr>
        <p:spPr>
          <a:xfrm rot="5243400">
            <a:off x="3996000" y="477000"/>
            <a:ext cx="285840" cy="144360"/>
          </a:xfrm>
          <a:prstGeom prst="rightArrow">
            <a:avLst>
              <a:gd name="adj1" fmla="val 50000"/>
              <a:gd name="adj2" fmla="val 49501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24"/>
          <p:cNvSpPr/>
          <p:nvPr/>
        </p:nvSpPr>
        <p:spPr>
          <a:xfrm rot="5243400">
            <a:off x="6046200" y="2030400"/>
            <a:ext cx="395280" cy="144360"/>
          </a:xfrm>
          <a:prstGeom prst="rightArrow">
            <a:avLst>
              <a:gd name="adj1" fmla="val 50000"/>
              <a:gd name="adj2" fmla="val 68454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عنصر نائب لرقم الشريحة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43FE-8DB9-4135-9E67-A7EFDDE9757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ge to a telemetry bed for immediate assessment and delivering ACLS if need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ment on a mon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S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3"/>
          <p:cNvSpPr/>
          <p:nvPr/>
        </p:nvSpPr>
        <p:spPr>
          <a:xfrm>
            <a:off x="5715000" y="4343400"/>
            <a:ext cx="3429000" cy="2209680"/>
          </a:xfrm>
          <a:prstGeom prst="cloudCallout">
            <a:avLst>
              <a:gd name="adj1" fmla="val -25925"/>
              <a:gd name="adj2" fmla="val -34842"/>
            </a:avLst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utes of patient arr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4"/>
          <p:cNvSpPr/>
          <p:nvPr/>
        </p:nvSpPr>
        <p:spPr>
          <a:xfrm rot="2464200">
            <a:off x="5649840" y="2205000"/>
            <a:ext cx="930240" cy="4454640"/>
          </a:xfrm>
          <a:custGeom>
            <a:avLst/>
            <a:gdLst>
              <a:gd name="textAreaLeft" fmla="*/ 0 w 930240"/>
              <a:gd name="textAreaRight" fmla="*/ 335880 w 930240"/>
              <a:gd name="textAreaTop" fmla="*/ 115920 h 4454640"/>
              <a:gd name="textAreaBottom" fmla="*/ 4338720 h 445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2520" y="0"/>
            <a:ext cx="3682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hest Pain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Immediat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4"/>
          <p:cNvSpPr/>
          <p:nvPr/>
        </p:nvSpPr>
        <p:spPr>
          <a:xfrm>
            <a:off x="1071720" y="2124000"/>
            <a:ext cx="7243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er oxygen to all patients with overt pulmonary congestion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arterial oxygen saturation &lt;90% (Class I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t is also</a:t>
            </a:r>
            <a:r>
              <a:rPr b="0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asonable to administer supplementary oxygen to all patients</a:t>
            </a:r>
            <a:r>
              <a:rPr b="0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ith ACS for the first 6 hours of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739800" y="79200"/>
            <a:ext cx="148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xyge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4"/>
          <p:cNvSpPr/>
          <p:nvPr/>
        </p:nvSpPr>
        <p:spPr>
          <a:xfrm>
            <a:off x="900000" y="1775880"/>
            <a:ext cx="727236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3300"/>
              </a:buClr>
              <a:buSzPct val="13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ight R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ed decreased mortality rates when ASA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given to hospitalized patients with ACS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13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637560" y="259560"/>
            <a:ext cx="15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spirin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971640" y="2996280"/>
            <a:ext cx="7416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rnational Study of Infarct Survival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ISIS)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ial (odds reduction=0.23; 95% CI, 0.15–0.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evidence from several very small studies suggests that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ioavailability and pharmacologic action of other formulations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SA (soluble, IV) may be as effective as chewed tablets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7 RCT</a:t>
            </a:r>
            <a:r>
              <a:rPr b="0" lang="en-US" sz="3200" spc="-1" strike="noStrike">
                <a:solidFill>
                  <a:srgbClr val="ff3300"/>
                </a:solidFill>
                <a:latin typeface="comic"/>
              </a:rPr>
              <a:t> indicated decreased mortality rates when ASA</a:t>
            </a:r>
            <a:r>
              <a:rPr b="0" lang="ar-SA" sz="3200" spc="-1" strike="noStrike">
                <a:solidFill>
                  <a:srgbClr val="ff3300"/>
                </a:solidFill>
                <a:latin typeface="comic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comic"/>
              </a:rPr>
              <a:t>was given as early as possible</a:t>
            </a:r>
            <a:r>
              <a:rPr b="0" lang="ar-SA" sz="3200" spc="-1" strike="noStrike">
                <a:solidFill>
                  <a:srgbClr val="ff3300"/>
                </a:solidFill>
                <a:latin typeface="comic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637560" y="259560"/>
            <a:ext cx="15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spirin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D94F-61D1-448C-868A-DE5D2FE5B4E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0" y="13716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level of discomfort does not necessarily correlate with the severity of illness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7093080" y="4941720"/>
            <a:ext cx="934920" cy="11512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1676520" y="3581280"/>
            <a:ext cx="401004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hest Pain 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0040" y="5428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imark D, Matetzky S, Leor J, Boyko V, Barbash IM, Behar S, Hod H. Timing of aspirin administration as a determinant of survival of patients with acute myocardial infarction treated with thrombolysis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m J Cardiol</a:t>
            </a:r>
            <a:r>
              <a:rPr b="0" i="1" lang="ar-SA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2002; 89: 381–38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71680" y="285768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users experienced lower mortality at 7 days (2.5% vs 6.0%, p = 0.01), 30 days (3.3% vs 7.3%, p = 0.008), and 1 year (5.0% vs 10.6%, p = 0.002) than late use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637560" y="259560"/>
            <a:ext cx="15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spirin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4"/>
          <p:cNvSpPr/>
          <p:nvPr/>
        </p:nvSpPr>
        <p:spPr>
          <a:xfrm>
            <a:off x="500040" y="2149560"/>
            <a:ext cx="810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a 300-mg oral loading dose of clopidogrel in addition to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care (ASA, heparin) to patients with ACS within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4 to 6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s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353160" y="47520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Clopidogrel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عنصر نائب للمحتوى 2"/>
          <p:cNvSpPr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pidogrel in combination with aspirin is more effective than ASA alone in reducing cardiovascular death, MI, and stroke for 9 months after the index vis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Clopidogrel in Unstable Angina to Prevent Recurrent Events Trial Investigators : Effects of clopidogrel in addition to aspirin in patients with acute coronary syndromes without ST-segment elevation.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N Engl J Med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2001;345:494.[errata,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N Engl J Med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345:1506, 1716, 2001]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353160" y="47520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Clopidogrel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the recen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LARITY TIMI 2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ial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not document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bleeding in patients undergoing CABG within 5 to 7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s of receiving clopidogr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-Current ACC/AHA recommendations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se withholding clopidogrel for 5 to 7 days before planned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BG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reasonable to give clopidogrel 300 mg orally to patients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suspected ACS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ithout ECG or cardiac marker chan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ho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hypersensitivity to or gastrointestinal intolerance of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A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Clopidogrel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4"/>
          <p:cNvSpPr/>
          <p:nvPr/>
        </p:nvSpPr>
        <p:spPr>
          <a:xfrm>
            <a:off x="395280" y="902520"/>
            <a:ext cx="87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ED giving LMWH instead of UFH in addition to aspirin</a:t>
            </a:r>
            <a:r>
              <a:rPr b="0" lang="ar-SA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atients with UA/NSTEMI is help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insufficient</a:t>
            </a:r>
            <a:r>
              <a:rPr b="0" lang="ar-SA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dence to identify the optimal time for administration after</a:t>
            </a:r>
            <a:r>
              <a:rPr b="0" lang="ar-SA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set of sympto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from one form of heparin to another (crossover</a:t>
            </a:r>
            <a:r>
              <a:rPr b="0" lang="ar-SA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ntithrombin therapy) during an acute event is not recommended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ar-SA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WH is an acceptable alternative to UFH as ancillary therapy</a:t>
            </a:r>
            <a:r>
              <a:rPr b="0" lang="ar-SA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atients with STEMI who are &lt;75 years of age and receiving</a:t>
            </a:r>
            <a:r>
              <a:rPr b="0" lang="ar-SA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brinolytic therap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428400" y="25920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Heparins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4"/>
          <p:cNvSpPr/>
          <p:nvPr/>
        </p:nvSpPr>
        <p:spPr>
          <a:xfrm>
            <a:off x="684360" y="911160"/>
            <a:ext cx="792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33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atients with STEMI proceeding to PCI, there is no evidence in favor of LMWH over U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WH (specifically enoxaparin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overall TIMI flow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onary reperfusion) and ischemic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comes better than UFH when given to patients with STEMI within 6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s of onset of symptoms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539640" y="4159440"/>
            <a:ext cx="8231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an de Werf FJ. Efficacy and safety of tenecteplase in combination with enoxaparin, abciximab, or unfractionated heparin: the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ASSENT-3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randomised trial in acute myocardial infarction</a:t>
            </a:r>
            <a:r>
              <a:rPr b="0" lang="ar-SA" sz="16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Lancet</a:t>
            </a:r>
            <a:r>
              <a:rPr b="0" i="1" lang="ar-SA" sz="16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0" lang="ar-SA" sz="1600" spc="-1" strike="noStrike">
                <a:solidFill>
                  <a:srgbClr val="333399"/>
                </a:solidFill>
                <a:latin typeface="Arial"/>
              </a:rPr>
              <a:t>2001; 358: 605–61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Wallentin L, Low molecular weight heparin (dalteparin) compared to unfractionated heparin as an adjunct to rt-PA (alteplase) for improvement of coronary artery patency in acute myocardial infarction—the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ASSENT Plus study</a:t>
            </a:r>
            <a:r>
              <a:rPr b="0" lang="ar-SA" sz="16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Eur Heart J</a:t>
            </a:r>
            <a:r>
              <a:rPr b="0" i="1" lang="ar-SA" sz="16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0" lang="ar-SA" sz="1600" spc="-1" strike="noStrike">
                <a:solidFill>
                  <a:srgbClr val="333399"/>
                </a:solidFill>
                <a:latin typeface="Arial"/>
              </a:rPr>
              <a:t>2003; 24: 897–908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326880" y="260280"/>
            <a:ext cx="17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Hepar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مستطيل 1"/>
          <p:cNvSpPr/>
          <p:nvPr/>
        </p:nvSpPr>
        <p:spPr>
          <a:xfrm>
            <a:off x="2371320" y="2214720"/>
            <a:ext cx="29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ndaparinu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4"/>
          <p:cNvSpPr/>
          <p:nvPr/>
        </p:nvSpPr>
        <p:spPr>
          <a:xfrm>
            <a:off x="468360" y="1281600"/>
            <a:ext cx="8136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3300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evascularization therapy (PCI or surgery) is planned, it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afe to give GP IIb/IIIa inhibitors in addition to standard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apy (including ASA and heparin) to patients with high-risk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A/NSTEMI in the 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herapy reduce the risk of death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recurrent ischem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revascularization therapy is not planned, the recommendation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use of GP IIb/IIIa varies by drug. Tirofiban and eptifibatide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be used in patients with high-risk UA/NSTEMI in conjunction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ASA and LMWH if PCI is not planned. But abciximab can be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mful in patients with high-risk UA/NSTEMI if early (eg, 24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rs) PCI is not planned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326880" y="259920"/>
            <a:ext cx="519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Glycoprotein IIb/IIIa Inhibitor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iximab is not currently recommended in patients receiving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brinolytics for STEM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atients treated with PCI without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brinolysis, abciximab is helpful in reducing mortality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s and short-term reinfar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20160" y="15559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Glycoprotein IIb/IIIa Inhibitor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3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lycoprotein IIb/IIIa Receptor Inhibitor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642960" y="2643120"/>
            <a:ext cx="82296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age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ixim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tifibat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rofib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D7FF-5805-4BAE-9E93-77EC0CE8C45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0" y="1447920"/>
            <a:ext cx="830592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ack of pain predicts increased hospital mortality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676520" y="3043080"/>
            <a:ext cx="40100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6934320" y="4952880"/>
            <a:ext cx="934920" cy="11509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hest Pain 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4"/>
          <p:cNvSpPr/>
          <p:nvPr/>
        </p:nvSpPr>
        <p:spPr>
          <a:xfrm>
            <a:off x="613800" y="188640"/>
            <a:ext cx="239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Fibrinolytics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5"/>
          <p:cNvSpPr/>
          <p:nvPr/>
        </p:nvSpPr>
        <p:spPr>
          <a:xfrm>
            <a:off x="428760" y="208692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ED fibrinolytics should be given to patients with symptoms of ACS and ECG evidence of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of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T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ew LB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rue posterior infar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مستطيل 1"/>
          <p:cNvSpPr/>
          <p:nvPr/>
        </p:nvSpPr>
        <p:spPr>
          <a:xfrm>
            <a:off x="928800" y="2136600"/>
            <a:ext cx="77864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HA recommen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brinolytics within 30 to 60 minutes of arrival in the emergency depart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encouraged that AMI patients who undergo primary PTCA have therapy initiated no later than 90 minutes after arri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613800" y="188640"/>
            <a:ext cx="239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Fibrinolytics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5" descr="f4-u1"/>
          <p:cNvPicPr/>
          <p:nvPr/>
        </p:nvPicPr>
        <p:blipFill>
          <a:blip r:embed="rId1"/>
          <a:stretch/>
        </p:blipFill>
        <p:spPr>
          <a:xfrm>
            <a:off x="785880" y="476280"/>
            <a:ext cx="7981920" cy="48816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6"/>
          <p:cNvSpPr/>
          <p:nvPr/>
        </p:nvSpPr>
        <p:spPr>
          <a:xfrm>
            <a:off x="785880" y="585972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ur Ds of emergency department (ED)–based diagnosis and management of the patient with acute myocardial infarction (AMI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4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8089920" cy="515304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5"/>
          <p:cNvSpPr/>
          <p:nvPr/>
        </p:nvSpPr>
        <p:spPr>
          <a:xfrm>
            <a:off x="6014520" y="259920"/>
            <a:ext cx="239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Fibrinolytics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6" descr=""/>
          <p:cNvPicPr/>
          <p:nvPr/>
        </p:nvPicPr>
        <p:blipFill>
          <a:blip r:embed="rId1"/>
          <a:stretch/>
        </p:blipFill>
        <p:spPr>
          <a:xfrm>
            <a:off x="826920" y="665280"/>
            <a:ext cx="8101080" cy="619272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7"/>
          <p:cNvSpPr/>
          <p:nvPr/>
        </p:nvSpPr>
        <p:spPr>
          <a:xfrm>
            <a:off x="611280" y="245520"/>
            <a:ext cx="79437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Fibrinoly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4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8526240" cy="339732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5"/>
          <p:cNvSpPr/>
          <p:nvPr/>
        </p:nvSpPr>
        <p:spPr>
          <a:xfrm>
            <a:off x="611280" y="259560"/>
            <a:ext cx="2305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Fibrinoly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6" descr=""/>
          <p:cNvPicPr/>
          <p:nvPr/>
        </p:nvPicPr>
        <p:blipFill>
          <a:blip r:embed="rId2"/>
          <a:stretch/>
        </p:blipFill>
        <p:spPr>
          <a:xfrm>
            <a:off x="714240" y="1357200"/>
            <a:ext cx="7864560" cy="5716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"/>
          <p:cNvPicPr/>
          <p:nvPr/>
        </p:nvPicPr>
        <p:blipFill>
          <a:blip r:embed="rId1"/>
          <a:stretch/>
        </p:blipFill>
        <p:spPr>
          <a:xfrm>
            <a:off x="0" y="1844640"/>
            <a:ext cx="8820000" cy="479268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5"/>
          <p:cNvSpPr/>
          <p:nvPr/>
        </p:nvSpPr>
        <p:spPr>
          <a:xfrm>
            <a:off x="179280" y="188280"/>
            <a:ext cx="248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Fibrinoly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6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7864560" cy="3380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024760" cy="507348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5"/>
          <p:cNvSpPr/>
          <p:nvPr/>
        </p:nvSpPr>
        <p:spPr>
          <a:xfrm>
            <a:off x="0" y="259560"/>
            <a:ext cx="2398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Fibrinoly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6" descr=""/>
          <p:cNvPicPr/>
          <p:nvPr/>
        </p:nvPicPr>
        <p:blipFill>
          <a:blip r:embed="rId2"/>
          <a:stretch/>
        </p:blipFill>
        <p:spPr>
          <a:xfrm>
            <a:off x="539640" y="1052640"/>
            <a:ext cx="7864560" cy="3380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3"/>
          <p:cNvSpPr/>
          <p:nvPr/>
        </p:nvSpPr>
        <p:spPr>
          <a:xfrm>
            <a:off x="285840" y="2643120"/>
            <a:ext cx="864396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longer half-life allows it to be administered as a single bo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 times more fibrin specific than t-PA and even more so than r-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) 80 times more resistant to plasminogen activator inhibitor type 1 than t-P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NK was equally or minimally more effective, particularly in late present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مستطيل 2"/>
          <p:cNvSpPr/>
          <p:nvPr/>
        </p:nvSpPr>
        <p:spPr>
          <a:xfrm>
            <a:off x="249840" y="107172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0" y="259560"/>
            <a:ext cx="2398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Fibrinoly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مستطيل 4"/>
          <p:cNvSpPr/>
          <p:nvPr/>
        </p:nvSpPr>
        <p:spPr>
          <a:xfrm>
            <a:off x="428760" y="1643040"/>
            <a:ext cx="8072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NK has several interesting characteristics and associated potential benefi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عنصر نائب للمحتوى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studies of intravenous NTG in the setting of AMI are from the prefibrinolytic er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a-analysis of multiple small trials noted a 35% mortality reduction with intravenous NT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Yusuf S: Effect of intravenous nitrates on mortality in acute myocardial infarction: An overview of the randomized trials.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Lancet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988;1:108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مستطيل 2"/>
          <p:cNvSpPr/>
          <p:nvPr/>
        </p:nvSpPr>
        <p:spPr>
          <a:xfrm>
            <a:off x="79560" y="100008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itroglyce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CCE4-EFB1-47FA-AA63-B9E134FCE80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0" y="15652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e chest pain history itself has been proven to be a powerful enough predictive tool to obviate the need for at least some diagnostic testing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7866000" y="4589640"/>
            <a:ext cx="935280" cy="11509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1447920" y="3809880"/>
            <a:ext cx="401004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hest Pain 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radycar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ypo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ferior wall 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ight ventricular infar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مستطيل 2"/>
          <p:cNvSpPr/>
          <p:nvPr/>
        </p:nvSpPr>
        <p:spPr>
          <a:xfrm>
            <a:off x="370080" y="85716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oglyce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"/>
          <p:cNvSpPr/>
          <p:nvPr/>
        </p:nvSpPr>
        <p:spPr>
          <a:xfrm>
            <a:off x="409320" y="52884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Magnesium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826920" y="246816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SIS-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rolled &gt;58 000 patients and showed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rend towar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creased morta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n magnesium was given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-hospital for primary arrhythmia prophylaxis to patients within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4 hours of known or suspected AMI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349560" y="475560"/>
            <a:ext cx="211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ß-Blockers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357120" y="1032480"/>
            <a:ext cx="8447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33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ED treat ACS patients promptly with IV ß-blockers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ed by oral ß-block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% reduction in the risk of subsequent 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ß-Blockers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given irrespective of the need for revascularization therapies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indications to ß-blockers inclu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o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adycar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art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rate to severe CH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ctive airway disease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4"/>
          <p:cNvSpPr/>
          <p:nvPr/>
        </p:nvSpPr>
        <p:spPr>
          <a:xfrm>
            <a:off x="903600" y="404280"/>
            <a:ext cx="264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ACE Inhibitor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179280" y="1607400"/>
            <a:ext cx="871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an oral ACE inhibitor within 24 hours after onset of sympt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ension (systolic blood pressure &lt;100 mm Hg or more than 3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 Hg below baselin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 inhibitors are most effective in patients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infar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monary con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ventricular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ection fraction &lt;40%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giving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V ACE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ibitors within the first 24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ACE Inhibitor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عنصر نائب لرقم الشريحة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0AE0-0549-48EA-9724-4E258DD9E67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5335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723920" y="1981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 Patient centere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0" y="6211080"/>
            <a:ext cx="8915400" cy="642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Kelly L. Miller,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oving from Evidence to Practice in the Care of Patients Who Have Acute Coronary Syndrome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Cardiology Clinics Volume 24 Num 1 Feb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0" y="0"/>
            <a:ext cx="716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CEPTS OF QUALITY AND QUALITY IMPROVEMENT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 aims for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عنصر نائب لرقم الشريحة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A426-C615-4B59-8DC2-E1E73FB56D2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ack of 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ack of famili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self-effic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outcome expect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ertia of previous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barri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3"/>
          <p:cNvSpPr/>
          <p:nvPr/>
        </p:nvSpPr>
        <p:spPr>
          <a:xfrm>
            <a:off x="8280" y="181080"/>
            <a:ext cx="689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IMPROVING PRACTICE PATTERNS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BARRIERS TO EVIDENCE-BASED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6172200" y="3352680"/>
            <a:ext cx="2971800" cy="1557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ous feedback on guideline adherence &amp; patien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6083280" y="2500200"/>
            <a:ext cx="3073320" cy="459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ducational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6"/>
          <p:cNvSpPr/>
          <p:nvPr/>
        </p:nvSpPr>
        <p:spPr>
          <a:xfrm>
            <a:off x="4495680" y="2286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7"/>
          <p:cNvSpPr/>
          <p:nvPr/>
        </p:nvSpPr>
        <p:spPr>
          <a:xfrm>
            <a:off x="4572000" y="2819520"/>
            <a:ext cx="1428840" cy="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8"/>
          <p:cNvSpPr/>
          <p:nvPr/>
        </p:nvSpPr>
        <p:spPr>
          <a:xfrm>
            <a:off x="464832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9"/>
          <p:cNvSpPr/>
          <p:nvPr/>
        </p:nvSpPr>
        <p:spPr>
          <a:xfrm>
            <a:off x="4648320" y="3809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5897-876D-4845-9FE8-14ABF87D899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49568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3"/>
          <p:cNvSpPr/>
          <p:nvPr/>
        </p:nvSpPr>
        <p:spPr>
          <a:xfrm>
            <a:off x="0" y="6211080"/>
            <a:ext cx="9144000" cy="642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The cycle of clinical therapeutics. (</a:t>
            </a:r>
            <a:r>
              <a:rPr b="0" i="1" lang="en-US" sz="1800" spc="-1" strike="noStrike">
                <a:solidFill>
                  <a:srgbClr val="800000"/>
                </a:solidFill>
                <a:latin typeface="Arial"/>
              </a:rPr>
              <a:t>Adapted from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Califf RM, Peterson ED, Gibbons RJ, et al. Integrating quality into the cycle of therapeutic development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4"/>
          <p:cNvSpPr/>
          <p:nvPr/>
        </p:nvSpPr>
        <p:spPr>
          <a:xfrm>
            <a:off x="6480" y="-360"/>
            <a:ext cx="457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CYCLE OF CONTINUOUS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QUALITY IMPROVEMENT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2"/>
          <p:cNvSpPr/>
          <p:nvPr/>
        </p:nvSpPr>
        <p:spPr>
          <a:xfrm>
            <a:off x="1371600" y="533520"/>
            <a:ext cx="6840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rehensive management plan can be assembled 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3"/>
          <p:cNvSpPr/>
          <p:nvPr/>
        </p:nvSpPr>
        <p:spPr>
          <a:xfrm>
            <a:off x="858960" y="1828800"/>
            <a:ext cx="2730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CDE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1397520" y="3498840"/>
            <a:ext cx="4232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tiplatlet, anticoagulant, ACEI &amp; A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1356840" y="3932280"/>
            <a:ext cx="42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. blocker and blood pressur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6"/>
          <p:cNvSpPr/>
          <p:nvPr/>
        </p:nvSpPr>
        <p:spPr>
          <a:xfrm>
            <a:off x="1323720" y="4363920"/>
            <a:ext cx="5255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olesterol and cigarette control and ces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1416960" y="4795920"/>
            <a:ext cx="2354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et and Dm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8"/>
          <p:cNvSpPr/>
          <p:nvPr/>
        </p:nvSpPr>
        <p:spPr>
          <a:xfrm>
            <a:off x="1452600" y="5227560"/>
            <a:ext cx="106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erc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9"/>
          <p:cNvSpPr/>
          <p:nvPr/>
        </p:nvSpPr>
        <p:spPr>
          <a:xfrm>
            <a:off x="931320" y="3498840"/>
            <a:ext cx="339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0"/>
          <p:cNvSpPr/>
          <p:nvPr/>
        </p:nvSpPr>
        <p:spPr>
          <a:xfrm>
            <a:off x="934200" y="3932280"/>
            <a:ext cx="3348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1"/>
          <p:cNvSpPr/>
          <p:nvPr/>
        </p:nvSpPr>
        <p:spPr>
          <a:xfrm>
            <a:off x="934920" y="4363920"/>
            <a:ext cx="326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2"/>
          <p:cNvSpPr/>
          <p:nvPr/>
        </p:nvSpPr>
        <p:spPr>
          <a:xfrm>
            <a:off x="900000" y="4795920"/>
            <a:ext cx="385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3"/>
          <p:cNvSpPr/>
          <p:nvPr/>
        </p:nvSpPr>
        <p:spPr>
          <a:xfrm>
            <a:off x="928800" y="5214960"/>
            <a:ext cx="358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8"/>
          <p:cNvSpPr/>
          <p:nvPr/>
        </p:nvSpPr>
        <p:spPr>
          <a:xfrm>
            <a:off x="6227640" y="360"/>
            <a:ext cx="291636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 rtl="1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D ACS  Management and Algorith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53F7-EFA4-466F-89C4-EA998444F02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1430280" y="2421000"/>
            <a:ext cx="4572000" cy="37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diation to shou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diation to both a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ning/indigestion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usea/vom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tional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er chest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0" y="13716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mong the following features which one has the highest predictive value for ACS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6759720" y="4508640"/>
            <a:ext cx="1582560" cy="20890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hest Pain 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4669-7B9C-4E3D-8A22-C7A61A5ABAC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1474920" y="2349360"/>
            <a:ext cx="4572000" cy="31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us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phore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spn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o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ms p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in epigastri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9999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0" y="1523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most frequent NON CHEST PAIN symptom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 AC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6442200" y="5084640"/>
            <a:ext cx="934920" cy="11509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hest Pain 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عنصر نائب لرقم الشريحة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447E-6D24-43C9-AB62-56F2B90A72B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T Scan is available tool to exclude ACS in low to medium risk patient with chest pain in 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7866000" y="4589640"/>
            <a:ext cx="935280" cy="11509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1447920" y="3809880"/>
            <a:ext cx="401004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hest Pain 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00:27:08Z</dcterms:created>
  <dc:creator>Dr.Sami</dc:creator>
  <dc:description/>
  <dc:language>en-US</dc:language>
  <cp:lastModifiedBy>admin</cp:lastModifiedBy>
  <dcterms:modified xsi:type="dcterms:W3CDTF">2014-05-19T05:40:06Z</dcterms:modified>
  <cp:revision>27</cp:revision>
  <dc:subject/>
  <dc:title>Slide 1</dc:title>
</cp:coreProperties>
</file>