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4.png" ContentType="image/png"/>
  <Override PartName="/ppt/media/image1.gif" ContentType="image/gif"/>
  <Override PartName="/ppt/media/image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B885-473B-4C0C-AB5B-58E0776772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7413-272F-4031-8D65-FD1403915C2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38120" y="914400"/>
            <a:ext cx="4181760" cy="3135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8D2-05AC-4E9E-AEB7-030B510D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DD9-FA04-48C8-B3E6-4B1BFAD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51E-7CDB-4FCB-B44E-A1DBFF86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C7B4-CFE3-4405-88DD-43958839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E47E-5350-4E75-9046-D4187F42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7AAC-FFBA-4799-AA03-1F80BFA0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A90F-398B-4243-A706-CDA7F628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2F69-EA17-469C-B133-3B4E74EB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D5F-F824-491C-9A41-2CA7435A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9AF5-F5B2-4C7A-92F3-8ABCF6ED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F6E5-3B6C-41A6-A636-9CDC730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3EE-AE86-4D8B-A0B5-BAE2127B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6264-96E1-4085-A2E3-89920B8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9F9F-6818-43BB-8B16-B9A94EA7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FDD9-88A1-42FF-908C-B9328498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5498-F32D-41C5-A93D-A9C838AA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D9FA-D104-4F05-B400-4F6D09A5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B1C-29A4-4D4D-B9AE-BCB413DF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C4E5-BAF6-43C9-9868-013860F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83F5-5A1C-4844-825F-EB258D4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8320-D649-4895-9667-D869DCC7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B69E-16C4-4A69-BC16-6F67ECCF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E54C-A49C-441A-9A29-C3735579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497-78C1-4F50-AA21-EDF7D5C4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BD16-0CB3-461C-BC31-DE745D83570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DE5B-94D5-4099-9F50-54C0D72E73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Coronary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214280" y="2071800"/>
            <a:ext cx="6875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Zohair Alaseri, 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CPc,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CPc, Critical Care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tensivist and Emergency Medicine Consultant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rector, Department of Emergency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ing Khalid University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iyadh, KSA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DF7E-234F-44BC-9B05-C68D31BC9D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atient less than 40 years and some cardiac risk factors has low probability of 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7866000" y="458964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1447920" y="38098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4D30-7E4D-4DE4-B6D9-0EAF461871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atient more than 65 years and no cardiac risk factors has low probability of A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866000" y="532116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447920" y="454176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F013-64F5-4485-AD41-2C1EF532C8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bef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ysician sees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the actions of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riage staff and other non-physici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n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8741-1368-4B1C-A3D7-499C7B0B15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atients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ill not admit hav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st “pain,” but will acknowledge the presence of chest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“discomfo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057400" y="3962520"/>
            <a:ext cx="2762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Pain in Arab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og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gh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467E-B1DE-44CA-85E7-E108C40965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990720" y="1143000"/>
          <a:ext cx="751680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751680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5"/>
          <p:cNvSpPr/>
          <p:nvPr/>
        </p:nvSpPr>
        <p:spPr>
          <a:xfrm>
            <a:off x="1983600" y="12952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746080" y="16002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660480" y="2209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422600" y="29718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181480" y="2286000"/>
            <a:ext cx="7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4698000" y="249228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0" y="6219000"/>
            <a:ext cx="914400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Goodacre S, Locker T, Morris F, Campbell S. How useful are clinical features in the diagnosis of acute, undifferentiated chest pain? </a:t>
            </a:r>
            <a:r>
              <a:rPr b="0" i="1" lang="en-US" sz="1800" spc="-1" strike="noStrike">
                <a:solidFill>
                  <a:srgbClr val="800000"/>
                </a:solidFill>
                <a:latin typeface="Tahoma"/>
              </a:rPr>
              <a:t>Acad Emerg Med.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2002;9:203-2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497240" y="558900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variate Analysis of Predictors of Acute Myocardial Infarction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3537360" y="1341360"/>
            <a:ext cx="1765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ahoma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6098760" y="34290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0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75DB-B81B-4899-9E7A-D4D1AD9693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5705640"/>
            <a:ext cx="914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Lee TH, Cook EF, Weisberg M, Sargent RK, Wilson C, Goldman L. Acute chest pain in the emergency room. Identification and examination of low-risk patients. Arch Intern Med 1985;145:65–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90720" y="1219320"/>
            <a:ext cx="75438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ypical symptoms do not necessarily rule out acute coronary syndr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2 percent of 596 patients who presented to ED with sharp or stabbing pain had A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6"/>
          <p:cNvSpPr txBox="1"/>
          <p:nvPr/>
        </p:nvSpPr>
        <p:spPr>
          <a:xfrm>
            <a:off x="533520" y="3352680"/>
            <a:ext cx="1224000" cy="381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t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Rectangle 7"/>
          <p:cNvSpPr/>
          <p:nvPr/>
        </p:nvSpPr>
        <p:spPr>
          <a:xfrm flipV="1" rot="10800000">
            <a:off x="1600200" y="4113720"/>
            <a:ext cx="6556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A combination of atypical symptoms improves identification of low-risk patients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.</a:t>
            </a:r>
            <a:r>
              <a:rPr b="0" lang="en-US" sz="24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2922-35A7-4F4F-8EFE-DFADF5D4EE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820760"/>
            <a:ext cx="9144000" cy="20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Goldm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L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Cook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Brand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D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t al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A computer protocol to predict myocardial infarction in emergency department patients with chest pain</a:t>
            </a:r>
            <a:r>
              <a:rPr b="0" lang="ar-SA" sz="1800" spc="-1" strike="noStrike">
                <a:solidFill>
                  <a:srgbClr val="8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N Engl J Med</a:t>
            </a:r>
            <a:r>
              <a:rPr b="0" lang="ar-SA" sz="1800" spc="-1" strike="noStrike">
                <a:solidFill>
                  <a:srgbClr val="800000"/>
                </a:solidFill>
                <a:latin typeface="Tahoma"/>
              </a:rPr>
              <a:t> (1988) 318 : 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pp 707-8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Goldma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L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Cook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Johnso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P.,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et al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Prediction of the need for intensive care in patients who come to the emergency department with acute chest pain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  </a:t>
            </a:r>
            <a:r>
              <a:rPr b="0" lang="en-US" sz="1800" spc="-1" strike="noStrike">
                <a:solidFill>
                  <a:srgbClr val="800000"/>
                </a:solidFill>
                <a:latin typeface="Tahoma"/>
              </a:rPr>
              <a:t> N Engl J Med (1996) 334 : pp 1498-15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219320" y="2292480"/>
            <a:ext cx="7391160" cy="16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886" y="22594"/>
                </a:moveTo>
                <a:lnTo>
                  <a:pt x="21266" y="22594"/>
                </a:lnTo>
              </a:path>
            </a:pathLst>
          </a:custGeom>
          <a:solidFill>
            <a:srgbClr val="ffffff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 who describe their discomfort as </a:t>
            </a:r>
            <a:r>
              <a:rPr b="0" lang="en-US" sz="2800" spc="-1" strike="noStrike" u="sng">
                <a:solidFill>
                  <a:srgbClr val="800000"/>
                </a:solidFill>
                <a:uFillTx/>
                <a:latin typeface="Tahoma"/>
              </a:rPr>
              <a:t>Simila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previous episodes of cardiac ischemia are more likely to have A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4D9D-87C0-4014-AC62-9B1C5A3110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027080" y="21286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asy-to-remember for possible precipitating factors is the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3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ritic,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tional, or re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ucible chest p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ikely represents a non-ACS synd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2160" y="990720"/>
            <a:ext cx="62186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ecipitating and Aggravating Factors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B71-8182-4AEE-A67C-D1A3347232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11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900000" y="2421000"/>
          <a:ext cx="7956720" cy="35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795672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7"/>
          <p:cNvSpPr/>
          <p:nvPr/>
        </p:nvSpPr>
        <p:spPr>
          <a:xfrm>
            <a:off x="1327320" y="429084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no change in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313280" y="349884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minimal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17600" y="2778120"/>
            <a:ext cx="39830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moderate re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1322640" y="5154480"/>
            <a:ext cx="6479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atients had significant or complete reduction in pai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684360" y="1844640"/>
            <a:ext cx="3354120" cy="435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6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4724280" y="1523880"/>
            <a:ext cx="4419720" cy="77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diac-related in 122 patients (18%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-3240" y="105264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Response to Nitroglyc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0" y="5759280"/>
            <a:ext cx="9144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Diercks DB, Boghos E, Guzman H, et al.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hanges in the numeric descriptive scale for pain after sublingual nitroglycerin do not predict cardiac etiology of chest pain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Ann Emerg Med.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2005;45:581-585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84B6-C468-4B15-BF73-B358AC4460C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5857920"/>
            <a:ext cx="9144000" cy="100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Servi RJ, Skiendzielewski JJ.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Relief of myocardial ischemia pain with a GI cocktail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800000"/>
                </a:solidFill>
                <a:latin typeface="Arial"/>
              </a:rPr>
              <a:t>Am J Emerg Med.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1985;3:208-2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06668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't help to differe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-41400" y="11667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I Cock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1F77-97E8-4F90-AC85-0B80AF8657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st Pain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diac risk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rdiac bioma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CG in 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St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maging mod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S OF QUALITY AND QUALITY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ute Coronary Syndr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عنصر نائب لرقم الشريحة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9B96-824B-473C-BFEE-BBF7738EC8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/AH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uidelines list the following as pain descriptions that ar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characteristic of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440" y="0"/>
            <a:ext cx="32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typical Chest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80880" y="2514600"/>
            <a:ext cx="8458200" cy="375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euritic p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, sharp or knife-like pain brought on by respiratory movements or cough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ddle or lower abd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ed at the tip of one finger, particularly over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LV) ape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produced with movement or pal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hest wall or ar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an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ry 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diates into the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BD62-BF29-456B-98CF-A5771483D0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6124680" y="6153120"/>
            <a:ext cx="3019320" cy="704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873000" y="1865160"/>
            <a:ext cx="6613560" cy="386424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1219320" y="5827680"/>
            <a:ext cx="73692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r" rtl="1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Brieger, D. et al. Chest 2004;126:461-4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0" y="1219680"/>
            <a:ext cx="881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 rtl="1">
              <a:lnSpc>
                <a:spcPct val="97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ominant presenting symptoms in patients without chest pain (total exceeds 100% as patients may have presented with more than one dominant sympt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20" y="0"/>
            <a:ext cx="45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CS without Ches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27CF-26AD-4B0A-A9C9-7CA4A3DFB7A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228600" y="0"/>
            <a:ext cx="50468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ft Clinica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-called “soft clinical features,”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zz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uding of the mind,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ring in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11% to 4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atients who have 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C7F1-5A00-4736-B1C5-11CD9C72DD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Pope J., </a:t>
            </a: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Clinical features of emergency department patients presenting with symptoms of acute cardiac ischemia: a multicenter study</a:t>
            </a:r>
            <a:br>
              <a:rPr sz="1600"/>
            </a:br>
            <a:r>
              <a:rPr b="0" i="1" lang="en-US" sz="1600" spc="-1" strike="noStrike">
                <a:solidFill>
                  <a:srgbClr val="993300"/>
                </a:solidFill>
                <a:latin typeface="Arial"/>
              </a:rPr>
              <a:t>J Thromb Thrombolysis</a:t>
            </a:r>
            <a:r>
              <a:rPr b="0" i="1" lang="ar-SA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6 (1998)</a:t>
            </a:r>
            <a:r>
              <a:rPr b="0" lang="ar-SA" sz="1600" spc="-1" strike="noStrike">
                <a:solidFill>
                  <a:srgbClr val="993300"/>
                </a:solidFill>
                <a:latin typeface="Arial"/>
              </a:rPr>
              <a:t> :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pp 63-74</a:t>
            </a:r>
            <a:r>
              <a:rPr b="0" lang="ar-SA" sz="1600" spc="-1" strike="noStrike">
                <a:solidFill>
                  <a:srgbClr val="9933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diac ischemia can present with abdominal p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240" y="1565280"/>
            <a:ext cx="277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bdominal P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9941-F2B7-4EF0-9898-30A6D4B8BC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6668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Cloud"/>
          <p:cNvSpPr/>
          <p:nvPr/>
        </p:nvSpPr>
        <p:spPr>
          <a:xfrm>
            <a:off x="0" y="1828800"/>
            <a:ext cx="9144000" cy="3962520"/>
          </a:xfrm>
          <a:custGeom>
            <a:avLst/>
            <a:gdLst>
              <a:gd name="textAreaLeft" fmla="*/ 1260000 w 9144000"/>
              <a:gd name="textAreaRight" fmla="*/ 7233480 w 9144000"/>
              <a:gd name="textAreaTop" fmla="*/ 598320 h 3962520"/>
              <a:gd name="textAreaBottom" fmla="*/ 3180600 h 39625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371600" y="2362320"/>
            <a:ext cx="691344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ngsana New"/>
              </a:rPr>
              <a:t>If a patient already carries a known diagnosis of IHD, a risk factor analysis is unnecessary because the risk is known to be 100%</a:t>
            </a:r>
            <a:r>
              <a:rPr b="0" lang="ar-SA" sz="4400" spc="-1" strike="noStrike">
                <a:solidFill>
                  <a:srgbClr val="ffff00"/>
                </a:solidFill>
                <a:latin typeface="Angsana New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75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48D0-1856-4AB8-BE20-811C312690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23320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nclu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diac risk factor burden has 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lim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value in diagno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ED setting, especially in patients older than 4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57240" y="6033240"/>
            <a:ext cx="9086760" cy="8240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Jin H. Han, </a:t>
            </a:r>
            <a:r>
              <a:rPr b="1" i="1" lang="en-US" sz="1600" spc="-1" strike="noStrike">
                <a:solidFill>
                  <a:srgbClr val="800000"/>
                </a:solidFill>
                <a:latin typeface="Arial"/>
              </a:rPr>
              <a:t>The Role of Cardiac Risk Factor Burden in Diagnosing Acute Coronary Syndromes in the Emergency Department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Annals of Emergency Medicine</a:t>
            </a:r>
            <a:r>
              <a:rPr b="0" lang="syr-TR" sz="1600" spc="-1" strike="noStrike">
                <a:solidFill>
                  <a:srgbClr val="800000"/>
                </a:solidFill>
                <a:latin typeface="Arial"/>
                <a:ea typeface="Estrangelo Edessa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Volume 49 • Number 2 • Februar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45720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ardiac Risk Factor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520" y="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5A42-E48D-4E0D-8D64-E0CCD243D1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image?id=5790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B63C-1C08-4A88-BE8A-D6C35993D3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258920" y="2205000"/>
            <a:ext cx="754380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examination in patients with ACS frequently is 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inous find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itral regurgitation mur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po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lmonary 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3 gal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V disten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chycar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adycard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716400" y="6165720"/>
            <a:ext cx="84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portends a patient at high risk for ischemic complication</a:t>
            </a:r>
            <a:r>
              <a:rPr b="0" lang="en-US" sz="2400" spc="-1" strike="noStrike">
                <a:solidFill>
                  <a:srgbClr val="9933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j0292570[1]"/>
          <p:cNvPicPr/>
          <p:nvPr/>
        </p:nvPicPr>
        <p:blipFill>
          <a:blip r:embed="rId1"/>
          <a:stretch/>
        </p:blipFill>
        <p:spPr>
          <a:xfrm>
            <a:off x="6948360" y="4365720"/>
            <a:ext cx="1739880" cy="13572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7"/>
          <p:cNvSpPr/>
          <p:nvPr/>
        </p:nvSpPr>
        <p:spPr>
          <a:xfrm>
            <a:off x="3276720" y="189000"/>
            <a:ext cx="3456000" cy="431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ahoma"/>
              </a:rPr>
              <a:t>Phys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250920" y="189000"/>
            <a:ext cx="2520720" cy="576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ACS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3995640" y="1413000"/>
            <a:ext cx="1600200" cy="533160"/>
          </a:xfrm>
          <a:prstGeom prst="flowChartTerminator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Tahoma"/>
              </a:rPr>
              <a:t>I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0" y="1413000"/>
            <a:ext cx="1600200" cy="533160"/>
          </a:xfrm>
          <a:prstGeom prst="flowChartTerminator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00"/>
                </a:solidFill>
                <a:latin typeface="Tahoma"/>
              </a:rPr>
              <a:t>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1"/>
          <p:cNvSpPr/>
          <p:nvPr/>
        </p:nvSpPr>
        <p:spPr>
          <a:xfrm>
            <a:off x="7308720" y="1484280"/>
            <a:ext cx="1835280" cy="533520"/>
          </a:xfrm>
          <a:prstGeom prst="flowChartTerminator">
            <a:avLst/>
          </a:prstGeom>
          <a:noFill/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3300"/>
                </a:solidFill>
                <a:latin typeface="Tahoma"/>
              </a:rPr>
              <a:t>Com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2"/>
          <p:cNvSpPr/>
          <p:nvPr/>
        </p:nvSpPr>
        <p:spPr>
          <a:xfrm rot="9162600">
            <a:off x="1579320" y="820440"/>
            <a:ext cx="1884240" cy="257040"/>
          </a:xfrm>
          <a:prstGeom prst="rightArrow">
            <a:avLst>
              <a:gd name="adj1" fmla="val 50000"/>
              <a:gd name="adj2" fmla="val 18326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3"/>
          <p:cNvSpPr/>
          <p:nvPr/>
        </p:nvSpPr>
        <p:spPr>
          <a:xfrm rot="1688400">
            <a:off x="6443280" y="836280"/>
            <a:ext cx="1657440" cy="287280"/>
          </a:xfrm>
          <a:prstGeom prst="rightArrow">
            <a:avLst>
              <a:gd name="adj1" fmla="val 50000"/>
              <a:gd name="adj2" fmla="val 14423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4"/>
          <p:cNvSpPr/>
          <p:nvPr/>
        </p:nvSpPr>
        <p:spPr>
          <a:xfrm rot="5400000">
            <a:off x="4284000" y="90900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F696-4957-47CD-B8F9-339ECF934C6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PBFig3_img"/>
          <p:cNvPicPr/>
          <p:nvPr/>
        </p:nvPicPr>
        <p:blipFill>
          <a:blip r:embed="rId1"/>
          <a:stretch/>
        </p:blipFill>
        <p:spPr>
          <a:xfrm>
            <a:off x="1828800" y="1600200"/>
            <a:ext cx="6105600" cy="40384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hest Pain &amp; Bio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4A1F-8D17-4427-90A2-BB641B3FC2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607680"/>
            <a:ext cx="63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yocardial perfusion imaging and multidetector CT accuracy (n=85)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905120"/>
          <a:ext cx="8686800" cy="3276360"/>
        </p:xfrm>
        <a:graphic>
          <a:graphicData uri="http://schemas.openxmlformats.org/drawingml/2006/table">
            <a:tbl>
              <a:tblPr/>
              <a:tblGrid>
                <a:gridCol w="2523960"/>
                <a:gridCol w="1783080"/>
                <a:gridCol w="1769760"/>
                <a:gridCol w="1271880"/>
                <a:gridCol w="1338120"/>
              </a:tblGrid>
              <a:tr h="52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ing Meth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f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V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V (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ss nuclear imaging (95% C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 (5/7)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6%–92%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detector CT (95% C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 (6/7)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 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efefef"/>
                      </a:solidFill>
                    </a:lnL>
                    <a:lnR w="4320">
                      <a:solidFill>
                        <a:srgbClr val="efefef"/>
                      </a:solidFill>
                    </a:lnR>
                    <a:lnT w="4320">
                      <a:solidFill>
                        <a:srgbClr val="efefef"/>
                      </a:solidFill>
                    </a:lnT>
                    <a:lnB w="4320">
                      <a:solidFill>
                        <a:srgbClr val="efefe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Rectangle 29"/>
          <p:cNvSpPr/>
          <p:nvPr/>
        </p:nvSpPr>
        <p:spPr>
          <a:xfrm>
            <a:off x="1689120" y="2001960"/>
            <a:ext cx="7920" cy="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0"/>
          <p:cNvSpPr/>
          <p:nvPr/>
        </p:nvSpPr>
        <p:spPr>
          <a:xfrm>
            <a:off x="1690560" y="41767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1"/>
          <p:cNvSpPr/>
          <p:nvPr/>
        </p:nvSpPr>
        <p:spPr>
          <a:xfrm>
            <a:off x="0" y="5784480"/>
            <a:ext cx="8915400" cy="10674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Michael J. Gallagher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he Diagnostic Accuracy of 64-Slice Computed Tomography Coronary Angiography Compared With Stress Nuclear Imaging in Emergency Department Low-Risk Chest Pain Patients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 Annals of Emergency Medicine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Volume 49 • Number 2 • February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A5E55-C979-4B91-92DB-F2C070D5C0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934920" cy="11512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971640" y="19890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t with DM,HTN and FH of heart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t with typical chest pain and ECG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0 year old diabetic &amp; hypertensive male Patient with typical 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 year old female with typical chest pain &amp; PMH of 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752480"/>
            <a:ext cx="86104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Among the following patients who has the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ighest risk for ACS</a:t>
            </a: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F5DE-39D9-479E-AF55-7F223BC8F5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066680" y="289548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itial 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arly management of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unstable angina, STEMI, and NSTE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equently are simil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-121680" y="1752480"/>
            <a:ext cx="529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Why the term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is useful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A5AC-D85E-42BC-9C5A-CF14F2C6FF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659640" y="6021360"/>
            <a:ext cx="1982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3333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884160" y="2276640"/>
            <a:ext cx="9306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998160" y="2155680"/>
            <a:ext cx="4734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st pain or angina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843840" y="2924280"/>
            <a:ext cx="15508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n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5590800" y="3068640"/>
            <a:ext cx="7354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893520" y="4076640"/>
            <a:ext cx="764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3395520" y="4100400"/>
            <a:ext cx="1905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6469560" y="4100400"/>
            <a:ext cx="24040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T ele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829800" y="4941720"/>
            <a:ext cx="18327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o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3818520" y="4964040"/>
            <a:ext cx="1035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K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5219640" y="4869000"/>
            <a:ext cx="13683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oponin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7020000" y="4869000"/>
            <a:ext cx="12240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oponin 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6"/>
          <p:cNvSpPr/>
          <p:nvPr/>
        </p:nvSpPr>
        <p:spPr>
          <a:xfrm>
            <a:off x="855000" y="5877000"/>
            <a:ext cx="13525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"/>
          <p:cNvSpPr/>
          <p:nvPr/>
        </p:nvSpPr>
        <p:spPr>
          <a:xfrm>
            <a:off x="3839040" y="5950080"/>
            <a:ext cx="9277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u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8"/>
          <p:cNvSpPr/>
          <p:nvPr/>
        </p:nvSpPr>
        <p:spPr>
          <a:xfrm>
            <a:off x="2556000" y="2349360"/>
            <a:ext cx="718920" cy="216000"/>
          </a:xfrm>
          <a:prstGeom prst="rightArrow">
            <a:avLst>
              <a:gd name="adj1" fmla="val 50000"/>
              <a:gd name="adj2" fmla="val 8320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9"/>
          <p:cNvSpPr/>
          <p:nvPr/>
        </p:nvSpPr>
        <p:spPr>
          <a:xfrm>
            <a:off x="1835280" y="4149720"/>
            <a:ext cx="1439640" cy="216000"/>
          </a:xfrm>
          <a:prstGeom prst="rightArrow">
            <a:avLst>
              <a:gd name="adj1" fmla="val 50000"/>
              <a:gd name="adj2" fmla="val 166625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0"/>
          <p:cNvSpPr/>
          <p:nvPr/>
        </p:nvSpPr>
        <p:spPr>
          <a:xfrm>
            <a:off x="2627280" y="501336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1"/>
          <p:cNvSpPr/>
          <p:nvPr/>
        </p:nvSpPr>
        <p:spPr>
          <a:xfrm>
            <a:off x="2556000" y="5877000"/>
            <a:ext cx="718920" cy="288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2"/>
          <p:cNvSpPr/>
          <p:nvPr/>
        </p:nvSpPr>
        <p:spPr>
          <a:xfrm rot="5400000">
            <a:off x="4104720" y="469080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 rot="5400000">
            <a:off x="4103280" y="5624280"/>
            <a:ext cx="358560" cy="142920"/>
          </a:xfrm>
          <a:prstGeom prst="rightArrow">
            <a:avLst>
              <a:gd name="adj1" fmla="val 50000"/>
              <a:gd name="adj2" fmla="val 6272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 rot="5400000">
            <a:off x="7343280" y="5769000"/>
            <a:ext cx="358920" cy="142920"/>
          </a:xfrm>
          <a:prstGeom prst="rightArrow">
            <a:avLst>
              <a:gd name="adj1" fmla="val 50000"/>
              <a:gd name="adj2" fmla="val 6278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5"/>
          <p:cNvSpPr/>
          <p:nvPr/>
        </p:nvSpPr>
        <p:spPr>
          <a:xfrm rot="5400000">
            <a:off x="7414560" y="4617720"/>
            <a:ext cx="216000" cy="142920"/>
          </a:xfrm>
          <a:prstGeom prst="rightArrow">
            <a:avLst>
              <a:gd name="adj1" fmla="val 50000"/>
              <a:gd name="adj2" fmla="val 3778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6"/>
          <p:cNvSpPr/>
          <p:nvPr/>
        </p:nvSpPr>
        <p:spPr>
          <a:xfrm>
            <a:off x="4284720" y="3789360"/>
            <a:ext cx="3240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7"/>
          <p:cNvSpPr/>
          <p:nvPr/>
        </p:nvSpPr>
        <p:spPr>
          <a:xfrm>
            <a:off x="5940360" y="3573360"/>
            <a:ext cx="0" cy="2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8"/>
          <p:cNvSpPr/>
          <p:nvPr/>
        </p:nvSpPr>
        <p:spPr>
          <a:xfrm>
            <a:off x="4284720" y="3789360"/>
            <a:ext cx="0" cy="287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9"/>
          <p:cNvSpPr/>
          <p:nvPr/>
        </p:nvSpPr>
        <p:spPr>
          <a:xfrm>
            <a:off x="7524720" y="3789360"/>
            <a:ext cx="0" cy="287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0"/>
          <p:cNvSpPr/>
          <p:nvPr/>
        </p:nvSpPr>
        <p:spPr>
          <a:xfrm>
            <a:off x="2411280" y="3284640"/>
            <a:ext cx="2592360" cy="144360"/>
          </a:xfrm>
          <a:prstGeom prst="rightArrow">
            <a:avLst>
              <a:gd name="adj1" fmla="val 50000"/>
              <a:gd name="adj2" fmla="val 44894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884520" y="1484280"/>
            <a:ext cx="1245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ri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3"/>
          <p:cNvSpPr/>
          <p:nvPr/>
        </p:nvSpPr>
        <p:spPr>
          <a:xfrm>
            <a:off x="6732720" y="3068640"/>
            <a:ext cx="216036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onitored 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4"/>
          <p:cNvSpPr/>
          <p:nvPr/>
        </p:nvSpPr>
        <p:spPr>
          <a:xfrm>
            <a:off x="6372360" y="3284640"/>
            <a:ext cx="360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5"/>
          <p:cNvSpPr/>
          <p:nvPr/>
        </p:nvSpPr>
        <p:spPr>
          <a:xfrm rot="8520600">
            <a:off x="4767120" y="5705640"/>
            <a:ext cx="470160" cy="123840"/>
          </a:xfrm>
          <a:prstGeom prst="rightArrow">
            <a:avLst>
              <a:gd name="adj1" fmla="val 50000"/>
              <a:gd name="adj2" fmla="val 94913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36"/>
          <p:cNvSpPr/>
          <p:nvPr/>
        </p:nvSpPr>
        <p:spPr>
          <a:xfrm rot="10800000">
            <a:off x="6011640" y="4436640"/>
            <a:ext cx="433080" cy="360360"/>
          </a:xfrm>
          <a:custGeom>
            <a:avLst/>
            <a:gdLst>
              <a:gd name="textAreaLeft" fmla="*/ 0 w 433080"/>
              <a:gd name="textAreaRight" fmla="*/ 371160 w 43308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7"/>
          <p:cNvSpPr/>
          <p:nvPr/>
        </p:nvSpPr>
        <p:spPr>
          <a:xfrm flipV="1" rot="152400">
            <a:off x="5292720" y="4436280"/>
            <a:ext cx="433440" cy="358920"/>
          </a:xfrm>
          <a:custGeom>
            <a:avLst/>
            <a:gdLst>
              <a:gd name="textAreaLeft" fmla="*/ 0 w 433440"/>
              <a:gd name="textAreaRight" fmla="*/ 371520 w 433440"/>
              <a:gd name="textAreaTop" fmla="*/ 23940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E072-86C1-4FF3-A5CF-48341E4B0D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3640" y="907920"/>
            <a:ext cx="216036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hest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09760" y="4017960"/>
            <a:ext cx="335268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sophageal perf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1619280" y="6066000"/>
            <a:ext cx="129528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4643280" y="3500280"/>
            <a:ext cx="160020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gno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6372360" y="1916280"/>
            <a:ext cx="160020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9"/>
          <p:cNvSpPr/>
          <p:nvPr/>
        </p:nvSpPr>
        <p:spPr>
          <a:xfrm>
            <a:off x="1258920" y="2060640"/>
            <a:ext cx="160020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1119240" y="4627440"/>
            <a:ext cx="220968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neumoth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1"/>
          <p:cNvSpPr/>
          <p:nvPr/>
        </p:nvSpPr>
        <p:spPr>
          <a:xfrm>
            <a:off x="1424160" y="5389560"/>
            <a:ext cx="1600200" cy="53352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A Dis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"/>
          <p:cNvSpPr/>
          <p:nvPr/>
        </p:nvSpPr>
        <p:spPr>
          <a:xfrm>
            <a:off x="5867280" y="5084640"/>
            <a:ext cx="2819520" cy="9129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ti ischemic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raind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/>
          <p:cNvSpPr/>
          <p:nvPr/>
        </p:nvSpPr>
        <p:spPr>
          <a:xfrm>
            <a:off x="7543800" y="3645000"/>
            <a:ext cx="1600200" cy="533160"/>
          </a:xfrm>
          <a:prstGeom prst="flowChartTerminator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4"/>
          <p:cNvSpPr/>
          <p:nvPr/>
        </p:nvSpPr>
        <p:spPr>
          <a:xfrm rot="1306200">
            <a:off x="4944960" y="1630440"/>
            <a:ext cx="1295640" cy="21600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5"/>
          <p:cNvSpPr/>
          <p:nvPr/>
        </p:nvSpPr>
        <p:spPr>
          <a:xfrm rot="9024000">
            <a:off x="2731680" y="1709280"/>
            <a:ext cx="1244520" cy="216000"/>
          </a:xfrm>
          <a:custGeom>
            <a:avLst/>
            <a:gdLst>
              <a:gd name="textAreaLeft" fmla="*/ 194400 w 1244520"/>
              <a:gd name="textAreaRight" fmla="*/ 1089000 w 12445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 rot="7890600">
            <a:off x="5471640" y="2817360"/>
            <a:ext cx="1043280" cy="106560"/>
          </a:xfrm>
          <a:custGeom>
            <a:avLst/>
            <a:gdLst>
              <a:gd name="textAreaLeft" fmla="*/ 162720 w 1043280"/>
              <a:gd name="textAreaRight" fmla="*/ 912960 w 1043280"/>
              <a:gd name="textAreaTop" fmla="*/ 26640 h 106560"/>
              <a:gd name="textAreaBottom" fmla="*/ 79920 h 106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 rot="2877000">
            <a:off x="7488000" y="2889000"/>
            <a:ext cx="1042920" cy="106200"/>
          </a:xfrm>
          <a:custGeom>
            <a:avLst/>
            <a:gdLst>
              <a:gd name="textAreaLeft" fmla="*/ 162720 w 1042920"/>
              <a:gd name="textAreaRight" fmla="*/ 912600 w 1042920"/>
              <a:gd name="textAreaTop" fmla="*/ 26640 h 106200"/>
              <a:gd name="textAreaBottom" fmla="*/ 79920 h 106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 rot="5400000">
            <a:off x="5760720" y="3537000"/>
            <a:ext cx="2158920" cy="215640"/>
          </a:xfrm>
          <a:custGeom>
            <a:avLst/>
            <a:gdLst>
              <a:gd name="textAreaLeft" fmla="*/ 337320 w 2158920"/>
              <a:gd name="textAreaRight" fmla="*/ 1889280 w 215892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9"/>
          <p:cNvSpPr/>
          <p:nvPr/>
        </p:nvSpPr>
        <p:spPr>
          <a:xfrm>
            <a:off x="971640" y="2781360"/>
            <a:ext cx="230508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Life Threa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0"/>
          <p:cNvSpPr/>
          <p:nvPr/>
        </p:nvSpPr>
        <p:spPr>
          <a:xfrm>
            <a:off x="3708360" y="2133720"/>
            <a:ext cx="2160720" cy="217440"/>
          </a:xfrm>
          <a:custGeom>
            <a:avLst/>
            <a:gdLst>
              <a:gd name="textAreaLeft" fmla="*/ 337320 w 2160720"/>
              <a:gd name="textAreaRight" fmla="*/ 1890720 w 21607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21"/>
          <p:cNvSpPr/>
          <p:nvPr/>
        </p:nvSpPr>
        <p:spPr>
          <a:xfrm>
            <a:off x="2914560" y="5214960"/>
            <a:ext cx="2014560" cy="928800"/>
          </a:xfrm>
          <a:prstGeom prst="diamond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XR, Bil 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3"/>
          <p:cNvSpPr/>
          <p:nvPr/>
        </p:nvSpPr>
        <p:spPr>
          <a:xfrm>
            <a:off x="685800" y="914400"/>
            <a:ext cx="4032360" cy="2016000"/>
          </a:xfrm>
          <a:prstGeom prst="ellipse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w R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n that is pleurit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onal, 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roducible with palpa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cribed as stabb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ts only second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"/>
          <p:cNvSpPr/>
          <p:nvPr/>
        </p:nvSpPr>
        <p:spPr>
          <a:xfrm>
            <a:off x="4724280" y="1066680"/>
            <a:ext cx="4105440" cy="1873440"/>
          </a:xfrm>
          <a:prstGeom prst="ellipse">
            <a:avLst/>
          </a:prstGeom>
          <a:solidFill>
            <a:srgbClr val="ffffd9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bable Low R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n not related to exertion or tha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ccurs in a small inframamma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ea of the chest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1371600" y="5335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Risk Stratification </a:t>
            </a:r>
            <a:r>
              <a:rPr b="1" lang="en-GB" sz="1800" spc="-1" strike="noStrike">
                <a:solidFill>
                  <a:srgbClr val="333399"/>
                </a:solidFill>
                <a:latin typeface="Tahoma"/>
                <a:ea typeface="Estrangelo Edessa"/>
              </a:rPr>
              <a:t>&amp;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Chest Pain History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6"/>
          <p:cNvSpPr/>
          <p:nvPr/>
        </p:nvSpPr>
        <p:spPr>
          <a:xfrm>
            <a:off x="1476360" y="2924280"/>
            <a:ext cx="6408720" cy="172692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bable High R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in described as pressu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similar to that of prior myocardial infarction 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se than prior anginal pain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accompanied by nausea, vomiting, or diaphor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85800" y="4800600"/>
            <a:ext cx="8137440" cy="1800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igh Ris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in that radiates to one or both shoulders or arms o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s related to exerti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milar to previous cardiac isch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adiated to a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HD          DM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167652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6227640" y="360"/>
            <a:ext cx="29163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 rtl="1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 ACS  Management and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354-79DD-4BF1-831C-66730276CB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357120" y="1571760"/>
            <a:ext cx="8786880" cy="452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txBody>
          <a:bodyPr anchor="t">
            <a:normAutofit fontScale="98000"/>
          </a:bodyPr>
          <a:p>
            <a:pPr marL="3358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gnosis: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oor-to-EC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ferably less than 10 minutes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The decision to treat: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oor-to-catheterization team activ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ferably within 15–25 minutes 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ition in care: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oor-to-ED depar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referably within 45–6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hest Pain &amp; 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1051-600C-4186-BDCC-C2935470887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1692360" y="0"/>
            <a:ext cx="561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st Pain &amp; normal ECG &amp; CE in 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548280" y="685800"/>
            <a:ext cx="75114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bserve for 6 hours with continuous 12 lead ECG monitor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52760" y="1447920"/>
            <a:ext cx="5165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peate CK, troponin &amp; ECG in 6 to 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611280" y="2349360"/>
            <a:ext cx="360036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y one of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urent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G change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 depression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ation or t inversion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yth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5148360" y="2349360"/>
            <a:ext cx="3529080" cy="1983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the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urther 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ECG changes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 depression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levation or t inversion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arryth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5992920" y="5084640"/>
            <a:ext cx="1468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6956640" y="5661000"/>
            <a:ext cx="609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165640" y="4941720"/>
            <a:ext cx="6030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1452960" y="5229360"/>
            <a:ext cx="1366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Ris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1116000" y="6138720"/>
            <a:ext cx="2376360" cy="719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CU Ad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2"/>
          <p:cNvSpPr/>
          <p:nvPr/>
        </p:nvSpPr>
        <p:spPr>
          <a:xfrm rot="9072000">
            <a:off x="3051000" y="4679640"/>
            <a:ext cx="2027520" cy="235080"/>
          </a:xfrm>
          <a:prstGeom prst="rightArrow">
            <a:avLst>
              <a:gd name="adj1" fmla="val 50000"/>
              <a:gd name="adj2" fmla="val 21562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3"/>
          <p:cNvSpPr/>
          <p:nvPr/>
        </p:nvSpPr>
        <p:spPr>
          <a:xfrm rot="5400000">
            <a:off x="6337080" y="4545000"/>
            <a:ext cx="934920" cy="144360"/>
          </a:xfrm>
          <a:prstGeom prst="rightArrow">
            <a:avLst>
              <a:gd name="adj1" fmla="val 50000"/>
              <a:gd name="adj2" fmla="val 16190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4"/>
          <p:cNvSpPr/>
          <p:nvPr/>
        </p:nvSpPr>
        <p:spPr>
          <a:xfrm rot="10800000">
            <a:off x="3059280" y="5300280"/>
            <a:ext cx="2736720" cy="144360"/>
          </a:xfrm>
          <a:prstGeom prst="rightArrow">
            <a:avLst>
              <a:gd name="adj1" fmla="val 50000"/>
              <a:gd name="adj2" fmla="val 47394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5"/>
          <p:cNvSpPr/>
          <p:nvPr/>
        </p:nvSpPr>
        <p:spPr>
          <a:xfrm rot="5400000">
            <a:off x="6411600" y="5837400"/>
            <a:ext cx="787320" cy="145800"/>
          </a:xfrm>
          <a:prstGeom prst="rightArrow">
            <a:avLst>
              <a:gd name="adj1" fmla="val 50000"/>
              <a:gd name="adj2" fmla="val 135000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 anchorCtr="1" vert="eaVert" rot="10800000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6"/>
          <p:cNvSpPr/>
          <p:nvPr/>
        </p:nvSpPr>
        <p:spPr>
          <a:xfrm rot="5243400">
            <a:off x="1852200" y="5856120"/>
            <a:ext cx="395280" cy="144360"/>
          </a:xfrm>
          <a:prstGeom prst="rightArrow">
            <a:avLst>
              <a:gd name="adj1" fmla="val 50000"/>
              <a:gd name="adj2" fmla="val 68454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7"/>
          <p:cNvSpPr/>
          <p:nvPr/>
        </p:nvSpPr>
        <p:spPr>
          <a:xfrm rot="5400000">
            <a:off x="1548360" y="4509000"/>
            <a:ext cx="934920" cy="216000"/>
          </a:xfrm>
          <a:prstGeom prst="rightArrow">
            <a:avLst>
              <a:gd name="adj1" fmla="val 50000"/>
              <a:gd name="adj2" fmla="val 108208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4198320" y="4292640"/>
            <a:ext cx="528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6585840" y="4365720"/>
            <a:ext cx="590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0"/>
          <p:cNvSpPr/>
          <p:nvPr/>
        </p:nvSpPr>
        <p:spPr>
          <a:xfrm>
            <a:off x="6127560" y="6381720"/>
            <a:ext cx="13816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 rot="5243400">
            <a:off x="3994560" y="1197360"/>
            <a:ext cx="289080" cy="144360"/>
          </a:xfrm>
          <a:prstGeom prst="rightArrow">
            <a:avLst>
              <a:gd name="adj1" fmla="val 50000"/>
              <a:gd name="adj2" fmla="val 50062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2"/>
          <p:cNvSpPr/>
          <p:nvPr/>
        </p:nvSpPr>
        <p:spPr>
          <a:xfrm rot="5400000">
            <a:off x="1789560" y="2018520"/>
            <a:ext cx="459000" cy="228600"/>
          </a:xfrm>
          <a:prstGeom prst="rightArrow">
            <a:avLst>
              <a:gd name="adj1" fmla="val 50000"/>
              <a:gd name="adj2" fmla="val 50197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3"/>
          <p:cNvSpPr/>
          <p:nvPr/>
        </p:nvSpPr>
        <p:spPr>
          <a:xfrm rot="5243400">
            <a:off x="3996000" y="477000"/>
            <a:ext cx="285840" cy="144360"/>
          </a:xfrm>
          <a:prstGeom prst="rightArrow">
            <a:avLst>
              <a:gd name="adj1" fmla="val 50000"/>
              <a:gd name="adj2" fmla="val 49501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4"/>
          <p:cNvSpPr/>
          <p:nvPr/>
        </p:nvSpPr>
        <p:spPr>
          <a:xfrm rot="5243400">
            <a:off x="6046200" y="2030400"/>
            <a:ext cx="395280" cy="144360"/>
          </a:xfrm>
          <a:prstGeom prst="rightArrow">
            <a:avLst>
              <a:gd name="adj1" fmla="val 50000"/>
              <a:gd name="adj2" fmla="val 68454"/>
            </a:avLst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5AE0-98E4-4C75-BB6D-1BC9DCD5F8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ge to a telemetry bed for immediate assessment and delivering ACLS if nee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ment on a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5715000" y="4343400"/>
            <a:ext cx="3429000" cy="2209680"/>
          </a:xfrm>
          <a:prstGeom prst="cloudCallout">
            <a:avLst>
              <a:gd name="adj1" fmla="val -25925"/>
              <a:gd name="adj2" fmla="val -34842"/>
            </a:avLst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utes of patient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 rot="2464200">
            <a:off x="5649840" y="2205000"/>
            <a:ext cx="930240" cy="4454640"/>
          </a:xfrm>
          <a:custGeom>
            <a:avLst/>
            <a:gdLst>
              <a:gd name="textAreaLeft" fmla="*/ 0 w 930240"/>
              <a:gd name="textAreaRight" fmla="*/ 335880 w 930240"/>
              <a:gd name="textAreaTop" fmla="*/ 115920 h 4454640"/>
              <a:gd name="textAreaBottom" fmla="*/ 4338720 h 445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2520" y="0"/>
            <a:ext cx="368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mediat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4"/>
          <p:cNvSpPr/>
          <p:nvPr/>
        </p:nvSpPr>
        <p:spPr>
          <a:xfrm>
            <a:off x="1071720" y="2124000"/>
            <a:ext cx="724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er oxygen to all patients with overt pulmonary congestio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rterial oxygen saturation &lt;90% (Class 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is also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asonable to administer supplementary oxygen to all patients</a:t>
            </a:r>
            <a:r>
              <a:rPr b="0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ith ACS for the first 6 hours of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739800" y="7920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xyge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900000" y="1775880"/>
            <a:ext cx="72723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ight R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d decreased mortality rates when AS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given to hospitalized patients with AC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3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37560" y="25956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971640" y="2996280"/>
            <a:ext cx="7416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ational Study of Infarct Surviva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ISIS)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l (odds reduction=0.23; 95% CI, 0.15–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vidence from several very small studies suggests tha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oavailability and pharmacologic action of other formulatio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SA (soluble, IV) may be as effective as chewed tablet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"/>
              </a:rPr>
              <a:t>7 RCT</a:t>
            </a: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 indicated decreased mortality rates when ASA</a:t>
            </a:r>
            <a:r>
              <a:rPr b="0" lang="ar-SA" sz="3200" spc="-1" strike="noStrike">
                <a:solidFill>
                  <a:srgbClr val="ff3300"/>
                </a:solidFill>
                <a:latin typeface="comic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comic"/>
              </a:rPr>
              <a:t>was given as early as possible</a:t>
            </a:r>
            <a:r>
              <a:rPr b="0" lang="ar-SA" sz="3200" spc="-1" strike="noStrike">
                <a:solidFill>
                  <a:srgbClr val="ff3300"/>
                </a:solidFill>
                <a:latin typeface="com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37560" y="25956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4E75-5616-45CB-8773-83A382AAB9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1371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level of discomfort does not necessarily correlate with the severity of illnes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934920" cy="1151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1676520" y="35812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542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imark D, Matetzky S, Leor J, Boyko V, Barbash IM, Behar S, Hod H. Timing of aspirin administration as a determinant of survival of patients with acute myocardial infarction treated with thrombolysis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m J Cardiol</a:t>
            </a:r>
            <a:r>
              <a:rPr b="0" i="1" lang="ar-SA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2002; 89: 381–38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71680" y="28576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users experienced lower mortality at 7 days (2.5% vs 6.0%, p = 0.01), 30 days (3.3% vs 7.3%, p = 0.008), and 1 year (5.0% vs 10.6%, p = 0.002) than late use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637560" y="259560"/>
            <a:ext cx="15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spirin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500040" y="2149560"/>
            <a:ext cx="810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300-mg oral loading dose of clopidogrel in addition to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are (ASA, heparin) to patients with ACS with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to 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53160" y="4752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lopidogrel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عنصر نائب للمحتوى 2"/>
          <p:cNvSpPr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pidogrel in combination with aspirin is more effective than ASA alone in reducing cardiovascular death, MI, and stroke for 9 months after the index vis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Clopidogrel in Unstable Angina to Prevent Recurrent Events Trial Investigators : Effects of clopidogrel in addition to aspirin in patients with acute coronary syndromes without ST-segment elevation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N Engl J M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001;345:494.[errata,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N Engl J Me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345:1506, 1716, 2001]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353160" y="4752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Clopidogrel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recen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ARITY TIMI 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al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 not documen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bleeding in patients undergoing CABG within 5 to 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s of receiving clopidogr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-Current ACC/AHA recommendatio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 withholding clopidogrel for 5 to 7 days before planne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B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asonable to give clopidogrel 300 mg orally to patient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spected ACS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out ECG or cardiac marker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o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hypersensitivity to or gastrointestinal intolerance o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Clopidogrel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95280" y="90252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D giving LMWH instead of UFH in addition to aspirin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atients with UA/NSTEMI is help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insufficient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to identify the optimal time for administration after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set of sympto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rom one form of heparin to another (crossover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tithrombin therapy) during an acute event is not recommende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WH is an acceptable alternative to UFH as ancillary therapy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atients with STEMI who are &lt;75 years of age and receiving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tic therap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"/>
          <p:cNvSpPr/>
          <p:nvPr/>
        </p:nvSpPr>
        <p:spPr>
          <a:xfrm>
            <a:off x="428400" y="25920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parins</a:t>
            </a:r>
            <a:r>
              <a:rPr b="0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4"/>
          <p:cNvSpPr/>
          <p:nvPr/>
        </p:nvSpPr>
        <p:spPr>
          <a:xfrm>
            <a:off x="684360" y="911160"/>
            <a:ext cx="792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with STEMI proceeding to PCI, there is no evidence in favor of LMWH over U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WH (specifically enoxapari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verall TIMI flow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ary reperfusion) and ischemic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s better than UFH when given to patients with STEMI within 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s of onset of symptom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539640" y="4159440"/>
            <a:ext cx="8231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an de Werf FJ. Efficacy and safety of tenecteplase in combination with enoxaparin, abciximab, or unfractionated heparin: the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SSENT-3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randomised trial in acute myocardial infarction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Lancet</a:t>
            </a:r>
            <a:r>
              <a:rPr b="0" i="1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2001; 358: 605–61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allentin L, Low molecular weight heparin (dalteparin) compared to unfractionated heparin as an adjunct to rt-PA (alteplase) for improvement of coronary artery patency in acute myocardial infarction—the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ASSENT Plus study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Eur Heart J</a:t>
            </a:r>
            <a:r>
              <a:rPr b="0" i="1" lang="ar-SA" sz="1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ar-SA" sz="1600" spc="-1" strike="noStrike">
                <a:solidFill>
                  <a:srgbClr val="333399"/>
                </a:solidFill>
                <a:latin typeface="Arial"/>
              </a:rPr>
              <a:t>2003; 24: 897–90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326880" y="26028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Hepar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مستطيل 1"/>
          <p:cNvSpPr/>
          <p:nvPr/>
        </p:nvSpPr>
        <p:spPr>
          <a:xfrm>
            <a:off x="2371320" y="2214720"/>
            <a:ext cx="29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ndaparin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468360" y="1281600"/>
            <a:ext cx="8136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3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evascularization therapy (PCI or surgery) is planned, i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afe to give GP IIb/IIIa inhibitors in addition to standar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(including ASA and heparin) to patients with high-risk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A/NSTEMI in the 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4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rapy reduce the risk of death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recurrent ischem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vascularization therapy is not planned, the recommendation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use of GP IIb/IIIa varies by drug. Tirofiban and eptifibatid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used in patients with high-risk UA/NSTEMI in conjunction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SA and LMWH if PCI is not planned. But abciximab can be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mful in patients with high-risk UA/NSTEMI if early (eg, 24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rs) PCI is not planned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326880" y="259920"/>
            <a:ext cx="51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Glycoprotein IIb/IIIa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iximab is not currently recommended in patients receiving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tics for STE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treated with PCI without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sis, abciximab is helpful in reducing mortality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s and short-term reinfar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20160" y="1555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Glycoprotein IIb/IIIa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3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ycoprotein IIb/IIIa Receptor Inhibitor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42960" y="2643120"/>
            <a:ext cx="82296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g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cixim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tifiba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ofib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DF22-07EC-4638-A570-7FC7050AF3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1447920"/>
            <a:ext cx="83059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ck of pain predicts increased hospital mortalit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676520" y="3043080"/>
            <a:ext cx="4010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6934320" y="4952880"/>
            <a:ext cx="934920" cy="1150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613800" y="188640"/>
            <a:ext cx="23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28760" y="208692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D fibrinolytics should be given to patients with symptoms of ACS and ECG evidence o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ew L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rue posterior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مستطيل 1"/>
          <p:cNvSpPr/>
          <p:nvPr/>
        </p:nvSpPr>
        <p:spPr>
          <a:xfrm>
            <a:off x="928800" y="2136600"/>
            <a:ext cx="7786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HA recomm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olytics within 30 to 60 minutes of arrival in the emergency depar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encouraged that AMI patients who undergo primary PTCA have therapy initiated no later than 90 minutes after arr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613800" y="188640"/>
            <a:ext cx="23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5" descr="f4-u1"/>
          <p:cNvPicPr/>
          <p:nvPr/>
        </p:nvPicPr>
        <p:blipFill>
          <a:blip r:embed="rId1"/>
          <a:stretch/>
        </p:blipFill>
        <p:spPr>
          <a:xfrm>
            <a:off x="785880" y="476280"/>
            <a:ext cx="7981920" cy="48816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785880" y="58597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Ds of emergency department (ED)–based diagnosis and management of the patient with acute myocardial infarction (AM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89920" cy="51530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5"/>
          <p:cNvSpPr/>
          <p:nvPr/>
        </p:nvSpPr>
        <p:spPr>
          <a:xfrm>
            <a:off x="6014520" y="259920"/>
            <a:ext cx="239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6" descr=""/>
          <p:cNvPicPr/>
          <p:nvPr/>
        </p:nvPicPr>
        <p:blipFill>
          <a:blip r:embed="rId1"/>
          <a:stretch/>
        </p:blipFill>
        <p:spPr>
          <a:xfrm>
            <a:off x="826920" y="665280"/>
            <a:ext cx="8101080" cy="619272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611280" y="245520"/>
            <a:ext cx="7943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8526240" cy="339732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"/>
          <p:cNvSpPr/>
          <p:nvPr/>
        </p:nvSpPr>
        <p:spPr>
          <a:xfrm>
            <a:off x="611280" y="259560"/>
            <a:ext cx="230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64560" cy="5716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0" y="1844640"/>
            <a:ext cx="8820000" cy="4792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5"/>
          <p:cNvSpPr/>
          <p:nvPr/>
        </p:nvSpPr>
        <p:spPr>
          <a:xfrm>
            <a:off x="179280" y="188280"/>
            <a:ext cx="24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7864560" cy="338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24760" cy="507348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0" y="259560"/>
            <a:ext cx="2398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2"/>
          <a:stretch/>
        </p:blipFill>
        <p:spPr>
          <a:xfrm>
            <a:off x="539640" y="1052640"/>
            <a:ext cx="7864560" cy="3380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285840" y="2643120"/>
            <a:ext cx="864396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longer half-life allows it to be administered as a single bo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times more fibrin specific than t-PA and even more so than r-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80 times more resistant to plasminogen activator inhibitor type 1 than t-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K was equally or minimally more effective, particularly in late present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مستطيل 2"/>
          <p:cNvSpPr/>
          <p:nvPr/>
        </p:nvSpPr>
        <p:spPr>
          <a:xfrm>
            <a:off x="249840" y="107172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0" y="259560"/>
            <a:ext cx="2398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Fibrinoly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مستطيل 4"/>
          <p:cNvSpPr/>
          <p:nvPr/>
        </p:nvSpPr>
        <p:spPr>
          <a:xfrm>
            <a:off x="428760" y="1643040"/>
            <a:ext cx="8072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NK has several interesting characteristics and associated potential benef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عنصر نائب للمحتوى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studies of intravenous NTG in the setting of AMI are from the prefibrinolytic er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ta-analysis of multiple small trials noted a 35% mortality reduction with intravenous NT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Yusuf S: Effect of intravenous nitrates on mortality in acute myocardial infarction: An overview of the randomized trials.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Lance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988;1:10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مستطيل 2"/>
          <p:cNvSpPr/>
          <p:nvPr/>
        </p:nvSpPr>
        <p:spPr>
          <a:xfrm>
            <a:off x="79560" y="100008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troglyc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257-AB6E-4523-A0BC-464834346B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1565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chest pain history itself has been proven to be a powerful enough predictive tool to obviate the need for at least some diagnostic testing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7866000" y="458964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447920" y="38098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radyca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ferior wall 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ight ventricular infar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مستطيل 2"/>
          <p:cNvSpPr/>
          <p:nvPr/>
        </p:nvSpPr>
        <p:spPr>
          <a:xfrm>
            <a:off x="370080" y="85716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lyce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09320" y="52884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Magnesi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826920" y="24681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IS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rolled &gt;58 000 patients and showed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rend towar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ased mort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magnesium was give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-hospital for primary arrhythmia prophylaxis to patients within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4 hours of known or suspected AMI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349560" y="475560"/>
            <a:ext cx="21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ß-Blockers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357120" y="1032480"/>
            <a:ext cx="84470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ED treat ACS patients promptly with IV ß-blocker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ed by oral ß-bloc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reduction in the risk of subsequent 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ß-Blocker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given irrespective of the need for revascularization therapie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12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indications to ß-blockers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po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dycar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r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rate to severe C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ctive airway diseas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903600" y="404280"/>
            <a:ext cx="264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CE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79280" y="16074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n oral ACE inhibitor within 24 hours after onset of sympt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ension (systolic blood pressure &lt;100 mm Hg or more than 3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 Hg below baselin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 inhibitors are most effective in patient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ar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monary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ventricular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ction fraction &lt;40%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giv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V AC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ors within the first 24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ACE Inhibitor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عنصر نائب لرقم الشريحة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2739-E82A-4B4C-A7C8-558A5B8FB6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Patient center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211080"/>
            <a:ext cx="891540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Kelly L. Miller,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oving from Evidence to Practice in the Care of Patients Who Have Acute Coronary Syndrome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Cardiology Clinics Volume 24 Num 1 Feb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0" y="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EPTS OF QUALITY AND QUALITY IMPROVEME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 aims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E4D-9103-44BF-AC29-9DB13AE8A6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k of awar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ack of famili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self-effi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outcome expect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ertia of previous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8280" y="18108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MPROVING PRACTICE PATTERN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ARRIERS TO EVIDENCE-BASED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6172200" y="3352680"/>
            <a:ext cx="2971800" cy="1557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feedback on guideline adherence &amp; patien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6083280" y="2500200"/>
            <a:ext cx="3073320" cy="4597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ducat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"/>
          <p:cNvSpPr/>
          <p:nvPr/>
        </p:nvSpPr>
        <p:spPr>
          <a:xfrm>
            <a:off x="449568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7"/>
          <p:cNvSpPr/>
          <p:nvPr/>
        </p:nvSpPr>
        <p:spPr>
          <a:xfrm>
            <a:off x="4572000" y="2819520"/>
            <a:ext cx="142884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8"/>
          <p:cNvSpPr/>
          <p:nvPr/>
        </p:nvSpPr>
        <p:spPr>
          <a:xfrm>
            <a:off x="46483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4648320" y="3809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8750-97BC-4C18-9DA2-785DC3A91F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4956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3"/>
          <p:cNvSpPr/>
          <p:nvPr/>
        </p:nvSpPr>
        <p:spPr>
          <a:xfrm>
            <a:off x="0" y="6211080"/>
            <a:ext cx="9144000" cy="642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he cycle of clinical therapeutics. (</a:t>
            </a:r>
            <a:r>
              <a:rPr b="0" i="1" lang="en-US" sz="1800" spc="-1" strike="noStrike">
                <a:solidFill>
                  <a:srgbClr val="800000"/>
                </a:solidFill>
                <a:latin typeface="Arial"/>
              </a:rPr>
              <a:t>Adapted from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Califf RM, Peterson ED, Gibbons RJ, et al. Integrating quality into the cycle of therapeutic development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6480" y="-360"/>
            <a:ext cx="45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YCLE OF CONTINUOUS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QUALITY IMPROVEMENT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2"/>
          <p:cNvSpPr/>
          <p:nvPr/>
        </p:nvSpPr>
        <p:spPr>
          <a:xfrm>
            <a:off x="1371600" y="533520"/>
            <a:ext cx="6840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ve management plan can be assembled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858960" y="1828800"/>
            <a:ext cx="2730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CD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1397520" y="3498840"/>
            <a:ext cx="4232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tiplatlet, anticoagulant, ACEI &amp; A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1356840" y="3932280"/>
            <a:ext cx="42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. blocker and blood pressur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323720" y="4363920"/>
            <a:ext cx="5255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lesterol and cigarette control and ces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1416960" y="4795920"/>
            <a:ext cx="2354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et and Dm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1452600" y="5227560"/>
            <a:ext cx="106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931320" y="3498840"/>
            <a:ext cx="339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0"/>
          <p:cNvSpPr/>
          <p:nvPr/>
        </p:nvSpPr>
        <p:spPr>
          <a:xfrm>
            <a:off x="934200" y="3932280"/>
            <a:ext cx="334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934920" y="4363920"/>
            <a:ext cx="326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2"/>
          <p:cNvSpPr/>
          <p:nvPr/>
        </p:nvSpPr>
        <p:spPr>
          <a:xfrm>
            <a:off x="900000" y="4795920"/>
            <a:ext cx="385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3"/>
          <p:cNvSpPr/>
          <p:nvPr/>
        </p:nvSpPr>
        <p:spPr>
          <a:xfrm>
            <a:off x="928800" y="5214960"/>
            <a:ext cx="3585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8"/>
          <p:cNvSpPr/>
          <p:nvPr/>
        </p:nvSpPr>
        <p:spPr>
          <a:xfrm>
            <a:off x="6227640" y="360"/>
            <a:ext cx="29163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 rtl="1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D ACS  Management and Algorith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6513-B982-47BB-8BA5-55CB31BE52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430280" y="2421000"/>
            <a:ext cx="45720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ation to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ation to both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ning/indigestion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usea/vom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tional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er ches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71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mong the following features which one has the highest predictive value for AC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6759720" y="4508640"/>
            <a:ext cx="1582560" cy="2089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عنصر نائب لرقم الشريحة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7BAC-9EB9-4973-912A-5E963A2FBD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1474920" y="2349360"/>
            <a:ext cx="4572000" cy="31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us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phor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spn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ms p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in epigastri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9999"/>
              </a:buClr>
              <a:buSzPct val="7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523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most frequent NON CHEST PAIN symptom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AC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42200" y="5084640"/>
            <a:ext cx="934920" cy="115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صر نائب لرقم الشريحة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A4B4-1040-4A91-89E6-B1DCEE2811A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T Scan is available tool to exclude ACS in low to medium risk patient with chest pain in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7866000" y="4589640"/>
            <a:ext cx="935280" cy="11509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447920" y="3809880"/>
            <a:ext cx="40100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0" y="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est Pain 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0:27:08Z</dcterms:created>
  <dc:creator>Dr.Sami</dc:creator>
  <dc:description/>
  <dc:language>en-US</dc:language>
  <cp:lastModifiedBy>admin</cp:lastModifiedBy>
  <dcterms:modified xsi:type="dcterms:W3CDTF">2014-05-19T05:40:06Z</dcterms:modified>
  <cp:revision>27</cp:revision>
  <dc:subject/>
  <dc:title>Slide 1</dc:title>
</cp:coreProperties>
</file>