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72438-3D22-4D0F-8581-B77F62177A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ute leukaemias are aggressive diseases in which the malignant transformation causes accumulation of early progenitor cells called blas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are defined as the presence of &gt;30% blasts in the b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are subdivided into AML and ALL depending as to whether the blasts present are myeloblasts or lymphoblas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0" bIns="0" anchor="b">
            <a:noAutofit/>
          </a:bodyPr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hu-HU" sz="11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34560" y="4422600"/>
            <a:ext cx="514692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32120" cy="347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0" bIns="0" anchor="b">
            <a:noAutofit/>
          </a:bodyPr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hu-HU" sz="11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34560" y="4422600"/>
            <a:ext cx="514692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32120" cy="347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0" bIns="0" anchor="b">
            <a:noAutofit/>
          </a:bodyPr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hu-HU" sz="11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34560" y="4422600"/>
            <a:ext cx="514692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32120" cy="347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is the commonest from of leukaemia in childhood. Its incidence is highest between 3-7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econd peak in adults after the age of 4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L is much more common in adults. 10% of childhood leukae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n aetiological point of view there are no proven 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ever we do know that certain conditions are associated with a higher incidence of leukaemia, including certain genetic abnormalities like Downs syndrome . Fanconis anaemia results from an abnormality of DNA rep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s who receive various forms of chemotherapy and radiotherapy have a higher long term risk of developing leuk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rtain acquired haematological disorders are associated with the development of AML 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ording to the FAB classification AML is subdivided into 7 different categories, from M1 in which the cells present are very primitive through to the other categories in which the cells show more tendency to differentiate along normal cell li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M5 the cells resemble monocytes. In M6 or erythroleukaemia the cells develop along the red cell path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wer classification from the WHO is slightly different in that its not so related to the morphology of the cells as to the aetiolog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0" bIns="0" anchor="b">
            <a:noAutofit/>
          </a:bodyPr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hu-HU" sz="11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34560" y="4422600"/>
            <a:ext cx="514692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32120" cy="347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0" bIns="0" anchor="b">
            <a:noAutofit/>
          </a:bodyPr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hu-HU" sz="11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34560" y="4422600"/>
            <a:ext cx="514692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32120" cy="3475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201-15A9-489D-8435-E4FCE5D8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EF2-464F-404D-92C4-B21EB4C9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E0D-726C-478E-B5C9-331BCDAE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0D5-500D-4550-BFAB-6636E7A3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E036-1D5F-40CD-BA75-7888735F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8FCA-BA09-4222-8403-F342E105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A62D-5843-46D5-9517-D75637AD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BB10-7CFB-4797-A636-B1695297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F75F-A206-455B-9CA8-D47534AD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91DA-FB50-42FE-AE3E-CDD71E24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0999-76D2-45D0-8AC3-DE5ED1DD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939-60B4-460B-8F58-979D8529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1BAB-3AB7-49DF-822E-EA265210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F5DD-2C73-4FB4-B543-0B943A8F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91D5-A55C-4A1E-824B-DB5B094D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DEBA-C7D0-4D42-9BD0-8398F47A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1457-63CE-4BF7-B421-547C7BAD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AFE-A126-4CB9-A249-539FF57D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90B-C571-4E75-899D-0E4C4E8F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6C3-B6B2-4D4B-B9BC-53E1A6F6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A61-9126-4DD7-93DB-8F483864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C38-96E0-48BD-9711-29024EB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190-6EAF-4129-8D7B-292A39F1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179-2C46-4875-A145-4E4E2032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60F6-A64F-4B24-9749-62F4A991F0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B55B-6A7B-4222-AF44-F668E727E3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CUTE LEUKAEM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6019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Comic Sans MS"/>
              </a:rPr>
              <a:t>Symptoms, specific to certain leukaemia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9200" y="2296800"/>
            <a:ext cx="833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AML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M3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(promyelocytic)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D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AML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M1-2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soft tissue,or subperiostal 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infil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AML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4-5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skin, gum infil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nical Feat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e marrow fail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emia, bruising/bleeding, DIC (M3),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ymphadenopathy / hepatosplenomeg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er in 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ssue infil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NS, testes (ALL), gum hypertrophy (M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cellular catabo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68360" y="1981080"/>
            <a:ext cx="3961080" cy="4876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89000" y="1066680"/>
            <a:ext cx="47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LEUKAEMIA - PURP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105520" cy="3303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61120" y="99072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LEUKAEMIA - HAEMORRH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0552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91560" y="1031760"/>
            <a:ext cx="57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LEUKAEMIA – HERPES ZO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105520" cy="3195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21360" y="1066680"/>
            <a:ext cx="78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MYELOID LEUKAEMIA – GUM HYPERTR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57800" cy="3324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43240" y="1066680"/>
            <a:ext cx="77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MYELOID LEUKAEMIA – SKIN INFIL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boratory Feat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emia, Thrombocytopenia, Neutr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or low white cell count (WC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ulating bla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ag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ten ab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seminated Intravascular Coagulation(D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boratory Feat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ne Marrow (BM) Aspi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rrow is usually replaced by blasts with little or no remaining normal haemopoietic t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rephine Biop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ful if the marrow is hypocellular or fibro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aeaea"/>
                </a:solidFill>
                <a:latin typeface="Tahoma"/>
              </a:rPr>
              <a:t>NORMAL BONE MARRO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31654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UKAEM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sorder characterised by the accumulation of malignant white cells in the bone marrow and  peripheral bl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main typ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ute leuka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nic leuka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196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76640" y="103176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MYELOID LEUKA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00528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08120" y="106668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LYMPHOBLASTIC LEUKA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boratory Feat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rph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ytochem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munophenoty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ytogen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rpholo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e marrow and peripheral bloo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M shows &gt;30% blas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ells often contain granules or inclusions called Auer ro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740040" cy="403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80600" y="106668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MYELOID LEUKAEMIA – AUER R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ytochemist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dan black, Myeloperoxidase, Chloroacetate Est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oblastic – Non Specific Est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 lineage – P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 lineage – Acid Phosphat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69900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152000" y="106668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LYMPHOBLASTIC LEUKAEMIA - P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munophenotyp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 of antibodies to identify cell antigens (clusters of differentiation or C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pattern of antigens expressed by the cells correlates with lineage and mat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g AML -  CD 13,  CD33 positive, CD19, CD20 neg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ytogenet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romosomal abnormalities are found in the blasts in 70% of cases of AML and 90% of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portant in the pathogenesis of the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portant for diagn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ognostic impli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g t(15;17) and M3 A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2854440" cy="4343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94800" y="1066680"/>
            <a:ext cx="81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MYELOID LEUKAEMIA – PROMYELOCYTIC (M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CUTE LEUKAEM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malignant disorder in which blasts constitute &gt;30% of the bone marrow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main group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ute Myeloid Leukaemia (AM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ute Lymphoblastic Leukaemia (AL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596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Comic Sans MS"/>
              </a:rPr>
              <a:t>LABORATORY FINDING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85880" y="980640"/>
            <a:ext cx="8331120" cy="5791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Anaemia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variable severity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WBC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50 % &lt;  10000/m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20 % &gt; 100000/m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Blasts both in peripheral and BM smear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a97e"/>
                </a:solidFill>
                <a:latin typeface="Comic Sans MS"/>
              </a:rPr>
              <a:t>HIATUS LEUKAEMICUS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Thrombocyte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&lt;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       100000 / m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Comic Sans MS"/>
              </a:rPr>
              <a:t>Rarely : aleukaemic leukaemia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Peripheral pancytopaenia : BM biopsy- RULE OUT  -  aplastic ana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885960"/>
            <a:ext cx="7543800" cy="596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Comic Sans MS"/>
              </a:rPr>
              <a:t>LABORATORY FINDING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39200" y="2461680"/>
            <a:ext cx="8331480" cy="5791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CYTOCHEMISTRY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ALL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A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PAS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           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Tdt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+ (95 % )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            -  (95 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myeloperoxidase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            +   (M1-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NON spec. esterase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            +   (M4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nical Manag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rtive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ission in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ce 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e marrow transpla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 of relap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nical Manag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ission induction + consolidation usually with 4 courses of chemo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3 – chemotherapy + AT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e Marrow or stem cell transplantation for those with poor prognosis disease who have a suitable don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nical Manag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ission induction + consoli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NS prophylax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ce therapy for 2-3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e marrow or stem cell transplant for those with poor prognosis disease with a suitable don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gn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hood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% c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progn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W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lt;1yr or&gt;15y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or cytogene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gn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L and adult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0% c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progn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 60 y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or cytogene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ure to achieve remission after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urse of chemother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ary A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0720"/>
            <a:ext cx="8059680" cy="45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Comic Sans MS"/>
              </a:rPr>
              <a:t>PROGNOSIS , THERAP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331480" cy="540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ALL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2-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5 year survival over 60 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CHEMOTHERAPY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T cell, and adult  form- gr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AML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BM TRANSPLA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aeaea"/>
                </a:solidFill>
                <a:latin typeface="Tahoma"/>
              </a:rPr>
              <a:t>Normal White Cell Develop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82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495360"/>
            <a:ext cx="75438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pidemiology and Aetiolo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commoner in childhood with a peak age of 4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L commoner in ad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roven geographical or environmental ag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etiolo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enetic / Constitu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wn’s syndr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anconi’s ana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yelodyspla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emotherapy/radiother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ronic myeloproliferative dis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ACUTE MYELOID LEUKAEMIA CLASSIF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AB CLASS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1 myeloblastic undifferenti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2 myeloblastic with differentia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3 promyelocy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4 myelomonocy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5 monoblas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6 erythroleukae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7 megakaryoblas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WHO CLASS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ML with recurrent genetic abnorma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ML with multilineage dyspl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ML therapy rel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ML not otherwise categori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ML of ambiguous line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049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Comic Sans MS"/>
              </a:rPr>
              <a:t>ACUTE LEUKAEMIA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9200" y="1142640"/>
            <a:ext cx="8331480" cy="5334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Basis of diseas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d9e1ff"/>
                </a:solidFill>
                <a:latin typeface="Comic Sans MS"/>
              </a:rPr>
              <a:t>maturation defect of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BM stem ce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Cell proliferation might be </a:t>
            </a:r>
            <a:r>
              <a:rPr b="0" lang="hu-HU" sz="3200" spc="-1" strike="noStrike">
                <a:solidFill>
                  <a:srgbClr val="ffa97e"/>
                </a:solidFill>
                <a:latin typeface="Comic Sans MS"/>
              </a:rPr>
              <a:t> s lo w e r  than normal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abnormal blasts dominate the BM pic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normal haemopoietic elements are blocked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this is due not only to space occu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lymphoid leukaemias belong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Comic Sans MS"/>
              </a:rPr>
              <a:t>lymphoma/ leukaemia gro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920" y="228600"/>
            <a:ext cx="8601120" cy="533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Comic Sans MS"/>
              </a:rPr>
              <a:t>CLINICAL APPEARANCE OF ACUTE LEUKAEMIA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9200" y="885600"/>
            <a:ext cx="8331480" cy="5638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a97e"/>
                </a:solidFill>
                <a:latin typeface="Comic Sans MS"/>
              </a:rPr>
              <a:t>Weakness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ana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a97e"/>
                </a:solidFill>
                <a:latin typeface="Comic Sans MS"/>
              </a:rPr>
              <a:t>Fever,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infection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granulocyt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a97e"/>
                </a:solidFill>
                <a:latin typeface="Comic Sans MS"/>
              </a:rPr>
              <a:t>Hemorrhage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thrombocytopenia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(anywhere in the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Bone pain, tenderness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subperiosteal leukaemic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infil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Meningeal symptoms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d9e1ff"/>
                </a:solidFill>
                <a:latin typeface="Comic Sans MS"/>
              </a:rPr>
              <a:t>CNS involvement</a:t>
            </a:r>
            <a:r>
              <a:rPr b="0" lang="hu-HU" sz="2800" spc="-1" strike="noStrike">
                <a:solidFill>
                  <a:srgbClr val="ffa97e"/>
                </a:solidFill>
                <a:latin typeface="Comic Sans MS"/>
              </a:rPr>
              <a:t> 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(headache, nausea, vomit,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subarachnoidal ble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cerebral palsy, intracerebral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meningeal infiltration)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2:36:36Z</dcterms:created>
  <dc:creator>gilligano</dc:creator>
  <dc:description/>
  <dc:language>en-US</dc:language>
  <cp:lastModifiedBy>Dr.abdel-hamid</cp:lastModifiedBy>
  <dcterms:modified xsi:type="dcterms:W3CDTF">2006-10-21T23:07:25Z</dcterms:modified>
  <cp:revision>26</cp:revision>
  <dc:subject/>
  <dc:title>ACUTE LEUKAEMIA</dc:title>
</cp:coreProperties>
</file>