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20BDE-19D2-48C0-8F36-404997B7F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ute leukaemias are aggressive diseases in which the malignant transformation causes accumulation of early progenitor cells called bla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are defined as the presence of &gt;30% blasts in the b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are subdivided into AML and ALL depending as to whether the blasts present are myeloblasts or lymphobla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is the commonest from of leukaemia in childhood. Its incidence is highest between 3-7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econd peak in adults after the age of 4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L is much more common in adults. 10% of childhood leuka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etiological point of view there are no proven 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ever we do know that certain conditions are associated with a higher incidence of leukaemia, including certain genetic abnormalities like Downs syndrome . Fanconis anaemia results from an abnormality of DNA rep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s who receive various forms of chemotherapy and radiotherapy have a higher long term risk of developing leuk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rtain acquired haematological disorders are associated with the development of AML 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ording to the FAB classification AML is subdivided into 7 different categories, from M1 in which the cells present are very primitive through to the other categories in which the cells show more tendency to differentiate along normal cell li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M5 the cells resemble monocytes. In M6 or erythroleukaemia the cells develop along the red cell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er classification from the WHO is slightly different in that its not so related to the morphology of the cells as to the aetiolog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0" bIns="0" anchor="b">
            <a:no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hu-HU" sz="11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34560" y="4422600"/>
            <a:ext cx="51469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32120" cy="347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CE6-A1B2-45E5-BC36-B1D9343D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1F4-BFA3-4C8A-B702-80A8934E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0C7-0CC0-4E53-8537-697B4D5A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769-D39E-475D-9770-6E4D70DF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0E3F-25C1-4C9B-A538-A6680F84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4D4D-A922-4B68-9145-6D7CF2B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1D2-111F-40B0-B227-CABAB939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B0D6-807D-446F-B862-819B5E8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F336-CDEF-4118-AD33-49AFED9E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70C3-E257-46DA-A41A-54F98539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C2AB-8A41-4BFA-BFF6-9B52ED4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E65-DD5E-42F5-8FE2-FE3AAA7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CAE5-99D5-462A-93F8-ED981FD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84A4-B907-4DD5-86C5-3929D6AA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F1CE-7ACA-4077-8DD2-BA3CB7D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C972-0F32-45CF-AF67-8C671ACE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CF4B-5E4F-4BA3-A651-AD7C3A54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258-1829-4E3C-B0BD-0B8CE970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E75-37F1-4443-9E44-6FD5E8A5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E3D-2AE6-4B86-BCD9-724FFA93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7AE-A4EF-4D80-B01E-3FFF779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B06-D9E0-4C59-BB0A-1FF015F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FA9-F812-4B42-8320-CC47F9F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EC8-EBBA-4E39-B994-B199B97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1877-B765-4B1F-8F82-86B65D53A4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E43-BCA8-4F66-9849-995200D387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UTE LEUKAEM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Comic Sans MS"/>
              </a:rPr>
              <a:t>Symptoms, specific to certain leukaemia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9200" y="2296800"/>
            <a:ext cx="833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M3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(promyelocytic)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M1-2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soft tissue,or subperiostal 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infil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4-5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skin, gum infil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mia, bruising/bleeding, DIC (M3),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ymphadenopathy / hepatosplenomeg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er in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ssue infil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NS, testes (ALL), gum hypertrophy (M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cellular catab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8360" y="1981080"/>
            <a:ext cx="3961080" cy="487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89000" y="106668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EUKAEMIA - PUR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05520" cy="3303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61120" y="99072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EUKAEMIA - HAEMORRH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0552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91560" y="1031760"/>
            <a:ext cx="57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EUKAEMIA – HERPES ZO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105520" cy="3195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21360" y="1066680"/>
            <a:ext cx="78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GUM HYPERTR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57800" cy="3324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43240" y="1066680"/>
            <a:ext cx="77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SKIN INFIL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boratory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mia, Thrombocytopenia, Neutr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or low white cell count (WC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ng bl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a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ab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eminated Intravascular Coagulation(DI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boratory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ne Marrow (BM) Aspi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rrow is usually replaced by blasts with little or no remaining normal haemopoietic t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rephine Biop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ful if the marrow is hypocellular or fibro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aeaea"/>
                </a:solidFill>
                <a:latin typeface="Tahoma"/>
              </a:rPr>
              <a:t>NORMAL BONE MARRO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31654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UKAEM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sorder characterised by the accumulation of malignant white cells in the bone marrow and  peripheral bl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main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ute leuka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nic leuka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19600" cy="3892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76640" y="103176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00528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08120" y="106668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YMPHOBLASTIC LEUKA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boratory Feat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rp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yto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munophenoty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ytogen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rph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 marrow and peripheral bloo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M shows &gt;30% blas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ells often contain granules or inclusions called Auer ro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740040" cy="403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80600" y="106668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AUER R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ytochemist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dan black, Myeloperoxidase, Chloroacetate Est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oblastic – Non Specific Est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 lineage – P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 lineage – Acid Phosphat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69900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52000" y="1066680"/>
            <a:ext cx="65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LYMPHOBLASTIC LEUKAEMIA - P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munophenotyp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of antibodies to identify cell antigens (clusters of differentiation or C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attern of antigens expressed by the cells correlates with lineage and mat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 AML -  CD 13,  CD33 positive, CD19, CD20 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ytogenet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romosomal abnormalities are found in the blasts in 70% of cases of AML and 90% of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ortant in the pathogenesis of the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ortant for diagn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ognostic imp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g t(15;17) and M3 A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85444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94800" y="1066680"/>
            <a:ext cx="81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MYELOID LEUKAEMIA – PROMYELOCYTIC (M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UTE LEUKAEM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malignant disorder in which blasts constitute &gt;30% of the bone marrow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main group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ute Myeloid Leukaemia (AM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ute Lymphoblastic Leukaemia (A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9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Comic Sans MS"/>
              </a:rPr>
              <a:t>LABORATORY FINDING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85880" y="980640"/>
            <a:ext cx="8331120" cy="5791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naemia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variable severity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WBC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50 % &lt;  10000/m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20 % &gt; 100000/m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Blasts both in peripheral and BM smear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HIATUS LEUKAEMICUS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Thrombocyte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lt;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      100000 / m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Comic Sans MS"/>
              </a:rPr>
              <a:t>Rarely : aleukaemic leukaemia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Peripheral pancytopaenia : BM biopsy- RULE OUT  -  aplastic ana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885960"/>
            <a:ext cx="7543800" cy="596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Comic Sans MS"/>
              </a:rPr>
              <a:t>LABORATORY FINDING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9200" y="2461680"/>
            <a:ext cx="8331480" cy="5791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CYTOCHEMISTRY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ALL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	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Comic Sans MS"/>
              </a:rPr>
              <a:t>A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PAS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Tdt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+ (95 % )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-  (95 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myeloperoxidas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+   (M1-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NON spec. esterase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Comic Sans MS"/>
              </a:rPr>
              <a:t>             +   (M4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rtive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ission in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transpla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 of rel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ission induction + consolidation usually with 4 courses of chemo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3 – chemotherapy + AT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or stem cell transplantation for those with poor prognosis disease who have a suitable do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nical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ission induction + consoli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NS prophylax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therapy for 2-3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e marrow or stem cell transplant for those with poor prognosis disease with a suitable do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n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hood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% c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prog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W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lt;1yr or&gt;15y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cytogene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no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L and adult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% c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prog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 60 y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cytogene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to achieve remission after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urse of chemo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ary A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0720"/>
            <a:ext cx="8059680" cy="45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Comic Sans MS"/>
              </a:rPr>
              <a:t>PROGNOSIS , THERAP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331480" cy="540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LL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2-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5 year survival over 60 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CHEMOTHERAPY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T cell, and adult  form- gr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AML</a:t>
            </a: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BM TRANSPLA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aeaea"/>
                </a:solidFill>
                <a:latin typeface="Tahoma"/>
              </a:rPr>
              <a:t>Normal White Cell Develop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82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95360"/>
            <a:ext cx="7543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idemiology and Aeti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ommoner in childhood with a peak age of 4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L commoner in ad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roven geographical or environmental ag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eti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netic / 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wn’s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nconi’s ana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yelodyspla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emotherapy/radio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ronic myeloproliferative dis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CUTE MYELOID LEUKAEMIA CLASSIFICATIO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AB CLASS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1 myeloblastic undifferenti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2 myeloblastic with differentia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3 promyelocy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4 myelomonocy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5 monobla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6 erythroleukae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7 megakaryobla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HO CLASS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with recurrent genetic abnorma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with multilineage dyspl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therapy rel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not otherwise categor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ML of ambiguous line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49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Comic Sans MS"/>
              </a:rPr>
              <a:t>ACUTE LEUKAEMIA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9200" y="1142640"/>
            <a:ext cx="8331480" cy="5334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Basis of diseas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d9e1ff"/>
                </a:solidFill>
                <a:latin typeface="Comic Sans MS"/>
              </a:rPr>
              <a:t>maturation defect of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BM stem ce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Cell proliferation might be </a:t>
            </a:r>
            <a:r>
              <a:rPr b="0" lang="hu-HU" sz="3200" spc="-1" strike="noStrike">
                <a:solidFill>
                  <a:srgbClr val="ffa97e"/>
                </a:solidFill>
                <a:latin typeface="Comic Sans MS"/>
              </a:rPr>
              <a:t> s lo w e r  than normal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abnormal blasts dominate the BM pic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normal haemopoietic elements are blocked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mic Sans MS"/>
              </a:rPr>
              <a:t>this is due not only to space o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Comic Sans MS"/>
              </a:rPr>
              <a:t>lymphoid leukaemias belong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Comic Sans MS"/>
              </a:rPr>
              <a:t>lymphoma/ leukaemia gro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920" y="228600"/>
            <a:ext cx="860112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Comic Sans MS"/>
              </a:rPr>
              <a:t>CLINICAL APPEARANCE OF ACUTE LEUKAEMIA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9200" y="885600"/>
            <a:ext cx="8331480" cy="563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Weakness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ana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Fever,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infection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granulocyt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Hemorrhage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thrombocytopenia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(anywhere in the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Bone pain, tenderness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subperiosteal leukaemic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infil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Meningeal symptoms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-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d9e1ff"/>
                </a:solidFill>
                <a:latin typeface="Comic Sans MS"/>
              </a:rPr>
              <a:t>CNS involvement</a:t>
            </a:r>
            <a:r>
              <a:rPr b="0" lang="hu-HU" sz="2800" spc="-1" strike="noStrike">
                <a:solidFill>
                  <a:srgbClr val="ffa97e"/>
                </a:solidFill>
                <a:latin typeface="Comic Sans MS"/>
              </a:rPr>
              <a:t> 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(headache, nausea, vomit,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subarachnoidal bl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cerebral palsy, intracerebra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meningeal infiltration)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2:36:36Z</dcterms:created>
  <dc:creator>gilligano</dc:creator>
  <dc:description/>
  <dc:language>en-US</dc:language>
  <cp:lastModifiedBy>Dr.abdel-hamid</cp:lastModifiedBy>
  <dcterms:modified xsi:type="dcterms:W3CDTF">2006-10-21T23:07:25Z</dcterms:modified>
  <cp:revision>26</cp:revision>
  <dc:subject/>
  <dc:title>ACUTE LEUKAEMIA</dc:title>
</cp:coreProperties>
</file>