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C09-37E3-430D-AEF8-C69F0668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358-FE66-4700-9A38-57053FA8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2F3-7F9B-4C6D-9557-F3154001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688-9B86-4FF8-83DE-CF757285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3AAD-D58D-4146-AAFF-BCBE5515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F2E0-ECEC-4261-9897-17CE52E3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CFB2-27A1-44E3-B7D3-7B99E233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E20A-88EC-440D-A59D-B7459C56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894C-A867-4488-B538-2936E853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0289-0D1B-4BB6-9387-EA0F60D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81E3-887C-4B34-BB75-68AB1D8D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E6F-3E04-4DA7-9D11-3E5AB1CB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34EF-1EE6-424A-9178-CE509AE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2789-7A8D-4C5E-B0F7-F20E71B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CC9D-570D-4A77-A2CB-E3CCFEE6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4420-4E0E-41C6-BCA7-925EC0B1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7A92-CB07-4F19-9C64-879712B3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246F-C557-4D94-BADA-F703F242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F627-226F-4BDD-8597-479BC27E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8926-76FA-4C4F-BEF2-14B54EC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B5A8-117C-4411-A642-E5C0BDDB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6CF8-2578-4F0D-A9E0-9257E696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2C1-4940-4338-9BA5-A8F1D006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7981-0BAB-49F6-ABC1-A7398024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628E-1012-45CA-A069-DC94AE71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80AB-A9A6-441C-9997-B6AF6753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B920-29F2-41A5-9422-4575C3AF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C326-21ED-4505-B583-4C8C744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4425-BACA-49FB-A9BF-356B88A8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D6B1-EC2A-45B1-83CE-CA36BB28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798E-6938-4E56-84E9-8E38427E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C2BB-C68C-47C3-AE7F-5538D772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FB58-CC92-4F1A-AEBD-B8474F1A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378-1F4C-49B3-96B6-36165118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87BE-12F3-4D18-950C-299209D0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6E4E6-9500-4FBE-8934-2CE9BF5D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A75D7-1969-4697-BC91-EA855D0E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9FB4-1F9F-4FD8-AEE2-7B5306E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F337-3402-4250-9802-85886ECA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641B-BEBA-4419-B30B-3E3CBD87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D493-FEC1-4492-BA76-86413E06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F79B4-918B-493B-B803-214EDE03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A8C4-BD42-4AF0-8887-2B90DA6B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F7DE2-E62B-4658-B22E-780D1CE0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890-34E1-4F15-808F-B39206C4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6F40-EED6-4536-B20F-26AA9C52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59DF-4FAD-4A1F-A7FF-7CDB94EF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D75B-BBFF-45F6-A0F9-C7C20670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4D03-6371-4EE7-AB4B-77CDB787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EC16D-AD03-4217-A235-B712EC7D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320D-E496-4490-936F-18B9B20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90E1-BD97-4A5F-B492-3CCBC5AA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22EB-5E13-4534-B922-70B62BE1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FBF1-2252-4A67-B732-E67F4B1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6B15-FCF7-46A1-961C-EC7CC4A8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491-1881-4C91-BB05-2A033E4B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B800A-09B6-4546-98C4-733C5FDB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126-CAD3-4731-9CA8-4075436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768-397A-46D2-A1E3-BDD32702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524-72E3-4455-B8E1-122FF6B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E752-B724-47F5-8D14-5751EF17DF3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CF6F-A33D-4DDE-BBE1-33C3E824301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C568-1A13-41EA-9230-A4BB55C7A3C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FD90-4AE4-465B-8EF8-E0D0AA2DEFE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AE7-3F87-4EC2-B9D9-709F0B09D8B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arnenglish.britishcouncil.org/english-grammar/adverbials" TargetMode="External"/><Relationship Id="rId2" Type="http://schemas.openxmlformats.org/officeDocument/2006/relationships/hyperlink" Target="http://learnenglish.britishcouncil.org/english-grammar/adverbials" TargetMode="External"/><Relationship Id="rId3" Type="http://schemas.openxmlformats.org/officeDocument/2006/relationships/hyperlink" Target="http://www.uncp.edu/home/canada/work/caneng/adverb.htm" TargetMode="External"/><Relationship Id="rId4" Type="http://schemas.openxmlformats.org/officeDocument/2006/relationships/hyperlink" Target="http://www.uncp.edu/home/canada/work/caneng/adverb.htm" TargetMode="External"/><Relationship Id="rId5" Type="http://schemas.openxmlformats.org/officeDocument/2006/relationships/hyperlink" Target="http://www.chompchomp.com/terms/subordinateclause.ht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Arial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Adverbial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14200" y="71388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1.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According to Jim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Bob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often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solves the problems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quick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disjunct                   adjunct                                adjunct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2. The huge stone,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in my opinion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can be moved but only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somewhat   slow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                             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disjunct                                                adjunct     adjunct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3.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As a consequence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the rustlers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reluctant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started moving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east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conjunct                                adjunct                           adjunct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4.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When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the answer comes, it comes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quite quick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conjunct                                         adjunct            adjunct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5. The danger,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I think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is that the whole building may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total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collapse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at any time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                   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disjunct                                               adjunct                   adjunct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zar, B. S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derstanding and using English grammar (3</a:t>
            </a:r>
            <a:r>
              <a:rPr b="0" i="1" lang="en-US" sz="2400" spc="-1" strike="noStrike" baseline="30000">
                <a:solidFill>
                  <a:srgbClr val="292934"/>
                </a:solidFill>
                <a:latin typeface="Arial"/>
              </a:rPr>
              <a:t>rd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ed.)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w York: Longma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Khalil, A. M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contrastive grammar of English and Arabic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ordan Book Centre Company Limit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earnenglish.britishcouncil.org/english-grammar/adverbia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uncp.edu/home/canada/work/caneng/adverb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://www.chompchomp.com/terms/subordinateclause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nglishclub.com/vocabula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youtube.com/watch?v=_Zx2oSG8Ly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Adverb vs. Adverbial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 word that modifies a verb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Many - but not all - adverbs end in -ly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explain manner, frequency, place, or tim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Examples: well, carefully, suddenly, always, hardly, never, backwards, forwards, now, tomorrow, today, then, etc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ial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ny structure that describes a verb regardless of its form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give more information about the verb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modify or describe verb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nswer the questions: when, how, why, where, etc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 placed in different locations (most of the time)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: adverbs, infinitive phrases, prepositional phrases, noun clauses or subordinate clause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Common Types of Adverbia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prepositional phrase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 preposition. She sat in a dark corne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infinitive phra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n infinitive (to + base form of the verb). Ali plays to win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subordinate clau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dependent clause that starts with a subordinate conjunction. The most common subordinate conjunctions are: before, after, when, while, because, so, until/till, although, if, since, by the time, as, once, as soon as, and wherea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xamples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He was driving </a:t>
            </a:r>
            <a:r>
              <a:rPr b="1" lang="en-GB" sz="2400" spc="-1" strike="noStrike">
                <a:solidFill>
                  <a:srgbClr val="292934"/>
                </a:solidFill>
                <a:latin typeface="Arial"/>
              </a:rPr>
              <a:t>as fast as possible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They start work </a:t>
            </a:r>
            <a:r>
              <a:rPr b="1" lang="en-GB" sz="2400" spc="-1" strike="noStrike">
                <a:solidFill>
                  <a:srgbClr val="292934"/>
                </a:solidFill>
                <a:latin typeface="Arial"/>
              </a:rPr>
              <a:t>at six thirty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Sarah left </a:t>
            </a:r>
            <a:r>
              <a:rPr b="1" lang="en-GB" sz="2400" spc="-1" strike="noStrike">
                <a:solidFill>
                  <a:srgbClr val="292934"/>
                </a:solidFill>
                <a:latin typeface="Arial"/>
              </a:rPr>
              <a:t>this morning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384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junctive adverbials: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provide important information about the sentence. They show place, time, manner, reason/cause. Mainly, they are integrated in the sentenc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You can cut the apple with a knif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I go to school by bu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An adjunct can be a single word, a phrase, or an entire claus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92934"/>
                </a:solidFill>
                <a:uFillTx/>
                <a:latin typeface="Arial"/>
              </a:rPr>
              <a:t>Single wor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he will leave 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tomorrow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92934"/>
                </a:solidFill>
                <a:uFillTx/>
                <a:latin typeface="Arial"/>
              </a:rPr>
              <a:t>Phras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he will leave 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in the morning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92934"/>
                </a:solidFill>
                <a:uFillTx/>
                <a:latin typeface="Arial"/>
              </a:rPr>
              <a:t>Claus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he will leave 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fter she has had breakfast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384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on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link sentences together. For example, therefore, first, second, third, however, in addition, furthermore, additionally, thus, etc. They are peripheral to the sentenc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nada is a rich country.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owever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not all Canadians are rich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ranges are rich of vitamin C.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Furthermore,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hey are good for your ski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525"/>
                </a:solidFill>
                <a:latin typeface="Arial"/>
              </a:rPr>
              <a:t>John helped so I was, </a:t>
            </a:r>
            <a:r>
              <a:rPr b="1" lang="en-GB" sz="2400" spc="-1" strike="noStrike">
                <a:solidFill>
                  <a:srgbClr val="252525"/>
                </a:solidFill>
                <a:latin typeface="Arial"/>
              </a:rPr>
              <a:t>therefore</a:t>
            </a:r>
            <a:r>
              <a:rPr b="0" lang="en-GB" sz="2400" spc="-1" strike="noStrike">
                <a:solidFill>
                  <a:srgbClr val="252525"/>
                </a:solidFill>
                <a:latin typeface="Arial"/>
              </a:rPr>
              <a:t>, able to do my homework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1384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is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make comments or change the tone of the whole sentence. For example: unfortunately, basically, briefly, eventually, clearly, actually, etc. They are peripheral to the sentenc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riously, do you intend to retire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ersonally, I don’t believe in ghost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bviously, no one wanted her to attend the party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derline the adverbial in each sentence and identify its form. What question does each adverbial answer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works at the grocery stor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went to the pool to swim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 went to sleep after midnigh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ack went outside for some fresh air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fter the show, we went skat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left with a smil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saw the cat on the porch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and I decided to take a walk this morn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e will meet me here at 4 o'clock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eth cried because her cat died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dog barked all night while I was trying to sleep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oy laughed loudly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09:46:59Z</dcterms:created>
  <dc:creator>Fawaz</dc:creator>
  <dc:description/>
  <dc:language>en-US</dc:language>
  <cp:lastModifiedBy>Ghadah Alotaibi</cp:lastModifiedBy>
  <cp:lastPrinted>2013-03-08T17:46:01Z</cp:lastPrinted>
  <dcterms:modified xsi:type="dcterms:W3CDTF">2015-04-13T22:19:04Z</dcterms:modified>
  <cp:revision>64</cp:revision>
  <dc:subject/>
  <dc:title>Comparative Constructions II</dc:title>
</cp:coreProperties>
</file>