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DE16-DEBA-4494-B9C8-CA2BD962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0C9-AF61-497A-8DE2-30F29738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762-6BA7-4C4A-BBCC-428FC918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2BD-8F3E-4D2E-B3B2-B53572E3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3262-4033-494E-A4E7-DB22FB95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242D-F49B-4750-9B94-330B4D95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8531-C6CE-44BF-B866-51D0E498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CE8B-0807-4551-B820-7D11A2C3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9063-2400-4E00-BECF-A8B2AD20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9DB4-499E-4436-9A8F-17689462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58A9-84D3-4510-922E-483682ED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652A-8C4B-4362-9270-88E9B9C4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8EAE-6324-4BDB-8250-3FA86334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1CFF-52CB-4ADD-B7A5-32840788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3D2B-995F-4968-AD32-7197FF1C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D391-681F-4F70-A207-2CB32A09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CD97-A744-409C-97E9-8722B727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E6030-EF52-4ABA-8D90-F9EBD386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463F3-45D5-4ED5-804B-B20256FE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2B1EA-E804-41C4-8609-8D0A9082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E1F0E-0FF4-4239-B89A-E439EB1F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3FDDC-9D06-437F-A408-EE9A1D24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07E-0BA9-441A-B79A-1C24E00A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0174B-3217-4F02-8532-043A5BF8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85EF6-86F4-418C-B252-9865A7DB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56298-89C9-49FC-8C70-7092EC01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7C95D-18F6-4A75-AF08-D625A1D6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B68C2-B825-48C9-A3D6-927B5EB4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43359-554E-4FF9-A5F0-3265CCA4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DF896-C538-4A69-9530-B5852E8C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1D448-05CA-4707-B715-03D276E7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283B9-CCD0-46CC-A17D-087A4D4D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510E8-0F02-4597-85FE-207FE586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932-1F6D-4703-B9AD-65ED10B6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7CEF5-30B2-4439-AAE8-BC32FFAB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A5F69-7F54-436F-A0B8-7565E6C9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7D619-A507-4064-9AFD-2137D98D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238BE-BC4E-47B8-9728-815B1607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49E36-8768-4504-8C02-524581F6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46054-32EC-48D6-B6F5-436E8BF2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88484-728C-4715-828B-E54485B3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A676F-467A-414C-AA3D-60097B8E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88395-9A01-4CF7-B73E-904F86B8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075C3-1FD6-4640-8DFE-7F2DBD43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4AA-3E69-47CA-9BB1-15AB203B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6593F-6CCD-4555-8B7B-B42AD625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DE396-776E-4241-86C7-8CB6C737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D4975-7893-4E1A-B182-D0C841FB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6A924-6B68-45CB-8E07-4CABCE01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9ED95-4215-45ED-BE50-3D4EC203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629D3-5B48-4F29-BCA0-8A811CB9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B5291-0527-44F0-9743-BA096291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07DB8-1491-4F9D-83DA-FBAAB890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76441-0AE5-49BD-B8C6-9CF61EB3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A9682-4F7E-451D-BF7A-32BB5997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B04-FA56-42CC-AEB5-0D00BA92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11A29-6BC5-4F40-B1BD-62CF692C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8C84-57E1-45D0-9B7A-54706C47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427-859F-43AE-BF67-895FCF57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2E9-0A5B-4B8E-8DA8-239C8408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F488-53C6-4CA9-9FA8-1814DDAEEC3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AB0C-F4D6-486B-A00B-C44C1D22BD9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AFB3-D177-4862-80E0-A27C41BDD51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8579-BF23-4ACD-B079-A7E750EECEF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8BE0-CE3C-46E5-A3C7-6762565C9FC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earnenglish.britishcouncil.org/english-grammar/adverbials" TargetMode="External"/><Relationship Id="rId2" Type="http://schemas.openxmlformats.org/officeDocument/2006/relationships/hyperlink" Target="http://learnenglish.britishcouncil.org/english-grammar/adverbials" TargetMode="External"/><Relationship Id="rId3" Type="http://schemas.openxmlformats.org/officeDocument/2006/relationships/hyperlink" Target="http://www.uncp.edu/home/canada/work/caneng/adverb.htm" TargetMode="External"/><Relationship Id="rId4" Type="http://schemas.openxmlformats.org/officeDocument/2006/relationships/hyperlink" Target="http://www.uncp.edu/home/canada/work/caneng/adverb.htm" TargetMode="External"/><Relationship Id="rId5" Type="http://schemas.openxmlformats.org/officeDocument/2006/relationships/hyperlink" Target="http://www.chompchomp.com/terms/subordinateclause.ht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2533c"/>
                </a:solidFill>
                <a:latin typeface="Arial"/>
              </a:rPr>
              <a:t>COMPARATIVE CONSTRUCTIONS II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76e"/>
                </a:solidFill>
                <a:latin typeface="Arial"/>
              </a:rPr>
              <a:t>Adverbial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14200" y="713880"/>
            <a:ext cx="8715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1.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According to Jim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, Bob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often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solves the problems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quickly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disjunct                   adjunct                                adjunct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 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2. The huge stone,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in my opinion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, can be moved but only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somewhat   slowly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                                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disjunct                                                adjunct     adjunct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3.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As a consequence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, the rustlers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reluctantly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started moving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east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conjunct                                adjunct                           adjunct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 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4.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When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the answer comes, it comes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quite quickly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conjunct                                         adjunct            adjunct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5. The danger,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I think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, is that the whole building may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totally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collapse </a:t>
            </a:r>
            <a:r>
              <a:rPr b="1" i="1" lang="en-US" sz="1900" spc="-1" strike="noStrike">
                <a:solidFill>
                  <a:srgbClr val="292934"/>
                </a:solidFill>
                <a:latin typeface="Arial"/>
              </a:rPr>
              <a:t>at any time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                       </a:t>
            </a: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disjunct                                               adjunct                   adjunct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zar, B. S. (1999).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Understanding and using English grammar (3</a:t>
            </a:r>
            <a:r>
              <a:rPr b="0" i="1" lang="en-US" sz="2400" spc="-1" strike="noStrike" baseline="30000">
                <a:solidFill>
                  <a:srgbClr val="292934"/>
                </a:solidFill>
                <a:latin typeface="Arial"/>
              </a:rPr>
              <a:t>rd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 ed.).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New York: Longma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Khalil, A. M. (1999).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A contrastive grammar of English and Arabic.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Jordan Book Centre Company Limite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learnenglish.britishcouncil.org/english-grammar/adverbia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uncp.edu/home/canada/work/caneng/adverb.ht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://www.chompchomp.com/terms/subordinateclause.ht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://www.englishclub.com/vocabular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://www.youtube.com/watch?v=_Zx2oSG8Lyc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Adverb vs. Adverbial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34136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Adverbs: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a word that modifies a verb.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Many - but not all - adverbs end in -ly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explain manner, frequency, place, or time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Examples: well, carefully, suddenly, always, hardly, never, backwards, forwards, now, tomorrow, today, then, etc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Adverbials: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any structure that describes a verb regardless of its form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are used to give more information about the verb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are used to modify or describe verbs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answer the questions: when, how, why, where, etc.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can be placed in different locations (most of the time)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can be: adverbs, infinitive phrases, prepositional phrases, noun clauses or subordinate clauses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Common Types of Adverbial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Adverbial prepositional phrases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phrase that begins with a preposition. She sat in a dark corner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Adverbial infinitive phrase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phrase that begins with an infinitive (to + base form of the verb). Ali plays to win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Adverbial subordinate clause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dependent clause that starts with a subordinate conjunction. The most common subordinate conjunctions are: before, after, when, while, because, so, until/till, although, if, since, by the time, as, once, as soon as, and wherea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Examples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He was driving </a:t>
            </a:r>
            <a:r>
              <a:rPr b="1" lang="en-GB" sz="2400" spc="-1" strike="noStrike">
                <a:solidFill>
                  <a:srgbClr val="292934"/>
                </a:solidFill>
                <a:latin typeface="Arial"/>
              </a:rPr>
              <a:t>as fast as possible</a:t>
            </a: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They start work </a:t>
            </a:r>
            <a:r>
              <a:rPr b="1" lang="en-GB" sz="2400" spc="-1" strike="noStrike">
                <a:solidFill>
                  <a:srgbClr val="292934"/>
                </a:solidFill>
                <a:latin typeface="Arial"/>
              </a:rPr>
              <a:t>at six thirty</a:t>
            </a: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Sarah left </a:t>
            </a:r>
            <a:r>
              <a:rPr b="1" lang="en-GB" sz="2400" spc="-1" strike="noStrike">
                <a:solidFill>
                  <a:srgbClr val="292934"/>
                </a:solidFill>
                <a:latin typeface="Arial"/>
              </a:rPr>
              <a:t>this morning</a:t>
            </a: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13840" y="57168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Adjunctive adverbials: 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provide important information about the sentence. They show place, time, manner, reason/cause. Mainly, they are integrated in the sentence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You can cut the apple with a knife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I go to school by bus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An adjunct can be a single word, a phrase, or an entire clause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92934"/>
                </a:solidFill>
                <a:uFillTx/>
                <a:latin typeface="Arial"/>
              </a:rPr>
              <a:t>Single word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She will leave </a:t>
            </a: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tomorrow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92934"/>
                </a:solidFill>
                <a:uFillTx/>
                <a:latin typeface="Arial"/>
              </a:rPr>
              <a:t>Phrase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She will leave </a:t>
            </a: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in the morning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92934"/>
                </a:solidFill>
                <a:uFillTx/>
                <a:latin typeface="Arial"/>
              </a:rPr>
              <a:t>Clause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She will leave </a:t>
            </a: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after she has had breakfast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13840" y="57168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Conjunctive adverbials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ords that link sentences together. For example, therefore, first, second, third, however, in addition, furthermore, additionally, thus, etc. They are peripheral to the sentence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anada is a rich country.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However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, not all Canadians are rich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Oranges are rich of vitamin C.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Furthermore,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they are good for your ski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52525"/>
                </a:solidFill>
                <a:latin typeface="Arial"/>
              </a:rPr>
              <a:t>John helped so I was, </a:t>
            </a:r>
            <a:r>
              <a:rPr b="1" lang="en-GB" sz="2400" spc="-1" strike="noStrike">
                <a:solidFill>
                  <a:srgbClr val="252525"/>
                </a:solidFill>
                <a:latin typeface="Arial"/>
              </a:rPr>
              <a:t>therefore</a:t>
            </a:r>
            <a:r>
              <a:rPr b="0" lang="en-GB" sz="2400" spc="-1" strike="noStrike">
                <a:solidFill>
                  <a:srgbClr val="252525"/>
                </a:solidFill>
                <a:latin typeface="Arial"/>
              </a:rPr>
              <a:t>, able to do my homework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13840" y="57168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Disjunctive adverbials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ords that make comments or change the tone of the whole sentence. For example: unfortunately, basically, briefly, eventually, clearly, actually, etc. They are peripheral to the sentence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riously, do you intend to retire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Personally, I don’t believe in ghost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Obviously, no one wanted her to attend the party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Practic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derline the adverbial in each sentence and identify its form. What question does each adverbial answer?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y friend works at the grocery store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e went to the pool to swim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 went to sleep after midnight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Jack went outside for some fresh air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fter the show, we went skating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he left with a smile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he saw the cat on the porch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y friend and I decided to take a walk this morning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e will meet me here at 4 o'clock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eth cried because her cat died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dog barked all night while I was trying to sleep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boy laughed loudly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09:46:59Z</dcterms:created>
  <dc:creator>Fawaz</dc:creator>
  <dc:description/>
  <dc:language>en-US</dc:language>
  <cp:lastModifiedBy>Ghadah Alotaibi</cp:lastModifiedBy>
  <cp:lastPrinted>2013-03-08T17:46:01Z</cp:lastPrinted>
  <dcterms:modified xsi:type="dcterms:W3CDTF">2015-04-13T22:19:04Z</dcterms:modified>
  <cp:revision>64</cp:revision>
  <dc:subject/>
  <dc:title>Comparative Constructions II</dc:title>
</cp:coreProperties>
</file>