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3C52-00C6-4500-BEE0-47AD1AE3C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3E16-59DB-4621-9FC0-0032D7F0F77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F5CF-D7D8-40CD-80F7-1DED52D0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1D89-B57A-489E-B7E8-D0C6753D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5A0-BFF2-47B1-A483-5E6AFAD9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0884-705E-45F0-A366-81742B7A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94CB-CBBC-489D-AD84-A1288E36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BA81-A621-46CC-BFF7-B38596FA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01CF-1556-404A-9120-67F1C7CD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0669-3257-4D3F-BABE-FACD7B7B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1EEA-40CE-4B19-B7EA-F230EFAC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F357-1DB3-40BC-A817-1C519E49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20A4-C365-4782-B35F-0A52EEEE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80C-9897-4F56-9C24-27F49DD5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7A64-11E9-4F92-A12F-A854FD99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D8F5-7F0C-416F-9DA1-164A0E22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D8AD-ADD9-4379-867E-F1D8C3DC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9446-BAC2-47B6-A499-4ACEDD00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926D-C3BA-44AD-BA3A-E7D945C5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4CF7C-4A45-496A-B1C1-44FCEBD3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CABEA-5FB9-4FDE-A01A-DF8F33DB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DFE44-5BA9-4D9F-A602-CAF3BCAA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99EEF-D9C3-4975-833F-5B4B7695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721B5-13F6-4504-832C-A020E4C9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BD2-74D3-4941-8EA9-F7D7A1D0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44C82-0FB6-4320-A31E-FF27AA23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33C57-EB5B-45F2-A6E6-64D55F54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D96E9-9973-4E78-82FF-1D9562F2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2B85A-70F3-482B-8A14-852E3E41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78EA3-670F-41B7-A918-0909715C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5A768-B96D-41A7-A61B-FD23A6FF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997F9-5DAF-4017-81BF-13B538B9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17091-F639-4CCC-A514-8AF03B25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8E343-4EE9-4675-BC51-478B9122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44F4D-5159-492D-A264-95D1F540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400-6472-45E6-926E-B8A66339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B7A5F-699E-4355-B7BA-30BE366F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24C31-A889-4D48-86C2-CD0B382D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18F03-5C30-44D8-AC25-0B04FC16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65735-0A91-4961-8E21-B97EAA1A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AB47A-2FC8-4ABE-A7A5-552EA861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7146C-BBC1-4430-AC8C-76E11863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26957-006E-4FEA-9DED-6EF0E789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DA8F1-95D7-4DFB-AD47-4CBA7570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6F412-8896-49AC-BC4B-0B962CEF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FCE04-F737-43E2-AA02-4F083673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B0D-9916-4AE6-ADAD-D4837C47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C83E9-D823-4DF0-AAF1-7A299DCA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15827-0A3D-4DFC-95E1-E01D656B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728E5-F0BF-4E1F-B4E1-728F510C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3ECE4-2942-460C-AF0D-B6BE4372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CA32A-A63A-4F36-A4CA-5831A3F6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DFC46-F2C4-4FA5-9A27-047C15A2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57680-C213-4EAE-8428-39D1F374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28DEF-2A49-4EA0-8F5D-E8BBCDF8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C156D-FD72-45A7-AAB0-524C0C3A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AAE1F-EBAE-4FA8-80C6-BAFA18E4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EE32-D534-477C-926B-7E963F67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AD0E3-3B95-459F-AC37-6E0A7E61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23F018-74DF-4523-9E10-ECC11498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5F0F9F-1C3D-4321-BBFB-BFF27701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A08181-A7BB-4E44-94F4-1EFACE5B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ED1413-E971-4854-A2C0-9DC69092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4D7DCD-3EB9-449C-81AC-B3BA8AAE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4A3099-FB1E-4B6D-BA83-412291AA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DB5FC9-62EB-4132-8966-98159D38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DD60A5-5EC3-4DA0-B214-6E361688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20F6CA-8651-443E-9AA5-A378F9F6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336D-60D1-47DF-9AE2-2E44D496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635342-6C7D-4FB4-BBB4-C484AF7E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2F6033-3989-4076-89E6-A4AE1620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E3D40D-63A5-407A-9121-0546E9F7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52681-4B3D-4964-A9C8-BFF9141B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35BFD-4528-46C7-842E-FBB06C9A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14784-A67A-47BF-BE5B-E8D982F5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F0255-40B0-448A-9860-30790609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DAC6F-E3EE-4740-870E-66244AF2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61B4E-C0DF-4015-95F1-1B896257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2FC21-39DD-42D2-B8C0-D20DCFC7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261F-1C93-491E-B297-BDDF5299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9E025-C736-4BC5-9664-BF972302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1F42C-C1C6-427E-8447-BFA8B778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5C06D-3C28-4590-9104-60770F52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CBC2B-3F3A-4A45-AB1D-986D8E5F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04158-05CA-49C7-93BA-881DA657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F5D4-253D-40D4-AB8E-AA633AF7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6013-B9E5-47D4-B315-6DBE15399215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1280" y="2938320"/>
            <a:ext cx="7156440" cy="2475000"/>
            <a:chOff x="341280" y="2938320"/>
            <a:chExt cx="7156440" cy="24750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64320" y="2938320"/>
            <a:ext cx="1208160" cy="2475000"/>
            <a:chOff x="7564320" y="2938320"/>
            <a:chExt cx="1208160" cy="24750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81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7D0B-C4B6-4E54-8952-2AD760DD4D1C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44600" y="2938320"/>
            <a:ext cx="8278560" cy="2481480"/>
            <a:chOff x="444600" y="2938320"/>
            <a:chExt cx="8278560" cy="248148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856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CEA6-4048-4EB8-8A7C-11BDCF05DC29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CE21-77A4-4F1F-9ED3-2813FB9F058B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54040" y="1500120"/>
            <a:ext cx="2732040" cy="3535560"/>
            <a:chOff x="554040" y="1500120"/>
            <a:chExt cx="2732040" cy="353556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2040" cy="35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E0A5-0FE3-4F70-A659-45FD52248B8D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2560" y="4950000"/>
            <a:ext cx="7785000" cy="1384200"/>
            <a:chOff x="682560" y="4950000"/>
            <a:chExt cx="7785000" cy="138420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50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1F9D-028B-40C1-819F-6927461A0B57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A8BF-CE18-4581-9630-477670482D5A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#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DVERBS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534c"/>
                </a:solidFill>
                <a:latin typeface="Book Antiqua"/>
              </a:rPr>
              <a:t>COMPARATIVE CONSTRUCTIONS II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6b7d72"/>
                </a:solidFill>
                <a:latin typeface="Book Antiqua"/>
                <a:cs typeface="Times New Roman"/>
              </a:rPr>
              <a:t>اسما الزمان والمكان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أسماء الزمان والمكان تدل على زمن حدوث الفعل أو مكان حدوث الفعل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تُشتق من الفعل الثلاثي على وزن مفَعل أو مفعِل. مثل: مأوى - مدرسة - مغرب - موعد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تُشتق من غير الثلاثي على وزن المضارع مع إبدال حرف المضارعة ميماً مضمومة وفتح ما قبل الآخر. مثل: مجتمع - منتهى - متفتح - ملتقى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6b7d72"/>
                </a:solidFill>
                <a:latin typeface="Book Antiqua"/>
                <a:cs typeface="Times New Roman"/>
              </a:rPr>
              <a:t>ظرفا الزمان والمكان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ظرفا الزمان والمكان يستخدمان للدلالة على زمن وقوع الفعل أو مكان وقوع الفعل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أمثلة على ظرفي الزمان والمكان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غداً - عشاءً - صباحاً - مساءً 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تحتَ - فوقَ - بينَ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منذ - الآن - حيث - إذ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ADVERBS OF FREQUENCY IN ARABIC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lway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دائم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ever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أبد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Often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غالب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ometime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أحيان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ldom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ea typeface="Tahoma"/>
              </a:rPr>
              <a:t> 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قلّما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Rarel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نادر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REFERENCE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Khalil, A. (1999). </a:t>
            </a:r>
            <a:r>
              <a:rPr b="0" i="1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A contrastive grammar of English and Arabic.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Jordon: Jordon Book Centre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: In English, there are three types of adverbs with regards to form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mple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just - down - always - well - ye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ompound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somehow - therefore - downstair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erivational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djective + -ly: slowly - quickl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oun + wise: clockwise - money-wis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oun + ways: sideway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oun + ward(s): backward(s) - forward(s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refix (a) + noun: away - apart - abroad - aside - ashor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e + adjective: below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I: Adverbs can perform a number of different function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remodifiers of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djectives: very good, quite righ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dverbs: very heavil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ostmodifier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II: Some forms may be used as adverbs or adjective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e is a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hard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worker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e works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hard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s is a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fast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car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car runs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fast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IV: Some adjectives have two forms of adverbs (different meaning):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This is a </a:t>
            </a:r>
            <a:r>
              <a:rPr b="1" i="1" lang="en-US" sz="2200" spc="-1" strike="noStrike">
                <a:solidFill>
                  <a:srgbClr val="564b3c"/>
                </a:solidFill>
                <a:latin typeface="Century Gothic"/>
              </a:rPr>
              <a:t>high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 ceiling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Jump as </a:t>
            </a:r>
            <a:r>
              <a:rPr b="1" i="1" lang="en-US" sz="2200" spc="-1" strike="noStrike">
                <a:solidFill>
                  <a:srgbClr val="564b3c"/>
                </a:solidFill>
                <a:latin typeface="Century Gothic"/>
              </a:rPr>
              <a:t>high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 as you can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They think </a:t>
            </a:r>
            <a:r>
              <a:rPr b="1" i="1" lang="en-US" sz="2200" spc="-1" strike="noStrike">
                <a:solidFill>
                  <a:srgbClr val="564b3c"/>
                </a:solidFill>
                <a:latin typeface="Century Gothic"/>
              </a:rPr>
              <a:t>highly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 of you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Clear - clearly / direct - directly / slow – slowly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Stand clear of the entrance - Write or speak clearly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He went direct/directly to the office - The street leads directly home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Go slow with the experiment or you’ll make a mistake / The computer is working slow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V: Adverbs may occur in different positions in sentence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nitially: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Suddenl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, he fell on the floor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Medially: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e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suddenl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lef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nally: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John left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suddenl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VI: Types of adverb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ime: recently, now, tomorrow, late, at 2:00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lace: here, there, at home, upstairs, between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Manner: quickly, with ambition, well, by bu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requency: always, usually, generally, seldom, never, onc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egree: pretty, so, very, almost, rather, quit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VII: Adverbs of frequency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304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y may be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Definite: once - daily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Indefinite: usually - rarely - often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304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osition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Sentence-medially: They are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never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late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Sentence-Finally: They visit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twice a month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Some of them occur sentence-initially: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Never</a:t>
            </a:r>
            <a:r>
              <a:rPr b="0" i="1" lang="en-US" sz="2000" spc="-1" strike="noStrike">
                <a:solidFill>
                  <a:srgbClr val="564b3c"/>
                </a:solidFill>
                <a:latin typeface="Century Gothic"/>
              </a:rPr>
              <a:t> have I said such a thing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/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Generally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, they do not stay long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They precede the main verb: She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always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eats apples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They follow the copula BE: She is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always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late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They occur between the auxiliary and main verb: They will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always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help us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6b7d72"/>
                </a:solidFill>
                <a:latin typeface="Book Antiqua"/>
                <a:cs typeface="Times New Roman"/>
              </a:rPr>
              <a:t>في اللغة العربية</a:t>
            </a:r>
            <a:r>
              <a:rPr b="0" lang="ar-SA" sz="3500" spc="-1" strike="noStrike">
                <a:solidFill>
                  <a:srgbClr val="6b7d72"/>
                </a:solidFill>
                <a:latin typeface="Book Antiqua"/>
                <a:ea typeface="Times New Roman"/>
              </a:rPr>
              <a:t> </a:t>
            </a:r>
            <a:r>
              <a:rPr b="0" lang="ar-SA" sz="3500" spc="-1" strike="noStrike">
                <a:solidFill>
                  <a:srgbClr val="6b7d72"/>
                </a:solidFill>
                <a:latin typeface="Book Antiqua"/>
                <a:ea typeface="Times New Roman"/>
              </a:rPr>
              <a:t>...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في اللغة العربية، تُستخدم أسماء الزمان والمكان وأظرف الزمان والمكان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قد تأتي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 algn="r" rtl="1">
              <a:spcBef>
                <a:spcPts val="499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64b3c"/>
                </a:solidFill>
                <a:latin typeface="Century Gothic"/>
                <a:cs typeface="Tahoma"/>
              </a:rPr>
              <a:t>مبهمة، مثل: يوماً - أبداً - ساعةً - شتاءً - فوق - أمام - ميلاً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 algn="r" rtl="1">
              <a:spcBef>
                <a:spcPts val="499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64b3c"/>
                </a:solidFill>
                <a:latin typeface="Century Gothic"/>
                <a:cs typeface="Tahoma"/>
              </a:rPr>
              <a:t>مختصّة، مثل: يومَ (يوم الاختبار) - سبعاً (أي بمعنى سبع مرات) - البيت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كما قد تكون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 algn="r" rtl="1">
              <a:spcBef>
                <a:spcPts val="499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64b3c"/>
                </a:solidFill>
                <a:latin typeface="Century Gothic"/>
                <a:cs typeface="Tahoma"/>
              </a:rPr>
              <a:t>معربة، مثل: يوم - البيت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 algn="r" rtl="1">
              <a:spcBef>
                <a:spcPts val="499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64b3c"/>
                </a:solidFill>
                <a:latin typeface="Century Gothic"/>
                <a:cs typeface="Tahoma"/>
              </a:rPr>
              <a:t>مبنية، مثل: منذ - الآن - أمس - حيث -هنا - لدن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waz</dc:creator>
  <dc:description/>
  <dc:language>en-US</dc:language>
  <cp:lastModifiedBy>ABS</cp:lastModifiedBy>
  <dcterms:modified xsi:type="dcterms:W3CDTF">2013-12-11T20:19:04Z</dcterms:modified>
  <cp:revision>21</cp:revision>
  <dc:subject/>
  <dc:title>Comparative Constructions II</dc:title>
</cp:coreProperties>
</file>