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781-19DD-45E4-8A47-0055FEFB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D05-E8C2-4DD6-A798-3BAE9B425C8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2FB-02AE-45C0-9A7D-2355BBFC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BF4-1C14-429F-BDA4-35335E6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E51-A12D-4CED-9BEE-531AE0C8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1DF-3365-4CDD-9E8A-B9CC8C7B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F708-1D22-40DF-841E-730F1F9A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44A4-D050-4539-87C0-66A5FA7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BD3B-CE61-4A23-A9D2-0CCB360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1D65-E98F-486B-A3EE-9A3B5087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8DB7-86CB-41AE-8A3E-65ADD46A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0EC9-5493-4DBC-BF86-E2322CD5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9EC-CF67-4F74-9AD1-2A2CE0CA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F33-1ACB-42E9-B85B-D5613B05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DF6-D5CA-42D9-AFDF-600E8C7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68AC-1C6F-4510-91DB-23DE9D1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05DC-4CA6-4683-B2DF-D337CD7C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5D9E-97CB-4334-A672-F1A72BC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33A0-67EB-440D-82AC-E7AF4018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4D4A-ED31-4D54-93F5-F5D2C44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3A37-9BB1-4F40-9F73-AE1B79A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DC85-20C9-42C8-B639-5F7909B6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99A2-0E4C-46E9-89A5-A40F0AC4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BBA32-81CD-48D9-9190-00E9624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467-7398-4A25-802A-EE445B82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20881-CE5F-4F9C-ADE9-AD060031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960D-CA59-4761-A002-A8CE723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2989-612D-464B-A33B-A074C18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BEF6-72DC-4ECA-9294-0491D77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8B45-3EEE-4D98-9A7F-97B1806E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007F-55AF-4B61-B5A0-C20EDEF0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6CB0-FF5E-4678-B5A2-9DE92025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B66C-9B6C-4206-B0FE-BFDC5EA5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0712-2BB0-4C01-8A33-DEF0B7A5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81C5-5C26-43B1-8269-495DD58D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40B-DFAA-476A-B2DF-DD052C9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4E2D-ED78-48EB-992D-CC63BDA5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C162-B540-4535-9112-D5722977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8451-0A9E-457C-9AF3-F8AFD5C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D268-D54F-4AA8-B8E8-66B3468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2F3C-4780-4006-A5B2-CFB02D61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DA4D-621F-402C-9905-C09EB7D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7D1D-2420-4623-AC92-D310A0B1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7C0F-48D2-46F8-BD88-ECAA9437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2C7B-3CDF-4B5A-ACBC-0BBC0B76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DAE2-E85A-4105-8905-3B0BA9AB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3D5-3A0E-4FFB-BED6-3E0C21D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560F-9917-41D6-9FD1-BE1B8BB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062D-A82F-45C1-8C3B-67FE5122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C336-B244-46AC-8E92-5497B7E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72B9-57C0-4877-8FDF-52349F9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4EF41-29B9-4E74-9BC8-4A3C001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11B7D-60BB-4882-AB72-00FFBA2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612B-8D3B-4939-8246-4C1ED7C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136C-F86F-4CB2-89E3-E8DAD744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50B7-81A9-42CA-BAF9-C86299D9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B287-34C9-4ADD-A0EA-9AA13D59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6DC-E4F4-4D76-976E-BB63F51E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21A6-C505-401C-BADE-39B60E44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AA6EF-01C7-4B79-A8EE-3EE44C56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07015-36F0-4027-82C2-E2F89726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A2E81-9F5F-48D0-9234-23EF15D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160B6-1C9C-4564-99B4-7DDF239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BB050-9BD3-443C-90A3-918BAF7E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35F80-DC02-4DB9-BB07-01375FF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C423C-0D18-4885-832E-82BD4CA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08EA4-E611-48F2-ABC0-359B419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37460-3092-4D68-BA12-CC773602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2D8-9AC1-481D-B080-9AEF13D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939321-E255-449F-B1BC-F25D118F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7353D-15B6-4847-AFC1-A5A9D85B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4BF21-554A-4DFB-9161-3E7E48E9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4B5A-10A7-4BBF-A505-78E38CC4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017E-7264-4CF9-94E7-98ED97F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B3192-E3EE-4830-89F6-13D6E9A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77E2-0D93-49D9-A7C2-3CF22F1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56119-1092-4E8D-9BFB-704CAA4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7CE4-3D59-435C-86D1-3344F894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946C-66BC-4A93-AD44-3FE6008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7D4-20B0-46CF-80F4-9658919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6B0B-4FCB-474E-8DC0-9914410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C55B-20AE-4D48-B1E6-6F24C9AD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C6571-8459-47B8-9743-FD36CAF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1A83-7FA0-4415-B127-6E5EB883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17BC-06F2-4900-B9F9-FF4A1214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C3C-6C31-4FCB-9594-140BC4D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CC33-2B15-40F7-B4CE-CFAC4761F8B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299-8C52-4C90-8DD7-102BDC99CB6A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2EC-7445-45E6-8C71-B40E107A737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9D7-45E4-4CA2-9127-344F9AA6ACD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735-00B9-4282-9F75-3F7F9282872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4E0-D52B-45AA-9B17-7D320407DBD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CDD-C549-4D41-BF5C-3F1930F173EE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#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VERB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ATIVE CONSTRUCTIONS II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اسم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سماء الزمان والمكان تدل على زمن حدوث الفعل أو مكان حدوث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الفعل الثلاثي على وزن مفَعل أو مفعِل. مثل: مأوى - مدرسة - مغرب - موعد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غير الثلاثي على وزن المضارع مع إبدال حرف المضارعة ميماً مضمومة وفتح ما قبل الآخر. مثل: مجتمع - منتهى - متفتح - ملتقى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ظرف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ظرفا الزمان والمكان يستخدمان للدلالة على زمن وقوع الفعل أو مكان وقوع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مثلة على ظرفي الزمان والمكا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داً - عشاءً - صباحاً - مساءً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تَ - فوقَ - بين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نذ - الآن - حيث - إ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VERBS OF FREQUENCY IN ARABIC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دائم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بد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te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الب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ometi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حيان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ldo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لّما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are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نادر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FERENC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: In English, there are three types of adverbs with regards to form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mple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just - down - always - well - ye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ompound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somehow - therefore - downstai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rivational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 + -ly: slowly - quick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ise: clockwise - money-wi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ys: sideway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rd(s): backward(s) - forward(s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fix (a) + noun: away - apart - abroad - aside - asho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e + adjective: below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: Adverbs can perform a number of different func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modifiers of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s: very good, quite righ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verbs: very heavi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tmodifier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I: Some forms may be used as adverbs or adjectiv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ork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work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ar run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IV: Some adjectives have two forms of adverbs (different meaning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ceiling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Jump as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as you can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They think </a:t>
            </a:r>
            <a:r>
              <a:rPr b="1" i="1" lang="en-US" sz="2200" spc="-1" strike="noStrike">
                <a:solidFill>
                  <a:srgbClr val="564b3c"/>
                </a:solidFill>
                <a:latin typeface="Century Gothic"/>
              </a:rPr>
              <a:t>highly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of you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Clear - clearly / direct - directly / slow – slow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Stand clear of the entrance - Write or speak clearly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He went direct/directly to the office - The street leads directly home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Go slow with the experiment or you’ll make a mistake / The computer is working slow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: Adverbs may occur in different positions in sentenc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it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he fell on the floo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ed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lef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n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ohn left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: Types of adverb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me: recently, now, tomorrow, late, at 2:0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ce: here, there, at home, upstairs, betwee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nner: quickly, with ambition, well, by b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requency: always, usually, generally, seldom, never, onc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gree: pretty, so, very, almost, rather, qui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I: Adverbs of frequency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may b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Definite: once - dail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Indefinite: usually - rarely - ofte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medially: They ar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Finally: They visit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twice a month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ome of them occur sentence-initially: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i="1" lang="en-US" sz="2000" spc="-1" strike="noStrike">
                <a:solidFill>
                  <a:srgbClr val="564b3c"/>
                </a:solidFill>
                <a:latin typeface="Century Gothic"/>
              </a:rPr>
              <a:t> have I said such a thing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/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General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, they do not stay long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precede the main verb: Sh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eats appl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follow the copula BE: She is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occur between the auxiliary and main verb: They will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help us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في اللغة العربية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 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..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في اللغة العربية، تُستخدم أسماء الزمان والمكان وأظرف الزمان والمكان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د تأتي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همة، مثل: يوماً - أبداً - ساعةً - شتاءً - فوق - أمام - ميلاً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ختصّة، مثل: يومَ (يوم الاختبار) - سبعاً (أي بمعنى سبع مرات)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كما قد تكو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عربة، مثل: يوم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نية، مثل: منذ - الآن - أمس - حيث -هنا - لدن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ABS</cp:lastModifiedBy>
  <dcterms:modified xsi:type="dcterms:W3CDTF">2013-12-11T20:19:04Z</dcterms:modified>
  <cp:revision>21</cp:revision>
  <dc:subject/>
  <dc:title>Comparative Constructions II</dc:title>
</cp:coreProperties>
</file>