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2FFA-952C-42CA-A16D-F04EB847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F867-93C9-4C3A-B6FB-71948B1E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C19F-3C1D-4CA8-B5B6-4545C498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BF42-5FA2-4171-B31D-2B5AFBFA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68A3-95FC-4215-9FB2-F66088CD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B9B5-90E5-4721-88DA-5A0CC27D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0191-8FBD-4F74-8224-0E14D675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48ED-B509-48EA-A36A-A332FDCC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C5BB-2DC9-4980-B5B0-C3BD4E74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49E8-EA7C-48A6-B67D-2BFEA4E0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A21D-97D6-4BA3-8E2E-46898DFC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10E-E594-4AC0-AC07-D453EAE0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3-14-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1573-B8C8-4270-9258-451255A357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520120" y="6172200"/>
          <a:ext cx="461880" cy="507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20120" y="6172200"/>
                    <a:ext cx="461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46720" y="533520"/>
            <a:ext cx="691668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Aging &amp; th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ardiovascular Syste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3048120"/>
            <a:ext cx="548640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ent for this module provided b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John A. Hartford Foundation, Institute for Geriatric Nursing, Online Gerontological Nursing Certification Review Course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ttp://www.nyu.edu/education/nursing/hartford.institute/course/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56386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port for this proj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ovided to School of Nursing, University of Washington b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he John A. Hartford Foundation, Geriatric Nursing Education Grant and Nursing School Geriatric Investment Program Gran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63680" y="2819520"/>
            <a:ext cx="1455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ormal Cardiovascular Physiologic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5334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ummary - changes occur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t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pressu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ocard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diac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vular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1320" y="2057400"/>
            <a:ext cx="2319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ormal Cardiac Output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9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d cardiac output in response to exercise or st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effects are influenced by associated heart disease &amp; level of baseline physical activi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791320" y="1981080"/>
            <a:ext cx="245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ormal Valvular Function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4724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olic and diastolic murmurs may result from incomplete valve clo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105520" y="1981080"/>
            <a:ext cx="282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rmal Myocardial Function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actile strength &amp; ef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diac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diac reser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82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ormal Heart Rate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diac responsiveness rate with exerc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t may take longer to return to baseline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24400" y="1981080"/>
            <a:ext cx="290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ormal SA Node &amp; Intranodal Atrial Tract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8960" y="1943280"/>
            <a:ext cx="655308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Physiological 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ritability of the myocardium may result in extra systoles, along with sinus arrhythmias &amp; sinus bradycar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ormal Blood Pressure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5181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olic blood pressure may rise disproportionately higher than diastol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400800" y="1905120"/>
            <a:ext cx="245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V Links to Other Orga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162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in the cardiovascular system have direct effects on other org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atherosclerotic changes in blood vessels that occur in patients with hypertension may result in loss of renal function, vision impair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"/>
              </a:rPr>
              <a:t>Functional Implications of Normal Age-Related Changes*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e to stres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ity intole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static hypot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zziness w/position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1" i="1" lang="en-US" sz="2600" spc="-1" strike="noStrike">
                <a:solidFill>
                  <a:srgbClr val="ff3300"/>
                </a:solidFill>
                <a:latin typeface="Arial"/>
              </a:rPr>
              <a:t>Influenced by presence of disease &amp; lifestyle varia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172200" y="1600200"/>
            <a:ext cx="245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difiable CV Risk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slipid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HD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ed LD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ed triglyceri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betes melli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in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e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menopausal hormone 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 alcohol inta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rmal Cardiovascular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 to differentiate between age-related changes and those related to an inactive lifestyle or disu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the changes  normal 'wear and tear' or cardiovascular disea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24400" y="1981080"/>
            <a:ext cx="245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ursing Interven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aging changes may be difficult to differentiate from changes r/t inactive lifestyle and/or CV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ursing Interven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ion about cardiovascular risk factors, preventive measures &amp; treatment regim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activity &amp; smoking cessation are interventions that have impacts on CV health, as well as general health &amp; healthy a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rmal Heart Muscle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800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Anatomical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ckening of the left ventricular w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gen,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last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82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ormal Heart Valve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403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Anatomical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ck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ortic &amp; mitral valve calc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282888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72200" y="5562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rtic val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6705720" y="4114800"/>
            <a:ext cx="38088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00800" y="1981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tral val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0" y="2286000"/>
            <a:ext cx="228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ormal SA Node &amp; Intranodal Atrial Tract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2209320"/>
            <a:ext cx="58672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Anatomical 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pacemaker c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brous tissue infiltration of conductive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ormal Artery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410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Anatomical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pheral arteries less resil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arteries stiffer, less elastic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last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ifications in artery walls, including aor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ifications +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lastin +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llagen = stiffer vessels = more difficult to di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90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ormal Vein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5105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Anatomical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ins dilate &amp; stretch with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elast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ima &amp; muscular walls thicken and become less elas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290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ormal Coronary Artery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5181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onary artery blood flow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tween ages 20 &amp; 6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: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xygen delivery to the heart muscle, thus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bility to increase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62720" y="1981080"/>
            <a:ext cx="267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ormal Changes: Aort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9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come dilated, elongated, rigi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develop calcifications and become tort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astin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llagen = calcific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iffness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867280" y="1981080"/>
            <a:ext cx="2676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22:18:25Z</dcterms:created>
  <dc:creator>Larry &amp; Elena Siegel</dc:creator>
  <dc:description/>
  <dc:language>en-US</dc:language>
  <cp:lastModifiedBy>ZonaNet</cp:lastModifiedBy>
  <dcterms:modified xsi:type="dcterms:W3CDTF">2008-05-03T00:56:49Z</dcterms:modified>
  <cp:revision>25</cp:revision>
  <dc:subject/>
  <dc:title>No Slide Title</dc:title>
</cp:coreProperties>
</file>