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CBF8-28E9-4256-BEDB-90E92099A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52E0-DB0B-4F09-AA09-80F1FDCA8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4F43-3750-425E-A4A7-C98739F19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7BDC-AFDB-4B43-A804-B6E57F9DE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2A51-78CC-4119-A98E-91B0FFB22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3AE7-8176-4DD8-B030-6C5F85550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F3EB-229A-4BEF-A851-C86FB15E4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716F-7D5A-4545-BE8F-A0CEFD913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37E6-7533-43EF-8566-F649668BE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8966-FC32-42B0-AC98-BBD6B5E40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D572-5AF1-435C-B026-E11B055C1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3EB5-88EA-4A40-B8B9-BA0FA2EB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3-14-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E8230-2178-4013-A240-4659766341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8520120" y="6172200"/>
          <a:ext cx="461880" cy="507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20120" y="6172200"/>
                    <a:ext cx="46188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46720" y="533520"/>
            <a:ext cx="6916680" cy="18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Aging &amp; th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4800"/>
            </a:b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Cardiovascular System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3048120"/>
            <a:ext cx="5486400" cy="20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ent for this module provided b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John A. Hartford Foundation, Institute for Geriatric Nursing, Online Gerontological Nursing Certification Review Course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http://www.nyu.edu/education/nursing/hartford.institute/course/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563868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pport for this proj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rovided to School of Nursing, University of Washington b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he John A. Hartford Foundation, Geriatric Nursing Education Grant and Nursing School Geriatric Investment Program Grant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363680" y="2819520"/>
            <a:ext cx="14558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Normal Cardiovascular Physiologic Chan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5334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Summary - changes occur i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rt r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ood pressur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ocardial fun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diac outp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vular fun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791320" y="2057400"/>
            <a:ext cx="23191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Normal Cardiac Output Chan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9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reased cardiac output in response to exercise or st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effects are influenced by associated heart disease &amp; level of baseline physical activit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791320" y="1981080"/>
            <a:ext cx="2455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Normal Valvular Function Chan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47246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stolic and diastolic murmurs may result from incomplete valve clos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105520" y="1981080"/>
            <a:ext cx="2828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Normal Myocardial Function Chan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actile strength &amp; efficien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diac outp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diac reser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334120" y="1981080"/>
            <a:ext cx="2828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Normal Heart Rate Chan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4419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diac responsiveness rate with exerci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rt may take longer to return to baseline r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324400" y="1981080"/>
            <a:ext cx="2905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Normal SA Node &amp; Intranodal Atrial Tract Chan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18960" y="1943280"/>
            <a:ext cx="6553080" cy="36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3300"/>
                </a:solidFill>
                <a:latin typeface="Arial"/>
              </a:rPr>
              <a:t>Physiological chan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rritability of the myocardium may result in extra systoles, along with sinus arrhythmias &amp; sinus bradycard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Normal Blood Pressure Chan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5181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stolic blood pressure may rise disproportionately higher than diastol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400800" y="1905120"/>
            <a:ext cx="2455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V Links to Other Orga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162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ges in the cardiovascular system have direct effects on other orga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: atherosclerotic changes in blood vessels that occur in patients with hypertension may result in loss of renal function, vision impair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"/>
              </a:rPr>
              <a:t>Functional Implications of Normal Age-Related Changes*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ponse to stres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ity intoler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thostatic hypoten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zziness w/position chan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*</a:t>
            </a:r>
            <a:r>
              <a:rPr b="1" i="1" lang="en-US" sz="2600" spc="-1" strike="noStrike">
                <a:solidFill>
                  <a:srgbClr val="ff3300"/>
                </a:solidFill>
                <a:latin typeface="Arial"/>
              </a:rPr>
              <a:t>Influenced by presence of disease &amp; lifestyle variation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172200" y="1600200"/>
            <a:ext cx="2455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odifiable CV Risk Facto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perten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ok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yslipidem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 HD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vated LD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vated triglyceri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abetes mellit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ysical inactiv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es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t-menopausal hormone thera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ess alcohol intak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Normal Cardiovascular Chan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114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icult to differentiate between age-related changes and those related to an inactive lifestyle or disus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the changes  normal 'wear and tear' or cardiovascular diseas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24400" y="1981080"/>
            <a:ext cx="2455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Nursing Intervent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mal aging changes may be difficult to differentiate from changes r/t inactive lifestyle and/or CV dise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Nursing Intervent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752120"/>
            <a:ext cx="7391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ucation about cardiovascular risk factors, preventive measures &amp; treatment regime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ysical activity &amp; smoking cessation are interventions that have impacts on CV health, as well as general health &amp; healthy ag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Normal Heart Muscle Chan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4800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00"/>
                </a:solidFill>
                <a:latin typeface="Arial"/>
              </a:rPr>
              <a:t>Anatomical cha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ckening of the left ventricular wa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agen,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last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34120" y="1981080"/>
            <a:ext cx="2828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Normal Heart Valve Chan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4038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00"/>
                </a:solidFill>
                <a:latin typeface="Arial"/>
              </a:rPr>
              <a:t>Anatomical cha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ck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exi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ortic &amp; mitral valve calcif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029200" y="1905120"/>
            <a:ext cx="2828880" cy="4114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172200" y="55627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ortic valv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6705720" y="4114800"/>
            <a:ext cx="38088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400800" y="19810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tral valv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0" y="2286000"/>
            <a:ext cx="22860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Normal SA Node &amp; Intranodal Atrial Tract Chan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3000" y="2209320"/>
            <a:ext cx="58672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3300"/>
                </a:solidFill>
                <a:latin typeface="Arial"/>
              </a:rPr>
              <a:t>Anatomical chan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 of pacemaker cel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brous tissue infiltration of conductive sys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Normal Artery Chan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5410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Anatomical cha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ipheral arteries less resili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rge arteries stiffer, less elastic,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last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ifications in artery walls, including aor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ifications +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lastin +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llagen = stiffer vessels = more difficult to dil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2905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Normal Vein Chan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5105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Anatomical cha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ins dilate &amp; stretch with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elastic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ima &amp; muscular walls thicken and become less elast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410080" y="1981080"/>
            <a:ext cx="2905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Normal Coronary Artery Chan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51818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onary artery blood flow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etween ages 20 &amp; 60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ffect: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xygen delivery to the heart muscle, thus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bility to increase activ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562720" y="1981080"/>
            <a:ext cx="2676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Normal Changes: Aort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9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become dilated, elongated, rigi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develop calcifications and become tortuo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astin,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llagen = calcifica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tiffness,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mpli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867280" y="1981080"/>
            <a:ext cx="2676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8T22:18:25Z</dcterms:created>
  <dc:creator>Larry &amp; Elena Siegel</dc:creator>
  <dc:description/>
  <dc:language>en-US</dc:language>
  <cp:lastModifiedBy>ZonaNet</cp:lastModifiedBy>
  <dcterms:modified xsi:type="dcterms:W3CDTF">2008-05-03T00:56:49Z</dcterms:modified>
  <cp:revision>25</cp:revision>
  <dc:subject/>
  <dc:title>No Slide Title</dc:title>
</cp:coreProperties>
</file>