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BEB-9662-409C-B097-76051472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ED9-DAD3-4333-BC93-318B848A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6BBC-36D2-4084-9B5D-13E2F733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FC9-FDC1-4A17-992E-80B89B18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ECA8-5EDE-4824-8495-787C02A5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1C56-F77D-46E7-89F1-B124C5CC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86AF-72D1-4085-8EC6-5C33F130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F430-9456-48AB-B3BE-0ABA8361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3650-2C19-4F40-AE33-0610C4AF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EC06-D5DD-4897-B256-2AC7DFCD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23C3-0062-4176-9B13-7563770B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5B7-A09D-4D77-9528-5AEE3D44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47B9-67C5-4F6D-8512-785A7F3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4F3C-2E6F-430A-A156-29D27D5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0A1E-3CD9-4D39-8F80-97F5A9B4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2668-0AA0-46CB-8BD0-C797744F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AF55-96C6-4863-BDDD-BD79B0E9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92C-ACA0-4DDD-9217-4471B492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25F-BFBC-4A97-BC01-EBE5CC28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AFB-882B-493A-8803-0E830311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A24-2B61-40B4-BB33-B19B1A01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D34-8BE1-492B-B772-B84B4910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FBE-D045-4669-AF2C-144293B6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DEA-3E9D-4B40-96ED-81415FD9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E4C3-0366-493F-BFCA-DD0E806D5BB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0588-0649-4B39-9827-F460703BA88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660680" y="646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228600" y="5486400"/>
            <a:ext cx="311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f3b19"/>
                </a:solidFill>
                <a:latin typeface="Lucida Console"/>
              </a:rPr>
              <a:t>By : dr.n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alcohol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5"/>
          <p:cNvSpPr/>
          <p:nvPr/>
        </p:nvSpPr>
        <p:spPr>
          <a:xfrm>
            <a:off x="-1143000" y="0"/>
            <a:ext cx="489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d47d"/>
                </a:solidFill>
                <a:latin typeface="Verdana"/>
                <a:ea typeface="Aharoni"/>
              </a:rPr>
              <a:t>Alcohol&amp; related</a:t>
            </a:r>
            <a:r>
              <a:rPr b="1" lang="en-US" sz="5400" spc="-1" strike="noStrike">
                <a:solidFill>
                  <a:srgbClr val="e9d47d"/>
                </a:solidFill>
                <a:latin typeface="Verdana"/>
                <a:ea typeface="Aharon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9d47d"/>
                </a:solidFill>
                <a:latin typeface="Verdana"/>
                <a:ea typeface="Aharoni"/>
              </a:rPr>
              <a:t>mental disord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88080" y="582300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d47d"/>
                </a:solidFill>
                <a:latin typeface="Verdana"/>
              </a:rPr>
              <a:t>By: Dr.N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6729"/>
                </a:solidFill>
                <a:uFillTx/>
                <a:latin typeface="Comic Sans MS"/>
                <a:ea typeface="Times New Roman"/>
              </a:rPr>
              <a:t>DSM-VI criteria for </a:t>
            </a:r>
            <a:r>
              <a:rPr b="1" lang="en-US" sz="3200" spc="-1" strike="noStrike" u="sng">
                <a:solidFill>
                  <a:srgbClr val="666729"/>
                </a:solidFill>
                <a:uFillTx/>
                <a:latin typeface="Comic Sans MS"/>
                <a:ea typeface="Times New Roman"/>
              </a:rPr>
              <a:t>Alcohol Dependence</a:t>
            </a:r>
            <a:endParaRPr b="0" lang="en-US" sz="32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daptive pattern of substance u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3 or more of  the following in the same 12 months peri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marked increase in amount for the desired  effec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reduce effect with same amount us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draw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in larger amounts and in longer periods th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d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uccessful efforts to cut down or control the u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reat deal of time is spent in obtaining, using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vering from the substa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life activities are given up because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nce u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**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s continued despite knowledge of having a proble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Subtypes of dependence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A &amp; 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s :-early stage probl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iliative drink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izoid isolated drink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1 &amp; 2 male limited drinkers (psychological  &gt; physical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d943f"/>
                </a:solidFill>
                <a:latin typeface="Comic Sans MS"/>
                <a:ea typeface="Times New Roman"/>
              </a:rPr>
              <a:t>Alcohol intoxicati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993366"/>
                </a:solidFill>
                <a:uFillTx/>
                <a:latin typeface="Arial"/>
              </a:rPr>
              <a:t>Its not a trivial problem</a:t>
            </a:r>
            <a:r>
              <a:rPr b="1" i="1" lang="en-US" sz="4000" spc="-1" strike="noStrike" u="sng">
                <a:solidFill>
                  <a:srgbClr val="993366"/>
                </a:solidFill>
                <a:uFillTx/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l intoxication = 0,1%_0,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0,20% == motor area in brain d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0,3% == confus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0,4_0,5 == coma &amp; dea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6729"/>
                </a:solidFill>
                <a:uFillTx/>
                <a:latin typeface="Comic Sans MS"/>
                <a:ea typeface="Times New Roman"/>
              </a:rPr>
              <a:t>DSM-VI criteria for  </a:t>
            </a:r>
            <a:r>
              <a:rPr b="1" lang="en-US" sz="2800" spc="-1" strike="noStrike" u="sng">
                <a:solidFill>
                  <a:srgbClr val="666729"/>
                </a:solidFill>
                <a:uFillTx/>
                <a:latin typeface="Comic Sans MS"/>
                <a:ea typeface="Times New Roman"/>
              </a:rPr>
              <a:t>Alcohol Intoxication</a:t>
            </a:r>
            <a:r>
              <a:rPr b="1" lang="en-US" sz="2800" spc="-1" strike="noStrike" u="sng">
                <a:solidFill>
                  <a:srgbClr val="666729"/>
                </a:solidFill>
                <a:uFillTx/>
                <a:latin typeface="Times New Roman"/>
                <a:ea typeface="Times New Roman"/>
              </a:rPr>
              <a:t> :</a:t>
            </a:r>
            <a:br>
              <a:rPr sz="2800"/>
            </a:br>
            <a:endParaRPr b="0" lang="en-US" sz="28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160" y="1066680"/>
            <a:ext cx="857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nt ingestion of 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gnificant maladaptive behavioral or                     psychological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)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e or more of the follow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urred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teady g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stagm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ed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por or co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)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ot due to a general medical condition or other mental dis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Alcohol withdrawal</a:t>
            </a: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218960"/>
            <a:ext cx="888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) 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Cessation or reduction in heavy  alcohol us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)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wo or more of the following( several hours – few days 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tonomic hyper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creased hand tremo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om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ausea or vom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ient hallucinations or il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sychomotor a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xie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rand mal seiz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) 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mpairment in func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)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Not due to a general medical condition or mental disorde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380880"/>
            <a:ext cx="738648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tters = = = in 6-8 hr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ceptual ===in 8-12 h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izures === in 12- 24 h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T= == in 72 hrs up to 1 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66"/>
                </a:solidFill>
                <a:latin typeface="Comic Sans MS"/>
              </a:rPr>
              <a:t>Delirium tremens ( DT’s)</a:t>
            </a:r>
            <a:r>
              <a:rPr b="1" lang="en-US" sz="4400" spc="-1" strike="noStrike">
                <a:solidFill>
                  <a:srgbClr val="993366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cal emer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tality 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appear up to 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week &amp; can start from 3d da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nomic hyperactivit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Verdana"/>
                <a:ea typeface="Times New Roman"/>
              </a:rPr>
              <a:t>The best Treatment for DT’s is prevention</a:t>
            </a:r>
            <a:r>
              <a:rPr b="0" lang="en-US" sz="3200" spc="-1" strike="noStrike">
                <a:solidFill>
                  <a:srgbClr val="993366"/>
                </a:solidFill>
                <a:latin typeface="Verdan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Benzodiaze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Systemic stab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Effects of alcohol</a:t>
            </a: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ysiological : liver , esophgitis , varices ,alcoholic hepatit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eep :  ease of falling slee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body system : M.I , HTN , 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 flipV="1">
            <a:off x="1981080" y="3352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Psychiatric comp</a:t>
            </a: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Induced psychos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induced Mood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induced anxiety dis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ual dysfunction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Points to be covered</a:t>
            </a: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 :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bolism of alcoh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 dependen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oxi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draw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s of alcoh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pic>
        <p:nvPicPr>
          <p:cNvPr id="236" name="Picture 4" descr="birchbar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History of alcohol</a:t>
            </a: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 :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gyptians =“</a:t>
            </a:r>
            <a:r>
              <a:rPr b="1" lang="en-US" sz="3200" spc="-1" strike="noStrike">
                <a:solidFill>
                  <a:srgbClr val="c9c177"/>
                </a:solidFill>
                <a:latin typeface="Arial"/>
              </a:rPr>
              <a:t>he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s _ Europe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1920 congress law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3 limited use while driving a car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1% of adults currently are alcohol abuser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% of women&amp; 20% of men =ab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-5% of women&amp;10% of me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ence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Metabolism</a:t>
            </a:r>
            <a:r>
              <a:rPr b="1" lang="en-US" sz="4400" spc="-1" strike="noStrike">
                <a:solidFill>
                  <a:srgbClr val="66672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% by stomach &amp; 90% by small intest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diffusio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ak concentration is reached in 30 to 90 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ugs: asprin ,ulcer m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s in sex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tribution to all body fluids , including blood brain barrier , placenta “in pregnant lad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9c177"/>
                </a:solidFill>
                <a:latin typeface="Arial"/>
              </a:rPr>
              <a:t>B.A.C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to measure rather than the amount ingeste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y liver , through oxidation &amp; 5% only by lu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te of metabolism is 15 mg\dl per hou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zymes involved a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d943f"/>
                </a:solidFill>
                <a:latin typeface="Arial"/>
              </a:rPr>
              <a:t>AD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d943f"/>
                </a:solidFill>
                <a:latin typeface="Arial"/>
              </a:rPr>
              <a:t>aldehyde dehydroge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1" descr="schemati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Alcohol dependence</a:t>
            </a:r>
            <a:r>
              <a:rPr b="1" lang="en-US" sz="4000" spc="-1" strike="noStrike">
                <a:solidFill>
                  <a:srgbClr val="666729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large amou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bility to cut dow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nestic perio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serious physical illne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&amp; occupational function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0:16:36Z</dcterms:created>
  <dc:creator>www.arabswell.com</dc:creator>
  <dc:description/>
  <dc:language>en-US</dc:language>
  <cp:lastModifiedBy>Dr.Jawaher</cp:lastModifiedBy>
  <dcterms:modified xsi:type="dcterms:W3CDTF">2012-05-16T11:48:03Z</dcterms:modified>
  <cp:revision>2</cp:revision>
  <dc:subject/>
  <dc:title>Slide 1</dc:title>
</cp:coreProperties>
</file>