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94C-4A22-4CD6-85DD-972A9462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0B7-6002-4663-A505-52F62D49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91D-AACC-4BCF-8E6A-947A570C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350-96D9-495F-9054-45E41CC8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C72E-C1B2-42A1-A71E-3BD5308B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5F4E-63E1-493D-AB37-62705A2B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8829-0515-470D-9D82-CDA07299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1A3A-7E39-4347-921E-7ED2603A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837D-74DC-47F8-9ACF-F94F13A6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D9A5-6878-43B9-9D6D-690CFC6A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C425-C187-4F8F-9945-17B70241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DEE-E5FF-409A-A265-9D4D88ED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DD7F-56EF-4FC8-89D7-E70DA0E5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09C2-48FD-4613-A4FB-10B9C436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844B-2D78-4A68-B556-611EB182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848C-CC90-4CFC-9413-5A399E08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F92F-B1B9-44D9-97C4-C2380E57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E88-84E0-44C0-9420-9E782C56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25E-A66F-4ED5-877D-C0857476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172-3E30-42BC-890D-6BA14E41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695-0AC4-402A-BE2C-56879EE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50A-80F1-4EDE-9EBE-02056AFD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A30-8FEA-4936-88BC-8270F7D9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226-6930-4346-88B6-4BF97D10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E78A-54C7-439B-BBDB-509FE7BD5CC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05F1-87C0-4DFD-A505-0623EEC93B7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660680" y="646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228600" y="5486400"/>
            <a:ext cx="311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b19"/>
                </a:solidFill>
                <a:latin typeface="Lucida Console"/>
              </a:rPr>
              <a:t>By : dr.n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alcohol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5"/>
          <p:cNvSpPr/>
          <p:nvPr/>
        </p:nvSpPr>
        <p:spPr>
          <a:xfrm>
            <a:off x="-1143000" y="0"/>
            <a:ext cx="489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d47d"/>
                </a:solidFill>
                <a:latin typeface="Verdana"/>
                <a:ea typeface="Aharoni"/>
              </a:rPr>
              <a:t>Alcohol&amp; related</a:t>
            </a:r>
            <a:r>
              <a:rPr b="1" lang="en-US" sz="5400" spc="-1" strike="noStrike">
                <a:solidFill>
                  <a:srgbClr val="e9d47d"/>
                </a:solidFill>
                <a:latin typeface="Verdana"/>
                <a:ea typeface="Aharon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d47d"/>
                </a:solidFill>
                <a:latin typeface="Verdana"/>
                <a:ea typeface="Aharoni"/>
              </a:rPr>
              <a:t>mental disord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88080" y="582300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d47d"/>
                </a:solidFill>
                <a:latin typeface="Verdana"/>
              </a:rPr>
              <a:t>By: Dr.N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6729"/>
                </a:solidFill>
                <a:uFillTx/>
                <a:latin typeface="Comic Sans MS"/>
                <a:ea typeface="Times New Roman"/>
              </a:rPr>
              <a:t>DSM-VI criteria for </a:t>
            </a:r>
            <a:r>
              <a:rPr b="1" lang="en-US" sz="3200" spc="-1" strike="noStrike" u="sng">
                <a:solidFill>
                  <a:srgbClr val="666729"/>
                </a:solidFill>
                <a:uFillTx/>
                <a:latin typeface="Comic Sans MS"/>
                <a:ea typeface="Times New Roman"/>
              </a:rPr>
              <a:t>Alcohol Dependence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daptive pattern of substance u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3 or more of  the following in the same 12 months peri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marked increase in amount for the desired  effec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reduce effect with same amount us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draw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in larger amounts and in longer periods th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d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uccessful efforts to cut down or control the u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reat deal of time is spent in obtaining, using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ing from the substa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life activities are given up becaus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nce u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s continued despite knowledge of having a probl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Subtypes of dependence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A &amp; 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s :-early stage probl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liative drink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izoid isolated drink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1 &amp; 2 male limited drinkers (psychological  &gt; physical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d943f"/>
                </a:solidFill>
                <a:latin typeface="Comic Sans MS"/>
                <a:ea typeface="Times New Roman"/>
              </a:rPr>
              <a:t>Alcohol intoxicati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93366"/>
                </a:solidFill>
                <a:uFillTx/>
                <a:latin typeface="Arial"/>
              </a:rPr>
              <a:t>Its not a trivial problem</a:t>
            </a:r>
            <a:r>
              <a:rPr b="1" i="1" lang="en-US" sz="4000" spc="-1" strike="noStrike" u="sng">
                <a:solidFill>
                  <a:srgbClr val="993366"/>
                </a:solidFill>
                <a:uFillTx/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l intoxication = 0,1%_0,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0,20% == motor area in brain d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0,3% == confu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0,4_0,5 == coma &amp; dea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6729"/>
                </a:solidFill>
                <a:uFillTx/>
                <a:latin typeface="Comic Sans MS"/>
                <a:ea typeface="Times New Roman"/>
              </a:rPr>
              <a:t>DSM-VI criteria for  </a:t>
            </a:r>
            <a:r>
              <a:rPr b="1" lang="en-US" sz="2800" spc="-1" strike="noStrike" u="sng">
                <a:solidFill>
                  <a:srgbClr val="666729"/>
                </a:solidFill>
                <a:uFillTx/>
                <a:latin typeface="Comic Sans MS"/>
                <a:ea typeface="Times New Roman"/>
              </a:rPr>
              <a:t>Alcohol Intoxication</a:t>
            </a:r>
            <a:r>
              <a:rPr b="1" lang="en-US" sz="2800" spc="-1" strike="noStrike" u="sng">
                <a:solidFill>
                  <a:srgbClr val="666729"/>
                </a:solidFill>
                <a:uFillTx/>
                <a:latin typeface="Times New Roman"/>
                <a:ea typeface="Times New Roman"/>
              </a:rPr>
              <a:t> :</a:t>
            </a:r>
            <a:br>
              <a:rPr sz="2800"/>
            </a:b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160" y="1066680"/>
            <a:ext cx="857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nt ingestion of 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nificant maladaptive behavioral or                     psychological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)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 or more of the follow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urred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teady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stagm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ed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or or co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)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ot due to a general medical condition or other mental dis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Alcohol withdrawal</a:t>
            </a: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218960"/>
            <a:ext cx="888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) 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Cessation or reduction in heavy  alcohol us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)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wo or more of the following( several hours – few days 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tonomic hyper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reased hand tremo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om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usea or vom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ient hallucinations or il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sychomotor a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xie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and mal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) 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mpairment in func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)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Not due to a general medical condition or mental disord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380880"/>
            <a:ext cx="738648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tters = = = in 6-8 hr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ceptual ===in 8-12 h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izures === in 12- 24 h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T= == in 72 hrs up to 1 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Comic Sans MS"/>
              </a:rPr>
              <a:t>Delirium tremens ( DT’s)</a:t>
            </a:r>
            <a:r>
              <a:rPr b="1" lang="en-US" sz="4400" spc="-1" strike="noStrike">
                <a:solidFill>
                  <a:srgbClr val="993366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l emer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tality 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appear up to 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eek &amp; can start from 3d da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nomic hyperactivit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Verdana"/>
                <a:ea typeface="Times New Roman"/>
              </a:rPr>
              <a:t>The best Treatment for DT’s is prevention</a:t>
            </a:r>
            <a:r>
              <a:rPr b="0" lang="en-US" sz="3200" spc="-1" strike="noStrike">
                <a:solidFill>
                  <a:srgbClr val="993366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Benzodiaze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ystemic stab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Effects of alcohol</a:t>
            </a: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ological : liver , esophgitis , varices ,alcoholic hepatit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eep :  ease of falling slee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body system : M.I , HTN , 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 flipV="1">
            <a:off x="1981080" y="3352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Psychiatric comp</a:t>
            </a: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Induced psychos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induced Mood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induced anxie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ual dysfunction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Points to be covered</a:t>
            </a: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 :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sm of alcoh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depend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oxi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draw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s of alcoh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36" name="Picture 4" descr="birchbar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History of alcohol</a:t>
            </a: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 :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ians =“</a:t>
            </a:r>
            <a:r>
              <a:rPr b="1" lang="en-US" sz="3200" spc="-1" strike="noStrike">
                <a:solidFill>
                  <a:srgbClr val="c9c177"/>
                </a:solidFill>
                <a:latin typeface="Arial"/>
              </a:rPr>
              <a:t>he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s _ Europe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1920 congress law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3 limited use while driving a ca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1% of adults currently are alcohol abuser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% of women&amp; 20% of men =ab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 of women&amp;10% of me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ce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Metabolism</a:t>
            </a: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% by stomach &amp; 90% by small intest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diffusio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ak concentration is reached in 30 to 90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ugs: asprin ,ulcer m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s in sex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ion to all body fluids , including blood brain barrier , placenta “in pregnant lad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9c177"/>
                </a:solidFill>
                <a:latin typeface="Arial"/>
              </a:rPr>
              <a:t>B.A.C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to measure rather than the amount ingest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 liver , through oxidation &amp; 5% only by lu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te of metabolism is 15 mg\dl per hou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zymes involved a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d943f"/>
                </a:solidFill>
                <a:latin typeface="Arial"/>
              </a:rPr>
              <a:t>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d943f"/>
                </a:solidFill>
                <a:latin typeface="Arial"/>
              </a:rPr>
              <a:t>aldehyde dehydroge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" descr="schemat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Alcohol dependence</a:t>
            </a: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large amou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bility to cut dow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nestic perio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serious physical illne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&amp; occupational function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0:16:36Z</dcterms:created>
  <dc:creator>www.arabswell.com</dc:creator>
  <dc:description/>
  <dc:language>en-US</dc:language>
  <cp:lastModifiedBy>Dr.Jawaher</cp:lastModifiedBy>
  <dcterms:modified xsi:type="dcterms:W3CDTF">2012-05-16T11:48:03Z</dcterms:modified>
  <cp:revision>2</cp:revision>
  <dc:subject/>
  <dc:title>Slide 1</dc:title>
</cp:coreProperties>
</file>