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D4C8-E43A-4EA8-B8C2-FA02A329C6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5E78-8EF9-45A5-B536-39F0DB0AC5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0D9-C2B5-443C-BE95-36568AFF7C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DC8F-CBB4-4AF6-BD1D-566322DCA0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6DD-AA23-4332-B032-53E5ABBA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B06-0C06-48E1-A45D-180E1CF2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476-12DD-4694-8D03-D772D370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2F6-B46B-403B-AEEB-309C4D51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1BAC-A6BB-40C7-9E1A-BD5D0FF2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7336-ED17-4CA9-B350-9EF08675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94D2-F6A3-4782-B507-254B722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CEAC-34DB-466A-B91B-D0D1D6BD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9C51-9982-4C46-976A-76FDB91B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6404-E282-4923-B62F-C7CF39C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C4F-BDA0-4F91-8F93-DB45520B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896-E737-43D6-96A2-CE20A738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D721-EBBC-4C9F-98DC-5EB70F43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24AC-FF9C-4906-85AC-3908D8F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DA1-D5D4-4381-9D34-A6A90A46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9593-BD4B-4C0B-AB15-14C902D1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25A8-BEB3-4F11-B04C-2E27D713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4CE9-2C39-4ABA-8EBC-73FD4AD9A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55FF9-18F4-485E-AF6C-F8DCFF1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B49F8-E289-417E-BB9C-B79068F2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52498-0663-4D38-8C3C-B133EC80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1675-5DEC-480C-A966-2C501BB4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20B-B208-4B88-9516-6778EBE2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4534-B1C5-453B-85FE-19680920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D0B05-0F3F-44D1-BB68-ABE8D02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395E-2A63-4F7B-AAF5-EFD21FB0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9196-B88B-4E62-8E17-499AEE37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EAD47-2616-4E11-B566-F0E31861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63B69-7E01-4A3D-A19E-268E2300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8F56-CE04-44E3-A3C9-113D57C1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A069-B68A-4DC7-A304-F6E64F4F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41953-2C7B-4629-BE3F-47FCA802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91CA-4B27-4D47-AF0E-F45A2C74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2E5-5F28-4911-86C2-843F7E41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F7BFF-C61E-42EC-B1BA-A46A6B4A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D38F-4F07-4DED-8C9E-AA88E1C4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296D3-E58C-4F0D-B780-62BA2F7C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9C5C-526F-4DBC-83DB-B1BB576B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81E0C-7238-412C-923B-7CD77BE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22109-28CB-4F89-A521-283A2AD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58B6-53DB-4A0A-97D9-3B20236A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B49C8-0452-4393-A29B-E75CE304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C794-3F48-496B-B462-70825685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4F9C-4D6A-4404-8C45-17613C6F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F68-2D54-4657-8FA6-8A5B71E9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E085-7EFD-4031-9B99-A4522168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5F06A-89CC-4035-83A6-51130A9C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B6B7B-CF39-4CB9-A59D-D04F8AC2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82C7F-1AC7-4C26-ADE8-EBD3AE11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3272-75C7-4C85-9F52-73FE3DB6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B1875-84B4-4373-ACC2-81C0702E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ECAF3-91FB-4734-A192-D324E4ED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3290B-C62D-4FD3-A893-BBE4982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9DE8C-2DF1-4890-A970-AB66670C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A89F-0AD6-4E73-8AF0-4D981B0D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2AC-DD37-4C76-B8A7-DA8B47D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9F924-6C3C-4255-B55E-0EF63BD5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EDA78-85EE-4977-B920-C09C693D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11BB3-F576-4946-8EC3-022BD2B7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29038-B495-4FEB-925B-270AEF3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26D19-A42A-43E5-80B9-498AD5C4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11CE-4DFE-48DD-8DB1-CA818440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621D3-FAB9-43ED-9823-D5EF7932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4479C-BFC2-4C7C-9D8D-E34724E8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67025-E046-4B48-BB7B-0F6A82F6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DC7E-39BD-465E-A2CA-C8E5A822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6F6-BA8B-448D-8ADA-2FD461A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246BE-8ADD-4153-BFAE-78346F00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A485-585B-4EAC-BA4E-7A63923E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8021F-B1F4-4EFA-B8F0-A36802F8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75A77-0605-4F1B-BCB8-F3F7420C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BF86F-2C42-40DD-AC87-1B4B8139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EBA00-1149-4673-BF1D-B1C8CC59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00A76-E7B1-4BBB-8399-2B2CAB2D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0210D-8517-49AA-A050-A3EC81FE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FF8FF-DDD0-46AD-959F-DF67C8A0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D833C-22C1-4293-8066-FE7B2B78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3E4-009A-4A9B-94DA-50A8F68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4426-3459-406C-8EC9-6028148D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F126-06B1-4FBB-8DA2-83B53590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CF97D-E115-47EB-8B30-17D18C8B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4A7AD-0D7F-4355-BBA6-C43A50FB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7450-EDBB-41BB-9E62-6A4844D3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DC46-0B6F-44C8-AA19-1F4C7689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A1DC6-1B85-42DC-904D-7C04735D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92EB5-0A42-4C34-B568-D8A3E20B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BAE69-F9BA-4DA5-82E1-5C89E0A8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8815D-1EF4-4338-9A43-10E8FD84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192-4430-4CD0-AE35-75B1ED28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0D493-D759-4B15-AE47-B04CA82C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E7BA3-5A9F-4100-BC35-EFEDBA0A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4C240-36FF-4DF4-978A-941AFDD0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E15D9-9CA7-450A-B8AF-460A7DCA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A1623-61D1-4009-9188-F79C5C8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701D3-3137-4309-A38F-2A869D07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C49C1-EE08-48F6-BF03-A333A7FD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D599-90D0-4611-A134-852CCC04B4F3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640D-06F2-41DF-A886-0A58D1B2F9C3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FEC1-077A-415B-B0C5-DFB5AB6F95D2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040-D09F-4C31-B1A0-F3826E00C0E6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0589-7430-4282-BFFF-C026304FF165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E977-0436-49DD-97FE-462673C94176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FEBC-9933-4A23-9403-99B837E37467}" type="slidenum">
              <a:rPr b="0" lang="en-GB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BEFC-6E97-4697-953F-D97B0E86F82C}" type="slidenum">
              <a:rPr b="0" lang="en-GB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85600" y="1856880"/>
            <a:ext cx="7543800" cy="100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LDEHYDES &amp; KETON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78" name="Object 3"/>
          <p:cNvGraphicFramePr/>
          <p:nvPr/>
        </p:nvGraphicFramePr>
        <p:xfrm>
          <a:off x="1787400" y="2643120"/>
          <a:ext cx="1425600" cy="16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7400" y="2643120"/>
                    <a:ext cx="142560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4"/>
          <p:cNvGraphicFramePr/>
          <p:nvPr/>
        </p:nvGraphicFramePr>
        <p:xfrm>
          <a:off x="6429240" y="2644920"/>
          <a:ext cx="142884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2644920"/>
                    <a:ext cx="1428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"/>
          <p:cNvGraphicFramePr/>
          <p:nvPr/>
        </p:nvGraphicFramePr>
        <p:xfrm>
          <a:off x="-47520" y="357120"/>
          <a:ext cx="9191520" cy="5929560"/>
        </p:xfrm>
        <a:graphic>
          <a:graphicData uri="http://schemas.openxmlformats.org/drawingml/2006/table">
            <a:tbl>
              <a:tblPr/>
              <a:tblGrid>
                <a:gridCol w="1143000"/>
                <a:gridCol w="1119240"/>
                <a:gridCol w="1666800"/>
                <a:gridCol w="1071360"/>
                <a:gridCol w="1143000"/>
                <a:gridCol w="1857600"/>
                <a:gridCol w="1190520"/>
              </a:tblGrid>
              <a:tr h="5205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of clas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01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2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6" name="Right Arrow 2"/>
          <p:cNvSpPr/>
          <p:nvPr/>
        </p:nvSpPr>
        <p:spPr>
          <a:xfrm>
            <a:off x="4470480" y="178596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Object 2"/>
          <p:cNvGraphicFramePr/>
          <p:nvPr/>
        </p:nvGraphicFramePr>
        <p:xfrm>
          <a:off x="0" y="1643040"/>
          <a:ext cx="3571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43040"/>
                    <a:ext cx="357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Curved Right Arrow 10"/>
          <p:cNvSpPr/>
          <p:nvPr/>
        </p:nvSpPr>
        <p:spPr>
          <a:xfrm>
            <a:off x="5586480" y="2143080"/>
            <a:ext cx="428400" cy="642960"/>
          </a:xfrm>
          <a:custGeom>
            <a:avLst/>
            <a:gdLst>
              <a:gd name="textAreaLeft" fmla="*/ 57240 w 428400"/>
              <a:gd name="textAreaRight" fmla="*/ 371160 w 428400"/>
              <a:gd name="textAreaTop" fmla="*/ 120600 h 642960"/>
              <a:gd name="textAreaBottom" fmla="*/ 46908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Object 3"/>
          <p:cNvGraphicFramePr/>
          <p:nvPr/>
        </p:nvGraphicFramePr>
        <p:xfrm>
          <a:off x="0" y="2928960"/>
          <a:ext cx="35712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28960"/>
                    <a:ext cx="3571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Right Arrow 13"/>
          <p:cNvSpPr/>
          <p:nvPr/>
        </p:nvSpPr>
        <p:spPr>
          <a:xfrm>
            <a:off x="5715000" y="3189240"/>
            <a:ext cx="785880" cy="214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urved Down Arrow 15"/>
          <p:cNvSpPr/>
          <p:nvPr/>
        </p:nvSpPr>
        <p:spPr>
          <a:xfrm rot="5400000">
            <a:off x="7464960" y="4036320"/>
            <a:ext cx="1143000" cy="500040"/>
          </a:xfrm>
          <a:custGeom>
            <a:avLst/>
            <a:gdLst>
              <a:gd name="textAreaLeft" fmla="*/ 238680 w 1143000"/>
              <a:gd name="textAreaRight" fmla="*/ 841680 w 11430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28" hR="21600" stAng="10800000" swAng="5400000"/>
                <a:lnTo>
                  <a:pt x="11391" y="0"/>
                </a:lnTo>
                <a:arcTo wR="9028" hR="21600" stAng="-5400000" swAng="3497645"/>
                <a:lnTo>
                  <a:pt x="21313" y="16200"/>
                </a:lnTo>
                <a:lnTo>
                  <a:pt x="19238" y="21600"/>
                </a:lnTo>
                <a:lnTo>
                  <a:pt x="16588" y="16200"/>
                </a:lnTo>
                <a:lnTo>
                  <a:pt x="17769" y="16200"/>
                </a:lnTo>
                <a:arcTo wR="9028" hR="21600" stAng="-1902355" swAng="-3308164"/>
                <a:lnTo>
                  <a:pt x="10210" y="186"/>
                </a:lnTo>
                <a:arcTo wR="9028" hR="21600" stAng="-5589481" swAng="-5210519"/>
                <a:close/>
              </a:path>
              <a:path fill="darkenLess" w="21600" h="21600">
                <a:moveTo>
                  <a:pt x="0" y="21600"/>
                </a:moveTo>
                <a:arcTo wR="9028" hR="21600" stAng="10800000" swAng="5400000"/>
                <a:lnTo>
                  <a:pt x="9028" y="0"/>
                </a:lnTo>
                <a:arcTo wR="9028" hR="21600" stAng="-5400000" swAng="189481"/>
                <a:lnTo>
                  <a:pt x="10210" y="186"/>
                </a:lnTo>
                <a:arcTo wR="9028" hR="21600" stAng="-5589481" swAng="-5210519"/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"/>
          <p:cNvSpPr/>
          <p:nvPr/>
        </p:nvSpPr>
        <p:spPr>
          <a:xfrm>
            <a:off x="326880" y="88092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] Silver mirror test = Tollen’s reagent test = Ammonical silver nitrate test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"/>
          <p:cNvSpPr/>
          <p:nvPr/>
        </p:nvSpPr>
        <p:spPr>
          <a:xfrm>
            <a:off x="154080" y="1704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l of silver nitrate + 1 drop 10% 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1"/>
          <p:cNvSpPr/>
          <p:nvPr/>
        </p:nvSpPr>
        <p:spPr>
          <a:xfrm>
            <a:off x="6019920" y="252720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lonna MT"/>
                <a:ea typeface="Times New Roman"/>
              </a:rPr>
              <a:t>Called Tollen’s re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0" y="1714680"/>
            <a:ext cx="91440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ppt of A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il.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until clear solution obtaine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4"/>
          <p:cNvSpPr/>
          <p:nvPr/>
        </p:nvSpPr>
        <p:spPr>
          <a:xfrm>
            <a:off x="24840" y="2357280"/>
            <a:ext cx="345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6"/>
          <p:cNvSpPr/>
          <p:nvPr/>
        </p:nvSpPr>
        <p:spPr>
          <a:xfrm>
            <a:off x="214200" y="307188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of Tollen’s reagent  + 1ml aldehyde or ket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5500800" y="307800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heat on water bath 10 min.] cool on the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8"/>
          <p:cNvSpPr/>
          <p:nvPr/>
        </p:nvSpPr>
        <p:spPr>
          <a:xfrm>
            <a:off x="-45000" y="3489480"/>
            <a:ext cx="345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9"/>
          <p:cNvSpPr/>
          <p:nvPr/>
        </p:nvSpPr>
        <p:spPr>
          <a:xfrm>
            <a:off x="46080" y="3919680"/>
            <a:ext cx="83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TE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doni MT Black"/>
                <a:ea typeface="Times New Roman"/>
              </a:rPr>
              <a:t>Reagent 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Bodoni MT Black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odoni MT Black"/>
                <a:ea typeface="Times New Roman"/>
              </a:rPr>
              <a:t> then aldehyde or ke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1158840" y="463716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2586960" y="4643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2"/>
          <p:cNvSpPr/>
          <p:nvPr/>
        </p:nvSpPr>
        <p:spPr>
          <a:xfrm>
            <a:off x="3916080" y="464328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23"/>
          <p:cNvSpPr/>
          <p:nvPr/>
        </p:nvSpPr>
        <p:spPr>
          <a:xfrm>
            <a:off x="5040360" y="46432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4"/>
          <p:cNvSpPr/>
          <p:nvPr/>
        </p:nvSpPr>
        <p:spPr>
          <a:xfrm>
            <a:off x="6492600" y="464328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7990920" y="463536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6"/>
          <p:cNvSpPr/>
          <p:nvPr/>
        </p:nvSpPr>
        <p:spPr>
          <a:xfrm>
            <a:off x="6922800" y="52149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7"/>
          <p:cNvSpPr/>
          <p:nvPr/>
        </p:nvSpPr>
        <p:spPr>
          <a:xfrm>
            <a:off x="3809880" y="5216400"/>
            <a:ext cx="235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er mirror after longer time on the water 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1181160" y="5214960"/>
            <a:ext cx="262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gives silver mi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77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3" dur="770" fill="hold"/>
                                        <p:tgtEl>
                                          <p:spTgt spid="5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3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3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7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-47520" y="357120"/>
          <a:ext cx="9191520" cy="5929560"/>
        </p:xfrm>
        <a:graphic>
          <a:graphicData uri="http://schemas.openxmlformats.org/drawingml/2006/table">
            <a:tbl>
              <a:tblPr/>
              <a:tblGrid>
                <a:gridCol w="1011240"/>
                <a:gridCol w="1036440"/>
                <a:gridCol w="1643040"/>
                <a:gridCol w="736560"/>
                <a:gridCol w="263520"/>
                <a:gridCol w="1643400"/>
                <a:gridCol w="1071360"/>
                <a:gridCol w="178596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of clas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4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3" name="Straight Connector 3"/>
          <p:cNvSpPr/>
          <p:nvPr/>
        </p:nvSpPr>
        <p:spPr>
          <a:xfrm>
            <a:off x="4383000" y="1311120"/>
            <a:ext cx="0" cy="2858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4" name="Elbow Connector 6"/>
          <p:cNvCxnSpPr/>
          <p:nvPr/>
        </p:nvCxnSpPr>
        <p:spPr>
          <a:xfrm>
            <a:off x="4429080" y="1596960"/>
            <a:ext cx="1643760" cy="286560"/>
          </a:xfrm>
          <a:prstGeom prst="bentConnector3">
            <a:avLst>
              <a:gd name="adj1" fmla="val 49989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65" name="Elbow Connector 8"/>
          <p:cNvCxnSpPr/>
          <p:nvPr/>
        </p:nvCxnSpPr>
        <p:spPr>
          <a:xfrm flipV="1" rot="10800000">
            <a:off x="2928240" y="1596600"/>
            <a:ext cx="1500840" cy="286560"/>
          </a:xfrm>
          <a:prstGeom prst="bentConnector3">
            <a:avLst>
              <a:gd name="adj1" fmla="val 50000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566" name="Object 2"/>
          <p:cNvGraphicFramePr/>
          <p:nvPr/>
        </p:nvGraphicFramePr>
        <p:xfrm>
          <a:off x="0" y="2214720"/>
          <a:ext cx="28584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14720"/>
                    <a:ext cx="2858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ight Arrow 11"/>
          <p:cNvSpPr/>
          <p:nvPr/>
        </p:nvSpPr>
        <p:spPr>
          <a:xfrm>
            <a:off x="6286680" y="2463840"/>
            <a:ext cx="785520" cy="1792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Object 3"/>
          <p:cNvGraphicFramePr/>
          <p:nvPr/>
        </p:nvGraphicFramePr>
        <p:xfrm>
          <a:off x="0" y="3286080"/>
          <a:ext cx="357120" cy="78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86080"/>
                    <a:ext cx="357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Down Arrow 13"/>
          <p:cNvSpPr/>
          <p:nvPr/>
        </p:nvSpPr>
        <p:spPr>
          <a:xfrm>
            <a:off x="3714840" y="3714840"/>
            <a:ext cx="285840" cy="7858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1224000" y="88092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] Fehling reagent test = Fehling reduction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1301760" y="16430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ehling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5823000" y="1644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ehling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150840" y="2333520"/>
            <a:ext cx="6286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st tub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equal amou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hling  A  + Fehling  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5"/>
          <p:cNvSpPr/>
          <p:nvPr/>
        </p:nvSpPr>
        <p:spPr>
          <a:xfrm>
            <a:off x="7137360" y="233676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 co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6"/>
          <p:cNvSpPr/>
          <p:nvPr/>
        </p:nvSpPr>
        <p:spPr>
          <a:xfrm>
            <a:off x="-46080" y="2917800"/>
            <a:ext cx="428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7"/>
          <p:cNvSpPr/>
          <p:nvPr/>
        </p:nvSpPr>
        <p:spPr>
          <a:xfrm>
            <a:off x="214200" y="3274920"/>
            <a:ext cx="7572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st tube few aldehy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etones + few 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Fehling A +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8"/>
          <p:cNvSpPr/>
          <p:nvPr/>
        </p:nvSpPr>
        <p:spPr>
          <a:xfrm>
            <a:off x="0" y="3989520"/>
            <a:ext cx="35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9"/>
          <p:cNvSpPr/>
          <p:nvPr/>
        </p:nvSpPr>
        <p:spPr>
          <a:xfrm>
            <a:off x="3772800" y="390384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lonna MT"/>
                <a:ea typeface="Times New Roman"/>
              </a:rPr>
              <a:t>heat on water 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0"/>
          <p:cNvSpPr/>
          <p:nvPr/>
        </p:nvSpPr>
        <p:spPr>
          <a:xfrm>
            <a:off x="1003320" y="463716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1"/>
          <p:cNvSpPr/>
          <p:nvPr/>
        </p:nvSpPr>
        <p:spPr>
          <a:xfrm>
            <a:off x="2017440" y="464328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2"/>
          <p:cNvSpPr/>
          <p:nvPr/>
        </p:nvSpPr>
        <p:spPr>
          <a:xfrm>
            <a:off x="3670920" y="4643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4649760" y="4643280"/>
            <a:ext cx="16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dehy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4"/>
          <p:cNvSpPr/>
          <p:nvPr/>
        </p:nvSpPr>
        <p:spPr>
          <a:xfrm>
            <a:off x="6302520" y="4643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25"/>
          <p:cNvSpPr/>
          <p:nvPr/>
        </p:nvSpPr>
        <p:spPr>
          <a:xfrm>
            <a:off x="7426080" y="46450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e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26"/>
          <p:cNvSpPr/>
          <p:nvPr/>
        </p:nvSpPr>
        <p:spPr>
          <a:xfrm>
            <a:off x="996120" y="5214960"/>
            <a:ext cx="26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ly change in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7"/>
          <p:cNvSpPr/>
          <p:nvPr/>
        </p:nvSpPr>
        <p:spPr>
          <a:xfrm>
            <a:off x="3714840" y="5214960"/>
            <a:ext cx="25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in color take long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7014600" y="52196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9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8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5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298440" y="4657680"/>
            <a:ext cx="2054160" cy="21574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267000" y="4565520"/>
            <a:ext cx="2133720" cy="2163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3"/>
          <a:stretch/>
        </p:blipFill>
        <p:spPr>
          <a:xfrm>
            <a:off x="6315120" y="4548240"/>
            <a:ext cx="1884240" cy="2266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4"/>
          <a:stretch/>
        </p:blipFill>
        <p:spPr>
          <a:xfrm>
            <a:off x="36360" y="195120"/>
            <a:ext cx="2316240" cy="1871640"/>
          </a:xfrm>
          <a:prstGeom prst="rect">
            <a:avLst/>
          </a:prstGeom>
          <a:ln w="0">
            <a:noFill/>
          </a:ln>
        </p:spPr>
      </p:pic>
      <p:sp>
        <p:nvSpPr>
          <p:cNvPr id="386" name="مستطيل 2"/>
          <p:cNvSpPr/>
          <p:nvPr/>
        </p:nvSpPr>
        <p:spPr>
          <a:xfrm>
            <a:off x="2340000" y="692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ndalus"/>
                <a:ea typeface="Andalus"/>
              </a:rPr>
              <a:t>It contains benzaldehyde,  and acet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5"/>
          <a:stretch/>
        </p:blipFill>
        <p:spPr>
          <a:xfrm>
            <a:off x="36360" y="2182680"/>
            <a:ext cx="2194200" cy="1901880"/>
          </a:xfrm>
          <a:prstGeom prst="rect">
            <a:avLst/>
          </a:prstGeom>
          <a:ln w="0">
            <a:noFill/>
          </a:ln>
        </p:spPr>
      </p:pic>
      <p:sp>
        <p:nvSpPr>
          <p:cNvPr id="388" name="مستطيل 3"/>
          <p:cNvSpPr/>
          <p:nvPr/>
        </p:nvSpPr>
        <p:spPr>
          <a:xfrm>
            <a:off x="2484360" y="292428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63c"/>
                </a:solidFill>
                <a:latin typeface="Andalus"/>
                <a:ea typeface="Andalus"/>
              </a:rPr>
              <a:t>Chloral Hydrate is a sedative/hypnotic drug used to treat insom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0" y="0"/>
          <a:ext cx="9144000" cy="6843600"/>
        </p:xfrm>
        <a:graphic>
          <a:graphicData uri="http://schemas.openxmlformats.org/drawingml/2006/table">
            <a:tbl>
              <a:tblPr/>
              <a:tblGrid>
                <a:gridCol w="1992240"/>
                <a:gridCol w="2446560"/>
                <a:gridCol w="2062080"/>
                <a:gridCol w="264312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c000"/>
                          </a:solidFill>
                          <a:uFillTx/>
                          <a:latin typeface="Times New Roman"/>
                          <a:ea typeface="Times New Roman"/>
                        </a:rPr>
                        <a:t>Structure</a:t>
                      </a: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c000"/>
                          </a:solidFill>
                          <a:uFillTx/>
                          <a:latin typeface="Times New Roman"/>
                          <a:ea typeface="Times New Roman"/>
                        </a:rPr>
                        <a:t>Structure</a:t>
                      </a: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oph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ahydr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z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0" name="Object 2"/>
          <p:cNvGraphicFramePr/>
          <p:nvPr/>
        </p:nvGraphicFramePr>
        <p:xfrm>
          <a:off x="6610320" y="1724040"/>
          <a:ext cx="20001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0320" y="1724040"/>
                    <a:ext cx="20001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Object 3"/>
          <p:cNvGraphicFramePr/>
          <p:nvPr/>
        </p:nvGraphicFramePr>
        <p:xfrm>
          <a:off x="6929280" y="685800"/>
          <a:ext cx="171468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9280" y="685800"/>
                    <a:ext cx="171468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4"/>
          <p:cNvGraphicFramePr/>
          <p:nvPr/>
        </p:nvGraphicFramePr>
        <p:xfrm>
          <a:off x="2357280" y="4362480"/>
          <a:ext cx="179568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57280" y="4362480"/>
                    <a:ext cx="17956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5"/>
          <p:cNvGraphicFramePr/>
          <p:nvPr/>
        </p:nvGraphicFramePr>
        <p:xfrm>
          <a:off x="2571840" y="3121200"/>
          <a:ext cx="1000080" cy="10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3121200"/>
                    <a:ext cx="100008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6"/>
          <p:cNvGraphicFramePr/>
          <p:nvPr/>
        </p:nvGraphicFramePr>
        <p:xfrm>
          <a:off x="2286000" y="1903320"/>
          <a:ext cx="1643040" cy="123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1903320"/>
                    <a:ext cx="16430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7"/>
          <p:cNvGraphicFramePr/>
          <p:nvPr/>
        </p:nvGraphicFramePr>
        <p:xfrm>
          <a:off x="3071880" y="687240"/>
          <a:ext cx="128916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71880" y="687240"/>
                    <a:ext cx="12891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8"/>
          <p:cNvSpPr/>
          <p:nvPr/>
        </p:nvSpPr>
        <p:spPr>
          <a:xfrm>
            <a:off x="2055600" y="69228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 Unicode"/>
              </a:rPr>
              <a:t>HCHO     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262160" y="6072120"/>
            <a:ext cx="20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dehy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042600" y="606096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500040" y="500040"/>
          <a:ext cx="8319960" cy="5089680"/>
        </p:xfrm>
        <a:graphic>
          <a:graphicData uri="http://schemas.openxmlformats.org/drawingml/2006/table">
            <a:tbl>
              <a:tblPr/>
              <a:tblGrid>
                <a:gridCol w="1695600"/>
                <a:gridCol w="2651040"/>
                <a:gridCol w="1508040"/>
                <a:gridCol w="246528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06" name="Rectangle 2"/>
          <p:cNvSpPr/>
          <p:nvPr/>
        </p:nvSpPr>
        <p:spPr>
          <a:xfrm>
            <a:off x="3121560" y="1014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149080" y="1023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7173000" y="10270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513720" y="50004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Phys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508320" y="146988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deh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507960" y="20876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deh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529200" y="2793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437400" y="34783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hyd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0"/>
          <p:cNvSpPr/>
          <p:nvPr/>
        </p:nvSpPr>
        <p:spPr>
          <a:xfrm>
            <a:off x="523800" y="419904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dehy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10480" y="49132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e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2"/>
          <p:cNvSpPr/>
          <p:nvPr/>
        </p:nvSpPr>
        <p:spPr>
          <a:xfrm>
            <a:off x="2211120" y="147168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mobile,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2208600" y="207972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mobile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4"/>
          <p:cNvSpPr/>
          <p:nvPr/>
        </p:nvSpPr>
        <p:spPr>
          <a:xfrm>
            <a:off x="2203200" y="278604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mobile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"/>
          <p:cNvSpPr/>
          <p:nvPr/>
        </p:nvSpPr>
        <p:spPr>
          <a:xfrm>
            <a:off x="2210760" y="34894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microcrystal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6"/>
          <p:cNvSpPr/>
          <p:nvPr/>
        </p:nvSpPr>
        <p:spPr>
          <a:xfrm>
            <a:off x="2192040" y="42051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7"/>
          <p:cNvSpPr/>
          <p:nvPr/>
        </p:nvSpPr>
        <p:spPr>
          <a:xfrm>
            <a:off x="2199960" y="488304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quid, oily,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8"/>
          <p:cNvSpPr/>
          <p:nvPr/>
        </p:nvSpPr>
        <p:spPr>
          <a:xfrm>
            <a:off x="4851000" y="14652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9"/>
          <p:cNvSpPr/>
          <p:nvPr/>
        </p:nvSpPr>
        <p:spPr>
          <a:xfrm>
            <a:off x="4851000" y="20876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4851000" y="27860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4851000" y="41911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4851000" y="48830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r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4850280" y="348948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6361200" y="278748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5"/>
          <p:cNvSpPr/>
          <p:nvPr/>
        </p:nvSpPr>
        <p:spPr>
          <a:xfrm>
            <a:off x="6364440" y="488160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6364440" y="348948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7"/>
          <p:cNvSpPr/>
          <p:nvPr/>
        </p:nvSpPr>
        <p:spPr>
          <a:xfrm>
            <a:off x="6361200" y="4243320"/>
            <a:ext cx="21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8"/>
          <p:cNvSpPr/>
          <p:nvPr/>
        </p:nvSpPr>
        <p:spPr>
          <a:xfrm>
            <a:off x="6363360" y="20829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6361200" y="14670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n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0" y="214200"/>
          <a:ext cx="9072720" cy="6096240"/>
        </p:xfrm>
        <a:graphic>
          <a:graphicData uri="http://schemas.openxmlformats.org/drawingml/2006/table">
            <a:tbl>
              <a:tblPr/>
              <a:tblGrid>
                <a:gridCol w="1643040"/>
                <a:gridCol w="1714680"/>
                <a:gridCol w="1643040"/>
                <a:gridCol w="1143000"/>
                <a:gridCol w="928440"/>
                <a:gridCol w="20005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Ignition t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9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Inflammability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hange i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id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m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7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35" name="Rectangle 2"/>
          <p:cNvSpPr/>
          <p:nvPr/>
        </p:nvSpPr>
        <p:spPr>
          <a:xfrm>
            <a:off x="1506600" y="1940040"/>
            <a:ext cx="200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lumino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1681200" y="5145120"/>
            <a:ext cx="162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,  lumin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1771560" y="3838680"/>
            <a:ext cx="146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350160" y="22543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a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347280" y="516744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a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3361680" y="383868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6072120" y="2500200"/>
            <a:ext cx="9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5072040" y="3143160"/>
            <a:ext cx="9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7362360" y="384660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7525080" y="1500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7291800" y="2957400"/>
            <a:ext cx="11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7382880" y="21430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pha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7433640" y="55260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7362720" y="484668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279360" y="326880"/>
          <a:ext cx="8364600" cy="5756400"/>
        </p:xfrm>
        <a:graphic>
          <a:graphicData uri="http://schemas.openxmlformats.org/drawingml/2006/table">
            <a:tbl>
              <a:tblPr/>
              <a:tblGrid>
                <a:gridCol w="1879560"/>
                <a:gridCol w="3041640"/>
                <a:gridCol w="1522440"/>
                <a:gridCol w="1920960"/>
              </a:tblGrid>
              <a:tr h="5205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3300"/>
                          </a:solidFill>
                          <a:uFillTx/>
                          <a:latin typeface="Times New Roman"/>
                          <a:ea typeface="Times New Roman"/>
                        </a:rPr>
                        <a:t>Miscibility &amp; Solu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i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il. HC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% NaO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Litmus pa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hyd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dehy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e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0" name="Rectangle 3"/>
          <p:cNvSpPr/>
          <p:nvPr/>
        </p:nvSpPr>
        <p:spPr>
          <a:xfrm>
            <a:off x="2292840" y="188604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2221560" y="252900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488040" y="188604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575160" y="371484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3559320" y="31719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3487320" y="250020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2221560" y="314316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ible /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2297880" y="371484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//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2"/>
          <p:cNvSpPr/>
          <p:nvPr/>
        </p:nvSpPr>
        <p:spPr>
          <a:xfrm>
            <a:off x="4304880" y="431496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scible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3"/>
          <p:cNvSpPr/>
          <p:nvPr/>
        </p:nvSpPr>
        <p:spPr>
          <a:xfrm>
            <a:off x="3720600" y="4857840"/>
            <a:ext cx="190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scible i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378000" y="55008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5"/>
          <p:cNvSpPr/>
          <p:nvPr/>
        </p:nvSpPr>
        <p:spPr>
          <a:xfrm>
            <a:off x="2685240" y="54151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 the compounds are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0" y="-328680"/>
          <a:ext cx="9191520" cy="7043760"/>
        </p:xfrm>
        <a:graphic>
          <a:graphicData uri="http://schemas.openxmlformats.org/drawingml/2006/table">
            <a:tbl>
              <a:tblPr/>
              <a:tblGrid>
                <a:gridCol w="1071720"/>
                <a:gridCol w="642960"/>
                <a:gridCol w="1000080"/>
                <a:gridCol w="928440"/>
                <a:gridCol w="1143000"/>
                <a:gridCol w="1000080"/>
                <a:gridCol w="571680"/>
                <a:gridCol w="428760"/>
                <a:gridCol w="1143000"/>
                <a:gridCol w="1261800"/>
              </a:tblGrid>
              <a:tr h="52236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38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da lime test</a:t>
                      </a:r>
                      <a:r>
                        <a:rPr b="0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(for solid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606320"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% Na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c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463" name="Right Arrow 4"/>
          <p:cNvSpPr/>
          <p:nvPr/>
        </p:nvSpPr>
        <p:spPr>
          <a:xfrm>
            <a:off x="4286160" y="207180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Straight Arrow Connector 6"/>
          <p:cNvCxnSpPr/>
          <p:nvPr/>
        </p:nvCxnSpPr>
        <p:spPr>
          <a:xfrm>
            <a:off x="2000160" y="5643720"/>
            <a:ext cx="57240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5" name="Straight Arrow Connector 8"/>
          <p:cNvCxnSpPr/>
          <p:nvPr/>
        </p:nvCxnSpPr>
        <p:spPr>
          <a:xfrm flipH="1">
            <a:off x="3571560" y="3642840"/>
            <a:ext cx="2160" cy="3582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66" name="Straight Arrow Connector 13"/>
          <p:cNvCxnSpPr/>
          <p:nvPr/>
        </p:nvCxnSpPr>
        <p:spPr>
          <a:xfrm flipH="1">
            <a:off x="7000560" y="3429000"/>
            <a:ext cx="2160" cy="2865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67" name="Rectangle 7"/>
          <p:cNvSpPr/>
          <p:nvPr/>
        </p:nvSpPr>
        <p:spPr>
          <a:xfrm>
            <a:off x="3643200" y="642960"/>
            <a:ext cx="20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oroform o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0" y="19288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done for compound with no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5429160" y="20001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 Self oxidation – reduction reactio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0" y="23572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lonna MT"/>
                <a:ea typeface="Times New Roman"/>
              </a:rPr>
              <a:t>Called Cannizzaro’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2"/>
          <p:cNvSpPr/>
          <p:nvPr/>
        </p:nvSpPr>
        <p:spPr>
          <a:xfrm>
            <a:off x="631800" y="267804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entaur"/>
                <a:ea typeface="Times New Roman"/>
              </a:rPr>
              <a:t>All aromatic aldehyde &amp; only formaldehyde goes cannizzaro’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1077480" y="32148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5077800" y="521496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3071880" y="5143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3650040" y="233676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On 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2786040" y="307188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. acetal.+ x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Na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2714760" y="400068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resin + bad apple odor ((</a:t>
            </a: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Called aldo condensa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635796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d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6357960" y="37148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izzaro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6435000" y="45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7916400" y="3166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6"/>
          <p:cNvSpPr/>
          <p:nvPr/>
        </p:nvSpPr>
        <p:spPr>
          <a:xfrm>
            <a:off x="7881480" y="49291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9"/>
          <p:cNvSpPr/>
          <p:nvPr/>
        </p:nvSpPr>
        <p:spPr>
          <a:xfrm>
            <a:off x="1071720" y="4929120"/>
            <a:ext cx="164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goes cannizzaro’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anol + form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30"/>
          <p:cNvSpPr/>
          <p:nvPr/>
        </p:nvSpPr>
        <p:spPr>
          <a:xfrm>
            <a:off x="4929120" y="3143160"/>
            <a:ext cx="157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ety odor of chloroform odor + droplets of 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1"/>
          <p:cNvSpPr/>
          <p:nvPr/>
        </p:nvSpPr>
        <p:spPr>
          <a:xfrm>
            <a:off x="6357960" y="507204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lonna MT"/>
                <a:ea typeface="Times New Roman"/>
              </a:rPr>
              <a:t>((it is difficult to be done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own Arrow 32"/>
          <p:cNvSpPr/>
          <p:nvPr/>
        </p:nvSpPr>
        <p:spPr>
          <a:xfrm>
            <a:off x="7000920" y="4357800"/>
            <a:ext cx="21420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4843080" y="235728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ifficult to be do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Object 76"/>
          <p:cNvGraphicFramePr/>
          <p:nvPr/>
        </p:nvGraphicFramePr>
        <p:xfrm>
          <a:off x="2286000" y="1285920"/>
          <a:ext cx="193212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Object 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85920"/>
                    <a:ext cx="19321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77"/>
          <p:cNvGraphicFramePr/>
          <p:nvPr/>
        </p:nvGraphicFramePr>
        <p:xfrm>
          <a:off x="5318280" y="2357280"/>
          <a:ext cx="382572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8280" y="2357280"/>
                    <a:ext cx="382572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92" name="Straight Arrow Connector 30"/>
          <p:cNvCxnSpPr/>
          <p:nvPr/>
        </p:nvCxnSpPr>
        <p:spPr>
          <a:xfrm>
            <a:off x="6429240" y="5285880"/>
            <a:ext cx="28656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93" name="Rectangle 36"/>
          <p:cNvSpPr/>
          <p:nvPr/>
        </p:nvSpPr>
        <p:spPr>
          <a:xfrm>
            <a:off x="7858080" y="53578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etone &amp; Acetoph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7848720" y="3643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etone &amp; Acetoph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4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0" y="571680"/>
          <a:ext cx="9144000" cy="4849560"/>
        </p:xfrm>
        <a:graphic>
          <a:graphicData uri="http://schemas.openxmlformats.org/drawingml/2006/table">
            <a:tbl>
              <a:tblPr/>
              <a:tblGrid>
                <a:gridCol w="1558800"/>
                <a:gridCol w="1135080"/>
                <a:gridCol w="970200"/>
                <a:gridCol w="1935000"/>
                <a:gridCol w="306360"/>
                <a:gridCol w="952560"/>
                <a:gridCol w="1071720"/>
                <a:gridCol w="121428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Forma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Chlor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Benz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Acetop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000" spc="-1" strike="noStrike" baseline="-25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c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ea typeface="Times New Roman"/>
                        </a:rPr>
                        <a:t>On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6" name="Rectangle 2"/>
          <p:cNvSpPr/>
          <p:nvPr/>
        </p:nvSpPr>
        <p:spPr>
          <a:xfrm>
            <a:off x="1583640" y="4714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1577520" y="39895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6946200" y="4714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6946200" y="39877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1578960" y="25606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460400" y="20001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3571920" y="3989520"/>
            <a:ext cx="24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 an oily layer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l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3694320" y="47149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"/>
          <p:cNvGraphicFramePr/>
          <p:nvPr/>
        </p:nvGraphicFramePr>
        <p:xfrm>
          <a:off x="-47520" y="357120"/>
          <a:ext cx="9191520" cy="6072120"/>
        </p:xfrm>
        <a:graphic>
          <a:graphicData uri="http://schemas.openxmlformats.org/drawingml/2006/table">
            <a:tbl>
              <a:tblPr/>
              <a:tblGrid>
                <a:gridCol w="976320"/>
                <a:gridCol w="1095120"/>
                <a:gridCol w="1857600"/>
                <a:gridCol w="642960"/>
                <a:gridCol w="428400"/>
                <a:gridCol w="1143000"/>
                <a:gridCol w="1857600"/>
                <a:gridCol w="1190520"/>
              </a:tblGrid>
              <a:tr h="520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test of clas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8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6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sp>
        <p:nvSpPr>
          <p:cNvPr id="505" name="Right Arrow 2"/>
          <p:cNvSpPr/>
          <p:nvPr/>
        </p:nvSpPr>
        <p:spPr>
          <a:xfrm>
            <a:off x="5929200" y="4357800"/>
            <a:ext cx="1143000" cy="23472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Down Arrow 3"/>
          <p:cNvSpPr/>
          <p:nvPr/>
        </p:nvSpPr>
        <p:spPr>
          <a:xfrm>
            <a:off x="2214720" y="2928960"/>
            <a:ext cx="142560" cy="28584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Down Arrow 4"/>
          <p:cNvSpPr/>
          <p:nvPr/>
        </p:nvSpPr>
        <p:spPr>
          <a:xfrm flipH="1">
            <a:off x="6714360" y="2643120"/>
            <a:ext cx="214200" cy="57168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Straight Arrow Connector 13"/>
          <p:cNvCxnSpPr/>
          <p:nvPr/>
        </p:nvCxnSpPr>
        <p:spPr>
          <a:xfrm flipH="1">
            <a:off x="2212200" y="2000160"/>
            <a:ext cx="252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09" name="Straight Arrow Connector 16"/>
          <p:cNvCxnSpPr/>
          <p:nvPr/>
        </p:nvCxnSpPr>
        <p:spPr>
          <a:xfrm flipH="1">
            <a:off x="6857640" y="2022480"/>
            <a:ext cx="2160" cy="3578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510" name="Straight Connector 18"/>
          <p:cNvSpPr/>
          <p:nvPr/>
        </p:nvSpPr>
        <p:spPr>
          <a:xfrm flipH="1">
            <a:off x="4525560" y="1285920"/>
            <a:ext cx="1800" cy="214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Elbow Connector 20"/>
          <p:cNvCxnSpPr/>
          <p:nvPr/>
        </p:nvCxnSpPr>
        <p:spPr>
          <a:xfrm>
            <a:off x="4143240" y="1500120"/>
            <a:ext cx="1929600" cy="357840"/>
          </a:xfrm>
          <a:prstGeom prst="bentConnector3">
            <a:avLst>
              <a:gd name="adj1" fmla="val 49990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12" name="Elbow Connector 22"/>
          <p:cNvCxnSpPr/>
          <p:nvPr/>
        </p:nvCxnSpPr>
        <p:spPr>
          <a:xfrm flipV="1" rot="10800000">
            <a:off x="3142440" y="1499760"/>
            <a:ext cx="1072440" cy="357840"/>
          </a:xfrm>
          <a:prstGeom prst="bentConnector3">
            <a:avLst>
              <a:gd name="adj1" fmla="val 50000"/>
            </a:avLst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513" name="Object 2"/>
          <p:cNvGraphicFramePr/>
          <p:nvPr/>
        </p:nvGraphicFramePr>
        <p:xfrm>
          <a:off x="324000" y="4071960"/>
          <a:ext cx="36828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71960"/>
                    <a:ext cx="3682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Rectangle 11"/>
          <p:cNvSpPr/>
          <p:nvPr/>
        </p:nvSpPr>
        <p:spPr>
          <a:xfrm>
            <a:off x="1393920" y="164304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gent  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-46080" y="2249640"/>
            <a:ext cx="4572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formaldehyde &amp; ketones miscible in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4"/>
          <p:cNvSpPr/>
          <p:nvPr/>
        </p:nvSpPr>
        <p:spPr>
          <a:xfrm>
            <a:off x="309600" y="3164040"/>
            <a:ext cx="385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51"/>
                </a:solidFill>
                <a:latin typeface="Times New Roman"/>
                <a:ea typeface="Times New Roman"/>
              </a:rPr>
              <a:t>For aliph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Formaldehyde, Acetaldehyde, Chlorahydrate, Aceto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6024600" y="164304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agent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4402080" y="2246400"/>
            <a:ext cx="4857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dehyde &amp; ketones immiscible in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9"/>
          <p:cNvSpPr/>
          <p:nvPr/>
        </p:nvSpPr>
        <p:spPr>
          <a:xfrm>
            <a:off x="4552920" y="31575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51"/>
                </a:solidFill>
                <a:latin typeface="Times New Roman"/>
                <a:ea typeface="Times New Roman"/>
              </a:rPr>
              <a:t>For aro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Benzaldehyde &amp; Acetopheno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0040" y="414324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ehyde or ketones + 3 drops from reagent A 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 baseline="30000">
                <a:solidFill>
                  <a:srgbClr val="ff0066"/>
                </a:solidFill>
                <a:latin typeface="Times New Roman"/>
                <a:ea typeface="Times New Roman"/>
              </a:rPr>
              <a:t>sh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>
            <a:off x="928800" y="5359320"/>
            <a:ext cx="109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5"/>
          <p:cNvSpPr/>
          <p:nvPr/>
        </p:nvSpPr>
        <p:spPr>
          <a:xfrm>
            <a:off x="1990800" y="5359320"/>
            <a:ext cx="192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llow– orang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6"/>
          <p:cNvSpPr/>
          <p:nvPr/>
        </p:nvSpPr>
        <p:spPr>
          <a:xfrm>
            <a:off x="3774960" y="5359320"/>
            <a:ext cx="127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7"/>
          <p:cNvSpPr/>
          <p:nvPr/>
        </p:nvSpPr>
        <p:spPr>
          <a:xfrm>
            <a:off x="4892760" y="535932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8"/>
          <p:cNvSpPr/>
          <p:nvPr/>
        </p:nvSpPr>
        <p:spPr>
          <a:xfrm>
            <a:off x="6116760" y="5364000"/>
            <a:ext cx="186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– yellow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9"/>
          <p:cNvSpPr/>
          <p:nvPr/>
        </p:nvSpPr>
        <p:spPr>
          <a:xfrm>
            <a:off x="7951680" y="5357880"/>
            <a:ext cx="11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0"/>
          <p:cNvSpPr/>
          <p:nvPr/>
        </p:nvSpPr>
        <p:spPr>
          <a:xfrm>
            <a:off x="957960" y="478620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1"/>
          <p:cNvSpPr/>
          <p:nvPr/>
        </p:nvSpPr>
        <p:spPr>
          <a:xfrm>
            <a:off x="2477160" y="478620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32"/>
          <p:cNvSpPr/>
          <p:nvPr/>
        </p:nvSpPr>
        <p:spPr>
          <a:xfrm>
            <a:off x="3893400" y="47862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h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3"/>
          <p:cNvSpPr/>
          <p:nvPr/>
        </p:nvSpPr>
        <p:spPr>
          <a:xfrm>
            <a:off x="5025960" y="478620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enz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4"/>
          <p:cNvSpPr/>
          <p:nvPr/>
        </p:nvSpPr>
        <p:spPr>
          <a:xfrm>
            <a:off x="6492600" y="478620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5"/>
          <p:cNvSpPr/>
          <p:nvPr/>
        </p:nvSpPr>
        <p:spPr>
          <a:xfrm>
            <a:off x="7967160" y="478620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eto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6"/>
          <p:cNvSpPr/>
          <p:nvPr/>
        </p:nvSpPr>
        <p:spPr>
          <a:xfrm>
            <a:off x="2010960" y="868320"/>
            <a:ext cx="51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] 2, 4 – dinitrophenyl hydrazine tes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5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6:06:06Z</dcterms:created>
  <dc:creator>admin</dc:creator>
  <dc:description/>
  <dc:language>en-US</dc:language>
  <cp:lastModifiedBy>reem</cp:lastModifiedBy>
  <dcterms:modified xsi:type="dcterms:W3CDTF">2014-10-13T06:28:08Z</dcterms:modified>
  <cp:revision>144</cp:revision>
  <dc:subject/>
  <dc:title>Slide 1</dc:title>
</cp:coreProperties>
</file>