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03D9-9014-481B-8013-751A84C6C4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AA3-B82C-460B-A41C-249E94EB64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8D6-01B5-4FD7-A251-C5A78B69E7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B4C-CCC5-4184-AF8C-B63FBBEE60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016-DE29-4F7B-8962-96A0BDC2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584-097E-4A71-AE69-11CACE4D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908-1FA2-484A-8BC1-A6C40BF8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4D3-7027-43F2-8496-D464B85C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BF36-00D2-4E07-A9F7-E9907486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4F7E-A2D0-42DD-BA03-CC40310D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E879-2721-40D7-9E68-B3BAA548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44EE-1588-428E-BD1C-FC0AC651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1908-5F17-49C3-8908-CCE45B23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17D4-26B2-4FF4-92B5-391965F6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E34-EE8A-40CF-8056-1A8944E9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D43-501E-4272-80EB-093710A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BF18-415C-41AE-9FE6-F6E3199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604F-14AE-4A90-909C-CF8C8F4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D3DD-557B-482A-B4AD-A88B48C8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6FF-2E6E-48ED-A487-CA8CA132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403A-77D5-49C6-B798-3DA28E77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9881-F89D-410D-A221-BD324C3F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AA3B-35EE-4836-BC3B-487ECCD1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25B7-AB01-4098-A597-2D8D8284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1DB7-A919-4145-912B-38E36EE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F0D1-11ED-47FC-9EE9-A856434C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C6B-6DE7-4DCC-8A3B-58AAC20C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F225-A377-467A-8D11-09B2CBC5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6FF0-C29B-4996-9757-1418D47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6329-85B2-44ED-976B-BEF7360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8E80-B146-470A-BCDD-D0FFB156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0339-2E29-4C05-B4F2-EBBB7473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05FB-A5D3-41B8-AF9C-A63DF4D2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2341-7C0D-4944-938B-C2570276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772C-451B-4FB5-9499-E0A46CF2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8A7C-3562-4B90-9F7C-61912E1F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475B-B293-4F95-8C26-BEF5387A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D93-CDAF-4489-ABFD-5BE01CCF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B797E-00E1-482C-903C-8C41132A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91D1-48C7-42A3-8DCA-447DF208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247A-DEF5-460E-AC82-9A116BFC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B80D-6115-4DC4-B0FF-F546AA9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E810-F7A4-40CE-84F5-C8B12640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0812-0C86-457F-BB1A-CCDC633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76D7-BEDD-4A3A-8D2D-1C9BDFCA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09AB-7881-461B-AAB5-77151213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7294-61E9-4185-8732-FF329F7A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D7396-D6F7-4CAA-A5BD-6E6FA603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7B2-F5FF-4DA5-8022-EA780611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E1604-DBE6-44D3-864E-EE1464E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9CEE9-C57F-493E-B0CB-BC6EF8E5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2E893-AE0D-4E53-8845-61A64EDC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AE0E-7D4B-482A-94CE-EB464D73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1E1A-5D57-4B9E-B969-55272F21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5D81-31A2-4925-AE77-DE31751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4BB7-489E-44AA-8DD9-F2831694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41861-7E59-4A43-839C-86B21031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CE6D-FCB8-40D8-A7CF-7D8E7A89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05CF-BDB2-4BC3-B2BA-B26F2159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004-AB51-4FD1-8837-182D42A1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E573-F1B0-4EAD-8866-30C71072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AC80-1079-4F4A-B415-05FFA9A2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7337-9428-4466-980E-A9B33732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BC5D-A7BF-4B72-97A7-36B04C8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9466-D065-48D4-9F12-BF65AB8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002CE-A5E1-4EFC-B5FD-CBE92AB3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23C4-D481-415D-A72E-8FA7DAE2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27851-4569-4D37-84C9-A0C2048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45C7-01D6-4350-A7F6-EF88D46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FCE3A-4BA6-4B3A-82C3-7C2A2945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DD0-7523-4461-8EA6-A447AE1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863E-2063-4308-9816-DD3B54AC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924C-73EA-41AE-BE1E-B5425F64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5158D-6B03-4BD1-B0F1-B7B96F59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E100-C0B1-40E2-A046-B004B337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EB661-C0A4-4AC9-9CE2-B6C529DC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BE56A-EB9E-4A3C-B862-820A5868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50ECF-BD4A-4E62-A89F-CAC15B53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33835-08D9-4D59-9B41-A6409A3C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373E-3F9F-42C0-8A87-811F573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FA5BB-A7E5-4C9F-A1A0-3D4E973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1E3-8B75-44A0-8715-B872F895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46E57-258E-4A2F-9CD3-EC092450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80370-C328-4523-BF33-FDB9AD6E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88C8F-AF57-4A6E-85C6-6E7343E1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3A9F9-6D72-47B4-8496-3E412435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46B18-085B-4B3A-BC88-8EC7627B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16982-7708-4198-90DA-E81C420D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2E7DD-F687-4CDB-876D-6A751D32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C74E3-645D-41A2-A7E9-D326D11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0DB83-3306-4510-A702-07FE48CD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850E-77AA-4907-8973-43D7B0E9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A81-7B78-4B83-8073-260DBFE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30619-77A8-4AEE-8F01-D8EBC011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6BB51-B464-4002-9154-6597307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A60FD-B8B8-46B5-AF08-2E3275FD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F99C3-A697-4A37-B712-D34F4246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AA84F-AF6F-49B0-A795-C09FCAF8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AD96C-F7A8-4260-98BC-41C0F5F1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8F92-D9B5-4638-B4DD-372D7109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CA1-FD50-45FD-991F-6D8AAFC42BA6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F2C7-B6DE-40DB-A0D8-A3A24C721C75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FBC-BBCA-4F02-9325-823EEFFEFC86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57D-B361-464B-B9B3-36DAF4A3FD46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7EA-7D73-4393-8EE5-E179B4F1CFB4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3075-0E3E-4ED0-BE42-1EADE0ABF500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150-FC29-47F4-A347-CA7440D58B2D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4EDB-7392-4A2B-A2C2-37EB002EFF5B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85600" y="1856880"/>
            <a:ext cx="7543800" cy="10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DEHYDES &amp; KETON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1787400" y="2643120"/>
          <a:ext cx="14256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7400" y="2643120"/>
                    <a:ext cx="14256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4"/>
          <p:cNvGraphicFramePr/>
          <p:nvPr/>
        </p:nvGraphicFramePr>
        <p:xfrm>
          <a:off x="6429240" y="2644920"/>
          <a:ext cx="142884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2644920"/>
                    <a:ext cx="1428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"/>
          <p:cNvGraphicFramePr/>
          <p:nvPr/>
        </p:nvGraphicFramePr>
        <p:xfrm>
          <a:off x="-47520" y="357120"/>
          <a:ext cx="9191520" cy="5929560"/>
        </p:xfrm>
        <a:graphic>
          <a:graphicData uri="http://schemas.openxmlformats.org/drawingml/2006/table">
            <a:tbl>
              <a:tblPr/>
              <a:tblGrid>
                <a:gridCol w="1143000"/>
                <a:gridCol w="1119240"/>
                <a:gridCol w="1666800"/>
                <a:gridCol w="1071360"/>
                <a:gridCol w="1143000"/>
                <a:gridCol w="1857600"/>
                <a:gridCol w="1190520"/>
              </a:tblGrid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of clas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01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6" name="Right Arrow 2"/>
          <p:cNvSpPr/>
          <p:nvPr/>
        </p:nvSpPr>
        <p:spPr>
          <a:xfrm>
            <a:off x="4470480" y="1785960"/>
            <a:ext cx="71424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Object 2"/>
          <p:cNvGraphicFramePr/>
          <p:nvPr/>
        </p:nvGraphicFramePr>
        <p:xfrm>
          <a:off x="0" y="1643040"/>
          <a:ext cx="3571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43040"/>
                    <a:ext cx="357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Curved Right Arrow 10"/>
          <p:cNvSpPr/>
          <p:nvPr/>
        </p:nvSpPr>
        <p:spPr>
          <a:xfrm>
            <a:off x="5586480" y="2143080"/>
            <a:ext cx="428400" cy="642960"/>
          </a:xfrm>
          <a:custGeom>
            <a:avLst/>
            <a:gdLst>
              <a:gd name="textAreaLeft" fmla="*/ 57240 w 428400"/>
              <a:gd name="textAreaRight" fmla="*/ 371160 w 428400"/>
              <a:gd name="textAreaTop" fmla="*/ 120600 h 642960"/>
              <a:gd name="textAreaBottom" fmla="*/ 4690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Object 3"/>
          <p:cNvGraphicFramePr/>
          <p:nvPr/>
        </p:nvGraphicFramePr>
        <p:xfrm>
          <a:off x="0" y="2928960"/>
          <a:ext cx="35712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28960"/>
                    <a:ext cx="357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ight Arrow 13"/>
          <p:cNvSpPr/>
          <p:nvPr/>
        </p:nvSpPr>
        <p:spPr>
          <a:xfrm>
            <a:off x="5715000" y="318924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urved Down Arrow 15"/>
          <p:cNvSpPr/>
          <p:nvPr/>
        </p:nvSpPr>
        <p:spPr>
          <a:xfrm rot="5400000">
            <a:off x="7464960" y="4036320"/>
            <a:ext cx="1143000" cy="500040"/>
          </a:xfrm>
          <a:custGeom>
            <a:avLst/>
            <a:gdLst>
              <a:gd name="textAreaLeft" fmla="*/ 238680 w 1143000"/>
              <a:gd name="textAreaRight" fmla="*/ 841680 w 11430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28" hR="21600" stAng="10800000" swAng="5400000"/>
                <a:lnTo>
                  <a:pt x="11391" y="0"/>
                </a:lnTo>
                <a:arcTo wR="9028" hR="21600" stAng="-5400000" swAng="3497645"/>
                <a:lnTo>
                  <a:pt x="21313" y="16200"/>
                </a:lnTo>
                <a:lnTo>
                  <a:pt x="19238" y="21600"/>
                </a:lnTo>
                <a:lnTo>
                  <a:pt x="16588" y="16200"/>
                </a:lnTo>
                <a:lnTo>
                  <a:pt x="17769" y="16200"/>
                </a:lnTo>
                <a:arcTo wR="9028" hR="21600" stAng="-1902355" swAng="-3308164"/>
                <a:lnTo>
                  <a:pt x="10210" y="186"/>
                </a:lnTo>
                <a:arcTo wR="9028" hR="21600" stAng="-5589481" swAng="-5210519"/>
                <a:close/>
              </a:path>
              <a:path fill="darkenLess" w="21600" h="21600">
                <a:moveTo>
                  <a:pt x="0" y="21600"/>
                </a:moveTo>
                <a:arcTo wR="9028" hR="21600" stAng="10800000" swAng="5400000"/>
                <a:lnTo>
                  <a:pt x="9028" y="0"/>
                </a:lnTo>
                <a:arcTo wR="9028" hR="21600" stAng="-5400000" swAng="189481"/>
                <a:lnTo>
                  <a:pt x="10210" y="186"/>
                </a:lnTo>
                <a:arcTo wR="9028" hR="21600" stAng="-5589481" swAng="-5210519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326880" y="88092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] Silver mirror test = Tollen’s reagent test = Ammonical silver nitrate test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154080" y="1704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ml of silver nitrate + 1 drop 10% 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6019920" y="252720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lonna MT"/>
                <a:ea typeface="Times New Roman"/>
              </a:rPr>
              <a:t>Called Tollen’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0" y="1714680"/>
            <a:ext cx="9144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ppt of A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dil.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until clear solution obtaine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4840" y="2357280"/>
            <a:ext cx="345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214200" y="30718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of Tollen’s reagent  + 1ml aldehyde or ket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5500800" y="307800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heat on water bath 10 min.] cool on the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8"/>
          <p:cNvSpPr/>
          <p:nvPr/>
        </p:nvSpPr>
        <p:spPr>
          <a:xfrm>
            <a:off x="-45000" y="3489480"/>
            <a:ext cx="345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46080" y="3919680"/>
            <a:ext cx="83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TE: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doni MT Black"/>
                <a:ea typeface="Times New Roman"/>
              </a:rPr>
              <a:t>Reagent 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Bodoni MT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doni MT Black"/>
                <a:ea typeface="Times New Roman"/>
              </a:rPr>
              <a:t> then aldehyde or ke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1158840" y="463716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ormal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2586960" y="4643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al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2"/>
          <p:cNvSpPr/>
          <p:nvPr/>
        </p:nvSpPr>
        <p:spPr>
          <a:xfrm>
            <a:off x="3916080" y="464328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3"/>
          <p:cNvSpPr/>
          <p:nvPr/>
        </p:nvSpPr>
        <p:spPr>
          <a:xfrm>
            <a:off x="5040360" y="46432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enzal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4"/>
          <p:cNvSpPr/>
          <p:nvPr/>
        </p:nvSpPr>
        <p:spPr>
          <a:xfrm>
            <a:off x="6492600" y="464328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7990920" y="463536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ph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6"/>
          <p:cNvSpPr/>
          <p:nvPr/>
        </p:nvSpPr>
        <p:spPr>
          <a:xfrm>
            <a:off x="6922800" y="52149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7"/>
          <p:cNvSpPr/>
          <p:nvPr/>
        </p:nvSpPr>
        <p:spPr>
          <a:xfrm>
            <a:off x="3809880" y="5216400"/>
            <a:ext cx="23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er mirror after longer time on the water 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1181160" y="5214960"/>
            <a:ext cx="26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ly gives silver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3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-47520" y="357120"/>
          <a:ext cx="9191520" cy="5929560"/>
        </p:xfrm>
        <a:graphic>
          <a:graphicData uri="http://schemas.openxmlformats.org/drawingml/2006/table">
            <a:tbl>
              <a:tblPr/>
              <a:tblGrid>
                <a:gridCol w="1011240"/>
                <a:gridCol w="1036440"/>
                <a:gridCol w="1643040"/>
                <a:gridCol w="736560"/>
                <a:gridCol w="263520"/>
                <a:gridCol w="1643400"/>
                <a:gridCol w="1071360"/>
                <a:gridCol w="178596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of clas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46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3" name="Straight Connector 3"/>
          <p:cNvSpPr/>
          <p:nvPr/>
        </p:nvSpPr>
        <p:spPr>
          <a:xfrm>
            <a:off x="4383000" y="1311120"/>
            <a:ext cx="0" cy="2858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Elbow Connector 6"/>
          <p:cNvCxnSpPr/>
          <p:nvPr/>
        </p:nvCxnSpPr>
        <p:spPr>
          <a:xfrm>
            <a:off x="4429080" y="1596960"/>
            <a:ext cx="1643760" cy="286560"/>
          </a:xfrm>
          <a:prstGeom prst="bentConnector3">
            <a:avLst>
              <a:gd name="adj1" fmla="val 49989"/>
            </a:avLst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65" name="Elbow Connector 8"/>
          <p:cNvCxnSpPr/>
          <p:nvPr/>
        </p:nvCxnSpPr>
        <p:spPr>
          <a:xfrm flipV="1" rot="10800000">
            <a:off x="2928240" y="1596600"/>
            <a:ext cx="1500840" cy="286560"/>
          </a:xfrm>
          <a:prstGeom prst="bentConnector3">
            <a:avLst>
              <a:gd name="adj1" fmla="val 50000"/>
            </a:avLst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566" name="Object 2"/>
          <p:cNvGraphicFramePr/>
          <p:nvPr/>
        </p:nvGraphicFramePr>
        <p:xfrm>
          <a:off x="0" y="2214720"/>
          <a:ext cx="2858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14720"/>
                    <a:ext cx="2858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ight Arrow 11"/>
          <p:cNvSpPr/>
          <p:nvPr/>
        </p:nvSpPr>
        <p:spPr>
          <a:xfrm>
            <a:off x="6286680" y="2463840"/>
            <a:ext cx="785520" cy="1792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3"/>
          <p:cNvGraphicFramePr/>
          <p:nvPr/>
        </p:nvGraphicFramePr>
        <p:xfrm>
          <a:off x="0" y="3286080"/>
          <a:ext cx="35712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86080"/>
                    <a:ext cx="357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Down Arrow 13"/>
          <p:cNvSpPr/>
          <p:nvPr/>
        </p:nvSpPr>
        <p:spPr>
          <a:xfrm>
            <a:off x="3714840" y="3714840"/>
            <a:ext cx="285840" cy="785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1224000" y="8809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] Fehling reagent test = Fehling reduc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1301760" y="16430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ehling 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5823000" y="1644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ehling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0840" y="2333520"/>
            <a:ext cx="6286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st tub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equal am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hling  A  + Fehling  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7137360" y="23367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-46080" y="2917800"/>
            <a:ext cx="42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214200" y="3274920"/>
            <a:ext cx="757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st tube few aldehy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tones + few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Fehling A +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8"/>
          <p:cNvSpPr/>
          <p:nvPr/>
        </p:nvSpPr>
        <p:spPr>
          <a:xfrm>
            <a:off x="0" y="3989520"/>
            <a:ext cx="3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3772800" y="390384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lonna MT"/>
                <a:ea typeface="Times New Roman"/>
              </a:rPr>
              <a:t>heat on water 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0"/>
          <p:cNvSpPr/>
          <p:nvPr/>
        </p:nvSpPr>
        <p:spPr>
          <a:xfrm>
            <a:off x="1003320" y="463716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1"/>
          <p:cNvSpPr/>
          <p:nvPr/>
        </p:nvSpPr>
        <p:spPr>
          <a:xfrm>
            <a:off x="2017440" y="464328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3670920" y="4643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3"/>
          <p:cNvSpPr/>
          <p:nvPr/>
        </p:nvSpPr>
        <p:spPr>
          <a:xfrm>
            <a:off x="4649760" y="46432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enz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4"/>
          <p:cNvSpPr/>
          <p:nvPr/>
        </p:nvSpPr>
        <p:spPr>
          <a:xfrm>
            <a:off x="6302520" y="46432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7426080" y="4645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phe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6"/>
          <p:cNvSpPr/>
          <p:nvPr/>
        </p:nvSpPr>
        <p:spPr>
          <a:xfrm>
            <a:off x="996120" y="521496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ly change in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7"/>
          <p:cNvSpPr/>
          <p:nvPr/>
        </p:nvSpPr>
        <p:spPr>
          <a:xfrm>
            <a:off x="3714840" y="52149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color take long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7014600" y="52196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9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3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298440" y="4657680"/>
            <a:ext cx="2054160" cy="2157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267000" y="4565520"/>
            <a:ext cx="2133720" cy="2163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6315120" y="4548240"/>
            <a:ext cx="1884240" cy="2266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4"/>
          <a:stretch/>
        </p:blipFill>
        <p:spPr>
          <a:xfrm>
            <a:off x="36360" y="195120"/>
            <a:ext cx="2316240" cy="1871640"/>
          </a:xfrm>
          <a:prstGeom prst="rect">
            <a:avLst/>
          </a:prstGeom>
          <a:ln w="0">
            <a:noFill/>
          </a:ln>
        </p:spPr>
      </p:pic>
      <p:sp>
        <p:nvSpPr>
          <p:cNvPr id="386" name="مستطيل 2"/>
          <p:cNvSpPr/>
          <p:nvPr/>
        </p:nvSpPr>
        <p:spPr>
          <a:xfrm>
            <a:off x="2340000" y="692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It contains benzaldehyde,  and acet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5"/>
          <a:stretch/>
        </p:blipFill>
        <p:spPr>
          <a:xfrm>
            <a:off x="36360" y="2182680"/>
            <a:ext cx="2194200" cy="1901880"/>
          </a:xfrm>
          <a:prstGeom prst="rect">
            <a:avLst/>
          </a:prstGeom>
          <a:ln w="0">
            <a:noFill/>
          </a:ln>
        </p:spPr>
      </p:pic>
      <p:sp>
        <p:nvSpPr>
          <p:cNvPr id="388" name="مستطيل 3"/>
          <p:cNvSpPr/>
          <p:nvPr/>
        </p:nvSpPr>
        <p:spPr>
          <a:xfrm>
            <a:off x="2484360" y="292428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63c"/>
                </a:solidFill>
                <a:latin typeface="Andalus"/>
                <a:ea typeface="Andalus"/>
              </a:rPr>
              <a:t>Chloral Hydrate is a sedative/hypnotic drug used to treat insom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0" y="0"/>
          <a:ext cx="9144000" cy="6843600"/>
        </p:xfrm>
        <a:graphic>
          <a:graphicData uri="http://schemas.openxmlformats.org/drawingml/2006/table">
            <a:tbl>
              <a:tblPr/>
              <a:tblGrid>
                <a:gridCol w="1992240"/>
                <a:gridCol w="2446560"/>
                <a:gridCol w="2062080"/>
                <a:gridCol w="264312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c000"/>
                          </a:solidFill>
                          <a:uFillTx/>
                          <a:latin typeface="Times New Roman"/>
                          <a:ea typeface="Times New Roman"/>
                        </a:rPr>
                        <a:t>Structure</a:t>
                      </a: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c000"/>
                          </a:solidFill>
                          <a:uFillTx/>
                          <a:latin typeface="Times New Roman"/>
                          <a:ea typeface="Times New Roman"/>
                        </a:rPr>
                        <a:t>Structure</a:t>
                      </a: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oph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lorahydr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z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Object 2"/>
          <p:cNvGraphicFramePr/>
          <p:nvPr/>
        </p:nvGraphicFramePr>
        <p:xfrm>
          <a:off x="6610320" y="1724040"/>
          <a:ext cx="20001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0320" y="1724040"/>
                    <a:ext cx="20001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3"/>
          <p:cNvGraphicFramePr/>
          <p:nvPr/>
        </p:nvGraphicFramePr>
        <p:xfrm>
          <a:off x="6929280" y="685800"/>
          <a:ext cx="171468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9280" y="685800"/>
                    <a:ext cx="17146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4"/>
          <p:cNvGraphicFramePr/>
          <p:nvPr/>
        </p:nvGraphicFramePr>
        <p:xfrm>
          <a:off x="2357280" y="4362480"/>
          <a:ext cx="179568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57280" y="4362480"/>
                    <a:ext cx="17956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5"/>
          <p:cNvGraphicFramePr/>
          <p:nvPr/>
        </p:nvGraphicFramePr>
        <p:xfrm>
          <a:off x="2571840" y="3121200"/>
          <a:ext cx="1000080" cy="10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3121200"/>
                    <a:ext cx="100008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2286000" y="1903320"/>
          <a:ext cx="1643040" cy="123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903320"/>
                    <a:ext cx="16430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7"/>
          <p:cNvGraphicFramePr/>
          <p:nvPr/>
        </p:nvGraphicFramePr>
        <p:xfrm>
          <a:off x="3071880" y="687240"/>
          <a:ext cx="128916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687240"/>
                    <a:ext cx="1289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8"/>
          <p:cNvSpPr/>
          <p:nvPr/>
        </p:nvSpPr>
        <p:spPr>
          <a:xfrm>
            <a:off x="2055600" y="6922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HCHO     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262160" y="6072120"/>
            <a:ext cx="20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dehy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042600" y="606096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500040" y="500040"/>
          <a:ext cx="8319960" cy="5089680"/>
        </p:xfrm>
        <a:graphic>
          <a:graphicData uri="http://schemas.openxmlformats.org/drawingml/2006/table">
            <a:tbl>
              <a:tblPr/>
              <a:tblGrid>
                <a:gridCol w="1695600"/>
                <a:gridCol w="2651040"/>
                <a:gridCol w="1508040"/>
                <a:gridCol w="24652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2"/>
          <p:cNvSpPr/>
          <p:nvPr/>
        </p:nvSpPr>
        <p:spPr>
          <a:xfrm>
            <a:off x="3121560" y="1014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149080" y="10238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7173000" y="10270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513720" y="50004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508320" y="14698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ormaldeh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507960" y="20876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aldeh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529200" y="27939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437400" y="34783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hyd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523800" y="41990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enzaldeh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10480" y="4913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phe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2211120" y="147168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mobile,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2208600" y="207972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mobile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2203200" y="278604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mobile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2210760" y="34894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microcrystal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2192040" y="42051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oily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2199960" y="488304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oily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4851000" y="14652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4851000" y="20876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4851000" y="27860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4851000" y="41911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4851000" y="48830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4850280" y="34894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6361200" y="278748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6364440" y="488160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6364440" y="348948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7"/>
          <p:cNvSpPr/>
          <p:nvPr/>
        </p:nvSpPr>
        <p:spPr>
          <a:xfrm>
            <a:off x="6361200" y="42433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8"/>
          <p:cNvSpPr/>
          <p:nvPr/>
        </p:nvSpPr>
        <p:spPr>
          <a:xfrm>
            <a:off x="6363360" y="20829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6361200" y="14670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0" y="214200"/>
          <a:ext cx="9072720" cy="6096240"/>
        </p:xfrm>
        <a:graphic>
          <a:graphicData uri="http://schemas.openxmlformats.org/drawingml/2006/table">
            <a:tbl>
              <a:tblPr/>
              <a:tblGrid>
                <a:gridCol w="1643040"/>
                <a:gridCol w="1714680"/>
                <a:gridCol w="1643040"/>
                <a:gridCol w="1143000"/>
                <a:gridCol w="928440"/>
                <a:gridCol w="20005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Ignition 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flammability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id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m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Form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hlora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Benz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7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ph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35" name="Rectangle 2"/>
          <p:cNvSpPr/>
          <p:nvPr/>
        </p:nvSpPr>
        <p:spPr>
          <a:xfrm>
            <a:off x="1506600" y="194004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lumino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1681200" y="5145120"/>
            <a:ext cx="162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 lumin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1771560" y="3838680"/>
            <a:ext cx="14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50160" y="22543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a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347280" y="516744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a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3361680" y="383868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6072120" y="2500200"/>
            <a:ext cx="9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5072040" y="3143160"/>
            <a:ext cx="9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7362360" y="3846600"/>
            <a:ext cx="11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ph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7525080" y="1500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pha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7291800" y="2957400"/>
            <a:ext cx="11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ph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7382880" y="21430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pha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7433640" y="55260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7362720" y="484668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279360" y="326880"/>
          <a:ext cx="8364600" cy="5756400"/>
        </p:xfrm>
        <a:graphic>
          <a:graphicData uri="http://schemas.openxmlformats.org/drawingml/2006/table">
            <a:tbl>
              <a:tblPr/>
              <a:tblGrid>
                <a:gridCol w="1879560"/>
                <a:gridCol w="3041640"/>
                <a:gridCol w="1522440"/>
                <a:gridCol w="192096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Miscibility &amp; Solu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i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il. HC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% 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Litmus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Form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hlora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Benz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ph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0" name="Rectangle 3"/>
          <p:cNvSpPr/>
          <p:nvPr/>
        </p:nvSpPr>
        <p:spPr>
          <a:xfrm>
            <a:off x="2292840" y="188604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ible 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2221560" y="25290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ible 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3488040" y="188604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575160" y="371484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3559320" y="31719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3487320" y="250020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2221560" y="314316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ible 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2297880" y="371484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//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4304880" y="431496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scible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3720600" y="485784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scible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"/>
          <p:cNvSpPr/>
          <p:nvPr/>
        </p:nvSpPr>
        <p:spPr>
          <a:xfrm>
            <a:off x="378000" y="5500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2685240" y="541512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 the compounds ar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0" y="-328680"/>
          <a:ext cx="9191520" cy="7043760"/>
        </p:xfrm>
        <a:graphic>
          <a:graphicData uri="http://schemas.openxmlformats.org/drawingml/2006/table">
            <a:tbl>
              <a:tblPr/>
              <a:tblGrid>
                <a:gridCol w="1071720"/>
                <a:gridCol w="642960"/>
                <a:gridCol w="1000080"/>
                <a:gridCol w="928440"/>
                <a:gridCol w="1143000"/>
                <a:gridCol w="1000080"/>
                <a:gridCol w="571680"/>
                <a:gridCol w="428760"/>
                <a:gridCol w="1143000"/>
                <a:gridCol w="1261800"/>
              </a:tblGrid>
              <a:tr h="52236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Form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hlo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Benz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p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38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da lime test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(for solid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6063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% Na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c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63" name="Right Arrow 4"/>
          <p:cNvSpPr/>
          <p:nvPr/>
        </p:nvSpPr>
        <p:spPr>
          <a:xfrm>
            <a:off x="4286160" y="207180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Straight Arrow Connector 6"/>
          <p:cNvCxnSpPr/>
          <p:nvPr/>
        </p:nvCxnSpPr>
        <p:spPr>
          <a:xfrm>
            <a:off x="2000160" y="5643720"/>
            <a:ext cx="57240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5" name="Straight Arrow Connector 8"/>
          <p:cNvCxnSpPr/>
          <p:nvPr/>
        </p:nvCxnSpPr>
        <p:spPr>
          <a:xfrm flipH="1">
            <a:off x="3571560" y="3642840"/>
            <a:ext cx="2160" cy="358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6" name="Straight Arrow Connector 13"/>
          <p:cNvCxnSpPr/>
          <p:nvPr/>
        </p:nvCxnSpPr>
        <p:spPr>
          <a:xfrm flipH="1">
            <a:off x="7000560" y="3429000"/>
            <a:ext cx="2160" cy="2865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67" name="Rectangle 7"/>
          <p:cNvSpPr/>
          <p:nvPr/>
        </p:nvSpPr>
        <p:spPr>
          <a:xfrm>
            <a:off x="3643200" y="642960"/>
            <a:ext cx="20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y odo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0" y="19288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one for compound with no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5429160" y="2000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 Self oxidation – reduction reactio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0" y="23572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lonna MT"/>
                <a:ea typeface="Times New Roman"/>
              </a:rPr>
              <a:t>Called Cannizzaro’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631800" y="267804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aur"/>
                <a:ea typeface="Times New Roman"/>
              </a:rPr>
              <a:t>All aromatic aldehyde &amp; only formaldehyde goes cannizzaro’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1077480" y="32148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5077800" y="521496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3071880" y="5143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3650040" y="233676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n 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2786040" y="307188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. acetal.+ x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2714760" y="40006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resin + bad apple odor ((</a:t>
            </a: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Called aldo condens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635796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6357960" y="37148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izzar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6435000" y="45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7916400" y="3166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6"/>
          <p:cNvSpPr/>
          <p:nvPr/>
        </p:nvSpPr>
        <p:spPr>
          <a:xfrm>
            <a:off x="7881480" y="49291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9"/>
          <p:cNvSpPr/>
          <p:nvPr/>
        </p:nvSpPr>
        <p:spPr>
          <a:xfrm>
            <a:off x="1071720" y="4929120"/>
            <a:ext cx="16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goes cannizzaro’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anol + form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929120" y="3143160"/>
            <a:ext cx="157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y odor of chloroform odor + droplets of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1"/>
          <p:cNvSpPr/>
          <p:nvPr/>
        </p:nvSpPr>
        <p:spPr>
          <a:xfrm>
            <a:off x="6357960" y="50720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lonna MT"/>
                <a:ea typeface="Times New Roman"/>
              </a:rPr>
              <a:t>((it is difficult to be done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own Arrow 32"/>
          <p:cNvSpPr/>
          <p:nvPr/>
        </p:nvSpPr>
        <p:spPr>
          <a:xfrm>
            <a:off x="7000920" y="435780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4843080" y="235728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ifficult to be do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Object 76"/>
          <p:cNvGraphicFramePr/>
          <p:nvPr/>
        </p:nvGraphicFramePr>
        <p:xfrm>
          <a:off x="2286000" y="1285920"/>
          <a:ext cx="193212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85920"/>
                    <a:ext cx="19321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77"/>
          <p:cNvGraphicFramePr/>
          <p:nvPr/>
        </p:nvGraphicFramePr>
        <p:xfrm>
          <a:off x="5318280" y="2357280"/>
          <a:ext cx="382572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8280" y="2357280"/>
                    <a:ext cx="382572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92" name="Straight Arrow Connector 30"/>
          <p:cNvCxnSpPr/>
          <p:nvPr/>
        </p:nvCxnSpPr>
        <p:spPr>
          <a:xfrm>
            <a:off x="6429240" y="5285880"/>
            <a:ext cx="28656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93" name="Rectangle 36"/>
          <p:cNvSpPr/>
          <p:nvPr/>
        </p:nvSpPr>
        <p:spPr>
          <a:xfrm>
            <a:off x="7858080" y="53578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etone &amp; Acetoph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7848720" y="3643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etone &amp; Acetoph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0" y="571680"/>
          <a:ext cx="9144000" cy="4849560"/>
        </p:xfrm>
        <a:graphic>
          <a:graphicData uri="http://schemas.openxmlformats.org/drawingml/2006/table">
            <a:tbl>
              <a:tblPr/>
              <a:tblGrid>
                <a:gridCol w="1558800"/>
                <a:gridCol w="1135080"/>
                <a:gridCol w="970200"/>
                <a:gridCol w="1935000"/>
                <a:gridCol w="306360"/>
                <a:gridCol w="952560"/>
                <a:gridCol w="1071720"/>
                <a:gridCol w="121428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Forma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hlo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Benz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p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6" name="Rectangle 2"/>
          <p:cNvSpPr/>
          <p:nvPr/>
        </p:nvSpPr>
        <p:spPr>
          <a:xfrm>
            <a:off x="1583640" y="4714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1577520" y="39895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6946200" y="4714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6946200" y="39877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1578960" y="25606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4460400" y="20001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3571920" y="3989520"/>
            <a:ext cx="24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 an oily layer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3694320" y="471492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-47520" y="357120"/>
          <a:ext cx="9191520" cy="6072120"/>
        </p:xfrm>
        <a:graphic>
          <a:graphicData uri="http://schemas.openxmlformats.org/drawingml/2006/table">
            <a:tbl>
              <a:tblPr/>
              <a:tblGrid>
                <a:gridCol w="976320"/>
                <a:gridCol w="1095120"/>
                <a:gridCol w="1857600"/>
                <a:gridCol w="642960"/>
                <a:gridCol w="428400"/>
                <a:gridCol w="1143000"/>
                <a:gridCol w="1857600"/>
                <a:gridCol w="119052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of clas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8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66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505" name="Right Arrow 2"/>
          <p:cNvSpPr/>
          <p:nvPr/>
        </p:nvSpPr>
        <p:spPr>
          <a:xfrm>
            <a:off x="5929200" y="4357800"/>
            <a:ext cx="1143000" cy="23472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Down Arrow 3"/>
          <p:cNvSpPr/>
          <p:nvPr/>
        </p:nvSpPr>
        <p:spPr>
          <a:xfrm>
            <a:off x="2214720" y="2928960"/>
            <a:ext cx="142560" cy="28584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Down Arrow 4"/>
          <p:cNvSpPr/>
          <p:nvPr/>
        </p:nvSpPr>
        <p:spPr>
          <a:xfrm flipH="1">
            <a:off x="6714360" y="264312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Straight Arrow Connector 13"/>
          <p:cNvCxnSpPr/>
          <p:nvPr/>
        </p:nvCxnSpPr>
        <p:spPr>
          <a:xfrm flipH="1">
            <a:off x="2212200" y="2000160"/>
            <a:ext cx="2520" cy="357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09" name="Straight Arrow Connector 16"/>
          <p:cNvCxnSpPr/>
          <p:nvPr/>
        </p:nvCxnSpPr>
        <p:spPr>
          <a:xfrm flipH="1">
            <a:off x="6857640" y="2022480"/>
            <a:ext cx="2160" cy="357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510" name="Straight Connector 18"/>
          <p:cNvSpPr/>
          <p:nvPr/>
        </p:nvSpPr>
        <p:spPr>
          <a:xfrm flipH="1">
            <a:off x="4525560" y="1285920"/>
            <a:ext cx="180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Elbow Connector 20"/>
          <p:cNvCxnSpPr/>
          <p:nvPr/>
        </p:nvCxnSpPr>
        <p:spPr>
          <a:xfrm>
            <a:off x="4143240" y="1500120"/>
            <a:ext cx="1929600" cy="357840"/>
          </a:xfrm>
          <a:prstGeom prst="bentConnector3">
            <a:avLst>
              <a:gd name="adj1" fmla="val 49990"/>
            </a:avLst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2" name="Elbow Connector 22"/>
          <p:cNvCxnSpPr/>
          <p:nvPr/>
        </p:nvCxnSpPr>
        <p:spPr>
          <a:xfrm flipV="1" rot="10800000">
            <a:off x="3142440" y="1499760"/>
            <a:ext cx="1072440" cy="357840"/>
          </a:xfrm>
          <a:prstGeom prst="bentConnector3">
            <a:avLst>
              <a:gd name="adj1" fmla="val 50000"/>
            </a:avLst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513" name="Object 2"/>
          <p:cNvGraphicFramePr/>
          <p:nvPr/>
        </p:nvGraphicFramePr>
        <p:xfrm>
          <a:off x="324000" y="4071960"/>
          <a:ext cx="36828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3682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11"/>
          <p:cNvSpPr/>
          <p:nvPr/>
        </p:nvSpPr>
        <p:spPr>
          <a:xfrm>
            <a:off x="1393920" y="16430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gent  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-46080" y="224964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ormaldehyde &amp; ketones miscible in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309600" y="3164040"/>
            <a:ext cx="385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51"/>
                </a:solidFill>
                <a:latin typeface="Times New Roman"/>
                <a:ea typeface="Times New Roman"/>
              </a:rPr>
              <a:t>For aliph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Formaldehyde, Acetaldehyde, Chlorahydrate, Aceto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6024600" y="164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gent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4402080" y="2246400"/>
            <a:ext cx="4857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dehyde &amp; ketones immiscible in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9"/>
          <p:cNvSpPr/>
          <p:nvPr/>
        </p:nvSpPr>
        <p:spPr>
          <a:xfrm>
            <a:off x="4552920" y="31575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51"/>
                </a:solidFill>
                <a:latin typeface="Times New Roman"/>
                <a:ea typeface="Times New Roman"/>
              </a:rPr>
              <a:t>For aro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Benzaldehyde &amp; Acetopheno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0040" y="41432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ehyde or ketones + 3 drops from reagent A 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928800" y="5359320"/>
            <a:ext cx="109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5"/>
          <p:cNvSpPr/>
          <p:nvPr/>
        </p:nvSpPr>
        <p:spPr>
          <a:xfrm>
            <a:off x="1990800" y="5359320"/>
            <a:ext cx="192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– orange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6"/>
          <p:cNvSpPr/>
          <p:nvPr/>
        </p:nvSpPr>
        <p:spPr>
          <a:xfrm>
            <a:off x="3774960" y="5359320"/>
            <a:ext cx="12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7"/>
          <p:cNvSpPr/>
          <p:nvPr/>
        </p:nvSpPr>
        <p:spPr>
          <a:xfrm>
            <a:off x="4892760" y="535932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6116760" y="5364000"/>
            <a:ext cx="186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– 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9"/>
          <p:cNvSpPr/>
          <p:nvPr/>
        </p:nvSpPr>
        <p:spPr>
          <a:xfrm>
            <a:off x="7951680" y="5357880"/>
            <a:ext cx="11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0"/>
          <p:cNvSpPr/>
          <p:nvPr/>
        </p:nvSpPr>
        <p:spPr>
          <a:xfrm>
            <a:off x="957960" y="478620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1"/>
          <p:cNvSpPr/>
          <p:nvPr/>
        </p:nvSpPr>
        <p:spPr>
          <a:xfrm>
            <a:off x="2477160" y="478620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2"/>
          <p:cNvSpPr/>
          <p:nvPr/>
        </p:nvSpPr>
        <p:spPr>
          <a:xfrm>
            <a:off x="3893400" y="47862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3"/>
          <p:cNvSpPr/>
          <p:nvPr/>
        </p:nvSpPr>
        <p:spPr>
          <a:xfrm>
            <a:off x="5025960" y="478620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enz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4"/>
          <p:cNvSpPr/>
          <p:nvPr/>
        </p:nvSpPr>
        <p:spPr>
          <a:xfrm>
            <a:off x="6492600" y="47862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5"/>
          <p:cNvSpPr/>
          <p:nvPr/>
        </p:nvSpPr>
        <p:spPr>
          <a:xfrm>
            <a:off x="7967160" y="47862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6"/>
          <p:cNvSpPr/>
          <p:nvPr/>
        </p:nvSpPr>
        <p:spPr>
          <a:xfrm>
            <a:off x="2010960" y="868320"/>
            <a:ext cx="51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] 2, 4 – dinitrophenyl hydrazine t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5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6:06:06Z</dcterms:created>
  <dc:creator>admin</dc:creator>
  <dc:description/>
  <dc:language>en-US</dc:language>
  <cp:lastModifiedBy>reem</cp:lastModifiedBy>
  <dcterms:modified xsi:type="dcterms:W3CDTF">2014-10-13T06:28:08Z</dcterms:modified>
  <cp:revision>144</cp:revision>
  <dc:subject/>
  <dc:title>Slide 1</dc:title>
</cp:coreProperties>
</file>