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F4B5-1EA7-499B-817B-D7BE7AA112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9B2B-9824-4E66-A2B5-B785569A9A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80E-FF95-4D2E-ADBB-2CD31744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4F3-965B-4B9F-864A-A9F427B2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E5F-EBA1-497C-9C86-C4C4B182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AAE-E194-4945-9328-CB1D2F6C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534F-4BEB-4881-A144-CE1253EF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DC5-4631-479C-97BE-EB4633C1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50EF-33AA-4DF6-984C-8B741AF7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D379-BBBD-43B7-A74B-683F8DC5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3BFD-4419-4356-A48D-B97DF8D8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7E09-E8C4-4F2C-890C-8A912706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A8EC-26A7-443A-8453-B6B79490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508-FB61-40DB-A36B-75D017F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1145-2781-459D-A4AB-133119E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438C-DB86-45B0-A2F9-45BAE893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411F-74B9-46A4-AB6B-0DD4FEC8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7AEA-6989-4304-98F2-7CED342A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1B7A-2D39-4604-AE9E-6C0B7714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D9E2-E77E-4DDE-84CA-FA538141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D848-8A6D-4956-B969-6480F26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9BB5-7FFF-40A9-B292-123C359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CFD8-F640-4FF3-97AE-3FF06541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27BC-4E4A-4DA5-A9DB-52DF3BFB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C34-5A3E-4491-B7D0-A9C1462D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0A09-9215-402C-BA81-10474AB4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2BDC-AEE7-42F1-AB2A-B6565E16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08B9-4F8C-4E7A-A248-F3B3D4F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CF25-1479-4996-B4AE-526C96E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1C2D-6E47-48CD-8311-8A34FA60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ACA5-A244-44B9-8845-223C9D51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9A3B-EDB2-490E-B177-1CF3B42E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CBC3-71A3-4AB7-ADFE-B5B76ED9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BAA8-CE73-48E4-82E7-0D4C0DC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D5A9-4748-4B56-8792-472F3E6B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7CC-45FF-4153-9AEA-0D87E92F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3DA6-70B9-4AFD-8CFE-8A9AE110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9A340-3003-4A64-BCDF-3EEC15CB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CCA9-6BA7-4C95-BC49-5562D4E7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88CD-2032-448A-946B-F358A50C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979A1-D901-453A-AE27-D6026A63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ECDD-233C-46F5-AF3C-E9220EA3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60CE-DAA3-4EC7-A180-42C90339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5D0C-2AD3-4156-9AB0-BB885C9F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78707-8F91-49D0-A2D1-A800A003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2C527-A5E9-465F-9B69-8D0781E0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75C-A381-4D78-8AB2-486B64FA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3E9AA-37C9-4BAD-A538-CF818D6C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E366-59B3-4554-B4D9-963971D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27F4-3BF8-4BBA-A89D-DC19C799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3FF81-D43D-4281-9325-2E85C412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7D89-FD02-4BE6-AEC2-ADBD6728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444D5-1012-41D1-8740-5BFAA2DC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C2A1-F086-45D6-8511-37A61F2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A7D08-B83B-4444-9255-453CBBA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804F-712F-4A23-A31F-88CED3B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49CD-55AD-42B7-96C9-2170A090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7E2-CFBF-43E1-83AD-454EB27E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E7D9-E0F0-4CAD-9B81-43CC12DD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ADD10-70AD-4F1C-9BA3-3ADD548C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3684B-C566-443F-AD76-C42830C7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2B07A-4499-4CCB-976C-BBF230D2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7D74-C14B-4B26-8AAF-BE6AEFC7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8B495-089B-4C8B-B8BA-57561C9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DBC65-34DC-4C9E-8027-C29E22F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1F285-5E1E-4781-90B8-57A3776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DB52-A9FA-4DC4-B874-3AB4A913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7D7A9-DF02-4289-B3DB-2A7CBC0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C00-A078-4DDE-BA3D-CAF8B1D2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C65D4-3138-4AFD-A739-31605E17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8A408-E02C-4A9B-9784-DF607B89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FE08F-CD61-4FE4-97DF-C90C66E9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E316-C52A-4723-9F7A-0BE4A13F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895E1-5736-48F7-83CB-AFBE4D5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0EBD0-7D20-4E9A-806E-938E3505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8C0CE-4F4B-4716-BFAD-CEB5B036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B3318-D5E5-49C2-86CB-F70A8A19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A5DB0-58F4-4C0C-BA29-96A79CE9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48D41-A9A9-4815-92C7-AFF3D20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DCF-6F88-4A75-89D8-6B8F60E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CD244-A8CB-4028-8BE6-74CB5E23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1212A-1B6A-4764-A71C-F50F089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39026-9FB6-4703-8A85-99957C36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FA5D-DD82-485F-87E2-BD2CC9CA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52CBB-71EF-48C5-8439-7502858C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26C90-8FD6-465A-BF00-44C078A5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28BF8-5A2F-43E3-8B3B-543A3DDB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CA2D-3593-4A90-88AB-2B53DC10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4E8B2-8931-4668-918B-A948E040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EF6D5-60A3-410C-9871-A18A5B29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2E8-7C7F-4BF2-A4EF-4DE807F8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5FFD7-E26C-4B27-B5E1-90144C2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1B48C-D838-4CB4-8173-29544F4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21D5B-DCB8-4A9D-B13B-433CCD0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64C27-940E-4D80-BEB7-A15519FE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C8A54-38DA-4BF0-9E4B-55E8DA70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226DE-226F-4EAD-B539-0C608B10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4199-6808-4F89-9D29-EF225AAC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A216-B79D-4ED0-A8B0-6C3B26979571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A6D2-4239-4F8F-83D6-6F94303C5808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69E7-C70A-496C-AF15-B5D9029BD5D4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0D73-71A3-4635-A507-8ED5B92F456B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2D4E-C3EE-436A-A6E0-6D2F537C8685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16D-D6CC-4747-BA6D-EC0D839CB9A7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94DE-FAD8-4FF6-801E-3FAC746E5352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C26-401B-416E-87AB-3892023BDDB9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8080" y="2066760"/>
            <a:ext cx="82771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285840" y="571680"/>
          <a:ext cx="8715240" cy="4929120"/>
        </p:xfrm>
        <a:graphic>
          <a:graphicData uri="http://schemas.openxmlformats.org/drawingml/2006/table">
            <a:tbl>
              <a:tblPr/>
              <a:tblGrid>
                <a:gridCol w="2179440"/>
                <a:gridCol w="3049560"/>
                <a:gridCol w="3486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aldehy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etaldehy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1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00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379" name="Right Arrow 5"/>
          <p:cNvSpPr/>
          <p:nvPr/>
        </p:nvSpPr>
        <p:spPr>
          <a:xfrm>
            <a:off x="7286760" y="1866960"/>
            <a:ext cx="928440" cy="28584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ight Arrow 6"/>
          <p:cNvSpPr/>
          <p:nvPr/>
        </p:nvSpPr>
        <p:spPr>
          <a:xfrm>
            <a:off x="4572000" y="314316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ight Arrow 7"/>
          <p:cNvSpPr/>
          <p:nvPr/>
        </p:nvSpPr>
        <p:spPr>
          <a:xfrm>
            <a:off x="5643720" y="457200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14200" y="1454040"/>
            <a:ext cx="7929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cylic aci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. + few salicylic acid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 the w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2934360" y="228600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mson 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5932800" y="2286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214200" y="2809800"/>
            <a:ext cx="5715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Iodoform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. +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10% NaOH + xss 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2862720" y="3714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421320" y="37148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214200" y="419904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Na– nitroprussid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. + Na– nitroprusside + xss 10% Na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2934000" y="50007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6504840" y="50007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7"/>
          <p:cNvSpPr/>
          <p:nvPr/>
        </p:nvSpPr>
        <p:spPr>
          <a:xfrm>
            <a:off x="5717160" y="368316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5717520" y="5072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3571920" y="1071720"/>
            <a:ext cx="6840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214200" y="0"/>
          <a:ext cx="8715600" cy="6572160"/>
        </p:xfrm>
        <a:graphic>
          <a:graphicData uri="http://schemas.openxmlformats.org/drawingml/2006/table">
            <a:tbl>
              <a:tblPr/>
              <a:tblGrid>
                <a:gridCol w="2179800"/>
                <a:gridCol w="3049560"/>
                <a:gridCol w="3486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zaldehy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etophen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12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1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2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85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6"/>
          <p:cNvSpPr/>
          <p:nvPr/>
        </p:nvSpPr>
        <p:spPr>
          <a:xfrm>
            <a:off x="285840" y="208116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Iodoform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148200" y="2571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6350040" y="26002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428920" y="1357200"/>
            <a:ext cx="31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crystals of benzo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6860520" y="15001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-169200" y="85716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Auto oxid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320400" y="314316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Na– nitroprussid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3148200" y="3714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6531840" y="371484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386280" y="42148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Od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2934360" y="4643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almond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6860520" y="4702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5931360" y="210024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5911920" y="31431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5509800" y="507204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Meta– dinitrobenzen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42960" y="542916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phenone + Ethaol + few gm m-dinitrobenzene + xss 10% 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ight Arrow 22"/>
          <p:cNvSpPr/>
          <p:nvPr/>
        </p:nvSpPr>
        <p:spPr>
          <a:xfrm>
            <a:off x="7715160" y="550080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3"/>
          <p:cNvSpPr/>
          <p:nvPr/>
        </p:nvSpPr>
        <p:spPr>
          <a:xfrm>
            <a:off x="3645720" y="60008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5429160" y="5869080"/>
            <a:ext cx="33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olet color in the alcoholi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214200" y="71280"/>
          <a:ext cx="8715600" cy="585792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of aceton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4"/>
          <p:cNvSpPr/>
          <p:nvPr/>
        </p:nvSpPr>
        <p:spPr>
          <a:xfrm>
            <a:off x="428760" y="57168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Iodoform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920960" y="11430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64680" y="164304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Na– nitroprussid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2075760" y="21430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53520" y="26431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Meta– dinitrobenzen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500040" y="300024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ne + few gm m-dinitrobenzene + xss 10% NaOH     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h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ight Arrow 11"/>
          <p:cNvSpPr/>
          <p:nvPr/>
        </p:nvSpPr>
        <p:spPr>
          <a:xfrm>
            <a:off x="6143760" y="3143160"/>
            <a:ext cx="107136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2247120" y="3429000"/>
            <a:ext cx="34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iolet color &amp; slowly f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-79200" y="3780000"/>
            <a:ext cx="4925880" cy="6634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5"/>
          <p:cNvSpPr/>
          <p:nvPr/>
        </p:nvSpPr>
        <p:spPr>
          <a:xfrm>
            <a:off x="428760" y="439272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Soda l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ight Arrow 16"/>
          <p:cNvSpPr/>
          <p:nvPr/>
        </p:nvSpPr>
        <p:spPr>
          <a:xfrm>
            <a:off x="2214720" y="4500720"/>
            <a:ext cx="1785960" cy="2854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7"/>
          <p:cNvSpPr/>
          <p:nvPr/>
        </p:nvSpPr>
        <p:spPr>
          <a:xfrm>
            <a:off x="4179960" y="439272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y odor of chloroform od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8"/>
          <p:cNvSpPr/>
          <p:nvPr/>
        </p:nvSpPr>
        <p:spPr>
          <a:xfrm>
            <a:off x="230040" y="492912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30% Na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19"/>
          <p:cNvSpPr/>
          <p:nvPr/>
        </p:nvSpPr>
        <p:spPr>
          <a:xfrm>
            <a:off x="1928880" y="5106960"/>
            <a:ext cx="178596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1"/>
          <p:cNvSpPr/>
          <p:nvPr/>
        </p:nvSpPr>
        <p:spPr>
          <a:xfrm>
            <a:off x="3643200" y="4929120"/>
            <a:ext cx="54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y odor of chloroform odour + droplets of 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3"/>
          <p:cNvSpPr/>
          <p:nvPr/>
        </p:nvSpPr>
        <p:spPr>
          <a:xfrm>
            <a:off x="3500280" y="542916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an oily layer of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384120" y="5452920"/>
            <a:ext cx="18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Conc H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ight Arrow 25"/>
          <p:cNvSpPr/>
          <p:nvPr/>
        </p:nvSpPr>
        <p:spPr>
          <a:xfrm>
            <a:off x="2190600" y="55609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5645160" y="622440"/>
            <a:ext cx="32432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1523880" y="1397160"/>
          <a:ext cx="6762960" cy="3211200"/>
        </p:xfrm>
        <a:graphic>
          <a:graphicData uri="http://schemas.openxmlformats.org/drawingml/2006/table">
            <a:tbl>
              <a:tblPr/>
              <a:tblGrid>
                <a:gridCol w="3048120"/>
                <a:gridCol w="371484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35" name="Rectangle 2"/>
          <p:cNvSpPr/>
          <p:nvPr/>
        </p:nvSpPr>
        <p:spPr>
          <a:xfrm>
            <a:off x="2232000" y="2600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2232000" y="31003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2096280" y="36003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2167560" y="41371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4687920" y="414324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688280" y="3611520"/>
            <a:ext cx="32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liphatic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652640" y="3108240"/>
            <a:ext cx="34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 of ke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4582080" y="264312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 of 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444600" y="1182600"/>
            <a:ext cx="3767040" cy="3333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5138640" y="1189080"/>
            <a:ext cx="3591000" cy="3382920"/>
          </a:xfrm>
          <a:prstGeom prst="rect">
            <a:avLst/>
          </a:prstGeom>
          <a:ln w="0">
            <a:noFill/>
          </a:ln>
        </p:spPr>
      </p:pic>
      <p:grpSp>
        <p:nvGrpSpPr>
          <p:cNvPr id="445" name="شكل بيضاوي 1"/>
          <p:cNvGrpSpPr/>
          <p:nvPr/>
        </p:nvGrpSpPr>
        <p:grpSpPr>
          <a:xfrm>
            <a:off x="2041560" y="3005280"/>
            <a:ext cx="731880" cy="591840"/>
            <a:chOff x="2041560" y="3005280"/>
            <a:chExt cx="731880" cy="591840"/>
          </a:xfrm>
        </p:grpSpPr>
        <p:pic>
          <p:nvPicPr>
            <p:cNvPr id="446" name="شكل بيضاوي 1" descr=""/>
            <p:cNvPicPr/>
            <p:nvPr/>
          </p:nvPicPr>
          <p:blipFill>
            <a:blip r:embed="rId3"/>
            <a:stretch/>
          </p:blipFill>
          <p:spPr>
            <a:xfrm>
              <a:off x="2041560" y="3005280"/>
              <a:ext cx="7318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208240" y="3110040"/>
              <a:ext cx="4078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شكل بيضاوي 4"/>
          <p:cNvGrpSpPr/>
          <p:nvPr/>
        </p:nvGrpSpPr>
        <p:grpSpPr>
          <a:xfrm>
            <a:off x="6394320" y="2955960"/>
            <a:ext cx="725760" cy="592200"/>
            <a:chOff x="6394320" y="2955960"/>
            <a:chExt cx="725760" cy="592200"/>
          </a:xfrm>
        </p:grpSpPr>
        <p:pic>
          <p:nvPicPr>
            <p:cNvPr id="449" name="شكل بيضاوي 4" descr=""/>
            <p:cNvPicPr/>
            <p:nvPr/>
          </p:nvPicPr>
          <p:blipFill>
            <a:blip r:embed="rId4"/>
            <a:stretch/>
          </p:blipFill>
          <p:spPr>
            <a:xfrm>
              <a:off x="6394320" y="2955960"/>
              <a:ext cx="72576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556320" y="3060720"/>
              <a:ext cx="406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مربع نص 2"/>
          <p:cNvSpPr/>
          <p:nvPr/>
        </p:nvSpPr>
        <p:spPr>
          <a:xfrm>
            <a:off x="1295280" y="4941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مربع نص 3"/>
          <p:cNvSpPr/>
          <p:nvPr/>
        </p:nvSpPr>
        <p:spPr>
          <a:xfrm>
            <a:off x="5148360" y="49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k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16:40Z</dcterms:created>
  <dc:creator>admin</dc:creator>
  <dc:description/>
  <dc:language>en-US</dc:language>
  <cp:lastModifiedBy>reem</cp:lastModifiedBy>
  <dcterms:modified xsi:type="dcterms:W3CDTF">2014-10-19T09:42:04Z</dcterms:modified>
  <cp:revision>28</cp:revision>
  <dc:subject/>
  <dc:title>Slide 1</dc:title>
</cp:coreProperties>
</file>