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E1AD-CF72-4708-BECD-1A1BF7A090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D412-AC79-44DE-885C-3084274221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A5B-9CF1-47FC-95B3-C3F18825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A27-D5E2-4074-ABAD-72EB8610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693D-CC40-4729-8554-9EC270BF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529-2926-479B-8E6A-BF2C9E1F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50F9-2440-47D8-9081-5CBF67ED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686D-8F77-43BD-B290-495644F6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5AA9-15BD-44C8-AF8B-69218F27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2B57-2FDA-492D-A6D6-BD9B5014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3CA1-E01A-4992-A70D-58B95870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641-B0B7-4A14-92A0-A90AAB9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4E74-7252-4D27-AF3E-3CA1DDC4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556-2DC3-4239-8CBD-E5883C9E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939B-92A1-4AFF-A149-6276F7B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B89A-E01F-4EC0-9F6D-321123A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4328-DA07-42CA-9DDA-B4E548B5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508A-628C-4A2C-A755-42C649E4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64C0-3516-4B05-B04D-5C33FD05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0A3EE-F04D-44DA-9AE8-2C5797DA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440AC-4B97-4528-9F0F-2C87C082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1CC8-81AA-4CA1-B4D6-AD060E29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F2E37-6E81-4608-B27E-71FA673E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852C-056F-4C8D-9CBF-F582AA4D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F3E-1DE4-4833-BC55-DC395289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915C-E72F-40AD-A101-A52F63D9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D3FFD-CB9E-4894-B7F3-3B66BA52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335B-80C8-4015-BDFD-3E1D4E5A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8660-B4F4-4E36-962E-305F6C5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3755-7BDC-4307-9A38-F5593556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E7B2-5E01-4FB9-8E50-3A1CFD3C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E6EA-E681-4492-B32C-DFE5C26D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735B-D590-485E-8F3D-EE96D654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C7BDC-0FB2-4CF6-AB81-3B037C78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44177-4F15-4FD1-9E8C-E0EE2BD3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891-74DE-4865-BC51-5F2AF00C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C695A-76BE-46F7-88B4-A74800D0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D06B-1840-4E4A-92A7-2862D161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C814E-1008-4FBD-BF3B-934DE4B1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4D1E-2BD8-4180-9D89-DF7501DE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7081B-2EE5-4560-A06E-3EFC987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B0EB8-E93D-4507-8C44-C0542C8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0C830-3C25-4730-B48C-04DF83AF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4FC5B-BE38-4309-9B08-F15A8FC9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43DF4-519A-4550-9603-B839F6F7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15824-D921-4976-85D6-05799689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273-737F-4490-AE4B-09CDD6CF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7B8AC-2C63-45A6-AEBF-77B16B5E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7794E-E696-4C29-8927-A52EBEA4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9F820-7FDD-4EC6-83EB-8C17170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B9C7-43C0-499C-BA7E-4355C05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6627-E691-4365-B35E-A1769B3B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60F6A-E956-4F66-9B53-E0724004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9A508-145A-4E4F-AA7A-F308F9CB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DF384-B31F-483D-B02C-5B8861D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ED235-9D30-4334-A38C-A9550939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EF876-38A9-45CB-ACE9-E59936F4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925-679E-46C5-9C3C-480D158C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1F6F6-3214-4E5B-8F2E-147C7E04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6CAF9-9D13-4DC8-ABBC-AD73D3ED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05512-4B6D-4853-AFCA-FD4CA8D5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86145-91A1-4BD3-B5AE-B81D1D30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FB61-90F0-4932-BC45-0BB1D5BC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FFB19-00A9-4E63-81C4-2563B6E1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9C746-846A-4E39-ABC8-EBA3BAFE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77FDF-D1FD-4699-BCBB-F82E4E6D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3B939-1D96-440B-915B-2DEF0A0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A464F-1739-493C-9FCD-27B703E1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403-838C-4881-948E-9694FE3E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83ACE-5136-45E7-98FA-222FD74E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DFAD2-479C-4B1C-B065-4160B29A5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98059-2597-47C8-AA5A-93016C13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9840F-3B75-4E79-8001-28C9ABA7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9D7FA-8AC9-48C8-BD19-F7ECC274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22E3A-E10E-454B-8916-786B807B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EA7D5-AC02-4559-8C9F-939C0611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19DC1-F36F-4546-99B9-0B807EC7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8D590-853E-4E58-A027-E50B23B6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5ABBF-1697-4305-AAE7-8D74D9B5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E14-FB79-4F17-9851-0EB8C4FE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7A25A-5B65-4AB9-834F-5BE154C7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A6390-9C72-4165-AAEB-289C2FC1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83DF6-6DDC-4B14-BE83-81E160FD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A8222-95FA-4031-BC61-7D35013A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609B4-A15C-44CC-ABD2-A17E4AD1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34C41-4EB4-44D3-92A2-0080F1D0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4B668-5B58-418A-87F9-F4B1301C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8341C-094F-4AF8-9CBC-57BAD6CA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2DA1-8AFB-42C7-9A9B-AF24A056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F8D64-BFF0-44EF-9F04-EA8226CD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3D5-5394-4F90-8F0E-CE249188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B6746-C6D9-4629-853A-6620ABD6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BCF18-BFC7-4BF1-8FE6-B8321D7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6BB33-4CF3-4E70-AD92-0B26C746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B1EDF-FA29-4AFE-AE20-3B89D14E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3A647-B259-444A-A970-872DE2D4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C9C06-2E21-4A1D-ADF5-ADA1B4E8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2F91B-501D-45A6-82F7-27804686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C362-87D5-4CB2-B747-39EA631ED078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967-5A4C-4426-BE3C-2B1E9DF2E3D0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0A54-EA1D-4641-87FA-0119F3FFC614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76F0-F451-4288-AA58-8357E94CE665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DCB3-5D75-4DDF-8B78-9541744F2640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5C4F-94C5-4EBE-BB69-444F4C3CC81C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0594-3D99-4632-A52B-40298D26BDEA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6FF3-41A4-4060-8364-9E38018BEF11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208080" y="2066760"/>
            <a:ext cx="827712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285840" y="571680"/>
          <a:ext cx="8715240" cy="4929120"/>
        </p:xfrm>
        <a:graphic>
          <a:graphicData uri="http://schemas.openxmlformats.org/drawingml/2006/table">
            <a:tbl>
              <a:tblPr/>
              <a:tblGrid>
                <a:gridCol w="2179440"/>
                <a:gridCol w="3049560"/>
                <a:gridCol w="3486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aldehy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etaldehy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1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00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379" name="Right Arrow 5"/>
          <p:cNvSpPr/>
          <p:nvPr/>
        </p:nvSpPr>
        <p:spPr>
          <a:xfrm>
            <a:off x="7286760" y="1866960"/>
            <a:ext cx="928440" cy="28584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ight Arrow 6"/>
          <p:cNvSpPr/>
          <p:nvPr/>
        </p:nvSpPr>
        <p:spPr>
          <a:xfrm>
            <a:off x="4572000" y="314316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ight Arrow 7"/>
          <p:cNvSpPr/>
          <p:nvPr/>
        </p:nvSpPr>
        <p:spPr>
          <a:xfrm>
            <a:off x="5643720" y="457200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14200" y="1454040"/>
            <a:ext cx="7929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licylic aci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. + few salicylic acid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 the w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2934360" y="228600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mson 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5932800" y="2286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214200" y="2809800"/>
            <a:ext cx="5715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Iodoform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. +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10% NaOH + xss 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2862720" y="3714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421320" y="37148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214200" y="419904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Na– nitroprussid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. + Na– nitroprusside + xss 10% Na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2934000" y="50007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6504840" y="50007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7"/>
          <p:cNvSpPr/>
          <p:nvPr/>
        </p:nvSpPr>
        <p:spPr>
          <a:xfrm>
            <a:off x="5717160" y="368316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5717520" y="507204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3571920" y="1071720"/>
            <a:ext cx="68400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"/>
          <p:cNvGraphicFramePr/>
          <p:nvPr/>
        </p:nvGraphicFramePr>
        <p:xfrm>
          <a:off x="214200" y="0"/>
          <a:ext cx="8715600" cy="6572160"/>
        </p:xfrm>
        <a:graphic>
          <a:graphicData uri="http://schemas.openxmlformats.org/drawingml/2006/table">
            <a:tbl>
              <a:tblPr/>
              <a:tblGrid>
                <a:gridCol w="2179800"/>
                <a:gridCol w="3049560"/>
                <a:gridCol w="3486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zaldehy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etophen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12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11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2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85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395" name="Rectangle 6"/>
          <p:cNvSpPr/>
          <p:nvPr/>
        </p:nvSpPr>
        <p:spPr>
          <a:xfrm>
            <a:off x="285840" y="208116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Iodoform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148200" y="2571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6350040" y="26002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428920" y="1357200"/>
            <a:ext cx="31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crystals of benzo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6860520" y="15001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-169200" y="85716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Auto oxid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320400" y="314316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Na– nitroprussid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3148200" y="3714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6531840" y="371484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386280" y="421488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Odo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2934360" y="4643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almond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6860520" y="4702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5931360" y="2100240"/>
            <a:ext cx="4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5911920" y="314316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5509800" y="507204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Meta– dinitrobenzen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42960" y="542916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phenone + Ethaol + few gm m-dinitrobenzene + xss 10% 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ight Arrow 22"/>
          <p:cNvSpPr/>
          <p:nvPr/>
        </p:nvSpPr>
        <p:spPr>
          <a:xfrm>
            <a:off x="7715160" y="550080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3"/>
          <p:cNvSpPr/>
          <p:nvPr/>
        </p:nvSpPr>
        <p:spPr>
          <a:xfrm>
            <a:off x="3645720" y="600084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−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5429160" y="5869080"/>
            <a:ext cx="33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olet color in the alcoholic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77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770" fill="hold"/>
                                        <p:tgtEl>
                                          <p:spTgt spid="4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77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770" fill="hold"/>
                                        <p:tgtEl>
                                          <p:spTgt spid="4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214200" y="71280"/>
          <a:ext cx="8715600" cy="585792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of aceton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415" name="Rectangle 4"/>
          <p:cNvSpPr/>
          <p:nvPr/>
        </p:nvSpPr>
        <p:spPr>
          <a:xfrm>
            <a:off x="428760" y="57168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Iodoform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920960" y="11430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64680" y="164304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Na– nitroprussid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2075760" y="214308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353520" y="26431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Meta– dinitrobenzen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500040" y="300024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ne + few gm m-dinitrobenzene + xss 10% NaOH      </a:t>
            </a:r>
            <a:r>
              <a:rPr b="0" lang="en-U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h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ight Arrow 11"/>
          <p:cNvSpPr/>
          <p:nvPr/>
        </p:nvSpPr>
        <p:spPr>
          <a:xfrm>
            <a:off x="6143760" y="3143160"/>
            <a:ext cx="107136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2247120" y="3429000"/>
            <a:ext cx="34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iolet color &amp; slowly f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-79200" y="3780000"/>
            <a:ext cx="4925880" cy="6634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5"/>
          <p:cNvSpPr/>
          <p:nvPr/>
        </p:nvSpPr>
        <p:spPr>
          <a:xfrm>
            <a:off x="428760" y="439272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Soda l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ight Arrow 16"/>
          <p:cNvSpPr/>
          <p:nvPr/>
        </p:nvSpPr>
        <p:spPr>
          <a:xfrm>
            <a:off x="2214720" y="4500720"/>
            <a:ext cx="1785960" cy="2854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7"/>
          <p:cNvSpPr/>
          <p:nvPr/>
        </p:nvSpPr>
        <p:spPr>
          <a:xfrm>
            <a:off x="4179960" y="4392720"/>
            <a:ext cx="37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y odor of chloroform od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8"/>
          <p:cNvSpPr/>
          <p:nvPr/>
        </p:nvSpPr>
        <p:spPr>
          <a:xfrm>
            <a:off x="230040" y="4929120"/>
            <a:ext cx="21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30% Na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19"/>
          <p:cNvSpPr/>
          <p:nvPr/>
        </p:nvSpPr>
        <p:spPr>
          <a:xfrm>
            <a:off x="1928880" y="5106960"/>
            <a:ext cx="1785960" cy="285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1"/>
          <p:cNvSpPr/>
          <p:nvPr/>
        </p:nvSpPr>
        <p:spPr>
          <a:xfrm>
            <a:off x="3643200" y="4929120"/>
            <a:ext cx="54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y odor of chloroform odour + droplets of 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3"/>
          <p:cNvSpPr/>
          <p:nvPr/>
        </p:nvSpPr>
        <p:spPr>
          <a:xfrm>
            <a:off x="3500280" y="542916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an oily layer of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4"/>
          <p:cNvSpPr/>
          <p:nvPr/>
        </p:nvSpPr>
        <p:spPr>
          <a:xfrm>
            <a:off x="384120" y="5452920"/>
            <a:ext cx="18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Conc H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ight Arrow 25"/>
          <p:cNvSpPr/>
          <p:nvPr/>
        </p:nvSpPr>
        <p:spPr>
          <a:xfrm>
            <a:off x="2190600" y="55609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5645160" y="622440"/>
            <a:ext cx="32432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2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1523880" y="1397160"/>
          <a:ext cx="6762960" cy="3211200"/>
        </p:xfrm>
        <a:graphic>
          <a:graphicData uri="http://schemas.openxmlformats.org/drawingml/2006/table">
            <a:tbl>
              <a:tblPr/>
              <a:tblGrid>
                <a:gridCol w="3048120"/>
                <a:gridCol w="371484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35" name="Rectangle 2"/>
          <p:cNvSpPr/>
          <p:nvPr/>
        </p:nvSpPr>
        <p:spPr>
          <a:xfrm>
            <a:off x="2232000" y="2600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2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2232000" y="31003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2096280" y="36003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2167560" y="41371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4687920" y="4143240"/>
            <a:ext cx="323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4688280" y="3611520"/>
            <a:ext cx="32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liphatic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652640" y="3108240"/>
            <a:ext cx="344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 of ke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4582080" y="264312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 of 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444600" y="1182600"/>
            <a:ext cx="3767040" cy="33339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5138640" y="1189080"/>
            <a:ext cx="3591000" cy="3382920"/>
          </a:xfrm>
          <a:prstGeom prst="rect">
            <a:avLst/>
          </a:prstGeom>
          <a:ln w="0">
            <a:noFill/>
          </a:ln>
        </p:spPr>
      </p:pic>
      <p:grpSp>
        <p:nvGrpSpPr>
          <p:cNvPr id="445" name="شكل بيضاوي 1"/>
          <p:cNvGrpSpPr/>
          <p:nvPr/>
        </p:nvGrpSpPr>
        <p:grpSpPr>
          <a:xfrm>
            <a:off x="2041560" y="3005280"/>
            <a:ext cx="731880" cy="591840"/>
            <a:chOff x="2041560" y="3005280"/>
            <a:chExt cx="731880" cy="591840"/>
          </a:xfrm>
        </p:grpSpPr>
        <p:pic>
          <p:nvPicPr>
            <p:cNvPr id="446" name="شكل بيضاوي 1" descr=""/>
            <p:cNvPicPr/>
            <p:nvPr/>
          </p:nvPicPr>
          <p:blipFill>
            <a:blip r:embed="rId3"/>
            <a:stretch/>
          </p:blipFill>
          <p:spPr>
            <a:xfrm>
              <a:off x="2041560" y="3005280"/>
              <a:ext cx="731880" cy="59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208240" y="3110040"/>
              <a:ext cx="40788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شكل بيضاوي 4"/>
          <p:cNvGrpSpPr/>
          <p:nvPr/>
        </p:nvGrpSpPr>
        <p:grpSpPr>
          <a:xfrm>
            <a:off x="6394320" y="2955960"/>
            <a:ext cx="725760" cy="592200"/>
            <a:chOff x="6394320" y="2955960"/>
            <a:chExt cx="725760" cy="592200"/>
          </a:xfrm>
        </p:grpSpPr>
        <p:pic>
          <p:nvPicPr>
            <p:cNvPr id="449" name="شكل بيضاوي 4" descr=""/>
            <p:cNvPicPr/>
            <p:nvPr/>
          </p:nvPicPr>
          <p:blipFill>
            <a:blip r:embed="rId4"/>
            <a:stretch/>
          </p:blipFill>
          <p:spPr>
            <a:xfrm>
              <a:off x="6394320" y="2955960"/>
              <a:ext cx="72576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6556320" y="3060720"/>
              <a:ext cx="406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مربع نص 2"/>
          <p:cNvSpPr/>
          <p:nvPr/>
        </p:nvSpPr>
        <p:spPr>
          <a:xfrm>
            <a:off x="1295280" y="4941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aldehy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مربع نص 3"/>
          <p:cNvSpPr/>
          <p:nvPr/>
        </p:nvSpPr>
        <p:spPr>
          <a:xfrm>
            <a:off x="5148360" y="49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ndalus"/>
                <a:ea typeface="Andalus"/>
              </a:rPr>
              <a:t>k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16:40Z</dcterms:created>
  <dc:creator>admin</dc:creator>
  <dc:description/>
  <dc:language>en-US</dc:language>
  <cp:lastModifiedBy>reem</cp:lastModifiedBy>
  <dcterms:modified xsi:type="dcterms:W3CDTF">2014-10-19T09:42:04Z</dcterms:modified>
  <cp:revision>28</cp:revision>
  <dc:subject/>
  <dc:title>Slide 1</dc:title>
</cp:coreProperties>
</file>