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B08D-3BC3-4D62-8C16-2C5DB96191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D4F-A434-4FC4-8EDC-A9414A19B1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E67-25E6-4D68-9C9B-704BB8D0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F67-33D8-4A2B-90E4-58C4D826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1B1-67BD-43FD-A7CE-9216C1D2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305-3650-4558-A176-5B584F18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998-B011-491E-953C-9F5B2475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54D-D43B-48F1-B2A4-0CE897CF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F54-31E8-4109-AB32-0241E308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85F-B6C9-4744-9AAB-41C8E5DF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EDC-F03A-4A60-B1B6-8252750F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E71-A79F-43D5-9887-DCC3CAA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646-0FE7-40A8-B7D4-85C6FE3D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7AA-8FE8-4977-89D5-701B00F4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76D4-8F74-417F-9FFE-47C1AC6A9B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arnoffphotos.com/nature/algae_cyanobacteria/alg_img/spirogyra_cellswtmk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arab-box.com/photos/00062/kcactxj67cll.jpg&amp;imgrefurl=http://www.etsabya.com/forum.php%3Faction%3Dview%26id%3D491&amp;usg=__11j50TcintSw3FHI1EV0GbnFbko=&amp;h=437&amp;w=605&amp;sz=81&amp;hl=ar&amp;start=9&amp;um=1&amp;itbs=1&amp;tbnid=MpFQ7IiMtaVeVM:&amp;tbnh=98&amp;tbnw=135&amp;prev=/images%3Fq%3DVolvox%26um%3D1%26hl%3Dar%26safe%3Dactive%26sa%3DG%26rlz%3D1R2RNTN_enSA355%26ndsp%3D18%26tbs%3Disch: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Fucus_vesiculosus_closeup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hyperlink" Target="http://farm1.static.flickr.com/52/106677927_b84ba604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faculty.ksu.edu.sa/27771/DocLib3/1diatoms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.sa/imgres?imgurl=http://www.nwnature.net/micro_org/images/diatoms.jpg&amp;imgrefurl=http://www.nwnature.net/micro_org/index.htm&amp;usg=__sv2LM1l3s4AjWyzg-PGi4MA4sxE=&amp;h=360&amp;w=480&amp;sz=117&amp;hl=ar&amp;start=62&amp;um=1&amp;itbs=1&amp;tbnid=CeXnKMRekHC74M:&amp;tbnh=97&amp;tbnw=129&amp;prev=/images%3Fq%3DDiatoms%26start%3D54%26um%3D1%26hl%3Dar%26safe%3Dactive%26sa%3DN%26rlz%3D1R2RNTN_enSA355%26ndsp%3D18%26tbs%3Disch:1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rx.com/droplet/gallery/euglena/euglena12.jpg&amp;imgrefurl=http://www.pirx.com/droplet/gallery/euglena.html&amp;usg=__44rmHrtxhnK8BYLY290vMJyqtxw=&amp;h=425&amp;w=425&amp;sz=39&amp;hl=ar&amp;start=15&amp;um=1&amp;itbs=1&amp;tbnid=9ohZxHIgY4m_5M:&amp;tbnh=126&amp;tbnw=126&amp;prev=/images%3Fq%3DEuglena%26um%3D1%26hl%3Dar%26safe%3Dactive%26sa%3DN%26rlz%3D1R2RNTN_enSA355%26ndsp%3D18%26tbs%3Disch:1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.sa/imgres?imgurl=http://iweb.tntech.edu/mcaprio/euglena.jpg&amp;imgrefurl=http://iweb.tntech.edu/mcaprio/microscope_photos.htm&amp;usg=__ahBr4DiD4NnNh9IoXFYXjNAzRwM=&amp;h=389&amp;w=409&amp;sz=34&amp;hl=ar&amp;start=16&amp;um=1&amp;itbs=1&amp;tbnid=wZiFABRjhgHX-M:&amp;tbnh=119&amp;tbnw=125&amp;prev=/images%3Fq%3DEuglena%26um%3D1%26hl%3Dar%26safe%3Dactive%26sa%3DN%26rlz%3D1R2RNTN_enSA355%26ndsp%3D18%26tbs%3Disch:1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Genus: </a:t>
            </a:r>
            <a:r>
              <a:rPr b="0" i="1" lang="en-US" sz="4400" spc="-1" strike="noStrike">
                <a:solidFill>
                  <a:srgbClr val="33cc33"/>
                </a:solidFill>
                <a:latin typeface="Arial"/>
              </a:rPr>
              <a:t>Spirog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ament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bl-49"/>
          <p:cNvPicPr/>
          <p:nvPr/>
        </p:nvPicPr>
        <p:blipFill>
          <a:blip r:embed="rId1"/>
          <a:stretch/>
        </p:blipFill>
        <p:spPr>
          <a:xfrm>
            <a:off x="971640" y="299736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مشاهدة الصورة بالحجم الكام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133720"/>
            <a:ext cx="369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Genus: </a:t>
            </a:r>
            <a:r>
              <a:rPr b="0" i="1" lang="en-US" sz="4000" spc="-1" strike="noStrike">
                <a:solidFill>
                  <a:srgbClr val="33cc33"/>
                </a:solidFill>
                <a:latin typeface="Arial"/>
              </a:rPr>
              <a:t>Volvox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m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lamydomo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ound in a col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ell has two flag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volvox2c"/>
          <p:cNvPicPr/>
          <p:nvPr/>
        </p:nvPicPr>
        <p:blipFill>
          <a:blip r:embed="rId1"/>
          <a:stretch/>
        </p:blipFill>
        <p:spPr>
          <a:xfrm>
            <a:off x="6084720" y="3141720"/>
            <a:ext cx="2400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kcactxj67c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33720"/>
            <a:ext cx="3516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Phaeophyta: Brown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 alga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nicellular or coloni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rown pi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in size from microscopic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50 meter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Genus: </a:t>
            </a: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Fu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“rockwe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attaches to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surface covered by gelatinous sh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File:Fucus vesiculosus close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34448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of branches (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a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swollen and contain 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goni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emale,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s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heridi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le,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spaceball"/>
          <p:cNvPicPr/>
          <p:nvPr/>
        </p:nvPicPr>
        <p:blipFill>
          <a:blip r:embed="rId1"/>
          <a:stretch/>
        </p:blipFill>
        <p:spPr>
          <a:xfrm>
            <a:off x="2195640" y="1773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spaceball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مشاهدة الصورة بالحجم الكامل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92360" y="3429000"/>
            <a:ext cx="31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ucus male conceptacle"/>
          <p:cNvPicPr/>
          <p:nvPr/>
        </p:nvPicPr>
        <p:blipFill>
          <a:blip r:embed="rId1"/>
          <a:stretch/>
        </p:blipFill>
        <p:spPr>
          <a:xfrm>
            <a:off x="1692360" y="105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fucus-female"/>
          <p:cNvPicPr/>
          <p:nvPr/>
        </p:nvPicPr>
        <p:blipFill>
          <a:blip r:embed="rId2"/>
          <a:stretch/>
        </p:blipFill>
        <p:spPr>
          <a:xfrm>
            <a:off x="1476360" y="378936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ucus_male"/>
          <p:cNvPicPr/>
          <p:nvPr/>
        </p:nvPicPr>
        <p:blipFill>
          <a:blip r:embed="rId3"/>
          <a:stretch/>
        </p:blipFill>
        <p:spPr>
          <a:xfrm>
            <a:off x="5219640" y="386064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fucus"/>
          <p:cNvPicPr/>
          <p:nvPr/>
        </p:nvPicPr>
        <p:blipFill>
          <a:blip r:embed="rId4"/>
          <a:stretch/>
        </p:blipFill>
        <p:spPr>
          <a:xfrm>
            <a:off x="4356000" y="54936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hodophyta: Red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alga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d pi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hycobil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mult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in warm marin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ttached, free-floating, filament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parenchymatous (flesh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hrysophy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o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 well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nthophyll pigments (golden-br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ard cell wall made of silic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979640" y="10526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75% of the world’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al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ood source of marine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ic, photosynthetic (autotro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oms can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n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ila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symm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1055520" cy="1560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22748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مشاهدة الصورة بالحجم الكام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620640"/>
            <a:ext cx="3567240" cy="274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iatom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3645000"/>
            <a:ext cx="37684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Euglenophy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le (two flagel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reshwater 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ell wall component: protein (flex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Genus </a:t>
            </a:r>
            <a:r>
              <a:rPr b="0" i="1" lang="en-US" sz="4000" spc="-1" strike="noStrike">
                <a:solidFill>
                  <a:srgbClr val="cc9900"/>
                </a:solidFill>
                <a:latin typeface="Arial"/>
              </a:rPr>
              <a:t>Eugle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euglena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125360"/>
            <a:ext cx="2278080" cy="227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uglen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500280"/>
            <a:ext cx="2550960" cy="242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euglena"/>
          <p:cNvPicPr/>
          <p:nvPr/>
        </p:nvPicPr>
        <p:blipFill>
          <a:blip r:embed="rId5"/>
          <a:stretch/>
        </p:blipFill>
        <p:spPr>
          <a:xfrm>
            <a:off x="4500720" y="3141720"/>
            <a:ext cx="39448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types of alg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ament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YPE OF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8-03x-EuglenaPhoto"/>
          <p:cNvPicPr/>
          <p:nvPr/>
        </p:nvPicPr>
        <p:blipFill>
          <a:blip r:embed="rId1"/>
          <a:stretch/>
        </p:blipFill>
        <p:spPr>
          <a:xfrm>
            <a:off x="900000" y="1197000"/>
            <a:ext cx="2775240" cy="20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8-23a-VolvoxPhoto"/>
          <p:cNvPicPr/>
          <p:nvPr/>
        </p:nvPicPr>
        <p:blipFill>
          <a:blip r:embed="rId2"/>
          <a:stretch/>
        </p:blipFill>
        <p:spPr>
          <a:xfrm>
            <a:off x="4427640" y="1052640"/>
            <a:ext cx="3786120" cy="2338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8-20x2-KelpForest"/>
          <p:cNvPicPr/>
          <p:nvPr/>
        </p:nvPicPr>
        <p:blipFill>
          <a:blip r:embed="rId3"/>
          <a:stretch/>
        </p:blipFill>
        <p:spPr>
          <a:xfrm>
            <a:off x="812880" y="3938760"/>
            <a:ext cx="3378240" cy="2462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SPIRO1"/>
          <p:cNvPicPr/>
          <p:nvPr/>
        </p:nvPicPr>
        <p:blipFill>
          <a:blip r:embed="rId4"/>
          <a:stretch/>
        </p:blipFill>
        <p:spPr>
          <a:xfrm>
            <a:off x="4572000" y="3933720"/>
            <a:ext cx="3935520" cy="2495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1551600" y="34290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508720" y="3573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5222520" y="64911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amen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695960" y="64911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PHYLUM BA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-STORAGE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1810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oday’s lab, we will look at algal    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hlorophyta: Green Alg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alga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found in fres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chlorophyl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energy as starch (carbohyd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made of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Genus: </a:t>
            </a:r>
            <a:r>
              <a:rPr b="0" i="1" lang="en-US" sz="4400" spc="-1" strike="noStrike">
                <a:solidFill>
                  <a:srgbClr val="33cc33"/>
                </a:solidFill>
                <a:latin typeface="Arial"/>
              </a:rPr>
              <a:t>Chlamydomo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le, unicellular 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hlamydomonas02"/>
          <p:cNvPicPr/>
          <p:nvPr/>
        </p:nvPicPr>
        <p:blipFill>
          <a:blip r:embed="rId1"/>
          <a:stretch/>
        </p:blipFill>
        <p:spPr>
          <a:xfrm>
            <a:off x="1692360" y="2492280"/>
            <a:ext cx="2857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hlamydomonas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6:28:41Z</dcterms:created>
  <dc:creator>User</dc:creator>
  <dc:description/>
  <dc:language>en-US</dc:language>
  <cp:lastModifiedBy>najla</cp:lastModifiedBy>
  <dcterms:modified xsi:type="dcterms:W3CDTF">2014-11-26T05:00:44Z</dcterms:modified>
  <cp:revision>11</cp:revision>
  <dc:subject/>
  <dc:title>Alga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