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whoosh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334F-B1AD-43FE-B9BA-86D28E1A6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2B12-7896-42B8-BBBC-1D3ACDAB9CEB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F32B-5349-462F-973C-E55E33513CC9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5A90-D1BE-428E-B97C-BDFE7581462F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A50B-67E0-4525-BF44-2BCB019E2206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F66-BC87-46BD-89AE-A8B7039D0BCE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3B61-F2A1-4F39-BA6A-2C717EFBECD4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5D12-96FB-4453-A4D7-4843B84156C3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0442-D463-41DB-876A-FDCD2451638A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6173-8A39-4F26-95BC-B993253BFADB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E95B-1789-4118-982D-04942654A949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DEFD-FBA5-4EC2-A608-CACCFD921403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0C3D-A794-49BC-9025-CB33F7889EA6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9824-B72E-4422-A8D0-A63F75AE148E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F7F8-D776-4946-B481-58A3522A4D03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DBDB-7069-4213-95F9-1E7613CA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3830-A940-4A68-87D5-236C1BCC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94DC-DF37-41FB-B1B3-BF255F9B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211F-E9C1-484D-A9C6-05B4B671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D071-90F5-4A1D-A9D6-FF959FBA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E1C2-F7C3-4BE7-813A-8CAFF24E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B32D-0399-4521-8986-B3FB85BD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128C-F4C7-4084-9496-0F0E346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287B-E9F0-4810-98C6-9E9FF2E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FE09-1AE4-46C8-BEA4-FE70B612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4FE2-8517-4791-872F-93465778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45F3-3975-4B59-AEBE-AF488B61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B7D-2F38-41D9-A82B-5603F4AB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FDA0-5FE2-492E-B15A-5325C78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6EA5-4CCF-433D-BAC3-3FAC553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7F9D-12E9-49CA-B7C9-60A48756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3AA5-AFD0-43BA-9BF2-0BA75F9F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603A-6322-4C1F-AF97-4E73988D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42574-FB72-4554-9146-0597B3A3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A14C-CD22-4D75-AFA5-976E6628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9347-8A56-4D87-A217-329625E2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B041-802E-42EA-8FDF-769EA3F8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310A-3802-4E30-999B-145CD7B0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DF21-FDA0-4E27-B0F6-2C514647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6F8C-7E3E-42E9-A5E7-5B9D29C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3262-7117-4D1B-B74A-9CC7E43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3C67-B15A-49D7-A8F9-A46F6624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EABF-583E-4ED6-9200-C03EC869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C83B-7B0A-49A9-B99B-580B79BE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AF22-C7E7-44F9-A057-3F10E318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6668-3E6B-433B-AC0E-B0FC7911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4411-D50B-454B-870C-69DD825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8C27-00CA-4D3E-91C8-4DBD5D14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E5A3-8FE5-4508-B8E1-52FC4481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D07F-7273-4C07-946C-1962D25A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1011-BC8D-420D-8B21-414EBAD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D51EC-E80C-4A3D-9CCE-9CAA3D28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00B8-EC31-4F53-9626-287135F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C097-7F02-4FE9-AD9A-D30B245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67F69-6EC6-449D-92DB-C02919BE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32A7-3DE8-40D4-B5FF-F2891465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EEEB-FC83-4DD0-B754-7C0020C2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7256-6382-4C18-B2FC-8181FF40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C4EB-4260-47C2-8E91-F6A12B06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7182-480E-4DA8-B584-35A20441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C6D8-2716-4C3A-B7C9-2125F52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482B-4C28-432D-BBB5-F201A05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395F-DD22-40B4-87DF-8ADCC9D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B0A6-9308-43D2-BA5B-B2857F404E8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FEA1-2133-411F-B795-5FC81600D2E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900B-58E9-433E-9F28-19DBAE081EE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1425-00E7-4E2F-A73E-37D25D7A9B3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Horizontal Scroll 3"/>
          <p:cNvSpPr/>
          <p:nvPr/>
        </p:nvSpPr>
        <p:spPr>
          <a:xfrm>
            <a:off x="228600" y="1600200"/>
            <a:ext cx="8534520" cy="38098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I. Alkylating Agents &amp; Related Compounds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7320" y="220680"/>
            <a:ext cx="83214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nical uses of Cyclophoshamid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2" name="Picture 3" descr="HM00309_"/>
          <p:cNvPicPr/>
          <p:nvPr/>
        </p:nvPicPr>
        <p:blipFill>
          <a:blip r:embed="rId1"/>
          <a:stretch/>
        </p:blipFill>
        <p:spPr>
          <a:xfrm>
            <a:off x="4876920" y="3041640"/>
            <a:ext cx="3504960" cy="28256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4876920" y="4098960"/>
            <a:ext cx="3886200" cy="1312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Ovarian cancer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5" descr="HM00061_"/>
          <p:cNvPicPr/>
          <p:nvPr/>
        </p:nvPicPr>
        <p:blipFill>
          <a:blip r:embed="rId2"/>
          <a:stretch/>
        </p:blipFill>
        <p:spPr>
          <a:xfrm>
            <a:off x="380880" y="2971800"/>
            <a:ext cx="292284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76320" y="5614920"/>
            <a:ext cx="3809880" cy="1068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ung cancer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343400" y="4906800"/>
            <a:ext cx="4648320" cy="1625400"/>
          </a:xfrm>
          <a:prstGeom prst="rect">
            <a:avLst/>
          </a:prstGeom>
          <a:solidFill>
            <a:srgbClr val="f8e3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Comic Sans MS"/>
              </a:rPr>
              <a:t>Breast Cancer   </a:t>
            </a:r>
            <a:r>
              <a:rPr b="1" lang="en-US" sz="2400" spc="-1" strike="noStrike">
                <a:solidFill>
                  <a:srgbClr val="00194d"/>
                </a:solidFill>
                <a:latin typeface="Comic Sans MS"/>
              </a:rPr>
              <a:t> (CMF) Cyclophoshamide,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4d"/>
                </a:solidFill>
                <a:latin typeface="Comic Sans MS"/>
              </a:rPr>
              <a:t>methotrexate &amp; fluorouraci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2133720" y="1752480"/>
            <a:ext cx="4952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odgkin disease &amp; other lymphoma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Other clinical uses of Cyclophosham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yclophosphamide is a poten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mmuno-suppressa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rug used i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) control of organ rejection aft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pla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b) disorders associated with alter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mmune reactivity such 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tractabl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25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0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25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325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1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325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325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mmon adverse effects of Cyclophospham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3200400"/>
            <a:ext cx="88390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Amenorrhea, testicular atrophy &amp; steril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371600" y="4038480"/>
            <a:ext cx="617220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Bone marrow depressio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28600" y="2209680"/>
            <a:ext cx="8666280" cy="581400"/>
          </a:xfrm>
          <a:prstGeom prst="rect">
            <a:avLst/>
          </a:prstGeom>
          <a:solidFill>
            <a:srgbClr val="c5d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Alopecia, Nausea &amp; Vomiting, diarrhe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28600" y="5029200"/>
            <a:ext cx="8666280" cy="1068840"/>
          </a:xfrm>
          <a:prstGeom prst="rect">
            <a:avLst/>
          </a:prstGeom>
          <a:solidFill>
            <a:srgbClr val="c5d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mic Sans MS"/>
              </a:rPr>
              <a:t>Carcinogenesis may appear years after therap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acute leukemia)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verse effects of Cyclophospham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28600" y="2057400"/>
            <a:ext cx="866628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Characteristic toxicity: Hemorrhagic cystitis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28200" y="3352680"/>
            <a:ext cx="8009640" cy="1068840"/>
          </a:xfrm>
          <a:prstGeom prst="rect">
            <a:avLst/>
          </a:prstGeom>
          <a:solidFill>
            <a:srgbClr val="f5e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It is due to toxic metabolite “acrolein”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in urine        fibrosis of the bladder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80880" y="5094360"/>
            <a:ext cx="8385120" cy="1068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evented by: Proper hydration + IV of mercaptoethane sulfonate </a:t>
            </a:r>
            <a:r>
              <a:rPr b="1" lang="en-US" sz="3200" spc="-1" strike="noStrike">
                <a:solidFill>
                  <a:srgbClr val="2970ff"/>
                </a:solidFill>
                <a:latin typeface="Comic Sans MS"/>
              </a:rPr>
              <a:t>“MESNA”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ight Arrow 1"/>
          <p:cNvSpPr/>
          <p:nvPr/>
        </p:nvSpPr>
        <p:spPr>
          <a:xfrm>
            <a:off x="2286000" y="3935520"/>
            <a:ext cx="977760" cy="33156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4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erile hemorrhagic cystitis due to chemical irritation produced by reactive metabolites of cyclophosphamid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acrolein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ur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n be ameliorated by increasing fluid intake and administering compounds that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lphydryl donor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e.g. NA-2-mercaptoethane sulfonate (MESNA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SNA neutralizes the toxin acrolein, forming a non-toxic compou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hlorambucil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76320" y="15998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n alkylating agent used in treatment of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hronic lymphocytic leukemia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lorambucil causes bone marrow depression and     GI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p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lorambucil is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mutageni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elphala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is used to treat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ltiple myeloma and ovarian canc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al or 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on side effects inclu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, V and oral ulc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M suppression, inclu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creased WBC count causing increased risk of inf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creased platelet count causing increased risk of bl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2-Alkyl sulfonates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Busulfa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usulfa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main pharmacological action of busulfan is myelosuppress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low dosage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granulocy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latel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higher dosage    red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rapeutic u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usulfan is the drug of choice 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hronic granulocytic leuk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Up Arrow 1"/>
          <p:cNvSpPr/>
          <p:nvPr/>
        </p:nvSpPr>
        <p:spPr>
          <a:xfrm rot="10800000">
            <a:off x="4191120" y="2590560"/>
            <a:ext cx="342720" cy="523800"/>
          </a:xfrm>
          <a:prstGeom prst="upArrow">
            <a:avLst>
              <a:gd name="adj1" fmla="val 50000"/>
              <a:gd name="adj2" fmla="val 50004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Up Arrow 3"/>
          <p:cNvSpPr/>
          <p:nvPr/>
        </p:nvSpPr>
        <p:spPr>
          <a:xfrm rot="10800000">
            <a:off x="5257440" y="3733560"/>
            <a:ext cx="343080" cy="523800"/>
          </a:xfrm>
          <a:prstGeom prst="upArrow">
            <a:avLst>
              <a:gd name="adj1" fmla="val 50000"/>
              <a:gd name="adj2" fmla="val 49952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680" y="272520"/>
            <a:ext cx="8596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usulfan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57200" y="1295280"/>
            <a:ext cx="83818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dverse effects: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yelosuppression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, V and diarrhe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rcinogenic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aracteristic toxicity: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lmonary fibrosis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in pigmentation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renal insufficiency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lkylating agents used in cancer chemotherapy include a diverse group of chemicals that have in common the capacity to contribute alkyl groups to DNA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宋体"/>
              </a:rPr>
              <a:t>(alkylation of DNA)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Alkylating agents are CC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, proliferating cells are more sensitive to the dru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70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3-Nitrosoureas </a:t>
            </a:r>
            <a:br>
              <a:rPr sz="66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 include a nitroso (R-NO) group and a urea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armustine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omustin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treptozoc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rmustine and Lomus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5" name="Picture 3" descr="HM00351_"/>
          <p:cNvPicPr/>
          <p:nvPr/>
        </p:nvPicPr>
        <p:blipFill>
          <a:blip r:embed="rId1"/>
          <a:stretch/>
        </p:blipFill>
        <p:spPr>
          <a:xfrm>
            <a:off x="2209680" y="1714680"/>
            <a:ext cx="3581640" cy="4533840"/>
          </a:xfrm>
          <a:prstGeom prst="rect">
            <a:avLst/>
          </a:prstGeom>
          <a:ln w="0">
            <a:noFill/>
          </a:ln>
        </p:spPr>
      </p:pic>
      <p:sp>
        <p:nvSpPr>
          <p:cNvPr id="276" name="Oval 4"/>
          <p:cNvSpPr/>
          <p:nvPr/>
        </p:nvSpPr>
        <p:spPr>
          <a:xfrm>
            <a:off x="380880" y="1828800"/>
            <a:ext cx="8534520" cy="1066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: Treatment of tumors of brain &amp; meninges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1371600" y="3124080"/>
            <a:ext cx="3733920" cy="251460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lipid solubility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oss the BBB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5638680" y="3581280"/>
            <a:ext cx="3276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y have a sever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umul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epressive effect on the BM that starts 3-6 weeks after initiation of treatmen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reptozoc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380880" y="1828800"/>
            <a:ext cx="8534520" cy="1066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: Treatment of insulinoma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1" name="Picture 4" descr="177687"/>
          <p:cNvPicPr/>
          <p:nvPr/>
        </p:nvPicPr>
        <p:blipFill>
          <a:blip r:embed="rId1"/>
          <a:srcRect l="0" t="0" r="0" b="4798"/>
          <a:stretch/>
        </p:blipFill>
        <p:spPr>
          <a:xfrm>
            <a:off x="5029200" y="3048120"/>
            <a:ext cx="3200400" cy="3216240"/>
          </a:xfrm>
          <a:prstGeom prst="rect">
            <a:avLst/>
          </a:prstGeom>
          <a:ln w="0">
            <a:noFill/>
          </a:ln>
        </p:spPr>
      </p:pic>
      <p:sp>
        <p:nvSpPr>
          <p:cNvPr id="282" name="Right Arrow 3"/>
          <p:cNvSpPr/>
          <p:nvPr/>
        </p:nvSpPr>
        <p:spPr>
          <a:xfrm>
            <a:off x="380880" y="3733920"/>
            <a:ext cx="4267440" cy="28191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xic to the </a:t>
            </a:r>
            <a:r>
              <a:rPr b="1" lang="el-GR" sz="28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ells of islets of Langerha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sed in medical research to produce an animal model for Type 1 diabetes in large dose as well as Type 2 diabetes with multiple low dos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70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Platinum complex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isplat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arboplat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xaliplat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isplat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1240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isplatin is a water-soluble complex containing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ntral platinum ato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kylating agents : causing crosslinking of DNA, which triggers apoptosis(programmed cell death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phrotoxic,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nal function is assesse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creatinine cleara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nd strict regimens of hydration and diuresis must be initiat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isplat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one of the most emetogenic chemotherapy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ffective against testicular canc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6286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331308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e5e5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ISPLAT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203640" y="2781360"/>
            <a:ext cx="2232000" cy="136836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508720" y="249228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5148360" y="3860640"/>
            <a:ext cx="110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24360" y="306864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2843280" y="24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C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556000" y="38307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1619280" y="5126040"/>
            <a:ext cx="6265800" cy="52056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Cisdiaminedichloroplatinum II, CDDP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Garamond"/>
              </a:rPr>
              <a:t>Mechanism of antitumour activ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loride atom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replaced by water forming a positively charged hydrated species that form strong covalent bonds with electron rich atoms in nucleic acids and proteins resulting i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NA interstrand cross-li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NA intrastrand cross-li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NA-protein cross-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nofunctional and Bifunctional alkyl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24000" y="16286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331308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e5e5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ISPLAT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203640" y="2781360"/>
            <a:ext cx="2232000" cy="136836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5508720" y="249228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148360" y="3860640"/>
            <a:ext cx="110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924360" y="306864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843280" y="24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556000" y="38307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619280" y="5126040"/>
            <a:ext cx="6265800" cy="52056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Cisdiaminedichloroplatinum II, CDDP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11280" y="3933720"/>
            <a:ext cx="8272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+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2843280" y="2637000"/>
            <a:ext cx="83016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+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10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1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DDP-INDUCED ORGAN TOXICIT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  Neuro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  Cardiomyopat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  Hepato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1098720" y="2205000"/>
            <a:ext cx="295092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rotoxicity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lkylating agents are used in combination with other agents to treat lymphatic and solid tumo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Alkylating agents are mutageni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, and carcinogenic (may lead to acute leukemi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宋体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宋体"/>
              </a:rPr>
              <a:t>Resistanc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 may occur during treatment with alkylating ag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CLINICAL TREATMENT OF CDDP-INDUCED NEPHROTOXICITY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nsive hydration and diur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Dosing according to kidney fun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B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Serum creatin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Creatinine clea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Avoiding concomitant use of 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phrotoxic dru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- Employing New Analog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Carboplat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Oxaliplat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114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Severe N/V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 Dose-relat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phrotoxicity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Rx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ydration,  mannito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 Neurotoxic; periphe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uritis +Ototoxicit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. Les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yelotox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457200" y="380880"/>
            <a:ext cx="777240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Broad-spectrum agents, fighting solid tumors: breast, ovarian, testicular, lung, bladder cancer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4419720" y="1371600"/>
            <a:ext cx="4419360" cy="552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arboplati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 Much less N/V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 Much less nephrotoxicity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 Less risk of peripheral neuropathy , ototoxicity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4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It is more myelotoxic dose-limited toxicity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od cells decrease   dramatically, sometimes as low as 10% of its usual production levels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new member of this class with better pharmacological profile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Used in the treatment of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orectal cancer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ith other anticancer drug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2133720" y="523800"/>
            <a:ext cx="47242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xaliplatin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17680" y="-31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Dacarbazin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04920" y="1219320"/>
            <a:ext cx="853416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elong to Thiazin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prodrug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activated in the liver, and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resulting compound is cleaved in the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rget cell to release an alkylating 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rivativ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reatment of melanomas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04920" y="45054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mon adverse effects: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re nausea &amp; vomiting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yelotoxicity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patotoxicity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320" y="42552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esistance to alkylating agen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242712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creased DNA repair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creased permeability of the dru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creased conjugation with thiols (trapping agents)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C:\Users\Public\Pictures\Sample Pictures\Chrysanthemum.jpg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3248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3048120" y="50292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Vladimir Script"/>
              </a:rPr>
              <a:t>Thank you</a:t>
            </a:r>
            <a:endParaRPr b="1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20680"/>
            <a:ext cx="859644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ajor classes of alkylating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33520" y="1981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itrogen mustard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48640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itrosoureas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61400" y="2595600"/>
            <a:ext cx="353664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yclophosphamide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chlorethamine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hlorambuci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lphalan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638680" y="2514600"/>
            <a:ext cx="232092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armustine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mustine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reptozoci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70720" y="465768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kyl sulfonate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38080" y="5257800"/>
            <a:ext cx="1957680" cy="61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usulfa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719960" y="473400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lated agents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99080" y="5334120"/>
            <a:ext cx="49860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latinium analogues; Cisplatin,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arboplatin, Oxaliplati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iazines; Dacarbazine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MOA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of alkylating ag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4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A nucleotide sequence involving adenine, cytosine, guanine and thymine"/>
          <p:cNvPicPr/>
          <p:nvPr/>
        </p:nvPicPr>
        <p:blipFill>
          <a:blip r:embed="rId2"/>
          <a:stretch/>
        </p:blipFill>
        <p:spPr>
          <a:xfrm>
            <a:off x="696960" y="1600200"/>
            <a:ext cx="7772400" cy="46483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5704560" y="4038480"/>
            <a:ext cx="195480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trastrand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871800" y="3048120"/>
            <a:ext cx="100368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os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Freeform 11"/>
          <p:cNvSpPr/>
          <p:nvPr/>
        </p:nvSpPr>
        <p:spPr>
          <a:xfrm>
            <a:off x="5029200" y="4479840"/>
            <a:ext cx="495360" cy="397080"/>
          </a:xfrm>
          <a:custGeom>
            <a:avLst/>
            <a:gdLst>
              <a:gd name="textAreaLeft" fmla="*/ 0 w 495360"/>
              <a:gd name="textAreaRight" fmla="*/ 495720 w 4953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312" h="250">
                <a:moveTo>
                  <a:pt x="0" y="55"/>
                </a:moveTo>
                <a:cubicBezTo>
                  <a:pt x="16" y="50"/>
                  <a:pt x="84" y="0"/>
                  <a:pt x="110" y="27"/>
                </a:cubicBezTo>
                <a:cubicBezTo>
                  <a:pt x="136" y="54"/>
                  <a:pt x="124" y="188"/>
                  <a:pt x="158" y="219"/>
                </a:cubicBezTo>
                <a:cubicBezTo>
                  <a:pt x="192" y="250"/>
                  <a:pt x="280" y="213"/>
                  <a:pt x="312" y="211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Freeform 11"/>
          <p:cNvSpPr/>
          <p:nvPr/>
        </p:nvSpPr>
        <p:spPr>
          <a:xfrm rot="19902000">
            <a:off x="3276360" y="327636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12" h="250">
                <a:moveTo>
                  <a:pt x="0" y="55"/>
                </a:moveTo>
                <a:cubicBezTo>
                  <a:pt x="16" y="50"/>
                  <a:pt x="84" y="0"/>
                  <a:pt x="110" y="27"/>
                </a:cubicBezTo>
                <a:cubicBezTo>
                  <a:pt x="136" y="54"/>
                  <a:pt x="124" y="188"/>
                  <a:pt x="158" y="219"/>
                </a:cubicBezTo>
                <a:cubicBezTo>
                  <a:pt x="192" y="250"/>
                  <a:pt x="280" y="213"/>
                  <a:pt x="312" y="211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56386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lkylating agen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m covalent bonds between alkyl groups of the drug and N-7 of guanine bases of D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rastran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os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n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DN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terferes with transcription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ops replication of DN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Inhibit cell divis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8" descr="bifunctional alkylating copy"/>
          <p:cNvPicPr/>
          <p:nvPr/>
        </p:nvPicPr>
        <p:blipFill>
          <a:blip r:embed="rId1"/>
          <a:stretch/>
        </p:blipFill>
        <p:spPr>
          <a:xfrm>
            <a:off x="6019920" y="22860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228" name="Down Arrow 1"/>
          <p:cNvSpPr/>
          <p:nvPr/>
        </p:nvSpPr>
        <p:spPr>
          <a:xfrm>
            <a:off x="2505240" y="1812960"/>
            <a:ext cx="484200" cy="7300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Down Arrow 1"/>
          <p:cNvSpPr/>
          <p:nvPr/>
        </p:nvSpPr>
        <p:spPr>
          <a:xfrm>
            <a:off x="2514600" y="3657600"/>
            <a:ext cx="484200" cy="103500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5562720" y="5722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NA is unable to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plicate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1.Nitrogen mustard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itrogen mustards are related to the 'mustard gas' used during the first world war and caused severe myelosuppr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yclophosphamid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yclophosphamide is the most commonly used alkylating ag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yclophosphamid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odru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well absorbed oral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is usually given orally or by IV or I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tivated  by the  liver microsomal cytochrome P 450 to the cytotoxic  metabolites;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sphoramide mustard and acrole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action of phosphoramide mustard with DNA is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ytotoxic ste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Causes myelosuppression (especially lymphocy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25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25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25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25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25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25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188640"/>
            <a:ext cx="8464320" cy="725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Cyclophosphamide Metabo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37" name="شكل بيضاوي 6"/>
          <p:cNvSpPr/>
          <p:nvPr/>
        </p:nvSpPr>
        <p:spPr>
          <a:xfrm>
            <a:off x="0" y="6072120"/>
            <a:ext cx="1857240" cy="785880"/>
          </a:xfrm>
          <a:prstGeom prst="ellipse">
            <a:avLst/>
          </a:prstGeom>
          <a:noFill/>
          <a:ln w="25560">
            <a:solidFill>
              <a:srgbClr val="9879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سهم إلى اليمين 7"/>
          <p:cNvSpPr/>
          <p:nvPr/>
        </p:nvSpPr>
        <p:spPr>
          <a:xfrm>
            <a:off x="1928880" y="628668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82d75"/>
          </a:solidFill>
          <a:ln w="25560">
            <a:solidFill>
              <a:srgbClr val="9879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مستطيل 8" descr=""/>
          <p:cNvPicPr/>
          <p:nvPr/>
        </p:nvPicPr>
        <p:blipFill>
          <a:blip r:embed="rId2"/>
          <a:stretch/>
        </p:blipFill>
        <p:spPr>
          <a:xfrm>
            <a:off x="3571920" y="5913360"/>
            <a:ext cx="4829040" cy="963720"/>
          </a:xfrm>
          <a:prstGeom prst="rect">
            <a:avLst/>
          </a:prstGeom>
          <a:ln w="0">
            <a:noFill/>
          </a:ln>
        </p:spPr>
      </p:pic>
      <p:sp>
        <p:nvSpPr>
          <p:cNvPr id="240" name="Oval 7"/>
          <p:cNvSpPr/>
          <p:nvPr/>
        </p:nvSpPr>
        <p:spPr>
          <a:xfrm>
            <a:off x="34920" y="3573360"/>
            <a:ext cx="180036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ssiouni</dc:creator>
  <dc:description/>
  <dc:language>en-US</dc:language>
  <cp:lastModifiedBy>User</cp:lastModifiedBy>
  <dcterms:modified xsi:type="dcterms:W3CDTF">2015-02-24T05:07:21Z</dcterms:modified>
  <cp:revision>3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