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whoosh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6407-BEA3-43F5-916A-C84937F1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9180-671A-4B42-A562-0EBE543E89B9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B26-9106-4900-BB6B-771978E873EF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F29E-1B28-454C-9CA8-C43DECEC0DFD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6D02-91CE-496B-9AEE-A899F0400DE2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02A4-1FA0-4DC3-B60E-567A1310C6F6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7BC-3E69-4073-9CE5-718CDA30EAB2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34FC-421F-4E4F-9512-0B7A4423F5E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1AC0-5ACC-4FF9-9177-33AE14158630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67C-CD37-46B0-9531-F9D85A2CAB2B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339-327D-4DD6-A8AA-8EDBBBC2ECA5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A7DA-0D60-46CA-AE02-E503DC3A8018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F25-C28F-4722-A78F-FAF9E83DA93F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F614-3E6E-48B1-AC46-2F8DFA32F034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B94-67C1-4B9E-8A2D-6D1196B56C6E}" type="slidenum">
              <a:rPr b="1" lang="en-US" sz="1200" spc="-1" strike="noStrike">
                <a:solidFill>
                  <a:srgbClr val="ffffff"/>
                </a:solidFill>
                <a:latin typeface="Garamond"/>
                <a:ea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3A59-92DC-415A-AFC8-80299F04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95EFA-8CCD-49D2-8951-BEB06AC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81DFA-C695-4AC8-B58A-C844C5D6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2A928-5167-4505-A960-EF6BC166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99AA-2CC2-430A-AF54-9DF7FA89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9745-2A8C-41CC-A6CE-772F98BA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867-34A0-4868-B0F7-33F29688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D8A7-F182-4C2F-92A7-4007412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536-B09C-4240-8D3C-F9602A5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07F-8F01-416A-B6C9-3638DC9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460A-9908-404E-85EB-F7E0EE7A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27D51-34FA-4134-8D6E-3BAEF63A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153A-D0A7-495E-9579-DE1380F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F66C-4929-4DEB-AF7C-3551F15B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D87A-86AD-4BCE-BB64-485C495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C634-E8D0-425B-8AD6-4992AA2C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C481-D6A8-4A09-B176-06DD57B8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F766-718A-4FB1-9230-99DB7760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B191-AF2D-4DAC-A83D-BC6FB6E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B048-35E4-4806-9DC8-8CDE77F0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5486-B9F4-46C8-874F-A2596EB8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660D-F35D-4DF7-A8D0-08EBEA94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67A6-2278-4339-B612-9EDD3FB9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C2AB-5147-4571-95DC-8595A7C8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8616D-FAA3-46CF-A1A3-3A4A1C0D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781E-BAEF-429A-A68F-85C17E3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06FF-A43B-45B1-9E5C-FFA687C1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5F5F-78ED-44E4-A653-84AA588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0CC0-005C-41C0-B929-9B0CD37C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28F5-FFA6-4F83-9146-5A5ACFD6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F63A-C42C-4E76-9805-E3C72A50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C4E3-2AFB-40DE-9CDD-157AD575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EF32-686B-4CBB-8FCA-867607F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5996-4D08-41E7-84B0-CF0D6A2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20F5-2B18-4DE2-81F2-A784566B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08D5-0FF1-498F-AB7E-025454A5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F81A8-3D28-4A04-9BA4-E6A0B01B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5A56-F44D-4C75-B9C8-48B189B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71788-3579-4EDC-BB39-052DC4D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F5572-32A3-4FCC-9F7B-AB78176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1BC0-FDAC-4D34-8C8D-8856CDB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DD85-B691-44C7-AE50-F8DEDCF7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EADA-3A47-40CB-BD3F-4E857A35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3C75-4406-4418-8CF8-D1099EF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523B-CA6F-48C5-9811-523AB307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1DAC-2B09-40CF-9F08-B0A3DF8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CDBD-4BBA-4C17-86F9-2F0C634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5EAFB-4EC4-4F15-BD4D-104E0DA5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3BFA-DEA4-44B4-9335-110781C2BE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31D-8474-47EE-AFD3-877AD4C557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CCC-6B03-4426-B1AB-9770E312007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2610-C734-4169-AC4E-F5D55348D13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Horizontal Scroll 3"/>
          <p:cNvSpPr/>
          <p:nvPr/>
        </p:nvSpPr>
        <p:spPr>
          <a:xfrm>
            <a:off x="228600" y="1600200"/>
            <a:ext cx="8534520" cy="380988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I. Alkylating Agents &amp; Related Compounds</a:t>
            </a:r>
            <a:endParaRPr b="1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7320" y="220680"/>
            <a:ext cx="83214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linical uses of Cyclophoshamid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42" name="Picture 3" descr="HM00309_"/>
          <p:cNvPicPr/>
          <p:nvPr/>
        </p:nvPicPr>
        <p:blipFill>
          <a:blip r:embed="rId1"/>
          <a:stretch/>
        </p:blipFill>
        <p:spPr>
          <a:xfrm>
            <a:off x="4876920" y="3041640"/>
            <a:ext cx="3504960" cy="2825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4876920" y="4098960"/>
            <a:ext cx="3886200" cy="13129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Ovarian cancer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5" descr="HM00061_"/>
          <p:cNvPicPr/>
          <p:nvPr/>
        </p:nvPicPr>
        <p:blipFill>
          <a:blip r:embed="rId2"/>
          <a:stretch/>
        </p:blipFill>
        <p:spPr>
          <a:xfrm>
            <a:off x="380880" y="2971800"/>
            <a:ext cx="292284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76320" y="5614920"/>
            <a:ext cx="3809880" cy="1068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ung cancer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4343400" y="4906800"/>
            <a:ext cx="4648320" cy="1625400"/>
          </a:xfrm>
          <a:prstGeom prst="rect">
            <a:avLst/>
          </a:prstGeom>
          <a:solidFill>
            <a:srgbClr val="f8e3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Comic Sans MS"/>
              </a:rPr>
              <a:t>Breast Cancer   </a:t>
            </a:r>
            <a:r>
              <a:rPr b="1" lang="en-US" sz="2400" spc="-1" strike="noStrike">
                <a:solidFill>
                  <a:srgbClr val="00194d"/>
                </a:solidFill>
                <a:latin typeface="Comic Sans MS"/>
              </a:rPr>
              <a:t> (CMF) Cyclophoshamide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4d"/>
                </a:solidFill>
                <a:latin typeface="Comic Sans MS"/>
              </a:rPr>
              <a:t>methotrexate &amp; fluorouraci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1"/>
          <p:cNvSpPr/>
          <p:nvPr/>
        </p:nvSpPr>
        <p:spPr>
          <a:xfrm>
            <a:off x="2133720" y="1752480"/>
            <a:ext cx="4952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Hodgkin disease &amp; other lymphoma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Other clinical uses of Cyclophos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yclophosphamide is a poten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mmuno-suppressan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rug used i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a) control of organ rejection aft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pla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b) disorders associated with altere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mmune reactivity such a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tractabl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heumatoid arthrit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25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0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25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25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1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325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325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ommon adverse effects of Cyclophosp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3200400"/>
            <a:ext cx="88390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Amenorrhea, testicular atrophy &amp; steril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371600" y="4038480"/>
            <a:ext cx="61722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Bone marrow depress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228600" y="2209680"/>
            <a:ext cx="8666280" cy="581400"/>
          </a:xfrm>
          <a:prstGeom prst="rect">
            <a:avLst/>
          </a:prstGeom>
          <a:solidFill>
            <a:srgbClr val="c5d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Alopecia, Nausea &amp; Vomiting, diarrhe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28600" y="5029200"/>
            <a:ext cx="8666280" cy="1068840"/>
          </a:xfrm>
          <a:prstGeom prst="rect">
            <a:avLst/>
          </a:prstGeom>
          <a:solidFill>
            <a:srgbClr val="c5dd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Comic Sans MS"/>
              </a:rPr>
              <a:t>Carcinogenesis may appear years after therapy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acute leukemia)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75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75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75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7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Adverse effects of Cyclophospham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28600" y="2057400"/>
            <a:ext cx="8666280" cy="550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haracteristic toxicity: Hemorrhagic cystitis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28200" y="3352680"/>
            <a:ext cx="8009640" cy="1068840"/>
          </a:xfrm>
          <a:prstGeom prst="rect">
            <a:avLst/>
          </a:prstGeom>
          <a:solidFill>
            <a:srgbClr val="f5e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It is due to toxic metabolite “acrolein”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4d"/>
                </a:solidFill>
                <a:latin typeface="Comic Sans MS"/>
              </a:rPr>
              <a:t>in urine        fibrosis of the bladder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380880" y="5094360"/>
            <a:ext cx="8385120" cy="1068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revented by: Proper hydration + IV of mercaptoethane sulfonate </a:t>
            </a:r>
            <a:r>
              <a:rPr b="1" lang="en-US" sz="3200" spc="-1" strike="noStrike">
                <a:solidFill>
                  <a:srgbClr val="2970ff"/>
                </a:solidFill>
                <a:latin typeface="Comic Sans MS"/>
              </a:rPr>
              <a:t>“MESNA”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Right Arrow 1"/>
          <p:cNvSpPr/>
          <p:nvPr/>
        </p:nvSpPr>
        <p:spPr>
          <a:xfrm>
            <a:off x="2286000" y="3935520"/>
            <a:ext cx="977760" cy="331560"/>
          </a:xfrm>
          <a:prstGeom prst="rightArrow">
            <a:avLst>
              <a:gd name="adj1" fmla="val 50000"/>
              <a:gd name="adj2" fmla="val 50064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4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erile hemorrhagic cystitis due to chemical irritation produced by reactive metabolites of cyclophosphamid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(acrolein)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ur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an be ameliorated by increasing fluid intake and administering compounds that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ulphydryl donor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, e.g. NA-2-mercaptoethane sulfonate (MESNA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ESNA neutralizes the toxin acrolein, forming a non-toxic compou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hlorambucil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76320" y="15998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n alkylating agent used in treatment of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hronic lymphocytic leukemia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lorambucil causes bone marrow depression and     GIT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upse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lorambucil is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mutageni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Melphala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used to treat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multiple myeloma and ovarian can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ral or 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on side effects inclu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, V and oral ulc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M suppression, inclu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reased WBC count causing increased risk of inf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Decreased platelet count causing increased risk of blee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2-Alkyl sulfonates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Busulfa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usulfa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main pharmacological action of busulfan is myelosuppress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low dosage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granulocytes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latele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 higher dosage    re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rapeutic u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sulfan is the drug of choice in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hronic granulocytic 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Up Arrow 1"/>
          <p:cNvSpPr/>
          <p:nvPr/>
        </p:nvSpPr>
        <p:spPr>
          <a:xfrm rot="10800000">
            <a:off x="4191120" y="2590560"/>
            <a:ext cx="342720" cy="52380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Up Arrow 3"/>
          <p:cNvSpPr/>
          <p:nvPr/>
        </p:nvSpPr>
        <p:spPr>
          <a:xfrm rot="10800000">
            <a:off x="5257440" y="3733560"/>
            <a:ext cx="343080" cy="523800"/>
          </a:xfrm>
          <a:prstGeom prst="upArrow">
            <a:avLst>
              <a:gd name="adj1" fmla="val 50000"/>
              <a:gd name="adj2" fmla="val 49952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8596080" cy="14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Busulfan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457200" y="1295280"/>
            <a:ext cx="83818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dverse effects: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elosuppression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, V and diarrhe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rcinogenic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haracteristic toxicity: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ulmonary fibrosis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in pigmentation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SzPct val="7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renal insufficienc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lkylating agents used in cancer chemotherapy include a diverse group of chemicals that have in common the capacity to contribute alkyl groups to DNA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宋体"/>
              </a:rPr>
              <a:t>(alkylation of DNA)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Alkylating agents are CC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, proliferating cells are more sensitive to the dru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270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3-Nitrosoureas </a:t>
            </a:r>
            <a:br>
              <a:rPr sz="66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 include a nitroso (R-NO) group and a urea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armustine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omustin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Streptozoc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rmustine and Lomust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75" name="Picture 3" descr="HM00351_"/>
          <p:cNvPicPr/>
          <p:nvPr/>
        </p:nvPicPr>
        <p:blipFill>
          <a:blip r:embed="rId1"/>
          <a:stretch/>
        </p:blipFill>
        <p:spPr>
          <a:xfrm>
            <a:off x="2209680" y="1714680"/>
            <a:ext cx="3581640" cy="4533840"/>
          </a:xfrm>
          <a:prstGeom prst="rect">
            <a:avLst/>
          </a:prstGeom>
          <a:ln w="0">
            <a:noFill/>
          </a:ln>
        </p:spPr>
      </p:pic>
      <p:sp>
        <p:nvSpPr>
          <p:cNvPr id="276" name="Oval 4"/>
          <p:cNvSpPr/>
          <p:nvPr/>
        </p:nvSpPr>
        <p:spPr>
          <a:xfrm>
            <a:off x="380880" y="1828800"/>
            <a:ext cx="853452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: Treatment of tumors of brain &amp; meninge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1371600" y="3124080"/>
            <a:ext cx="3733920" cy="2514600"/>
          </a:xfrm>
          <a:prstGeom prst="pi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igh lipid solubil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oss the BBB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1"/>
          <p:cNvSpPr/>
          <p:nvPr/>
        </p:nvSpPr>
        <p:spPr>
          <a:xfrm>
            <a:off x="5638680" y="3581280"/>
            <a:ext cx="327672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y have a sever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umulativ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depressive effect on the BM that starts 3-6 weeks after initiation of treatme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treptozoc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380880" y="1828800"/>
            <a:ext cx="8534520" cy="1066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se: Treatment of insulinoma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1" name="Picture 4" descr="177687"/>
          <p:cNvPicPr/>
          <p:nvPr/>
        </p:nvPicPr>
        <p:blipFill>
          <a:blip r:embed="rId1"/>
          <a:srcRect l="0" t="0" r="0" b="4798"/>
          <a:stretch/>
        </p:blipFill>
        <p:spPr>
          <a:xfrm>
            <a:off x="5029200" y="3048120"/>
            <a:ext cx="3200400" cy="3216240"/>
          </a:xfrm>
          <a:prstGeom prst="rect">
            <a:avLst/>
          </a:prstGeom>
          <a:ln w="0">
            <a:noFill/>
          </a:ln>
        </p:spPr>
      </p:pic>
      <p:sp>
        <p:nvSpPr>
          <p:cNvPr id="282" name="Right Arrow 3"/>
          <p:cNvSpPr/>
          <p:nvPr/>
        </p:nvSpPr>
        <p:spPr>
          <a:xfrm>
            <a:off x="380880" y="3733920"/>
            <a:ext cx="4267440" cy="281916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oxic to the </a:t>
            </a:r>
            <a:r>
              <a:rPr b="1" lang="el-GR" sz="2800" spc="-1" strike="noStrike">
                <a:solidFill>
                  <a:srgbClr val="ffffff"/>
                </a:solidFill>
                <a:latin typeface="Comic Sans MS"/>
              </a:rPr>
              <a:t>β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ells of islets of Langerha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Used in medical research to produce an animal model for Type 1 diabetes in large dose as well as Type 2 diabetes with multiple low dos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70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Garamond"/>
              </a:rPr>
              <a:t>Platinum complex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is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arbo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xaliplat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12400"/>
            <a:ext cx="83818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isplatin is a water-soluble complex containing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ntral platinum ato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kylating agents : causing crosslinking of DNA, which triggers apoptosis(programmed cell death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ephrotoxic,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nal function is assessed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y creatinine clearanc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and strict regimens of hydration and diuresis must be initiat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ispla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one of the most emetogenic chemotherapy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ffective against testicular canc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628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3313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e5e5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203640" y="2781360"/>
            <a:ext cx="2232000" cy="136836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5508720" y="249228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148360" y="3860640"/>
            <a:ext cx="110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24360" y="3068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2843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2556000" y="38307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1619280" y="5126040"/>
            <a:ext cx="6265800" cy="5205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isdiaminedichloroplatinum II, CDDP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Garamond"/>
              </a:rPr>
              <a:t>Mechanism of antitumour activit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hloride atom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re replaced by water forming a positively charged hydrated species that form strong covalent bonds with electron rich atoms in nucleic acids and proteins resulting i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 interstrand cross-li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 intrastrand cross-li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NA-protein cross-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nofunctional and Bifunctional alkyl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24000" y="16286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80880" y="8380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42920" y="404280"/>
            <a:ext cx="3313080" cy="863640"/>
          </a:xfrm>
          <a:prstGeom prst="rect">
            <a:avLst/>
          </a:prstGeom>
          <a:solidFill>
            <a:srgbClr val="ffffcc"/>
          </a:solidFill>
          <a:ln w="9360">
            <a:solidFill>
              <a:srgbClr val="e5e5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CISPLAT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203640" y="2781360"/>
            <a:ext cx="2232000" cy="136836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5508720" y="249228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148360" y="3860640"/>
            <a:ext cx="110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3924360" y="306864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t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2843280" y="2421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556000" y="38307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1619280" y="5126040"/>
            <a:ext cx="6265800" cy="5205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Times New Roman"/>
                <a:ea typeface="Times New Roman"/>
              </a:rPr>
              <a:t>Cisdiaminedichloroplatinum II, CDDP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Rectangle 16"/>
          <p:cNvSpPr/>
          <p:nvPr/>
        </p:nvSpPr>
        <p:spPr>
          <a:xfrm>
            <a:off x="2411280" y="3933720"/>
            <a:ext cx="827280" cy="503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+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Rectangle 17"/>
          <p:cNvSpPr/>
          <p:nvPr/>
        </p:nvSpPr>
        <p:spPr>
          <a:xfrm>
            <a:off x="2843280" y="2637000"/>
            <a:ext cx="83016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+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1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DDP-INDUCED ORGAN TOXICIT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Neuro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Cardiomyopat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*  Hepatotox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1098720" y="2205000"/>
            <a:ext cx="295092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r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Alkylating agents are used in combination with other agents to treat lymphatic and solid tumor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宋体"/>
              </a:rPr>
              <a:t>Alkylating agents are mutagenic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, and carcinogenic (may lead to acute leukemi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ctr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宋体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宋体"/>
              </a:rPr>
              <a:t>Resistanc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宋体"/>
              </a:rPr>
              <a:t> may occur during treatment with alkylating ag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CLINICAL TREATMENT OF CDDP-INDUCED NEPHROTOXICITY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tensive hydration and diures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Dosing according to kidney fun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B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Serum creatin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Avoiding concomitant use of o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phrotoxic drug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- Employing New Analo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Carboplat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Oxaliplat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14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isplat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Severe N/V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 Dose-related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phrotoxicity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(Rx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hydration,  mannito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 Neurotoxic; periphe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euritis +Ototoxicit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4. Less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yelotox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457200" y="380880"/>
            <a:ext cx="77724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Broad-spectrum agents, fighting solid tumors: breast, ovarian, testicular, lung, bladder cancer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4419720" y="1371600"/>
            <a:ext cx="4419360" cy="552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arboplat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. Much less N/V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. Much less nephrotoxic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3. Less risk of peripheral neuropathy , ototoxicity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4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It is more myelotoxic dose-limited toxicity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lood cells decrease   dramatically, sometimes as low as 10% of its usual production level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5345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new member of this class with better pharmacological profile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Used in the treatment of 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lorectal cancer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ith other anticancer drug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2133720" y="523800"/>
            <a:ext cx="47242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xaliplatin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17680" y="-3168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acarbazin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04920" y="1219320"/>
            <a:ext cx="853416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elong to Thiazin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s a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prodru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activated in the liver, and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resulting compound is cleaved in the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rget cell to release an alkylating 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rivativ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reatment of melanomas</a:t>
            </a:r>
            <a:endParaRPr b="1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304920" y="4505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adverse effects: </a:t>
            </a:r>
            <a:endParaRPr b="1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re nausea &amp; vomiting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yel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patotoxicity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320" y="425520"/>
            <a:ext cx="859608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Resistance to alkylating agen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2427120"/>
            <a:ext cx="8534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creased DNA repair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Decreased permeability of the drug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71680" indent="-571680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Increased conjugation with thiols (trapping agents)</a:t>
            </a:r>
            <a:endParaRPr b="1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C:\Users\Public\Pictures\Sample Pictures\Chrysanthemum.jpg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32484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3048120" y="50292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Vladimir Script"/>
              </a:rPr>
              <a:t>Thank you</a:t>
            </a:r>
            <a:endParaRPr b="1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220680"/>
            <a:ext cx="859644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ajor classes of alkylating ag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33520" y="198108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itrogen mustard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486400" y="19810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itrosourea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61400" y="2595600"/>
            <a:ext cx="3536640" cy="180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yclophosphamid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chlorethamin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lorambuci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lphala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638680" y="2514600"/>
            <a:ext cx="232092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rmustine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Lomustin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reptozoc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70720" y="465768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kyl sulfona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38080" y="5257800"/>
            <a:ext cx="1957680" cy="612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usulfa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719960" y="473400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lated agents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99080" y="5334120"/>
            <a:ext cx="498600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latinium analogues; Cisplatin,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arboplatin, Oxaliplatin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iazines; Dacarbazine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MOA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 of alkylating ag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4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A nucleotide sequence involving adenine, cytosine, guanine and thymine"/>
          <p:cNvPicPr/>
          <p:nvPr/>
        </p:nvPicPr>
        <p:blipFill>
          <a:blip r:embed="rId2"/>
          <a:stretch/>
        </p:blipFill>
        <p:spPr>
          <a:xfrm>
            <a:off x="696960" y="1600200"/>
            <a:ext cx="7772400" cy="46483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5704560" y="4038480"/>
            <a:ext cx="195480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ntrastrand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3871800" y="3048120"/>
            <a:ext cx="1003680" cy="459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os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Freeform 11"/>
          <p:cNvSpPr/>
          <p:nvPr/>
        </p:nvSpPr>
        <p:spPr>
          <a:xfrm>
            <a:off x="5029200" y="4479840"/>
            <a:ext cx="495360" cy="397080"/>
          </a:xfrm>
          <a:custGeom>
            <a:avLst/>
            <a:gdLst>
              <a:gd name="textAreaLeft" fmla="*/ 0 w 495360"/>
              <a:gd name="textAreaRight" fmla="*/ 495720 w 4953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312" h="250">
                <a:moveTo>
                  <a:pt x="0" y="55"/>
                </a:moveTo>
                <a:cubicBezTo>
                  <a:pt x="16" y="50"/>
                  <a:pt x="84" y="0"/>
                  <a:pt x="110" y="27"/>
                </a:cubicBezTo>
                <a:cubicBezTo>
                  <a:pt x="136" y="54"/>
                  <a:pt x="124" y="188"/>
                  <a:pt x="158" y="219"/>
                </a:cubicBezTo>
                <a:cubicBezTo>
                  <a:pt x="192" y="250"/>
                  <a:pt x="280" y="213"/>
                  <a:pt x="312" y="211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Freeform 11"/>
          <p:cNvSpPr/>
          <p:nvPr/>
        </p:nvSpPr>
        <p:spPr>
          <a:xfrm rot="19902000">
            <a:off x="3276360" y="3276360"/>
            <a:ext cx="609480" cy="457200"/>
          </a:xfrm>
          <a:custGeom>
            <a:avLst/>
            <a:gdLst>
              <a:gd name="textAreaLeft" fmla="*/ 0 w 609480"/>
              <a:gd name="textAreaRight" fmla="*/ 609840 w 6094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12" h="250">
                <a:moveTo>
                  <a:pt x="0" y="55"/>
                </a:moveTo>
                <a:cubicBezTo>
                  <a:pt x="16" y="50"/>
                  <a:pt x="84" y="0"/>
                  <a:pt x="110" y="27"/>
                </a:cubicBezTo>
                <a:cubicBezTo>
                  <a:pt x="136" y="54"/>
                  <a:pt x="124" y="188"/>
                  <a:pt x="158" y="219"/>
                </a:cubicBezTo>
                <a:cubicBezTo>
                  <a:pt x="192" y="250"/>
                  <a:pt x="280" y="213"/>
                  <a:pt x="312" y="211"/>
                </a:cubicBezTo>
              </a:path>
            </a:pathLst>
          </a:custGeom>
          <a:noFill/>
          <a:ln w="41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56386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lkylating agent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m covalent bonds between alkyl groups of the drug and N-7 of guanine bases of DN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rastran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os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D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terferes with transcription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tops replication of DN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Inhibit cell divisio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8" descr="bifunctional alkylating copy"/>
          <p:cNvPicPr/>
          <p:nvPr/>
        </p:nvPicPr>
        <p:blipFill>
          <a:blip r:embed="rId1"/>
          <a:stretch/>
        </p:blipFill>
        <p:spPr>
          <a:xfrm>
            <a:off x="601992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28" name="Down Arrow 1"/>
          <p:cNvSpPr/>
          <p:nvPr/>
        </p:nvSpPr>
        <p:spPr>
          <a:xfrm>
            <a:off x="2505240" y="1812960"/>
            <a:ext cx="484200" cy="73008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Down Arrow 1"/>
          <p:cNvSpPr/>
          <p:nvPr/>
        </p:nvSpPr>
        <p:spPr>
          <a:xfrm>
            <a:off x="2514600" y="3657600"/>
            <a:ext cx="484200" cy="103500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5562720" y="57229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NA is unable to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plicat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1.Nitrogen mustard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s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itrogen mustards are related to the 'mustard gas' used during the first world war and caused severe myelosuppr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Cyclophosphamide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yclophosphamide is the most commonly used alkylating ag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yclophosphamide is 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odrug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, well absorbed orall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 is usually given orally or by IV or 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tivated  by the  liver microsomal cytochrome P 450 to the cytotoxic  metabolites;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sphoramide mustard and acrolei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action of phosphoramide mustard with DNA is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ytotoxic ste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Causes myelosuppression (especially lymphocy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25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25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25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25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25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25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28760" y="188640"/>
            <a:ext cx="8464320" cy="725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Cyclophosphamide Metab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37" name="شكل بيضاوي 6"/>
          <p:cNvSpPr/>
          <p:nvPr/>
        </p:nvSpPr>
        <p:spPr>
          <a:xfrm>
            <a:off x="0" y="6072120"/>
            <a:ext cx="1857240" cy="785880"/>
          </a:xfrm>
          <a:prstGeom prst="ellipse">
            <a:avLst/>
          </a:prstGeom>
          <a:noFill/>
          <a:ln w="25560">
            <a:solidFill>
              <a:srgbClr val="987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سهم إلى اليمين 7"/>
          <p:cNvSpPr/>
          <p:nvPr/>
        </p:nvSpPr>
        <p:spPr>
          <a:xfrm>
            <a:off x="1928880" y="6286680"/>
            <a:ext cx="1500120" cy="35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82d75"/>
          </a:solidFill>
          <a:ln w="25560">
            <a:solidFill>
              <a:srgbClr val="9879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مستطيل 8" descr=""/>
          <p:cNvPicPr/>
          <p:nvPr/>
        </p:nvPicPr>
        <p:blipFill>
          <a:blip r:embed="rId2"/>
          <a:stretch/>
        </p:blipFill>
        <p:spPr>
          <a:xfrm>
            <a:off x="3571920" y="5913360"/>
            <a:ext cx="4829040" cy="963720"/>
          </a:xfrm>
          <a:prstGeom prst="rect">
            <a:avLst/>
          </a:prstGeom>
          <a:ln w="0">
            <a:noFill/>
          </a:ln>
        </p:spPr>
      </p:pic>
      <p:sp>
        <p:nvSpPr>
          <p:cNvPr id="240" name="Oval 7"/>
          <p:cNvSpPr/>
          <p:nvPr/>
        </p:nvSpPr>
        <p:spPr>
          <a:xfrm>
            <a:off x="34920" y="3573360"/>
            <a:ext cx="180036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siouni</dc:creator>
  <dc:description/>
  <dc:language>en-US</dc:language>
  <cp:lastModifiedBy>User</cp:lastModifiedBy>
  <dcterms:modified xsi:type="dcterms:W3CDTF">2015-02-24T05:07:21Z</dcterms:modified>
  <cp:revision>3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