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2F9D-3BFD-4F28-93DE-B78E503F95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67A2-8F96-4551-8BC2-A5D0E8F2F6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546-F4C9-4899-ADE2-F2CD3A11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ED9-20ED-4B99-9E4A-D6ED98AD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D0A-0337-4107-A621-3A69CA32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F24-D865-4C32-8AEC-031A3809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B729-4D8F-4002-A5F1-E30ACE6F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06C0-F8C8-4DFF-96FC-F6D750E9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8083-3050-4C94-8266-E0BD67B0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4E8B-E007-43E9-A8B9-00155E96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37E9-9B51-466D-B5D6-B2626167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52E9-5B91-4F07-BA51-F1625C1F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866F-F9BE-4995-9078-0F557E4D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935-61A1-4930-9C9A-2EB73A1E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F861-6AE7-4D91-BA1E-33BF7F6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80E6-2BF0-4A6E-9201-17459EFC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F8A0-E3D2-481A-9F0F-F4585774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E8CF-F77F-407E-AF93-C5C95D49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9BB8-380D-45F6-AEA4-2E598161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EEE3-E793-4AE3-872E-0229DF09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5366-45B9-404C-B001-5E4FFA1E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19B3-17AD-4227-8038-95F92DC2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4032-31D3-4D39-A89D-CA201590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C33CE-BD62-46F4-AF9A-5FA97ED5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947-E2FE-4231-A19B-379A523E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4FB0-FE73-4D51-97DA-67C4389A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2010-1A1B-4E17-A94F-0EA8ED48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2DDF0-F591-4059-968A-93768AEA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1E80-73D5-4F65-9A03-4426C2AF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EE481-3753-43D9-9114-6E227FCC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EF1D-AF32-4D08-88BF-DF917EE0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21AD-A707-420D-B50B-2F2A332A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D544-8138-4738-B77B-F100DF28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0EC29-06BB-4958-BFE8-D466CE77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EAE3E-5B7D-48F6-A258-FA578483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70E-CFC1-4BB8-BCBC-E8C16371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13434-CF35-4B8C-840E-BF0FA106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4CE83-B569-4504-B781-92B0869C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666A4-79DA-4AA4-8A2F-4310798B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6C11-F6FD-444B-84C7-BC7B3148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87E5F-122F-4680-A181-7A01E00B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55CC6-3E98-450C-BC89-F40A3861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D9B4-6C2B-4C16-8839-C5C27147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874F2-5CE9-4353-B02E-4FDD29DA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07FEB-CCFD-43B8-ADFA-9E5A2702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C5B99-AE42-4504-9A1B-BD586A4A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A43-0B6F-4D67-836A-8FDC80B5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4564A-7A82-40DB-9E3D-BD03503E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6E51D-7378-40DC-AA0B-5AB2ABDD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A7FDC-C5ED-406E-A559-9377E946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81004-7213-4976-A772-218494E7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12966-032A-43A3-BCB1-70D64B45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8DF98-6A2A-4D6B-B3FF-B3543C4D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3500A-546F-4971-BF67-B4BC662E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5DD14-AC1E-4DFA-98BA-7B776367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3AF39-C6AD-4113-B9CA-22E9BAAE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DD957-6E96-4AE0-8A83-DB8FDE9A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A57-DCEC-409E-88DC-454772C6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69C29-5E3A-4292-8E0A-950ABBB7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90BAD-59A5-4ECA-9278-54A18C98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408F2-D4F4-4F76-818C-2EBAA951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89C66-F786-474E-A653-5F315066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5597F-CEA3-4B36-83F6-D55D1B78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8DB47-CC12-4590-BB21-9A9B736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D43D8-CF5D-4882-A3B2-99A85B96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B95C8-3F8E-4393-8236-DCADD2F5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A0A63-F3C7-4916-8DBF-67BB0D21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02DF5-FBDB-4FA8-81F0-E064FB11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8C4-7EB2-4EA0-BA58-5BBC0DE5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D3A2B-6951-4672-93D9-DE0F8200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7DE4C-781D-4679-897B-4C3F0E5A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87D7E-36DA-40DA-A747-0DA165F6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17B0E-EF99-4BF8-A2D0-BDB72D25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794C5-9CE4-4081-AFCA-D85A4281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EF660-FB1F-406B-A6DE-45D04DD7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F3AE0-6E98-4449-A771-06810CC9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CEBFC-E882-49E7-A36B-C436816F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2F8CE-40D1-4899-A5F2-644B7158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8271C-3F65-46D6-9FAC-38039174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A02-87E5-4986-BB82-A0951C1E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A5FCC-F71A-4483-86E9-C2CCEB1E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21928-E1C8-40F4-AF89-0B4E405F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BB8D9-91C7-41E3-A263-D5AE49E4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4DFB2-71DC-400E-8B71-8582F864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00353-F02C-4628-87CF-7DA6465F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851-1CC4-471B-B917-4AC324EC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C0FA-BBBF-4C15-A48E-E7E6DAD3339D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64C4-6B3A-4287-BDF4-C109AB72C129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FFFE-94D5-4CBB-A951-074AEDA7E32A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3721-6BFB-4814-ADD5-378083C1E58B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4560-6F6A-495D-9109-8A768772F6F6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9ED0-A78B-47AE-8F5C-29E472269A00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1C25-686E-45DD-B138-6D6DFE6B96D0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2094840" y="333360"/>
            <a:ext cx="52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IDES &amp; IM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3"/>
          <p:cNvGraphicFramePr/>
          <p:nvPr/>
        </p:nvGraphicFramePr>
        <p:xfrm>
          <a:off x="1500120" y="1282680"/>
          <a:ext cx="30718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1282680"/>
                    <a:ext cx="30718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4"/>
          <p:cNvGraphicFramePr/>
          <p:nvPr/>
        </p:nvGraphicFramePr>
        <p:xfrm>
          <a:off x="5429160" y="1413000"/>
          <a:ext cx="3000600" cy="15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1413000"/>
                    <a:ext cx="300060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Picture 8" descr="http://t0.gstatic.com/images?q=tbn:ANd9GcR6jKGxFCoxXsBrKBJQ5R0DSRgGv6LOKCpYYQlpVDRBAUeduKFedg"/>
          <p:cNvPicPr/>
          <p:nvPr/>
        </p:nvPicPr>
        <p:blipFill>
          <a:blip r:embed="rId5"/>
          <a:stretch/>
        </p:blipFill>
        <p:spPr>
          <a:xfrm>
            <a:off x="5718240" y="4145040"/>
            <a:ext cx="3060720" cy="2316240"/>
          </a:xfrm>
          <a:prstGeom prst="rect">
            <a:avLst/>
          </a:prstGeom>
          <a:ln w="0">
            <a:noFill/>
          </a:ln>
        </p:spPr>
      </p:pic>
      <p:sp>
        <p:nvSpPr>
          <p:cNvPr id="331" name="مستطيل 7"/>
          <p:cNvSpPr/>
          <p:nvPr/>
        </p:nvSpPr>
        <p:spPr>
          <a:xfrm>
            <a:off x="5432040" y="39178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hium-Imide batte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مربع نص 6"/>
          <p:cNvSpPr/>
          <p:nvPr/>
        </p:nvSpPr>
        <p:spPr>
          <a:xfrm>
            <a:off x="1187280" y="3456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amine 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2850 Polyamine imide impregnated fiberglass binding tape"/>
          <p:cNvPicPr/>
          <p:nvPr/>
        </p:nvPicPr>
        <p:blipFill>
          <a:blip r:embed="rId6"/>
          <a:stretch/>
        </p:blipFill>
        <p:spPr>
          <a:xfrm>
            <a:off x="463680" y="4065480"/>
            <a:ext cx="2620800" cy="2475000"/>
          </a:xfrm>
          <a:prstGeom prst="rect">
            <a:avLst/>
          </a:prstGeom>
          <a:ln w="0">
            <a:noFill/>
          </a:ln>
        </p:spPr>
      </p:pic>
      <p:sp>
        <p:nvSpPr>
          <p:cNvPr id="334" name="مستطيل 5"/>
          <p:cNvSpPr/>
          <p:nvPr/>
        </p:nvSpPr>
        <p:spPr>
          <a:xfrm>
            <a:off x="2838600" y="5075280"/>
            <a:ext cx="258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 as binding materials for electrical motors, transformers and electric app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523880" y="785880"/>
          <a:ext cx="7191360" cy="3643200"/>
        </p:xfrm>
        <a:graphic>
          <a:graphicData uri="http://schemas.openxmlformats.org/drawingml/2006/table">
            <a:tbl>
              <a:tblPr/>
              <a:tblGrid>
                <a:gridCol w="2032200"/>
                <a:gridCol w="2944800"/>
                <a:gridCol w="2214360"/>
              </a:tblGrid>
              <a:tr h="42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Object 3"/>
          <p:cNvGraphicFramePr/>
          <p:nvPr/>
        </p:nvGraphicFramePr>
        <p:xfrm>
          <a:off x="6643800" y="1700280"/>
          <a:ext cx="1785960" cy="15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3800" y="1700280"/>
                    <a:ext cx="178596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3643200" y="1857240"/>
          <a:ext cx="2786040" cy="11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1857240"/>
                    <a:ext cx="278604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1643040" y="1857240"/>
          <a:ext cx="171468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43040" y="1857240"/>
                    <a:ext cx="17146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TextBox 6"/>
          <p:cNvSpPr/>
          <p:nvPr/>
        </p:nvSpPr>
        <p:spPr>
          <a:xfrm>
            <a:off x="1802160" y="321480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7"/>
          <p:cNvSpPr/>
          <p:nvPr/>
        </p:nvSpPr>
        <p:spPr>
          <a:xfrm>
            <a:off x="4231080" y="321480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6945480" y="321480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864080" y="3857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iph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"/>
          <p:cNvSpPr/>
          <p:nvPr/>
        </p:nvSpPr>
        <p:spPr>
          <a:xfrm>
            <a:off x="4289760" y="38242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6932880" y="38242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2145600" y="12002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4029120" y="1185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phanil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4"/>
          <p:cNvSpPr/>
          <p:nvPr/>
        </p:nvSpPr>
        <p:spPr>
          <a:xfrm>
            <a:off x="6746760" y="120024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thali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5"/>
          <p:cNvSpPr/>
          <p:nvPr/>
        </p:nvSpPr>
        <p:spPr>
          <a:xfrm>
            <a:off x="3364920" y="72864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Am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7"/>
          <p:cNvSpPr/>
          <p:nvPr/>
        </p:nvSpPr>
        <p:spPr>
          <a:xfrm>
            <a:off x="6935040" y="74304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I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500040" y="-27000"/>
          <a:ext cx="8501040" cy="6006960"/>
        </p:xfrm>
        <a:graphic>
          <a:graphicData uri="http://schemas.openxmlformats.org/drawingml/2006/table">
            <a:tbl>
              <a:tblPr/>
              <a:tblGrid>
                <a:gridCol w="1500120"/>
                <a:gridCol w="216000"/>
                <a:gridCol w="357120"/>
                <a:gridCol w="1401840"/>
                <a:gridCol w="1098360"/>
                <a:gridCol w="214200"/>
                <a:gridCol w="1428840"/>
                <a:gridCol w="2284560"/>
              </a:tblGrid>
              <a:tr h="6429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nila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thali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565200">
                <a:tc gridSpan="8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hysical properti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50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 gridSpan="8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flamm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2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appea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o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Residu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Rectangle 91"/>
          <p:cNvSpPr/>
          <p:nvPr/>
        </p:nvSpPr>
        <p:spPr>
          <a:xfrm>
            <a:off x="2214720" y="1285920"/>
            <a:ext cx="17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gran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2"/>
          <p:cNvSpPr/>
          <p:nvPr/>
        </p:nvSpPr>
        <p:spPr>
          <a:xfrm>
            <a:off x="4427280" y="1285920"/>
            <a:ext cx="21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fine pow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3"/>
          <p:cNvSpPr/>
          <p:nvPr/>
        </p:nvSpPr>
        <p:spPr>
          <a:xfrm>
            <a:off x="6784560" y="1285920"/>
            <a:ext cx="21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fine pow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4"/>
          <p:cNvSpPr/>
          <p:nvPr/>
        </p:nvSpPr>
        <p:spPr>
          <a:xfrm>
            <a:off x="3997800" y="17859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5"/>
          <p:cNvSpPr/>
          <p:nvPr/>
        </p:nvSpPr>
        <p:spPr>
          <a:xfrm>
            <a:off x="567360" y="26812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gni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6"/>
          <p:cNvSpPr/>
          <p:nvPr/>
        </p:nvSpPr>
        <p:spPr>
          <a:xfrm>
            <a:off x="2615760" y="3286080"/>
            <a:ext cx="245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inous, non sm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7"/>
          <p:cNvSpPr/>
          <p:nvPr/>
        </p:nvSpPr>
        <p:spPr>
          <a:xfrm>
            <a:off x="4436640" y="471492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monia o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8"/>
          <p:cNvSpPr/>
          <p:nvPr/>
        </p:nvSpPr>
        <p:spPr>
          <a:xfrm>
            <a:off x="3433320" y="22860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do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0"/>
          <p:cNvSpPr/>
          <p:nvPr/>
        </p:nvSpPr>
        <p:spPr>
          <a:xfrm>
            <a:off x="2534400" y="552780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und is aliph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6"/>
          <p:cNvSpPr/>
          <p:nvPr/>
        </p:nvSpPr>
        <p:spPr>
          <a:xfrm>
            <a:off x="5150520" y="3429000"/>
            <a:ext cx="33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luminous, sm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6"/>
          <p:cNvSpPr/>
          <p:nvPr/>
        </p:nvSpPr>
        <p:spPr>
          <a:xfrm>
            <a:off x="2871000" y="400068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ting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96"/>
          <p:cNvSpPr/>
          <p:nvPr/>
        </p:nvSpPr>
        <p:spPr>
          <a:xfrm>
            <a:off x="6511320" y="407196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7"/>
          <p:cNvSpPr/>
          <p:nvPr/>
        </p:nvSpPr>
        <p:spPr>
          <a:xfrm>
            <a:off x="3149280" y="50785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resi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7"/>
          <p:cNvSpPr/>
          <p:nvPr/>
        </p:nvSpPr>
        <p:spPr>
          <a:xfrm>
            <a:off x="5988960" y="5084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si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0"/>
          <p:cNvSpPr/>
          <p:nvPr/>
        </p:nvSpPr>
        <p:spPr>
          <a:xfrm>
            <a:off x="5559120" y="554364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unds are ar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0" y="104760"/>
          <a:ext cx="9001080" cy="6396120"/>
        </p:xfrm>
        <a:graphic>
          <a:graphicData uri="http://schemas.openxmlformats.org/drawingml/2006/table">
            <a:tbl>
              <a:tblPr/>
              <a:tblGrid>
                <a:gridCol w="1928880"/>
                <a:gridCol w="1285920"/>
                <a:gridCol w="3647880"/>
                <a:gridCol w="2138400"/>
              </a:tblGrid>
              <a:tr h="52452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olubil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nila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thali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. H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212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 Na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29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</a:tbl>
          </a:graphicData>
        </a:graphic>
      </p:graphicFrame>
      <p:sp>
        <p:nvSpPr>
          <p:cNvPr id="370" name="TextBox 3"/>
          <p:cNvSpPr/>
          <p:nvPr/>
        </p:nvSpPr>
        <p:spPr>
          <a:xfrm>
            <a:off x="2003760" y="12142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1928880" y="16430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7"/>
          <p:cNvSpPr/>
          <p:nvPr/>
        </p:nvSpPr>
        <p:spPr>
          <a:xfrm>
            <a:off x="928800" y="528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8"/>
          <p:cNvSpPr/>
          <p:nvPr/>
        </p:nvSpPr>
        <p:spPr>
          <a:xfrm>
            <a:off x="4789800" y="121428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l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9"/>
          <p:cNvSpPr/>
          <p:nvPr/>
        </p:nvSpPr>
        <p:spPr>
          <a:xfrm>
            <a:off x="6722280" y="471492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: weak efferv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0"/>
          <p:cNvSpPr/>
          <p:nvPr/>
        </p:nvSpPr>
        <p:spPr>
          <a:xfrm>
            <a:off x="6873840" y="2571840"/>
            <a:ext cx="21207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with w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1"/>
          <p:cNvSpPr/>
          <p:nvPr/>
        </p:nvSpPr>
        <p:spPr>
          <a:xfrm>
            <a:off x="7290360" y="214308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l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2"/>
          <p:cNvSpPr/>
          <p:nvPr/>
        </p:nvSpPr>
        <p:spPr>
          <a:xfrm>
            <a:off x="7218720" y="121428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l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3"/>
          <p:cNvSpPr/>
          <p:nvPr/>
        </p:nvSpPr>
        <p:spPr>
          <a:xfrm>
            <a:off x="2075400" y="52149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4"/>
          <p:cNvSpPr/>
          <p:nvPr/>
        </p:nvSpPr>
        <p:spPr>
          <a:xfrm>
            <a:off x="7212240" y="52149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: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2"/>
          <p:cNvGraphicFramePr/>
          <p:nvPr/>
        </p:nvGraphicFramePr>
        <p:xfrm>
          <a:off x="3214800" y="5214960"/>
          <a:ext cx="330516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4800" y="5214960"/>
                    <a:ext cx="33051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4"/>
          <p:cNvGraphicFramePr/>
          <p:nvPr/>
        </p:nvGraphicFramePr>
        <p:xfrm>
          <a:off x="3244680" y="2168640"/>
          <a:ext cx="3654720" cy="25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4680" y="2168640"/>
                    <a:ext cx="36547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Box 28"/>
          <p:cNvSpPr/>
          <p:nvPr/>
        </p:nvSpPr>
        <p:spPr>
          <a:xfrm>
            <a:off x="2157480" y="5715000"/>
            <a:ext cx="551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in Dil. HCl but not ppted by 30% 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oluble in 10% NaOH but not ppted by Conc.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0" y="104760"/>
          <a:ext cx="9001080" cy="6753240"/>
        </p:xfrm>
        <a:graphic>
          <a:graphicData uri="http://schemas.openxmlformats.org/drawingml/2006/table">
            <a:tbl>
              <a:tblPr/>
              <a:tblGrid>
                <a:gridCol w="1928880"/>
                <a:gridCol w="1285920"/>
                <a:gridCol w="3647880"/>
                <a:gridCol w="2138400"/>
              </a:tblGrid>
              <a:tr h="4575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eliminary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nila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thali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4575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da l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% Na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1" i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c. H</a:t>
                      </a:r>
                      <a:r>
                        <a:rPr b="1" i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86" name="TextBox 3"/>
          <p:cNvSpPr/>
          <p:nvPr/>
        </p:nvSpPr>
        <p:spPr>
          <a:xfrm>
            <a:off x="3720960" y="164304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3292200" y="307188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4935240" y="450072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4006800" y="492912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2935080" y="585792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3792240" y="635796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3148920" y="214308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monia odor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4291920" y="350028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monia odor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0" y="0"/>
          <a:ext cx="9144000" cy="65358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for Ure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67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42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  <p:sp>
        <p:nvSpPr>
          <p:cNvPr id="395" name="TextBox 3"/>
          <p:cNvSpPr/>
          <p:nvPr/>
        </p:nvSpPr>
        <p:spPr>
          <a:xfrm>
            <a:off x="154080" y="53820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Biuret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Isosceles Triangle 4"/>
          <p:cNvSpPr/>
          <p:nvPr/>
        </p:nvSpPr>
        <p:spPr>
          <a:xfrm>
            <a:off x="1500120" y="1000080"/>
            <a:ext cx="214560" cy="21420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Straight Arrow Connector 6"/>
          <p:cNvCxnSpPr/>
          <p:nvPr/>
        </p:nvCxnSpPr>
        <p:spPr>
          <a:xfrm>
            <a:off x="1428480" y="1285920"/>
            <a:ext cx="121500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98" name="TextBox 9"/>
          <p:cNvSpPr/>
          <p:nvPr/>
        </p:nvSpPr>
        <p:spPr>
          <a:xfrm>
            <a:off x="0" y="1022400"/>
            <a:ext cx="914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gm urea       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until melt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residue            cooling             10%NaOH (( to dissolve it drop by drop)) 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haking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lear solution + 1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drop Cu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(Cupper sulphate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Rockwell Condensed"/>
                <a:ea typeface="Times New Roman"/>
              </a:rPr>
              <a:t>Purpl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Straight Arrow Connector 15"/>
          <p:cNvCxnSpPr/>
          <p:nvPr/>
        </p:nvCxnSpPr>
        <p:spPr>
          <a:xfrm>
            <a:off x="4098960" y="1258920"/>
            <a:ext cx="6433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0" name="Straight Arrow Connector 18"/>
          <p:cNvCxnSpPr/>
          <p:nvPr/>
        </p:nvCxnSpPr>
        <p:spPr>
          <a:xfrm>
            <a:off x="1856880" y="1600200"/>
            <a:ext cx="7153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1" name="Straight Arrow Connector 20"/>
          <p:cNvCxnSpPr/>
          <p:nvPr/>
        </p:nvCxnSpPr>
        <p:spPr>
          <a:xfrm flipH="1">
            <a:off x="4070160" y="1785600"/>
            <a:ext cx="2160" cy="500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02" name="TextBox 10"/>
          <p:cNvSpPr/>
          <p:nvPr/>
        </p:nvSpPr>
        <p:spPr>
          <a:xfrm>
            <a:off x="227520" y="264312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Oxalate forma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1"/>
          <p:cNvSpPr/>
          <p:nvPr/>
        </p:nvSpPr>
        <p:spPr>
          <a:xfrm>
            <a:off x="1571760" y="3143160"/>
            <a:ext cx="724824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ed solution of urea + Oxalic acid solu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2400" spc="-1" strike="noStrike">
                <a:solidFill>
                  <a:srgbClr val="660066"/>
                </a:solidFill>
                <a:latin typeface="Rockwell Condensed"/>
                <a:ea typeface="Times New Roman"/>
              </a:rPr>
              <a:t>white crystalline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Rockwell Condensed"/>
                <a:ea typeface="Times New Roman"/>
              </a:rPr>
              <a:t>ppt of urea oxalate </a:t>
            </a:r>
            <a:r>
              <a:rPr b="1" lang="en-US" sz="2400" spc="-1" strike="noStrike">
                <a:solidFill>
                  <a:srgbClr val="660066"/>
                </a:solidFill>
                <a:latin typeface="Rockwell Condensed"/>
                <a:ea typeface="Times New Roman"/>
              </a:rPr>
              <a:t>(shi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Down Arrow 13"/>
          <p:cNvSpPr/>
          <p:nvPr/>
        </p:nvSpPr>
        <p:spPr>
          <a:xfrm>
            <a:off x="4286160" y="3571920"/>
            <a:ext cx="357120" cy="5493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4"/>
          <p:cNvSpPr/>
          <p:nvPr/>
        </p:nvSpPr>
        <p:spPr>
          <a:xfrm>
            <a:off x="226080" y="457200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Nitrate forma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6"/>
          <p:cNvSpPr/>
          <p:nvPr/>
        </p:nvSpPr>
        <p:spPr>
          <a:xfrm>
            <a:off x="1428840" y="5116680"/>
            <a:ext cx="671508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ed solution of urea + 2 drops Conc. H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Times New Roman"/>
              </a:rPr>
              <a:t>(( nitric a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Condensed"/>
                <a:ea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Rockwell Condensed"/>
                <a:ea typeface="Times New Roman"/>
              </a:rPr>
              <a:t>white ppt of urea 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Down Arrow 17"/>
          <p:cNvSpPr/>
          <p:nvPr/>
        </p:nvSpPr>
        <p:spPr>
          <a:xfrm>
            <a:off x="4214880" y="5572080"/>
            <a:ext cx="357120" cy="5493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5330880" y="1746360"/>
            <a:ext cx="979560" cy="1257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"/>
          <p:cNvPicPr/>
          <p:nvPr/>
        </p:nvPicPr>
        <p:blipFill>
          <a:blip r:embed="rId2"/>
          <a:stretch/>
        </p:blipFill>
        <p:spPr>
          <a:xfrm>
            <a:off x="7613640" y="3297240"/>
            <a:ext cx="1060560" cy="128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3"/>
          <a:stretch/>
        </p:blipFill>
        <p:spPr>
          <a:xfrm>
            <a:off x="6510240" y="5450040"/>
            <a:ext cx="1311480" cy="1481040"/>
          </a:xfrm>
          <a:prstGeom prst="rect">
            <a:avLst/>
          </a:prstGeom>
          <a:ln w="0">
            <a:noFill/>
          </a:ln>
        </p:spPr>
      </p:pic>
      <p:cxnSp>
        <p:nvCxnSpPr>
          <p:cNvPr id="411" name="Straight Arrow Connector 19"/>
          <p:cNvCxnSpPr/>
          <p:nvPr/>
        </p:nvCxnSpPr>
        <p:spPr>
          <a:xfrm>
            <a:off x="5643720" y="1265400"/>
            <a:ext cx="6433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77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1" dur="770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77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770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0"/>
          <a:ext cx="9144000" cy="6786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for Sulphanilami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5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1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</a:tbl>
          </a:graphicData>
        </a:graphic>
      </p:graphicFrame>
      <p:sp>
        <p:nvSpPr>
          <p:cNvPr id="413" name="TextBox 2"/>
          <p:cNvSpPr/>
          <p:nvPr/>
        </p:nvSpPr>
        <p:spPr>
          <a:xfrm>
            <a:off x="142920" y="538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oteric charac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142920" y="15717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Azo dye forma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9"/>
          <p:cNvSpPr/>
          <p:nvPr/>
        </p:nvSpPr>
        <p:spPr>
          <a:xfrm>
            <a:off x="0" y="2143080"/>
            <a:ext cx="878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phanilamide + dil.HCl (until dissolve) + 1 drop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od. Nitrite 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faint pale yellow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2"/>
          <p:cNvGraphicFramePr/>
          <p:nvPr/>
        </p:nvGraphicFramePr>
        <p:xfrm>
          <a:off x="136440" y="2071800"/>
          <a:ext cx="292320" cy="5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2071800"/>
                    <a:ext cx="2923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30"/>
          <p:cNvSpPr/>
          <p:nvPr/>
        </p:nvSpPr>
        <p:spPr>
          <a:xfrm>
            <a:off x="1440" y="25621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1"/>
          <p:cNvSpPr/>
          <p:nvPr/>
        </p:nvSpPr>
        <p:spPr>
          <a:xfrm>
            <a:off x="2356200" y="27860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iazonium salt forme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Arrow 8"/>
          <p:cNvSpPr/>
          <p:nvPr/>
        </p:nvSpPr>
        <p:spPr>
          <a:xfrm>
            <a:off x="571680" y="2500200"/>
            <a:ext cx="71424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2"/>
          <p:cNvSpPr/>
          <p:nvPr/>
        </p:nvSpPr>
        <p:spPr>
          <a:xfrm>
            <a:off x="-104760" y="3214800"/>
            <a:ext cx="93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lonna MT"/>
                <a:ea typeface="Times New Roman"/>
              </a:rPr>
              <a:t>It is unstable because that we must put it in ice, without ice it will decom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3"/>
          <p:cNvSpPr/>
          <p:nvPr/>
        </p:nvSpPr>
        <p:spPr>
          <a:xfrm>
            <a:off x="500040" y="3714840"/>
            <a:ext cx="54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phenol + 10% NaOH (until phenol dissolv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Object 3"/>
          <p:cNvGraphicFramePr/>
          <p:nvPr/>
        </p:nvGraphicFramePr>
        <p:xfrm>
          <a:off x="214200" y="3643200"/>
          <a:ext cx="29232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3643200"/>
                    <a:ext cx="292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34"/>
          <p:cNvSpPr/>
          <p:nvPr/>
        </p:nvSpPr>
        <p:spPr>
          <a:xfrm>
            <a:off x="73080" y="41338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6357960" y="3571920"/>
          <a:ext cx="214308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7960" y="3571920"/>
                    <a:ext cx="2143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Down Arrow 14"/>
          <p:cNvSpPr/>
          <p:nvPr/>
        </p:nvSpPr>
        <p:spPr>
          <a:xfrm>
            <a:off x="4214880" y="41432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5"/>
          <p:cNvSpPr/>
          <p:nvPr/>
        </p:nvSpPr>
        <p:spPr>
          <a:xfrm>
            <a:off x="3285720" y="478620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(1) on (2) grad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Down Arrow 16"/>
          <p:cNvSpPr/>
          <p:nvPr/>
        </p:nvSpPr>
        <p:spPr>
          <a:xfrm>
            <a:off x="5286240" y="5286240"/>
            <a:ext cx="28584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6"/>
          <p:cNvSpPr/>
          <p:nvPr/>
        </p:nvSpPr>
        <p:spPr>
          <a:xfrm>
            <a:off x="4143240" y="5929200"/>
            <a:ext cx="26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Azo – dye formation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nge – red d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0" y="0"/>
          <a:ext cx="9144000" cy="5143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for Phthalimi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  <p:sp>
        <p:nvSpPr>
          <p:cNvPr id="433" name="Rectangle 2"/>
          <p:cNvSpPr/>
          <p:nvPr/>
        </p:nvSpPr>
        <p:spPr>
          <a:xfrm>
            <a:off x="214200" y="1071720"/>
            <a:ext cx="8715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thalimide + Phenol  + 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in 10% NaOH in beaker          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eat until fussio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224280" y="5716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thalei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ight Arrow 4"/>
          <p:cNvSpPr/>
          <p:nvPr/>
        </p:nvSpPr>
        <p:spPr>
          <a:xfrm>
            <a:off x="5715000" y="1214280"/>
            <a:ext cx="785880" cy="21456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Isosceles Triangle 5"/>
          <p:cNvSpPr/>
          <p:nvPr/>
        </p:nvSpPr>
        <p:spPr>
          <a:xfrm>
            <a:off x="5857920" y="928800"/>
            <a:ext cx="285840" cy="28548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ight Arrow 6"/>
          <p:cNvSpPr/>
          <p:nvPr/>
        </p:nvSpPr>
        <p:spPr>
          <a:xfrm>
            <a:off x="7358040" y="121428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Curved Left Arrow 7"/>
          <p:cNvSpPr/>
          <p:nvPr/>
        </p:nvSpPr>
        <p:spPr>
          <a:xfrm>
            <a:off x="4857840" y="1643040"/>
            <a:ext cx="500040" cy="428760"/>
          </a:xfrm>
          <a:custGeom>
            <a:avLst/>
            <a:gdLst>
              <a:gd name="textAreaLeft" fmla="*/ 66960 w 500040"/>
              <a:gd name="textAreaRight" fmla="*/ 433080 w 500040"/>
              <a:gd name="textAreaTop" fmla="*/ 66960 h 428760"/>
              <a:gd name="textAreaBottom" fmla="*/ 30816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95662"/>
                <a:lnTo>
                  <a:pt x="4629" y="21443"/>
                </a:lnTo>
                <a:lnTo>
                  <a:pt x="0" y="16200"/>
                </a:lnTo>
                <a:lnTo>
                  <a:pt x="4629" y="10643"/>
                </a:lnTo>
                <a:lnTo>
                  <a:pt x="4629" y="13343"/>
                </a:lnTo>
                <a:arcTo wR="21600" hR="6750" stAng="3295662" swAng="-282967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1979640" y="1886040"/>
            <a:ext cx="35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table pink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-142920" y="2714760"/>
            <a:ext cx="9286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thalimide + resorcinol + 2-3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 then pour in 10% NaOH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eat until fussion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25360" y="2286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 Flourescei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ight Arrow 11"/>
          <p:cNvSpPr/>
          <p:nvPr/>
        </p:nvSpPr>
        <p:spPr>
          <a:xfrm>
            <a:off x="5657760" y="2857680"/>
            <a:ext cx="785880" cy="214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Curved Left Arrow 12"/>
          <p:cNvSpPr/>
          <p:nvPr/>
        </p:nvSpPr>
        <p:spPr>
          <a:xfrm>
            <a:off x="8501040" y="3429000"/>
            <a:ext cx="357120" cy="500040"/>
          </a:xfrm>
          <a:custGeom>
            <a:avLst/>
            <a:gdLst>
              <a:gd name="textAreaLeft" fmla="*/ 47880 w 357120"/>
              <a:gd name="textAreaRight" fmla="*/ 309240 w 357120"/>
              <a:gd name="textAreaTop" fmla="*/ 91440 h 500040"/>
              <a:gd name="textAreaBottom" fmla="*/ 36396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3288197"/>
                <a:lnTo>
                  <a:pt x="5400" y="21349"/>
                </a:lnTo>
                <a:lnTo>
                  <a:pt x="0" y="17743"/>
                </a:lnTo>
                <a:lnTo>
                  <a:pt x="5400" y="13635"/>
                </a:lnTo>
                <a:lnTo>
                  <a:pt x="5400" y="15563"/>
                </a:lnTo>
                <a:arcTo wR="21600" hR="7907" stAng="3288197" swAng="-2972512"/>
                <a:lnTo>
                  <a:pt x="20947" y="9836"/>
                </a:lnTo>
                <a:arcTo wR="21600" hR="7907" stAng="-315685" swAng="-5084315"/>
                <a:close/>
              </a:path>
              <a:path fill="darkenLess"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-315685"/>
                <a:lnTo>
                  <a:pt x="20947" y="9836"/>
                </a:lnTo>
                <a:arcTo wR="21600" hR="7907" stAng="-315685" swAng="-5084315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5398200" y="4000680"/>
            <a:ext cx="3819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dish green fluorescence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Down Arrow 14"/>
          <p:cNvSpPr/>
          <p:nvPr/>
        </p:nvSpPr>
        <p:spPr>
          <a:xfrm>
            <a:off x="8534520" y="44290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Isosceles Triangle 15"/>
          <p:cNvSpPr/>
          <p:nvPr/>
        </p:nvSpPr>
        <p:spPr>
          <a:xfrm>
            <a:off x="5870520" y="257184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5407200" y="1595520"/>
            <a:ext cx="1469880" cy="1081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5683320" y="4508640"/>
            <a:ext cx="165888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77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5" dur="770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7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9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77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6" dur="770" fill="hold"/>
                                        <p:tgtEl>
                                          <p:spTgt spid="4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1071720" y="44280"/>
          <a:ext cx="7786440" cy="4284720"/>
        </p:xfrm>
        <a:graphic>
          <a:graphicData uri="http://schemas.openxmlformats.org/drawingml/2006/table">
            <a:tbl>
              <a:tblPr/>
              <a:tblGrid>
                <a:gridCol w="2619360"/>
                <a:gridCol w="2357280"/>
                <a:gridCol w="2809800"/>
              </a:tblGrid>
              <a:tr h="7113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61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nila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6206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thali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97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</a:tbl>
          </a:graphicData>
        </a:graphic>
      </p:graphicFrame>
      <p:sp>
        <p:nvSpPr>
          <p:cNvPr id="450" name="Rectangle 2"/>
          <p:cNvSpPr/>
          <p:nvPr/>
        </p:nvSpPr>
        <p:spPr>
          <a:xfrm>
            <a:off x="4167360" y="15890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9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6080040" y="1589040"/>
            <a:ext cx="24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a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6080040" y="2781360"/>
            <a:ext cx="24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a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167360" y="27716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9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4124880" y="358920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6072120" y="348768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romatic strea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2021040" y="4280040"/>
            <a:ext cx="3414600" cy="2593800"/>
          </a:xfrm>
          <a:prstGeom prst="rect">
            <a:avLst/>
          </a:prstGeom>
          <a:ln w="0">
            <a:noFill/>
          </a:ln>
        </p:spPr>
      </p:pic>
      <p:sp>
        <p:nvSpPr>
          <p:cNvPr id="457" name="شكل بيضاوي 5"/>
          <p:cNvSpPr/>
          <p:nvPr/>
        </p:nvSpPr>
        <p:spPr>
          <a:xfrm>
            <a:off x="3092400" y="5438880"/>
            <a:ext cx="117360" cy="1918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شكل بيضاوي 4"/>
          <p:cNvSpPr/>
          <p:nvPr/>
        </p:nvSpPr>
        <p:spPr>
          <a:xfrm>
            <a:off x="4132440" y="5987880"/>
            <a:ext cx="156960" cy="144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0:51:46Z</dcterms:created>
  <dc:creator>admin</dc:creator>
  <dc:description/>
  <dc:language>en-US</dc:language>
  <cp:lastModifiedBy>reem</cp:lastModifiedBy>
  <dcterms:modified xsi:type="dcterms:W3CDTF">2014-11-10T06:04:22Z</dcterms:modified>
  <cp:revision>63</cp:revision>
  <dc:subject/>
  <dc:title>Slide 1</dc:title>
</cp:coreProperties>
</file>