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C1A-70C2-4CE9-87E2-886A8F20BB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0A18-3898-4141-87CB-8099D8438E1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8F2-DD37-4547-859E-0AF84E07AED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6D6-AA99-4ACC-A3F2-9D3AC5862B2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999-E6FD-4D03-96C6-A083D8DE36C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AA0-EDA3-4F7F-B9D8-2ECCFD6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9C2-2E79-4216-B282-30F0C54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FEB-B2E0-4973-9591-6B7687FE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517-5145-454D-AF64-7F5BE35E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6C3-310A-4311-954E-9A956C75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B4D7-FA18-41BA-AE6C-EC46E3C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462-1622-4EA5-B3BA-E6042CB4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1994-C204-4780-B517-86F73E99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D09-4B0C-4A46-9D5D-7991F82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2855-B36E-418E-AF9C-A68EE727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8B0E-259E-406A-9E71-1F2D64B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80A-80C3-4E17-A5EE-83C98EF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E156-3BC0-47D7-8434-4EAC6539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302-4F5D-478D-A1A0-4002724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95E-1DE1-413A-BD2A-BC494362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AFF7-61E9-4895-B2CC-EF60E074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1C01-B20A-4846-A599-44910EB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42E9-CE1A-4489-BC73-41C05018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DABC-80CB-4125-A925-9C92036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C8B5-F111-4036-9D86-77FB224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521B-CA14-43D8-BDC6-CF7CCAD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9A75-C9C1-4AEA-85D6-D8D2C69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837-274D-41B6-8BF9-C41D2E3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9BC2-58EA-48FB-9F73-6253ADC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8938-2415-4401-B369-4917B5E7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403A-35E6-48EF-960D-5BE4E1D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7B4C-1C27-4FA9-B21C-68C616A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047B-3C8F-4D49-B008-0E1B4D39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594C-998A-4215-9631-2D1B8CDF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DD30-933D-454F-9F7B-6356CE02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19A8-6495-4C75-9E0C-105F38C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4B0C-FBFE-47E8-A485-5C2E29ED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8E8EC-DE20-4946-BAC0-39CA1DCC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CDB-7B6E-4C6F-B04C-A52BF64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3621-011D-44D4-A118-9B6FBB76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299F-2328-4835-A74F-1383148D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1BE7-BE07-4ECD-8404-201FB7F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FCE4-D093-4432-9595-C81A756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447E-7B8F-4B22-9679-5D4ACE8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9D4E-713A-4355-A98A-4D2F4B5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698F-2307-4904-8A74-C9D9B581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8091-F90D-4D5E-B0D0-467163BB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592F-3908-4B89-831A-F8537059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16A9-44E9-495D-A877-C0596315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072-0B23-4DDC-8BCA-FB5FA1D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931E-07C9-4439-8C40-F0AF6933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C462-72D8-4565-8655-66B26F07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0925-E11B-4A25-86AE-C11ED93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D250-72DF-4E00-A84A-CEB81AE4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6AB9-99AE-4CA8-8FB7-800B469E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BCF03-7B9B-4479-81EB-C2AC183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EA930-151F-45D5-A63C-C74C38DF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DE83B-59A1-45DF-838B-0FEA8EE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4D0A-F4FC-43F0-8B13-64F946E4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F590-667A-451E-9981-18CB0661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E41-36FC-4B62-AC01-FA738EE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2D3C-4252-49F0-B02A-16B7737E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11C-05F6-4177-ABC7-846D93F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969-4B35-4C10-BE61-908BD53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205-7FD5-4A3A-9EE8-88979D4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85D3-01EC-484D-9E1B-155EDFA67D7F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C4BE-F63F-4363-A351-861685206A42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66F-67EB-4D5C-B525-779C238C4875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4d4d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BB9-C68D-46F7-8254-04A5513DCBB4}" type="slidenum">
              <a:rPr b="0" lang="en-GB" sz="11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779-A999-45DB-B4B6-EB665D06E187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1206000" y="2373480"/>
            <a:ext cx="73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 &amp; AMINES 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42920" y="71280"/>
          <a:ext cx="8929800" cy="3071880"/>
        </p:xfrm>
        <a:graphic>
          <a:graphicData uri="http://schemas.openxmlformats.org/drawingml/2006/table">
            <a:tbl>
              <a:tblPr/>
              <a:tblGrid>
                <a:gridCol w="2286000"/>
                <a:gridCol w="3714840"/>
                <a:gridCol w="292896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71320"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TextBox 10"/>
          <p:cNvSpPr/>
          <p:nvPr/>
        </p:nvSpPr>
        <p:spPr>
          <a:xfrm>
            <a:off x="3290760" y="2643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720000" y="1429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2725200" y="14292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hydro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6368760" y="1429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36"/>
          <p:cNvGraphicFramePr/>
          <p:nvPr/>
        </p:nvGraphicFramePr>
        <p:xfrm>
          <a:off x="642960" y="714240"/>
          <a:ext cx="1143000" cy="15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114300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37"/>
          <p:cNvGraphicFramePr/>
          <p:nvPr/>
        </p:nvGraphicFramePr>
        <p:xfrm>
          <a:off x="2857680" y="928800"/>
          <a:ext cx="285732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7680" y="928800"/>
                    <a:ext cx="28573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8"/>
          <p:cNvGraphicFramePr/>
          <p:nvPr/>
        </p:nvGraphicFramePr>
        <p:xfrm>
          <a:off x="6215040" y="857160"/>
          <a:ext cx="27860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857160"/>
                    <a:ext cx="2786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44360" y="3286080"/>
          <a:ext cx="8928360" cy="2435400"/>
        </p:xfrm>
        <a:graphic>
          <a:graphicData uri="http://schemas.openxmlformats.org/drawingml/2006/table">
            <a:tbl>
              <a:tblPr/>
              <a:tblGrid>
                <a:gridCol w="927360"/>
                <a:gridCol w="2447640"/>
                <a:gridCol w="2695680"/>
                <a:gridCol w="2857680"/>
              </a:tblGrid>
              <a:tr h="5652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TextBox 10"/>
          <p:cNvSpPr/>
          <p:nvPr/>
        </p:nvSpPr>
        <p:spPr>
          <a:xfrm>
            <a:off x="728640" y="21430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1"/>
          <p:cNvSpPr/>
          <p:nvPr/>
        </p:nvSpPr>
        <p:spPr>
          <a:xfrm>
            <a:off x="1214280" y="3929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1"/>
          <p:cNvSpPr/>
          <p:nvPr/>
        </p:nvSpPr>
        <p:spPr>
          <a:xfrm>
            <a:off x="4786200" y="3911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4"/>
          <p:cNvSpPr/>
          <p:nvPr/>
        </p:nvSpPr>
        <p:spPr>
          <a:xfrm>
            <a:off x="1225080" y="4643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4"/>
          <p:cNvSpPr/>
          <p:nvPr/>
        </p:nvSpPr>
        <p:spPr>
          <a:xfrm>
            <a:off x="3501720" y="457200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gr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gra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4"/>
          <p:cNvSpPr/>
          <p:nvPr/>
        </p:nvSpPr>
        <p:spPr>
          <a:xfrm>
            <a:off x="6375240" y="46432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creamy co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2"/>
          <p:cNvSpPr/>
          <p:nvPr/>
        </p:nvSpPr>
        <p:spPr>
          <a:xfrm>
            <a:off x="3139560" y="521496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y 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00040" y="0"/>
          <a:ext cx="8570880" cy="3649680"/>
        </p:xfrm>
        <a:graphic>
          <a:graphicData uri="http://schemas.openxmlformats.org/drawingml/2006/table">
            <a:tbl>
              <a:tblPr/>
              <a:tblGrid>
                <a:gridCol w="1143000"/>
                <a:gridCol w="928800"/>
                <a:gridCol w="571320"/>
                <a:gridCol w="1000080"/>
                <a:gridCol w="2357640"/>
                <a:gridCol w="2570040"/>
              </a:tblGrid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8" name="Rectangle 95"/>
          <p:cNvSpPr/>
          <p:nvPr/>
        </p:nvSpPr>
        <p:spPr>
          <a:xfrm>
            <a:off x="508680" y="571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7"/>
          <p:cNvSpPr/>
          <p:nvPr/>
        </p:nvSpPr>
        <p:spPr>
          <a:xfrm>
            <a:off x="4110480" y="233208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6"/>
          <p:cNvSpPr/>
          <p:nvPr/>
        </p:nvSpPr>
        <p:spPr>
          <a:xfrm>
            <a:off x="3300480" y="11430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6"/>
          <p:cNvSpPr/>
          <p:nvPr/>
        </p:nvSpPr>
        <p:spPr>
          <a:xfrm>
            <a:off x="2528640" y="178596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7"/>
          <p:cNvSpPr/>
          <p:nvPr/>
        </p:nvSpPr>
        <p:spPr>
          <a:xfrm>
            <a:off x="479592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0"/>
          <p:cNvSpPr/>
          <p:nvPr/>
        </p:nvSpPr>
        <p:spPr>
          <a:xfrm>
            <a:off x="3294000" y="314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ounds are 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6"/>
          <p:cNvSpPr/>
          <p:nvPr/>
        </p:nvSpPr>
        <p:spPr>
          <a:xfrm>
            <a:off x="5791320" y="17859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04760"/>
          <a:ext cx="9166320" cy="4479840"/>
        </p:xfrm>
        <a:graphic>
          <a:graphicData uri="http://schemas.openxmlformats.org/drawingml/2006/table">
            <a:tbl>
              <a:tblPr/>
              <a:tblGrid>
                <a:gridCol w="1428840"/>
                <a:gridCol w="1857240"/>
                <a:gridCol w="3214800"/>
                <a:gridCol w="2665440"/>
              </a:tblGrid>
              <a:tr h="5299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olubility &amp; Misci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4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3"/>
          <p:cNvSpPr/>
          <p:nvPr/>
        </p:nvSpPr>
        <p:spPr>
          <a:xfrm>
            <a:off x="1648080" y="12142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3744720" y="38577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:  The compounds ar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4151880" y="31431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fferv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1285920" y="22147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in large am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1500120" y="37861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4934160" y="1214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4929120" y="171468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Arrow 9"/>
          <p:cNvSpPr/>
          <p:nvPr/>
        </p:nvSpPr>
        <p:spPr>
          <a:xfrm>
            <a:off x="5715000" y="185724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0" y="104760"/>
          <a:ext cx="9144000" cy="6723000"/>
        </p:xfrm>
        <a:graphic>
          <a:graphicData uri="http://schemas.openxmlformats.org/drawingml/2006/table">
            <a:tbl>
              <a:tblPr/>
              <a:tblGrid>
                <a:gridCol w="1071720"/>
                <a:gridCol w="357120"/>
                <a:gridCol w="714240"/>
                <a:gridCol w="1117800"/>
                <a:gridCol w="882360"/>
                <a:gridCol w="214560"/>
                <a:gridCol w="2046240"/>
                <a:gridCol w="2739960"/>
              </a:tblGrid>
              <a:tr h="450000">
                <a:tc gridSpan="8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37040">
                <a:tc gridSpan="8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5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12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3"/>
          <p:cNvSpPr/>
          <p:nvPr/>
        </p:nvSpPr>
        <p:spPr>
          <a:xfrm>
            <a:off x="1357200" y="164304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for solid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5361840" y="328464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4791600" y="458136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ish green p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367640" y="57736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aniline sul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5434200" y="5958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576800" y="31431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049040" y="3716280"/>
            <a:ext cx="328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+ dil. HCl + 2dps Fe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3416040" y="278136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y droplet + white ppt + fishy 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576800" y="42530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571760" y="45813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5862960" y="40766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505840" y="14842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4789440" y="19162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y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23"/>
          <p:cNvCxnSpPr/>
          <p:nvPr/>
        </p:nvCxnSpPr>
        <p:spPr>
          <a:xfrm>
            <a:off x="5857560" y="2634840"/>
            <a:ext cx="500760" cy="252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79" name="Rectangle 24"/>
          <p:cNvSpPr/>
          <p:nvPr/>
        </p:nvSpPr>
        <p:spPr>
          <a:xfrm>
            <a:off x="3301560" y="2421000"/>
            <a:ext cx="255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30% NaO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traight Arrow Connector 32"/>
          <p:cNvCxnSpPr/>
          <p:nvPr/>
        </p:nvCxnSpPr>
        <p:spPr>
          <a:xfrm flipH="1">
            <a:off x="2214360" y="4005360"/>
            <a:ext cx="2160" cy="35784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81" name="TextBox 10"/>
          <p:cNvSpPr/>
          <p:nvPr/>
        </p:nvSpPr>
        <p:spPr>
          <a:xfrm>
            <a:off x="4800960" y="3789360"/>
            <a:ext cx="156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+ 2dps Fe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7"/>
          <p:cNvCxnSpPr/>
          <p:nvPr/>
        </p:nvCxnSpPr>
        <p:spPr>
          <a:xfrm>
            <a:off x="6929280" y="3933360"/>
            <a:ext cx="643320" cy="252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83" name="TextBox 6"/>
          <p:cNvSpPr/>
          <p:nvPr/>
        </p:nvSpPr>
        <p:spPr>
          <a:xfrm>
            <a:off x="2237760" y="5286240"/>
            <a:ext cx="259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+ 2 dps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2075760" y="62866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297000"/>
          <a:ext cx="9144000" cy="5703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10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14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85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3783240" y="3643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145440" y="41720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Acetyl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0" y="4643280"/>
            <a:ext cx="91440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l aniline + 20ml acetic anhydri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eflux 20 min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29"/>
          <p:cNvCxnSpPr/>
          <p:nvPr/>
        </p:nvCxnSpPr>
        <p:spPr>
          <a:xfrm>
            <a:off x="3929040" y="4870440"/>
            <a:ext cx="1357920" cy="216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90" name="TextBox 6"/>
          <p:cNvSpPr/>
          <p:nvPr/>
        </p:nvSpPr>
        <p:spPr>
          <a:xfrm>
            <a:off x="4732560" y="5500800"/>
            <a:ext cx="43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anilide ( acetylated anil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142920" y="785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Azo dy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-71280" y="12142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(red color) + dil.HCl (until dissolve) +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2"/>
          <p:cNvGraphicFramePr/>
          <p:nvPr/>
        </p:nvGraphicFramePr>
        <p:xfrm>
          <a:off x="71280" y="1263600"/>
          <a:ext cx="29232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263600"/>
                    <a:ext cx="292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30"/>
          <p:cNvSpPr/>
          <p:nvPr/>
        </p:nvSpPr>
        <p:spPr>
          <a:xfrm>
            <a:off x="-22320" y="1773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30"/>
          <p:cNvSpPr/>
          <p:nvPr/>
        </p:nvSpPr>
        <p:spPr>
          <a:xfrm>
            <a:off x="500040" y="157176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135360" y="1928880"/>
            <a:ext cx="84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856680" y="15620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71280" y="226548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" y="226548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34"/>
          <p:cNvSpPr/>
          <p:nvPr/>
        </p:nvSpPr>
        <p:spPr>
          <a:xfrm>
            <a:off x="-20520" y="2714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500040" y="228600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own Arrow 40"/>
          <p:cNvSpPr/>
          <p:nvPr/>
        </p:nvSpPr>
        <p:spPr>
          <a:xfrm>
            <a:off x="4714920" y="257184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3425400" y="32767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42"/>
          <p:cNvSpPr/>
          <p:nvPr/>
        </p:nvSpPr>
        <p:spPr>
          <a:xfrm>
            <a:off x="5857920" y="34290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wn Arrow 44"/>
          <p:cNvSpPr/>
          <p:nvPr/>
        </p:nvSpPr>
        <p:spPr>
          <a:xfrm>
            <a:off x="5643720" y="500076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79280" y="71280"/>
          <a:ext cx="7678800" cy="3873600"/>
        </p:xfrm>
        <a:graphic>
          <a:graphicData uri="http://schemas.openxmlformats.org/drawingml/2006/table">
            <a:tbl>
              <a:tblPr/>
              <a:tblGrid>
                <a:gridCol w="4154760"/>
                <a:gridCol w="3524040"/>
              </a:tblGrid>
              <a:tr h="8233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= Identification of Cl</a:t>
                      </a:r>
                      <a:r>
                        <a:rPr b="1" lang="en-US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/ SO4 </a:t>
                      </a:r>
                      <a:r>
                        <a:rPr b="1" lang="en-US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(acidic radical))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15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</a:tbl>
          </a:graphicData>
        </a:graphic>
      </p:graphicFrame>
      <p:sp>
        <p:nvSpPr>
          <p:cNvPr id="308" name="TextBox 3"/>
          <p:cNvSpPr/>
          <p:nvPr/>
        </p:nvSpPr>
        <p:spPr>
          <a:xfrm>
            <a:off x="611280" y="33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 crudy ppt of Ag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254160" y="1857240"/>
          <a:ext cx="3571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57240"/>
                    <a:ext cx="3571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30"/>
          <p:cNvSpPr/>
          <p:nvPr/>
        </p:nvSpPr>
        <p:spPr>
          <a:xfrm>
            <a:off x="611280" y="1928880"/>
            <a:ext cx="372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HCl+ Distilled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H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dps Ag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 nitrat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34"/>
          <p:cNvGraphicFramePr/>
          <p:nvPr/>
        </p:nvGraphicFramePr>
        <p:xfrm>
          <a:off x="4357800" y="1857240"/>
          <a:ext cx="42840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1857240"/>
                    <a:ext cx="4284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30"/>
          <p:cNvSpPr/>
          <p:nvPr/>
        </p:nvSpPr>
        <p:spPr>
          <a:xfrm>
            <a:off x="4714920" y="13572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BaCl</a:t>
            </a:r>
            <a:r>
              <a:rPr b="1" i="1" lang="en-GB" sz="2400" spc="-1" strike="noStrike" u="sng" baseline="-25000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2"/>
          <p:cNvSpPr/>
          <p:nvPr/>
        </p:nvSpPr>
        <p:spPr>
          <a:xfrm>
            <a:off x="4500720" y="3429000"/>
            <a:ext cx="300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 ppt of BaSO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own Arrow 16"/>
          <p:cNvSpPr/>
          <p:nvPr/>
        </p:nvSpPr>
        <p:spPr>
          <a:xfrm>
            <a:off x="2286000" y="278136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>
            <a:off x="4643280" y="1928880"/>
            <a:ext cx="3286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sulphate + Distilled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HCl + 1 dps BaCl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6357960" y="26431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0"/>
          <p:cNvSpPr/>
          <p:nvPr/>
        </p:nvSpPr>
        <p:spPr>
          <a:xfrm>
            <a:off x="1285920" y="13572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AgNO</a:t>
            </a:r>
            <a:r>
              <a:rPr b="1" i="1" lang="en-GB" sz="2400" spc="-1" strike="noStrike" u="sng" baseline="-25000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14200" y="4143240"/>
          <a:ext cx="7858080" cy="2357640"/>
        </p:xfrm>
        <a:graphic>
          <a:graphicData uri="http://schemas.openxmlformats.org/drawingml/2006/table">
            <a:tbl>
              <a:tblPr/>
              <a:tblGrid>
                <a:gridCol w="1785960"/>
                <a:gridCol w="2428920"/>
                <a:gridCol w="364320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9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68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26"/>
          <p:cNvSpPr/>
          <p:nvPr/>
        </p:nvSpPr>
        <p:spPr>
          <a:xfrm>
            <a:off x="2299680" y="5357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0 – 31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2442240" y="5929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4436640" y="53578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 stretching band (function 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4643280" y="592920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hanadi</cp:lastModifiedBy>
  <dcterms:modified xsi:type="dcterms:W3CDTF">2014-11-16T09:18:33Z</dcterms:modified>
  <cp:revision>114</cp:revision>
  <dc:subject/>
  <dc:title>Slide 1</dc:title>
</cp:coreProperties>
</file>