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A12B-74CC-45BA-9231-86001F7A25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C693-EF48-475D-8D8D-372CB5A567B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03C4-487A-4745-AB34-313CC1F6AA8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4026-49E8-4023-A20E-5A98ACFF4C3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A9B6-65C4-48B1-BD85-9F561BCF16A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319-557B-4666-885B-2DC7B7EE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7CBD-6510-46B7-BDD7-46A31070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212-99AD-490A-A130-31DD5D35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272C-8096-48E5-9DBF-C0E8A3BB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F5AF-4683-4060-ABF6-5F12BE77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D72B-4BD6-4D91-BB26-01FB7FAC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60CE-3204-48DE-99BE-A0CF0A11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85DE-05B5-4F5E-B73D-35DBA43C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50B2-1C77-4225-90C5-445E9CD8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9E5F-C9ED-4F9E-AAF5-079D9936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02AB-AA39-41A6-B498-A9E61FC3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0ECB-809B-4AC5-88E9-3C2BC3C4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5F8A-876B-42CF-9B69-FE7E1A63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B84E-EECD-4CD0-97DC-C71A5DAB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0000-1754-4F6F-AFB7-743A57DC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E979-63EF-4A51-B422-75FEE15A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0EA9-22BB-449E-91CB-D5D5B215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9664C-B8DA-46D2-8BE8-5349FFEB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C355D-5797-4CFF-95AE-357693F6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90A2E-A81F-46CD-91CD-AFFA6EDA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22C63-BD9B-4BF2-AAEC-4F478683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CFB72-E649-4CA8-88FF-24949BC6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58C0-68D7-4F57-9447-4D429CB1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0A802-8E3A-45FA-95B7-E330E1BB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23C71-1276-4384-A8E7-DCB86E9E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46027-B323-451F-A51B-AF106248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75523-294B-4801-824E-5509D862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BB293-8CB6-4C04-A7F6-15EF2F98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17225-CBAD-4ADD-B5BC-86A12377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6648F-A66A-49B7-9774-4F532E8F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F07C9-584A-4EE8-82C1-57CA8554B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77656-04BC-4847-B7B0-CF5E14FC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E8C32-0E58-4C31-BC6C-EACCFD64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134-22D4-495E-B786-1702E12D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3FC52-816C-49CC-B6E7-F07110A7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07907-B9BA-48D2-980D-B188F909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F8CE3-AE51-4FFA-A55C-1B0756AF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11981-A7B2-4A80-9589-76EB7304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00CDC-BA50-4324-8012-31524E0F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AE173-287A-4A06-8901-76661C3F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2F340-B092-41CC-9934-9E9F1EA6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EE39A-4570-45ED-9E12-81973B4A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55492-524B-4154-B445-D5F5435B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86A28-4F46-4D2C-85E4-B2529A48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B81-F357-4F3A-BEDD-D76D55A5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EEBB5-B40E-47A9-B1F8-880DF5A2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61143-F6B2-4A58-8FE9-6AAA42BA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53C85-2D52-4699-89A6-52F8AFDE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6E9BE-34E3-4857-9B9B-F97BF039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2EF44-BB1B-4BF0-99B9-6F3DB383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C1235-4655-40DE-A671-9A21F962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F7141-329F-44E0-8DA6-AD3401D5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EFA7E-4059-4449-8718-91E9501E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01D3B-4836-4C93-8FD6-FA9C4EC2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3D154-4DD4-4C38-BC11-E7C61D5F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69C8-9E93-4931-AC19-5908A2D8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A32B1-218E-41B2-A472-D30A5436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12CE-482C-4F03-875B-03080D25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E93-7A14-4BE1-955B-F279A9FB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0B6-D916-44D2-A5EC-7352BA7D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9853-25AB-4F20-B630-15524481BD41}" type="slidenum">
              <a:rPr b="0" lang="en-GB" sz="11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26FD-00AF-4AEB-91A8-F8CA23F69A88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C5FD-E0B5-42EC-BE58-75E08E21B6E7}" type="slidenum">
              <a:rPr b="0" lang="en-GB" sz="11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4d4d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4d4d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B62C-0878-45EF-B56F-99AFB6CBAE33}" type="slidenum">
              <a:rPr b="0" lang="en-GB" sz="1100" spc="-1" strike="noStrike">
                <a:solidFill>
                  <a:srgbClr val="d4d4d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a6378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2BE4-5697-40B4-ACE5-2EE278BEF380}" type="slidenum">
              <a:rPr b="0" lang="en-GB" sz="1100" spc="-1" strike="noStrike">
                <a:solidFill>
                  <a:srgbClr val="5a6378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1206000" y="2373480"/>
            <a:ext cx="731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INES &amp; AMINES SA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42920" y="71280"/>
          <a:ext cx="8929800" cy="3071880"/>
        </p:xfrm>
        <a:graphic>
          <a:graphicData uri="http://schemas.openxmlformats.org/drawingml/2006/table">
            <a:tbl>
              <a:tblPr/>
              <a:tblGrid>
                <a:gridCol w="2286000"/>
                <a:gridCol w="3714840"/>
                <a:gridCol w="2928960"/>
              </a:tblGrid>
              <a:tr h="571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  <a:tr h="1928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</a:tr>
              <a:tr h="571320">
                <a:tc gridSpan="3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9" name="TextBox 10"/>
          <p:cNvSpPr/>
          <p:nvPr/>
        </p:nvSpPr>
        <p:spPr>
          <a:xfrm>
            <a:off x="3290760" y="26431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 ar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720000" y="1429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2725200" y="14292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line hydrochl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4"/>
          <p:cNvSpPr/>
          <p:nvPr/>
        </p:nvSpPr>
        <p:spPr>
          <a:xfrm>
            <a:off x="6368760" y="14292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line sul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36"/>
          <p:cNvGraphicFramePr/>
          <p:nvPr/>
        </p:nvGraphicFramePr>
        <p:xfrm>
          <a:off x="642960" y="714240"/>
          <a:ext cx="1143000" cy="15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14240"/>
                    <a:ext cx="1143000" cy="15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37"/>
          <p:cNvGraphicFramePr/>
          <p:nvPr/>
        </p:nvGraphicFramePr>
        <p:xfrm>
          <a:off x="2857680" y="928800"/>
          <a:ext cx="2857320" cy="107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7680" y="928800"/>
                    <a:ext cx="285732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38"/>
          <p:cNvGraphicFramePr/>
          <p:nvPr/>
        </p:nvGraphicFramePr>
        <p:xfrm>
          <a:off x="6215040" y="857160"/>
          <a:ext cx="2786040" cy="100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Object 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5040" y="857160"/>
                    <a:ext cx="27860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144360" y="3286080"/>
          <a:ext cx="8928360" cy="2435400"/>
        </p:xfrm>
        <a:graphic>
          <a:graphicData uri="http://schemas.openxmlformats.org/drawingml/2006/table">
            <a:tbl>
              <a:tblPr/>
              <a:tblGrid>
                <a:gridCol w="927360"/>
                <a:gridCol w="2447640"/>
                <a:gridCol w="2695680"/>
                <a:gridCol w="2857680"/>
              </a:tblGrid>
              <a:tr h="56520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hysical properti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  <a:tr h="50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TextBox 10"/>
          <p:cNvSpPr/>
          <p:nvPr/>
        </p:nvSpPr>
        <p:spPr>
          <a:xfrm>
            <a:off x="728640" y="214308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1"/>
          <p:cNvSpPr/>
          <p:nvPr/>
        </p:nvSpPr>
        <p:spPr>
          <a:xfrm>
            <a:off x="1214280" y="39290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quid, oily,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1"/>
          <p:cNvSpPr/>
          <p:nvPr/>
        </p:nvSpPr>
        <p:spPr>
          <a:xfrm>
            <a:off x="4786200" y="39117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, fine pow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4"/>
          <p:cNvSpPr/>
          <p:nvPr/>
        </p:nvSpPr>
        <p:spPr>
          <a:xfrm>
            <a:off x="1225080" y="464328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dish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4"/>
          <p:cNvSpPr/>
          <p:nvPr/>
        </p:nvSpPr>
        <p:spPr>
          <a:xfrm>
            <a:off x="3501720" y="457200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gr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 gray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4"/>
          <p:cNvSpPr/>
          <p:nvPr/>
        </p:nvSpPr>
        <p:spPr>
          <a:xfrm>
            <a:off x="6375240" y="464328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creamy colo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2"/>
          <p:cNvSpPr/>
          <p:nvPr/>
        </p:nvSpPr>
        <p:spPr>
          <a:xfrm>
            <a:off x="3139560" y="521496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hy o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500040" y="0"/>
          <a:ext cx="8570880" cy="3649680"/>
        </p:xfrm>
        <a:graphic>
          <a:graphicData uri="http://schemas.openxmlformats.org/drawingml/2006/table">
            <a:tbl>
              <a:tblPr/>
              <a:tblGrid>
                <a:gridCol w="1143000"/>
                <a:gridCol w="928800"/>
                <a:gridCol w="571320"/>
                <a:gridCol w="1000080"/>
                <a:gridCol w="2357640"/>
                <a:gridCol w="2570040"/>
              </a:tblGrid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 hydrochlor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 sulph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  <a:tr h="500040">
                <a:tc grid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0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nflamm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2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hange in appea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7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hange in o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Residu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om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8" name="Rectangle 95"/>
          <p:cNvSpPr/>
          <p:nvPr/>
        </p:nvSpPr>
        <p:spPr>
          <a:xfrm>
            <a:off x="508680" y="57168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gnition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7"/>
          <p:cNvSpPr/>
          <p:nvPr/>
        </p:nvSpPr>
        <p:spPr>
          <a:xfrm>
            <a:off x="4110480" y="233208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6"/>
          <p:cNvSpPr/>
          <p:nvPr/>
        </p:nvSpPr>
        <p:spPr>
          <a:xfrm>
            <a:off x="3300480" y="1143000"/>
            <a:ext cx="39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ble, luminous, smo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6"/>
          <p:cNvSpPr/>
          <p:nvPr/>
        </p:nvSpPr>
        <p:spPr>
          <a:xfrm>
            <a:off x="2528640" y="1785960"/>
            <a:ext cx="16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atil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7"/>
          <p:cNvSpPr/>
          <p:nvPr/>
        </p:nvSpPr>
        <p:spPr>
          <a:xfrm>
            <a:off x="4795920" y="2708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sid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0"/>
          <p:cNvSpPr/>
          <p:nvPr/>
        </p:nvSpPr>
        <p:spPr>
          <a:xfrm>
            <a:off x="3294000" y="314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the compounds are ar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6"/>
          <p:cNvSpPr/>
          <p:nvPr/>
        </p:nvSpPr>
        <p:spPr>
          <a:xfrm>
            <a:off x="5791320" y="178596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l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5" name=""/>
          <p:cNvGraphicFramePr/>
          <p:nvPr/>
        </p:nvGraphicFramePr>
        <p:xfrm>
          <a:off x="0" y="104760"/>
          <a:ext cx="9166320" cy="4479840"/>
        </p:xfrm>
        <a:graphic>
          <a:graphicData uri="http://schemas.openxmlformats.org/drawingml/2006/table">
            <a:tbl>
              <a:tblPr/>
              <a:tblGrid>
                <a:gridCol w="1428840"/>
                <a:gridCol w="1857240"/>
                <a:gridCol w="3214800"/>
                <a:gridCol w="2665440"/>
              </a:tblGrid>
              <a:tr h="52992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olubility &amp; Miscibility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 hydrochlor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 sulph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  <a:tr h="54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l. H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e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9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mmen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6" name="TextBox 3"/>
          <p:cNvSpPr/>
          <p:nvPr/>
        </p:nvSpPr>
        <p:spPr>
          <a:xfrm>
            <a:off x="1648080" y="1214280"/>
            <a:ext cx="16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isc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9"/>
          <p:cNvSpPr/>
          <p:nvPr/>
        </p:nvSpPr>
        <p:spPr>
          <a:xfrm>
            <a:off x="3744720" y="385776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:  The compounds are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0"/>
          <p:cNvSpPr/>
          <p:nvPr/>
        </p:nvSpPr>
        <p:spPr>
          <a:xfrm>
            <a:off x="4151880" y="314316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efferv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1"/>
          <p:cNvSpPr/>
          <p:nvPr/>
        </p:nvSpPr>
        <p:spPr>
          <a:xfrm>
            <a:off x="1285920" y="221472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ible in large amou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0"/>
          <p:cNvSpPr/>
          <p:nvPr/>
        </p:nvSpPr>
        <p:spPr>
          <a:xfrm>
            <a:off x="1500120" y="378612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ic 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"/>
          <p:cNvSpPr/>
          <p:nvPr/>
        </p:nvSpPr>
        <p:spPr>
          <a:xfrm>
            <a:off x="4934160" y="121428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4929120" y="1714680"/>
            <a:ext cx="257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ight Arrow 9"/>
          <p:cNvSpPr/>
          <p:nvPr/>
        </p:nvSpPr>
        <p:spPr>
          <a:xfrm>
            <a:off x="5715000" y="1857240"/>
            <a:ext cx="71424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f0ad00"/>
          </a:solidFill>
          <a:ln w="399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0" y="104760"/>
          <a:ext cx="9144000" cy="6723000"/>
        </p:xfrm>
        <a:graphic>
          <a:graphicData uri="http://schemas.openxmlformats.org/drawingml/2006/table">
            <a:tbl>
              <a:tblPr/>
              <a:tblGrid>
                <a:gridCol w="1071720"/>
                <a:gridCol w="357120"/>
                <a:gridCol w="714240"/>
                <a:gridCol w="1117800"/>
                <a:gridCol w="882360"/>
                <a:gridCol w="214560"/>
                <a:gridCol w="2046240"/>
                <a:gridCol w="2739960"/>
              </a:tblGrid>
              <a:tr h="450000">
                <a:tc gridSpan="8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reliminary test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240"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 hydrochlorid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 sulphat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  <a:tr h="437040">
                <a:tc gridSpan="8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en-US" sz="2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da lim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040"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040"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040">
                <a:tc gridSpan="4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en-US" sz="2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% NaOH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040"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040"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920"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eCl</a:t>
                      </a:r>
                      <a:r>
                        <a:rPr b="1" i="1" lang="en-US" sz="23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gridSpan="5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040"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040"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 gridSpan="3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en-US" sz="2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nc. H</a:t>
                      </a:r>
                      <a:r>
                        <a:rPr b="1" i="1" lang="en-US" sz="23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2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i="1" lang="en-US" sz="23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040"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120">
                <a:tc gridSpan="2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TextBox 3"/>
          <p:cNvSpPr/>
          <p:nvPr/>
        </p:nvSpPr>
        <p:spPr>
          <a:xfrm>
            <a:off x="1357200" y="1643040"/>
            <a:ext cx="18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for solid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5361840" y="328464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4791600" y="4581360"/>
            <a:ext cx="19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ish green p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1367640" y="577368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ppt of aniline sulph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5434200" y="59580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1576800" y="314316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0"/>
          <p:cNvSpPr/>
          <p:nvPr/>
        </p:nvSpPr>
        <p:spPr>
          <a:xfrm>
            <a:off x="1049040" y="3716280"/>
            <a:ext cx="3283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drop aniline + dil. HCl + 2dps FeC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3416040" y="2781360"/>
            <a:ext cx="46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ly droplet + white ppt + fishy o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0"/>
          <p:cNvSpPr/>
          <p:nvPr/>
        </p:nvSpPr>
        <p:spPr>
          <a:xfrm>
            <a:off x="1576800" y="42530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1571760" y="458136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5862960" y="40766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9"/>
          <p:cNvSpPr/>
          <p:nvPr/>
        </p:nvSpPr>
        <p:spPr>
          <a:xfrm>
            <a:off x="5505840" y="14842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9"/>
          <p:cNvSpPr/>
          <p:nvPr/>
        </p:nvSpPr>
        <p:spPr>
          <a:xfrm>
            <a:off x="4789440" y="1916280"/>
            <a:ext cx="12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hy o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traight Arrow Connector 23"/>
          <p:cNvCxnSpPr/>
          <p:nvPr/>
        </p:nvCxnSpPr>
        <p:spPr>
          <a:xfrm>
            <a:off x="5857560" y="2634840"/>
            <a:ext cx="500760" cy="2520"/>
          </a:xfrm>
          <a:prstGeom prst="straightConnector1">
            <a:avLst/>
          </a:prstGeom>
          <a:ln w="1152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279" name="Rectangle 24"/>
          <p:cNvSpPr/>
          <p:nvPr/>
        </p:nvSpPr>
        <p:spPr>
          <a:xfrm>
            <a:off x="3301560" y="2421000"/>
            <a:ext cx="255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t +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 30% NaO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Straight Arrow Connector 32"/>
          <p:cNvCxnSpPr/>
          <p:nvPr/>
        </p:nvCxnSpPr>
        <p:spPr>
          <a:xfrm flipH="1">
            <a:off x="2214360" y="4005360"/>
            <a:ext cx="2160" cy="357840"/>
          </a:xfrm>
          <a:prstGeom prst="straightConnector1">
            <a:avLst/>
          </a:prstGeom>
          <a:ln w="1152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281" name="TextBox 10"/>
          <p:cNvSpPr/>
          <p:nvPr/>
        </p:nvSpPr>
        <p:spPr>
          <a:xfrm>
            <a:off x="4800960" y="3789360"/>
            <a:ext cx="1567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t + 2dps FeC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37"/>
          <p:cNvCxnSpPr/>
          <p:nvPr/>
        </p:nvCxnSpPr>
        <p:spPr>
          <a:xfrm>
            <a:off x="6929280" y="3933360"/>
            <a:ext cx="643320" cy="2520"/>
          </a:xfrm>
          <a:prstGeom prst="straightConnector1">
            <a:avLst/>
          </a:prstGeom>
          <a:ln w="1152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283" name="TextBox 6"/>
          <p:cNvSpPr/>
          <p:nvPr/>
        </p:nvSpPr>
        <p:spPr>
          <a:xfrm>
            <a:off x="2237760" y="5286240"/>
            <a:ext cx="259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line + 2 dps</a:t>
            </a:r>
            <a:r>
              <a:rPr b="1" i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.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2075760" y="628668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297000"/>
          <a:ext cx="9144000" cy="57038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0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General test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  <a:tr h="1013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</a:tr>
              <a:tr h="142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  <a:tr h="50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</a:tr>
              <a:tr h="50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  <a:tr h="85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</a:tr>
              <a:tr h="50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</a:tbl>
          </a:graphicData>
        </a:graphic>
      </p:graphicFrame>
      <p:sp>
        <p:nvSpPr>
          <p:cNvPr id="286" name="TextBox 10"/>
          <p:cNvSpPr/>
          <p:nvPr/>
        </p:nvSpPr>
        <p:spPr>
          <a:xfrm>
            <a:off x="3783240" y="36432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nge – red d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6"/>
          <p:cNvSpPr/>
          <p:nvPr/>
        </p:nvSpPr>
        <p:spPr>
          <a:xfrm>
            <a:off x="145440" y="417204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Acetylation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7"/>
          <p:cNvSpPr/>
          <p:nvPr/>
        </p:nvSpPr>
        <p:spPr>
          <a:xfrm>
            <a:off x="0" y="4643280"/>
            <a:ext cx="914400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ml aniline + 20ml acetic anhydrid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eflux 20 min.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in 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traight Arrow Connector 29"/>
          <p:cNvCxnSpPr/>
          <p:nvPr/>
        </p:nvCxnSpPr>
        <p:spPr>
          <a:xfrm>
            <a:off x="3929040" y="4870440"/>
            <a:ext cx="1357920" cy="2160"/>
          </a:xfrm>
          <a:prstGeom prst="straightConnector1">
            <a:avLst/>
          </a:prstGeom>
          <a:ln w="11520">
            <a:solidFill>
              <a:srgbClr val="f0ad00"/>
            </a:solidFill>
            <a:miter/>
            <a:tailEnd len="med" type="arrow" w="med"/>
          </a:ln>
        </p:spPr>
      </p:cxnSp>
      <p:sp>
        <p:nvSpPr>
          <p:cNvPr id="290" name="TextBox 6"/>
          <p:cNvSpPr/>
          <p:nvPr/>
        </p:nvSpPr>
        <p:spPr>
          <a:xfrm>
            <a:off x="4732560" y="5500800"/>
            <a:ext cx="437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ppt of anilide ( acetylated anili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9"/>
          <p:cNvSpPr/>
          <p:nvPr/>
        </p:nvSpPr>
        <p:spPr>
          <a:xfrm>
            <a:off x="142920" y="78588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 Azo dye formation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9"/>
          <p:cNvSpPr/>
          <p:nvPr/>
        </p:nvSpPr>
        <p:spPr>
          <a:xfrm>
            <a:off x="-71280" y="1214280"/>
            <a:ext cx="878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drop aniline (red color) + dil.HCl (until dissolve) +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od. Nitrite s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faint pale yellow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2"/>
          <p:cNvGraphicFramePr/>
          <p:nvPr/>
        </p:nvGraphicFramePr>
        <p:xfrm>
          <a:off x="71280" y="1263600"/>
          <a:ext cx="292320" cy="59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1263600"/>
                    <a:ext cx="29232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30"/>
          <p:cNvSpPr/>
          <p:nvPr/>
        </p:nvSpPr>
        <p:spPr>
          <a:xfrm>
            <a:off x="-22320" y="17733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ight Arrow 30"/>
          <p:cNvSpPr/>
          <p:nvPr/>
        </p:nvSpPr>
        <p:spPr>
          <a:xfrm>
            <a:off x="500040" y="1571760"/>
            <a:ext cx="71424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0ad00"/>
          </a:solidFill>
          <a:ln w="399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2"/>
          <p:cNvSpPr/>
          <p:nvPr/>
        </p:nvSpPr>
        <p:spPr>
          <a:xfrm>
            <a:off x="135360" y="1928880"/>
            <a:ext cx="84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lonna MT"/>
                <a:ea typeface="Times New Roman"/>
              </a:rPr>
              <a:t>It is unstable because that we must put it in ice, without ice it will decom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1"/>
          <p:cNvSpPr/>
          <p:nvPr/>
        </p:nvSpPr>
        <p:spPr>
          <a:xfrm>
            <a:off x="3856680" y="15620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Diazonium salt formed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Object 3"/>
          <p:cNvGraphicFramePr/>
          <p:nvPr/>
        </p:nvGraphicFramePr>
        <p:xfrm>
          <a:off x="71280" y="2265480"/>
          <a:ext cx="29232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280" y="2265480"/>
                    <a:ext cx="292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Rectangle 34"/>
          <p:cNvSpPr/>
          <p:nvPr/>
        </p:nvSpPr>
        <p:spPr>
          <a:xfrm>
            <a:off x="-20520" y="27147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3"/>
          <p:cNvSpPr/>
          <p:nvPr/>
        </p:nvSpPr>
        <p:spPr>
          <a:xfrm>
            <a:off x="500040" y="2286000"/>
            <a:ext cx="54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phenol + 10% NaOH (until phenol dissolv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Down Arrow 40"/>
          <p:cNvSpPr/>
          <p:nvPr/>
        </p:nvSpPr>
        <p:spPr>
          <a:xfrm>
            <a:off x="4714920" y="2571840"/>
            <a:ext cx="2142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0ad00"/>
          </a:solidFill>
          <a:ln w="399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5"/>
          <p:cNvSpPr/>
          <p:nvPr/>
        </p:nvSpPr>
        <p:spPr>
          <a:xfrm>
            <a:off x="3425400" y="3276720"/>
            <a:ext cx="24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(1) on (2) grad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ight Arrow 42"/>
          <p:cNvSpPr/>
          <p:nvPr/>
        </p:nvSpPr>
        <p:spPr>
          <a:xfrm>
            <a:off x="5857920" y="342900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0ad00"/>
          </a:solidFill>
          <a:ln w="399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Down Arrow 44"/>
          <p:cNvSpPr/>
          <p:nvPr/>
        </p:nvSpPr>
        <p:spPr>
          <a:xfrm>
            <a:off x="5643720" y="5000760"/>
            <a:ext cx="285480" cy="4284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0ad00"/>
          </a:solidFill>
          <a:ln w="399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7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2" dur="770" fill="hold"/>
                                        <p:tgtEl>
                                          <p:spTgt spid="2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4" dur="77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77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5" dur="770" fill="hold"/>
                                        <p:tgtEl>
                                          <p:spTgt spid="2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7" dur="77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9" dur="77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179280" y="71280"/>
          <a:ext cx="7678800" cy="3873600"/>
        </p:xfrm>
        <a:graphic>
          <a:graphicData uri="http://schemas.openxmlformats.org/drawingml/2006/table">
            <a:tbl>
              <a:tblPr/>
              <a:tblGrid>
                <a:gridCol w="4154760"/>
                <a:gridCol w="3524040"/>
              </a:tblGrid>
              <a:tr h="8233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 = Identification of Cl</a:t>
                      </a:r>
                      <a:r>
                        <a:rPr b="1" lang="en-US" sz="2400" spc="-1" strike="noStrike" u="sng" baseline="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/ SO4 </a:t>
                      </a:r>
                      <a:r>
                        <a:rPr b="1" lang="en-US" sz="2400" spc="-1" strike="noStrike" u="sng" baseline="30000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(acidic radical))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 H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 sulph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  <a:tr h="444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</a:tr>
              <a:tr h="153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  <a:tr h="551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</a:tr>
            </a:tbl>
          </a:graphicData>
        </a:graphic>
      </p:graphicFrame>
      <p:sp>
        <p:nvSpPr>
          <p:cNvPr id="308" name="TextBox 3"/>
          <p:cNvSpPr/>
          <p:nvPr/>
        </p:nvSpPr>
        <p:spPr>
          <a:xfrm>
            <a:off x="611280" y="33577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ite crudy ppt of Ag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2"/>
          <p:cNvGraphicFramePr/>
          <p:nvPr/>
        </p:nvGraphicFramePr>
        <p:xfrm>
          <a:off x="254160" y="1857240"/>
          <a:ext cx="35712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" y="1857240"/>
                    <a:ext cx="35712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Rectangle 30"/>
          <p:cNvSpPr/>
          <p:nvPr/>
        </p:nvSpPr>
        <p:spPr>
          <a:xfrm>
            <a:off x="611280" y="1928880"/>
            <a:ext cx="3725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line HCl+ Distilled H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 Dil. HN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 dps AgN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ver nitrate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34"/>
          <p:cNvGraphicFramePr/>
          <p:nvPr/>
        </p:nvGraphicFramePr>
        <p:xfrm>
          <a:off x="4357800" y="1857240"/>
          <a:ext cx="428400" cy="10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7800" y="1857240"/>
                    <a:ext cx="42840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Rectangle 30"/>
          <p:cNvSpPr/>
          <p:nvPr/>
        </p:nvSpPr>
        <p:spPr>
          <a:xfrm>
            <a:off x="4714920" y="1357200"/>
            <a:ext cx="242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BaCl</a:t>
            </a:r>
            <a:r>
              <a:rPr b="1" i="1" lang="en-GB" sz="2400" spc="-1" strike="noStrike" u="sng" baseline="-25000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i="1" lang="en-GB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2"/>
          <p:cNvSpPr/>
          <p:nvPr/>
        </p:nvSpPr>
        <p:spPr>
          <a:xfrm>
            <a:off x="4500720" y="3429000"/>
            <a:ext cx="300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ite ppt of BaSO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Down Arrow 16"/>
          <p:cNvSpPr/>
          <p:nvPr/>
        </p:nvSpPr>
        <p:spPr>
          <a:xfrm>
            <a:off x="2286000" y="2781360"/>
            <a:ext cx="42876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ad00"/>
          </a:solidFill>
          <a:ln w="399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0"/>
          <p:cNvSpPr/>
          <p:nvPr/>
        </p:nvSpPr>
        <p:spPr>
          <a:xfrm>
            <a:off x="4643280" y="1928880"/>
            <a:ext cx="32864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line sulphate + Distilled H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 Dil. HCl + 1 dps BaCl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Down Arrow 18"/>
          <p:cNvSpPr/>
          <p:nvPr/>
        </p:nvSpPr>
        <p:spPr>
          <a:xfrm>
            <a:off x="6357960" y="2643120"/>
            <a:ext cx="500040" cy="64296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0ad00"/>
          </a:solidFill>
          <a:ln w="399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0"/>
          <p:cNvSpPr/>
          <p:nvPr/>
        </p:nvSpPr>
        <p:spPr>
          <a:xfrm>
            <a:off x="1285920" y="1357200"/>
            <a:ext cx="242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AgNO</a:t>
            </a:r>
            <a:r>
              <a:rPr b="1" i="1" lang="en-GB" sz="2400" spc="-1" strike="noStrike" u="sng" baseline="-25000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1" i="1" lang="en-GB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tes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14200" y="4143240"/>
          <a:ext cx="7858080" cy="2357640"/>
        </p:xfrm>
        <a:graphic>
          <a:graphicData uri="http://schemas.openxmlformats.org/drawingml/2006/table">
            <a:tbl>
              <a:tblPr/>
              <a:tblGrid>
                <a:gridCol w="1785960"/>
                <a:gridCol w="2428920"/>
                <a:gridCol w="3643200"/>
              </a:tblGrid>
              <a:tr h="581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m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  <a:tr h="49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eaf3f6"/>
                    </a:solidFill>
                  </a:tcPr>
                </a:tc>
              </a:tr>
              <a:tr h="68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0b5cc"/>
                      </a:solidFill>
                    </a:lnL>
                    <a:lnR w="5760">
                      <a:solidFill>
                        <a:srgbClr val="60b5cc"/>
                      </a:solidFill>
                    </a:lnR>
                    <a:lnT w="5760">
                      <a:solidFill>
                        <a:srgbClr val="60b5cc"/>
                      </a:solidFill>
                    </a:lnT>
                    <a:lnB w="5760">
                      <a:solidFill>
                        <a:srgbClr val="60b5cc"/>
                      </a:solidFill>
                    </a:lnB>
                    <a:solidFill>
                      <a:srgbClr val="d2e5ec"/>
                    </a:solidFill>
                  </a:tcPr>
                </a:tc>
              </a:tr>
            </a:tbl>
          </a:graphicData>
        </a:graphic>
      </p:graphicFrame>
      <p:sp>
        <p:nvSpPr>
          <p:cNvPr id="321" name="Rectangle 26"/>
          <p:cNvSpPr/>
          <p:nvPr/>
        </p:nvSpPr>
        <p:spPr>
          <a:xfrm>
            <a:off x="2299680" y="5357880"/>
            <a:ext cx="202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00 – 310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8"/>
          <p:cNvSpPr/>
          <p:nvPr/>
        </p:nvSpPr>
        <p:spPr>
          <a:xfrm>
            <a:off x="2442240" y="592920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300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0"/>
          <p:cNvSpPr/>
          <p:nvPr/>
        </p:nvSpPr>
        <p:spPr>
          <a:xfrm>
            <a:off x="4436640" y="5357880"/>
            <a:ext cx="366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H stretching band (function 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1"/>
          <p:cNvSpPr/>
          <p:nvPr/>
        </p:nvSpPr>
        <p:spPr>
          <a:xfrm>
            <a:off x="4643280" y="592920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aromatic stre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0:51:46Z</dcterms:created>
  <dc:creator>admin</dc:creator>
  <dc:description/>
  <dc:language>en-US</dc:language>
  <cp:lastModifiedBy>hanadi</cp:lastModifiedBy>
  <dcterms:modified xsi:type="dcterms:W3CDTF">2014-11-16T09:18:33Z</dcterms:modified>
  <cp:revision>114</cp:revision>
  <dc:subject/>
  <dc:title>Slide 1</dc:title>
</cp:coreProperties>
</file>