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28DE-404E-41EB-91C2-C0A69E28EF8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yon tree frog (right) Eastern Spadefoot Wayne Van Denveng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C4CDB032-2B25-4559-B661-489F8E5C7804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treefrog by Wayne Van Denve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91BADE61-FBCD-469B-8864-41A343DCA102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B2BF-0C81-421C-852F-FCE90301C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96EA-8FB6-4430-A7AB-E0F3B6FAF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7FE4-F647-40A2-8635-C3EB683F9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1A9A-87DA-4A5F-A4C6-0B7092D52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4421-7346-452F-BA94-B5302C71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8637-592B-4395-9388-8D3EE280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4C4C-590B-4B52-871E-39ABD69CC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131C-3978-4A4E-BE5D-553A9F1DB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F353-ED22-437F-86DF-BA916878B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C06F-560A-494F-9394-65D6612F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D410-7A1D-40FD-A054-558EEEE2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46B0-994C-4EA2-AFD1-33B6A0B3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444D7-816F-4662-B39F-5E35535CF9B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116000" y="3716280"/>
            <a:ext cx="669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الضفادع والعلاجيم: وتشكل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88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38320" y="1557360"/>
            <a:ext cx="393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000000"/>
                </a:solidFill>
                <a:latin typeface="Arial"/>
              </a:rPr>
              <a:t>البرمائيات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319040" y="1128600"/>
            <a:ext cx="6505920" cy="46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بيوض الضفاد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258920" y="1557360"/>
            <a:ext cx="6840360" cy="45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059280" y="2276640"/>
            <a:ext cx="30477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32360" y="188640"/>
            <a:ext cx="36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دورة حياة الضفد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572000" y="2421000"/>
            <a:ext cx="4105440" cy="3610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08000" y="476280"/>
            <a:ext cx="44575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Harenicolor - Wayne Van Devender - 1.jpg"/>
          <p:cNvPicPr/>
          <p:nvPr/>
        </p:nvPicPr>
        <p:blipFill>
          <a:blip r:embed="rId2"/>
          <a:stretch/>
        </p:blipFill>
        <p:spPr>
          <a:xfrm>
            <a:off x="826920" y="260280"/>
            <a:ext cx="7471080" cy="2533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D:\PMcKay\Images\Herp Pics\Anurans\Scaphiopus holbrooki\Scaphiopus holbrookii  - Wayne Van Devender - SC Berkeley Co 1999 2.jpg"/>
          <p:cNvPicPr/>
          <p:nvPr/>
        </p:nvPicPr>
        <p:blipFill>
          <a:blip r:embed="rId3"/>
          <a:stretch/>
        </p:blipFill>
        <p:spPr>
          <a:xfrm>
            <a:off x="2556000" y="2924280"/>
            <a:ext cx="4692600" cy="3000240"/>
          </a:xfrm>
          <a:prstGeom prst="rect">
            <a:avLst/>
          </a:prstGeom>
          <a:ln w="0">
            <a:noFill/>
          </a:ln>
        </p:spPr>
      </p:pic>
      <p:sp>
        <p:nvSpPr>
          <p:cNvPr id="77" name="TextBox 4"/>
          <p:cNvSpPr/>
          <p:nvPr/>
        </p:nvSpPr>
        <p:spPr>
          <a:xfrm>
            <a:off x="2050920" y="609300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أبو ذنيبة بعمر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 أسابي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أبو دنيب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24000" y="1484280"/>
            <a:ext cx="4824360" cy="46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Hyla cinerea- Wayne Van Devender -  FMNF 28 VI 04 24.JPG"/>
          <p:cNvPicPr/>
          <p:nvPr/>
        </p:nvPicPr>
        <p:blipFill>
          <a:blip r:embed="rId2"/>
          <a:stretch/>
        </p:blipFill>
        <p:spPr>
          <a:xfrm>
            <a:off x="1835280" y="1268280"/>
            <a:ext cx="5254560" cy="3942000"/>
          </a:xfrm>
          <a:prstGeom prst="rect">
            <a:avLst/>
          </a:prstGeom>
          <a:ln w="0">
            <a:noFill/>
          </a:ln>
        </p:spPr>
      </p:pic>
      <p:sp>
        <p:nvSpPr>
          <p:cNvPr id="81" name="TextBox 4"/>
          <p:cNvSpPr/>
          <p:nvPr/>
        </p:nvSpPr>
        <p:spPr>
          <a:xfrm>
            <a:off x="1979640" y="566100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أبو ذنيبة بعمر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 أسبوع تقريبا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 ً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24000" y="274320"/>
            <a:ext cx="296244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</a:rPr>
              <a:t>الجهاز الهضمي في الضفد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26920" y="404640"/>
            <a:ext cx="4924440" cy="61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556000" y="333360"/>
            <a:ext cx="4475160" cy="59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411280" y="404640"/>
            <a:ext cx="4707000" cy="59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صفاتها ..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متغيرة درجة الحرار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تبيت شتوي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جلدها رقيق ورطب وملون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لها فتحتان أنف خارجية ، عيونها لها جفون ، أذنان بدون صيوا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التنفس بالخياشيم ثم الرئا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الإخصاب خارجي في الضفادع والعلاجيم ، وداخلي بالسمندرات وعديمة الأرج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بيوضها غير مغطاه بقشرة كلسية ولا توجد أغشية جنيني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37960" y="933480"/>
            <a:ext cx="8713800" cy="49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تكوين بيضة البرمائي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4360" y="5589720"/>
            <a:ext cx="79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العلاجيم تضع بيوضها (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ألف) على شكل أشرطة طويلة بالماء ... أما الضفادع الأخرى فتضع بيوضها على شكل كتل أو عناقيد (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3000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) كالضفادع الحقيقية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557360" y="1509840"/>
            <a:ext cx="6029280" cy="38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000000"/>
                </a:solidFill>
                <a:latin typeface="Arial"/>
              </a:rPr>
              <a:t>للمقارنة بين بيضة البرمائيات وبيضة الزواحف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24000" y="1916280"/>
            <a:ext cx="8477280" cy="36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258920" y="549360"/>
            <a:ext cx="71722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بيوض العلاجيم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476360" y="1627200"/>
            <a:ext cx="617220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356000" y="476280"/>
            <a:ext cx="4384800" cy="3132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39640" y="2611440"/>
            <a:ext cx="51847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085840" y="952560"/>
            <a:ext cx="49723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476360" y="1690560"/>
            <a:ext cx="6191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30T06:50:29Z</dcterms:created>
  <dc:creator>خالد</dc:creator>
  <dc:description/>
  <dc:language>en-US</dc:language>
  <cp:lastModifiedBy>khale</cp:lastModifiedBy>
  <dcterms:modified xsi:type="dcterms:W3CDTF">2014-02-08T10:21:07Z</dcterms:modified>
  <cp:revision>8</cp:revision>
  <dc:subject/>
  <dc:title>Slide 1</dc:title>
</cp:coreProperties>
</file>