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B23A-3C89-46E8-B666-AD41BBE521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yon tree frog (right) Eastern Spadefoot Wayne Van Denveng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1EB1D7D3-A3C2-4A82-89B5-BDA24262C587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treefrog by Wayne Van Denve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33A2814B-F381-4C35-8B0B-A7A7ED6B6D4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67F-D719-4671-B214-B5735E9C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8CD2-45E1-4264-8410-53319B8F0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55B-91E9-49CF-9182-BACA91F4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453-7EBE-4490-8927-BA7382BB3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9116-1E7B-46B0-8DB1-E7BD7973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58A-8E4C-43EC-B2B6-90C72086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108-7BDA-4357-8BFB-58D752F4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70D-D948-42F6-BB47-40160FF1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CCE-16B9-4B49-9FD5-A3A70544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07F1-26E3-4DF3-B9BE-5EF570C1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37FB-2395-429C-A969-99F0F471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40D1-6AD1-4933-8FE0-B945B508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47BE-0BC6-4B14-A882-235A4604F10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16000" y="371628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ضفادع والعلاجيم: وتشكل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38320" y="1557360"/>
            <a:ext cx="393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-1" strike="noStrike">
                <a:solidFill>
                  <a:srgbClr val="000000"/>
                </a:solidFill>
                <a:latin typeface="Arial"/>
              </a:rPr>
              <a:t>البرمائيات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19040" y="1128600"/>
            <a:ext cx="6505920" cy="46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يوض الضفاد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6840360" cy="45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30477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360" y="18864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دورة حياة الضفد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105440" cy="3610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08000" y="476280"/>
            <a:ext cx="44575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Harenicolor - Wayne Van Devender - 1.jpg"/>
          <p:cNvPicPr/>
          <p:nvPr/>
        </p:nvPicPr>
        <p:blipFill>
          <a:blip r:embed="rId2"/>
          <a:stretch/>
        </p:blipFill>
        <p:spPr>
          <a:xfrm>
            <a:off x="826920" y="260280"/>
            <a:ext cx="7471080" cy="2533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D:\PMcKay\Images\Herp Pics\Anurans\Scaphiopus holbrooki\Scaphiopus holbrookii  - Wayne Van Devender - SC Berkeley Co 1999 2.jpg"/>
          <p:cNvPicPr/>
          <p:nvPr/>
        </p:nvPicPr>
        <p:blipFill>
          <a:blip r:embed="rId3"/>
          <a:stretch/>
        </p:blipFill>
        <p:spPr>
          <a:xfrm>
            <a:off x="2556000" y="2924280"/>
            <a:ext cx="4692600" cy="30002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2050920" y="60930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بو ذنيبة بعمر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أسابي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بو دنيب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24000" y="1484280"/>
            <a:ext cx="48243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Hyla cinerea- Wayne Van Devender -  FMNF 28 VI 04 24.JPG"/>
          <p:cNvPicPr/>
          <p:nvPr/>
        </p:nvPicPr>
        <p:blipFill>
          <a:blip r:embed="rId2"/>
          <a:stretch/>
        </p:blipFill>
        <p:spPr>
          <a:xfrm>
            <a:off x="1835280" y="1268280"/>
            <a:ext cx="5254560" cy="394200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979640" y="566100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أبو ذنيبة بعمر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أسبوع تقريبا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 ً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24000" y="274320"/>
            <a:ext cx="2962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00"/>
                </a:solidFill>
                <a:latin typeface="Arial"/>
              </a:rPr>
              <a:t>الجهاز الهضمي في الضفد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4924440" cy="61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556000" y="333360"/>
            <a:ext cx="447516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707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صفاتها 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تبيت شتوي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جلدها رقيق ورطب وملون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لها فتحتان أنف خارجية ، عيونها لها جفون ، أذنان بدون صيو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نفس بالخياشيم ثم الرئ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إخصاب خارجي في الضفادع والعلاجيم ، وداخلي بالسمندرات وعديمة الأرج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بيوضها غير مغطاه بقشرة كلسية ولا توجد أغشية جنين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7960" y="933480"/>
            <a:ext cx="8713800" cy="49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كوين بيضة البرمائي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58972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علاجيم تضع بيوضها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ألف) على شكل أشرطة طويلة بالماء ... أما الضفادع الأخرى فتضع بيوضها على شكل كتل أو عناقيد (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) كالضفادع الحقيقية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57360" y="1509840"/>
            <a:ext cx="602928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200" spc="-1" strike="noStrike">
                <a:solidFill>
                  <a:srgbClr val="000000"/>
                </a:solidFill>
                <a:latin typeface="Arial"/>
              </a:rPr>
              <a:t>للمقارنة بين بيضة البرمائيات وبيضة الزواحف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4000" y="1916280"/>
            <a:ext cx="8477280" cy="36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7172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بيوض العلاجي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476360" y="1627200"/>
            <a:ext cx="61722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56000" y="476280"/>
            <a:ext cx="4384800" cy="3132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261144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085840" y="952560"/>
            <a:ext cx="4972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76360" y="1690560"/>
            <a:ext cx="6191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6:50:29Z</dcterms:created>
  <dc:creator>خالد</dc:creator>
  <dc:description/>
  <dc:language>en-US</dc:language>
  <cp:lastModifiedBy>khale</cp:lastModifiedBy>
  <dcterms:modified xsi:type="dcterms:W3CDTF">2014-02-08T10:21:07Z</dcterms:modified>
  <cp:revision>8</cp:revision>
  <dc:subject/>
  <dc:title>Slide 1</dc:title>
</cp:coreProperties>
</file>