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whoosh.wav" ContentType="audio/x-wav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669-C67B-41E5-AD5E-33C0BF24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08C7-F7C4-4073-AA1B-F186C838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ECDB-B65B-4BBA-9C66-B23A7F9F6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8FC6-952E-4D41-83CD-81B3ACC7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5ED6-0BAC-40C7-9935-0763B026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FDE1-BC28-47A1-9076-0D0F284E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3869-A378-4F4B-A329-01C58E4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1010-0017-4EB9-AB5E-BC5266C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A54D-328D-4422-A4BF-61BB125C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90C0-4959-41EC-AA0B-E9BB44C7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EC7-6279-42C9-AF35-0FD8BDB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0214-1CEF-47DB-907B-0712AD3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FB1D-1E43-489E-95FD-B38435CF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43B0-A162-4946-8F4A-27C88590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ED3E-09AA-4CCB-8A18-9FC5454B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3CABF-FA75-44C3-9BBE-A2477929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491-EB97-442B-B08C-A21E2E6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86E-0FE8-4A39-B0D1-7BF2F9E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2163-24FD-4FD4-A5D9-76C46DA4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E68A-4108-4C9F-9D82-CC3A3801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ACDA-B646-444A-B478-108F0C0E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54F-4272-4188-957C-303C6BCA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AF1-10AF-4526-8560-3C142CCF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7AA-42FD-40FC-8510-58CE6622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ARTHSEPA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37A4-D918-4A76-9FBB-3F9357CE2BF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1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B0F0-EB24-4526-9FB5-A2B35ED4166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B0A-AD07-465A-9E25-7D757BE826D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14680" y="3492360"/>
            <a:ext cx="661824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. Zohair Al aser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CPC  Emergency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CPC  Critical Care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ant Professor &amp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irman Dept. of Emergency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ge of Medici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g Saud University Hospital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142800" y="1071720"/>
            <a:ext cx="2395800" cy="58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84FC-10AD-488D-BA1A-32BB1AF81C1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1752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tiology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99680" y="3499920"/>
            <a:ext cx="8381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diopathic anaphylaxis is one of the most common causes, accounting for approximately one third of cases in retrospective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s a diagnosis of exclus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276720" y="838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485-E0B8-4055-A5AB-7C9C964F29F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uthors reserve the term anaphylaxis only for </a:t>
            </a:r>
            <a:r>
              <a:rPr b="1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gE-dependent </a:t>
            </a: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nts and the term anaphylactoid to describe</a:t>
            </a:r>
            <a:r>
              <a:rPr b="1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IgE-independent </a:t>
            </a:r>
            <a:r>
              <a:rPr b="1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actions that otherwise are clinically indistinguishabl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457200" y="1981080"/>
            <a:ext cx="8381880" cy="3886200"/>
          </a:xfrm>
          <a:prstGeom prst="ellipse">
            <a:avLst/>
          </a:prstGeom>
          <a:noFill/>
          <a:ln w="57240">
            <a:solidFill>
              <a:srgbClr val="ffff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342936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6075-3025-4E1C-AD49-CF381B2045A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336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105264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07180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8" descr="wpe10.gif (4394 bytes)"/>
          <p:cNvPicPr/>
          <p:nvPr/>
        </p:nvPicPr>
        <p:blipFill>
          <a:blip r:embed="rId1"/>
          <a:stretch/>
        </p:blipFill>
        <p:spPr>
          <a:xfrm>
            <a:off x="0" y="178596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1"/>
          <p:cNvSpPr/>
          <p:nvPr/>
        </p:nvSpPr>
        <p:spPr>
          <a:xfrm>
            <a:off x="343368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6ACC-3E9B-4E3E-9C5D-9B0307AE0C5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09480" y="2590560"/>
            <a:ext cx="381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stam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ypt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telet-activating fac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arin</a:t>
            </a:r>
            <a:br>
              <a:rPr sz="2800"/>
            </a:b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3040" y="2590560"/>
            <a:ext cx="40244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G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ukotrie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stamine-releasing fact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ym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2739600" y="257040"/>
            <a:ext cx="312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athophysiolog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033"/>
          <p:cNvSpPr/>
          <p:nvPr/>
        </p:nvSpPr>
        <p:spPr>
          <a:xfrm>
            <a:off x="152280" y="1066680"/>
            <a:ext cx="37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Biochemical medi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1035" descr="type1.gif - 7Kb"/>
          <p:cNvPicPr/>
          <p:nvPr/>
        </p:nvPicPr>
        <p:blipFill>
          <a:blip r:embed="rId1"/>
          <a:stretch/>
        </p:blipFill>
        <p:spPr>
          <a:xfrm>
            <a:off x="6867360" y="0"/>
            <a:ext cx="22766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0683-3704-49B3-824D-D35239299A0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ostmortem serum tryptase might be useful in establishing anaphylaxis as the cause of death in subjects experiencing sudden dea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creased postmortem tryptase levels have been reporte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2% of  healthy adults 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h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dd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dea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66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0% of victims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SID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-360" y="76212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athophysiology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WordArt 9"/>
          <p:cNvSpPr txBox="1"/>
          <p:nvPr/>
        </p:nvSpPr>
        <p:spPr>
          <a:xfrm rot="5400000">
            <a:off x="7048080" y="37800"/>
            <a:ext cx="175248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?</a:t>
            </a:r>
            <a:endParaRPr b="0" lang="en-US" sz="2400" spc="1" strike="noStrike">
              <a:ln w="0">
                <a:noFill/>
              </a:ln>
              <a:solidFill>
                <a:srgbClr val="ccffff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B72-9C66-422D-AA1F-22302CC12DA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611280" y="1773360"/>
            <a:ext cx="77724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Recent findings: </a:t>
            </a:r>
            <a:r>
              <a:rPr b="1" lang="en-CA" sz="2000" spc="-1" strike="noStrike">
                <a:solidFill>
                  <a:srgbClr val="ffff00"/>
                </a:solidFill>
                <a:latin typeface="Arial Unicode MS"/>
              </a:rPr>
              <a:t>Anti-IgA is not responsible for most reactions.</a:t>
            </a: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Anti-haptoglobin antibodies are responsible for more reactions than anti-IgA in Japa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The cause of most reactions is still not know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Arial Unicode MS"/>
              </a:rPr>
              <a:t>The incidence of reactions to platelets is the highest compared with fresh frozen plasma and red blood cell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285120" y="765000"/>
            <a:ext cx="52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ffff00"/>
                </a:solidFill>
                <a:latin typeface="Century Gothic"/>
              </a:rPr>
              <a:t>Anaphylactic transfusion re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63040" y="5229360"/>
            <a:ext cx="8206200" cy="1191240"/>
          </a:xfrm>
          <a:prstGeom prst="rect">
            <a:avLst/>
          </a:prstGeom>
          <a:solidFill>
            <a:srgbClr val="ffffcc"/>
          </a:solidFill>
          <a:ln w="57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phylactic transfusion reac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Opinion in Hematology. 10(6):419-423, November 2003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ilstad, Colleen 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CE78-D105-4290-81F0-9A766C444D9F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781680" y="2057400"/>
            <a:ext cx="175284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–4: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–4: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5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2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1:10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Verdana"/>
              </a:rPr>
              <a:t>1:150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990720" y="2057400"/>
            <a:ext cx="45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Febrile (FNHT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Allerg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Delayed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TRA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Acute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ccff66"/>
                </a:solidFill>
                <a:latin typeface="Verdana"/>
              </a:rPr>
              <a:t>Fatal hemoly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Verdana"/>
              </a:rPr>
              <a:t>Anaphylac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609480" y="990720"/>
            <a:ext cx="7542360" cy="609480"/>
            <a:chOff x="609480" y="990720"/>
            <a:chExt cx="7542360" cy="609480"/>
          </a:xfrm>
        </p:grpSpPr>
        <p:sp>
          <p:nvSpPr>
            <p:cNvPr id="185" name="Rectangle 5"/>
            <p:cNvSpPr/>
            <p:nvPr/>
          </p:nvSpPr>
          <p:spPr>
            <a:xfrm>
              <a:off x="609480" y="990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80640" bIns="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6" name="Group 6"/>
            <p:cNvGrpSpPr/>
            <p:nvPr/>
          </p:nvGrpSpPr>
          <p:grpSpPr>
            <a:xfrm>
              <a:off x="609480" y="990720"/>
              <a:ext cx="7542360" cy="609480"/>
              <a:chOff x="609480" y="990720"/>
              <a:chExt cx="7542360" cy="609480"/>
            </a:xfrm>
          </p:grpSpPr>
          <p:sp>
            <p:nvSpPr>
              <p:cNvPr id="187" name="Rectangle 7"/>
              <p:cNvSpPr/>
              <p:nvPr/>
            </p:nvSpPr>
            <p:spPr>
              <a:xfrm>
                <a:off x="609480" y="990720"/>
                <a:ext cx="754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609480" y="990720"/>
                <a:ext cx="754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ffffcc"/>
                    </a:solidFill>
                    <a:latin typeface="Verdana"/>
                  </a:rPr>
                  <a:t>Risks of Transfusion Complication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Rectangle 9"/>
          <p:cNvSpPr/>
          <p:nvPr/>
        </p:nvSpPr>
        <p:spPr>
          <a:xfrm>
            <a:off x="900000" y="4724280"/>
            <a:ext cx="7632720" cy="5050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7C21-838F-4D76-B31C-7A693732048D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684360" y="2276640"/>
            <a:ext cx="74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The most frequent potentially severe outcomes for red cell transfusion were hemolytic reactions and volume overloa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Times New Roman"/>
              </a:rPr>
              <a:t>for platelet transfusion were major allergic reactions and bacterial contamin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250920" y="54936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Risks associated with transfusion of cellular blood components in Ca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5157720"/>
            <a:ext cx="802800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mprehensive review of risks associated with allogeneic red blood cell and platelet transfusions in Canad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68360" y="3284640"/>
            <a:ext cx="7920000" cy="122400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357120" y="1785960"/>
            <a:ext cx="8786880" cy="41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 Unicode MS"/>
              </a:rPr>
              <a:t>A 9-year retrospective revi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"severe allergic" reactions occurred in 1:53,612 blood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9630 platele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28,831 FF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00"/>
                </a:solidFill>
                <a:latin typeface="Arial Unicode MS"/>
              </a:rPr>
              <a:t>1:57,869 RBC transfu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8459640" cy="1780920"/>
          </a:xfrm>
          <a:prstGeom prst="rect">
            <a:avLst/>
          </a:prstGeom>
          <a:solidFill>
            <a:srgbClr val="ffffcc"/>
          </a:solidFill>
          <a:ln w="57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58760" bIns="158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Unicode MS"/>
              </a:rPr>
              <a:t>Domen RE, Hoeltge GA: Allergic transfusion reactions. Arch Pathol Lab Med 2003, 127:316-320. Nine-year retrospective review of all transfusion reactions reported to the Cleveland Clinic transfusion service</a:t>
            </a:r>
            <a:r>
              <a:rPr b="1" lang="en-CA" sz="2400" spc="-1" strike="noStrike">
                <a:solidFill>
                  <a:srgbClr val="000000"/>
                </a:solidFill>
                <a:latin typeface="normal 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2E5-48B3-4509-B196-276D07BFF78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928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ized urticaria and angioedema are the most common manifestation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 algn="ctr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taneous manifestations might be delayed or absent in rapidly progressive anaphylaxi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981080" y="1522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07080" y="121932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5CC9-C55B-4C77-9A15-22B7D546D23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910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omiting blood 2 times @ hom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other compla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MH : PUD 10 y ago, HT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d : ACEI &amp; metoprolo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V/S :  tach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NS, CHEST&amp; HEART exam were norma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Hg 50 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blood transfusion start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335268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2666520"/>
            <a:ext cx="4648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skin temperature </a:t>
            </a: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(redistribution of blood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rticaria (hiv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us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6920" y="259092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orb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rioral 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phoresi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ch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rn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1980720" y="174600"/>
            <a:ext cx="5410440" cy="125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F61B-73FE-4C0D-A132-BEB6B2DCEF6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2895480" y="1981080"/>
            <a:ext cx="60962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ext most common manifestations ar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symp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ffff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23"/>
          <p:cNvSpPr/>
          <p:nvPr/>
        </p:nvSpPr>
        <p:spPr>
          <a:xfrm>
            <a:off x="0" y="1066680"/>
            <a:ext cx="390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24"/>
          <p:cNvSpPr/>
          <p:nvPr/>
        </p:nvSpPr>
        <p:spPr>
          <a:xfrm>
            <a:off x="327708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26" descr="respiratory"/>
          <p:cNvPicPr/>
          <p:nvPr/>
        </p:nvPicPr>
        <p:blipFill>
          <a:blip r:embed="rId1"/>
          <a:stretch/>
        </p:blipFill>
        <p:spPr>
          <a:xfrm>
            <a:off x="228600" y="25146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9F0B-BCF2-4C1D-ABD5-9162A52EF05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971440" y="152280"/>
            <a:ext cx="33526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Manifestation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533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IG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ridor (laryngeal ede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eezing (bronchospasm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creased pulmonary compli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lmonary ede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piratory failur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867280" y="259056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YMPTOM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yspne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est discomfor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ugh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ez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Rectangle 1032"/>
          <p:cNvSpPr/>
          <p:nvPr/>
        </p:nvSpPr>
        <p:spPr>
          <a:xfrm>
            <a:off x="304920" y="1066680"/>
            <a:ext cx="23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R</a:t>
            </a:r>
            <a:r>
              <a:rPr b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spirat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1034" descr="laryngocele"/>
          <p:cNvPicPr/>
          <p:nvPr/>
        </p:nvPicPr>
        <p:blipFill>
          <a:blip r:embed="rId1"/>
          <a:stretch/>
        </p:blipFill>
        <p:spPr>
          <a:xfrm>
            <a:off x="6324480" y="83808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BD86-D47E-4570-ADE1-E6980E804FA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71800" y="228600"/>
            <a:ext cx="4952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creas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creased 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srhythm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24280" y="2590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trosternal p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diac arrest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G Change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10666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AF56-970F-44AD-AF04-5FB85834EB9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43434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festa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42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NS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n-specific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sorienta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zzin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ght-headedne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66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ai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GI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n-specif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omit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arrhea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ause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dominal pai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Rectangle 14"/>
          <p:cNvSpPr/>
          <p:nvPr/>
        </p:nvSpPr>
        <p:spPr>
          <a:xfrm>
            <a:off x="31244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A1E9-D9D6-47B5-A7EB-AC56588F20D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566568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yspnoe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1 (4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ez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50 (35.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om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7 (19.0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s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6 (18.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ynco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zzi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 (14.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e ≥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9 (13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7960" y="15235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aryngeal edem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5 (10.6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arsen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4 (9.9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BP &lt;90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3 (9.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CS &lt;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(2.8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 (2.1)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id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 (1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yan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 (1.4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133720" y="1522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D A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</a:rPr>
              <a:t>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360" y="1143000"/>
            <a:ext cx="5944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Times New Roman"/>
              </a:rPr>
              <a:t>A review of 142 patients in a singl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838080" y="6324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hony F. T. Brown MB Brisbane, Australia (J Allergy Clin Immunol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4572000" y="1905120"/>
            <a:ext cx="0" cy="3309840"/>
          </a:xfrm>
          <a:prstGeom prst="line">
            <a:avLst/>
          </a:prstGeom>
          <a:ln w="76320">
            <a:solidFill>
              <a:srgbClr val="ff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00040" y="5572080"/>
            <a:ext cx="828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i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133 (94%) of the 142 patients had cutaneous features.</a:t>
            </a:r>
            <a:r>
              <a:rPr b="0" lang="en-CA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588E-17D9-42E8-AE08-0BB86E86AB08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Group 2"/>
          <p:cNvGrpSpPr/>
          <p:nvPr/>
        </p:nvGrpSpPr>
        <p:grpSpPr>
          <a:xfrm>
            <a:off x="1676520" y="1828800"/>
            <a:ext cx="6018840" cy="4419360"/>
            <a:chOff x="1676520" y="1828800"/>
            <a:chExt cx="6018840" cy="4419360"/>
          </a:xfrm>
        </p:grpSpPr>
        <p:grpSp>
          <p:nvGrpSpPr>
            <p:cNvPr id="236" name="Group 3"/>
            <p:cNvGrpSpPr/>
            <p:nvPr/>
          </p:nvGrpSpPr>
          <p:grpSpPr>
            <a:xfrm>
              <a:off x="1686600" y="1835280"/>
              <a:ext cx="5997240" cy="4405680"/>
              <a:chOff x="1686600" y="1835280"/>
              <a:chExt cx="5997240" cy="4405680"/>
            </a:xfrm>
          </p:grpSpPr>
          <p:grpSp>
            <p:nvGrpSpPr>
              <p:cNvPr id="237" name="Group 4"/>
              <p:cNvGrpSpPr/>
              <p:nvPr/>
            </p:nvGrpSpPr>
            <p:grpSpPr>
              <a:xfrm>
                <a:off x="1686600" y="1835280"/>
                <a:ext cx="5997240" cy="795960"/>
                <a:chOff x="1686600" y="1835280"/>
                <a:chExt cx="5997240" cy="795960"/>
              </a:xfrm>
            </p:grpSpPr>
            <p:sp>
              <p:nvSpPr>
                <p:cNvPr id="238" name="Rectangle 5"/>
                <p:cNvSpPr/>
                <p:nvPr/>
              </p:nvSpPr>
              <p:spPr>
                <a:xfrm>
                  <a:off x="1727640" y="186156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ever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Rectangle 6"/>
                <p:cNvSpPr/>
                <p:nvPr/>
              </p:nvSpPr>
              <p:spPr>
                <a:xfrm>
                  <a:off x="1686600" y="183528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7"/>
              <p:cNvGrpSpPr/>
              <p:nvPr/>
            </p:nvGrpSpPr>
            <p:grpSpPr>
              <a:xfrm>
                <a:off x="1686600" y="2684520"/>
                <a:ext cx="5997240" cy="795960"/>
                <a:chOff x="1686600" y="2684520"/>
                <a:chExt cx="5997240" cy="795960"/>
              </a:xfrm>
            </p:grpSpPr>
            <p:sp>
              <p:nvSpPr>
                <p:cNvPr id="241" name="Rectangle 8"/>
                <p:cNvSpPr/>
                <p:nvPr/>
              </p:nvSpPr>
              <p:spPr>
                <a:xfrm>
                  <a:off x="1727640" y="271080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ypotens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Rectangle 9"/>
                <p:cNvSpPr/>
                <p:nvPr/>
              </p:nvSpPr>
              <p:spPr>
                <a:xfrm>
                  <a:off x="1686600" y="268452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Group 10"/>
              <p:cNvGrpSpPr/>
              <p:nvPr/>
            </p:nvGrpSpPr>
            <p:grpSpPr>
              <a:xfrm>
                <a:off x="1686600" y="3534120"/>
                <a:ext cx="5997240" cy="1008360"/>
                <a:chOff x="1686600" y="3534120"/>
                <a:chExt cx="5997240" cy="1008360"/>
              </a:xfrm>
            </p:grpSpPr>
            <p:sp>
              <p:nvSpPr>
                <p:cNvPr id="244" name="Rectangle 11"/>
                <p:cNvSpPr/>
                <p:nvPr/>
              </p:nvSpPr>
              <p:spPr>
                <a:xfrm>
                  <a:off x="1727640" y="3560400"/>
                  <a:ext cx="5914800" cy="95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eralised oozing from wounds or puncture sites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Rectangle 12"/>
                <p:cNvSpPr/>
                <p:nvPr/>
              </p:nvSpPr>
              <p:spPr>
                <a:xfrm>
                  <a:off x="1686600" y="3534120"/>
                  <a:ext cx="59972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Group 13"/>
              <p:cNvGrpSpPr/>
              <p:nvPr/>
            </p:nvGrpSpPr>
            <p:grpSpPr>
              <a:xfrm>
                <a:off x="1686600" y="4595400"/>
                <a:ext cx="5997240" cy="795960"/>
                <a:chOff x="1686600" y="4595400"/>
                <a:chExt cx="5997240" cy="795960"/>
              </a:xfrm>
            </p:grpSpPr>
            <p:sp>
              <p:nvSpPr>
                <p:cNvPr id="247" name="Rectangle 14"/>
                <p:cNvSpPr/>
                <p:nvPr/>
              </p:nvSpPr>
              <p:spPr>
                <a:xfrm>
                  <a:off x="1727640" y="4621680"/>
                  <a:ext cx="591480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aemoglobinaem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Rectangle 15"/>
                <p:cNvSpPr/>
                <p:nvPr/>
              </p:nvSpPr>
              <p:spPr>
                <a:xfrm>
                  <a:off x="1686600" y="4595400"/>
                  <a:ext cx="5997240" cy="79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Group 16"/>
              <p:cNvGrpSpPr/>
              <p:nvPr/>
            </p:nvGrpSpPr>
            <p:grpSpPr>
              <a:xfrm>
                <a:off x="1686600" y="5445360"/>
                <a:ext cx="5997240" cy="795600"/>
                <a:chOff x="1686600" y="5445360"/>
                <a:chExt cx="5997240" cy="795600"/>
              </a:xfrm>
            </p:grpSpPr>
            <p:sp>
              <p:nvSpPr>
                <p:cNvPr id="250" name="Rectangle 17"/>
                <p:cNvSpPr/>
                <p:nvPr/>
              </p:nvSpPr>
              <p:spPr>
                <a:xfrm>
                  <a:off x="1727640" y="5471640"/>
                  <a:ext cx="5914800" cy="74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Haemoglobinur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buClr>
                      <a:srgbClr val="ffff66"/>
                    </a:buClr>
                    <a:buSzPct val="75000"/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8"/>
                <p:cNvSpPr/>
                <p:nvPr/>
              </p:nvSpPr>
              <p:spPr>
                <a:xfrm>
                  <a:off x="1686600" y="5445360"/>
                  <a:ext cx="5997240" cy="79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2" name="Rectangle 19"/>
            <p:cNvSpPr/>
            <p:nvPr/>
          </p:nvSpPr>
          <p:spPr>
            <a:xfrm>
              <a:off x="1676520" y="1828800"/>
              <a:ext cx="6018840" cy="44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Rectangle 20"/>
          <p:cNvSpPr/>
          <p:nvPr/>
        </p:nvSpPr>
        <p:spPr>
          <a:xfrm>
            <a:off x="2209680" y="3049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T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ransfusion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R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21"/>
          <p:cNvSpPr/>
          <p:nvPr/>
        </p:nvSpPr>
        <p:spPr>
          <a:xfrm>
            <a:off x="152280" y="1143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Arial"/>
              </a:rPr>
              <a:t>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76D-56A6-45F9-A618-D0A7FABCB9A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523880" y="1981080"/>
            <a:ext cx="62485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eeling of apprehension or something wr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Agi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lu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ain at venepuncture 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P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abdo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,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flank or ch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2133720" y="152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T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ransfusion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Arial"/>
              </a:rPr>
              <a:t>R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Arial"/>
              </a:rPr>
              <a:t>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52280" y="1143000"/>
            <a:ext cx="39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Arial"/>
              </a:rPr>
              <a:t>Symp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3830-A339-43A4-84C9-6623BAD4CB6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14264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88581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top Administration of Antige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bloo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tablish and maintain 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00% oxygen administration,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ravascular volume expan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stemic glucocorticosteroid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Rectangle 1029"/>
          <p:cNvSpPr/>
          <p:nvPr/>
        </p:nvSpPr>
        <p:spPr>
          <a:xfrm>
            <a:off x="33530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E292-A2F4-4BBE-ADEA-B4562C89D555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3200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WA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668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Threshol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be Size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ction Age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ytic agent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2590920" y="228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TREATMENT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Picture 5" descr="Intubation"/>
          <p:cNvPicPr/>
          <p:nvPr/>
        </p:nvPicPr>
        <p:blipFill>
          <a:blip r:embed="rId1"/>
          <a:stretch/>
        </p:blipFill>
        <p:spPr>
          <a:xfrm>
            <a:off x="7308720" y="1773360"/>
            <a:ext cx="1447920" cy="1295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vc_normal"/>
          <p:cNvPicPr/>
          <p:nvPr/>
        </p:nvPicPr>
        <p:blipFill>
          <a:blip r:embed="rId2"/>
          <a:stretch/>
        </p:blipFill>
        <p:spPr>
          <a:xfrm>
            <a:off x="7164360" y="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epiglotic_abscess"/>
          <p:cNvPicPr/>
          <p:nvPr/>
        </p:nvPicPr>
        <p:blipFill>
          <a:blip r:embed="rId3"/>
          <a:stretch/>
        </p:blipFill>
        <p:spPr>
          <a:xfrm>
            <a:off x="7020000" y="4869000"/>
            <a:ext cx="1812960" cy="1296720"/>
          </a:xfrm>
          <a:prstGeom prst="rect">
            <a:avLst/>
          </a:prstGeom>
          <a:ln w="0">
            <a:noFill/>
          </a:ln>
        </p:spPr>
      </p:pic>
      <p:sp>
        <p:nvSpPr>
          <p:cNvPr id="271" name="Line 11"/>
          <p:cNvSpPr/>
          <p:nvPr/>
        </p:nvSpPr>
        <p:spPr>
          <a:xfrm>
            <a:off x="8101080" y="1341360"/>
            <a:ext cx="0" cy="3276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33520" y="4114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7575480" y="330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7308720" y="4149720"/>
            <a:ext cx="1440000" cy="0"/>
          </a:xfrm>
          <a:prstGeom prst="line">
            <a:avLst/>
          </a:prstGeom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E7DA-2F15-45BE-BA4F-97D6F6BED1F0}" type="slidenum">
              <a:rPr b="0" lang="en-CA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63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 vomiting blood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consulted @ 1.00 am , came &amp; decided to do endoscope in 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3124080"/>
            <a:ext cx="8624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cedure started by sedation</a:t>
            </a:r>
            <a:r>
              <a:rPr b="0" lang="ar-SA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propafol iv &amp; lidocain spr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28600" y="4267080"/>
            <a:ext cx="8915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t became hypotensive , itching all over ,a/w sw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28600" y="5334120"/>
            <a:ext cx="8915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I staff decided to leave &amp; come back again If the pt became more st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35268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1D8-DFCF-44B2-908E-CD8D344635E4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3809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onchospas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For bronchospasm resistant to epinephrin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20076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0" y="321480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e N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ebulized (albuterol, salbutamo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eated d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6C7F-6DD5-4B2B-A172-15BC1C8B784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P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rsistent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B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onchospas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minophylline, a phosphodiesterase inhibitor, weak bronchodilator that also increas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&amp;L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entricular contractility and decreases pulmonar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ading dose of 5 to 6 mg/kg of aminophylline given over 20 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should be followed by an infusion of 0.5 to 0.9 mg/k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C35B-447B-4125-85AD-11C4935B271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Group 2"/>
          <p:cNvGrpSpPr/>
          <p:nvPr/>
        </p:nvGrpSpPr>
        <p:grpSpPr>
          <a:xfrm>
            <a:off x="785880" y="3500280"/>
            <a:ext cx="7786440" cy="2653560"/>
            <a:chOff x="785880" y="3500280"/>
            <a:chExt cx="7786440" cy="2653560"/>
          </a:xfrm>
        </p:grpSpPr>
        <p:sp>
          <p:nvSpPr>
            <p:cNvPr id="286" name="Rectangle 3"/>
            <p:cNvSpPr/>
            <p:nvPr/>
          </p:nvSpPr>
          <p:spPr>
            <a:xfrm>
              <a:off x="785880" y="3500280"/>
              <a:ext cx="7786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4"/>
            <p:cNvSpPr/>
            <p:nvPr/>
          </p:nvSpPr>
          <p:spPr>
            <a:xfrm>
              <a:off x="785880" y="3500280"/>
              <a:ext cx="77864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2800" spc="-1" strike="noStrike">
                  <a:solidFill>
                    <a:srgbClr val="ffffff"/>
                  </a:solidFill>
                  <a:latin typeface="Comic Sans MS"/>
                </a:rPr>
                <a:t>To achieve rapid intravenous induction with minimal hemodynamic effect and little respiratory depression, etomidate (Amidate) </a:t>
              </a:r>
              <a:r>
                <a:rPr b="0" i="1" lang="en-US" sz="2800" spc="-1" strike="noStrike">
                  <a:solidFill>
                    <a:srgbClr val="ffffff"/>
                  </a:solidFill>
                  <a:latin typeface="Comic Sans MS"/>
                </a:rPr>
                <a:t>is</a:t>
              </a:r>
              <a:r>
                <a:rPr b="0" i="1" lang="en-CA" sz="2800" spc="-1" strike="noStrike">
                  <a:solidFill>
                    <a:srgbClr val="ffffff"/>
                  </a:solidFill>
                  <a:latin typeface="Comic Sans MS"/>
                </a:rPr>
                <a:t> the agent of choice. </a:t>
              </a:r>
              <a:br>
                <a:rPr sz="2800"/>
              </a:b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Text Box 5"/>
          <p:cNvSpPr/>
          <p:nvPr/>
        </p:nvSpPr>
        <p:spPr>
          <a:xfrm>
            <a:off x="45720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48320" y="91440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6840" y="20574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Etomi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Rectangle 9"/>
          <p:cNvSpPr/>
          <p:nvPr/>
        </p:nvSpPr>
        <p:spPr>
          <a:xfrm>
            <a:off x="2743560" y="152280"/>
            <a:ext cx="36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&amp; I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07B-AD7A-4200-99D8-4A54FD1DC0B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" name="Group 2"/>
          <p:cNvGrpSpPr/>
          <p:nvPr/>
        </p:nvGrpSpPr>
        <p:grpSpPr>
          <a:xfrm>
            <a:off x="152280" y="1676520"/>
            <a:ext cx="8991360" cy="4723920"/>
            <a:chOff x="152280" y="1676520"/>
            <a:chExt cx="8991360" cy="4723920"/>
          </a:xfrm>
        </p:grpSpPr>
        <p:grpSp>
          <p:nvGrpSpPr>
            <p:cNvPr id="294" name="Group 3"/>
            <p:cNvGrpSpPr/>
            <p:nvPr/>
          </p:nvGrpSpPr>
          <p:grpSpPr>
            <a:xfrm>
              <a:off x="158760" y="1681560"/>
              <a:ext cx="8977320" cy="4712400"/>
              <a:chOff x="158760" y="1681560"/>
              <a:chExt cx="8977320" cy="4712400"/>
            </a:xfrm>
          </p:grpSpPr>
          <p:grpSp>
            <p:nvGrpSpPr>
              <p:cNvPr id="295" name="Group 4"/>
              <p:cNvGrpSpPr/>
              <p:nvPr/>
            </p:nvGrpSpPr>
            <p:grpSpPr>
              <a:xfrm>
                <a:off x="158760" y="1681560"/>
                <a:ext cx="1794960" cy="1073880"/>
                <a:chOff x="158760" y="1681560"/>
                <a:chExt cx="1794960" cy="1073880"/>
              </a:xfrm>
            </p:grpSpPr>
            <p:sp>
              <p:nvSpPr>
                <p:cNvPr id="296" name="Rectangle 5"/>
                <p:cNvSpPr/>
                <p:nvPr/>
              </p:nvSpPr>
              <p:spPr>
                <a:xfrm>
                  <a:off x="158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Group 6"/>
                <p:cNvGrpSpPr/>
                <p:nvPr/>
              </p:nvGrpSpPr>
              <p:grpSpPr>
                <a:xfrm>
                  <a:off x="158760" y="1681560"/>
                  <a:ext cx="1794600" cy="1073520"/>
                  <a:chOff x="158760" y="1681560"/>
                  <a:chExt cx="1794600" cy="1073520"/>
                </a:xfrm>
              </p:grpSpPr>
              <p:sp>
                <p:nvSpPr>
                  <p:cNvPr id="298" name="Rectangle 7"/>
                  <p:cNvSpPr/>
                  <p:nvPr/>
                </p:nvSpPr>
                <p:spPr>
                  <a:xfrm>
                    <a:off x="255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000" spc="-1" strike="noStrike">
                        <a:solidFill>
                          <a:srgbClr val="ffff9e"/>
                        </a:solidFill>
                        <a:latin typeface="Arial"/>
                        <a:ea typeface="Arial"/>
                      </a:rPr>
                      <a:t>SEDATIVE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8"/>
                  <p:cNvSpPr/>
                  <p:nvPr/>
                </p:nvSpPr>
                <p:spPr>
                  <a:xfrm>
                    <a:off x="158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Group 9"/>
              <p:cNvGrpSpPr/>
              <p:nvPr/>
            </p:nvGrpSpPr>
            <p:grpSpPr>
              <a:xfrm>
                <a:off x="1954080" y="1681560"/>
                <a:ext cx="1795320" cy="1073880"/>
                <a:chOff x="1954080" y="1681560"/>
                <a:chExt cx="1795320" cy="1073880"/>
              </a:xfrm>
            </p:grpSpPr>
            <p:sp>
              <p:nvSpPr>
                <p:cNvPr id="301" name="Rectangle 10"/>
                <p:cNvSpPr/>
                <p:nvPr/>
              </p:nvSpPr>
              <p:spPr>
                <a:xfrm>
                  <a:off x="195408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Group 11"/>
                <p:cNvGrpSpPr/>
                <p:nvPr/>
              </p:nvGrpSpPr>
              <p:grpSpPr>
                <a:xfrm>
                  <a:off x="1954080" y="1681560"/>
                  <a:ext cx="1794960" cy="1073520"/>
                  <a:chOff x="1954080" y="1681560"/>
                  <a:chExt cx="1794960" cy="1073520"/>
                </a:xfrm>
              </p:grpSpPr>
              <p:sp>
                <p:nvSpPr>
                  <p:cNvPr id="303" name="Rectangle 12"/>
                  <p:cNvSpPr/>
                  <p:nvPr/>
                </p:nvSpPr>
                <p:spPr>
                  <a:xfrm>
                    <a:off x="2051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IV DOSE (mg/kg)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Rectangle 13"/>
                  <p:cNvSpPr/>
                  <p:nvPr/>
                </p:nvSpPr>
                <p:spPr>
                  <a:xfrm>
                    <a:off x="195408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Group 14"/>
              <p:cNvGrpSpPr/>
              <p:nvPr/>
            </p:nvGrpSpPr>
            <p:grpSpPr>
              <a:xfrm>
                <a:off x="3749760" y="1681560"/>
                <a:ext cx="1794960" cy="1073880"/>
                <a:chOff x="3749760" y="1681560"/>
                <a:chExt cx="1794960" cy="1073880"/>
              </a:xfrm>
            </p:grpSpPr>
            <p:sp>
              <p:nvSpPr>
                <p:cNvPr id="306" name="Rectangle 15"/>
                <p:cNvSpPr/>
                <p:nvPr/>
              </p:nvSpPr>
              <p:spPr>
                <a:xfrm>
                  <a:off x="374976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Group 16"/>
                <p:cNvGrpSpPr/>
                <p:nvPr/>
              </p:nvGrpSpPr>
              <p:grpSpPr>
                <a:xfrm>
                  <a:off x="3749760" y="1681560"/>
                  <a:ext cx="1794600" cy="1073520"/>
                  <a:chOff x="3749760" y="1681560"/>
                  <a:chExt cx="1794600" cy="1073520"/>
                </a:xfrm>
              </p:grpSpPr>
              <p:sp>
                <p:nvSpPr>
                  <p:cNvPr id="308" name="Rectangle 17"/>
                  <p:cNvSpPr/>
                  <p:nvPr/>
                </p:nvSpPr>
                <p:spPr>
                  <a:xfrm>
                    <a:off x="384660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cc"/>
                        </a:solidFill>
                        <a:latin typeface="Arial"/>
                        <a:ea typeface="Arial"/>
                      </a:rPr>
                      <a:t>ONSE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(min)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Rectangle 18"/>
                  <p:cNvSpPr/>
                  <p:nvPr/>
                </p:nvSpPr>
                <p:spPr>
                  <a:xfrm>
                    <a:off x="374976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0" name="Group 19"/>
              <p:cNvGrpSpPr/>
              <p:nvPr/>
            </p:nvGrpSpPr>
            <p:grpSpPr>
              <a:xfrm>
                <a:off x="5545080" y="1681560"/>
                <a:ext cx="1794960" cy="1073880"/>
                <a:chOff x="5545080" y="1681560"/>
                <a:chExt cx="1794960" cy="1073880"/>
              </a:xfrm>
            </p:grpSpPr>
            <p:sp>
              <p:nvSpPr>
                <p:cNvPr id="311" name="Rectangle 20"/>
                <p:cNvSpPr/>
                <p:nvPr/>
              </p:nvSpPr>
              <p:spPr>
                <a:xfrm>
                  <a:off x="5545080" y="1681560"/>
                  <a:ext cx="179496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Group 21"/>
                <p:cNvGrpSpPr/>
                <p:nvPr/>
              </p:nvGrpSpPr>
              <p:grpSpPr>
                <a:xfrm>
                  <a:off x="5545080" y="1681560"/>
                  <a:ext cx="1794600" cy="1073520"/>
                  <a:chOff x="5545080" y="1681560"/>
                  <a:chExt cx="1794600" cy="1073520"/>
                </a:xfrm>
              </p:grpSpPr>
              <p:sp>
                <p:nvSpPr>
                  <p:cNvPr id="313" name="Rectangle 22"/>
                  <p:cNvSpPr/>
                  <p:nvPr/>
                </p:nvSpPr>
                <p:spPr>
                  <a:xfrm>
                    <a:off x="564228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BP</a:t>
                    </a:r>
                    <a:r>
                      <a:rPr b="0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Rectangle 23"/>
                  <p:cNvSpPr/>
                  <p:nvPr/>
                </p:nvSpPr>
                <p:spPr>
                  <a:xfrm>
                    <a:off x="5545080" y="1681560"/>
                    <a:ext cx="179460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5" name="Group 24"/>
              <p:cNvGrpSpPr/>
              <p:nvPr/>
            </p:nvGrpSpPr>
            <p:grpSpPr>
              <a:xfrm>
                <a:off x="7340760" y="1681560"/>
                <a:ext cx="1795320" cy="1073880"/>
                <a:chOff x="7340760" y="1681560"/>
                <a:chExt cx="1795320" cy="1073880"/>
              </a:xfrm>
            </p:grpSpPr>
            <p:sp>
              <p:nvSpPr>
                <p:cNvPr id="316" name="Rectangle 25"/>
                <p:cNvSpPr/>
                <p:nvPr/>
              </p:nvSpPr>
              <p:spPr>
                <a:xfrm>
                  <a:off x="7340760" y="1681560"/>
                  <a:ext cx="1795320" cy="107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7" name="Group 26"/>
                <p:cNvGrpSpPr/>
                <p:nvPr/>
              </p:nvGrpSpPr>
              <p:grpSpPr>
                <a:xfrm>
                  <a:off x="7340760" y="1681560"/>
                  <a:ext cx="1794960" cy="1073520"/>
                  <a:chOff x="7340760" y="1681560"/>
                  <a:chExt cx="1794960" cy="1073520"/>
                </a:xfrm>
              </p:grpSpPr>
              <p:sp>
                <p:nvSpPr>
                  <p:cNvPr id="318" name="Rectangle 27"/>
                  <p:cNvSpPr/>
                  <p:nvPr/>
                </p:nvSpPr>
                <p:spPr>
                  <a:xfrm>
                    <a:off x="7437960" y="1681560"/>
                    <a:ext cx="1600200" cy="1073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CA" sz="2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Effect on ICP</a:t>
                    </a:r>
                    <a:r>
                      <a:rPr b="0" lang="en-CA" sz="18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Rectangle 28"/>
                  <p:cNvSpPr/>
                  <p:nvPr/>
                </p:nvSpPr>
                <p:spPr>
                  <a:xfrm>
                    <a:off x="7340760" y="1681560"/>
                    <a:ext cx="1794960" cy="1073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0" name="Group 29"/>
              <p:cNvGrpSpPr/>
              <p:nvPr/>
            </p:nvGrpSpPr>
            <p:grpSpPr>
              <a:xfrm>
                <a:off x="158760" y="2755800"/>
                <a:ext cx="1794960" cy="727200"/>
                <a:chOff x="158760" y="2755800"/>
                <a:chExt cx="1794960" cy="727200"/>
              </a:xfrm>
            </p:grpSpPr>
            <p:sp>
              <p:nvSpPr>
                <p:cNvPr id="321" name="Rectangle 30"/>
                <p:cNvSpPr/>
                <p:nvPr/>
              </p:nvSpPr>
              <p:spPr>
                <a:xfrm>
                  <a:off x="255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dazolam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Rectangle 31"/>
                <p:cNvSpPr/>
                <p:nvPr/>
              </p:nvSpPr>
              <p:spPr>
                <a:xfrm>
                  <a:off x="158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32"/>
              <p:cNvGrpSpPr/>
              <p:nvPr/>
            </p:nvGrpSpPr>
            <p:grpSpPr>
              <a:xfrm>
                <a:off x="1954080" y="2755800"/>
                <a:ext cx="1795320" cy="727200"/>
                <a:chOff x="1954080" y="2755800"/>
                <a:chExt cx="1795320" cy="727200"/>
              </a:xfrm>
            </p:grpSpPr>
            <p:sp>
              <p:nvSpPr>
                <p:cNvPr id="324" name="Rectangle 33"/>
                <p:cNvSpPr/>
                <p:nvPr/>
              </p:nvSpPr>
              <p:spPr>
                <a:xfrm>
                  <a:off x="2051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Rectangle 34"/>
                <p:cNvSpPr/>
                <p:nvPr/>
              </p:nvSpPr>
              <p:spPr>
                <a:xfrm>
                  <a:off x="195408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35"/>
              <p:cNvGrpSpPr/>
              <p:nvPr/>
            </p:nvGrpSpPr>
            <p:grpSpPr>
              <a:xfrm>
                <a:off x="3749760" y="2755800"/>
                <a:ext cx="1794960" cy="727200"/>
                <a:chOff x="3749760" y="2755800"/>
                <a:chExt cx="1794960" cy="727200"/>
              </a:xfrm>
            </p:grpSpPr>
            <p:sp>
              <p:nvSpPr>
                <p:cNvPr id="327" name="Rectangle 36"/>
                <p:cNvSpPr/>
                <p:nvPr/>
              </p:nvSpPr>
              <p:spPr>
                <a:xfrm>
                  <a:off x="384660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Rectangle 37"/>
                <p:cNvSpPr/>
                <p:nvPr/>
              </p:nvSpPr>
              <p:spPr>
                <a:xfrm>
                  <a:off x="374976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38"/>
              <p:cNvGrpSpPr/>
              <p:nvPr/>
            </p:nvGrpSpPr>
            <p:grpSpPr>
              <a:xfrm>
                <a:off x="5545080" y="2755800"/>
                <a:ext cx="1794960" cy="727200"/>
                <a:chOff x="5545080" y="2755800"/>
                <a:chExt cx="1794960" cy="727200"/>
              </a:xfrm>
            </p:grpSpPr>
            <p:sp>
              <p:nvSpPr>
                <p:cNvPr id="330" name="Rectangle 39"/>
                <p:cNvSpPr/>
                <p:nvPr/>
              </p:nvSpPr>
              <p:spPr>
                <a:xfrm>
                  <a:off x="564228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40"/>
                <p:cNvSpPr/>
                <p:nvPr/>
              </p:nvSpPr>
              <p:spPr>
                <a:xfrm>
                  <a:off x="5545080" y="27558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Group 41"/>
              <p:cNvGrpSpPr/>
              <p:nvPr/>
            </p:nvGrpSpPr>
            <p:grpSpPr>
              <a:xfrm>
                <a:off x="7340760" y="2755800"/>
                <a:ext cx="1795320" cy="727200"/>
                <a:chOff x="7340760" y="2755800"/>
                <a:chExt cx="1795320" cy="727200"/>
              </a:xfrm>
            </p:grpSpPr>
            <p:sp>
              <p:nvSpPr>
                <p:cNvPr id="333" name="Rectangle 42"/>
                <p:cNvSpPr/>
                <p:nvPr/>
              </p:nvSpPr>
              <p:spPr>
                <a:xfrm>
                  <a:off x="7437960" y="27558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Rectangle 43"/>
                <p:cNvSpPr/>
                <p:nvPr/>
              </p:nvSpPr>
              <p:spPr>
                <a:xfrm>
                  <a:off x="7340760" y="27558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Group 44"/>
              <p:cNvGrpSpPr/>
              <p:nvPr/>
            </p:nvGrpSpPr>
            <p:grpSpPr>
              <a:xfrm>
                <a:off x="158760" y="3483720"/>
                <a:ext cx="1794960" cy="727200"/>
                <a:chOff x="158760" y="3483720"/>
                <a:chExt cx="1794960" cy="727200"/>
              </a:xfrm>
            </p:grpSpPr>
            <p:sp>
              <p:nvSpPr>
                <p:cNvPr id="336" name="Rectangle 45"/>
                <p:cNvSpPr/>
                <p:nvPr/>
              </p:nvSpPr>
              <p:spPr>
                <a:xfrm>
                  <a:off x="255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Etomidate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Rectangle 46"/>
                <p:cNvSpPr/>
                <p:nvPr/>
              </p:nvSpPr>
              <p:spPr>
                <a:xfrm>
                  <a:off x="158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47"/>
              <p:cNvGrpSpPr/>
              <p:nvPr/>
            </p:nvGrpSpPr>
            <p:grpSpPr>
              <a:xfrm>
                <a:off x="1954080" y="3483720"/>
                <a:ext cx="1795320" cy="727200"/>
                <a:chOff x="1954080" y="3483720"/>
                <a:chExt cx="1795320" cy="727200"/>
              </a:xfrm>
            </p:grpSpPr>
            <p:sp>
              <p:nvSpPr>
                <p:cNvPr id="339" name="Rectangle 48"/>
                <p:cNvSpPr/>
                <p:nvPr/>
              </p:nvSpPr>
              <p:spPr>
                <a:xfrm>
                  <a:off x="2051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0.2 – 0.4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Rectangle 49"/>
                <p:cNvSpPr/>
                <p:nvPr/>
              </p:nvSpPr>
              <p:spPr>
                <a:xfrm>
                  <a:off x="195408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Group 50"/>
              <p:cNvGrpSpPr/>
              <p:nvPr/>
            </p:nvGrpSpPr>
            <p:grpSpPr>
              <a:xfrm>
                <a:off x="3749760" y="3483720"/>
                <a:ext cx="1794960" cy="727200"/>
                <a:chOff x="3749760" y="3483720"/>
                <a:chExt cx="1794960" cy="727200"/>
              </a:xfrm>
            </p:grpSpPr>
            <p:sp>
              <p:nvSpPr>
                <p:cNvPr id="342" name="Rectangle 51"/>
                <p:cNvSpPr/>
                <p:nvPr/>
              </p:nvSpPr>
              <p:spPr>
                <a:xfrm>
                  <a:off x="384660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Rectangle 52"/>
                <p:cNvSpPr/>
                <p:nvPr/>
              </p:nvSpPr>
              <p:spPr>
                <a:xfrm>
                  <a:off x="374976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53"/>
              <p:cNvGrpSpPr/>
              <p:nvPr/>
            </p:nvGrpSpPr>
            <p:grpSpPr>
              <a:xfrm>
                <a:off x="5545080" y="3483720"/>
                <a:ext cx="1794960" cy="727200"/>
                <a:chOff x="5545080" y="3483720"/>
                <a:chExt cx="1794960" cy="727200"/>
              </a:xfrm>
            </p:grpSpPr>
            <p:sp>
              <p:nvSpPr>
                <p:cNvPr id="345" name="Rectangle 54"/>
                <p:cNvSpPr/>
                <p:nvPr/>
              </p:nvSpPr>
              <p:spPr>
                <a:xfrm>
                  <a:off x="564228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8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1800" spc="-1" strike="noStrike">
                      <a:solidFill>
                        <a:srgbClr val="ffff66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66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55"/>
                <p:cNvSpPr/>
                <p:nvPr/>
              </p:nvSpPr>
              <p:spPr>
                <a:xfrm>
                  <a:off x="5545080" y="348372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56"/>
              <p:cNvGrpSpPr/>
              <p:nvPr/>
            </p:nvGrpSpPr>
            <p:grpSpPr>
              <a:xfrm>
                <a:off x="7340760" y="3483720"/>
                <a:ext cx="1795320" cy="727200"/>
                <a:chOff x="7340760" y="3483720"/>
                <a:chExt cx="1795320" cy="727200"/>
              </a:xfrm>
            </p:grpSpPr>
            <p:sp>
              <p:nvSpPr>
                <p:cNvPr id="348" name="Rectangle 57"/>
                <p:cNvSpPr/>
                <p:nvPr/>
              </p:nvSpPr>
              <p:spPr>
                <a:xfrm>
                  <a:off x="7437960" y="348372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cc00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58"/>
                <p:cNvSpPr/>
                <p:nvPr/>
              </p:nvSpPr>
              <p:spPr>
                <a:xfrm>
                  <a:off x="7340760" y="348372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Group 59"/>
              <p:cNvGrpSpPr/>
              <p:nvPr/>
            </p:nvGrpSpPr>
            <p:grpSpPr>
              <a:xfrm>
                <a:off x="158760" y="4211280"/>
                <a:ext cx="1794960" cy="727200"/>
                <a:chOff x="158760" y="4211280"/>
                <a:chExt cx="1794960" cy="727200"/>
              </a:xfrm>
            </p:grpSpPr>
            <p:sp>
              <p:nvSpPr>
                <p:cNvPr id="351" name="Rectangle 60"/>
                <p:cNvSpPr/>
                <p:nvPr/>
              </p:nvSpPr>
              <p:spPr>
                <a:xfrm>
                  <a:off x="255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0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Thiopental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Rectangle 61"/>
                <p:cNvSpPr/>
                <p:nvPr/>
              </p:nvSpPr>
              <p:spPr>
                <a:xfrm>
                  <a:off x="158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62"/>
              <p:cNvGrpSpPr/>
              <p:nvPr/>
            </p:nvGrpSpPr>
            <p:grpSpPr>
              <a:xfrm>
                <a:off x="1954080" y="4211280"/>
                <a:ext cx="1795320" cy="727200"/>
                <a:chOff x="1954080" y="4211280"/>
                <a:chExt cx="1795320" cy="727200"/>
              </a:xfrm>
            </p:grpSpPr>
            <p:sp>
              <p:nvSpPr>
                <p:cNvPr id="354" name="Rectangle 63"/>
                <p:cNvSpPr/>
                <p:nvPr/>
              </p:nvSpPr>
              <p:spPr>
                <a:xfrm>
                  <a:off x="2051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2 – 5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Rectangle 64"/>
                <p:cNvSpPr/>
                <p:nvPr/>
              </p:nvSpPr>
              <p:spPr>
                <a:xfrm>
                  <a:off x="195408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65"/>
              <p:cNvGrpSpPr/>
              <p:nvPr/>
            </p:nvGrpSpPr>
            <p:grpSpPr>
              <a:xfrm>
                <a:off x="3749760" y="4211280"/>
                <a:ext cx="1794960" cy="727200"/>
                <a:chOff x="3749760" y="4211280"/>
                <a:chExt cx="1794960" cy="727200"/>
              </a:xfrm>
            </p:grpSpPr>
            <p:sp>
              <p:nvSpPr>
                <p:cNvPr id="357" name="Rectangle 66"/>
                <p:cNvSpPr/>
                <p:nvPr/>
              </p:nvSpPr>
              <p:spPr>
                <a:xfrm>
                  <a:off x="384660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Rectangle 67"/>
                <p:cNvSpPr/>
                <p:nvPr/>
              </p:nvSpPr>
              <p:spPr>
                <a:xfrm>
                  <a:off x="374976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Group 68"/>
              <p:cNvGrpSpPr/>
              <p:nvPr/>
            </p:nvGrpSpPr>
            <p:grpSpPr>
              <a:xfrm>
                <a:off x="5545080" y="4211280"/>
                <a:ext cx="1794960" cy="727200"/>
                <a:chOff x="5545080" y="4211280"/>
                <a:chExt cx="1794960" cy="727200"/>
              </a:xfrm>
            </p:grpSpPr>
            <p:sp>
              <p:nvSpPr>
                <p:cNvPr id="360" name="Rectangle 69"/>
                <p:cNvSpPr/>
                <p:nvPr/>
              </p:nvSpPr>
              <p:spPr>
                <a:xfrm>
                  <a:off x="564228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70"/>
                <p:cNvSpPr/>
                <p:nvPr/>
              </p:nvSpPr>
              <p:spPr>
                <a:xfrm>
                  <a:off x="5545080" y="421128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71"/>
              <p:cNvGrpSpPr/>
              <p:nvPr/>
            </p:nvGrpSpPr>
            <p:grpSpPr>
              <a:xfrm>
                <a:off x="7340760" y="4211280"/>
                <a:ext cx="1795320" cy="727200"/>
                <a:chOff x="7340760" y="4211280"/>
                <a:chExt cx="1795320" cy="727200"/>
              </a:xfrm>
            </p:grpSpPr>
            <p:sp>
              <p:nvSpPr>
                <p:cNvPr id="363" name="Rectangle 72"/>
                <p:cNvSpPr/>
                <p:nvPr/>
              </p:nvSpPr>
              <p:spPr>
                <a:xfrm>
                  <a:off x="7437960" y="421128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Rectangle 73"/>
                <p:cNvSpPr/>
                <p:nvPr/>
              </p:nvSpPr>
              <p:spPr>
                <a:xfrm>
                  <a:off x="7340760" y="421128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74"/>
              <p:cNvGrpSpPr/>
              <p:nvPr/>
            </p:nvGrpSpPr>
            <p:grpSpPr>
              <a:xfrm>
                <a:off x="158760" y="4939200"/>
                <a:ext cx="1794960" cy="727200"/>
                <a:chOff x="158760" y="4939200"/>
                <a:chExt cx="1794960" cy="727200"/>
              </a:xfrm>
            </p:grpSpPr>
            <p:sp>
              <p:nvSpPr>
                <p:cNvPr id="366" name="Rectangle 75"/>
                <p:cNvSpPr/>
                <p:nvPr/>
              </p:nvSpPr>
              <p:spPr>
                <a:xfrm>
                  <a:off x="255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Ketamine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Rectangle 76"/>
                <p:cNvSpPr/>
                <p:nvPr/>
              </p:nvSpPr>
              <p:spPr>
                <a:xfrm>
                  <a:off x="158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77"/>
              <p:cNvGrpSpPr/>
              <p:nvPr/>
            </p:nvGrpSpPr>
            <p:grpSpPr>
              <a:xfrm>
                <a:off x="1954080" y="4939200"/>
                <a:ext cx="1795320" cy="727200"/>
                <a:chOff x="1954080" y="4939200"/>
                <a:chExt cx="1795320" cy="727200"/>
              </a:xfrm>
            </p:grpSpPr>
            <p:sp>
              <p:nvSpPr>
                <p:cNvPr id="369" name="Rectangle 78"/>
                <p:cNvSpPr/>
                <p:nvPr/>
              </p:nvSpPr>
              <p:spPr>
                <a:xfrm>
                  <a:off x="2051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 – 2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Rectangle 79"/>
                <p:cNvSpPr/>
                <p:nvPr/>
              </p:nvSpPr>
              <p:spPr>
                <a:xfrm>
                  <a:off x="195408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80"/>
              <p:cNvGrpSpPr/>
              <p:nvPr/>
            </p:nvGrpSpPr>
            <p:grpSpPr>
              <a:xfrm>
                <a:off x="3749760" y="4939200"/>
                <a:ext cx="1794960" cy="727200"/>
                <a:chOff x="3749760" y="4939200"/>
                <a:chExt cx="1794960" cy="727200"/>
              </a:xfrm>
            </p:grpSpPr>
            <p:sp>
              <p:nvSpPr>
                <p:cNvPr id="372" name="Rectangle 81"/>
                <p:cNvSpPr/>
                <p:nvPr/>
              </p:nvSpPr>
              <p:spPr>
                <a:xfrm>
                  <a:off x="384660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82"/>
                <p:cNvSpPr/>
                <p:nvPr/>
              </p:nvSpPr>
              <p:spPr>
                <a:xfrm>
                  <a:off x="374976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83"/>
              <p:cNvGrpSpPr/>
              <p:nvPr/>
            </p:nvGrpSpPr>
            <p:grpSpPr>
              <a:xfrm>
                <a:off x="5545080" y="4939200"/>
                <a:ext cx="1794960" cy="727200"/>
                <a:chOff x="5545080" y="4939200"/>
                <a:chExt cx="1794960" cy="727200"/>
              </a:xfrm>
            </p:grpSpPr>
            <p:sp>
              <p:nvSpPr>
                <p:cNvPr id="375" name="Rectangle 84"/>
                <p:cNvSpPr/>
                <p:nvPr/>
              </p:nvSpPr>
              <p:spPr>
                <a:xfrm>
                  <a:off x="564228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Minimal/ 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Rectangle 85"/>
                <p:cNvSpPr/>
                <p:nvPr/>
              </p:nvSpPr>
              <p:spPr>
                <a:xfrm>
                  <a:off x="5545080" y="493920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Group 86"/>
              <p:cNvGrpSpPr/>
              <p:nvPr/>
            </p:nvGrpSpPr>
            <p:grpSpPr>
              <a:xfrm>
                <a:off x="7340760" y="4939200"/>
                <a:ext cx="1795320" cy="727200"/>
                <a:chOff x="7340760" y="4939200"/>
                <a:chExt cx="1795320" cy="727200"/>
              </a:xfrm>
            </p:grpSpPr>
            <p:sp>
              <p:nvSpPr>
                <p:cNvPr id="378" name="Rectangle 87"/>
                <p:cNvSpPr/>
                <p:nvPr/>
              </p:nvSpPr>
              <p:spPr>
                <a:xfrm>
                  <a:off x="7437960" y="493920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Rectangle 88"/>
                <p:cNvSpPr/>
                <p:nvPr/>
              </p:nvSpPr>
              <p:spPr>
                <a:xfrm>
                  <a:off x="7340760" y="493920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89"/>
              <p:cNvGrpSpPr/>
              <p:nvPr/>
            </p:nvGrpSpPr>
            <p:grpSpPr>
              <a:xfrm>
                <a:off x="158760" y="5666760"/>
                <a:ext cx="1794960" cy="727200"/>
                <a:chOff x="158760" y="5666760"/>
                <a:chExt cx="1794960" cy="727200"/>
              </a:xfrm>
            </p:grpSpPr>
            <p:sp>
              <p:nvSpPr>
                <p:cNvPr id="381" name="Rectangle 90"/>
                <p:cNvSpPr/>
                <p:nvPr/>
              </p:nvSpPr>
              <p:spPr>
                <a:xfrm>
                  <a:off x="255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Propofol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91"/>
                <p:cNvSpPr/>
                <p:nvPr/>
              </p:nvSpPr>
              <p:spPr>
                <a:xfrm>
                  <a:off x="158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92"/>
              <p:cNvGrpSpPr/>
              <p:nvPr/>
            </p:nvGrpSpPr>
            <p:grpSpPr>
              <a:xfrm>
                <a:off x="1954080" y="5666760"/>
                <a:ext cx="1795320" cy="727200"/>
                <a:chOff x="1954080" y="5666760"/>
                <a:chExt cx="1795320" cy="727200"/>
              </a:xfrm>
            </p:grpSpPr>
            <p:sp>
              <p:nvSpPr>
                <p:cNvPr id="384" name="Rectangle 93"/>
                <p:cNvSpPr/>
                <p:nvPr/>
              </p:nvSpPr>
              <p:spPr>
                <a:xfrm>
                  <a:off x="2051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2 – 3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94"/>
                <p:cNvSpPr/>
                <p:nvPr/>
              </p:nvSpPr>
              <p:spPr>
                <a:xfrm>
                  <a:off x="195408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95"/>
              <p:cNvGrpSpPr/>
              <p:nvPr/>
            </p:nvGrpSpPr>
            <p:grpSpPr>
              <a:xfrm>
                <a:off x="3749760" y="5666760"/>
                <a:ext cx="1794960" cy="727200"/>
                <a:chOff x="3749760" y="5666760"/>
                <a:chExt cx="1794960" cy="727200"/>
              </a:xfrm>
            </p:grpSpPr>
            <p:sp>
              <p:nvSpPr>
                <p:cNvPr id="387" name="Rectangle 96"/>
                <p:cNvSpPr/>
                <p:nvPr/>
              </p:nvSpPr>
              <p:spPr>
                <a:xfrm>
                  <a:off x="384660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&lt; 1</a:t>
                  </a:r>
                  <a:r>
                    <a:rPr b="1" lang="en-CA" sz="12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Rectangle 97"/>
                <p:cNvSpPr/>
                <p:nvPr/>
              </p:nvSpPr>
              <p:spPr>
                <a:xfrm>
                  <a:off x="374976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Group 98"/>
              <p:cNvGrpSpPr/>
              <p:nvPr/>
            </p:nvGrpSpPr>
            <p:grpSpPr>
              <a:xfrm>
                <a:off x="5545080" y="5666760"/>
                <a:ext cx="1794960" cy="727200"/>
                <a:chOff x="5545080" y="5666760"/>
                <a:chExt cx="1794960" cy="727200"/>
              </a:xfrm>
            </p:grpSpPr>
            <p:sp>
              <p:nvSpPr>
                <p:cNvPr id="390" name="Rectangle 99"/>
                <p:cNvSpPr/>
                <p:nvPr/>
              </p:nvSpPr>
              <p:spPr>
                <a:xfrm>
                  <a:off x="564228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Rectangle 100"/>
                <p:cNvSpPr/>
                <p:nvPr/>
              </p:nvSpPr>
              <p:spPr>
                <a:xfrm>
                  <a:off x="5545080" y="5666760"/>
                  <a:ext cx="179496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Group 101"/>
              <p:cNvGrpSpPr/>
              <p:nvPr/>
            </p:nvGrpSpPr>
            <p:grpSpPr>
              <a:xfrm>
                <a:off x="7340760" y="5666760"/>
                <a:ext cx="1795320" cy="727200"/>
                <a:chOff x="7340760" y="5666760"/>
                <a:chExt cx="1795320" cy="727200"/>
              </a:xfrm>
            </p:grpSpPr>
            <p:sp>
              <p:nvSpPr>
                <p:cNvPr id="393" name="Rectangle 102"/>
                <p:cNvSpPr/>
                <p:nvPr/>
              </p:nvSpPr>
              <p:spPr>
                <a:xfrm>
                  <a:off x="7437960" y="5666760"/>
                  <a:ext cx="1600560" cy="72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2400" spc="-1" strike="noStrike">
                      <a:solidFill>
                        <a:srgbClr val="ffffcc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1" lang="en-CA" sz="2400" spc="-1" strike="noStrike">
                      <a:solidFill>
                        <a:srgbClr val="ffffcc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Rectangle 103"/>
                <p:cNvSpPr/>
                <p:nvPr/>
              </p:nvSpPr>
              <p:spPr>
                <a:xfrm>
                  <a:off x="7340760" y="5666760"/>
                  <a:ext cx="1795320" cy="72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5" name="Rectangle 104"/>
            <p:cNvSpPr/>
            <p:nvPr/>
          </p:nvSpPr>
          <p:spPr>
            <a:xfrm>
              <a:off x="152280" y="1676520"/>
              <a:ext cx="899136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" name="Rectangle 105"/>
          <p:cNvSpPr/>
          <p:nvPr/>
        </p:nvSpPr>
        <p:spPr>
          <a:xfrm>
            <a:off x="2591280" y="152280"/>
            <a:ext cx="36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&amp; IV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07"/>
          <p:cNvSpPr/>
          <p:nvPr/>
        </p:nvSpPr>
        <p:spPr>
          <a:xfrm>
            <a:off x="148320" y="914400"/>
            <a:ext cx="32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V Induction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0F1E-D0D9-4ACC-AE20-CB3D59313DF0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-360" y="1143000"/>
            <a:ext cx="5181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olume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xpans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85520" y="2000160"/>
            <a:ext cx="7318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olume expansion is importa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itially, 1 to 3 L o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L ,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32770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44E2-5B9F-48D7-B9D4-625C5B650EFD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4038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atecholamines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42600" y="2071800"/>
            <a:ext cx="7815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e-savin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irst-line catecholamines  include e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pami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???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D06-2D9D-4313-B44A-CD941FBC903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280" y="1066680"/>
            <a:ext cx="46483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E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28400" y="12855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α1 -adrenergic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oconstric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β1 -adrenergi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oconstri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creased peripheral vascul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ist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creases myocardial contract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3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creased mucosal edem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2770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613-BACE-4B9E-949B-D06B24056F3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396252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80880" y="11966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β</a:t>
            </a:r>
            <a:r>
              <a:rPr b="0" i="1" lang="en-CA" sz="2800" spc="-1" strike="noStrike" baseline="-30000">
                <a:solidFill>
                  <a:srgbClr val="ffff66"/>
                </a:solidFill>
                <a:latin typeface="Arial"/>
                <a:ea typeface="Times New Roman"/>
              </a:rPr>
              <a:t>2</a:t>
            </a:r>
            <a:r>
              <a:rPr b="0" i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-adrenergic effects are of primary impor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nchodil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ase of histamine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yptase, and other chemical mediators of inflammation from mast cells and basophi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y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AMP produc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714240" y="42861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857160" y="4286160"/>
            <a:ext cx="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 flipV="1">
            <a:off x="3571920" y="5572080"/>
            <a:ext cx="0" cy="4572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DBFE-71EB-4189-B2C4-6C6BA0B21EF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81080" y="106560"/>
            <a:ext cx="4191120" cy="14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  <a:ea typeface="Times New Roman"/>
              </a:rPr>
              <a:t>       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re are</a:t>
            </a: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no absolute contraindications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o epinephrine administration in anaphylaxis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152280" y="2286000"/>
            <a:ext cx="31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ontrain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FE8-767B-4ADA-B408-A3C2595F152E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159984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HOW DO YOU GIVE IT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6840" y="327672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algn="ctr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he UK consensus panel on emergency guidelines states that the subcutaneous route of administration for epinephrine has “no role” in anaphylax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2743200" y="99072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76D6-34E1-4848-9757-418025E5C92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2285640"/>
            <a:ext cx="820908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What is your 1st line treatment 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87240" y="1752480"/>
            <a:ext cx="434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diagnosi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3640" y="41148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are the indications of intubation in this p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85800" y="4724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your choice of medication for induction &amp; paralysi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83280" y="5791320"/>
            <a:ext cx="807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hat about post intubation sedation &amp; pain control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85800" y="29718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ff66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your plan if your pt remain hypotesive after resuscitati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-360" y="914040"/>
            <a:ext cx="863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52 y o m pt presented to ER c/o vomiting blood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3200400" y="150120"/>
            <a:ext cx="21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ASE </a:t>
            </a:r>
            <a:r>
              <a:rPr b="0" lang="ar-SA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C645-43EB-4399-B6DD-B65CB7211FF5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67816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 absorption in adul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M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versus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SQ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inje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spective, randomized, blinded placebo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oll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6-way crossover study in healthy allergic men age 18 to 35 y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CONCLUS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 injection of epinephrine into th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igh is the preferred method of administration in the initial treatment of anaphylaxi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5335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. Estelle R. Simons MD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Journal of Allergy and Clinical Immunology 2001)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119D-82AB-4F7B-9551-069ABF36ED6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Epinephrine absorption in childre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spective, randomized, blinded,  study in 17 children with a history of anaphylaxi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Q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/S  IM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om autoinjec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sma epinephrine concentration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R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P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and adverse effects were monitor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28600" y="6172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. Estelle R. Simons MD </a:t>
            </a:r>
            <a:r>
              <a:rPr b="1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Winnipeg, Manitoba, Canada Allergy and Clinical Immunology</a:t>
            </a:r>
            <a:r>
              <a:rPr b="0" lang="en-CA" sz="1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30484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373-1329-42A9-87B4-4092D85A7F60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5" name="Group 49"/>
          <p:cNvGrpSpPr/>
          <p:nvPr/>
        </p:nvGrpSpPr>
        <p:grpSpPr>
          <a:xfrm>
            <a:off x="-6480" y="3143160"/>
            <a:ext cx="9149760" cy="3714480"/>
            <a:chOff x="-6480" y="3143160"/>
            <a:chExt cx="9149760" cy="3714480"/>
          </a:xfrm>
        </p:grpSpPr>
        <p:sp>
          <p:nvSpPr>
            <p:cNvPr id="436" name="Rectangle 5"/>
            <p:cNvSpPr/>
            <p:nvPr/>
          </p:nvSpPr>
          <p:spPr>
            <a:xfrm>
              <a:off x="430560" y="3143160"/>
              <a:ext cx="29138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6"/>
            <p:cNvSpPr/>
            <p:nvPr/>
          </p:nvSpPr>
          <p:spPr>
            <a:xfrm>
              <a:off x="5459760" y="4822560"/>
              <a:ext cx="3378240" cy="43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Rectangle 7"/>
            <p:cNvSpPr/>
            <p:nvPr/>
          </p:nvSpPr>
          <p:spPr>
            <a:xfrm>
              <a:off x="-6480" y="5921280"/>
              <a:ext cx="22399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Rectangle 8"/>
            <p:cNvSpPr/>
            <p:nvPr/>
          </p:nvSpPr>
          <p:spPr>
            <a:xfrm>
              <a:off x="571320" y="3286440"/>
              <a:ext cx="2913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5765760" y="5182200"/>
              <a:ext cx="3377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Rectangle 10"/>
            <p:cNvSpPr/>
            <p:nvPr/>
          </p:nvSpPr>
          <p:spPr>
            <a:xfrm>
              <a:off x="-6480" y="6536160"/>
              <a:ext cx="223992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2" name="Rectangle 52"/>
          <p:cNvSpPr/>
          <p:nvPr/>
        </p:nvSpPr>
        <p:spPr>
          <a:xfrm>
            <a:off x="0" y="1066680"/>
            <a:ext cx="876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 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ute of injection is preferable.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pinephrine SQ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                                 0.27 ± 0.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Epinephrine IM                                   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0.3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Rectangle 53"/>
          <p:cNvSpPr/>
          <p:nvPr/>
        </p:nvSpPr>
        <p:spPr>
          <a:xfrm>
            <a:off x="762120" y="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e absorption in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17160" y="899640"/>
            <a:ext cx="86374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 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85480" y="194148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IM route has several benefit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is a greater margin of safet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t does not require intravenous acces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IM route is easier to lear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est site for IM injection is the anterolateral aspect of the middle third of the thigh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3"/>
          <p:cNvSpPr/>
          <p:nvPr/>
        </p:nvSpPr>
        <p:spPr>
          <a:xfrm>
            <a:off x="214200" y="1714680"/>
            <a:ext cx="8929800" cy="4786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enaline IM dose –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5 mg IM (= 500 micrograms = 0.5 mL of 1:1000) adrena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drenaline IM dose –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12 years: 500 micrograms IM (0.5 mL) i.e. same as adul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0 micrograms (0.3 mL) if child is small or prepuber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6 – 12 years: 300 micrograms IM (0.3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 6 months – 6 years: 150 micrograms IM (0.15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 6 months: 150 micrograms IM (0.15 m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17160" y="899640"/>
            <a:ext cx="863748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M Epinephr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0193-200D-47F3-9B6F-2EBACAECAE9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8862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V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272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V E</a:t>
            </a: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pini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ndication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oc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ma &amp; 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ridor +  a/w edem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 response to I/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ni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F3DB-C9F6-475A-81B9-05D12830BCA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3"/>
          <p:cNvSpPr/>
          <p:nvPr/>
        </p:nvSpPr>
        <p:spPr>
          <a:xfrm>
            <a:off x="0" y="990720"/>
            <a:ext cx="52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V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PINEPH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785880" y="19051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0.1 mg (0.1 ml) of 1:1,000 with 10 ml of 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s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This is equivalent to a 100 mcg bolus given at 10 mcg/mi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Once therapy has begun, a continuous infusion could be delivered with 0.5 to 5 mcg/min titrated to clinical respo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032-B2EA-4A3F-B5F2-A94A0C29238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1091880"/>
            <a:ext cx="5105520" cy="58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5e500"/>
                </a:solidFill>
                <a:latin typeface="Arial"/>
                <a:ea typeface="Times New Roman"/>
              </a:rPr>
              <a:t>Epinephrine infusions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eful in patients with persistent hypotension or bronchospasm after initial resusci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usions should be started at </a:t>
            </a:r>
            <a:r>
              <a:rPr b="0" lang="en-CA" sz="2800" spc="-1" strike="noStrike">
                <a:solidFill>
                  <a:srgbClr val="e5e500"/>
                </a:solidFill>
                <a:latin typeface="Arial"/>
                <a:ea typeface="Times New Roman"/>
              </a:rPr>
              <a:t>5 to 10 μg/min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approximately 0.05–0.1 μg/kg per minute) and titrated to correct hypotens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8" name="Rectangle 1029"/>
          <p:cNvSpPr/>
          <p:nvPr/>
        </p:nvSpPr>
        <p:spPr>
          <a:xfrm>
            <a:off x="34293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43AE-40A3-48AD-9A10-BC68999D70B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atecholamine Infusions</a:t>
            </a:r>
            <a:r>
              <a:rPr b="0" lang="en-CA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5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epinephrine infusions may be requir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 to 10 μg/min (0.05–0.1 μg/kg per mi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nd titrated to correct hypotensi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1"/>
          <p:cNvSpPr/>
          <p:nvPr/>
        </p:nvSpPr>
        <p:spPr>
          <a:xfrm>
            <a:off x="285840" y="2000160"/>
            <a:ext cx="8858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ject hydrocortisone slowly intravenously or intramuscularl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ose of hydrocortisone for adults and children depends on ag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12 years and adults: 20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6 – 12 years: 10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6 months – 6 years: 50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6 months: 25 mg IM or IV slow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2007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Box 3"/>
          <p:cNvSpPr/>
          <p:nvPr/>
        </p:nvSpPr>
        <p:spPr>
          <a:xfrm>
            <a:off x="289800" y="92880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00"/>
                </a:solidFill>
                <a:latin typeface="Times New Roman"/>
              </a:rPr>
              <a:t>Stero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8DE5-170D-4A80-AB91-B86746CB80D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990720"/>
            <a:ext cx="91440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phylaxis is derived from th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ek word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a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aning backwar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gain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i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hylaxis</a:t>
            </a:r>
            <a:r>
              <a:rPr b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ing </a:t>
            </a: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e is no universally accepted clinical definition of 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12444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E54-7E26-4132-BF9F-C3EF756F839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38862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aniti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in adults (1 mg/kg) in children, diluted in 5% dextrose to a total volume of 20 mL and inject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5 minut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imetidine</a:t>
            </a:r>
            <a:r>
              <a:rPr b="0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4 mg/kg) may be administered to adults, but no pediatric dosage in anaphylaxis has been established.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C8EB-C786-4181-A552-5A08337B2BBB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mprove outcomes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???</a:t>
            </a:r>
            <a:r>
              <a:rPr b="0" i="1" lang="en-C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16520" indent="-438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randomized, double-blind,  91 adult patients with acute allergic syndrom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re treated wi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-365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of diphenhydramine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lacepo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121120" indent="-365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0 mg of diphenhydramine and 50 mg of </a:t>
            </a:r>
            <a:r>
              <a:rPr b="0" lang="en-CA" sz="2800" spc="-1" strike="noStrike">
                <a:solidFill>
                  <a:srgbClr val="e5e500"/>
                </a:solidFill>
                <a:latin typeface="Arial"/>
                <a:ea typeface="Times New Roman"/>
              </a:rPr>
              <a:t>ranitid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914400" y="6248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 RY</a:t>
            </a:r>
            <a:r>
              <a:rPr b="1" i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n Emerg Med.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2133360" y="108720"/>
            <a:ext cx="4647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H</a:t>
            </a:r>
            <a:r>
              <a:rPr b="0" i="1" lang="en-CA" sz="32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1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nd H</a:t>
            </a:r>
            <a:r>
              <a:rPr b="0" i="1" lang="en-CA" sz="3200" spc="-1" strike="noStrike" baseline="-30000">
                <a:solidFill>
                  <a:srgbClr val="ffff00"/>
                </a:solidFill>
                <a:latin typeface="Arial"/>
                <a:ea typeface="Times New Roman"/>
              </a:rPr>
              <a:t>2</a:t>
            </a:r>
            <a:r>
              <a:rPr b="0" i="1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antagonist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65C8-C951-4778-8750-0D466D88E03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75" name="Object 2"/>
          <p:cNvGraphicFramePr/>
          <p:nvPr/>
        </p:nvGraphicFramePr>
        <p:xfrm>
          <a:off x="990720" y="1981080"/>
          <a:ext cx="723888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7238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4"/>
          <p:cNvSpPr/>
          <p:nvPr/>
        </p:nvSpPr>
        <p:spPr>
          <a:xfrm>
            <a:off x="168840" y="990720"/>
            <a:ext cx="412308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i="1" lang="en-CA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d H</a:t>
            </a:r>
            <a:r>
              <a:rPr b="0" i="1" lang="en-CA" sz="32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ntagon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685800" y="63244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Lin RY</a:t>
            </a:r>
            <a:r>
              <a:rPr b="1" i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n Emerg Med.</a:t>
            </a:r>
            <a:r>
              <a:rPr b="1" lang="en-CA" sz="20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2895480" y="-216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E38C-DBEE-4DB6-98AA-048319763DC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Conclusion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findings favour the recommendation fo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sing combined H</a:t>
            </a:r>
            <a:r>
              <a:rPr b="0" lang="en-CA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d H</a:t>
            </a:r>
            <a:r>
              <a:rPr b="0" lang="en-CA" sz="2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antihistamines in acute allergic syndrome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Lin RY</a:t>
            </a:r>
            <a:r>
              <a:rPr b="0" i="1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Ann Emerg Med.</a:t>
            </a:r>
            <a:r>
              <a:rPr b="0" lang="en-CA" sz="2000" spc="-1" strike="noStrike">
                <a:solidFill>
                  <a:srgbClr val="ffff66"/>
                </a:solidFill>
                <a:latin typeface="Arial"/>
                <a:ea typeface="Times New Roman"/>
              </a:rPr>
              <a:t> November 2000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3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-360" y="2071800"/>
            <a:ext cx="93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ly to be lifesaving in a true anaphylax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ject chlorphenamine slowly IV or I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dose of chlorphenamine depends on a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12 years and adults: 10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6 – 12 years: 5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6 months – 6 years: 2.5 m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lt;6 months: 250 micrograms/kg IM or IV slow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D7DA-DEF9-4975-946D-586D5293DA2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Rectangle 1026"/>
          <p:cNvSpPr/>
          <p:nvPr/>
        </p:nvSpPr>
        <p:spPr>
          <a:xfrm>
            <a:off x="228600" y="912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Antihistam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Rectangle 1028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1937-02BA-4DC6-BC80-EFBD5E1892A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iphasic Anaphylaxi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r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es between 5% to 20%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rrenc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anging from mild to seve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life-threa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T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olonged observ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s requi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30484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80B-90B6-43E7-BF97-88D5F93646D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92504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Risk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Of 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Biphasic Anaphyla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xis</a:t>
            </a:r>
            <a:br>
              <a:rPr sz="3200"/>
            </a:b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533520" y="624852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66"/>
                </a:solidFill>
                <a:latin typeface="Times New Roman"/>
              </a:rPr>
              <a:t>Joyce M. Lee MD </a:t>
            </a:r>
            <a:r>
              <a:rPr b="1" lang="en-CA" sz="2000" spc="-1" strike="noStrike">
                <a:solidFill>
                  <a:srgbClr val="ffff66"/>
                </a:solidFill>
                <a:latin typeface="Times New Roman"/>
              </a:rPr>
              <a:t>Children's Hospital, Harvard Medical Scho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CA" sz="2400" spc="-1" strike="noStrike">
                <a:solidFill>
                  <a:srgbClr val="ffff66"/>
                </a:solidFill>
                <a:latin typeface="Arial"/>
              </a:rPr>
              <a:t>Biphasic Anaphylactic Reactions in Paediatric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cidenc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6%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layed epinephrine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je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roid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 not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 biphasic reactions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me from the onset of symptoms to the reac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2DB-365A-4EF5-9C17-6FCB581AECF9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aphylaxis in Pregnancy</a:t>
            </a:r>
            <a:r>
              <a:rPr b="0" lang="en-CA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he management of anaphylaxis in pregnancy consists o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ern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susci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se monitoring of the fetal statu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mmediate delivery of the fetus if compromised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9" name="Rectangle 1028"/>
          <p:cNvSpPr/>
          <p:nvPr/>
        </p:nvSpPr>
        <p:spPr>
          <a:xfrm>
            <a:off x="33530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1895-E504-4508-8CFA-F0427CB9048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Treatment depends on the severity of the reaction and consists of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uid resuscita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yg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inephr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1 and H2 blocke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rticosteroids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0" y="10666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</a:t>
            </a: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naphylaxis in Pregnanc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Rectangle 1029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5204-FC56-4062-8B46-2CEDFAE685A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331640" y="148428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c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are the bad prognostic signs of anaphylaxi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>
              <a:buClr>
                <a:srgbClr val="ccff66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AC63-00F7-4D3F-B1C9-E37C930FFD4C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ta regarding the incidence and prevalence of anaphylaxis and the number of deaths caused by it are limi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-360" y="1041120"/>
            <a:ext cx="39625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Arial"/>
              </a:rPr>
              <a:t>Epidemiology in S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9248-4BED-49D7-9AD2-8D6109CFC2AA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1000080"/>
            <a:ext cx="8610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β-Adrenergic blocka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adoxical bradycardi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ofound hypoten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vere bronchospasm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agents might impede treatment effectiveness with epinephrin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304848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A914-B55B-4C76-A1FF-FCF9BDBFA901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42670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β-Adrenergic blocka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56760" y="2057400"/>
            <a:ext cx="848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Glucagon, 1-5 mg (20-30 μg/kg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[maximum, 1 mg] in children)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5 minutes, followed by an infusion of 5-15 μg/mi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spiration precautions should be observed because glucagon may cause 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v.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Rectangle 1028"/>
          <p:cNvSpPr/>
          <p:nvPr/>
        </p:nvSpPr>
        <p:spPr>
          <a:xfrm>
            <a:off x="231480" y="106668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T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D7E6-F17F-4D32-9DAC-DA605B77A5EE}" type="slidenum">
              <a:rPr b="1" lang="en-CA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71840" y="3805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Arial"/>
              <a:ea typeface="Times New Roman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1714680" y="75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9829800" y="205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5572080" y="3357720"/>
            <a:ext cx="3571920" cy="90180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 of epinephr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the adrenal cort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2104920" y="1905120"/>
            <a:ext cx="2265480" cy="58140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0" y="2928960"/>
            <a:ext cx="3629160" cy="163332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ease of ACE leading to the production of angiotensin 2,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 vasocontri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968800" y="5429160"/>
            <a:ext cx="3181680" cy="1343880"/>
          </a:xfrm>
          <a:prstGeom prst="rect">
            <a:avLst/>
          </a:prstGeom>
          <a:solidFill>
            <a:srgbClr val="abeaf7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socontriction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sc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H="1">
            <a:off x="2057040" y="2286000"/>
            <a:ext cx="609480" cy="68580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4071960" y="2500200"/>
            <a:ext cx="1371600" cy="106704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3643200" y="4143240"/>
            <a:ext cx="2286000" cy="157176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13"/>
          <p:cNvSpPr/>
          <p:nvPr/>
        </p:nvSpPr>
        <p:spPr>
          <a:xfrm>
            <a:off x="7858080" y="4429080"/>
            <a:ext cx="0" cy="83808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14"/>
          <p:cNvSpPr/>
          <p:nvPr/>
        </p:nvSpPr>
        <p:spPr>
          <a:xfrm>
            <a:off x="3143160" y="1285920"/>
            <a:ext cx="0" cy="600120"/>
          </a:xfrm>
          <a:prstGeom prst="line">
            <a:avLst/>
          </a:prstGeom>
          <a:ln w="76320">
            <a:solidFill>
              <a:srgbClr val="abeaf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Rectangle 15"/>
          <p:cNvSpPr/>
          <p:nvPr/>
        </p:nvSpPr>
        <p:spPr>
          <a:xfrm rot="17984400">
            <a:off x="3533040" y="5070600"/>
            <a:ext cx="1651320" cy="284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Cloud"/>
          <p:cNvSpPr/>
          <p:nvPr/>
        </p:nvSpPr>
        <p:spPr>
          <a:xfrm>
            <a:off x="285840" y="4786200"/>
            <a:ext cx="3929040" cy="2357640"/>
          </a:xfrm>
          <a:prstGeom prst="pie">
            <a:avLst/>
          </a:prstGeom>
          <a:solidFill>
            <a:srgbClr val="a2e597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te of action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 inhibitors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giotensin 2 antagon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Document"/>
          <p:cNvSpPr/>
          <p:nvPr/>
        </p:nvSpPr>
        <p:spPr>
          <a:xfrm>
            <a:off x="4952880" y="785880"/>
            <a:ext cx="4191120" cy="2133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ersons taking 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and/or angiotensin II antagonists will have a diminished compensatory respo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8"/>
          <p:cNvSpPr/>
          <p:nvPr/>
        </p:nvSpPr>
        <p:spPr>
          <a:xfrm>
            <a:off x="0" y="-357120"/>
            <a:ext cx="4714920" cy="2262240"/>
          </a:xfrm>
          <a:prstGeom prst="irregularSeal1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Times New Roman"/>
              </a:rPr>
              <a:t>ANAPHYLAX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nd 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6217-CA7F-4C43-8942-99854B6F95C7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8390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The heart  in anaphyla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x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gh-dose epinephrine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ie, rapid progression to high dose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-3 mg (1:10,000 dilution) slowly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3 minu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-5 mg administer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v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ver 3 minu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-10 μg/min infusion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Line 2052"/>
          <p:cNvSpPr/>
          <p:nvPr/>
        </p:nvSpPr>
        <p:spPr>
          <a:xfrm flipH="1">
            <a:off x="2514600" y="3733920"/>
            <a:ext cx="2286000" cy="8380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2053"/>
          <p:cNvSpPr/>
          <p:nvPr/>
        </p:nvSpPr>
        <p:spPr>
          <a:xfrm flipH="1">
            <a:off x="2895120" y="4952880"/>
            <a:ext cx="2133720" cy="60984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2060"/>
          <p:cNvSpPr/>
          <p:nvPr/>
        </p:nvSpPr>
        <p:spPr>
          <a:xfrm flipH="1">
            <a:off x="4648320" y="2209680"/>
            <a:ext cx="2590560" cy="83844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2061"/>
          <p:cNvSpPr/>
          <p:nvPr/>
        </p:nvSpPr>
        <p:spPr>
          <a:xfrm>
            <a:off x="6172200" y="25146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Text Box 2062"/>
          <p:cNvSpPr/>
          <p:nvPr/>
        </p:nvSpPr>
        <p:spPr>
          <a:xfrm>
            <a:off x="4573080" y="37339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Text Box 2064"/>
          <p:cNvSpPr/>
          <p:nvPr/>
        </p:nvSpPr>
        <p:spPr>
          <a:xfrm>
            <a:off x="2590920" y="54100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2065"/>
          <p:cNvSpPr/>
          <p:nvPr/>
        </p:nvSpPr>
        <p:spPr>
          <a:xfrm>
            <a:off x="4495680" y="5181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Picture 2066" descr="heart"/>
          <p:cNvPicPr/>
          <p:nvPr/>
        </p:nvPicPr>
        <p:blipFill>
          <a:blip r:embed="rId1"/>
          <a:stretch/>
        </p:blipFill>
        <p:spPr>
          <a:xfrm>
            <a:off x="8077320" y="152280"/>
            <a:ext cx="857160" cy="1200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067"/>
          <p:cNvSpPr/>
          <p:nvPr/>
        </p:nvSpPr>
        <p:spPr>
          <a:xfrm>
            <a:off x="312444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FC2C-474E-4F4A-842C-5AB2E41FD45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990720"/>
            <a:ext cx="91440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52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en-CA" sz="3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OUT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ESPIRAT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)</a:t>
            </a:r>
            <a:r>
              <a:rPr b="1" lang="en-CA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609480" y="1828800"/>
            <a:ext cx="7696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O. 1</a:t>
            </a:r>
            <a:r>
              <a:rPr b="1" i="1" lang="en-C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use of death in anaphylax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2972160" y="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E412-3458-4E27-BB1D-14693B336F8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8" name="Object 2"/>
          <p:cNvGraphicFramePr/>
          <p:nvPr/>
        </p:nvGraphicFramePr>
        <p:xfrm>
          <a:off x="228600" y="1905120"/>
          <a:ext cx="853452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5345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0" name="Picture 6" descr="img0049"/>
          <p:cNvPicPr/>
          <p:nvPr/>
        </p:nvPicPr>
        <p:blipFill>
          <a:blip r:embed="rId3"/>
          <a:stretch/>
        </p:blipFill>
        <p:spPr>
          <a:xfrm>
            <a:off x="7162920" y="152280"/>
            <a:ext cx="1752480" cy="15242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7"/>
          <p:cNvSpPr/>
          <p:nvPr/>
        </p:nvSpPr>
        <p:spPr>
          <a:xfrm>
            <a:off x="0" y="1143000"/>
            <a:ext cx="562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uses of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ath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r>
              <a:rPr b="1" i="1" lang="en-CA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3048480" y="15228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1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5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6C81-ECC0-4859-A99D-081A772FE503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48120" y="228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GNOSI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ad prognostic sig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/W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Asthm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anifestations after exposure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 epi inj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 requirem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B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5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E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Line 4"/>
          <p:cNvSpPr/>
          <p:nvPr/>
        </p:nvSpPr>
        <p:spPr>
          <a:xfrm flipV="1">
            <a:off x="1752480" y="4191120"/>
            <a:ext cx="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4876920" y="1828800"/>
            <a:ext cx="3886200" cy="5205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be aware  &amp;  prep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2356920" y="2786040"/>
            <a:ext cx="5751720" cy="14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Questions 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B024-8AA5-4AB4-A4E1-28A59A35BD1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357280" y="642600"/>
            <a:ext cx="32292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DE20-AEBC-4A95-8895-72B70138EFE2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2916360" y="3860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Ranitidine</a:t>
            </a:r>
            <a:r>
              <a:rPr b="0" lang="en-CA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50 mg in adults (1 mg/kg) in children, diluted in 5% dextrose to a total volume of 20 mL and injected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over 5 minu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948360" y="4975200"/>
            <a:ext cx="129888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IV Epinephrine</a:t>
            </a: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*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3552120" y="3141720"/>
            <a:ext cx="209340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ffffcc"/>
                </a:solidFill>
                <a:latin typeface="Arial"/>
              </a:rPr>
              <a:t>Diphenhydramine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50 mg of IV/IM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664440" y="396000"/>
            <a:ext cx="184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Anaphylaxis Algorith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3587040" y="619920"/>
            <a:ext cx="192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en-US" sz="1000" spc="-1" strike="noStrike">
                <a:solidFill>
                  <a:srgbClr val="ffffcc"/>
                </a:solidFill>
                <a:latin typeface="Arial"/>
              </a:rPr>
              <a:t>Hypotension 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due to </a:t>
            </a:r>
            <a:r>
              <a:rPr b="0" i="1" lang="en-CA" sz="1000" spc="-1" strike="noStrike">
                <a:solidFill>
                  <a:srgbClr val="ffffcc"/>
                </a:solidFill>
                <a:latin typeface="Arial"/>
              </a:rPr>
              <a:t>Antigen</a:t>
            </a:r>
            <a:r>
              <a:rPr b="0" lang="en-CA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3203640" y="980640"/>
            <a:ext cx="2663640" cy="1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Check ABCs in Monitored bed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3186360" y="3577320"/>
            <a:ext cx="2748960" cy="24624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Methylprednisolone 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(Solu-Medrol) 125 mg IV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2918520" y="1628640"/>
            <a:ext cx="329724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ffff66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100%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oxygen administratio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, e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stablish and maintain a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/w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3780000" y="1989000"/>
            <a:ext cx="1871640" cy="6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0.3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mL Epinephrine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1:1,000 IM* in lateral aspect of the thigh Repeated dose if still hypotensive in 3-4 minut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13"/>
          <p:cNvSpPr/>
          <p:nvPr/>
        </p:nvSpPr>
        <p:spPr>
          <a:xfrm>
            <a:off x="3897360" y="458136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Reassess  AB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14"/>
          <p:cNvSpPr/>
          <p:nvPr/>
        </p:nvSpPr>
        <p:spPr>
          <a:xfrm>
            <a:off x="4067280" y="5157720"/>
            <a:ext cx="944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Hypotension</a:t>
            </a: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15"/>
          <p:cNvSpPr/>
          <p:nvPr/>
        </p:nvSpPr>
        <p:spPr>
          <a:xfrm>
            <a:off x="5003640" y="5373720"/>
            <a:ext cx="1729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16"/>
          <p:cNvSpPr/>
          <p:nvPr/>
        </p:nvSpPr>
        <p:spPr>
          <a:xfrm flipH="1">
            <a:off x="2484360" y="5229360"/>
            <a:ext cx="1440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17"/>
          <p:cNvSpPr/>
          <p:nvPr/>
        </p:nvSpPr>
        <p:spPr>
          <a:xfrm>
            <a:off x="5293800" y="51577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18"/>
          <p:cNvSpPr/>
          <p:nvPr/>
        </p:nvSpPr>
        <p:spPr>
          <a:xfrm>
            <a:off x="2773800" y="5013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19"/>
          <p:cNvSpPr/>
          <p:nvPr/>
        </p:nvSpPr>
        <p:spPr>
          <a:xfrm>
            <a:off x="1145880" y="5084640"/>
            <a:ext cx="130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High Risk Patient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*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 flipV="1">
            <a:off x="1403280" y="4797360"/>
            <a:ext cx="0" cy="28728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21"/>
          <p:cNvSpPr/>
          <p:nvPr/>
        </p:nvSpPr>
        <p:spPr>
          <a:xfrm>
            <a:off x="1763640" y="537372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22"/>
          <p:cNvSpPr/>
          <p:nvPr/>
        </p:nvSpPr>
        <p:spPr>
          <a:xfrm>
            <a:off x="1763640" y="5589720"/>
            <a:ext cx="4969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1478520" y="479736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24"/>
          <p:cNvSpPr/>
          <p:nvPr/>
        </p:nvSpPr>
        <p:spPr>
          <a:xfrm>
            <a:off x="1116000" y="4508640"/>
            <a:ext cx="208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Observe for 6 hours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AutoShape 25"/>
          <p:cNvSpPr/>
          <p:nvPr/>
        </p:nvSpPr>
        <p:spPr>
          <a:xfrm>
            <a:off x="539640" y="3141720"/>
            <a:ext cx="1835280" cy="1079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2411280" y="5665680"/>
            <a:ext cx="3889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cc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Airway compromise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Requirement of high doses of epinephrin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History of Cornary Artery Disease</a:t>
            </a:r>
            <a:r>
              <a:rPr b="0" lang="en-GB" sz="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History of B.Asthm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</a:rPr>
              <a:t>Patient on B.Blockers or ACEI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Rectangle 27"/>
          <p:cNvSpPr/>
          <p:nvPr/>
        </p:nvSpPr>
        <p:spPr>
          <a:xfrm>
            <a:off x="3711600" y="2759040"/>
            <a:ext cx="155232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IV N/S 500—1000ccBol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Rectangle 28"/>
          <p:cNvSpPr/>
          <p:nvPr/>
        </p:nvSpPr>
        <p:spPr>
          <a:xfrm>
            <a:off x="324000" y="2492280"/>
            <a:ext cx="180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For bronchospasm resistant to epinephrine give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ebulized (salbutamol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29"/>
          <p:cNvSpPr/>
          <p:nvPr/>
        </p:nvSpPr>
        <p:spPr>
          <a:xfrm>
            <a:off x="3413880" y="1328760"/>
            <a:ext cx="230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Stop Administration of Antigen (i.e. blood)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30"/>
          <p:cNvSpPr/>
          <p:nvPr/>
        </p:nvSpPr>
        <p:spPr>
          <a:xfrm>
            <a:off x="4967280" y="5877000"/>
            <a:ext cx="4176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***IV Epinephr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0.1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mg (0.1 ml) of 1:1,000 with 10 ml of n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/s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this is equivalent to a 100 mcg bolus given at 10 mcg/min</a:t>
            </a: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900" spc="-1" strike="noStrike">
                <a:solidFill>
                  <a:srgbClr val="ffffcc"/>
                </a:solidFill>
                <a:latin typeface="Arial"/>
              </a:rPr>
              <a:t>a continuous infusion of 0.5 to 5 mcg/min titrated to clinical response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900" spc="-1" strike="noStrike">
                <a:solidFill>
                  <a:srgbClr val="ffffcc"/>
                </a:solidFill>
                <a:latin typeface="Arial"/>
              </a:rPr>
              <a:t>Epinephrine should not be administered </a:t>
            </a:r>
            <a:r>
              <a:rPr b="1" i="1" lang="en-US" sz="9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1" i="1" lang="en-CA" sz="900" spc="-1" strike="noStrike">
                <a:solidFill>
                  <a:srgbClr val="ffffcc"/>
                </a:solidFill>
                <a:latin typeface="Arial"/>
              </a:rPr>
              <a:t>to patients with normal</a:t>
            </a:r>
            <a:r>
              <a:rPr b="1" i="1" lang="en-US" sz="900" spc="-1" strike="noStrike">
                <a:solidFill>
                  <a:srgbClr val="ffffcc"/>
                </a:solidFill>
                <a:latin typeface="Arial"/>
              </a:rPr>
              <a:t> B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AutoShape 31"/>
          <p:cNvSpPr/>
          <p:nvPr/>
        </p:nvSpPr>
        <p:spPr>
          <a:xfrm>
            <a:off x="3419640" y="1268280"/>
            <a:ext cx="223200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32"/>
          <p:cNvSpPr/>
          <p:nvPr/>
        </p:nvSpPr>
        <p:spPr>
          <a:xfrm>
            <a:off x="4500720" y="4941720"/>
            <a:ext cx="0" cy="2160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Oval 33"/>
          <p:cNvSpPr/>
          <p:nvPr/>
        </p:nvSpPr>
        <p:spPr>
          <a:xfrm>
            <a:off x="3851280" y="4581360"/>
            <a:ext cx="136836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6227640" y="2349360"/>
            <a:ext cx="2448000" cy="6577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Start </a:t>
            </a:r>
            <a:r>
              <a:rPr b="1" lang="en-CA" sz="1000" spc="-1" strike="noStrike">
                <a:solidFill>
                  <a:srgbClr val="ffffcc"/>
                </a:solidFill>
                <a:latin typeface="Arial"/>
              </a:rPr>
              <a:t>Glucago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, 1-5 mg (20-30 μg/kg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  (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maximum, 1 mg in childre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)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iv bolus over 5 minutes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followed by infusion of 5—15 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μg/min</a:t>
            </a:r>
            <a:r>
              <a:rPr b="0" lang="en-CA" sz="9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35"/>
          <p:cNvSpPr/>
          <p:nvPr/>
        </p:nvSpPr>
        <p:spPr>
          <a:xfrm>
            <a:off x="6948360" y="3911760"/>
            <a:ext cx="1233720" cy="231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cc"/>
                </a:solidFill>
                <a:latin typeface="Arial"/>
              </a:rPr>
              <a:t>Still Hypotens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Rectangle 36"/>
          <p:cNvSpPr/>
          <p:nvPr/>
        </p:nvSpPr>
        <p:spPr>
          <a:xfrm>
            <a:off x="7021800" y="443700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Reassess  AB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Oval 37"/>
          <p:cNvSpPr/>
          <p:nvPr/>
        </p:nvSpPr>
        <p:spPr>
          <a:xfrm>
            <a:off x="6948360" y="4365720"/>
            <a:ext cx="136872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38"/>
          <p:cNvSpPr/>
          <p:nvPr/>
        </p:nvSpPr>
        <p:spPr>
          <a:xfrm>
            <a:off x="6728400" y="328464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Is the patient on B. Blockers?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Line 39"/>
          <p:cNvSpPr/>
          <p:nvPr/>
        </p:nvSpPr>
        <p:spPr>
          <a:xfrm flipV="1">
            <a:off x="7596360" y="4724280"/>
            <a:ext cx="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40"/>
          <p:cNvSpPr/>
          <p:nvPr/>
        </p:nvSpPr>
        <p:spPr>
          <a:xfrm flipV="1">
            <a:off x="7596360" y="4221000"/>
            <a:ext cx="0" cy="144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41"/>
          <p:cNvSpPr/>
          <p:nvPr/>
        </p:nvSpPr>
        <p:spPr>
          <a:xfrm>
            <a:off x="7022160" y="5373720"/>
            <a:ext cx="10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ffffcc"/>
                </a:solidFill>
                <a:latin typeface="Arial"/>
              </a:rPr>
              <a:t>ICU Admis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42"/>
          <p:cNvSpPr/>
          <p:nvPr/>
        </p:nvSpPr>
        <p:spPr>
          <a:xfrm>
            <a:off x="6732720" y="5229360"/>
            <a:ext cx="1584360" cy="647640"/>
          </a:xfrm>
          <a:prstGeom prst="irregularSeal1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Line 43"/>
          <p:cNvSpPr/>
          <p:nvPr/>
        </p:nvSpPr>
        <p:spPr>
          <a:xfrm>
            <a:off x="5003640" y="5157720"/>
            <a:ext cx="1944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44"/>
          <p:cNvSpPr/>
          <p:nvPr/>
        </p:nvSpPr>
        <p:spPr>
          <a:xfrm>
            <a:off x="4067280" y="5157720"/>
            <a:ext cx="1009440" cy="216000"/>
          </a:xfrm>
          <a:prstGeom prst="flowChartTerminator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45"/>
          <p:cNvSpPr/>
          <p:nvPr/>
        </p:nvSpPr>
        <p:spPr>
          <a:xfrm>
            <a:off x="6300720" y="3213000"/>
            <a:ext cx="2664000" cy="503280"/>
          </a:xfrm>
          <a:custGeom>
            <a:avLst/>
            <a:gdLst>
              <a:gd name="textAreaLeft" fmla="*/ 608040 w 2664000"/>
              <a:gd name="textAreaRight" fmla="*/ 2055960 w 2664000"/>
              <a:gd name="textAreaTop" fmla="*/ 114840 h 503280"/>
              <a:gd name="textAreaBottom" fmla="*/ 3884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Line 46"/>
          <p:cNvSpPr/>
          <p:nvPr/>
        </p:nvSpPr>
        <p:spPr>
          <a:xfrm flipV="1">
            <a:off x="7596360" y="3716280"/>
            <a:ext cx="0" cy="2174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Line 47"/>
          <p:cNvSpPr/>
          <p:nvPr/>
        </p:nvSpPr>
        <p:spPr>
          <a:xfrm flipV="1">
            <a:off x="7596360" y="3068280"/>
            <a:ext cx="0" cy="14436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48"/>
          <p:cNvSpPr/>
          <p:nvPr/>
        </p:nvSpPr>
        <p:spPr>
          <a:xfrm>
            <a:off x="611280" y="3141720"/>
            <a:ext cx="1873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D/C Home with prednisone 50 mg once per day for 5 day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diphenhydramine 25 – 50 mg po Q 6—8 h for 2 days and consider 0.3 mg epi pen prescription in food allergy induced anaphylax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49"/>
          <p:cNvSpPr/>
          <p:nvPr/>
        </p:nvSpPr>
        <p:spPr>
          <a:xfrm>
            <a:off x="1187280" y="4508640"/>
            <a:ext cx="1224000" cy="28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Rectangle 50"/>
          <p:cNvSpPr/>
          <p:nvPr/>
        </p:nvSpPr>
        <p:spPr>
          <a:xfrm>
            <a:off x="1117080" y="4292640"/>
            <a:ext cx="53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Stab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Line 51"/>
          <p:cNvSpPr/>
          <p:nvPr/>
        </p:nvSpPr>
        <p:spPr>
          <a:xfrm flipV="1">
            <a:off x="1403280" y="4149360"/>
            <a:ext cx="0" cy="3589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3" name="AutoShape 52"/>
          <p:cNvCxnSpPr/>
          <p:nvPr/>
        </p:nvCxnSpPr>
        <p:spPr>
          <a:xfrm flipH="1" flipV="1" rot="10800000">
            <a:off x="1186920" y="4581000"/>
            <a:ext cx="5546160" cy="1051920"/>
          </a:xfrm>
          <a:prstGeom prst="bentConnector3">
            <a:avLst>
              <a:gd name="adj1" fmla="val -7900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14" name="Rectangle 53"/>
          <p:cNvSpPr/>
          <p:nvPr/>
        </p:nvSpPr>
        <p:spPr>
          <a:xfrm>
            <a:off x="468360" y="4869000"/>
            <a:ext cx="63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Unstab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5" name="AutoShape 54"/>
          <p:cNvCxnSpPr>
            <a:stCxn id="596" idx="3"/>
            <a:endCxn id="603" idx="3"/>
          </p:cNvCxnSpPr>
          <p:nvPr/>
        </p:nvCxnSpPr>
        <p:spPr>
          <a:xfrm>
            <a:off x="8181720" y="4030560"/>
            <a:ext cx="135720" cy="1597680"/>
          </a:xfrm>
          <a:prstGeom prst="bentConnector3">
            <a:avLst>
              <a:gd name="adj1" fmla="val 269148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16" name="Oval 55"/>
          <p:cNvSpPr/>
          <p:nvPr/>
        </p:nvSpPr>
        <p:spPr>
          <a:xfrm>
            <a:off x="1116000" y="5013360"/>
            <a:ext cx="1295280" cy="36036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56"/>
          <p:cNvSpPr/>
          <p:nvPr/>
        </p:nvSpPr>
        <p:spPr>
          <a:xfrm>
            <a:off x="1333080" y="53737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Line 57"/>
          <p:cNvSpPr/>
          <p:nvPr/>
        </p:nvSpPr>
        <p:spPr>
          <a:xfrm flipH="1">
            <a:off x="8244000" y="5013360"/>
            <a:ext cx="2887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58"/>
          <p:cNvSpPr/>
          <p:nvPr/>
        </p:nvSpPr>
        <p:spPr>
          <a:xfrm>
            <a:off x="395280" y="1197000"/>
            <a:ext cx="2448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Low threshold for Intubaion if any one of the following present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Persistent airway and/or sever tongue swelling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Respiratory Failu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Respiratory Distress</a:t>
            </a: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cc"/>
                </a:solidFill>
                <a:latin typeface="Arial"/>
              </a:rPr>
              <a:t>Hypox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59"/>
          <p:cNvSpPr/>
          <p:nvPr/>
        </p:nvSpPr>
        <p:spPr>
          <a:xfrm>
            <a:off x="2557440" y="2492280"/>
            <a:ext cx="7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Reassess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AB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60"/>
          <p:cNvSpPr/>
          <p:nvPr/>
        </p:nvSpPr>
        <p:spPr>
          <a:xfrm>
            <a:off x="2124000" y="333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61"/>
          <p:cNvSpPr/>
          <p:nvPr/>
        </p:nvSpPr>
        <p:spPr>
          <a:xfrm>
            <a:off x="395280" y="1198440"/>
            <a:ext cx="22320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62"/>
          <p:cNvSpPr/>
          <p:nvPr/>
        </p:nvSpPr>
        <p:spPr>
          <a:xfrm>
            <a:off x="2987640" y="4003560"/>
            <a:ext cx="3168720" cy="4320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AutoShape 63"/>
          <p:cNvCxnSpPr/>
          <p:nvPr/>
        </p:nvCxnSpPr>
        <p:spPr>
          <a:xfrm flipH="1" flipV="1" rot="10800000">
            <a:off x="394920" y="1772280"/>
            <a:ext cx="6338160" cy="3997800"/>
          </a:xfrm>
          <a:prstGeom prst="bentConnector3">
            <a:avLst>
              <a:gd name="adj1" fmla="val -3601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  <p:sp>
        <p:nvSpPr>
          <p:cNvPr id="625" name="AutoShape 64"/>
          <p:cNvSpPr/>
          <p:nvPr/>
        </p:nvSpPr>
        <p:spPr>
          <a:xfrm>
            <a:off x="2556000" y="2492280"/>
            <a:ext cx="792000" cy="358920"/>
          </a:xfrm>
          <a:prstGeom prst="flowChartTerminator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65"/>
          <p:cNvSpPr/>
          <p:nvPr/>
        </p:nvSpPr>
        <p:spPr>
          <a:xfrm>
            <a:off x="396720" y="2492280"/>
            <a:ext cx="1656000" cy="50508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Line 66"/>
          <p:cNvSpPr/>
          <p:nvPr/>
        </p:nvSpPr>
        <p:spPr>
          <a:xfrm flipH="1">
            <a:off x="3348000" y="2637000"/>
            <a:ext cx="4320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67"/>
          <p:cNvSpPr/>
          <p:nvPr/>
        </p:nvSpPr>
        <p:spPr>
          <a:xfrm flipH="1">
            <a:off x="2050560" y="2637000"/>
            <a:ext cx="50508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AutoShape 68"/>
          <p:cNvCxnSpPr>
            <a:stCxn id="625" idx="0"/>
          </p:cNvCxnSpPr>
          <p:nvPr/>
        </p:nvCxnSpPr>
        <p:spPr>
          <a:xfrm flipV="1" rot="16200000">
            <a:off x="2465640" y="2004840"/>
            <a:ext cx="648360" cy="326160"/>
          </a:xfrm>
          <a:prstGeom prst="bentConnector3">
            <a:avLst>
              <a:gd name="adj1" fmla="val 50000"/>
            </a:avLst>
          </a:prstGeom>
          <a:ln w="9360">
            <a:solidFill>
              <a:srgbClr val="ffffcc"/>
            </a:solidFill>
            <a:miter/>
          </a:ln>
        </p:spPr>
      </p:cxnSp>
      <p:sp>
        <p:nvSpPr>
          <p:cNvPr id="630" name="Line 69"/>
          <p:cNvSpPr/>
          <p:nvPr/>
        </p:nvSpPr>
        <p:spPr>
          <a:xfrm>
            <a:off x="0" y="5877000"/>
            <a:ext cx="9144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Text Box 70"/>
          <p:cNvSpPr/>
          <p:nvPr/>
        </p:nvSpPr>
        <p:spPr>
          <a:xfrm>
            <a:off x="7054200" y="6643800"/>
            <a:ext cx="20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cc"/>
                </a:solidFill>
                <a:latin typeface="Arial"/>
              </a:rPr>
              <a:t>Prepared by Dr Zohair Alaseri Feb 200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71"/>
          <p:cNvSpPr/>
          <p:nvPr/>
        </p:nvSpPr>
        <p:spPr>
          <a:xfrm>
            <a:off x="0" y="595008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1" lang="en-GB" sz="900" spc="-1" strike="noStrike">
                <a:solidFill>
                  <a:srgbClr val="ffffcc"/>
                </a:solidFill>
                <a:latin typeface="Arial"/>
              </a:rPr>
              <a:t>Prepare for difficult air way and call anaesthesia for back up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Line 72"/>
          <p:cNvSpPr/>
          <p:nvPr/>
        </p:nvSpPr>
        <p:spPr>
          <a:xfrm>
            <a:off x="2268360" y="6093000"/>
            <a:ext cx="0" cy="57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Line 73"/>
          <p:cNvSpPr/>
          <p:nvPr/>
        </p:nvSpPr>
        <p:spPr>
          <a:xfrm>
            <a:off x="4788000" y="6093000"/>
            <a:ext cx="0" cy="5760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74"/>
          <p:cNvSpPr/>
          <p:nvPr/>
        </p:nvSpPr>
        <p:spPr>
          <a:xfrm>
            <a:off x="8461800" y="414972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75"/>
          <p:cNvSpPr/>
          <p:nvPr/>
        </p:nvSpPr>
        <p:spPr>
          <a:xfrm>
            <a:off x="7668720" y="371628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76"/>
          <p:cNvSpPr/>
          <p:nvPr/>
        </p:nvSpPr>
        <p:spPr>
          <a:xfrm>
            <a:off x="7668720" y="299736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77"/>
          <p:cNvSpPr/>
          <p:nvPr/>
        </p:nvSpPr>
        <p:spPr>
          <a:xfrm>
            <a:off x="8606160" y="3645000"/>
            <a:ext cx="351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78"/>
          <p:cNvSpPr/>
          <p:nvPr/>
        </p:nvSpPr>
        <p:spPr>
          <a:xfrm>
            <a:off x="3178080" y="5734080"/>
            <a:ext cx="126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**</a:t>
            </a:r>
            <a:r>
              <a:rPr b="1" lang="en-US" sz="900" spc="-1" strike="noStrike">
                <a:solidFill>
                  <a:srgbClr val="ffffcc"/>
                </a:solidFill>
                <a:latin typeface="Arial"/>
              </a:rPr>
              <a:t>High Risk Pat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40" name="AutoShape 79"/>
          <p:cNvCxnSpPr>
            <a:stCxn id="606" idx="0"/>
            <a:endCxn id="603" idx="3"/>
          </p:cNvCxnSpPr>
          <p:nvPr/>
        </p:nvCxnSpPr>
        <p:spPr>
          <a:xfrm flipH="1">
            <a:off x="8316360" y="3465360"/>
            <a:ext cx="648360" cy="2162880"/>
          </a:xfrm>
          <a:prstGeom prst="bentConnector3">
            <a:avLst>
              <a:gd name="adj1" fmla="val -722"/>
            </a:avLst>
          </a:prstGeom>
          <a:ln w="9360">
            <a:solidFill>
              <a:srgbClr val="ffff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BA5-45AC-4FCE-87F0-C83BBD60933D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88"/>
          <p:cNvSpPr/>
          <p:nvPr/>
        </p:nvSpPr>
        <p:spPr>
          <a:xfrm>
            <a:off x="539640" y="198900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cations (eg, antibiotics)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pir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SAI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rgen vacc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imal or human prot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ysacchar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89"/>
          <p:cNvSpPr/>
          <p:nvPr/>
        </p:nvSpPr>
        <p:spPr>
          <a:xfrm>
            <a:off x="0" y="1066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aphylactic (IgE dependent)</a:t>
            </a:r>
            <a:r>
              <a:rPr b="0" lang="en-C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828800" y="1522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C567-2D02-4978-9E58-B6D16055B3B6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22"/>
          <p:cNvGrpSpPr/>
          <p:nvPr/>
        </p:nvGrpSpPr>
        <p:grpSpPr>
          <a:xfrm>
            <a:off x="1619280" y="1828800"/>
            <a:ext cx="6171840" cy="5028840"/>
            <a:chOff x="1619280" y="1828800"/>
            <a:chExt cx="6171840" cy="5028840"/>
          </a:xfrm>
        </p:grpSpPr>
        <p:grpSp>
          <p:nvGrpSpPr>
            <p:cNvPr id="124" name="Group 20"/>
            <p:cNvGrpSpPr/>
            <p:nvPr/>
          </p:nvGrpSpPr>
          <p:grpSpPr>
            <a:xfrm>
              <a:off x="1625760" y="1834560"/>
              <a:ext cx="6158160" cy="5015520"/>
              <a:chOff x="1625760" y="1834560"/>
              <a:chExt cx="6158160" cy="5015520"/>
            </a:xfrm>
          </p:grpSpPr>
          <p:grpSp>
            <p:nvGrpSpPr>
              <p:cNvPr id="125" name="Group 9"/>
              <p:cNvGrpSpPr/>
              <p:nvPr/>
            </p:nvGrpSpPr>
            <p:grpSpPr>
              <a:xfrm>
                <a:off x="1625760" y="1834560"/>
                <a:ext cx="6158160" cy="840600"/>
                <a:chOff x="1625760" y="1834560"/>
                <a:chExt cx="6158160" cy="840600"/>
              </a:xfrm>
            </p:grpSpPr>
            <p:sp>
              <p:nvSpPr>
                <p:cNvPr id="126" name="Rectangle 2"/>
                <p:cNvSpPr/>
                <p:nvPr/>
              </p:nvSpPr>
              <p:spPr>
                <a:xfrm>
                  <a:off x="1665360" y="1871640"/>
                  <a:ext cx="607824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naphylactoid (IgE independent</a:t>
                  </a:r>
                  <a:r>
                    <a:rPr b="0" i="1" lang="en-CA" sz="4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8"/>
                <p:cNvSpPr/>
                <p:nvPr/>
              </p:nvSpPr>
              <p:spPr>
                <a:xfrm>
                  <a:off x="1625760" y="1834560"/>
                  <a:ext cx="6158160" cy="8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1"/>
              <p:cNvGrpSpPr/>
              <p:nvPr/>
            </p:nvGrpSpPr>
            <p:grpSpPr>
              <a:xfrm>
                <a:off x="1625760" y="2750040"/>
                <a:ext cx="6158160" cy="759600"/>
                <a:chOff x="1625760" y="2750040"/>
                <a:chExt cx="6158160" cy="759600"/>
              </a:xfrm>
            </p:grpSpPr>
            <p:sp>
              <p:nvSpPr>
                <p:cNvPr id="129" name="Rectangle 3"/>
                <p:cNvSpPr/>
                <p:nvPr/>
              </p:nvSpPr>
              <p:spPr>
                <a:xfrm>
                  <a:off x="1665360" y="2787120"/>
                  <a:ext cx="607824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Multimediator complement activation-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1625760" y="2750040"/>
                  <a:ext cx="6158160" cy="75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Group 13"/>
              <p:cNvGrpSpPr/>
              <p:nvPr/>
            </p:nvGrpSpPr>
            <p:grpSpPr>
              <a:xfrm>
                <a:off x="1625760" y="3585240"/>
                <a:ext cx="6158160" cy="760320"/>
                <a:chOff x="1625760" y="3585240"/>
                <a:chExt cx="6158160" cy="760320"/>
              </a:xfrm>
            </p:grpSpPr>
            <p:sp>
              <p:nvSpPr>
                <p:cNvPr id="132" name="Rectangle 4"/>
                <p:cNvSpPr/>
                <p:nvPr/>
              </p:nvSpPr>
              <p:spPr>
                <a:xfrm>
                  <a:off x="1665360" y="362268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Radiocontrast media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2"/>
                <p:cNvSpPr/>
                <p:nvPr/>
              </p:nvSpPr>
              <p:spPr>
                <a:xfrm>
                  <a:off x="1625760" y="358524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Group 15"/>
              <p:cNvGrpSpPr/>
              <p:nvPr/>
            </p:nvGrpSpPr>
            <p:grpSpPr>
              <a:xfrm>
                <a:off x="1625760" y="4420080"/>
                <a:ext cx="6158160" cy="760320"/>
                <a:chOff x="1625760" y="4420080"/>
                <a:chExt cx="6158160" cy="760320"/>
              </a:xfrm>
            </p:grpSpPr>
            <p:sp>
              <p:nvSpPr>
                <p:cNvPr id="135" name="Rectangle 5"/>
                <p:cNvSpPr/>
                <p:nvPr/>
              </p:nvSpPr>
              <p:spPr>
                <a:xfrm>
                  <a:off x="1665360" y="445752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A</a:t>
                  </a:r>
                  <a:r>
                    <a:rPr b="0" lang="en-US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CEI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14"/>
                <p:cNvSpPr/>
                <p:nvPr/>
              </p:nvSpPr>
              <p:spPr>
                <a:xfrm>
                  <a:off x="1625760" y="442008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Group 17"/>
              <p:cNvGrpSpPr/>
              <p:nvPr/>
            </p:nvGrpSpPr>
            <p:grpSpPr>
              <a:xfrm>
                <a:off x="1625760" y="5255280"/>
                <a:ext cx="6158160" cy="760320"/>
                <a:chOff x="1625760" y="5255280"/>
                <a:chExt cx="6158160" cy="760320"/>
              </a:xfrm>
            </p:grpSpPr>
            <p:sp>
              <p:nvSpPr>
                <p:cNvPr id="138" name="Rectangle 6"/>
                <p:cNvSpPr/>
                <p:nvPr/>
              </p:nvSpPr>
              <p:spPr>
                <a:xfrm>
                  <a:off x="1665360" y="5292720"/>
                  <a:ext cx="6078240" cy="68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66"/>
                      </a:solidFill>
                      <a:latin typeface="Times New Roman"/>
                      <a:ea typeface="Times New Roman"/>
                    </a:rPr>
                    <a:t>Ethylene oxide gas on dialysis tubing???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Rectangle 16"/>
                <p:cNvSpPr/>
                <p:nvPr/>
              </p:nvSpPr>
              <p:spPr>
                <a:xfrm>
                  <a:off x="1625760" y="5255280"/>
                  <a:ext cx="6158160" cy="76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Group 19"/>
              <p:cNvGrpSpPr/>
              <p:nvPr/>
            </p:nvGrpSpPr>
            <p:grpSpPr>
              <a:xfrm>
                <a:off x="1625760" y="6090480"/>
                <a:ext cx="6158160" cy="759600"/>
                <a:chOff x="1625760" y="6090480"/>
                <a:chExt cx="6158160" cy="759600"/>
              </a:xfrm>
            </p:grpSpPr>
            <p:sp>
              <p:nvSpPr>
                <p:cNvPr id="141" name="Rectangle 7"/>
                <p:cNvSpPr/>
                <p:nvPr/>
              </p:nvSpPr>
              <p:spPr>
                <a:xfrm>
                  <a:off x="1665360" y="6127560"/>
                  <a:ext cx="6078240" cy="68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 </a:t>
                  </a:r>
                  <a:r>
                    <a:rPr b="0" lang="en-CA" sz="2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Protamine 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Rectangle 18"/>
                <p:cNvSpPr/>
                <p:nvPr/>
              </p:nvSpPr>
              <p:spPr>
                <a:xfrm>
                  <a:off x="1625760" y="6090480"/>
                  <a:ext cx="6158160" cy="75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" name="Rectangle 21"/>
            <p:cNvSpPr/>
            <p:nvPr/>
          </p:nvSpPr>
          <p:spPr>
            <a:xfrm>
              <a:off x="1619280" y="1828800"/>
              <a:ext cx="617184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" name="Rectangle 24"/>
          <p:cNvSpPr/>
          <p:nvPr/>
        </p:nvSpPr>
        <p:spPr>
          <a:xfrm>
            <a:off x="320076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60" y="10666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1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0DE-95E4-4252-84CC-DD735E4DF71D}" type="slidenum">
              <a:rPr b="0" lang="en-CA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744120" y="2500200"/>
            <a:ext cx="7663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ytotox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usion reactions to cellular elements (IgG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24"/>
          <p:cNvSpPr/>
          <p:nvPr/>
        </p:nvSpPr>
        <p:spPr>
          <a:xfrm>
            <a:off x="3200760" y="228600"/>
            <a:ext cx="23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Ana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60" y="1066680"/>
            <a:ext cx="17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Et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Zohair Al-Aseri</cp:lastModifiedBy>
  <dcterms:modified xsi:type="dcterms:W3CDTF">2010-05-11T06:55:11Z</dcterms:modified>
  <cp:revision>95</cp:revision>
  <dc:subject/>
  <dc:title>PowerPoint Presentation</dc:title>
</cp:coreProperties>
</file>