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whoosh.wav" ContentType="audio/x-wav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04E-00AA-43B0-BC38-5AA4908A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2A7-432F-40CD-BA0B-85BB4431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9DD-3D74-4AA5-8E04-5E9777B0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8BC-E1D1-4ECE-A0EF-BCF51124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9EF9-6D23-4D78-B8E2-BF226971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F8C4-FF6E-4DC2-992C-C0F50C80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909B-E44D-4CC8-8791-56638378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DC04-E9F2-442A-87F1-BF167AF4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A46C-887A-4173-92DC-59ED8416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3EC5-2935-44E3-B2E5-51DC623A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AF96-AB25-4507-A36D-A0C437F9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5BF-4028-432C-9786-89D5C843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1580-9BE9-4468-8304-5DF89D9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9EE7-C598-445A-B7B4-FB1D27DE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420A-9F26-4278-8C13-F5C9789C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3815-9CF0-4E99-8C29-8D1693B3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000D-663C-4E07-BE43-645101E2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2FB-7583-49C6-882A-A5503236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7C4-4EBD-49E8-A032-87169C57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4BE-85CE-41BF-9819-9B81723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FEB-5209-437F-BA7C-39F96B25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1EA-027B-4C94-89C4-8895BCE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B0C-671C-4BAF-9BF9-D4A50283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44B-9F2B-4C41-A5C6-3B7319A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2830-7657-46E4-9623-4799E0089D63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7F24-07C8-45E2-94C0-A14F9C39FB79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5820-5B25-4872-A53F-C5BE65489551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14680" y="3492360"/>
            <a:ext cx="661824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Zohair Al aser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CPC  Emergency Medici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CPC  Critical Care Medici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ant Professor &amp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irman Dept. of Emergency Medici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ge of Medici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Saud University Hospital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142800" y="1071720"/>
            <a:ext cx="239580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268C-5888-44E6-B513-7006925C0F2C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1752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tiology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99680" y="3499920"/>
            <a:ext cx="8381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diopathic anaphylaxis is one of the most common causes, accounting for approximately one third of cases in retrospective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ts a diagnosis of exclusion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276720" y="838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87DE-3D6E-4EB1-838E-43EED83316B5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Pathophysiology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me authors reserve the term anaphylaxis only for </a:t>
            </a:r>
            <a:r>
              <a:rPr b="1" i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gE-dependent </a:t>
            </a:r>
            <a:r>
              <a:rPr b="1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vents and the term anaphylactoid to describe</a:t>
            </a:r>
            <a:r>
              <a:rPr b="1" i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IgE-independent </a:t>
            </a:r>
            <a:r>
              <a:rPr b="1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actions that otherwise are clinically indistinguishabl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457200" y="1981080"/>
            <a:ext cx="8381880" cy="3886200"/>
          </a:xfrm>
          <a:prstGeom prst="ellipse">
            <a:avLst/>
          </a:prstGeom>
          <a:noFill/>
          <a:ln w="57240">
            <a:solidFill>
              <a:srgbClr val="ffff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42936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CE33-19AD-4DAE-9D0E-365E87261D8A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5336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105264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Pathophysiology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27708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07180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8" descr="wpe10.gif (4394 bytes)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1"/>
          <p:cNvSpPr/>
          <p:nvPr/>
        </p:nvSpPr>
        <p:spPr>
          <a:xfrm>
            <a:off x="34336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3C52-9037-4B3C-B3C2-6BE1771525F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09480" y="2590560"/>
            <a:ext cx="381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st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ypt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telet-activating fac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parin</a:t>
            </a:r>
            <a:br>
              <a:rPr sz="2800"/>
            </a:b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43040" y="2590560"/>
            <a:ext cx="40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G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ukotrien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stamine-releasing facto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ym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Rectangle 1031"/>
          <p:cNvSpPr/>
          <p:nvPr/>
        </p:nvSpPr>
        <p:spPr>
          <a:xfrm>
            <a:off x="2739600" y="25704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athophysiolog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033"/>
          <p:cNvSpPr/>
          <p:nvPr/>
        </p:nvSpPr>
        <p:spPr>
          <a:xfrm>
            <a:off x="152280" y="106668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iochemical medi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1035" descr="type1.gif - 7Kb"/>
          <p:cNvPicPr/>
          <p:nvPr/>
        </p:nvPicPr>
        <p:blipFill>
          <a:blip r:embed="rId1"/>
          <a:stretch/>
        </p:blipFill>
        <p:spPr>
          <a:xfrm>
            <a:off x="6867360" y="0"/>
            <a:ext cx="22766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FB7C-3BB8-409A-BB15-6669DFBEC659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stmortem serum tryptase might be useful in establishing anaphylaxis as the cause of death in subjects experiencing sudden dea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ncreased postmortem tryptase levels have been reported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2% of  healthy adults 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th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dd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dea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0% of victims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SI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-360" y="76212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Pathophysiology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 rot="5400000">
            <a:off x="7048080" y="37800"/>
            <a:ext cx="175248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ccffff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27708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6178-F61A-4CD1-96B9-471FC08FFCE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11280" y="1773360"/>
            <a:ext cx="77724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Arial Unicode MS"/>
              </a:rPr>
              <a:t>Recent findings: </a:t>
            </a:r>
            <a:r>
              <a:rPr b="1" lang="en-CA" sz="2000" spc="-1" strike="noStrike">
                <a:solidFill>
                  <a:srgbClr val="ffff00"/>
                </a:solidFill>
                <a:latin typeface="Arial Unicode MS"/>
              </a:rPr>
              <a:t>Anti-IgA is not responsible for most reactions.</a:t>
            </a:r>
            <a:r>
              <a:rPr b="1" lang="en-CA" sz="2000" spc="-1" strike="noStrike">
                <a:solidFill>
                  <a:srgbClr val="ffffcc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Arial Unicode MS"/>
              </a:rPr>
              <a:t>Anti-haptoglobin antibodies are responsible for more reactions than anti-IgA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Arial Unicode MS"/>
              </a:rPr>
              <a:t>The cause of most reactions is still not know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Arial Unicode MS"/>
              </a:rPr>
              <a:t>The incidence of reactions to platelets is the highest compared with fresh frozen plasma and red blood cell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85120" y="765000"/>
            <a:ext cx="52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00"/>
                </a:solidFill>
                <a:latin typeface="Century Gothic"/>
              </a:rPr>
              <a:t>Anaphylactic transfusion re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63040" y="5229360"/>
            <a:ext cx="8206200" cy="11912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phylactic transfusion reaction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Opinion in Hematology. 10(6):419-423, November 2003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ilstad, Colleen 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5748-C815-4AE2-8FC0-C00C9BCD608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781680" y="2057400"/>
            <a:ext cx="17528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–4: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–4: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:1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:5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:12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:100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00"/>
                </a:solidFill>
                <a:latin typeface="Verdana"/>
              </a:rPr>
              <a:t>1:150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990720" y="2057400"/>
            <a:ext cx="45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Febrile (FNHT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Allerg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Delayed hemoly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TR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Acute hemoly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Fatal hemoly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00"/>
                </a:solidFill>
                <a:latin typeface="Verdana"/>
              </a:rPr>
              <a:t>Anaphyla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609480" y="990720"/>
            <a:ext cx="7542360" cy="609480"/>
            <a:chOff x="609480" y="990720"/>
            <a:chExt cx="7542360" cy="609480"/>
          </a:xfrm>
        </p:grpSpPr>
        <p:sp>
          <p:nvSpPr>
            <p:cNvPr id="185" name="Rectangle 5"/>
            <p:cNvSpPr/>
            <p:nvPr/>
          </p:nvSpPr>
          <p:spPr>
            <a:xfrm>
              <a:off x="609480" y="990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80640" bIns="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" name="Group 6"/>
            <p:cNvGrpSpPr/>
            <p:nvPr/>
          </p:nvGrpSpPr>
          <p:grpSpPr>
            <a:xfrm>
              <a:off x="609480" y="990720"/>
              <a:ext cx="7542360" cy="609480"/>
              <a:chOff x="609480" y="990720"/>
              <a:chExt cx="7542360" cy="609480"/>
            </a:xfrm>
          </p:grpSpPr>
          <p:sp>
            <p:nvSpPr>
              <p:cNvPr id="187" name="Rectangle 7"/>
              <p:cNvSpPr/>
              <p:nvPr/>
            </p:nvSpPr>
            <p:spPr>
              <a:xfrm>
                <a:off x="609480" y="990720"/>
                <a:ext cx="754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609480" y="990720"/>
                <a:ext cx="754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ffffcc"/>
                    </a:solidFill>
                    <a:latin typeface="Verdana"/>
                  </a:rPr>
                  <a:t>Risks of Transfusion Complication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Rectangle 9"/>
          <p:cNvSpPr/>
          <p:nvPr/>
        </p:nvSpPr>
        <p:spPr>
          <a:xfrm>
            <a:off x="900000" y="4724280"/>
            <a:ext cx="7632720" cy="50508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FD27-5F7E-4E72-8A4B-2878BF07B009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684360" y="2276640"/>
            <a:ext cx="74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Times New Roman"/>
              </a:rPr>
              <a:t>The most frequent potentially severe outcomes for red cell transfusion were hemolytic reactions and volume overlo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Times New Roman"/>
              </a:rPr>
              <a:t>for platelet transfusion were major allergic reactions and bacterial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50920" y="54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Risks associated with transfusion of cellular blood components in Can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9640" y="5157720"/>
            <a:ext cx="802800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prehensive review of risks associated with allogeneic red blood cell and platelet transfusions in Canad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68360" y="3284640"/>
            <a:ext cx="7920000" cy="1224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57120" y="1785960"/>
            <a:ext cx="8786880" cy="41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 Unicode MS"/>
              </a:rPr>
              <a:t>A 9-year retrospective re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i="1" lang="en-CA" sz="3600" spc="-1" strike="noStrike">
                <a:solidFill>
                  <a:srgbClr val="ffff00"/>
                </a:solidFill>
                <a:latin typeface="Arial Unicode MS"/>
              </a:rPr>
              <a:t>"severe allergic" reactions occurred in 1:53,612 blood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ffff00"/>
                </a:solidFill>
                <a:latin typeface="Arial Unicode MS"/>
              </a:rPr>
              <a:t>1:9630 platele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ffff00"/>
                </a:solidFill>
                <a:latin typeface="Arial Unicode MS"/>
              </a:rPr>
              <a:t>1:28,831 FF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ffff00"/>
                </a:solidFill>
                <a:latin typeface="Arial Unicode MS"/>
              </a:rPr>
              <a:t>1:57,869 RBC transfus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8459640" cy="1780920"/>
          </a:xfrm>
          <a:prstGeom prst="rect">
            <a:avLst/>
          </a:prstGeom>
          <a:solidFill>
            <a:srgbClr val="ffffcc"/>
          </a:solidFill>
          <a:ln w="57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Unicode MS"/>
              </a:rPr>
              <a:t>Domen RE, Hoeltge GA: Allergic transfusion reactions. Arch Pathol Lab Med 2003, 127:316-320. Nine-year retrospective review of all transfusion reactions reported to the Cleveland Clinic transfusion service</a:t>
            </a:r>
            <a:r>
              <a:rPr b="1" lang="en-CA" sz="2400" spc="-1" strike="noStrike">
                <a:solidFill>
                  <a:srgbClr val="000000"/>
                </a:solidFill>
                <a:latin typeface="normal 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6F21-3D5E-44AF-AF91-6CD5F7B4D5FB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928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 algn="ctr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ized urticaria and angioedema are the most common manifestatio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 algn="ctr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taneous manifestations might be delayed or absent in rapidly progressive anaphylaxi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981080" y="1522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</a:t>
            </a:r>
            <a:r>
              <a:rPr b="1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anifes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07080" y="12193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2948-1EE3-478C-BCE1-24F6700F83B1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2 y o m pt presented to er c/o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91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miting blood 2 times @ hom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 other compla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MH : PUD 10 y ago, HT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 : ACEI &amp; metoprol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/S :  tach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NS, CHEST&amp; HEART exam were norm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Hg 50 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blood transfusion start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352680" y="150120"/>
            <a:ext cx="21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ASE </a:t>
            </a:r>
            <a:r>
              <a:rPr b="0" lang="ar-SA" sz="44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4648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skin temperature </a:t>
            </a:r>
            <a:r>
              <a:rPr b="0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(redistribution of blood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rticaria (hiv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ush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6920" y="2590920"/>
            <a:ext cx="3657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riorbi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de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rioral ede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phoresi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chin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r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title"/>
          </p:nvPr>
        </p:nvSpPr>
        <p:spPr>
          <a:xfrm>
            <a:off x="1980720" y="174600"/>
            <a:ext cx="5410440" cy="125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anifestations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6A97-01EA-40C0-9159-3802816E147C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2895480" y="1981080"/>
            <a:ext cx="6096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xt most common manifestations 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iratory symp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0" y="1066680"/>
            <a:ext cx="39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anifes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24"/>
          <p:cNvSpPr/>
          <p:nvPr/>
        </p:nvSpPr>
        <p:spPr>
          <a:xfrm>
            <a:off x="3277080" y="22860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26" descr="respiratory"/>
          <p:cNvPicPr/>
          <p:nvPr/>
        </p:nvPicPr>
        <p:blipFill>
          <a:blip r:embed="rId1"/>
          <a:stretch/>
        </p:blipFill>
        <p:spPr>
          <a:xfrm>
            <a:off x="228600" y="251460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9C67-1DA2-47E5-BAA2-B7A7A0FE817A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71440" y="152280"/>
            <a:ext cx="3352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Manifestations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IG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idor (laryngeal edem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eezing (bronchospasm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creased pulmonary compli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lmonary ede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piratory failure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867280" y="259056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YMPTO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yspne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est discomfort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ugh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ez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Rectangle 1032"/>
          <p:cNvSpPr/>
          <p:nvPr/>
        </p:nvSpPr>
        <p:spPr>
          <a:xfrm>
            <a:off x="304920" y="1066680"/>
            <a:ext cx="23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</a:t>
            </a:r>
            <a:r>
              <a:rPr b="1" lang="en-CA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spirato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1034" descr="laryngocele"/>
          <p:cNvPicPr/>
          <p:nvPr/>
        </p:nvPicPr>
        <p:blipFill>
          <a:blip r:embed="rId1"/>
          <a:stretch/>
        </p:blipFill>
        <p:spPr>
          <a:xfrm>
            <a:off x="6324480" y="838080"/>
            <a:ext cx="1143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1348-D3E8-412F-B718-1C66D36AA004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49528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anifestatio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creased 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srhythm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24280" y="2590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trosternal pai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rdiac arrest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Change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1066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A215-FB65-4B6A-A47D-4ACB61F5987E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43434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tio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42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n-specific</a:t>
            </a: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sorienta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zzin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ght-headedne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a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I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n-specifi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omitin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rrhea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ause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dominal pai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312444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36B8-A7F6-4D24-A181-C4CDE35B2412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566568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yspno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1 (43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ee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50 (35.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om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7 (19.0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a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6 (18.3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ync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zzin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1 (14.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e ≥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9 (13.4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ryngeal ed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5 (10.6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arsen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4 (9.9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BP &lt;90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3 (9.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CS &lt;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(2.8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 (2.1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id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 (1.4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yan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 (1.4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133720" y="152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D A</a:t>
            </a:r>
            <a:r>
              <a:rPr b="1" lang="en-CA" sz="3200" spc="-1" strike="noStrike">
                <a:solidFill>
                  <a:srgbClr val="ffff66"/>
                </a:solidFill>
                <a:latin typeface="Arial"/>
              </a:rPr>
              <a:t>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360" y="1143000"/>
            <a:ext cx="594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Times New Roman"/>
              </a:rPr>
              <a:t>A review of 142 patients in a singl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838080" y="6324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hony F. T. Brown MB Brisbane, Australia (J Allergy Clin Immunol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4572000" y="1905120"/>
            <a:ext cx="0" cy="3309840"/>
          </a:xfrm>
          <a:prstGeom prst="line">
            <a:avLst/>
          </a:prstGeom>
          <a:ln w="76320">
            <a:solidFill>
              <a:srgbClr val="ff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00040" y="557208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i="1" lang="en-CA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33 (94%) of the 142 patients had cutaneous features.</a:t>
            </a:r>
            <a:r>
              <a:rPr b="0" lang="en-CA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D652-E9A5-4DC3-9051-BDEAF085EFD9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1676520" y="1828800"/>
            <a:ext cx="6018840" cy="4419360"/>
            <a:chOff x="1676520" y="1828800"/>
            <a:chExt cx="6018840" cy="4419360"/>
          </a:xfrm>
        </p:grpSpPr>
        <p:grpSp>
          <p:nvGrpSpPr>
            <p:cNvPr id="236" name="Group 3"/>
            <p:cNvGrpSpPr/>
            <p:nvPr/>
          </p:nvGrpSpPr>
          <p:grpSpPr>
            <a:xfrm>
              <a:off x="1686600" y="1835280"/>
              <a:ext cx="5997240" cy="4405680"/>
              <a:chOff x="1686600" y="1835280"/>
              <a:chExt cx="5997240" cy="4405680"/>
            </a:xfrm>
          </p:grpSpPr>
          <p:grpSp>
            <p:nvGrpSpPr>
              <p:cNvPr id="237" name="Group 4"/>
              <p:cNvGrpSpPr/>
              <p:nvPr/>
            </p:nvGrpSpPr>
            <p:grpSpPr>
              <a:xfrm>
                <a:off x="1686600" y="1835280"/>
                <a:ext cx="5997240" cy="795960"/>
                <a:chOff x="1686600" y="1835280"/>
                <a:chExt cx="5997240" cy="795960"/>
              </a:xfrm>
            </p:grpSpPr>
            <p:sp>
              <p:nvSpPr>
                <p:cNvPr id="238" name="Rectangle 5"/>
                <p:cNvSpPr/>
                <p:nvPr/>
              </p:nvSpPr>
              <p:spPr>
                <a:xfrm>
                  <a:off x="1727640" y="1861560"/>
                  <a:ext cx="591480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ever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Rectangle 6"/>
                <p:cNvSpPr/>
                <p:nvPr/>
              </p:nvSpPr>
              <p:spPr>
                <a:xfrm>
                  <a:off x="1686600" y="1835280"/>
                  <a:ext cx="599724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Group 7"/>
              <p:cNvGrpSpPr/>
              <p:nvPr/>
            </p:nvGrpSpPr>
            <p:grpSpPr>
              <a:xfrm>
                <a:off x="1686600" y="2684520"/>
                <a:ext cx="5997240" cy="795960"/>
                <a:chOff x="1686600" y="2684520"/>
                <a:chExt cx="5997240" cy="795960"/>
              </a:xfrm>
            </p:grpSpPr>
            <p:sp>
              <p:nvSpPr>
                <p:cNvPr id="241" name="Rectangle 8"/>
                <p:cNvSpPr/>
                <p:nvPr/>
              </p:nvSpPr>
              <p:spPr>
                <a:xfrm>
                  <a:off x="1727640" y="2710800"/>
                  <a:ext cx="591480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ypotension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Rectangle 9"/>
                <p:cNvSpPr/>
                <p:nvPr/>
              </p:nvSpPr>
              <p:spPr>
                <a:xfrm>
                  <a:off x="1686600" y="2684520"/>
                  <a:ext cx="599724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Group 10"/>
              <p:cNvGrpSpPr/>
              <p:nvPr/>
            </p:nvGrpSpPr>
            <p:grpSpPr>
              <a:xfrm>
                <a:off x="1686600" y="3534120"/>
                <a:ext cx="5997240" cy="1008360"/>
                <a:chOff x="1686600" y="3534120"/>
                <a:chExt cx="5997240" cy="1008360"/>
              </a:xfrm>
            </p:grpSpPr>
            <p:sp>
              <p:nvSpPr>
                <p:cNvPr id="244" name="Rectangle 11"/>
                <p:cNvSpPr/>
                <p:nvPr/>
              </p:nvSpPr>
              <p:spPr>
                <a:xfrm>
                  <a:off x="1727640" y="3560400"/>
                  <a:ext cx="5914800" cy="95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neralised oozing from wounds or puncture sites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Rectangle 12"/>
                <p:cNvSpPr/>
                <p:nvPr/>
              </p:nvSpPr>
              <p:spPr>
                <a:xfrm>
                  <a:off x="1686600" y="3534120"/>
                  <a:ext cx="59972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Group 13"/>
              <p:cNvGrpSpPr/>
              <p:nvPr/>
            </p:nvGrpSpPr>
            <p:grpSpPr>
              <a:xfrm>
                <a:off x="1686600" y="4595400"/>
                <a:ext cx="5997240" cy="795960"/>
                <a:chOff x="1686600" y="4595400"/>
                <a:chExt cx="5997240" cy="795960"/>
              </a:xfrm>
            </p:grpSpPr>
            <p:sp>
              <p:nvSpPr>
                <p:cNvPr id="247" name="Rectangle 14"/>
                <p:cNvSpPr/>
                <p:nvPr/>
              </p:nvSpPr>
              <p:spPr>
                <a:xfrm>
                  <a:off x="1727640" y="4621680"/>
                  <a:ext cx="591480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aemoglobinaemia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5"/>
                <p:cNvSpPr/>
                <p:nvPr/>
              </p:nvSpPr>
              <p:spPr>
                <a:xfrm>
                  <a:off x="1686600" y="4595400"/>
                  <a:ext cx="599724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16"/>
              <p:cNvGrpSpPr/>
              <p:nvPr/>
            </p:nvGrpSpPr>
            <p:grpSpPr>
              <a:xfrm>
                <a:off x="1686600" y="5445360"/>
                <a:ext cx="5997240" cy="795600"/>
                <a:chOff x="1686600" y="5445360"/>
                <a:chExt cx="5997240" cy="795600"/>
              </a:xfrm>
            </p:grpSpPr>
            <p:sp>
              <p:nvSpPr>
                <p:cNvPr id="250" name="Rectangle 17"/>
                <p:cNvSpPr/>
                <p:nvPr/>
              </p:nvSpPr>
              <p:spPr>
                <a:xfrm>
                  <a:off x="1727640" y="5471640"/>
                  <a:ext cx="5914800" cy="74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aemoglobinuria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18"/>
                <p:cNvSpPr/>
                <p:nvPr/>
              </p:nvSpPr>
              <p:spPr>
                <a:xfrm>
                  <a:off x="1686600" y="5445360"/>
                  <a:ext cx="5997240" cy="79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2" name="Rectangle 19"/>
            <p:cNvSpPr/>
            <p:nvPr/>
          </p:nvSpPr>
          <p:spPr>
            <a:xfrm>
              <a:off x="1676520" y="1828800"/>
              <a:ext cx="6018840" cy="44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Rectangle 20"/>
          <p:cNvSpPr/>
          <p:nvPr/>
        </p:nvSpPr>
        <p:spPr>
          <a:xfrm>
            <a:off x="2209680" y="304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T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Arial"/>
              </a:rPr>
              <a:t>ransfusion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R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Arial"/>
              </a:rPr>
              <a:t>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15228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66"/>
                </a:solidFill>
                <a:latin typeface="Arial"/>
                <a:ea typeface="Arial"/>
              </a:rPr>
              <a:t>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1492-B10A-4AFB-9431-73F8459CD2E7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1523880" y="1981080"/>
            <a:ext cx="62485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Feeling of apprehension or something wr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Ag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Flu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Pain at venepuncture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P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abdom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,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flank or ch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2133720" y="152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T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Arial"/>
              </a:rPr>
              <a:t>ransfusion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R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Arial"/>
              </a:rPr>
              <a:t>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52280" y="1143000"/>
            <a:ext cx="39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66"/>
                </a:solidFill>
                <a:latin typeface="Arial"/>
                <a:ea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C531-1232-4716-9124-BD6C595249DB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REATMENT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88581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op Administration of Antigen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bloo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ish and maintain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w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00% oxygen administration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ravascular volume expan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pineph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ic glucocorticosteroid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Rectangle 1029"/>
          <p:cNvSpPr/>
          <p:nvPr/>
        </p:nvSpPr>
        <p:spPr>
          <a:xfrm>
            <a:off x="335304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7FC0-6A68-465F-ABC0-F1BA257179DB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3200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R WA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68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Thresho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be Size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tion Agent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ytic agent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2590920" y="22860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REATMEN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5" descr="Intubation"/>
          <p:cNvPicPr/>
          <p:nvPr/>
        </p:nvPicPr>
        <p:blipFill>
          <a:blip r:embed="rId1"/>
          <a:stretch/>
        </p:blipFill>
        <p:spPr>
          <a:xfrm>
            <a:off x="7308720" y="1773360"/>
            <a:ext cx="1447920" cy="1295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vc_normal"/>
          <p:cNvPicPr/>
          <p:nvPr/>
        </p:nvPicPr>
        <p:blipFill>
          <a:blip r:embed="rId2"/>
          <a:stretch/>
        </p:blipFill>
        <p:spPr>
          <a:xfrm>
            <a:off x="7164360" y="0"/>
            <a:ext cx="1584360" cy="1403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epiglotic_abscess"/>
          <p:cNvPicPr/>
          <p:nvPr/>
        </p:nvPicPr>
        <p:blipFill>
          <a:blip r:embed="rId3"/>
          <a:stretch/>
        </p:blipFill>
        <p:spPr>
          <a:xfrm>
            <a:off x="7020000" y="4869000"/>
            <a:ext cx="1812960" cy="1296720"/>
          </a:xfrm>
          <a:prstGeom prst="rect">
            <a:avLst/>
          </a:prstGeom>
          <a:ln w="0">
            <a:noFill/>
          </a:ln>
        </p:spPr>
      </p:pic>
      <p:sp>
        <p:nvSpPr>
          <p:cNvPr id="271" name="Line 11"/>
          <p:cNvSpPr/>
          <p:nvPr/>
        </p:nvSpPr>
        <p:spPr>
          <a:xfrm>
            <a:off x="8101080" y="1341360"/>
            <a:ext cx="0" cy="32767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33520" y="41148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7575480" y="330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7308720" y="4149720"/>
            <a:ext cx="1440000" cy="0"/>
          </a:xfrm>
          <a:prstGeom prst="line">
            <a:avLst/>
          </a:prstGeom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F18C-C9E4-4125-99A6-5DA4A5A578A5}" type="slidenum">
              <a:rPr b="0" lang="en-CA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63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2 y o m pt presented to ER c/o vomiting blood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 consulted @ 1.00 am , came &amp; decided to do endoscope in 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3124080"/>
            <a:ext cx="8624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cedure started by sedation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pafol iv &amp; lidocain sp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28600" y="4267080"/>
            <a:ext cx="891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 became hypotensive , itching all over ,a/w sw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28600" y="5334120"/>
            <a:ext cx="8915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I staff decided to leave &amp; come back again If the pt became more s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352680" y="150120"/>
            <a:ext cx="21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ASE </a:t>
            </a:r>
            <a:r>
              <a:rPr b="0" lang="ar-SA" sz="44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9CB6-4FA4-4240-9A03-FBABB55C1683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38098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B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ronchospas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For bronchospasm resistant to epinephrin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20076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321480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N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ebulized (albuterol, salbutamo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ed d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F78C-AA48-4CA4-A2A2-FDE4249F3C2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P</a:t>
            </a:r>
            <a:r>
              <a:rPr b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rsistent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 B</a:t>
            </a:r>
            <a:r>
              <a:rPr b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ronchospas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minophylline, a phosphodiesterase inhibitor, weak bronchodilator that also increas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&amp;L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entricular contractility and decreases pulmonar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ading dose of 5 to 6 mg/kg of aminophylline given over 20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hould be followed by an infusion of 0.5 to 0.9 mg/k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0898-ABDF-48BD-9D0B-DDF6AC81DC8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Group 2"/>
          <p:cNvGrpSpPr/>
          <p:nvPr/>
        </p:nvGrpSpPr>
        <p:grpSpPr>
          <a:xfrm>
            <a:off x="785880" y="3500280"/>
            <a:ext cx="7786440" cy="2653560"/>
            <a:chOff x="785880" y="3500280"/>
            <a:chExt cx="7786440" cy="2653560"/>
          </a:xfrm>
        </p:grpSpPr>
        <p:sp>
          <p:nvSpPr>
            <p:cNvPr id="286" name="Rectangle 3"/>
            <p:cNvSpPr/>
            <p:nvPr/>
          </p:nvSpPr>
          <p:spPr>
            <a:xfrm>
              <a:off x="785880" y="3500280"/>
              <a:ext cx="7786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4"/>
            <p:cNvSpPr/>
            <p:nvPr/>
          </p:nvSpPr>
          <p:spPr>
            <a:xfrm>
              <a:off x="785880" y="3500280"/>
              <a:ext cx="77864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800" spc="-1" strike="noStrike">
                  <a:solidFill>
                    <a:srgbClr val="ffffff"/>
                  </a:solidFill>
                  <a:latin typeface="Comic Sans MS"/>
                </a:rPr>
                <a:t>To achieve rapid intravenous induction with minimal hemodynamic effect and little respiratory depression, etomidate (Amidate)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Comic Sans MS"/>
                </a:rPr>
                <a:t>is</a:t>
              </a:r>
              <a:r>
                <a:rPr b="0" i="1" lang="en-CA" sz="2800" spc="-1" strike="noStrike">
                  <a:solidFill>
                    <a:srgbClr val="ffffff"/>
                  </a:solidFill>
                  <a:latin typeface="Comic Sans MS"/>
                </a:rPr>
                <a:t> the agent of choice. </a:t>
              </a:r>
              <a:br>
                <a:rPr sz="2800"/>
              </a:b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Text Box 5"/>
          <p:cNvSpPr/>
          <p:nvPr/>
        </p:nvSpPr>
        <p:spPr>
          <a:xfrm>
            <a:off x="45720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48320" y="91440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V Induction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56840" y="20574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tomi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743560" y="152280"/>
            <a:ext cx="36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 &amp; I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1F76-3209-47A0-A0C6-5B635B67A1EF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Group 2"/>
          <p:cNvGrpSpPr/>
          <p:nvPr/>
        </p:nvGrpSpPr>
        <p:grpSpPr>
          <a:xfrm>
            <a:off x="152280" y="1676520"/>
            <a:ext cx="8991360" cy="4723920"/>
            <a:chOff x="152280" y="1676520"/>
            <a:chExt cx="8991360" cy="4723920"/>
          </a:xfrm>
        </p:grpSpPr>
        <p:grpSp>
          <p:nvGrpSpPr>
            <p:cNvPr id="294" name="Group 3"/>
            <p:cNvGrpSpPr/>
            <p:nvPr/>
          </p:nvGrpSpPr>
          <p:grpSpPr>
            <a:xfrm>
              <a:off x="158760" y="1681560"/>
              <a:ext cx="8977320" cy="4712400"/>
              <a:chOff x="158760" y="1681560"/>
              <a:chExt cx="8977320" cy="4712400"/>
            </a:xfrm>
          </p:grpSpPr>
          <p:grpSp>
            <p:nvGrpSpPr>
              <p:cNvPr id="295" name="Group 4"/>
              <p:cNvGrpSpPr/>
              <p:nvPr/>
            </p:nvGrpSpPr>
            <p:grpSpPr>
              <a:xfrm>
                <a:off x="158760" y="1681560"/>
                <a:ext cx="1794960" cy="1073880"/>
                <a:chOff x="158760" y="1681560"/>
                <a:chExt cx="1794960" cy="1073880"/>
              </a:xfrm>
            </p:grpSpPr>
            <p:sp>
              <p:nvSpPr>
                <p:cNvPr id="296" name="Rectangle 5"/>
                <p:cNvSpPr/>
                <p:nvPr/>
              </p:nvSpPr>
              <p:spPr>
                <a:xfrm>
                  <a:off x="15876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" name="Group 6"/>
                <p:cNvGrpSpPr/>
                <p:nvPr/>
              </p:nvGrpSpPr>
              <p:grpSpPr>
                <a:xfrm>
                  <a:off x="158760" y="1681560"/>
                  <a:ext cx="1794600" cy="1073520"/>
                  <a:chOff x="158760" y="1681560"/>
                  <a:chExt cx="1794600" cy="1073520"/>
                </a:xfrm>
              </p:grpSpPr>
              <p:sp>
                <p:nvSpPr>
                  <p:cNvPr id="298" name="Rectangle 7"/>
                  <p:cNvSpPr/>
                  <p:nvPr/>
                </p:nvSpPr>
                <p:spPr>
                  <a:xfrm>
                    <a:off x="25596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000" spc="-1" strike="noStrike">
                        <a:solidFill>
                          <a:srgbClr val="ffff9e"/>
                        </a:solidFill>
                        <a:latin typeface="Arial"/>
                        <a:ea typeface="Arial"/>
                      </a:rPr>
                      <a:t>SEDATIVE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Rectangle 8"/>
                  <p:cNvSpPr/>
                  <p:nvPr/>
                </p:nvSpPr>
                <p:spPr>
                  <a:xfrm>
                    <a:off x="15876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" name="Group 9"/>
              <p:cNvGrpSpPr/>
              <p:nvPr/>
            </p:nvGrpSpPr>
            <p:grpSpPr>
              <a:xfrm>
                <a:off x="1954080" y="1681560"/>
                <a:ext cx="1795320" cy="1073880"/>
                <a:chOff x="1954080" y="1681560"/>
                <a:chExt cx="1795320" cy="1073880"/>
              </a:xfrm>
            </p:grpSpPr>
            <p:sp>
              <p:nvSpPr>
                <p:cNvPr id="301" name="Rectangle 10"/>
                <p:cNvSpPr/>
                <p:nvPr/>
              </p:nvSpPr>
              <p:spPr>
                <a:xfrm>
                  <a:off x="1954080" y="1681560"/>
                  <a:ext cx="179532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Group 11"/>
                <p:cNvGrpSpPr/>
                <p:nvPr/>
              </p:nvGrpSpPr>
              <p:grpSpPr>
                <a:xfrm>
                  <a:off x="1954080" y="1681560"/>
                  <a:ext cx="1794960" cy="1073520"/>
                  <a:chOff x="1954080" y="1681560"/>
                  <a:chExt cx="1794960" cy="1073520"/>
                </a:xfrm>
              </p:grpSpPr>
              <p:sp>
                <p:nvSpPr>
                  <p:cNvPr id="303" name="Rectangle 12"/>
                  <p:cNvSpPr/>
                  <p:nvPr/>
                </p:nvSpPr>
                <p:spPr>
                  <a:xfrm>
                    <a:off x="205128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IV DOSE (mg/kg)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Rectangle 13"/>
                  <p:cNvSpPr/>
                  <p:nvPr/>
                </p:nvSpPr>
                <p:spPr>
                  <a:xfrm>
                    <a:off x="1954080" y="1681560"/>
                    <a:ext cx="179496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" name="Group 14"/>
              <p:cNvGrpSpPr/>
              <p:nvPr/>
            </p:nvGrpSpPr>
            <p:grpSpPr>
              <a:xfrm>
                <a:off x="3749760" y="1681560"/>
                <a:ext cx="1794960" cy="1073880"/>
                <a:chOff x="3749760" y="1681560"/>
                <a:chExt cx="1794960" cy="1073880"/>
              </a:xfrm>
            </p:grpSpPr>
            <p:sp>
              <p:nvSpPr>
                <p:cNvPr id="306" name="Rectangle 15"/>
                <p:cNvSpPr/>
                <p:nvPr/>
              </p:nvSpPr>
              <p:spPr>
                <a:xfrm>
                  <a:off x="374976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Group 16"/>
                <p:cNvGrpSpPr/>
                <p:nvPr/>
              </p:nvGrpSpPr>
              <p:grpSpPr>
                <a:xfrm>
                  <a:off x="3749760" y="1681560"/>
                  <a:ext cx="1794600" cy="1073520"/>
                  <a:chOff x="3749760" y="1681560"/>
                  <a:chExt cx="1794600" cy="1073520"/>
                </a:xfrm>
              </p:grpSpPr>
              <p:sp>
                <p:nvSpPr>
                  <p:cNvPr id="308" name="Rectangle 17"/>
                  <p:cNvSpPr/>
                  <p:nvPr/>
                </p:nvSpPr>
                <p:spPr>
                  <a:xfrm>
                    <a:off x="384660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400" spc="-1" strike="noStrike">
                        <a:solidFill>
                          <a:srgbClr val="ffffcc"/>
                        </a:solidFill>
                        <a:latin typeface="Arial"/>
                        <a:ea typeface="Arial"/>
                      </a:rPr>
                      <a:t>ONSE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(min)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Rectangle 18"/>
                  <p:cNvSpPr/>
                  <p:nvPr/>
                </p:nvSpPr>
                <p:spPr>
                  <a:xfrm>
                    <a:off x="374976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0" name="Group 19"/>
              <p:cNvGrpSpPr/>
              <p:nvPr/>
            </p:nvGrpSpPr>
            <p:grpSpPr>
              <a:xfrm>
                <a:off x="5545080" y="1681560"/>
                <a:ext cx="1794960" cy="1073880"/>
                <a:chOff x="5545080" y="1681560"/>
                <a:chExt cx="1794960" cy="1073880"/>
              </a:xfrm>
            </p:grpSpPr>
            <p:sp>
              <p:nvSpPr>
                <p:cNvPr id="311" name="Rectangle 20"/>
                <p:cNvSpPr/>
                <p:nvPr/>
              </p:nvSpPr>
              <p:spPr>
                <a:xfrm>
                  <a:off x="554508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Group 21"/>
                <p:cNvGrpSpPr/>
                <p:nvPr/>
              </p:nvGrpSpPr>
              <p:grpSpPr>
                <a:xfrm>
                  <a:off x="5545080" y="1681560"/>
                  <a:ext cx="1794600" cy="1073520"/>
                  <a:chOff x="5545080" y="1681560"/>
                  <a:chExt cx="1794600" cy="1073520"/>
                </a:xfrm>
              </p:grpSpPr>
              <p:sp>
                <p:nvSpPr>
                  <p:cNvPr id="313" name="Rectangle 22"/>
                  <p:cNvSpPr/>
                  <p:nvPr/>
                </p:nvSpPr>
                <p:spPr>
                  <a:xfrm>
                    <a:off x="564228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Effect on BP</a:t>
                    </a:r>
                    <a:r>
                      <a:rPr b="0" lang="en-CA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Rectangle 23"/>
                  <p:cNvSpPr/>
                  <p:nvPr/>
                </p:nvSpPr>
                <p:spPr>
                  <a:xfrm>
                    <a:off x="554508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" name="Group 24"/>
              <p:cNvGrpSpPr/>
              <p:nvPr/>
            </p:nvGrpSpPr>
            <p:grpSpPr>
              <a:xfrm>
                <a:off x="7340760" y="1681560"/>
                <a:ext cx="1795320" cy="1073880"/>
                <a:chOff x="7340760" y="1681560"/>
                <a:chExt cx="1795320" cy="1073880"/>
              </a:xfrm>
            </p:grpSpPr>
            <p:sp>
              <p:nvSpPr>
                <p:cNvPr id="316" name="Rectangle 25"/>
                <p:cNvSpPr/>
                <p:nvPr/>
              </p:nvSpPr>
              <p:spPr>
                <a:xfrm>
                  <a:off x="7340760" y="1681560"/>
                  <a:ext cx="179532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" name="Group 26"/>
                <p:cNvGrpSpPr/>
                <p:nvPr/>
              </p:nvGrpSpPr>
              <p:grpSpPr>
                <a:xfrm>
                  <a:off x="7340760" y="1681560"/>
                  <a:ext cx="1794960" cy="1073520"/>
                  <a:chOff x="7340760" y="1681560"/>
                  <a:chExt cx="1794960" cy="1073520"/>
                </a:xfrm>
              </p:grpSpPr>
              <p:sp>
                <p:nvSpPr>
                  <p:cNvPr id="318" name="Rectangle 27"/>
                  <p:cNvSpPr/>
                  <p:nvPr/>
                </p:nvSpPr>
                <p:spPr>
                  <a:xfrm>
                    <a:off x="743796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Effect on ICP</a:t>
                    </a:r>
                    <a:r>
                      <a:rPr b="0" lang="en-CA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Rectangle 28"/>
                  <p:cNvSpPr/>
                  <p:nvPr/>
                </p:nvSpPr>
                <p:spPr>
                  <a:xfrm>
                    <a:off x="7340760" y="1681560"/>
                    <a:ext cx="179496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" name="Group 29"/>
              <p:cNvGrpSpPr/>
              <p:nvPr/>
            </p:nvGrpSpPr>
            <p:grpSpPr>
              <a:xfrm>
                <a:off x="158760" y="2755800"/>
                <a:ext cx="1794960" cy="727200"/>
                <a:chOff x="158760" y="2755800"/>
                <a:chExt cx="1794960" cy="727200"/>
              </a:xfrm>
            </p:grpSpPr>
            <p:sp>
              <p:nvSpPr>
                <p:cNvPr id="321" name="Rectangle 30"/>
                <p:cNvSpPr/>
                <p:nvPr/>
              </p:nvSpPr>
              <p:spPr>
                <a:xfrm>
                  <a:off x="25596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Midazolam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Rectangle 31"/>
                <p:cNvSpPr/>
                <p:nvPr/>
              </p:nvSpPr>
              <p:spPr>
                <a:xfrm>
                  <a:off x="15876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32"/>
              <p:cNvGrpSpPr/>
              <p:nvPr/>
            </p:nvGrpSpPr>
            <p:grpSpPr>
              <a:xfrm>
                <a:off x="1954080" y="2755800"/>
                <a:ext cx="1795320" cy="727200"/>
                <a:chOff x="1954080" y="2755800"/>
                <a:chExt cx="1795320" cy="727200"/>
              </a:xfrm>
            </p:grpSpPr>
            <p:sp>
              <p:nvSpPr>
                <p:cNvPr id="324" name="Rectangle 33"/>
                <p:cNvSpPr/>
                <p:nvPr/>
              </p:nvSpPr>
              <p:spPr>
                <a:xfrm>
                  <a:off x="205128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0.2 – 0.4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Rectangle 34"/>
                <p:cNvSpPr/>
                <p:nvPr/>
              </p:nvSpPr>
              <p:spPr>
                <a:xfrm>
                  <a:off x="1954080" y="27558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35"/>
              <p:cNvGrpSpPr/>
              <p:nvPr/>
            </p:nvGrpSpPr>
            <p:grpSpPr>
              <a:xfrm>
                <a:off x="3749760" y="2755800"/>
                <a:ext cx="1794960" cy="727200"/>
                <a:chOff x="3749760" y="2755800"/>
                <a:chExt cx="1794960" cy="727200"/>
              </a:xfrm>
            </p:grpSpPr>
            <p:sp>
              <p:nvSpPr>
                <p:cNvPr id="327" name="Rectangle 36"/>
                <p:cNvSpPr/>
                <p:nvPr/>
              </p:nvSpPr>
              <p:spPr>
                <a:xfrm>
                  <a:off x="384660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1 – 2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Rectangle 37"/>
                <p:cNvSpPr/>
                <p:nvPr/>
              </p:nvSpPr>
              <p:spPr>
                <a:xfrm>
                  <a:off x="374976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38"/>
              <p:cNvGrpSpPr/>
              <p:nvPr/>
            </p:nvGrpSpPr>
            <p:grpSpPr>
              <a:xfrm>
                <a:off x="5545080" y="2755800"/>
                <a:ext cx="1794960" cy="727200"/>
                <a:chOff x="5545080" y="2755800"/>
                <a:chExt cx="1794960" cy="727200"/>
              </a:xfrm>
            </p:grpSpPr>
            <p:sp>
              <p:nvSpPr>
                <p:cNvPr id="330" name="Rectangle 39"/>
                <p:cNvSpPr/>
                <p:nvPr/>
              </p:nvSpPr>
              <p:spPr>
                <a:xfrm>
                  <a:off x="564228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Minimal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Rectangle 40"/>
                <p:cNvSpPr/>
                <p:nvPr/>
              </p:nvSpPr>
              <p:spPr>
                <a:xfrm>
                  <a:off x="554508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Group 41"/>
              <p:cNvGrpSpPr/>
              <p:nvPr/>
            </p:nvGrpSpPr>
            <p:grpSpPr>
              <a:xfrm>
                <a:off x="7340760" y="2755800"/>
                <a:ext cx="1795320" cy="727200"/>
                <a:chOff x="7340760" y="2755800"/>
                <a:chExt cx="1795320" cy="727200"/>
              </a:xfrm>
            </p:grpSpPr>
            <p:sp>
              <p:nvSpPr>
                <p:cNvPr id="333" name="Rectangle 42"/>
                <p:cNvSpPr/>
                <p:nvPr/>
              </p:nvSpPr>
              <p:spPr>
                <a:xfrm>
                  <a:off x="743796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Minimal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Rectangle 43"/>
                <p:cNvSpPr/>
                <p:nvPr/>
              </p:nvSpPr>
              <p:spPr>
                <a:xfrm>
                  <a:off x="7340760" y="27558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Group 44"/>
              <p:cNvGrpSpPr/>
              <p:nvPr/>
            </p:nvGrpSpPr>
            <p:grpSpPr>
              <a:xfrm>
                <a:off x="158760" y="3483720"/>
                <a:ext cx="1794960" cy="727200"/>
                <a:chOff x="158760" y="3483720"/>
                <a:chExt cx="1794960" cy="727200"/>
              </a:xfrm>
            </p:grpSpPr>
            <p:sp>
              <p:nvSpPr>
                <p:cNvPr id="336" name="Rectangle 45"/>
                <p:cNvSpPr/>
                <p:nvPr/>
              </p:nvSpPr>
              <p:spPr>
                <a:xfrm>
                  <a:off x="25596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Etomidate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Rectangle 46"/>
                <p:cNvSpPr/>
                <p:nvPr/>
              </p:nvSpPr>
              <p:spPr>
                <a:xfrm>
                  <a:off x="15876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47"/>
              <p:cNvGrpSpPr/>
              <p:nvPr/>
            </p:nvGrpSpPr>
            <p:grpSpPr>
              <a:xfrm>
                <a:off x="1954080" y="3483720"/>
                <a:ext cx="1795320" cy="727200"/>
                <a:chOff x="1954080" y="3483720"/>
                <a:chExt cx="1795320" cy="727200"/>
              </a:xfrm>
            </p:grpSpPr>
            <p:sp>
              <p:nvSpPr>
                <p:cNvPr id="339" name="Rectangle 48"/>
                <p:cNvSpPr/>
                <p:nvPr/>
              </p:nvSpPr>
              <p:spPr>
                <a:xfrm>
                  <a:off x="205128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0.2 – 0.4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Rectangle 49"/>
                <p:cNvSpPr/>
                <p:nvPr/>
              </p:nvSpPr>
              <p:spPr>
                <a:xfrm>
                  <a:off x="1954080" y="348372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50"/>
              <p:cNvGrpSpPr/>
              <p:nvPr/>
            </p:nvGrpSpPr>
            <p:grpSpPr>
              <a:xfrm>
                <a:off x="3749760" y="3483720"/>
                <a:ext cx="1794960" cy="727200"/>
                <a:chOff x="3749760" y="3483720"/>
                <a:chExt cx="1794960" cy="727200"/>
              </a:xfrm>
            </p:grpSpPr>
            <p:sp>
              <p:nvSpPr>
                <p:cNvPr id="342" name="Rectangle 51"/>
                <p:cNvSpPr/>
                <p:nvPr/>
              </p:nvSpPr>
              <p:spPr>
                <a:xfrm>
                  <a:off x="384660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Rectangle 52"/>
                <p:cNvSpPr/>
                <p:nvPr/>
              </p:nvSpPr>
              <p:spPr>
                <a:xfrm>
                  <a:off x="374976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Group 53"/>
              <p:cNvGrpSpPr/>
              <p:nvPr/>
            </p:nvGrpSpPr>
            <p:grpSpPr>
              <a:xfrm>
                <a:off x="5545080" y="3483720"/>
                <a:ext cx="1794960" cy="727200"/>
                <a:chOff x="5545080" y="3483720"/>
                <a:chExt cx="1794960" cy="727200"/>
              </a:xfrm>
            </p:grpSpPr>
            <p:sp>
              <p:nvSpPr>
                <p:cNvPr id="345" name="Rectangle 54"/>
                <p:cNvSpPr/>
                <p:nvPr/>
              </p:nvSpPr>
              <p:spPr>
                <a:xfrm>
                  <a:off x="564228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8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Minimal/ </a:t>
                  </a:r>
                  <a:r>
                    <a:rPr b="1" lang="en-CA" sz="1800" spc="-1" strike="noStrike">
                      <a:solidFill>
                        <a:srgbClr val="ffff66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55"/>
                <p:cNvSpPr/>
                <p:nvPr/>
              </p:nvSpPr>
              <p:spPr>
                <a:xfrm>
                  <a:off x="554508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Group 56"/>
              <p:cNvGrpSpPr/>
              <p:nvPr/>
            </p:nvGrpSpPr>
            <p:grpSpPr>
              <a:xfrm>
                <a:off x="7340760" y="3483720"/>
                <a:ext cx="1795320" cy="727200"/>
                <a:chOff x="7340760" y="3483720"/>
                <a:chExt cx="1795320" cy="727200"/>
              </a:xfrm>
            </p:grpSpPr>
            <p:sp>
              <p:nvSpPr>
                <p:cNvPr id="348" name="Rectangle 57"/>
                <p:cNvSpPr/>
                <p:nvPr/>
              </p:nvSpPr>
              <p:spPr>
                <a:xfrm>
                  <a:off x="743796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cc00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58"/>
                <p:cNvSpPr/>
                <p:nvPr/>
              </p:nvSpPr>
              <p:spPr>
                <a:xfrm>
                  <a:off x="7340760" y="348372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59"/>
              <p:cNvGrpSpPr/>
              <p:nvPr/>
            </p:nvGrpSpPr>
            <p:grpSpPr>
              <a:xfrm>
                <a:off x="158760" y="4211280"/>
                <a:ext cx="1794960" cy="727200"/>
                <a:chOff x="158760" y="4211280"/>
                <a:chExt cx="1794960" cy="727200"/>
              </a:xfrm>
            </p:grpSpPr>
            <p:sp>
              <p:nvSpPr>
                <p:cNvPr id="351" name="Rectangle 60"/>
                <p:cNvSpPr/>
                <p:nvPr/>
              </p:nvSpPr>
              <p:spPr>
                <a:xfrm>
                  <a:off x="25596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Thiopental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61"/>
                <p:cNvSpPr/>
                <p:nvPr/>
              </p:nvSpPr>
              <p:spPr>
                <a:xfrm>
                  <a:off x="15876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62"/>
              <p:cNvGrpSpPr/>
              <p:nvPr/>
            </p:nvGrpSpPr>
            <p:grpSpPr>
              <a:xfrm>
                <a:off x="1954080" y="4211280"/>
                <a:ext cx="1795320" cy="727200"/>
                <a:chOff x="1954080" y="4211280"/>
                <a:chExt cx="1795320" cy="727200"/>
              </a:xfrm>
            </p:grpSpPr>
            <p:sp>
              <p:nvSpPr>
                <p:cNvPr id="354" name="Rectangle 63"/>
                <p:cNvSpPr/>
                <p:nvPr/>
              </p:nvSpPr>
              <p:spPr>
                <a:xfrm>
                  <a:off x="205128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2 – 5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64"/>
                <p:cNvSpPr/>
                <p:nvPr/>
              </p:nvSpPr>
              <p:spPr>
                <a:xfrm>
                  <a:off x="1954080" y="421128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65"/>
              <p:cNvGrpSpPr/>
              <p:nvPr/>
            </p:nvGrpSpPr>
            <p:grpSpPr>
              <a:xfrm>
                <a:off x="3749760" y="4211280"/>
                <a:ext cx="1794960" cy="727200"/>
                <a:chOff x="3749760" y="4211280"/>
                <a:chExt cx="1794960" cy="727200"/>
              </a:xfrm>
            </p:grpSpPr>
            <p:sp>
              <p:nvSpPr>
                <p:cNvPr id="357" name="Rectangle 66"/>
                <p:cNvSpPr/>
                <p:nvPr/>
              </p:nvSpPr>
              <p:spPr>
                <a:xfrm>
                  <a:off x="384660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67"/>
                <p:cNvSpPr/>
                <p:nvPr/>
              </p:nvSpPr>
              <p:spPr>
                <a:xfrm>
                  <a:off x="374976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68"/>
              <p:cNvGrpSpPr/>
              <p:nvPr/>
            </p:nvGrpSpPr>
            <p:grpSpPr>
              <a:xfrm>
                <a:off x="5545080" y="4211280"/>
                <a:ext cx="1794960" cy="727200"/>
                <a:chOff x="5545080" y="4211280"/>
                <a:chExt cx="1794960" cy="727200"/>
              </a:xfrm>
            </p:grpSpPr>
            <p:sp>
              <p:nvSpPr>
                <p:cNvPr id="360" name="Rectangle 69"/>
                <p:cNvSpPr/>
                <p:nvPr/>
              </p:nvSpPr>
              <p:spPr>
                <a:xfrm>
                  <a:off x="564228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70"/>
                <p:cNvSpPr/>
                <p:nvPr/>
              </p:nvSpPr>
              <p:spPr>
                <a:xfrm>
                  <a:off x="554508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71"/>
              <p:cNvGrpSpPr/>
              <p:nvPr/>
            </p:nvGrpSpPr>
            <p:grpSpPr>
              <a:xfrm>
                <a:off x="7340760" y="4211280"/>
                <a:ext cx="1795320" cy="727200"/>
                <a:chOff x="7340760" y="4211280"/>
                <a:chExt cx="1795320" cy="727200"/>
              </a:xfrm>
            </p:grpSpPr>
            <p:sp>
              <p:nvSpPr>
                <p:cNvPr id="363" name="Rectangle 72"/>
                <p:cNvSpPr/>
                <p:nvPr/>
              </p:nvSpPr>
              <p:spPr>
                <a:xfrm>
                  <a:off x="743796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73"/>
                <p:cNvSpPr/>
                <p:nvPr/>
              </p:nvSpPr>
              <p:spPr>
                <a:xfrm>
                  <a:off x="7340760" y="421128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74"/>
              <p:cNvGrpSpPr/>
              <p:nvPr/>
            </p:nvGrpSpPr>
            <p:grpSpPr>
              <a:xfrm>
                <a:off x="158760" y="4939200"/>
                <a:ext cx="1794960" cy="727200"/>
                <a:chOff x="158760" y="4939200"/>
                <a:chExt cx="1794960" cy="727200"/>
              </a:xfrm>
            </p:grpSpPr>
            <p:sp>
              <p:nvSpPr>
                <p:cNvPr id="366" name="Rectangle 75"/>
                <p:cNvSpPr/>
                <p:nvPr/>
              </p:nvSpPr>
              <p:spPr>
                <a:xfrm>
                  <a:off x="25596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Ketamine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76"/>
                <p:cNvSpPr/>
                <p:nvPr/>
              </p:nvSpPr>
              <p:spPr>
                <a:xfrm>
                  <a:off x="15876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77"/>
              <p:cNvGrpSpPr/>
              <p:nvPr/>
            </p:nvGrpSpPr>
            <p:grpSpPr>
              <a:xfrm>
                <a:off x="1954080" y="4939200"/>
                <a:ext cx="1795320" cy="727200"/>
                <a:chOff x="1954080" y="4939200"/>
                <a:chExt cx="1795320" cy="727200"/>
              </a:xfrm>
            </p:grpSpPr>
            <p:sp>
              <p:nvSpPr>
                <p:cNvPr id="369" name="Rectangle 78"/>
                <p:cNvSpPr/>
                <p:nvPr/>
              </p:nvSpPr>
              <p:spPr>
                <a:xfrm>
                  <a:off x="205128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1 – 2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79"/>
                <p:cNvSpPr/>
                <p:nvPr/>
              </p:nvSpPr>
              <p:spPr>
                <a:xfrm>
                  <a:off x="1954080" y="49392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80"/>
              <p:cNvGrpSpPr/>
              <p:nvPr/>
            </p:nvGrpSpPr>
            <p:grpSpPr>
              <a:xfrm>
                <a:off x="3749760" y="4939200"/>
                <a:ext cx="1794960" cy="727200"/>
                <a:chOff x="3749760" y="4939200"/>
                <a:chExt cx="1794960" cy="727200"/>
              </a:xfrm>
            </p:grpSpPr>
            <p:sp>
              <p:nvSpPr>
                <p:cNvPr id="372" name="Rectangle 81"/>
                <p:cNvSpPr/>
                <p:nvPr/>
              </p:nvSpPr>
              <p:spPr>
                <a:xfrm>
                  <a:off x="384660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1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82"/>
                <p:cNvSpPr/>
                <p:nvPr/>
              </p:nvSpPr>
              <p:spPr>
                <a:xfrm>
                  <a:off x="374976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83"/>
              <p:cNvGrpSpPr/>
              <p:nvPr/>
            </p:nvGrpSpPr>
            <p:grpSpPr>
              <a:xfrm>
                <a:off x="5545080" y="4939200"/>
                <a:ext cx="1794960" cy="727200"/>
                <a:chOff x="5545080" y="4939200"/>
                <a:chExt cx="1794960" cy="727200"/>
              </a:xfrm>
            </p:grpSpPr>
            <p:sp>
              <p:nvSpPr>
                <p:cNvPr id="375" name="Rectangle 84"/>
                <p:cNvSpPr/>
                <p:nvPr/>
              </p:nvSpPr>
              <p:spPr>
                <a:xfrm>
                  <a:off x="564228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Minimal/ 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85"/>
                <p:cNvSpPr/>
                <p:nvPr/>
              </p:nvSpPr>
              <p:spPr>
                <a:xfrm>
                  <a:off x="554508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86"/>
              <p:cNvGrpSpPr/>
              <p:nvPr/>
            </p:nvGrpSpPr>
            <p:grpSpPr>
              <a:xfrm>
                <a:off x="7340760" y="4939200"/>
                <a:ext cx="1795320" cy="727200"/>
                <a:chOff x="7340760" y="4939200"/>
                <a:chExt cx="1795320" cy="727200"/>
              </a:xfrm>
            </p:grpSpPr>
            <p:sp>
              <p:nvSpPr>
                <p:cNvPr id="378" name="Rectangle 87"/>
                <p:cNvSpPr/>
                <p:nvPr/>
              </p:nvSpPr>
              <p:spPr>
                <a:xfrm>
                  <a:off x="743796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88"/>
                <p:cNvSpPr/>
                <p:nvPr/>
              </p:nvSpPr>
              <p:spPr>
                <a:xfrm>
                  <a:off x="7340760" y="49392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89"/>
              <p:cNvGrpSpPr/>
              <p:nvPr/>
            </p:nvGrpSpPr>
            <p:grpSpPr>
              <a:xfrm>
                <a:off x="158760" y="5666760"/>
                <a:ext cx="1794960" cy="727200"/>
                <a:chOff x="158760" y="5666760"/>
                <a:chExt cx="1794960" cy="727200"/>
              </a:xfrm>
            </p:grpSpPr>
            <p:sp>
              <p:nvSpPr>
                <p:cNvPr id="381" name="Rectangle 90"/>
                <p:cNvSpPr/>
                <p:nvPr/>
              </p:nvSpPr>
              <p:spPr>
                <a:xfrm>
                  <a:off x="25596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Propofol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91"/>
                <p:cNvSpPr/>
                <p:nvPr/>
              </p:nvSpPr>
              <p:spPr>
                <a:xfrm>
                  <a:off x="15876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92"/>
              <p:cNvGrpSpPr/>
              <p:nvPr/>
            </p:nvGrpSpPr>
            <p:grpSpPr>
              <a:xfrm>
                <a:off x="1954080" y="5666760"/>
                <a:ext cx="1795320" cy="727200"/>
                <a:chOff x="1954080" y="5666760"/>
                <a:chExt cx="1795320" cy="727200"/>
              </a:xfrm>
            </p:grpSpPr>
            <p:sp>
              <p:nvSpPr>
                <p:cNvPr id="384" name="Rectangle 93"/>
                <p:cNvSpPr/>
                <p:nvPr/>
              </p:nvSpPr>
              <p:spPr>
                <a:xfrm>
                  <a:off x="205128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2 – 3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94"/>
                <p:cNvSpPr/>
                <p:nvPr/>
              </p:nvSpPr>
              <p:spPr>
                <a:xfrm>
                  <a:off x="1954080" y="566676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95"/>
              <p:cNvGrpSpPr/>
              <p:nvPr/>
            </p:nvGrpSpPr>
            <p:grpSpPr>
              <a:xfrm>
                <a:off x="3749760" y="5666760"/>
                <a:ext cx="1794960" cy="727200"/>
                <a:chOff x="3749760" y="5666760"/>
                <a:chExt cx="1794960" cy="727200"/>
              </a:xfrm>
            </p:grpSpPr>
            <p:sp>
              <p:nvSpPr>
                <p:cNvPr id="387" name="Rectangle 96"/>
                <p:cNvSpPr/>
                <p:nvPr/>
              </p:nvSpPr>
              <p:spPr>
                <a:xfrm>
                  <a:off x="384660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97"/>
                <p:cNvSpPr/>
                <p:nvPr/>
              </p:nvSpPr>
              <p:spPr>
                <a:xfrm>
                  <a:off x="374976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98"/>
              <p:cNvGrpSpPr/>
              <p:nvPr/>
            </p:nvGrpSpPr>
            <p:grpSpPr>
              <a:xfrm>
                <a:off x="5545080" y="5666760"/>
                <a:ext cx="1794960" cy="727200"/>
                <a:chOff x="5545080" y="5666760"/>
                <a:chExt cx="1794960" cy="727200"/>
              </a:xfrm>
            </p:grpSpPr>
            <p:sp>
              <p:nvSpPr>
                <p:cNvPr id="390" name="Rectangle 99"/>
                <p:cNvSpPr/>
                <p:nvPr/>
              </p:nvSpPr>
              <p:spPr>
                <a:xfrm>
                  <a:off x="564228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100"/>
                <p:cNvSpPr/>
                <p:nvPr/>
              </p:nvSpPr>
              <p:spPr>
                <a:xfrm>
                  <a:off x="554508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101"/>
              <p:cNvGrpSpPr/>
              <p:nvPr/>
            </p:nvGrpSpPr>
            <p:grpSpPr>
              <a:xfrm>
                <a:off x="7340760" y="5666760"/>
                <a:ext cx="1795320" cy="727200"/>
                <a:chOff x="7340760" y="5666760"/>
                <a:chExt cx="1795320" cy="727200"/>
              </a:xfrm>
            </p:grpSpPr>
            <p:sp>
              <p:nvSpPr>
                <p:cNvPr id="393" name="Rectangle 102"/>
                <p:cNvSpPr/>
                <p:nvPr/>
              </p:nvSpPr>
              <p:spPr>
                <a:xfrm>
                  <a:off x="743796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103"/>
                <p:cNvSpPr/>
                <p:nvPr/>
              </p:nvSpPr>
              <p:spPr>
                <a:xfrm>
                  <a:off x="7340760" y="566676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5" name="Rectangle 104"/>
            <p:cNvSpPr/>
            <p:nvPr/>
          </p:nvSpPr>
          <p:spPr>
            <a:xfrm>
              <a:off x="152280" y="1676520"/>
              <a:ext cx="8991360" cy="4723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Rectangle 105"/>
          <p:cNvSpPr/>
          <p:nvPr/>
        </p:nvSpPr>
        <p:spPr>
          <a:xfrm>
            <a:off x="2591280" y="152280"/>
            <a:ext cx="36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 &amp; I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07"/>
          <p:cNvSpPr/>
          <p:nvPr/>
        </p:nvSpPr>
        <p:spPr>
          <a:xfrm>
            <a:off x="148320" y="91440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V Induction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19D9-325F-4A30-80E6-561249EE9F3F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5181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olum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xpans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85520" y="2000160"/>
            <a:ext cx="731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olume expansion is importa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itially, 1 to 3 L 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L ,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708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B8F6-7E35-4B9C-8BAD-64174B0EE25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4038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atecholamines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2600" y="2071800"/>
            <a:ext cx="7815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e-savin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irst-line catecholamines  include epineph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pam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??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2C2F-EB96-4B2C-936F-FB597B9E3900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46483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PINEPHRINE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28400" y="1285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α1 -adrenergic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soconstric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β1 -adrenergi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soconstri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creased peripheral vasc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istan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creases myocardial contract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creased mucosal edem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27708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EB91-2C66-41E7-AA74-F376EB6E6ED9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396252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PINEPHR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1196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β</a:t>
            </a:r>
            <a:r>
              <a:rPr b="0" i="1" lang="en-CA" sz="2800" spc="-1" strike="noStrike" baseline="-30000">
                <a:solidFill>
                  <a:srgbClr val="ffff66"/>
                </a:solidFill>
                <a:latin typeface="Arial"/>
                <a:ea typeface="Times New Roman"/>
              </a:rPr>
              <a:t>2</a:t>
            </a:r>
            <a:r>
              <a:rPr b="0" i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-adrenergic effects are of primary impor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onchodil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ase of histamine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yptase, and other chemical mediators of inflammation from mast cells and basophi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y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MP production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714240" y="428616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6"/>
          <p:cNvSpPr/>
          <p:nvPr/>
        </p:nvSpPr>
        <p:spPr>
          <a:xfrm>
            <a:off x="857160" y="428616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7"/>
          <p:cNvSpPr/>
          <p:nvPr/>
        </p:nvSpPr>
        <p:spPr>
          <a:xfrm flipV="1">
            <a:off x="3571920" y="557208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D519-4323-4C5A-B4E0-59EFF4856AE1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81080" y="106560"/>
            <a:ext cx="4191120" cy="14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</a:t>
            </a:r>
            <a:r>
              <a:rPr b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PINEPHR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066680" y="304812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no absolute contraindications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 epinephrine administration in anaphylaxis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152280" y="2286000"/>
            <a:ext cx="31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train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F29A-23B6-4C89-A81C-22644FF3DEA5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HOW DO YOU GIVE IT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6840" y="32767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algn="ctr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UK consensus panel on emergency guidelines states that the subcutaneous route of administration for epinephrine has “no role” in anaphylax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2743200" y="9907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PINEPH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3B91-0E7C-496C-8052-0F9E64C7BC70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2285640"/>
            <a:ext cx="820908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is your 1st line treatment 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87240" y="1752480"/>
            <a:ext cx="43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diagnos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3640" y="4114800"/>
            <a:ext cx="74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ff66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are the indications of intubation in this p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85800" y="4724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66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your choice of medication for induction &amp; paralysi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83280" y="5791320"/>
            <a:ext cx="807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ff66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about post intubation sedation &amp; pain control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85800" y="2971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66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your plan if your pt remain hypotesive after resuscit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-360" y="914040"/>
            <a:ext cx="863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2 y o m pt presented to ER c/o vomiting blood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200400" y="150120"/>
            <a:ext cx="21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ASE </a:t>
            </a:r>
            <a:r>
              <a:rPr b="0" lang="ar-SA" sz="44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3548-62A9-4264-8593-A9BD6A96E499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67816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pinephrine absorption in adult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M </a:t>
            </a:r>
            <a:r>
              <a:rPr b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versus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Q </a:t>
            </a:r>
            <a:r>
              <a:rPr b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nj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ospective, randomized, blinded placebo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l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6-way crossover study in healthy allergic men age 18 to 35 y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CONCLUS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 injection of epinephrine into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gh is the preferred method of administration in the initial treatment of anaphylaxi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5335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. Estelle R. Simons MD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Journal of Allergy and Clinical Immunology 2001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AA9B-686D-4EDA-BA38-F582FB3135F5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pinephrine absorption in childre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spective, randomized, blinded,  study in 17 children with a history of anaphylaxi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Q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/S  IM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rom autoinjec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asma epinephrine concentration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R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P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and adverse effects were monitor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228600" y="6172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. Estelle R. Simons MD </a:t>
            </a:r>
            <a:r>
              <a:rPr b="1" lang="en-CA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innipeg, Manitoba, Canada Allergy and Clinical Immunology</a:t>
            </a:r>
            <a:r>
              <a:rPr b="0" lang="en-CA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304848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986C-9F25-4779-95E1-A4B6BA1931F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Group 49"/>
          <p:cNvGrpSpPr/>
          <p:nvPr/>
        </p:nvGrpSpPr>
        <p:grpSpPr>
          <a:xfrm>
            <a:off x="-6480" y="3143160"/>
            <a:ext cx="9149760" cy="3714480"/>
            <a:chOff x="-6480" y="3143160"/>
            <a:chExt cx="9149760" cy="3714480"/>
          </a:xfrm>
        </p:grpSpPr>
        <p:sp>
          <p:nvSpPr>
            <p:cNvPr id="436" name="Rectangle 5"/>
            <p:cNvSpPr/>
            <p:nvPr/>
          </p:nvSpPr>
          <p:spPr>
            <a:xfrm>
              <a:off x="430560" y="3143160"/>
              <a:ext cx="29138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Rectangle 6"/>
            <p:cNvSpPr/>
            <p:nvPr/>
          </p:nvSpPr>
          <p:spPr>
            <a:xfrm>
              <a:off x="5459760" y="4822560"/>
              <a:ext cx="33782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Rectangle 7"/>
            <p:cNvSpPr/>
            <p:nvPr/>
          </p:nvSpPr>
          <p:spPr>
            <a:xfrm>
              <a:off x="-6480" y="5921280"/>
              <a:ext cx="2239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Rectangle 8"/>
            <p:cNvSpPr/>
            <p:nvPr/>
          </p:nvSpPr>
          <p:spPr>
            <a:xfrm>
              <a:off x="571320" y="3286440"/>
              <a:ext cx="29138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5765760" y="5182200"/>
              <a:ext cx="3377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Rectangle 10"/>
            <p:cNvSpPr/>
            <p:nvPr/>
          </p:nvSpPr>
          <p:spPr>
            <a:xfrm>
              <a:off x="-6480" y="6536160"/>
              <a:ext cx="22399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" name="Rectangle 52"/>
          <p:cNvSpPr/>
          <p:nvPr/>
        </p:nvSpPr>
        <p:spPr>
          <a:xfrm>
            <a:off x="0" y="1066680"/>
            <a:ext cx="8763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 </a:t>
            </a: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 of injection is preferable.</a:t>
            </a: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pinephrine SQ</a:t>
            </a: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                        0.27 ± 0.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pinephrine IM                                   </a:t>
            </a: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0.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3"/>
          <p:cNvSpPr/>
          <p:nvPr/>
        </p:nvSpPr>
        <p:spPr>
          <a:xfrm>
            <a:off x="762120" y="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pinephrine absorption in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17160" y="899640"/>
            <a:ext cx="863748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M Epinephr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85480" y="194148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IM route has several benefit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is a greater margin of safety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t does not require intravenous acces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IM route is easier to lear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est site for IM injection is the anterolateral aspect of the middle third of the thigh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3"/>
          <p:cNvSpPr/>
          <p:nvPr/>
        </p:nvSpPr>
        <p:spPr>
          <a:xfrm>
            <a:off x="214200" y="1714680"/>
            <a:ext cx="8929800" cy="47865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renaline IM dose –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5 mg IM (= 500 micrograms = 0.5 mL of 1:1000) adrena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renaline IM dose –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12 years: 500 micrograms IM (0.5 mL) i.e. same as ad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 micrograms (0.3 mL) if child is small or prepuber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6 – 12 years: 300 micrograms IM (0.3 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6 months – 6 years: 150 micrograms IM (0.15 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 6 months: 150 micrograms IM (0.15 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17160" y="899640"/>
            <a:ext cx="863748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M Epinephr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D3B2-244C-4E22-AACB-16B02537C482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38862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V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PINEPHRI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9272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V E</a:t>
            </a:r>
            <a:r>
              <a:rPr b="0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iniph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dication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ma &amp; hypoten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idor +  a/w edem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 response to I/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piniph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A11E-DF01-4022-9110-3D88E06C692F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0" y="990720"/>
            <a:ext cx="521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PINEPH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785880" y="19051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0.1 mg (0.1 ml) of 1:1,000 with 10 ml of 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s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his is equivalent to a 100 mcg bolus given at 10 mcg/mi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Once therapy has begun, a continuous infusion could be delivered with 0.5 to 5 mcg/min titrated to clinical respo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B3F0-0768-42CD-9985-CD4FB315D27C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1091880"/>
            <a:ext cx="510552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5e500"/>
                </a:solidFill>
                <a:latin typeface="Arial"/>
                <a:ea typeface="Times New Roman"/>
              </a:rPr>
              <a:t>Epinephrine infusions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seful in patients with persistent hypotension or bronchospasm after initial resusci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fusions should be started at </a:t>
            </a:r>
            <a:r>
              <a:rPr b="0" lang="en-CA" sz="2800" spc="-1" strike="noStrike">
                <a:solidFill>
                  <a:srgbClr val="e5e500"/>
                </a:solidFill>
                <a:latin typeface="Arial"/>
                <a:ea typeface="Times New Roman"/>
              </a:rPr>
              <a:t>5 to 10 μg/min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approximately 0.05–0.1 μg/kg per minute) and titrated to correct hypotens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Rectangle 1029"/>
          <p:cNvSpPr/>
          <p:nvPr/>
        </p:nvSpPr>
        <p:spPr>
          <a:xfrm>
            <a:off x="34293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346A-D3BD-4706-8798-916738109CB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atecholamine Infusions</a:t>
            </a:r>
            <a:r>
              <a:rPr b="0" lang="en-CA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05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epinephrine infusions may be requir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5 to 10 μg/min (0.05–0.1 μg/kg per mi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nd titrated to correct hypotens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285840" y="2000160"/>
            <a:ext cx="885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ject hydrocortisone slowly intravenously or intramuscularl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ose of hydrocortisone for adults and children depends on 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12 years and adults: 200 mg IM or IV 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6 – 12 years: 100 mg IM or IV 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6 months – 6 years: 50 mg IM or IV 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6 months: 25 mg IM or IV 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Box 3"/>
          <p:cNvSpPr/>
          <p:nvPr/>
        </p:nvSpPr>
        <p:spPr>
          <a:xfrm>
            <a:off x="289800" y="9288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00"/>
                </a:solidFill>
                <a:latin typeface="Times New Roman"/>
              </a:rPr>
              <a:t>Ster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E122-A679-4A2D-8EEB-01150DCC5FE4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990720"/>
            <a:ext cx="9144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phylaxis is derived from 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k word </a:t>
            </a:r>
            <a:r>
              <a:rPr b="1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a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aning backwar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gain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ylaxis</a:t>
            </a:r>
            <a:r>
              <a:rPr b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ing </a:t>
            </a: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e is no universally accepted clinical definition of 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12444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63F6-A51A-46E7-ACDA-68DFC3946E4A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38862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histam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nitid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0 mg in adults (1 mg/kg) in children, diluted in 5% dextrose to a total volume of 20 mL and inject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er 5 minute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imetidine</a:t>
            </a:r>
            <a:r>
              <a:rPr b="0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4 mg/kg) may be administered to adults, but no pediatric dosage in anaphylaxis has been established.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Rectangle 1028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46CE-5039-42B0-B2BE-D317DF878BF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rove outcomes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???</a:t>
            </a:r>
            <a:r>
              <a:rPr b="0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16520" indent="-438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andomized, double-blind,  91 adult patients with acute allergic syndrom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ere treated wi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1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121120" indent="-365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0 mg of diphenhydramine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lacep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1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121120" indent="-365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0 mg of diphenhydramine and 50 mg of </a:t>
            </a:r>
            <a:r>
              <a:rPr b="0" lang="en-CA" sz="2800" spc="-1" strike="noStrike">
                <a:solidFill>
                  <a:srgbClr val="e5e500"/>
                </a:solidFill>
                <a:latin typeface="Arial"/>
                <a:ea typeface="Times New Roman"/>
              </a:rPr>
              <a:t>ranitid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914400" y="6248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 RY</a:t>
            </a:r>
            <a:r>
              <a:rPr b="1" i="1" lang="en-C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n Emerg Med.</a:t>
            </a:r>
            <a:r>
              <a:rPr b="1" lang="en-C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November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2133360" y="108720"/>
            <a:ext cx="4647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i="1" lang="en-CA" sz="32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1</a:t>
            </a: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and H</a:t>
            </a:r>
            <a:r>
              <a:rPr b="0" i="1" lang="en-CA" sz="32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antagonist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14AC-8F10-4B51-A1DC-92D5A0160F2A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5" name="Object 2"/>
          <p:cNvGraphicFramePr/>
          <p:nvPr/>
        </p:nvGraphicFramePr>
        <p:xfrm>
          <a:off x="990720" y="1981080"/>
          <a:ext cx="7238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238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4"/>
          <p:cNvSpPr/>
          <p:nvPr/>
        </p:nvSpPr>
        <p:spPr>
          <a:xfrm>
            <a:off x="168840" y="990720"/>
            <a:ext cx="41230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i="1" lang="en-CA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nd H</a:t>
            </a:r>
            <a:r>
              <a:rPr b="0" i="1" lang="en-CA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ntagon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685800" y="6324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in RY</a:t>
            </a:r>
            <a:r>
              <a:rPr b="1" i="1" lang="en-CA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n Emerg Med.</a:t>
            </a:r>
            <a:r>
              <a:rPr b="1" lang="en-CA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November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2895480" y="-216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histam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485F-8DF9-4D35-A205-14B9695EB5E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histam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nclusion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findings favour the recommendation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sing combined H</a:t>
            </a:r>
            <a:r>
              <a:rPr b="0" lang="en-CA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H</a:t>
            </a:r>
            <a:r>
              <a:rPr b="0" lang="en-CA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tihistamines in acute allergic syndrome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Lin RY</a:t>
            </a:r>
            <a:r>
              <a:rPr b="0" i="1" lang="en-CA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nn Emerg Med.</a:t>
            </a:r>
            <a:r>
              <a:rPr b="0" lang="en-CA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November 2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Rectangle 1028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-360" y="2071800"/>
            <a:ext cx="93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ly to be lifesaving in a true anaphylax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ject chlorphenamine slowly IV or I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dose of chlorphenamine depends on ag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gt;12 years and adults: 10 mg IM or IV slow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gt;6 – 12 years: 5 mg IM or IV slow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gt;6 months – 6 years: 2.5 mg IM or IV slow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6 months: 250 micrograms/kg IM or IV slow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E6BA-02FA-4A27-999D-E354B7653C67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1026"/>
          <p:cNvSpPr/>
          <p:nvPr/>
        </p:nvSpPr>
        <p:spPr>
          <a:xfrm>
            <a:off x="228600" y="912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histam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1028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07C8-AF9F-4853-A9A0-FC0E2EB9440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Biphasic Anaphylaxis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are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tes between 5% to 20%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urrenc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anging from mild to seve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ife-threa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T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longed observ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s requi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304848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7DA9-96EA-4755-8841-17C8DE2B68BE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92504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Risk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Of 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Biphasic Anaphyla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xis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533520" y="62485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Joyce M. Lee MD </a:t>
            </a:r>
            <a:r>
              <a:rPr b="1" lang="en-CA" sz="2000" spc="-1" strike="noStrike">
                <a:solidFill>
                  <a:srgbClr val="ffff66"/>
                </a:solidFill>
                <a:latin typeface="Times New Roman"/>
              </a:rPr>
              <a:t>Children's Hospital, Harvard Medical Sch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ffff66"/>
                </a:solidFill>
                <a:latin typeface="Arial"/>
              </a:rPr>
              <a:t>Biphasic Anaphylactic Reactions in Paediatric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ciden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layed epinephrine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roid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 not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vent biphasic reaction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ime from the onset of symptoms to the reacti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F0E2-2BEC-43EB-8E8F-21F4BC8B275A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naphylaxis in Pregnancy</a:t>
            </a:r>
            <a:r>
              <a:rPr b="0" lang="en-CA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he management of anaphylaxis in pregnancy consists o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tern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usci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e monitoring of the fetal stat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mediate delivery of the fetus if compromised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9" name="Rectangle 1028"/>
          <p:cNvSpPr/>
          <p:nvPr/>
        </p:nvSpPr>
        <p:spPr>
          <a:xfrm>
            <a:off x="33530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4771-429D-413D-A923-7D2593F1C1D2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reatment depends on the severity of the reaction and consists o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uid resuscita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yg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ineph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1 and H2 block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rticosteroid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0" y="10666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naphylaxis in Pregnanc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Rectangle 1029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8B39-21D6-4E46-8320-F52A7A49A40C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331640" y="148428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cc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are the bad prognostic signs of anaphylaxi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DE81-42AA-4479-8CCB-2AE88CB9415E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ta regarding the incidence and prevalence of anaphylaxis and the number of deaths caused by it are 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-360" y="1041120"/>
            <a:ext cx="39625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Arial"/>
              </a:rPr>
              <a:t>Epidemiology in S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B9F1-8430-4DE7-9A9A-7606117D440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000080"/>
            <a:ext cx="8610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β-Adrenergic blockad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radoxical bradycard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ofound hypoten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vere bronchospasm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agents might impede treatment effectiveness with epinephrin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304848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B5EC-18F5-4DDE-9CD8-26F02023742B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42670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β-Adrenergic blockad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56760" y="2057400"/>
            <a:ext cx="848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lucagon, 1-5 mg (20-30 μg/k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maximum, 1 mg] in children)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er 5 minutes, followed by an infusion of 5-15 μg/min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spiration precautions should be observed because glucagon may cause 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v.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Rectangle 1028"/>
          <p:cNvSpPr/>
          <p:nvPr/>
        </p:nvSpPr>
        <p:spPr>
          <a:xfrm>
            <a:off x="231480" y="10666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T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4CE9-44F4-4046-A64C-C1D21AF77C05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171840" y="3805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  <a:ea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1714680" y="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98298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5572080" y="3357720"/>
            <a:ext cx="3571920" cy="901800"/>
          </a:xfrm>
          <a:prstGeom prst="rect">
            <a:avLst/>
          </a:prstGeom>
          <a:solidFill>
            <a:srgbClr val="abeaf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ase of epinephr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adrenal cort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104920" y="1905120"/>
            <a:ext cx="2265480" cy="581400"/>
          </a:xfrm>
          <a:prstGeom prst="rect">
            <a:avLst/>
          </a:prstGeom>
          <a:solidFill>
            <a:srgbClr val="abeaf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0" y="2928960"/>
            <a:ext cx="3629160" cy="1633320"/>
          </a:xfrm>
          <a:prstGeom prst="rect">
            <a:avLst/>
          </a:prstGeom>
          <a:solidFill>
            <a:srgbClr val="abeaf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ase of ACE leading to the production of angiotensin 2,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 vasocontri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5968800" y="5429160"/>
            <a:ext cx="3181680" cy="1343880"/>
          </a:xfrm>
          <a:prstGeom prst="rect">
            <a:avLst/>
          </a:prstGeom>
          <a:solidFill>
            <a:srgbClr val="abeaf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socontriction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scular Perm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H="1">
            <a:off x="2057040" y="2286000"/>
            <a:ext cx="609480" cy="685800"/>
          </a:xfrm>
          <a:prstGeom prst="line">
            <a:avLst/>
          </a:prstGeom>
          <a:ln w="76320">
            <a:solidFill>
              <a:srgbClr val="abea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4071960" y="2500200"/>
            <a:ext cx="1371600" cy="1067040"/>
          </a:xfrm>
          <a:prstGeom prst="line">
            <a:avLst/>
          </a:prstGeom>
          <a:ln w="76320">
            <a:solidFill>
              <a:srgbClr val="abea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3643200" y="4143240"/>
            <a:ext cx="2286000" cy="1571760"/>
          </a:xfrm>
          <a:prstGeom prst="line">
            <a:avLst/>
          </a:prstGeom>
          <a:ln w="76320">
            <a:solidFill>
              <a:srgbClr val="abea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13"/>
          <p:cNvSpPr/>
          <p:nvPr/>
        </p:nvSpPr>
        <p:spPr>
          <a:xfrm>
            <a:off x="7858080" y="4429080"/>
            <a:ext cx="0" cy="838080"/>
          </a:xfrm>
          <a:prstGeom prst="line">
            <a:avLst/>
          </a:prstGeom>
          <a:ln w="76320">
            <a:solidFill>
              <a:srgbClr val="abea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14"/>
          <p:cNvSpPr/>
          <p:nvPr/>
        </p:nvSpPr>
        <p:spPr>
          <a:xfrm>
            <a:off x="3143160" y="1285920"/>
            <a:ext cx="0" cy="600120"/>
          </a:xfrm>
          <a:prstGeom prst="line">
            <a:avLst/>
          </a:prstGeom>
          <a:ln w="76320">
            <a:solidFill>
              <a:srgbClr val="abea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15"/>
          <p:cNvSpPr/>
          <p:nvPr/>
        </p:nvSpPr>
        <p:spPr>
          <a:xfrm rot="17984400">
            <a:off x="3533040" y="5070600"/>
            <a:ext cx="1651320" cy="28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Cloud"/>
          <p:cNvSpPr/>
          <p:nvPr/>
        </p:nvSpPr>
        <p:spPr>
          <a:xfrm>
            <a:off x="285840" y="4786200"/>
            <a:ext cx="3929040" cy="2357640"/>
          </a:xfrm>
          <a:prstGeom prst="pie">
            <a:avLst/>
          </a:prstGeom>
          <a:solidFill>
            <a:srgbClr val="a2e59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 of action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E inhibitors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giotensin 2 antagon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Document"/>
          <p:cNvSpPr/>
          <p:nvPr/>
        </p:nvSpPr>
        <p:spPr>
          <a:xfrm>
            <a:off x="4952880" y="785880"/>
            <a:ext cx="4191120" cy="2133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ersons taking 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and/or angiotensin II antagonists will have a diminished compensatory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18"/>
          <p:cNvSpPr/>
          <p:nvPr/>
        </p:nvSpPr>
        <p:spPr>
          <a:xfrm>
            <a:off x="0" y="-357120"/>
            <a:ext cx="4714920" cy="226224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ANAPHYLAX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and 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03F3-7BCA-48EA-A8E9-945BEE13195D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8390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The heart  in anaphyla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xi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gh-dose epinephrine administer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ie, rapid progression to high dose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-3 mg (1:10,000 dilution) slowly administer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er 3 minu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-5 mg administer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er 3 minu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-10 μg/min infusion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Line 2052"/>
          <p:cNvSpPr/>
          <p:nvPr/>
        </p:nvSpPr>
        <p:spPr>
          <a:xfrm flipH="1">
            <a:off x="2514600" y="3733920"/>
            <a:ext cx="2286000" cy="8380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2053"/>
          <p:cNvSpPr/>
          <p:nvPr/>
        </p:nvSpPr>
        <p:spPr>
          <a:xfrm flipH="1">
            <a:off x="2895120" y="4952880"/>
            <a:ext cx="2133720" cy="60984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2060"/>
          <p:cNvSpPr/>
          <p:nvPr/>
        </p:nvSpPr>
        <p:spPr>
          <a:xfrm flipH="1">
            <a:off x="4648320" y="2209680"/>
            <a:ext cx="2590560" cy="83844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2061"/>
          <p:cNvSpPr/>
          <p:nvPr/>
        </p:nvSpPr>
        <p:spPr>
          <a:xfrm>
            <a:off x="6172200" y="2514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2062"/>
          <p:cNvSpPr/>
          <p:nvPr/>
        </p:nvSpPr>
        <p:spPr>
          <a:xfrm>
            <a:off x="4573080" y="3733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2064"/>
          <p:cNvSpPr/>
          <p:nvPr/>
        </p:nvSpPr>
        <p:spPr>
          <a:xfrm>
            <a:off x="2590920" y="54100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2065"/>
          <p:cNvSpPr/>
          <p:nvPr/>
        </p:nvSpPr>
        <p:spPr>
          <a:xfrm>
            <a:off x="4495680" y="5181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Picture 2066" descr="heart"/>
          <p:cNvPicPr/>
          <p:nvPr/>
        </p:nvPicPr>
        <p:blipFill>
          <a:blip r:embed="rId1"/>
          <a:stretch/>
        </p:blipFill>
        <p:spPr>
          <a:xfrm>
            <a:off x="8077320" y="152280"/>
            <a:ext cx="857160" cy="1200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2067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EBB1-D586-46B3-9CB3-6C93E36E7B14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990720"/>
            <a:ext cx="914400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</a:t>
            </a:r>
            <a:r>
              <a:rPr b="1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SPIR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)</a:t>
            </a:r>
            <a:r>
              <a:rPr b="1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)</a:t>
            </a:r>
            <a:r>
              <a:rPr b="1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609480" y="1828800"/>
            <a:ext cx="7696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</a:t>
            </a: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. 1</a:t>
            </a: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use of death in anaphylax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29721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F0F7-F6AB-4D08-80BC-D544384BD203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8" name="Object 2"/>
          <p:cNvGraphicFramePr/>
          <p:nvPr/>
        </p:nvGraphicFramePr>
        <p:xfrm>
          <a:off x="228600" y="1905120"/>
          <a:ext cx="853452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5345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0" name="Picture 6" descr="img0049"/>
          <p:cNvPicPr/>
          <p:nvPr/>
        </p:nvPicPr>
        <p:blipFill>
          <a:blip r:embed="rId3"/>
          <a:stretch/>
        </p:blipFill>
        <p:spPr>
          <a:xfrm>
            <a:off x="7162920" y="152280"/>
            <a:ext cx="1752480" cy="152424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7"/>
          <p:cNvSpPr/>
          <p:nvPr/>
        </p:nvSpPr>
        <p:spPr>
          <a:xfrm>
            <a:off x="0" y="1143000"/>
            <a:ext cx="562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</a:t>
            </a:r>
            <a:r>
              <a:rPr b="1" i="1" lang="en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ses of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</a:t>
            </a:r>
            <a:r>
              <a:rPr b="1" i="1" lang="en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ath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r>
              <a:rPr b="1" i="1" lang="en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r>
              <a:rPr b="1" i="1" lang="en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8"/>
          <p:cNvSpPr/>
          <p:nvPr/>
        </p:nvSpPr>
        <p:spPr>
          <a:xfrm>
            <a:off x="304848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22DE-160D-407E-8FBF-6C676FFF2662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8120" y="228600"/>
            <a:ext cx="36576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GNOSI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ad prognostic sig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/W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Asth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anifestations after exposure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 epi inj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 require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B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Line 4"/>
          <p:cNvSpPr/>
          <p:nvPr/>
        </p:nvSpPr>
        <p:spPr>
          <a:xfrm flipV="1">
            <a:off x="1752480" y="4191120"/>
            <a:ext cx="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4876920" y="1828800"/>
            <a:ext cx="388620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e aware  &amp;  prep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2356920" y="2786040"/>
            <a:ext cx="5751720" cy="14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Questions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DD1A-475B-4505-AFC6-4DCD46F7991A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357280" y="642600"/>
            <a:ext cx="32292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AFA2-338A-41D2-ACA1-9021CC7267E9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2916360" y="3860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ffffcc"/>
                </a:solidFill>
                <a:latin typeface="Arial"/>
              </a:rPr>
              <a:t>Ranitidine</a:t>
            </a:r>
            <a:r>
              <a:rPr b="0" lang="en-C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50 mg in adults (1 mg/kg) in children, diluted in 5% dextrose to a total volume of 20 mL and injected 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IV 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over 5 minut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948360" y="4975200"/>
            <a:ext cx="1298880" cy="246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ffffcc"/>
                </a:solidFill>
                <a:latin typeface="Arial"/>
              </a:rPr>
              <a:t>IV Epinephrine</a:t>
            </a:r>
            <a:r>
              <a:rPr b="1" i="1" lang="en-CA" sz="1000" spc="-1" strike="noStrike">
                <a:solidFill>
                  <a:srgbClr val="ffffcc"/>
                </a:solidFill>
                <a:latin typeface="Arial"/>
              </a:rPr>
              <a:t>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3552120" y="3141720"/>
            <a:ext cx="2093400" cy="246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cc"/>
                </a:solidFill>
                <a:latin typeface="Arial"/>
              </a:rPr>
              <a:t>Diphenhydramine 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 50 mg of IV/IM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3664440" y="396000"/>
            <a:ext cx="184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Anaphylaxis Algorith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3587040" y="619920"/>
            <a:ext cx="19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Arial"/>
              </a:rPr>
              <a:t>Hypotension  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due to </a:t>
            </a:r>
            <a:r>
              <a:rPr b="0" i="1" lang="en-CA" sz="1000" spc="-1" strike="noStrike">
                <a:solidFill>
                  <a:srgbClr val="ffffcc"/>
                </a:solidFill>
                <a:latin typeface="Arial"/>
              </a:rPr>
              <a:t>Antigen</a:t>
            </a:r>
            <a:r>
              <a:rPr b="0" lang="en-CA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3203640" y="980640"/>
            <a:ext cx="26636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Check ABCs in Monitored bed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3186360" y="3577320"/>
            <a:ext cx="2748960" cy="246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Methylprednisolone 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(Solu-Medrol) 125 mg IV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2918520" y="1628640"/>
            <a:ext cx="3297240" cy="231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ff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100%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oxygen administration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, e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stablish and maintain a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/w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12"/>
          <p:cNvSpPr/>
          <p:nvPr/>
        </p:nvSpPr>
        <p:spPr>
          <a:xfrm>
            <a:off x="3780000" y="1989000"/>
            <a:ext cx="1871640" cy="657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0.3</a:t>
            </a: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mL Epinephrine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 1:1,000 IM* in lateral aspect of the thigh Repeated dose if still hypotensive in 3-4 minut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3897360" y="458136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Reassess  AB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4067280" y="5157720"/>
            <a:ext cx="94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cc"/>
                </a:solidFill>
                <a:latin typeface="Arial"/>
              </a:rPr>
              <a:t>Hypotension</a:t>
            </a:r>
            <a:r>
              <a:rPr b="0" i="1" lang="en-US" sz="9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Line 15"/>
          <p:cNvSpPr/>
          <p:nvPr/>
        </p:nvSpPr>
        <p:spPr>
          <a:xfrm>
            <a:off x="5003640" y="5373720"/>
            <a:ext cx="17290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Line 16"/>
          <p:cNvSpPr/>
          <p:nvPr/>
        </p:nvSpPr>
        <p:spPr>
          <a:xfrm flipH="1">
            <a:off x="2484360" y="5229360"/>
            <a:ext cx="1440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17"/>
          <p:cNvSpPr/>
          <p:nvPr/>
        </p:nvSpPr>
        <p:spPr>
          <a:xfrm>
            <a:off x="5293800" y="515772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18"/>
          <p:cNvSpPr/>
          <p:nvPr/>
        </p:nvSpPr>
        <p:spPr>
          <a:xfrm>
            <a:off x="2773800" y="501336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9"/>
          <p:cNvSpPr/>
          <p:nvPr/>
        </p:nvSpPr>
        <p:spPr>
          <a:xfrm>
            <a:off x="1145880" y="5084640"/>
            <a:ext cx="130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High Risk Patient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Line 20"/>
          <p:cNvSpPr/>
          <p:nvPr/>
        </p:nvSpPr>
        <p:spPr>
          <a:xfrm flipV="1">
            <a:off x="1403280" y="4797360"/>
            <a:ext cx="0" cy="287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1763640" y="5373720"/>
            <a:ext cx="0" cy="21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Line 22"/>
          <p:cNvSpPr/>
          <p:nvPr/>
        </p:nvSpPr>
        <p:spPr>
          <a:xfrm>
            <a:off x="1763640" y="5589720"/>
            <a:ext cx="49690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Rectangle 23"/>
          <p:cNvSpPr/>
          <p:nvPr/>
        </p:nvSpPr>
        <p:spPr>
          <a:xfrm>
            <a:off x="1478520" y="479736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24"/>
          <p:cNvSpPr/>
          <p:nvPr/>
        </p:nvSpPr>
        <p:spPr>
          <a:xfrm>
            <a:off x="1116000" y="450864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Observe for 6 hours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AutoShape 25"/>
          <p:cNvSpPr/>
          <p:nvPr/>
        </p:nvSpPr>
        <p:spPr>
          <a:xfrm>
            <a:off x="539640" y="3141720"/>
            <a:ext cx="1835280" cy="107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26"/>
          <p:cNvSpPr/>
          <p:nvPr/>
        </p:nvSpPr>
        <p:spPr>
          <a:xfrm>
            <a:off x="2411280" y="566568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</a:rPr>
              <a:t>Airway compromise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</a:rPr>
              <a:t>Requirement of high doses of epinephri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</a:rPr>
              <a:t>History of Cornary Artery Disease</a:t>
            </a:r>
            <a:r>
              <a:rPr b="0" lang="en-GB" sz="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</a:rPr>
              <a:t>History of B.Asthm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</a:rPr>
              <a:t>Patient on B.Blockers or ACEI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27"/>
          <p:cNvSpPr/>
          <p:nvPr/>
        </p:nvSpPr>
        <p:spPr>
          <a:xfrm>
            <a:off x="3711600" y="2759040"/>
            <a:ext cx="1552320" cy="231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IV N/S 500—1000ccBol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324000" y="2492280"/>
            <a:ext cx="180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For bronchospasm resistant to epinephrine give 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ebulized (salbutamol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29"/>
          <p:cNvSpPr/>
          <p:nvPr/>
        </p:nvSpPr>
        <p:spPr>
          <a:xfrm>
            <a:off x="3413880" y="1328760"/>
            <a:ext cx="230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Stop Administration of Antigen (i.e. blood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30"/>
          <p:cNvSpPr/>
          <p:nvPr/>
        </p:nvSpPr>
        <p:spPr>
          <a:xfrm>
            <a:off x="4967280" y="5877000"/>
            <a:ext cx="417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ffffcc"/>
                </a:solidFill>
                <a:latin typeface="Arial"/>
              </a:rPr>
              <a:t>***IV Epinephr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0.1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mg (0.1 ml) of 1:1,000 with 10 ml of n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/s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this is equivalent to a 100 mcg bolus given at 10 mcg/min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a continuous infusion of 0.5 to 5 mcg/min titrated to clinical response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900" spc="-1" strike="noStrike">
                <a:solidFill>
                  <a:srgbClr val="ffffcc"/>
                </a:solidFill>
                <a:latin typeface="Arial"/>
              </a:rPr>
              <a:t>Epinephrine should not be administered </a:t>
            </a:r>
            <a:r>
              <a:rPr b="1" i="1" lang="en-US" sz="900" spc="-1" strike="noStrike">
                <a:solidFill>
                  <a:srgbClr val="ffffcc"/>
                </a:solidFill>
                <a:latin typeface="Arial"/>
              </a:rPr>
              <a:t>IV </a:t>
            </a:r>
            <a:r>
              <a:rPr b="1" i="1" lang="en-CA" sz="900" spc="-1" strike="noStrike">
                <a:solidFill>
                  <a:srgbClr val="ffffcc"/>
                </a:solidFill>
                <a:latin typeface="Arial"/>
              </a:rPr>
              <a:t>to patients with normal</a:t>
            </a:r>
            <a:r>
              <a:rPr b="1" i="1" lang="en-US" sz="900" spc="-1" strike="noStrike">
                <a:solidFill>
                  <a:srgbClr val="ffffcc"/>
                </a:solidFill>
                <a:latin typeface="Arial"/>
              </a:rPr>
              <a:t> B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AutoShape 31"/>
          <p:cNvSpPr/>
          <p:nvPr/>
        </p:nvSpPr>
        <p:spPr>
          <a:xfrm>
            <a:off x="3419640" y="1268280"/>
            <a:ext cx="223200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32"/>
          <p:cNvSpPr/>
          <p:nvPr/>
        </p:nvSpPr>
        <p:spPr>
          <a:xfrm>
            <a:off x="4500720" y="4941720"/>
            <a:ext cx="0" cy="216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Oval 33"/>
          <p:cNvSpPr/>
          <p:nvPr/>
        </p:nvSpPr>
        <p:spPr>
          <a:xfrm>
            <a:off x="3851280" y="4581360"/>
            <a:ext cx="1368360" cy="3603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6227640" y="2349360"/>
            <a:ext cx="2448000" cy="657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Start </a:t>
            </a:r>
            <a:r>
              <a:rPr b="1" lang="en-CA" sz="1000" spc="-1" strike="noStrike">
                <a:solidFill>
                  <a:srgbClr val="ffffcc"/>
                </a:solidFill>
                <a:latin typeface="Arial"/>
              </a:rPr>
              <a:t>Glucagon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, 1-5 mg (20-30 μg/kg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   (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maximum, 1 mg in children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)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iv bolus over 5 minutes</a:t>
            </a: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followed by infusion of 5—15 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μg/min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35"/>
          <p:cNvSpPr/>
          <p:nvPr/>
        </p:nvSpPr>
        <p:spPr>
          <a:xfrm>
            <a:off x="6948360" y="3911760"/>
            <a:ext cx="1233720" cy="231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cc"/>
                </a:solidFill>
                <a:latin typeface="Arial"/>
              </a:rPr>
              <a:t>Still Hypotens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Rectangle 36"/>
          <p:cNvSpPr/>
          <p:nvPr/>
        </p:nvSpPr>
        <p:spPr>
          <a:xfrm>
            <a:off x="7021800" y="443700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Reassess  AB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Oval 37"/>
          <p:cNvSpPr/>
          <p:nvPr/>
        </p:nvSpPr>
        <p:spPr>
          <a:xfrm>
            <a:off x="6948360" y="4365720"/>
            <a:ext cx="1368720" cy="3603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Rectangle 38"/>
          <p:cNvSpPr/>
          <p:nvPr/>
        </p:nvSpPr>
        <p:spPr>
          <a:xfrm>
            <a:off x="6728400" y="328464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Is the patient on B. Blockers?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39"/>
          <p:cNvSpPr/>
          <p:nvPr/>
        </p:nvSpPr>
        <p:spPr>
          <a:xfrm flipV="1">
            <a:off x="7596360" y="4724280"/>
            <a:ext cx="0" cy="144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40"/>
          <p:cNvSpPr/>
          <p:nvPr/>
        </p:nvSpPr>
        <p:spPr>
          <a:xfrm flipV="1">
            <a:off x="7596360" y="4221000"/>
            <a:ext cx="0" cy="144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41"/>
          <p:cNvSpPr/>
          <p:nvPr/>
        </p:nvSpPr>
        <p:spPr>
          <a:xfrm>
            <a:off x="7022160" y="5373720"/>
            <a:ext cx="10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ffffcc"/>
                </a:solidFill>
                <a:latin typeface="Arial"/>
              </a:rPr>
              <a:t>ICU Admis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42"/>
          <p:cNvSpPr/>
          <p:nvPr/>
        </p:nvSpPr>
        <p:spPr>
          <a:xfrm>
            <a:off x="6732720" y="5229360"/>
            <a:ext cx="1584360" cy="647640"/>
          </a:xfrm>
          <a:prstGeom prst="irregularSeal1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43"/>
          <p:cNvSpPr/>
          <p:nvPr/>
        </p:nvSpPr>
        <p:spPr>
          <a:xfrm>
            <a:off x="5003640" y="5157720"/>
            <a:ext cx="1944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44"/>
          <p:cNvSpPr/>
          <p:nvPr/>
        </p:nvSpPr>
        <p:spPr>
          <a:xfrm>
            <a:off x="4067280" y="5157720"/>
            <a:ext cx="1009440" cy="216000"/>
          </a:xfrm>
          <a:prstGeom prst="flowChartTerminator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45"/>
          <p:cNvSpPr/>
          <p:nvPr/>
        </p:nvSpPr>
        <p:spPr>
          <a:xfrm>
            <a:off x="6300720" y="3213000"/>
            <a:ext cx="2664000" cy="503280"/>
          </a:xfrm>
          <a:custGeom>
            <a:avLst/>
            <a:gdLst>
              <a:gd name="textAreaLeft" fmla="*/ 608040 w 2664000"/>
              <a:gd name="textAreaRight" fmla="*/ 2055960 w 266400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Line 46"/>
          <p:cNvSpPr/>
          <p:nvPr/>
        </p:nvSpPr>
        <p:spPr>
          <a:xfrm flipV="1">
            <a:off x="7596360" y="3716280"/>
            <a:ext cx="0" cy="217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47"/>
          <p:cNvSpPr/>
          <p:nvPr/>
        </p:nvSpPr>
        <p:spPr>
          <a:xfrm flipV="1">
            <a:off x="7596360" y="3068280"/>
            <a:ext cx="0" cy="144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Rectangle 48"/>
          <p:cNvSpPr/>
          <p:nvPr/>
        </p:nvSpPr>
        <p:spPr>
          <a:xfrm>
            <a:off x="611280" y="3141720"/>
            <a:ext cx="187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D/C Home with prednisone 50 mg once per day for 5 day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diphenhydramine 25 – 50 mg po Q 6—8 h for 2 days and consider 0.3 mg epi pen prescription in food allergy induced anaphylax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AutoShape 49"/>
          <p:cNvSpPr/>
          <p:nvPr/>
        </p:nvSpPr>
        <p:spPr>
          <a:xfrm>
            <a:off x="1187280" y="4508640"/>
            <a:ext cx="1224000" cy="28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50"/>
          <p:cNvSpPr/>
          <p:nvPr/>
        </p:nvSpPr>
        <p:spPr>
          <a:xfrm>
            <a:off x="1117080" y="4292640"/>
            <a:ext cx="53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Stab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Line 51"/>
          <p:cNvSpPr/>
          <p:nvPr/>
        </p:nvSpPr>
        <p:spPr>
          <a:xfrm flipV="1">
            <a:off x="1403280" y="4149360"/>
            <a:ext cx="0" cy="358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3" name="AutoShape 52"/>
          <p:cNvCxnSpPr/>
          <p:nvPr/>
        </p:nvCxnSpPr>
        <p:spPr>
          <a:xfrm flipH="1" flipV="1" rot="10800000">
            <a:off x="1186920" y="4581000"/>
            <a:ext cx="5546160" cy="1051920"/>
          </a:xfrm>
          <a:prstGeom prst="bentConnector3">
            <a:avLst>
              <a:gd name="adj1" fmla="val -7900"/>
            </a:avLst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sp>
        <p:nvSpPr>
          <p:cNvPr id="614" name="Rectangle 53"/>
          <p:cNvSpPr/>
          <p:nvPr/>
        </p:nvSpPr>
        <p:spPr>
          <a:xfrm>
            <a:off x="468360" y="48690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Unstab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5" name="AutoShape 54"/>
          <p:cNvCxnSpPr>
            <a:stCxn id="596" idx="3"/>
            <a:endCxn id="603" idx="3"/>
          </p:cNvCxnSpPr>
          <p:nvPr/>
        </p:nvCxnSpPr>
        <p:spPr>
          <a:xfrm>
            <a:off x="8181720" y="4030560"/>
            <a:ext cx="135720" cy="1597680"/>
          </a:xfrm>
          <a:prstGeom prst="bentConnector3">
            <a:avLst>
              <a:gd name="adj1" fmla="val 269148"/>
            </a:avLst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sp>
        <p:nvSpPr>
          <p:cNvPr id="616" name="Oval 55"/>
          <p:cNvSpPr/>
          <p:nvPr/>
        </p:nvSpPr>
        <p:spPr>
          <a:xfrm>
            <a:off x="1116000" y="5013360"/>
            <a:ext cx="1295280" cy="3603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56"/>
          <p:cNvSpPr/>
          <p:nvPr/>
        </p:nvSpPr>
        <p:spPr>
          <a:xfrm>
            <a:off x="1333080" y="537372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Line 57"/>
          <p:cNvSpPr/>
          <p:nvPr/>
        </p:nvSpPr>
        <p:spPr>
          <a:xfrm flipH="1">
            <a:off x="8244000" y="5013360"/>
            <a:ext cx="288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58"/>
          <p:cNvSpPr/>
          <p:nvPr/>
        </p:nvSpPr>
        <p:spPr>
          <a:xfrm>
            <a:off x="395280" y="1197000"/>
            <a:ext cx="2448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cc"/>
                </a:solidFill>
                <a:latin typeface="Arial"/>
              </a:rPr>
              <a:t>Low threshold for Intubaion if any one of the following present</a:t>
            </a:r>
            <a:r>
              <a:rPr b="1" lang="en-GB" sz="1000" spc="-1" strike="noStrike">
                <a:solidFill>
                  <a:srgbClr val="ffffcc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Persistent airway and/or sever tongue swelling</a:t>
            </a: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Respiratory Failu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Respiratory Distress</a:t>
            </a: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Hypoxi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59"/>
          <p:cNvSpPr/>
          <p:nvPr/>
        </p:nvSpPr>
        <p:spPr>
          <a:xfrm>
            <a:off x="2557440" y="2492280"/>
            <a:ext cx="7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Reassess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AB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60"/>
          <p:cNvSpPr/>
          <p:nvPr/>
        </p:nvSpPr>
        <p:spPr>
          <a:xfrm>
            <a:off x="2124000" y="33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AutoShape 61"/>
          <p:cNvSpPr/>
          <p:nvPr/>
        </p:nvSpPr>
        <p:spPr>
          <a:xfrm>
            <a:off x="395280" y="1198440"/>
            <a:ext cx="22320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62"/>
          <p:cNvSpPr/>
          <p:nvPr/>
        </p:nvSpPr>
        <p:spPr>
          <a:xfrm>
            <a:off x="2987640" y="4003560"/>
            <a:ext cx="3168720" cy="432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4" name="AutoShape 63"/>
          <p:cNvCxnSpPr/>
          <p:nvPr/>
        </p:nvCxnSpPr>
        <p:spPr>
          <a:xfrm flipH="1" flipV="1" rot="10800000">
            <a:off x="394920" y="1772280"/>
            <a:ext cx="6338160" cy="3997800"/>
          </a:xfrm>
          <a:prstGeom prst="bentConnector3">
            <a:avLst>
              <a:gd name="adj1" fmla="val -3601"/>
            </a:avLst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sp>
        <p:nvSpPr>
          <p:cNvPr id="625" name="AutoShape 64"/>
          <p:cNvSpPr/>
          <p:nvPr/>
        </p:nvSpPr>
        <p:spPr>
          <a:xfrm>
            <a:off x="2556000" y="2492280"/>
            <a:ext cx="792000" cy="358920"/>
          </a:xfrm>
          <a:prstGeom prst="flowChartTerminator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65"/>
          <p:cNvSpPr/>
          <p:nvPr/>
        </p:nvSpPr>
        <p:spPr>
          <a:xfrm>
            <a:off x="396720" y="2492280"/>
            <a:ext cx="1656000" cy="505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Line 66"/>
          <p:cNvSpPr/>
          <p:nvPr/>
        </p:nvSpPr>
        <p:spPr>
          <a:xfrm flipH="1">
            <a:off x="3348000" y="2637000"/>
            <a:ext cx="432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Line 67"/>
          <p:cNvSpPr/>
          <p:nvPr/>
        </p:nvSpPr>
        <p:spPr>
          <a:xfrm flipH="1">
            <a:off x="2050560" y="2637000"/>
            <a:ext cx="5050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9" name="AutoShape 68"/>
          <p:cNvCxnSpPr>
            <a:stCxn id="625" idx="0"/>
          </p:cNvCxnSpPr>
          <p:nvPr/>
        </p:nvCxnSpPr>
        <p:spPr>
          <a:xfrm flipV="1" rot="16200000">
            <a:off x="2465640" y="2004840"/>
            <a:ext cx="648360" cy="32616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630" name="Line 69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Text Box 70"/>
          <p:cNvSpPr/>
          <p:nvPr/>
        </p:nvSpPr>
        <p:spPr>
          <a:xfrm>
            <a:off x="7054200" y="6643800"/>
            <a:ext cx="20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cc"/>
                </a:solidFill>
                <a:latin typeface="Arial"/>
              </a:rPr>
              <a:t>Prepared by Dr Zohair Alaseri Feb 200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71"/>
          <p:cNvSpPr/>
          <p:nvPr/>
        </p:nvSpPr>
        <p:spPr>
          <a:xfrm>
            <a:off x="0" y="595008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cc"/>
                </a:solidFill>
                <a:latin typeface="Arial"/>
              </a:rPr>
              <a:t>*</a:t>
            </a:r>
            <a:r>
              <a:rPr b="1" lang="en-GB" sz="900" spc="-1" strike="noStrike">
                <a:solidFill>
                  <a:srgbClr val="ffffcc"/>
                </a:solidFill>
                <a:latin typeface="Arial"/>
              </a:rPr>
              <a:t>Prepare for difficult air way and call anaesthesia for back u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72"/>
          <p:cNvSpPr/>
          <p:nvPr/>
        </p:nvSpPr>
        <p:spPr>
          <a:xfrm>
            <a:off x="2268360" y="6093000"/>
            <a:ext cx="0" cy="57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Line 73"/>
          <p:cNvSpPr/>
          <p:nvPr/>
        </p:nvSpPr>
        <p:spPr>
          <a:xfrm>
            <a:off x="4788000" y="6093000"/>
            <a:ext cx="0" cy="57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74"/>
          <p:cNvSpPr/>
          <p:nvPr/>
        </p:nvSpPr>
        <p:spPr>
          <a:xfrm>
            <a:off x="8461800" y="414972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75"/>
          <p:cNvSpPr/>
          <p:nvPr/>
        </p:nvSpPr>
        <p:spPr>
          <a:xfrm>
            <a:off x="7668720" y="371628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76"/>
          <p:cNvSpPr/>
          <p:nvPr/>
        </p:nvSpPr>
        <p:spPr>
          <a:xfrm>
            <a:off x="7668720" y="299736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77"/>
          <p:cNvSpPr/>
          <p:nvPr/>
        </p:nvSpPr>
        <p:spPr>
          <a:xfrm>
            <a:off x="8606160" y="364500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78"/>
          <p:cNvSpPr/>
          <p:nvPr/>
        </p:nvSpPr>
        <p:spPr>
          <a:xfrm>
            <a:off x="3178080" y="5734080"/>
            <a:ext cx="126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**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High Risk Pat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0" name="AutoShape 79"/>
          <p:cNvCxnSpPr>
            <a:stCxn id="606" idx="0"/>
            <a:endCxn id="603" idx="3"/>
          </p:cNvCxnSpPr>
          <p:nvPr/>
        </p:nvCxnSpPr>
        <p:spPr>
          <a:xfrm flipH="1">
            <a:off x="8316360" y="3465360"/>
            <a:ext cx="648360" cy="2162880"/>
          </a:xfrm>
          <a:prstGeom prst="bentConnector3">
            <a:avLst>
              <a:gd name="adj1" fmla="val -722"/>
            </a:avLst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3F89-7E13-4CB2-A5CF-A05A0C2DB30B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88"/>
          <p:cNvSpPr/>
          <p:nvPr/>
        </p:nvSpPr>
        <p:spPr>
          <a:xfrm>
            <a:off x="539640" y="198900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d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tions (eg, antibiotics)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i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AI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rgen vacc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imal or human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sacchari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89"/>
          <p:cNvSpPr/>
          <p:nvPr/>
        </p:nvSpPr>
        <p:spPr>
          <a:xfrm>
            <a:off x="0" y="10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aphylactic (IgE dependent)</a:t>
            </a:r>
            <a:r>
              <a:rPr b="0" lang="en-C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828800" y="1522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t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B10A-B2F4-41D6-9F12-DC4E90A46EB0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22"/>
          <p:cNvGrpSpPr/>
          <p:nvPr/>
        </p:nvGrpSpPr>
        <p:grpSpPr>
          <a:xfrm>
            <a:off x="1619280" y="1828800"/>
            <a:ext cx="6171840" cy="5028840"/>
            <a:chOff x="1619280" y="1828800"/>
            <a:chExt cx="6171840" cy="5028840"/>
          </a:xfrm>
        </p:grpSpPr>
        <p:grpSp>
          <p:nvGrpSpPr>
            <p:cNvPr id="124" name="Group 20"/>
            <p:cNvGrpSpPr/>
            <p:nvPr/>
          </p:nvGrpSpPr>
          <p:grpSpPr>
            <a:xfrm>
              <a:off x="1625760" y="1834560"/>
              <a:ext cx="6158160" cy="5015520"/>
              <a:chOff x="1625760" y="1834560"/>
              <a:chExt cx="6158160" cy="5015520"/>
            </a:xfrm>
          </p:grpSpPr>
          <p:grpSp>
            <p:nvGrpSpPr>
              <p:cNvPr id="125" name="Group 9"/>
              <p:cNvGrpSpPr/>
              <p:nvPr/>
            </p:nvGrpSpPr>
            <p:grpSpPr>
              <a:xfrm>
                <a:off x="1625760" y="1834560"/>
                <a:ext cx="6158160" cy="840600"/>
                <a:chOff x="1625760" y="1834560"/>
                <a:chExt cx="6158160" cy="840600"/>
              </a:xfrm>
            </p:grpSpPr>
            <p:sp>
              <p:nvSpPr>
                <p:cNvPr id="126" name="Rectangle 2"/>
                <p:cNvSpPr/>
                <p:nvPr/>
              </p:nvSpPr>
              <p:spPr>
                <a:xfrm>
                  <a:off x="1665360" y="1871640"/>
                  <a:ext cx="6078240" cy="7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naphylactoid (IgE independent</a:t>
                  </a:r>
                  <a:r>
                    <a:rPr b="0" i="1" lang="en-CA" sz="4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8"/>
                <p:cNvSpPr/>
                <p:nvPr/>
              </p:nvSpPr>
              <p:spPr>
                <a:xfrm>
                  <a:off x="1625760" y="1834560"/>
                  <a:ext cx="6158160" cy="8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11"/>
              <p:cNvGrpSpPr/>
              <p:nvPr/>
            </p:nvGrpSpPr>
            <p:grpSpPr>
              <a:xfrm>
                <a:off x="1625760" y="2750040"/>
                <a:ext cx="6158160" cy="759600"/>
                <a:chOff x="1625760" y="2750040"/>
                <a:chExt cx="6158160" cy="759600"/>
              </a:xfrm>
            </p:grpSpPr>
            <p:sp>
              <p:nvSpPr>
                <p:cNvPr id="129" name="Rectangle 3"/>
                <p:cNvSpPr/>
                <p:nvPr/>
              </p:nvSpPr>
              <p:spPr>
                <a:xfrm>
                  <a:off x="1665360" y="2787120"/>
                  <a:ext cx="6078240" cy="68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ultimediator complement activation-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0"/>
                <p:cNvSpPr/>
                <p:nvPr/>
              </p:nvSpPr>
              <p:spPr>
                <a:xfrm>
                  <a:off x="1625760" y="2750040"/>
                  <a:ext cx="6158160" cy="75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"/>
              <p:cNvGrpSpPr/>
              <p:nvPr/>
            </p:nvGrpSpPr>
            <p:grpSpPr>
              <a:xfrm>
                <a:off x="1625760" y="3585240"/>
                <a:ext cx="6158160" cy="760320"/>
                <a:chOff x="1625760" y="3585240"/>
                <a:chExt cx="6158160" cy="760320"/>
              </a:xfrm>
            </p:grpSpPr>
            <p:sp>
              <p:nvSpPr>
                <p:cNvPr id="132" name="Rectangle 4"/>
                <p:cNvSpPr/>
                <p:nvPr/>
              </p:nvSpPr>
              <p:spPr>
                <a:xfrm>
                  <a:off x="1665360" y="3622680"/>
                  <a:ext cx="6078240" cy="6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adiocontrast media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12"/>
                <p:cNvSpPr/>
                <p:nvPr/>
              </p:nvSpPr>
              <p:spPr>
                <a:xfrm>
                  <a:off x="1625760" y="3585240"/>
                  <a:ext cx="6158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15"/>
              <p:cNvGrpSpPr/>
              <p:nvPr/>
            </p:nvGrpSpPr>
            <p:grpSpPr>
              <a:xfrm>
                <a:off x="1625760" y="4420080"/>
                <a:ext cx="6158160" cy="760320"/>
                <a:chOff x="1625760" y="4420080"/>
                <a:chExt cx="6158160" cy="760320"/>
              </a:xfrm>
            </p:grpSpPr>
            <p:sp>
              <p:nvSpPr>
                <p:cNvPr id="135" name="Rectangle 5"/>
                <p:cNvSpPr/>
                <p:nvPr/>
              </p:nvSpPr>
              <p:spPr>
                <a:xfrm>
                  <a:off x="1665360" y="4457520"/>
                  <a:ext cx="6078240" cy="6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EI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14"/>
                <p:cNvSpPr/>
                <p:nvPr/>
              </p:nvSpPr>
              <p:spPr>
                <a:xfrm>
                  <a:off x="1625760" y="4420080"/>
                  <a:ext cx="6158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17"/>
              <p:cNvGrpSpPr/>
              <p:nvPr/>
            </p:nvGrpSpPr>
            <p:grpSpPr>
              <a:xfrm>
                <a:off x="1625760" y="5255280"/>
                <a:ext cx="6158160" cy="760320"/>
                <a:chOff x="1625760" y="5255280"/>
                <a:chExt cx="6158160" cy="760320"/>
              </a:xfrm>
            </p:grpSpPr>
            <p:sp>
              <p:nvSpPr>
                <p:cNvPr id="138" name="Rectangle 6"/>
                <p:cNvSpPr/>
                <p:nvPr/>
              </p:nvSpPr>
              <p:spPr>
                <a:xfrm>
                  <a:off x="1665360" y="5292720"/>
                  <a:ext cx="6078240" cy="6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</a:t>
                  </a:r>
                  <a:r>
                    <a:rPr b="0" lang="en-CA" sz="2800" spc="-1" strike="noStrike">
                      <a:solidFill>
                        <a:srgbClr val="ffff66"/>
                      </a:solidFill>
                      <a:latin typeface="Times New Roman"/>
                      <a:ea typeface="Times New Roman"/>
                    </a:rPr>
                    <a:t>Ethylene oxide gas on dialysis tubing???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16"/>
                <p:cNvSpPr/>
                <p:nvPr/>
              </p:nvSpPr>
              <p:spPr>
                <a:xfrm>
                  <a:off x="1625760" y="5255280"/>
                  <a:ext cx="6158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Group 19"/>
              <p:cNvGrpSpPr/>
              <p:nvPr/>
            </p:nvGrpSpPr>
            <p:grpSpPr>
              <a:xfrm>
                <a:off x="1625760" y="6090480"/>
                <a:ext cx="6158160" cy="759600"/>
                <a:chOff x="1625760" y="6090480"/>
                <a:chExt cx="6158160" cy="759600"/>
              </a:xfrm>
            </p:grpSpPr>
            <p:sp>
              <p:nvSpPr>
                <p:cNvPr id="141" name="Rectangle 7"/>
                <p:cNvSpPr/>
                <p:nvPr/>
              </p:nvSpPr>
              <p:spPr>
                <a:xfrm>
                  <a:off x="1665360" y="6127560"/>
                  <a:ext cx="6078240" cy="68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tamine 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Rectangle 18"/>
                <p:cNvSpPr/>
                <p:nvPr/>
              </p:nvSpPr>
              <p:spPr>
                <a:xfrm>
                  <a:off x="1625760" y="6090480"/>
                  <a:ext cx="6158160" cy="75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Rectangle 21"/>
            <p:cNvSpPr/>
            <p:nvPr/>
          </p:nvSpPr>
          <p:spPr>
            <a:xfrm>
              <a:off x="1619280" y="1828800"/>
              <a:ext cx="6171840" cy="50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Rectangle 24"/>
          <p:cNvSpPr/>
          <p:nvPr/>
        </p:nvSpPr>
        <p:spPr>
          <a:xfrm>
            <a:off x="3200760" y="22860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360" y="106668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t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6BE5-02B8-4EB8-BE0D-D82FE60152E2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744120" y="2500200"/>
            <a:ext cx="7663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ytotox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usion reactions to cellular elements (IgG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3200760" y="22860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360" y="106668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t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Zohair Al-Aseri</cp:lastModifiedBy>
  <dcterms:modified xsi:type="dcterms:W3CDTF">2010-05-11T06:55:11Z</dcterms:modified>
  <cp:revision>95</cp:revision>
  <dc:subject/>
  <dc:title>PowerPoint Presentation</dc:title>
</cp:coreProperties>
</file>